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0E8-E318-44BD-87D3-91993C97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5CB-01DE-449C-A306-1C819C8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066-E829-4BD8-AEF1-6AF8E3F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488-3799-4422-8C6B-5B28E759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6E3-D391-4B36-93D2-C741702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F13-411F-4761-A8E9-6E20F01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A1C-B434-4BF4-87AA-593D7C1F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0BE-0172-4E15-9246-5AED6B4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E6E-E205-4114-B09D-750AB65B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3E9-EE4D-4E5F-A53A-4DAECE0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AC1-5C24-4D54-9436-A843C6E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630-344D-44A9-B3EB-DF55C7D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1B4-FD2F-4E5C-B829-F61E7E11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ІАЛІЗАЦІЯ ВІТЧИЗНЯ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Соціалізація вітчизняного ринку праці та провідні зарубіжні моделі організації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9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Соціальні імперативи зайня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вдання гуманізації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усунення тяжких, рутинних трудових операцій, інтелектуалізацію праці та зростання її творчого характеру (технологічне вивільн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0"/>
            <a:ext cx="83059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ідвищення об’єктивації (справедливості та моральності) трудових віднос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розширення економічної й інтелектуальної своб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267080"/>
            <a:ext cx="830592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касування пригнічення людини (соціальне вивільн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334120"/>
            <a:ext cx="8305920" cy="1295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кращення естетичних характеристик змісту трудового процесу та результатів, обмеження екологічної шкідливості виробниц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епція «людського капіталу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робітник намагається максимізувати свої доходи за весь життєвий цикл, вирішуючи питання про інвестування часу і грошей у підвищення власних виробничих можливостей шляхом отримання освіти та накопичення досві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часний працівник – 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mbria"/>
              </a:rPr>
              <a:t>професіонал, орієнтований на процес, на завдання, на конкретного споживача, а не просто працівник-виконавець, який сконцентрував свою увагу на завданні керівника чи посадової інструк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133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а програми гуманізації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одолання монотонності та беззмістовності праці, об’єднання розрізнених елементів роботи у колективну інноваційну діяль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00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лік оздоровчих заходів для працівників підприє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7652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заняття фізичною культурою (забіги, аеробіка, плавання тощо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перевірка працівників на стрес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контроль за вагою і консультації лікарів-дієтолог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боротьба з курінням і зловживанням алкогол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організація системи медичного самоконтро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Трьохсекторна модель вітчизняного рикну прац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в офіційній економі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048120"/>
            <a:ext cx="8610480" cy="76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в неофіційній економі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038480"/>
            <a:ext cx="8610480" cy="99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одночасно в офіційній та неофіційній економі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990720"/>
            <a:ext cx="8305920" cy="533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Зміст пра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676520"/>
            <a:ext cx="76201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Соціальний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– доцільність діяльності працівника, мотивація, ставлення до праці на суспільному (як до професії, виду діяльності) та індивідуальному (як до конкретно виконуваної роботи) рів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3623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5238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276720"/>
            <a:ext cx="76201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Функціональний</a:t>
            </a: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 –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виявляється у конкретних ролях, функціях, які виконує праців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ники характер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форма власност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ставлення працівників до прац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відносини розподілу виготовлених продуктів і послуг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ступінь соціальних розходжень у процесі прац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5-11T10:0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