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052-DB4D-4604-971C-FE434F8A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28D-92A6-4D2C-9DE7-2D41C9CC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83F-7538-4351-A1CC-3DFFB516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E15-315A-4929-BB1B-A5D74D74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4F1-2818-43B1-8D27-1A36FFF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60F-1619-4777-A1E6-39A2B0A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47E-3AA5-43B0-B9CF-CE63CC6C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D39-D791-4014-8500-E5623728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ECC-3696-4A15-8040-BB945FCA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3F1-1802-464D-BD00-BF5EB2E1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F1D2-C8A0-4926-ABFF-B7DA424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3C1-42E6-400A-8C2B-1294963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26F-EFAD-4119-9D36-E2EA98786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ІАЛІЗАЦІЯ ВІТЧИЗНЯ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1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Соціалізація вітчизняного ринку праці та провідні зарубіжні моделі організації пра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09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2.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Соціальні імперативи зайня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вдання гуманізації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85800"/>
            <a:ext cx="8305920" cy="1371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усунення тяжких, рутинних трудових операцій, інтелектуалізацію праці та зростання її творчого характеру (технологічне вивільн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0"/>
            <a:ext cx="83059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ідвищення об’єктивації (справедливості та моральності) трудових віднос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розширення економічної й інтелектуальної своб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267080"/>
            <a:ext cx="830592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касування пригнічення людини (соціальне вивільнен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334120"/>
            <a:ext cx="8305920" cy="12952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покращення естетичних характеристик змісту трудового процесу та результатів, обмеження екологічної шкідливості виробниц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епція «людського капіталу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робітник намагається максимізувати свої доходи за весь життєвий цикл, вирішуючи питання про інвестування часу і грошей у підвищення власних виробничих можливостей шляхом отримання освіти та накопичення досві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часний працівник – 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1371600"/>
            <a:ext cx="54864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mbria"/>
              </a:rPr>
              <a:t>професіонал, орієнтований на процес, на завдання, на конкретного споживача, а не просто працівник-виконавець, який сконцентрував свою увагу на завданні керівника чи посадової інструкц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133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та програми гуманізації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371600"/>
            <a:ext cx="4800600" cy="4495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одолання монотонності та беззмістовності праці, об’єднання розрізнених елементів роботи у колективну інноваційну діяль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3200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лік оздоровчих заходів для працівників підприєм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76520"/>
            <a:ext cx="83059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заняття фізичною культурою (забіги, аеробіка, плавання тощо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6668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перевірка працівників на стрес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4290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контроль за вагою і консультації лікарів-дієтологі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боротьба з курінням і зловживанням алкогол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9528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організація системи медичного самоконтро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Трьохсекторна модель вітчизняного рикну праці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в офіційній економі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048120"/>
            <a:ext cx="8610480" cy="761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в неофіційній економі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038480"/>
            <a:ext cx="8610480" cy="99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mbria"/>
              </a:rPr>
              <a:t>зайняті одночасно в офіційній та неофіційній економі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990720"/>
            <a:ext cx="8305920" cy="533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Зміст пра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676520"/>
            <a:ext cx="7620120" cy="14475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Соціальний</a:t>
            </a:r>
            <a:r>
              <a:rPr b="1" lang="en-US" sz="20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– доцільність діяльності працівника, мотивація, ставлення до праці на суспільному (як до професії, виду діяльності) та індивідуальному (як до конкретно виконуваної роботи) рів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3623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523880"/>
            <a:ext cx="0" cy="2210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276720"/>
            <a:ext cx="7620120" cy="914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mbria"/>
              </a:rPr>
              <a:t>Функціональний</a:t>
            </a:r>
            <a:r>
              <a:rPr b="1" i="1" lang="en-US" sz="2000" spc="-1" strike="noStrike">
                <a:solidFill>
                  <a:srgbClr val="ffff00"/>
                </a:solidFill>
                <a:latin typeface="Cambria"/>
              </a:rPr>
              <a:t> –</a:t>
            </a: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 виявляється у конкретних ролях, функціях, які виконує праців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ники характер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форма власност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ffff00"/>
                </a:solidFill>
                <a:latin typeface="Cambria"/>
              </a:rPr>
              <a:t>ставлення працівників до праці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819520"/>
            <a:ext cx="8305920" cy="60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відносини розподілу виготовлених продуктів і послуг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581280"/>
            <a:ext cx="8305920" cy="609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Cambria"/>
              </a:rPr>
              <a:t>ступінь соціальних розходжень у процесі прац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5-11T10:0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