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1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C876-4041-451D-9B04-7DCDDB87309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D041-4A49-48D9-88D4-DE846AA4353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9007-8281-4410-B0D1-9062426B48F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93D1-AC13-4C2F-AED5-E9E7E1BB072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4E86-42F4-4E30-918E-F2CCA239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0D62-204E-47A0-9014-490E2C3F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79C6C-2A18-4E4E-B942-5C0963F9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EE934-858F-4829-A997-01719BD7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7172A-9762-4572-9DBF-1FFD011E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9EF35-A5B6-40E8-8B92-03E4A731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F22E7-5756-411E-B5C7-8B00AD97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961BC-CD2B-4DFD-BA43-7862040B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F96E5-66B7-41EF-B035-B828A63A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82301-79D6-498C-8EFF-C3DB7389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66FC1-47DE-4CE6-A6F1-8AC43670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A1DD-387B-4921-9D1F-28309008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740A-9295-45B4-A214-6F36B142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113E-0455-486F-A25B-DF15BD4D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BC54-041E-45F4-8619-0F5864BB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EE9A-7630-4188-9D07-D22A009D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360D-4415-4413-9492-C04EE102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5357-19FA-45A6-B8DA-EF39321F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BB24-0AFD-44C1-B103-1B629067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34E7-4A22-471D-844B-9349C8B6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6A98-6331-4007-B257-3A39AE79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F211-4C3D-4AF7-B272-151B6733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7CDB-11E0-4787-AC32-73FFBE47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133D-ED9A-42BF-A03D-58D13DD9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8C31-02D8-45D3-A08B-DAB3003F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0CF3-B87F-4C65-AC82-C36C1F1A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A0421-8A9A-424A-8C2F-37E325DC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B8BF3-7936-4DDE-A454-CFEACCE7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E678D-C3AC-4347-9B94-A12233F6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CA381-0697-4960-8D26-0549BE58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1394C-90DF-4BD6-9034-93579717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736E-4A1E-4E3B-B007-52095F2D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AE3A9-9614-4263-A7B5-6B6DBF7C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052DF-B700-4733-A063-05AD8C1C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F5BF3-9195-4F03-A3B3-44708F6B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55949-5315-4BC8-B2BD-C5EDC1EB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DFAB9-422C-4868-A0A4-95C80E78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58C63-9F10-4EE0-8E5D-8A6F2236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07C11-AFA6-4A01-9D3E-B10D16B08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FAC49-BCB5-4E17-9FCA-66140ACC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8C54C-0A3B-4A3F-93A3-300FF282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F2EA7-4F7B-4260-98F5-EDF750FF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50D6-F4FA-4736-B8E1-EB780092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77534-7F04-4107-95BA-8EC6AF49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61C80-1A3B-4730-B441-87E64E1C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44288-D349-4353-BE5C-A38C6FC5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86291-9EDC-453B-B96B-934B9A9B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A5966-5FC3-41B3-8DF6-D91E1BD5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48E9D-C93E-457E-BDF8-F3D79708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84769-E14F-4836-A750-222CD2E0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F4C8F-1B15-405A-99E9-331C2298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5D03D-1351-4E25-8DCF-89485F3E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54A7E-C97D-4D1C-97FF-C2F1376B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04AE-D426-47F3-BCA1-93E18685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E7F04-BA38-4A84-8F1A-7A2F6C57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C0E8B-3C68-4B56-9A31-5B8956E7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F7120-3E1A-49B3-AF44-EA8D980A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56D95-9D05-46C2-AD84-1CF01A76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5BAAC-1185-426B-A6F7-3D06398E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E7422-5CBC-4C1C-BD2F-1F728B22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FA6E0-26D1-46A9-9A8A-CA77A1C0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02A48-FB9C-40B6-A419-05B38770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C8A2A-047C-4E5B-AFF1-A87330B8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E44DA-EF5E-447B-A964-F69A84D6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0567-4875-47D4-AA27-00621415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871F5-9117-4BFC-A5F0-607BD27F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ED349-5A3D-4318-A0F0-D5F5AEA3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495FB-BCBB-4198-8162-252F2CB3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6BB79-47BB-4137-9093-084F02DD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9C557-C8C6-4E2B-A8A0-51D735F1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1EF58-B076-462F-879C-11BDEEF4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92DB4-43FE-4EC9-96ED-807F80E7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7F303-FB42-45C6-8020-2F03A8E1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E2575-E37A-4AB9-86D1-F59DAD8B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77114-A63E-4DF4-BB9F-D7DD3C67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08EA-C609-432D-8ABE-082F3F8F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B60A3-5DBA-4849-BE13-EA5C4D5A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3F3DF-81A2-4D97-B556-006FA057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2959F-8DE5-42EA-A61E-6A5712E2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B4CF7-474A-40DF-A79D-146166DC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CECED-9E65-4901-AAE6-A852E33F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D70E2-16C7-4FC5-B8F9-52788AE9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99948-78CF-4AF8-91DB-1343D5F5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084FB-3124-49AF-8D39-98CF33E5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5701C-A850-4948-B607-312DC64C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7A2D3-BC17-4F13-9BC9-64D21D82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E744-0C5C-4239-97EE-D4EE9779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AD39A-410C-4CBF-9241-8A257BFC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0D776-2BED-4100-A7C5-FAB69576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856A9-B127-4FDE-8DC9-AABF67E7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B8EA4-3318-436A-AF4E-6D82617F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C2AFA-8275-486D-8D84-579EF2B3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61318-A2F4-4267-A140-D85BD894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81DD1-6259-46C9-BCE1-11855C5D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136C7-3DD3-49C2-ACF6-16AB5845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F502A-506D-4E59-B570-A9548349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379B3-0D13-4878-BCF8-20824272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E895-CF1D-48ED-94EB-6AA199C1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596CE-497E-4F77-91ED-EEE88F6B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60760-66BE-4F31-86F3-733A14F1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053F7-0B9E-42C9-953C-B2D2FA4A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0B8A1-35D7-49C4-8689-52311099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96FFC-CFC1-4DA2-BE5A-44F5E248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C12CB-8E34-4B5D-A656-68404893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18D68-5867-4509-B5B4-2CC23A10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A4571-F050-4086-8C67-8F0B763C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53688-541C-4D87-910E-F6D04D4F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48AC5-FD28-4E78-986E-540AA3E7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FE65-52B0-4B9D-9C87-5A16EDB9C5F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E359-0FEE-4B79-BF10-527BACCC8E2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11E6-C5BA-4BAA-8A1C-A4A51B9CB46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37AB-C758-4199-87D6-B04DA975B80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B690-77C5-4D42-9576-D92AE65EAE7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24E1-9BFB-46A2-85D5-6464EF4885C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F573-FF55-4176-B84E-1B7DB6B5DDF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BF79-0CC4-4A38-9414-97A8F0F8A7C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B4B4-8F0A-4992-B033-6FA810176C6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122400" y="115920"/>
            <a:ext cx="8540640" cy="25480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179280" y="3474720"/>
            <a:ext cx="87854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 Black"/>
              </a:rPr>
              <a:t>1. Кейнсіанство як «мейнстрім» економічної теорії післявоєнної Європ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 Black"/>
              </a:rPr>
              <a:t>2. Інституціоналізм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Прямоугольник 3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Рисунок 4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2543040" cy="3133800"/>
          </a:xfrm>
          <a:prstGeom prst="rect">
            <a:avLst/>
          </a:prstGeom>
          <a:ln w="0">
            <a:noFill/>
          </a:ln>
        </p:spPr>
      </p:pic>
      <p:sp>
        <p:nvSpPr>
          <p:cNvPr id="430" name="TextBox 5"/>
          <p:cNvSpPr/>
          <p:nvPr/>
        </p:nvSpPr>
        <p:spPr>
          <a:xfrm>
            <a:off x="149400" y="378936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Французький економі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Франсуа Пер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(1903-19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6"/>
          <p:cNvSpPr/>
          <p:nvPr/>
        </p:nvSpPr>
        <p:spPr>
          <a:xfrm>
            <a:off x="3276720" y="476280"/>
            <a:ext cx="5616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Arial"/>
              </a:rPr>
              <a:t>«Економіка ХХ століття» (196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Загальна економічна теорія у Франсуа Перру складається  з трьох основних части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теорія </a:t>
            </a: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«панівної економіки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теорія </a:t>
            </a: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«гармонізованого зростання»,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яка має окреслити шляхи і методи вдосконалення капіталістичного господарства за допомогою державного регулюванн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теорія </a:t>
            </a: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«спільної економіки»,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де змальовано суспільство майбутнього, у якому немає місця для злиднів і наси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99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Franklin Gothic Medium"/>
              </a:rPr>
              <a:t>1. ТЕОРІЯ «ПАНІВНОЇ ЕКОНОМІКИ» </a:t>
            </a:r>
            <a:endParaRPr b="0" lang="en-US" sz="2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TextBox 3"/>
          <p:cNvSpPr/>
          <p:nvPr/>
        </p:nvSpPr>
        <p:spPr>
          <a:xfrm>
            <a:off x="42840" y="765000"/>
            <a:ext cx="9072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Основний принцип господарського життя  - нерівність господарських суб'єктів, що обумовлена відмінностями у розмірах виробництва і капіта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Основний результат такої нерівності - наявність панівних і підлеглих суб'єктів господарюва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Панівні суб'єкти змушують інших погоджуватися на власні умови угод або взаємодії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Результат – </a:t>
            </a:r>
            <a:r>
              <a:rPr b="1" i="1" lang="uk-UA" sz="2400" spc="-1" strike="noStrike">
                <a:solidFill>
                  <a:srgbClr val="0070c0"/>
                </a:solidFill>
                <a:latin typeface="Arial"/>
              </a:rPr>
              <a:t>деформація економічного простору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(напр., поляризація економічного простору навколо панівної галузі – </a:t>
            </a: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«полюсу зростання»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00000"/>
                </a:solidFill>
                <a:latin typeface="Arial"/>
              </a:rPr>
              <a:t>Деформація економічного простору навколо панівної одиниці змінює зміст і форму економічних взаємин між одиницями, що до нього належать.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За таких обставин економічні одиниці проявляють себе як члени єдиної  системно організованої цілісності. Таку сукупність називають </a:t>
            </a:r>
            <a:r>
              <a:rPr b="1" i="1" lang="uk-UA" sz="2400" spc="-1" strike="noStrike">
                <a:solidFill>
                  <a:srgbClr val="0070c0"/>
                </a:solidFill>
                <a:latin typeface="Arial"/>
              </a:rPr>
              <a:t>«макроодиницею</a:t>
            </a: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Box 4"/>
          <p:cNvSpPr/>
          <p:nvPr/>
        </p:nvSpPr>
        <p:spPr>
          <a:xfrm>
            <a:off x="250920" y="260280"/>
            <a:ext cx="871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Всередині макроодиниці змінюються природа і методи конкурентної боротьби, вона набуває рис </a:t>
            </a:r>
            <a:r>
              <a:rPr b="1" i="1" lang="uk-UA" sz="2000" spc="-1" strike="noStrike">
                <a:solidFill>
                  <a:srgbClr val="0070c0"/>
                </a:solidFill>
                <a:latin typeface="Arial"/>
              </a:rPr>
              <a:t>«колективної дії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В межах макроодиниці </a:t>
            </a:r>
            <a:r>
              <a:rPr b="1" i="1" lang="uk-UA" sz="2000" spc="-1" strike="noStrike">
                <a:solidFill>
                  <a:srgbClr val="0070c0"/>
                </a:solidFill>
                <a:latin typeface="Arial"/>
              </a:rPr>
              <a:t>ціни регулюються не функціями попиту і пропозиції, 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а </a:t>
            </a:r>
            <a:r>
              <a:rPr b="1" lang="uk-UA" sz="2000" spc="-1" strike="noStrike" u="sng">
                <a:solidFill>
                  <a:srgbClr val="c00000"/>
                </a:solidFill>
                <a:uFillTx/>
                <a:latin typeface="Arial"/>
              </a:rPr>
              <a:t>є функцією вищої форми управління макроодиниці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, що організує як процес виробництва,  так і впливає на поп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На основі концепції «панівної економіки» і неоднорідності економічного зростання Ф. Перру виводить </a:t>
            </a: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принципи індикативного планування економіки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b0f0"/>
                </a:solidFill>
                <a:latin typeface="Arial"/>
              </a:rPr>
              <a:t>збалансоване зростання практично нездійсненне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, а тому політика зростання – це завжди політика нерівномірного зроста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b0f0"/>
                </a:solidFill>
                <a:latin typeface="Arial"/>
              </a:rPr>
              <a:t>політика зростання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, що здійснюється як структурна політика, </a:t>
            </a:r>
            <a:r>
              <a:rPr b="1" i="1" lang="uk-UA" sz="2000" spc="-1" strike="noStrike">
                <a:solidFill>
                  <a:srgbClr val="00b0f0"/>
                </a:solidFill>
                <a:latin typeface="Arial"/>
              </a:rPr>
              <a:t>має бути скерована на активне перетворення структури у бажаному напрямку,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 а не на пристосування до наявних структур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оскільки можливим є тільки нерівномірне зростання, то </a:t>
            </a:r>
            <a:r>
              <a:rPr b="1" i="1" lang="uk-UA" sz="2000" spc="-1" strike="noStrike">
                <a:solidFill>
                  <a:srgbClr val="00b0f0"/>
                </a:solidFill>
                <a:latin typeface="Arial"/>
              </a:rPr>
              <a:t>структурна політика має бути вибірковою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, а не глобальною (як у кейнсіанці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1"/>
          <p:cNvSpPr/>
          <p:nvPr/>
        </p:nvSpPr>
        <p:spPr>
          <a:xfrm>
            <a:off x="538200" y="317520"/>
            <a:ext cx="698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Franklin Gothic Medium"/>
              </a:rPr>
              <a:t>2. ТЕОРІЯ «ГАРМОНІЗОВАНОГО ЗРОСТАНН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2"/>
          <p:cNvSpPr/>
          <p:nvPr/>
        </p:nvSpPr>
        <p:spPr>
          <a:xfrm>
            <a:off x="324000" y="981000"/>
            <a:ext cx="8496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Логіка розвитку «панівної економіки» спонукає державу стати «центром з прийняття рішень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завдання держави – проводити політику антициклічного регулювання і складати довгострокові програми розвитку для усього народного господарства, які б втілювали національні інтереси – це і є </a:t>
            </a:r>
            <a:r>
              <a:rPr b="1" i="1" lang="uk-UA" sz="2000" spc="-1" strike="noStrike">
                <a:solidFill>
                  <a:srgbClr val="c00000"/>
                </a:solidFill>
                <a:latin typeface="Arial"/>
              </a:rPr>
              <a:t>«політика гармонізованого зростанн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Принципи політики гармонізованого зроста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70c0"/>
                </a:solidFill>
                <a:latin typeface="Arial"/>
              </a:rPr>
              <a:t>максимізація валового реального продукту і мінімізація циклічності колива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70c0"/>
                </a:solidFill>
                <a:latin typeface="Arial"/>
              </a:rPr>
              <a:t>зменшення диспропорцій між окремими сферами господар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70c0"/>
                </a:solidFill>
                <a:latin typeface="Arial"/>
              </a:rPr>
              <a:t>Узгодження між темпами економічного зростання, наявною робочою силою, виробничими потужностями та кредитними ресур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a5644e"/>
                </a:solidFill>
                <a:latin typeface="Arial"/>
              </a:rPr>
              <a:t>Концепція «гармонізованого зростання» має сприяти досягненню суспільного порозуміння і стати підґрунтям для системи індикативного (рекомендаційного)плану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1"/>
          <p:cNvSpPr/>
          <p:nvPr/>
        </p:nvSpPr>
        <p:spPr>
          <a:xfrm>
            <a:off x="395280" y="260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Franklin Gothic Medium"/>
              </a:rPr>
              <a:t>3. ТЕОРІЯ «СПІЛЬНОЇ ЕКОНОМІК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2"/>
          <p:cNvSpPr/>
          <p:nvPr/>
        </p:nvSpPr>
        <p:spPr>
          <a:xfrm>
            <a:off x="179280" y="907920"/>
            <a:ext cx="8856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b58b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b58b80"/>
                </a:solidFill>
                <a:latin typeface="Arial"/>
              </a:rPr>
              <a:t>У спільній економіці 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</a:rPr>
              <a:t>вимогам максимальної ефективності мають бути підпорядковані</a:t>
            </a:r>
            <a:r>
              <a:rPr b="0" lang="uk-UA" sz="2000" spc="-1" strike="noStrike">
                <a:solidFill>
                  <a:srgbClr val="b58b80"/>
                </a:solidFill>
                <a:latin typeface="Arial"/>
              </a:rPr>
              <a:t> не тільки темпи зростання і структура виробництва, але й </a:t>
            </a:r>
            <a:r>
              <a:rPr b="0" lang="uk-UA" sz="2000" spc="-1" strike="noStrike">
                <a:solidFill>
                  <a:srgbClr val="c00000"/>
                </a:solidFill>
                <a:latin typeface="Arial"/>
              </a:rPr>
              <a:t>основні принципи організації господарства і суспільства </a:t>
            </a:r>
            <a:r>
              <a:rPr b="0" lang="uk-UA" sz="2000" spc="-1" strike="noStrike">
                <a:solidFill>
                  <a:srgbClr val="b58b80"/>
                </a:solidFill>
                <a:latin typeface="Arial"/>
              </a:rPr>
              <a:t>, що втілені у правових інституціях, «правилах життя», соціальних і політичних норм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b58b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b58b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b58b80"/>
                </a:solidFill>
                <a:latin typeface="Arial"/>
              </a:rPr>
              <a:t>Має бути докорінно змінена природа прибутку, він має стати функціональним доходом. Такі зміни вже почали відбуватися в умовах «гармонізованого зростання» , але завершаться тільки в умовах «спільної економіки», де </a:t>
            </a: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прибуток буде не доходом від власності, а винагородою за організаторську майстерні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Держава у «спільній економіці» посилить роль арбітра, який слідкує за дотриманням спільного добробуту. Суспільство має бути зацікавленим у створені такого типу господарства, де б були враховані інтереси усіх верств суспільства, а не лише тільки окремих його прошарк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96840" y="60480"/>
            <a:ext cx="8761320" cy="9633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142560" y="907560"/>
            <a:ext cx="900108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Franklin Gothic Medium"/>
                <a:ea typeface="Arial"/>
              </a:rPr>
              <a:t>Концепції кейнсіанства були основними </a:t>
            </a:r>
            <a:r>
              <a:rPr b="1" lang="uk-UA" sz="2800" spc="-1" strike="noStrike">
                <a:solidFill>
                  <a:srgbClr val="a5644e"/>
                </a:solidFill>
                <a:latin typeface="Franklin Gothic Medium"/>
                <a:ea typeface="Arial"/>
              </a:rPr>
              <a:t>в академічних та урядових колах провідних економічних країн світу (крім Франції та ФРН) на основі успіхів кейнсіанської політики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644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a5644e"/>
                </a:solidFill>
                <a:latin typeface="Franklin Gothic Medium"/>
                <a:ea typeface="Arial"/>
              </a:rPr>
              <a:t>«державного контролю в ім'я повної зайнятості» нового курсу Ф. Рузвельта спочатку у США, а згодом в англомовних державах (Велика Британія, Канада, Австралія) і невеликих країнах  Західної Європ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644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a5644e"/>
                </a:solidFill>
                <a:latin typeface="Franklin Gothic Medium"/>
                <a:ea typeface="Arial"/>
              </a:rPr>
              <a:t>регулювання економічного зростання у 60-і рр. в Японії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5644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a5644e"/>
                </a:solidFill>
                <a:latin typeface="Franklin Gothic Medium"/>
                <a:ea typeface="Arial"/>
              </a:rPr>
              <a:t>у поєднанні з концепцією «держави загального добробуту» стокгольмської школи у країнах Скандинавії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3"/>
          <p:cNvSpPr/>
          <p:nvPr/>
        </p:nvSpPr>
        <p:spPr>
          <a:xfrm>
            <a:off x="179280" y="115920"/>
            <a:ext cx="885672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Arial"/>
              </a:rPr>
              <a:t>Основні течії кейнсіа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c00000"/>
                </a:solidFill>
                <a:latin typeface="Arial"/>
              </a:rPr>
              <a:t>післявоєнного пері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Неокейнсіанство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(теорії економічної динаміки (зростання) та циклічного розвитку економіки): Рой Ґаррод (Харрод), Елвін Ґансен (Хансен), Джон Ґік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Кейнсіансько-неокласичний синтез: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Пол Самюельсон, Роберт М. Сол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Посткейнсіанство (з 70-х рр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Ліве кейнсіанство у Кембріджі: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Дж. Робінсон, П.Сраффа, Н.Калд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Праве (монетарне) кейнсіанство у США: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А. Лейонхуфвуд, П. Девідсон,С. Вайнтрауб, Х. Мінск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Кенсіанство у Франції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– Г. Ар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Кейнсіанство у Швеції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– Е. Вігфор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6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ик 1"/>
          <p:cNvSpPr/>
          <p:nvPr/>
        </p:nvSpPr>
        <p:spPr>
          <a:xfrm>
            <a:off x="179280" y="11592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Arial"/>
              </a:rPr>
              <a:t>Теорія економічного зростання Роя Ґар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2"/>
          <p:cNvSpPr/>
          <p:nvPr/>
        </p:nvSpPr>
        <p:spPr>
          <a:xfrm>
            <a:off x="3159000" y="660240"/>
            <a:ext cx="58215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5644e"/>
                </a:solidFill>
                <a:latin typeface="Arial"/>
              </a:rPr>
              <a:t>В основі концепції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5644e"/>
                </a:solidFill>
                <a:latin typeface="Arial"/>
              </a:rPr>
              <a:t>ідея рівності сукупних інвестицій і заощаджен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5644e"/>
                </a:solidFill>
                <a:latin typeface="Arial"/>
              </a:rPr>
              <a:t>єдиним фактором зростання національного доходу є норма нагромадження капітал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5644e"/>
                </a:solidFill>
                <a:latin typeface="Arial"/>
              </a:rPr>
              <a:t>капіталомісткість господарства не залежить від прибутку і заробітної плати (тобто «цін» на фактори виробництва), а від технічних умов виробництва, що мають тенденцію до постійност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Arial"/>
              </a:rPr>
              <a:t>Умовою динамічної рівноваги, </a:t>
            </a:r>
            <a:r>
              <a:rPr b="0" lang="uk-UA" sz="1800" spc="-1" strike="noStrike">
                <a:solidFill>
                  <a:srgbClr val="a5644e"/>
                </a:solidFill>
                <a:latin typeface="Arial"/>
              </a:rPr>
              <a:t>за постійної норми нагромадження і постійної капіталомісткості, є </a:t>
            </a:r>
            <a:r>
              <a:rPr b="1" lang="uk-UA" sz="1800" spc="-1" strike="noStrike" u="sng">
                <a:solidFill>
                  <a:srgbClr val="c00000"/>
                </a:solidFill>
                <a:uFillTx/>
                <a:latin typeface="Arial"/>
              </a:rPr>
              <a:t>стійкий темп зростання національного дох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5644e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70c0"/>
                </a:solidFill>
                <a:latin typeface="Arial"/>
              </a:rPr>
              <a:t>Математична модель динамічної рівноваги Ґаррода </a:t>
            </a:r>
            <a:r>
              <a:rPr b="0" lang="uk-UA" sz="1800" spc="-1" strike="noStrike">
                <a:solidFill>
                  <a:srgbClr val="a5644e"/>
                </a:solidFill>
                <a:latin typeface="Arial"/>
              </a:rPr>
              <a:t>враховує рівняння рівноваги для трьох різних темпів зростання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a5644e"/>
                </a:solidFill>
                <a:latin typeface="Arial"/>
              </a:rPr>
              <a:t>фактичного</a:t>
            </a:r>
            <a:r>
              <a:rPr b="0" lang="uk-UA" sz="1800" spc="-1" strike="noStrike">
                <a:solidFill>
                  <a:srgbClr val="a5644e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a5644e"/>
                </a:solidFill>
                <a:latin typeface="Arial"/>
              </a:rPr>
              <a:t>гарантованого</a:t>
            </a:r>
            <a:r>
              <a:rPr b="0" lang="uk-UA" sz="1800" spc="-1" strike="noStrike">
                <a:solidFill>
                  <a:srgbClr val="a5644e"/>
                </a:solidFill>
                <a:latin typeface="Arial"/>
              </a:rPr>
              <a:t> (для умов нейтрального науково-технічного прогресу є величиною постійною протягом тривалого часу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a5644e"/>
                </a:solidFill>
                <a:latin typeface="Arial"/>
              </a:rPr>
              <a:t>природного</a:t>
            </a:r>
            <a:r>
              <a:rPr b="0" lang="uk-UA" sz="1800" spc="-1" strike="noStrike">
                <a:solidFill>
                  <a:srgbClr val="a5644e"/>
                </a:solidFill>
                <a:latin typeface="Arial"/>
              </a:rPr>
              <a:t> (тобто максимально можливого за даного зростання населення та технічних можливост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Рисунок 4" descr=""/>
          <p:cNvPicPr/>
          <p:nvPr/>
        </p:nvPicPr>
        <p:blipFill>
          <a:blip r:embed="rId1"/>
          <a:stretch/>
        </p:blipFill>
        <p:spPr>
          <a:xfrm>
            <a:off x="179280" y="639720"/>
            <a:ext cx="2808360" cy="3694320"/>
          </a:xfrm>
          <a:prstGeom prst="rect">
            <a:avLst/>
          </a:prstGeom>
          <a:ln w="0">
            <a:noFill/>
          </a:ln>
        </p:spPr>
      </p:pic>
      <p:sp>
        <p:nvSpPr>
          <p:cNvPr id="415" name="TextBox 5"/>
          <p:cNvSpPr/>
          <p:nvPr/>
        </p:nvSpPr>
        <p:spPr>
          <a:xfrm>
            <a:off x="179280" y="479736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нглійський економі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ой Форбс Ґар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(1900-19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179280" y="260280"/>
            <a:ext cx="8713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Факторами</a:t>
            </a:r>
            <a:r>
              <a:rPr b="0" lang="uk-UA" sz="2000" spc="-1" strike="noStrike">
                <a:solidFill>
                  <a:srgbClr val="a5644e"/>
                </a:solidFill>
                <a:latin typeface="Arial"/>
              </a:rPr>
              <a:t>, що забезпечують стійкі темпи економічного зростання, є </a:t>
            </a:r>
            <a:r>
              <a:rPr b="1" i="1" lang="uk-UA" sz="2000" spc="-1" strike="noStrike">
                <a:solidFill>
                  <a:srgbClr val="a5644e"/>
                </a:solidFill>
                <a:latin typeface="Arial"/>
              </a:rPr>
              <a:t>приріст населення, продуктивність праці і розміри нагромадження капіталу</a:t>
            </a:r>
            <a:r>
              <a:rPr b="0" lang="uk-UA" sz="2000" spc="-1" strike="noStrike">
                <a:solidFill>
                  <a:srgbClr val="a5644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a5644e"/>
                </a:solidFill>
                <a:latin typeface="Arial"/>
              </a:rPr>
              <a:t>	</a:t>
            </a: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Програма щодо забезпечення стійких темпів зростання має ґрунтуватися</a:t>
            </a:r>
            <a:r>
              <a:rPr b="0" lang="uk-UA" sz="2000" spc="-1" strike="noStrike">
                <a:solidFill>
                  <a:srgbClr val="a5644e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a5644e"/>
                </a:solidFill>
                <a:latin typeface="Arial"/>
              </a:rPr>
              <a:t>в короткотривалій перспективі </a:t>
            </a:r>
            <a:r>
              <a:rPr b="0" lang="uk-UA" sz="2000" spc="-1" strike="noStrike">
                <a:solidFill>
                  <a:srgbClr val="a5644e"/>
                </a:solidFill>
                <a:latin typeface="Arial"/>
              </a:rPr>
              <a:t>– на антициклічній політиці з метою усунення відхилень фактичного темпу зростання від гарантова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a5644e"/>
                </a:solidFill>
                <a:latin typeface="Arial"/>
              </a:rPr>
              <a:t>засоби</a:t>
            </a:r>
            <a:r>
              <a:rPr b="0" i="1" lang="uk-UA" sz="2000" spc="-1" strike="noStrike">
                <a:solidFill>
                  <a:srgbClr val="a5644e"/>
                </a:solidFill>
                <a:latin typeface="Arial"/>
              </a:rPr>
              <a:t>:</a:t>
            </a:r>
            <a:r>
              <a:rPr b="0" lang="uk-UA" sz="2000" spc="-1" strike="noStrike">
                <a:solidFill>
                  <a:srgbClr val="a5644e"/>
                </a:solidFill>
                <a:latin typeface="Arial"/>
              </a:rPr>
              <a:t> громадські роботи, регулювання банківського проценту, створення так званих «буферних запасів сировин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a5644e"/>
                </a:solidFill>
                <a:latin typeface="Arial"/>
              </a:rPr>
              <a:t>у тривалій перспективі </a:t>
            </a:r>
            <a:r>
              <a:rPr b="0" lang="uk-UA" sz="2000" spc="-1" strike="noStrike">
                <a:solidFill>
                  <a:srgbClr val="a5644e"/>
                </a:solidFill>
                <a:latin typeface="Arial"/>
              </a:rPr>
              <a:t>- на політиці стимулювання з метою наближення гарантованого темпу зростання до природного (попередження масового безробітт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a5644e"/>
                </a:solidFill>
                <a:latin typeface="Arial"/>
              </a:rPr>
              <a:t>засоби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:</a:t>
            </a:r>
            <a:r>
              <a:rPr b="0" lang="uk-UA" sz="2000" spc="-1" strike="noStrike">
                <a:solidFill>
                  <a:srgbClr val="a5644e"/>
                </a:solidFill>
                <a:latin typeface="Arial"/>
              </a:rPr>
              <a:t> радикальне зниження процентної банківської ставки до ну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Відмирання  проценту забезпечить відмирання рантьє, а згодом і земельної ренти, а тому буде сприяти діловій активності та покращенню соціального клімату у суспільств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Зрозуміло, що без безпосереднього втручання держави реалізувати стійке економічне зростання практично не можли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267840" y="43920"/>
            <a:ext cx="831852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e3b30"/>
                </a:solidFill>
                <a:latin typeface="Arial Black"/>
              </a:rPr>
              <a:t>2. Інституціоналізм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Объект 2"/>
          <p:cNvGraphicFramePr/>
          <p:nvPr/>
        </p:nvGraphicFramePr>
        <p:xfrm>
          <a:off x="971640" y="549360"/>
          <a:ext cx="676908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549360"/>
                    <a:ext cx="676908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TextBox 4"/>
          <p:cNvSpPr/>
          <p:nvPr/>
        </p:nvSpPr>
        <p:spPr>
          <a:xfrm>
            <a:off x="108000" y="4581360"/>
            <a:ext cx="86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a5644e"/>
                </a:solidFill>
                <a:latin typeface="Arial"/>
              </a:rPr>
              <a:t>На першому етапі розвитку інституціоналізму, у 20-30-і роки ХХ ст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a5644e"/>
                </a:solidFill>
                <a:latin typeface="Arial"/>
              </a:rPr>
              <a:t>в залежності від того, які інституції клали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a5644e"/>
                </a:solidFill>
                <a:latin typeface="Arial"/>
              </a:rPr>
              <a:t>в основу пояснення господарської системи капіталізму, виокремлювали такі варіанти інституціоналіз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Arial"/>
              </a:rPr>
              <a:t>психологічний (технократичний) – Торстейн Вебле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Arial"/>
              </a:rPr>
              <a:t>правовий – Дж. Р. Коммон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Arial"/>
              </a:rPr>
              <a:t>Кон'юнктурно-статистичний – (Веслі К. Мітчел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1"/>
          <p:cNvSpPr/>
          <p:nvPr/>
        </p:nvSpPr>
        <p:spPr>
          <a:xfrm>
            <a:off x="0" y="507960"/>
            <a:ext cx="9036000" cy="63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Другий  етап розвитку інституціоналізму припадає на післявоєнний період. У 50-60-і рр. ХХ ст. відбувається відродження інституціоналізму на основі зрушень в світовому господарстві обумовлених першим етапом сучасної науково-технічної револю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Соціальний (індустрійно-технологічний) інституціоналізм 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Джон Кеннет Ґелбрей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Інституційно-соціальна традиція у Франції :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Франсуа Перр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Синтез інституціоналізму і шведської школи: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Гуннар Мюрда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Теорія економічного розвитку та інституційних змін: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Йозеф А. Шумпете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Інституціональна теорія економічного зростання: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Саймон Кузнец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Рисунок 1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3043080" cy="4464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2"/>
          <p:cNvSpPr/>
          <p:nvPr/>
        </p:nvSpPr>
        <p:spPr>
          <a:xfrm>
            <a:off x="485640" y="546084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мериканський економі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жон Кеннет Ґелбре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(1908-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"/>
          <p:cNvSpPr/>
          <p:nvPr/>
        </p:nvSpPr>
        <p:spPr>
          <a:xfrm>
            <a:off x="3780000" y="476280"/>
            <a:ext cx="504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Arial"/>
              </a:rPr>
              <a:t>«Нове індустріальне суспільство» (19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a5644e"/>
                </a:solidFill>
                <a:latin typeface="Arial"/>
              </a:rPr>
              <a:t>Відмінна риса </a:t>
            </a:r>
            <a:r>
              <a:rPr b="1" i="1" lang="uk-UA" sz="1800" spc="-1" strike="noStrike">
                <a:solidFill>
                  <a:srgbClr val="a5644e"/>
                </a:solidFill>
                <a:latin typeface="Arial"/>
              </a:rPr>
              <a:t>нового індустріального суспільства</a:t>
            </a:r>
            <a:r>
              <a:rPr b="1" lang="uk-UA" sz="1800" spc="-1" strike="noStrike">
                <a:solidFill>
                  <a:srgbClr val="a5644e"/>
                </a:solidFill>
                <a:latin typeface="Arial"/>
              </a:rPr>
              <a:t> панування техноструктури корпораці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c00000"/>
                </a:solidFill>
                <a:latin typeface="Arial"/>
              </a:rPr>
              <a:t>Техноструктура</a:t>
            </a:r>
            <a:r>
              <a:rPr b="1" lang="uk-UA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a5644e"/>
                </a:solidFill>
                <a:latin typeface="Arial"/>
              </a:rPr>
              <a:t>– це сукупність великої кількості вчених, інженерів, техніків, спеціалістів з реалізації, реклами, торгівлі, спеціалістів у галузі спілкування з громадськістю, адміністраторів тощ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a5644e"/>
                </a:solidFill>
                <a:latin typeface="Arial"/>
              </a:rPr>
              <a:t>Техноструктура</a:t>
            </a:r>
            <a:r>
              <a:rPr b="1" lang="uk-UA" sz="1800" spc="-1" strike="noStrike">
                <a:solidFill>
                  <a:srgbClr val="a5644e"/>
                </a:solidFill>
                <a:latin typeface="Arial"/>
              </a:rPr>
              <a:t> монополізувала знання, що потрібні для прийняття рішень від власників капіталу; перетворила уряд у свій «виконавчий коміте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a5644e"/>
                </a:solidFill>
                <a:latin typeface="Arial"/>
              </a:rPr>
              <a:t>Позитивна якість техноструктури – зростання фір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a5644e"/>
                </a:solidFill>
                <a:latin typeface="Arial"/>
              </a:rPr>
              <a:t>У новому індустріальному суспільстві у наявності дві системи: </a:t>
            </a:r>
            <a:r>
              <a:rPr b="1" i="1" lang="uk-UA" sz="1800" spc="-1" strike="noStrike">
                <a:solidFill>
                  <a:srgbClr val="0070c0"/>
                </a:solidFill>
                <a:latin typeface="Arial"/>
              </a:rPr>
              <a:t>система планування </a:t>
            </a:r>
            <a:r>
              <a:rPr b="1" lang="uk-UA" sz="1800" spc="-1" strike="noStrike">
                <a:solidFill>
                  <a:srgbClr val="a5644e"/>
                </a:solidFill>
                <a:latin typeface="Arial"/>
              </a:rPr>
              <a:t>і </a:t>
            </a:r>
            <a:r>
              <a:rPr b="1" i="1" lang="uk-UA" sz="1800" spc="-1" strike="noStrike">
                <a:solidFill>
                  <a:srgbClr val="0070c0"/>
                </a:solidFill>
                <a:latin typeface="Arial"/>
              </a:rPr>
              <a:t>ринк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324000" y="1052640"/>
          <a:ext cx="8569080" cy="4537080"/>
        </p:xfrm>
        <a:graphic>
          <a:graphicData uri="http://schemas.openxmlformats.org/drawingml/2006/table">
            <a:tbl>
              <a:tblPr/>
              <a:tblGrid>
                <a:gridCol w="3095640"/>
                <a:gridCol w="1920600"/>
                <a:gridCol w="3552840"/>
              </a:tblGrid>
              <a:tr h="68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Критері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Ринкова сист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Нове індустріальне суспіль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Механізм координаці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ин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лану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Суб’єкт вла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лас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ехнострук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89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Основний фактор виробниц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апі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зн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Прийняття ріш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індивідуаль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рупо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Цільовий показ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ибу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бсяги прода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Спонукальні моти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имус , гроші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тотожнення, пристосув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8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Провідний прошарок суспіль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анкіри, фінанси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едагоги, вче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427" name="Rectangle 1"/>
          <p:cNvSpPr/>
          <p:nvPr/>
        </p:nvSpPr>
        <p:spPr>
          <a:xfrm>
            <a:off x="96840" y="230760"/>
            <a:ext cx="900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Порівняльна характеристика ринкової систе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і нового індустріального суспільства Дж. К. Ґелбре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3"/>
          <p:cNvSpPr/>
          <p:nvPr/>
        </p:nvSpPr>
        <p:spPr>
          <a:xfrm>
            <a:off x="125280" y="5950080"/>
            <a:ext cx="805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будована на основі: </a:t>
            </a:r>
            <a:r>
              <a:rPr b="0" i="1" lang="uk-U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иноградова А. В.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Институциональная экономика: теория и практика. Учеб.-метод. пос. – Нижний Новгород: Нижнегородский госуниверситет, 2012. – С.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рий</cp:lastModifiedBy>
  <dcterms:modified xsi:type="dcterms:W3CDTF">2016-12-01T00:00:10Z</dcterms:modified>
  <cp:revision>184</cp:revision>
  <dc:subject/>
  <dc:title>ІСТОРІЯ ЕКОНОМІКИ  ТА ЕКОНОМІЧНОЇ ДУМКИ</dc:title>
</cp:coreProperties>
</file>