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3BCF-15B3-4532-B2B4-168BB0D48A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A1E5-C8EF-40CE-935C-D4D099AF374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EB1-BA14-47F0-A44E-017BE6F5851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C1D5-7646-4313-917E-9B346427BA6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26DF-DBB6-4AD9-9FC4-9A977267536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150-733A-47C8-B253-31A421FD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1CB-6E2A-4C48-AFC3-9147A3E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DB329-E24C-4910-97FB-6CDFC64B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7F3A0-1280-4D6C-8711-472C847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8C812-CB4F-459E-AA6A-B3540649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2C829-063A-4A52-B06A-9CCC312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D1BD6-2934-4F32-A19F-54F79752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634DD-FF1B-4036-8469-F07CA40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D9C6C-39A3-4828-93EE-FA4484AE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B973F-BEA1-4C3E-8572-79AC466E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D316B-2DBB-41C7-98E4-1CC72768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5C4-3DF9-430F-B59A-D0E60A6C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DF7-6D6A-4A69-866C-93B20987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9DA-0DC7-40E6-A951-234F659D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2A47-281E-41A6-860D-94CCBABD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58FD-0C12-4265-9509-3E6EF3B1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BDBC-84A0-4217-B2B4-188E7B9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B91C-2BC5-4E72-9E20-DE5A637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8401-5B12-46F4-A6E5-90A531B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739F-5103-4EC2-AF4B-40EDDC28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6A1-1A46-4562-8067-FD9BAA89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82E9-9030-481A-9A50-4EB61B8A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C6CF-508A-462B-9DFF-D0A0ECB2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22EF-6224-4C80-A229-95A83E84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3B51-7A65-404E-9CC9-CEA99A48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ADCE-1C6A-4671-B29E-C53B01EA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4B0B-77F4-4B8F-BD78-F37CC823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F018-D15E-4649-80D5-CD095ABF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F895-0509-4844-90A7-A4B59DB3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1F21-EBB7-46ED-B2EF-279DE840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CDF0-1622-47E9-A220-50A04546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3B5-FE3B-4C2D-BA6F-FE60289E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9183-CAFD-4F63-BCFD-916182C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8997-7E5F-4739-A7BD-ACE5271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7083-311F-4CE4-9DA3-A92AEEC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00DF-939A-40B6-A041-454E300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C76E-000E-46D4-B783-B0C3F510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4074-EAC9-496D-A79C-DD523772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93E3-5846-4CF7-9BE1-7C55A78E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6009-0471-4581-9A7C-BCEEEBDF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DE9B4-EF05-4D15-9C56-62C693A9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9461-A997-4462-AB3D-F39321A1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35D-8874-4417-A2A0-42D0C9C9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C4BE5-7345-48DE-8B20-AD795E9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4835-A356-42C2-9746-79E1CA84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B734-61AA-4D6C-8559-D1EC139E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98E4-2443-4906-8538-5C9A35B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3784-9E47-459E-9EA9-EE87E63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EFE4-C22A-4AC3-B649-7B77C2DB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50DF-9947-4309-9ED9-CB5882A0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693D-ECB1-42BB-8365-E4A92EAE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EA4D-5AF7-47A5-9ED9-CECC06C6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14993-5C20-4CF4-AFCD-24E8C458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EDC-4605-4285-A5F3-D06CFA9E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B7CCD-41C0-44AF-A6C7-2CAAF46D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3060A-EB7F-474F-8803-BC08751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1EE4E-3734-4DF6-82A0-708482C7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081B7-FE67-44EA-B075-E10677E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E25C-8965-438B-8DDA-72F40B4D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4B7C-78FD-4A7D-B72F-7929491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A518-E691-4BA4-B76D-C6F6406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CDDA-337C-45FC-BF7D-F6880CE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02DE-B00B-4726-A6D8-5EE1AB53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0CDB-B42E-4884-BA1D-73311D50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B32-02D5-4106-9EE7-E156F3C8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8CF3-EF4E-4781-81D8-358DC49D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110E-73FF-4C07-B27E-7ACFF28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5D83-5615-45E8-AB4E-1CE4281A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31806-948F-4C0F-A7E9-083FDE15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B10D-C33F-49B9-B00B-FC3AB226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A59E-DDB9-4C19-9386-6F10161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C985-E84B-405F-BF89-294DFC4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77C1-7DE2-4C00-BA0D-4301B28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25BAF-EEE5-4FFD-8EEA-77CB8CF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07B3A-A90E-49F2-BDF7-0F4583E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320-7816-4B72-A001-23523CAC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B6F4F-8944-40D4-88C9-88C9605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DDB4-5297-42D0-9E7C-B0184FA6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9B60-4526-48F6-A218-22800EC5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BCB18-78C3-404E-8D4B-9C838765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14BE-C68E-4C16-996C-5237492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C8BFF-F8FD-4FB9-B9E6-2204B500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3FCCF-14AA-4CD8-BC7A-36DF4C7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B8BD1-8FBB-4B13-BC54-6C1A4A02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3343C-D54D-4032-B589-98E79CE6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FF799-F5E1-45CB-B794-11A1160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069-1490-4DC3-AA8E-789D458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4E4A-C23F-4D35-BCA0-FD02D47F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BA8D8-6AFF-45C4-87D6-0CFEA96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D41EA-BF51-41AE-8B65-ADAB230F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EE780-84AB-4F64-A7A1-C84ACC76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F3544-C762-40D0-A97E-64CBF8F4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2979B-0746-4EC9-8437-406948B8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19CC-C120-41C6-B6D8-AF39D06E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C1999-9B26-4015-BA56-F5C5F2D3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49DC5-DCFF-4AF3-8253-8D9CB338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80CFC-ADCE-4822-A072-5B072875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8F2-8FAC-4CD9-BEF6-BF5AEE18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E840-2A90-4F8E-AD2A-AD485163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E35B-9F50-4788-A3AB-93BF822C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B203-3E63-44A1-B964-EFB3195A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C653-E03D-4724-BE89-9DED2A5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06DB-C9EC-4EAF-92D4-04612E70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BBB4D-A698-4E25-9C15-EFD8B8EC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E80A1-30A5-40BE-8FFE-2093ED0A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2E4E6-3F93-4169-AFA5-D88D8515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CA181-E56F-4085-9FFE-B459B1F6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083E8-ABA7-4F58-A2F2-81965C21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8584-E19E-4746-A6BF-7DBB63CE1E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5038-DC1A-4B7C-8E0A-B91EE7AAED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DB83-05B8-4949-B9E5-451DDAB41A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0B6F-4DD1-43DD-AE73-0164BDD4C7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C6C8-9720-44C9-8983-1880438D68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255A-1876-4039-85F8-7C65268752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B369-051C-4BC2-A861-23215B0826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0DD8-6825-4712-BA75-5B4BF575D78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D47-0D7C-4538-80B3-17F29DD3132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540640" cy="254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79280" y="3474720"/>
            <a:ext cx="85629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1. Фактори розвитку ринкових економічних систем у повоєнний період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2. Неокласика та неолібераліз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08080" y="414360"/>
            <a:ext cx="8783640" cy="10126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2442960" y="1317240"/>
            <a:ext cx="65070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  <a:ea typeface="Arial"/>
              </a:rPr>
              <a:t>Економічний лад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– </a:t>
            </a:r>
            <a:r>
              <a:rPr b="1" i="1" lang="uk-UA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це сукупність господарських форм, що реалізуються у повсякденній практиці господарського процес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Існує два «ідеальні» типи економічного устрою (ладу)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«центрально-кероване господарство»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«господарство спілкування» (або ринкове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  <a:ea typeface="Arial"/>
              </a:rPr>
              <a:t>Основне джерело негараздів капіталізму  приховується </a:t>
            </a:r>
            <a:r>
              <a:rPr b="1" lang="uk-UA" sz="24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у руйнації досконалої конкуренції, у монополізації господарських процесів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  <a:ea typeface="Arial"/>
              </a:rPr>
              <a:t>, що порушують дію регуляторів ринку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Рисунок 2" descr=""/>
          <p:cNvPicPr/>
          <p:nvPr/>
        </p:nvPicPr>
        <p:blipFill>
          <a:blip r:embed="rId2"/>
          <a:stretch/>
        </p:blipFill>
        <p:spPr>
          <a:xfrm>
            <a:off x="30240" y="1341360"/>
            <a:ext cx="2382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6"/>
          <p:cNvSpPr/>
          <p:nvPr/>
        </p:nvSpPr>
        <p:spPr>
          <a:xfrm>
            <a:off x="179280" y="476280"/>
            <a:ext cx="87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В.Ойк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перечував закономірний характер монополізації, оскільки не визнавав дії об'єктивних законів суспільного розви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Капіталізм є лише однією із історичних форм </a:t>
            </a:r>
            <a:r>
              <a:rPr b="1" lang="uk-UA" sz="2400" spc="-1" strike="noStrike">
                <a:solidFill>
                  <a:srgbClr val="00b0f0"/>
                </a:solidFill>
                <a:latin typeface="Arial"/>
              </a:rPr>
              <a:t>«господарства спілкування»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коли держава не втручалася в процеси господарського розви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асивність держави є причиною руйнації досконалої конкуренції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Напрямки економічної полі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Формування господарського устрою (встановлення єдиних для усіх суб'єктів економічної діяльності «правил гри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Вплив держави на реальні процеси відтворення, коли ті відхиляються від поставленої мети (комплекс заходів щодо регулювання економічного зрост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2"/>
          <p:cNvSpPr/>
          <p:nvPr/>
        </p:nvSpPr>
        <p:spPr>
          <a:xfrm>
            <a:off x="179280" y="54936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Принципи «конкурентного ладу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Недоторканість приватної влас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табільність грошового обігу і національної валю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Відкритість усіх рин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вобода угоді домовленостей, крім тих що сприяють монополіз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Матеріальна відповідальність тих, хто відповідає за дії господарських одиниц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остійність і передбачуваність економічної політики держа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Інституційне регулювання (через традиції і законодавство) найкращий спосіб боротьби з циклічністю господарських проце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Картинки по запросу Alfred Müller-Armack"/>
          <p:cNvPicPr/>
          <p:nvPr/>
        </p:nvPicPr>
        <p:blipFill>
          <a:blip r:embed="rId1"/>
          <a:stretch/>
        </p:blipFill>
        <p:spPr>
          <a:xfrm>
            <a:off x="108000" y="260280"/>
            <a:ext cx="2539800" cy="33130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728800" y="79200"/>
            <a:ext cx="63882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Альфред Мюллер-Ар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(1901-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апровадив до наукового обігу термін «соціальна ринкова економі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ереніс акцент з регулювання монополії і конкуренції на питання усвідомленої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соціальної полі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Мета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діяльності національної економіки полягає 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у забезпеченні соціального прогресу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на основі високоефективної і гнучкої економічної системи, побудованої на конкурентних заса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ля досягнення «соціального миру»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соціальна політика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має покладатися на принцип «соціальної компенсації», основними інструментами якої 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рогресивне опод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Бюджетні дотації малозабезпеченим верствам суспі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Створення досконалої системи соціального страх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89000" y="139680"/>
            <a:ext cx="8955000" cy="1055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1120" y="1052280"/>
            <a:ext cx="900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Науково-технологіч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Інтернаціонально-інтеграцій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Фінансово-торгівель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Соціально-оптимізацій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Дія зазначених факторів обумовила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Військово-політичне протистояння між соціалістичною системою і системою країн з ринковою економікою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Розпад колоніальної систе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Поширення сучасної науково-технічної революції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Здобутки у духовно-культурній сфер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3"/>
          <p:cNvSpPr/>
          <p:nvPr/>
        </p:nvSpPr>
        <p:spPr>
          <a:xfrm>
            <a:off x="179280" y="115920"/>
            <a:ext cx="8856720" cy="62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 висловлюванням </a:t>
            </a: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Дж. Бернала (1901-1971),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 у другій половині ХХ століття світ вступив, в епоху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учасної науково-технічної революції (НТР)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ознаками якої є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Краще розуміння Всесвіту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(релятивістська космологія, квантова механіка), атомна енергетика, промислова автоматизація,  творча хімія,  продуктивне сільське господарство і профілактична 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Наукові відкритт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фізика мікрочас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півпровідний  тріод –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транзистор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електронно-обчислювальні машини (ЕОМ) –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комп'ютер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синтетичні поліамідні волок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естициди 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- хімічні засоби знищення сільськогосподарських шкідників; антибіо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молекулярна ген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179280" y="11592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Перший етап Н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50-70 рр. ХХ с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179280" y="1413000"/>
            <a:ext cx="8929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Комплексна механізація і максимальне розширення можливостей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оточного машинобудування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одолання обмежень господарської діяльності, обумовлених відстанями (запровадження масового автотранспорту та авіаперевезен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итіснення сталі як 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конструкційного матеріалу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ластма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Основним енергоносієм 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(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углеводневим паливом) стає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нафта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Провідними галузям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що обумовили структурні зрушення у економіці стають: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автомобілебудування, авіація, нафтовидобуток та нафтохімія, масове виробництво пластмас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разом з усією інфраструктурою та сферою по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У структурі світового промислового виробництва суттєво зросла частка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електротехнічного і транспортного машинобудування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(з 9,7 до 15 %),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хімії та нафтохімії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(з 8,4 до 9,8%). Натомість частка вуглевидобутку скоротилася з 8,6 до 3,2%, а залізорудної з 5,1 до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4"/>
          <p:cNvSpPr/>
          <p:nvPr/>
        </p:nvSpPr>
        <p:spPr>
          <a:xfrm>
            <a:off x="179280" y="116352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Витоки створення  Європейського  Союзу пов'язують з 9 травня 1950 року, коли міністр  закордонних  справ  Франції  </a:t>
            </a:r>
            <a:r>
              <a:rPr b="1" lang="uk-UA" sz="2800" spc="-1" strike="noStrike">
                <a:solidFill>
                  <a:srgbClr val="00b050"/>
                </a:solidFill>
                <a:latin typeface="Arial"/>
              </a:rPr>
              <a:t>Робер Шуман</a:t>
            </a: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  запропонував  європейським  країнам,  насамперед  Німеччині  та  Франції, об’єднати  ресурси  у  вугледобувній  і  сталеливарній промислов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Це було важливим кроком до об’єднання мирних сил після Другої світової вій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З 1985 року 9 травня відзначається як День Європ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78588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ІСТОРІЯ СТВОРЕННЯ Є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4"/>
          <p:cNvSpPr/>
          <p:nvPr/>
        </p:nvSpPr>
        <p:spPr>
          <a:xfrm>
            <a:off x="571680" y="1428840"/>
            <a:ext cx="814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Європейське об'єднання вугілля і сталі (Париж, 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Європейське Економічне Співтовариство (ЄЕС) (Рим, 195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Європейський Союз (ЄС) (Маастрихт, 7 лютого 1992) Договір вступив у дію 1 листопада 1993 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3"/>
          <p:cNvSpPr/>
          <p:nvPr/>
        </p:nvSpPr>
        <p:spPr>
          <a:xfrm>
            <a:off x="642960" y="42876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ОСНОВНІ ЕТАП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ВОРЕННЯ Є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4"/>
          <p:cNvSpPr/>
          <p:nvPr/>
        </p:nvSpPr>
        <p:spPr>
          <a:xfrm>
            <a:off x="500040" y="928800"/>
            <a:ext cx="8143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Європейський Парламент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це законодавчий орган ЄС, який представляє громадян його держав-членів і обирається ними безпосередньо. Парламент Спільно з Радою ухвалює закони, затверджує бюджет, здійснює нагляд за діяльністю інституцій Є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Рада Євросоюзу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це законодавчий орган, що представляє держави-члени. Кожна з них має певну кількість голосів, яка відповідає чисельності її населення. У засіданнях Ради беруть участь міністри, які висловлюють позиції національних урядів. Рада ЄС ухвалює закони та вирішує питання щодо спільної зовнішньої політики та політики у сфері безпеки. Кожна держава – член ЄС почергово головує в Раді протягом 6 місяц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Європейська Комісія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це орган виконавчої влади ЄС, колегія якої складається з 28 комісарів по одному від кожної країни). Комісія ініціює законодавчі пропозиції, реалізує політику Євросоюзу,  управляє  бюджетом,  забезпечує  дотримання  європейського  законодав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представляє ЄС на міжнародній арен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324000" y="1969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СНОВНІ ІНСТИТУЦІЇ  ЄВРОПЕЙСЬКОГО СОЮЗУ СЬОГОД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250560" y="128520"/>
            <a:ext cx="83185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Arial Black"/>
              </a:rPr>
              <a:t>2. Неокласика та неолібералізм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3132000" y="620640"/>
            <a:ext cx="590256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Модель  економічної динаміки Джеймса Міда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«Неокласична теорія економічного зростання» (196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=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+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 +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е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– середньорічний темп зростання національного дохо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– середньорічний темп зростання обсягів впровадженого капітал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– середньорічний темп зростання обсягів задіяної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– частка капіталу у національному доход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– частка праці у національному доход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a5644e"/>
                </a:solidFill>
                <a:latin typeface="Arial"/>
              </a:rPr>
              <a:t> –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темп технічного прогр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Темп зростання національного доходу дорівнює сумі темпів зростання праці і капіталу, зважених за часткою їх витрат у національному доході, плюс темп технічного прогрес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108000" y="5084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глійс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жеймс М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7-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C:\Users\Юрий\Desktop\mediapreview.jpg"/>
          <p:cNvPicPr/>
          <p:nvPr/>
        </p:nvPicPr>
        <p:blipFill>
          <a:blip r:embed="rId1"/>
          <a:stretch/>
        </p:blipFill>
        <p:spPr>
          <a:xfrm>
            <a:off x="366840" y="1262160"/>
            <a:ext cx="27050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8875440" cy="1000080"/>
          </a:xfrm>
          <a:prstGeom prst="rect">
            <a:avLst/>
          </a:prstGeom>
          <a:ln w="0">
            <a:noFill/>
          </a:ln>
        </p:spPr>
      </p:pic>
      <p:pic>
        <p:nvPicPr>
          <p:cNvPr id="425" name="Объект 3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889000" cy="36003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324000" y="48690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льгельм Рьоп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99-1966)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Users\Юрий\Desktop\Alexander_Rüstow.jpg"/>
          <p:cNvPicPr/>
          <p:nvPr/>
        </p:nvPicPr>
        <p:blipFill>
          <a:blip r:embed="rId3"/>
          <a:stretch/>
        </p:blipFill>
        <p:spPr>
          <a:xfrm>
            <a:off x="3419640" y="1239840"/>
            <a:ext cx="2520720" cy="352440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"/>
          <p:cNvSpPr/>
          <p:nvPr/>
        </p:nvSpPr>
        <p:spPr>
          <a:xfrm>
            <a:off x="3419640" y="49417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лександер Рю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85-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C:\Users\Юрий\Desktop\14183304.jpg"/>
          <p:cNvPicPr/>
          <p:nvPr/>
        </p:nvPicPr>
        <p:blipFill>
          <a:blip r:embed="rId4"/>
          <a:stretch/>
        </p:blipFill>
        <p:spPr>
          <a:xfrm>
            <a:off x="6192720" y="1278000"/>
            <a:ext cx="2340000" cy="34862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8"/>
          <p:cNvSpPr/>
          <p:nvPr/>
        </p:nvSpPr>
        <p:spPr>
          <a:xfrm>
            <a:off x="5730840" y="4941720"/>
            <a:ext cx="33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льтер Ойк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91-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свобода в межах поряд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6-11-16T22:42:03Z</dcterms:modified>
  <cp:revision>147</cp:revision>
  <dc:subject/>
  <dc:title>ІСТОРІЯ ЕКОНОМІКИ  ТА ЕКОНОМІЧНОЇ ДУМКИ</dc:title>
</cp:coreProperties>
</file>