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7CC2-B93C-48B9-9073-D0D6F94C337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03C5-05E4-4A83-AF00-A69A3E9BF74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23C-4F6F-43C8-AA71-2558B155FE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1C99-027D-48DD-B5BC-1772A9B217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9EE-161C-4FD6-A1B4-E883A832C24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A41-2294-4BB3-A03D-EEC1C47F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377-0E7E-498E-B25E-D3180BD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B364E-DDBF-48AE-8679-CC39DA3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73C45-3969-4CD5-A44E-FBD2328C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E55FC-2AFB-4E80-A6D2-3E30410B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26A9F-5AEF-42F8-89B6-905A7A8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5CA59-5A67-4BD3-AF91-477330C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FFF24-77FB-4CC1-A8BB-85EA3FA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2CFE-399B-4E15-AFDC-F022648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1833B-0254-49B5-9940-453BFC31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8E1EA-FD90-4B3B-903D-C96FBE8C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B53-6568-46DB-B315-6786A395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8A5-C747-4C57-9F83-00DF756B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F9A3-246C-4F10-8A65-A44CB138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0578-D8A2-4476-ACC1-9CD0111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E0EF-59A5-4364-B183-49010C3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C91-4F6E-4834-9AEA-84865F7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132-DA5C-4C2D-B95F-06B660BB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4E03-D39E-4948-99BD-AB4FE288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DEB-3E06-4A7F-ADF6-6754AFE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D3B-F35E-474C-BC44-BBA2D4A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CF01-5DDB-4814-BB42-8D6A08B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C7F3-B765-4EE9-901C-042B45DF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F9D-FD09-47CE-AC39-E8ADAA96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24B-FAE5-4025-A62B-55A88412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49D-339A-4E2E-B544-14EC3C33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A14E-949E-4E25-9F46-FA62B45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1E73-889C-46B7-8045-27E18077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90CA-224D-4010-A0A4-50E399A8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B92FC-FE54-4392-A00D-B781AADA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782F-3BAB-4985-9A79-2A8E26AE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F33-2498-43FD-8F26-72F2BC19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5E449-EA27-4E2A-B21B-3D80434E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B73E0-C6D0-49A7-AFBF-DD61B6A5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4C6F-5187-4B7D-B087-7686769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78BD6-571E-4502-9E7D-0AF4328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A61B-DEE1-4025-AC4B-E353390E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5617-0FBD-4467-9E61-7C2BCD31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6A67-8058-46EA-965F-62B8F2C6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9B24-37ED-479A-B913-36EAAAB2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BC42-5BF5-475A-BBAE-F120D949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2F219-EE26-4441-BF05-C41F394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26F-3D8A-4AD9-B788-37FDEA81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F7C9-4707-4387-B8B1-061E353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68AF-ACF8-4051-A938-2E7862F6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7CAC6-C08A-4F7F-BFDC-FE1D0616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1536-0EC3-483D-AB30-082F494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51A9-689B-4AA6-BC06-D722F7A0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E4CE-DFB4-44DC-BF82-BDDF10C2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98F4-BD47-43F0-8EF7-1BA03480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4187-88EC-49E6-9097-827397A7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F7DB-3E86-45D8-A77D-B257F601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7906-2105-4AE6-B998-81515C28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7F5-B28B-47A6-85D1-9384780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5361-AADF-43C9-B7F4-B1FE1673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4111-337F-4B27-A1F1-0752CB25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F10B-3B5A-45F1-A292-4935E16E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4746-A642-4A75-97B9-0F00F9C0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1918-4EDF-4F40-8F65-A94222D7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8FAB2-5F50-4CAF-96FA-C2B02F5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882D-3D34-426A-9047-F782909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782AF-44C7-4F16-9B0F-752D989D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DBE3D-2390-48EB-8535-E9D3D4B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F6AD-5DC4-4A08-91CF-F5DABFF1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CD5-F302-493D-85A6-93CA1C8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3DB1D-DD49-430D-BAA5-BDDC1CDC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31D7-5FD4-427B-8EB9-0B801836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EB51-BB10-4B24-800D-AAA6337E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53EA1-25FA-4508-8D2C-F2C33C3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743E4-FE56-429D-8E17-376FB7C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9B7B8-A7E1-460D-94D6-3E91427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70987-39C4-4392-B72A-D4A307A3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5187-F3B8-4F9E-8753-61AC2FC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514E-9E90-452E-9C08-3B71EE5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1EAE-2573-40D9-9B4C-B95901B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E66-5789-4E5B-990D-8FEB3913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BB3D4-9FA7-4509-A1D4-3238A2C7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AEDE-C771-41DD-B2D0-1E6D700C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DEBF-2634-4104-BF8D-111C3642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6A2E-FBEB-4A67-884F-8F827246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EC66-16D2-4E34-8084-4D7636B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6B98-5EE6-4BC4-8F48-D59F8E98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4DD0-0DB5-4FE3-853C-1ACBA94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990A-D27D-4C99-A530-9AD352D1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0BCE1-CF38-4AEF-9D1E-C7ECBAC2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E44B-1B35-401A-8E2F-40A30D34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4E2-E1B4-400C-8422-0C67FF0F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D7B8-379F-4D99-ADB7-82238CE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14BF-6878-481A-92C2-95E6A22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9816F-30C2-43E6-BA0A-1EA2BB9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3ABA4-DDA0-4C18-B0D0-351BFC1C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9F656-27D7-43A2-A077-4F29C24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ECEB4-FB76-49F7-A413-0A7F4218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038AB-C150-41F1-8E41-9A34706F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F2C36-3431-45CB-BD37-4A668C7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F7AA-6CB7-4DEC-9231-50842BDA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D1B10-BB96-4769-BB4F-75F5AD5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418-2AB4-4500-A871-F082FCB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1F9E2-4D37-4EBA-B4C4-DBEDAAE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A682F-C402-455B-96B8-E4C78DB6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C5B5-3159-4B4A-B7D3-0CC5F20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D9B2-D33B-4926-B654-93BB75DF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048F-CBB2-48F6-A808-723BE15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411A-6489-412E-B15B-E535A385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8F03-9D6B-4A44-8CDA-0F89238B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3987-817F-4D35-9C09-070FC9C3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82B7-1CCB-4EE1-831F-43CDA7E1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1179F-081E-4EB8-AB68-A2134DB6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6F75-218A-48E4-BECC-86668932DBB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900C-DA3E-4A6C-ADDD-93F08513D7D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B683-7675-4562-8C23-D400BCB4CE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6EA0-1EE9-4A34-9100-E3E45BC663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6A8-5EF1-4593-A36A-DA277430B0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40B-56EE-4308-B837-2E15F771C0F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E40C-4C5C-4268-BB8F-83D16BBC87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42E1-93B1-40AB-85EF-0660635B9E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14B5-A81B-43BA-9C74-AD1EFF439F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3474720"/>
            <a:ext cx="85629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 Фактори розвитку ринкових економічних систем у повоєнний період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Неокласика та неолібераліз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10126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442960" y="1317240"/>
            <a:ext cx="65070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  <a:ea typeface="Arial"/>
              </a:rPr>
              <a:t>Економічний лад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– </a:t>
            </a:r>
            <a:r>
              <a:rPr b="1" i="1" lang="uk-UA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це сукупність господарських форм, що реалізуються у повсякденній практиці господарського процес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Існує два «ідеальні» типи економічного устрою (ладу)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«центрально-кероване господарство»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  <a:ea typeface="Arial"/>
              </a:rPr>
              <a:t>«господарство спілкування» (або ринкове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  <a:ea typeface="Arial"/>
              </a:rPr>
              <a:t>Основне джерело негараздів капіталізму  приховується </a:t>
            </a:r>
            <a:r>
              <a:rPr b="1" lang="uk-UA" sz="24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у руйнації досконалої конкуренції, у монополізації господарських процесів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  <a:ea typeface="Arial"/>
              </a:rPr>
              <a:t>, що порушують дію регуляторів ринку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3" name="Рисунок 2" descr=""/>
          <p:cNvPicPr/>
          <p:nvPr/>
        </p:nvPicPr>
        <p:blipFill>
          <a:blip r:embed="rId2"/>
          <a:stretch/>
        </p:blipFill>
        <p:spPr>
          <a:xfrm>
            <a:off x="30240" y="1341360"/>
            <a:ext cx="2382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6"/>
          <p:cNvSpPr/>
          <p:nvPr/>
        </p:nvSpPr>
        <p:spPr>
          <a:xfrm>
            <a:off x="179280" y="476280"/>
            <a:ext cx="8713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.Ойк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перечував закономірний характер монополізації, оскільки не визнавав дії об'єктивних законів суспільного розви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апіталізм є лише однією із історичних форм </a:t>
            </a: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«господарства спілкування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оли держава не втручалася в процеси господарського розви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асивність держави є причиною руйнації досконалої конкуренції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Напрямки економічної полі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Формування господарського устрою (встановлення єдиних для усіх суб'єктів економічної діяльності «правил гри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плив держави на реальні процеси відтворення, коли ті відхиляються від поставленої мети (комплекс заходів щодо регулювання економічного зрост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2"/>
          <p:cNvSpPr/>
          <p:nvPr/>
        </p:nvSpPr>
        <p:spPr>
          <a:xfrm>
            <a:off x="179280" y="549360"/>
            <a:ext cx="892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Принципи «конкурентного ладу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Недоторканість приватної влас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табільність грошового обігу і національної валю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Відкритість усіх рин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вобода угоді домовленостей, крім тих що сприяють монополізац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Матеріальна відповідальність тих, хто відповідає за дії господарських одиниц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стійність і передбачуваність економічної політики держа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Інституційне регулювання (через традиції і законодавство) найкращий спосіб боротьби з циклічністю господарських 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Картинки по запросу Alfred Müller-Armack"/>
          <p:cNvPicPr/>
          <p:nvPr/>
        </p:nvPicPr>
        <p:blipFill>
          <a:blip r:embed="rId1"/>
          <a:stretch/>
        </p:blipFill>
        <p:spPr>
          <a:xfrm>
            <a:off x="108000" y="260280"/>
            <a:ext cx="2539800" cy="33130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728800" y="79200"/>
            <a:ext cx="63882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Альфред Мюллер-Арм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(1901-19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провадив до наукового обігу термін «соціальна ринкова економік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ереніс акцент з регулювання монополії і конкуренції на питання усвідомленої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соціальної полі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Мета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діяльності національної економіки полягає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у забезпеченні соціального прогресу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на основі високоефективної і гнучкої економічної системи, побудованої на конкурентних засад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ля досягнення «соціального миру»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соціальна політика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має покладатися на принцип «соціальної компенсації», основними інструментами якої є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гресивне опод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Бюджетні дотації малозабезпеченим верствам суспі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Створення досконалої системи соціального страх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89000" y="139680"/>
            <a:ext cx="8955000" cy="10558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1120" y="1052280"/>
            <a:ext cx="900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Науково-технологіч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Інтернаціонально-інтеграцій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Фінансово-торгівель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Franklin Gothic Medium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Соціально-оптимізаційни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Дія зазначених факторів обумовила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Військово-політичне протистояння між соціалістичною системою і системою країн з ринковою економікою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Розпад колоніальної систем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Поширення сучасної науково-технічної революції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31360" indent="-5313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Franklin Gothic Medium"/>
                <a:ea typeface="Arial"/>
              </a:rPr>
              <a:t>Здобутки у духовно-культурній сфері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3"/>
          <p:cNvSpPr/>
          <p:nvPr/>
        </p:nvSpPr>
        <p:spPr>
          <a:xfrm>
            <a:off x="179280" y="115920"/>
            <a:ext cx="8856720" cy="62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 висловлюванням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Дж. Бернала (1901-1971),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 у другій половині ХХ століття світ вступив, в епоху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учасної науково-технічної революції (НТР)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знаками якої є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Краще розуміння Всесвіту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релятивістська космологія, квантова механіка), атомна енергетика, промислова автоматизація,  творча хімія,  продуктивне сільське господарство і профілактична 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Наукові відкритт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фізика мікрочас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півпровідний  тріод –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транзистор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електронно-обчислювальні машини (ЕОМ) –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комп'ютер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синтетичні поліамідні волок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естициди 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- хімічні засоби знищення сільськогосподарських шкідників; антибіо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молекулярна гене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179280" y="11592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Перший етап Н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(50-70 рр. ХХ с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179280" y="1413000"/>
            <a:ext cx="8929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Комплексна механізація і максимальне розширення можливостей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оточного машинобудування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одолання обмежень господарської діяльності, обумовлених відстанями (запровадження масового автотранспорту та авіаперевезен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итіснення сталі як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конструкційного матеріалу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пластмас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Основним енергоносієм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(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углеводневим паливом) стає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нафта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ровідними галузям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обумовили структурні зрушення у економіці стають: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автомобілебудування, авіація, нафтовидобуток та нафтохімія, масове виробництво пластмас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разом з усією інфраструктурою та сферою посл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структурі світового промислового виробництва суттєво зросла частка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електротехнічного і транспортного машинобудування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з 9,7 до 15 %),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хімії та нафтохімії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(з 8,4 до 9,8%). Натомість частка вуглевидобутку скоротилася з 8,6 до 3,2%, а залізорудної з 5,1 до 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4"/>
          <p:cNvSpPr/>
          <p:nvPr/>
        </p:nvSpPr>
        <p:spPr>
          <a:xfrm>
            <a:off x="179280" y="1163520"/>
            <a:ext cx="878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Витоки створення  Європейського  Союзу пов'язують з 9 травня 1950 року, коли міністр  закордонних  справ  Франції  </a:t>
            </a: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Робер Шуман</a:t>
            </a: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  запропонував  європейським  країнам,  насамперед  Німеччині  та  Франції, об’єднати  ресурси  у  вугледобувній  і  сталеливарній промислово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Це було важливим кроком до об’єднання мирних сил після Другої світової вій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Arial"/>
              </a:rPr>
              <a:t>З 1985 року 9 травня відзначається як День Євро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78588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ІСТОРІЯ СТВОРЕННЯ Є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4"/>
          <p:cNvSpPr/>
          <p:nvPr/>
        </p:nvSpPr>
        <p:spPr>
          <a:xfrm>
            <a:off x="571680" y="1428840"/>
            <a:ext cx="81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е об'єднання вугілля і сталі (Париж, 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е Економічне Співтовариство (ЄЕС) (Рим, 195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Європейський Союз (ЄС) (Маастрихт, 7 лютого 1992) Договір вступив у дію 1 листопада 1993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3"/>
          <p:cNvSpPr/>
          <p:nvPr/>
        </p:nvSpPr>
        <p:spPr>
          <a:xfrm>
            <a:off x="642960" y="42876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ОСНОВНІ ЕТАП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СТВОРЕННЯ Є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4"/>
          <p:cNvSpPr/>
          <p:nvPr/>
        </p:nvSpPr>
        <p:spPr>
          <a:xfrm>
            <a:off x="500040" y="928800"/>
            <a:ext cx="8143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Європейський Парламент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законодавчий орган ЄС, який представляє громадян його держав-членів і обирається ними безпосередньо. Парламент Спільно з Радою ухвалює закони, затверджує бюджет, здійснює нагляд за діяльністю інституцій Є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Рада Євросоюзу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законодавчий орган, що представляє держави-члени. Кожна з них має певну кількість голосів, яка відповідає чисельності її населення. У засіданнях Ради беруть участь міністри, які висловлюють позиції національних урядів. Рада ЄС ухвалює закони та вирішує питання щодо спільної зовнішньої політики та політики у сфері безпеки. Кожна держава – член ЄС почергово головує в Раді протягом 6 місяц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Європейська Комісія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це орган виконавчої влади ЄС, колегія якої складається з 28 комісарів по одному від кожної країни). Комісія ініціює законодавчі пропозиції, реалізує політику Євросоюзу,  управляє  бюджетом,  забезпечує  дотримання  європейського  законодав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представляє ЄС на міжнародній арен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324000" y="19692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СНОВНІ ІНСТИТУЦІЇ  ЄВРОПЕЙСЬКОГО СОЮЗУ СЬОГОД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250560" y="128520"/>
            <a:ext cx="83185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Arial Black"/>
              </a:rPr>
              <a:t>2. Неокласика та неолібераліз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3132000" y="620640"/>
            <a:ext cx="590256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Модель  економічної динаміки Джеймса Міда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«Неокласична теорія економічного зростання» (196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=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 +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 +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е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середньорічний темп зростання національного дохо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середньорічний темп зростання обсягів впровадженого капітал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– середньорічний темп зростання обсягів задіяної прац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– частка капіталу у національному доход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Arial"/>
              </a:rPr>
              <a:t>β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– частка праці у національному доход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a5644e"/>
                </a:solidFill>
                <a:latin typeface="Arial"/>
              </a:rPr>
              <a:t> –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темп технічного прогр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Темп зростання національного доходу дорівнює сумі темпів зростання праці і капіталу, зважених за часткою їх витрат у національному доході, плюс темп технічного прогрес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"/>
          <p:cNvSpPr/>
          <p:nvPr/>
        </p:nvSpPr>
        <p:spPr>
          <a:xfrm>
            <a:off x="108000" y="508464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лій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жеймс Мі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7-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C:\Users\Юрий\Desktop\mediapreview.jpg"/>
          <p:cNvPicPr/>
          <p:nvPr/>
        </p:nvPicPr>
        <p:blipFill>
          <a:blip r:embed="rId1"/>
          <a:stretch/>
        </p:blipFill>
        <p:spPr>
          <a:xfrm>
            <a:off x="366840" y="1262160"/>
            <a:ext cx="27050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-12600" y="115920"/>
            <a:ext cx="8875440" cy="1000080"/>
          </a:xfrm>
          <a:prstGeom prst="rect">
            <a:avLst/>
          </a:prstGeom>
          <a:ln w="0">
            <a:noFill/>
          </a:ln>
        </p:spPr>
      </p:pic>
      <p:pic>
        <p:nvPicPr>
          <p:cNvPr id="425" name="Объект 3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889000" cy="3600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324000" y="486900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льгельм Рьоп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99-1966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Users\Юрий\Desktop\Alexander_Rüstow.jpg"/>
          <p:cNvPicPr/>
          <p:nvPr/>
        </p:nvPicPr>
        <p:blipFill>
          <a:blip r:embed="rId3"/>
          <a:stretch/>
        </p:blipFill>
        <p:spPr>
          <a:xfrm>
            <a:off x="3419640" y="1239840"/>
            <a:ext cx="2520720" cy="35244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419640" y="49417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лександер Рю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85-19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C:\Users\Юрий\Desktop\14183304.jpg"/>
          <p:cNvPicPr/>
          <p:nvPr/>
        </p:nvPicPr>
        <p:blipFill>
          <a:blip r:embed="rId4"/>
          <a:stretch/>
        </p:blipFill>
        <p:spPr>
          <a:xfrm>
            <a:off x="6192720" y="1278000"/>
            <a:ext cx="2340000" cy="34862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8"/>
          <p:cNvSpPr/>
          <p:nvPr/>
        </p:nvSpPr>
        <p:spPr>
          <a:xfrm>
            <a:off x="5730840" y="4941720"/>
            <a:ext cx="33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льтер Ойк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91-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свобода в межах поряд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11-16T22:42:03Z</dcterms:modified>
  <cp:revision>147</cp:revision>
  <dc:subject/>
  <dc:title>ІСТОРІЯ ЕКОНОМІКИ  ТА ЕКОНОМІЧНОЇ ДУМКИ</dc:title>
</cp:coreProperties>
</file>