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E1B-4996-46EA-BE75-CC2D47B6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5DC-9C59-4A1E-8F56-3AF89B0A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82C-1A61-4EB9-8572-A8A067E5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E8C-78FA-43C4-8AFB-0FB23C7B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723-8071-4A5D-9F85-F57A7EBF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633-B5F7-4361-9AC7-A9B7E6FB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0E2-8F95-4D98-8FEA-E9A83F99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BDF-66B8-498B-8C6B-CA97FF7B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3CA-7FAB-4E1F-B7B3-0DE94856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B7A-A874-41B6-839E-14B0FD64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C25-B735-4F9A-9777-7A205461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C30-6726-4627-BA12-A2E3DD95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D250-8978-4577-AFFE-3F38D4B6D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02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КОНОМІЧНЕ ЗРОСТАННЯ, ЗАЙНЯТІСТЬ І ЛЮДСЬКИЙ РОЗВИ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2967120"/>
            <a:ext cx="601992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Спрямованість заходів активної </a:t>
            </a:r>
            <a:br>
              <a:rPr sz="2600"/>
            </a:b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політики зайнятості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752480"/>
            <a:ext cx="7925040" cy="990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збільшення попиту на робочу силу з боку як приватного, так і державного сектору економі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00200"/>
            <a:ext cx="0" cy="31240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209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895480"/>
            <a:ext cx="7925040" cy="1371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ідвищення конкурентоспроможності робочої сили та забезпечення якісної відповідності робочої сили і робочих місць (в просторі і в часі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41972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оліпшення процесу працевлашт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міст лек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52388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Економічне зростання як результат і фактор можливостей для розвитку трудового потенціал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8195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Продуктивна зайнятість – основна сполучна ланка між досягненням економічного зростання і розвитком люди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9625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Принципи стратегії зайнятості, яка сприяє людському розвит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8769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Активна політика зайнятості як пріоритет економічної і соціальної політики держав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Економічне зроста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209680"/>
            <a:ext cx="4267440" cy="3886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Збільшення масштабів сукупного виробництва і споживання в країні, яке характеризується передусім такими макроекономічними показниками як ВНП, ВВП, національний дох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2057400"/>
            <a:ext cx="0" cy="1522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33433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83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Напрями прогресу суспіль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828800"/>
            <a:ext cx="7925040" cy="15238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від економічного зростання до людського розвитку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(ресурси з національного багатства зосереджені на засобах впливу на людський розвиток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676520"/>
            <a:ext cx="0" cy="24382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438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148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505320"/>
            <a:ext cx="7925040" cy="1904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від людського розвитку до економічного зростання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(будучи кінцевою метою діяльності, людський розвиток сприяє збільшенню національного багатства, є найважливішим фактором подальшого економічного зростанн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ff"/>
                </a:solidFill>
                <a:latin typeface="Arial"/>
              </a:rPr>
              <a:t>Чинники реалізації цілей розвитку трудового потенціалу в Україні та його трансформації в людський капіта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371600"/>
            <a:ext cx="7925040" cy="12193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) попит на робочу силу певних професій і кваліфікації всередині країни, зумовлений структурою приватного споживання, державного та інвестиційного попиту, а також місце країни на світовому ринку високотехнологічної продукці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19320"/>
            <a:ext cx="0" cy="49528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1337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352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743200"/>
            <a:ext cx="7925040" cy="12952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) збалансованість пропозиції та попит на ринку праці в певні періоди або зменшення диспропорцій, що утворилися внаслідок зміни темпів чи моделі розвитку, узгодженість політики підготовки кадрів із стратегією розвит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4191120"/>
            <a:ext cx="7925040" cy="761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) державна політика щодо розвитку людського потенціалу та його використ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5105520"/>
            <a:ext cx="7925040" cy="761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) наявність передусім вітчизняного капіталу для здійснення певних структурних змін і досягнення стратегічних ці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6019920"/>
            <a:ext cx="7925040" cy="3808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) тип поведінки інвесторів і власників великих корпора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5720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4864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6172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ff"/>
                </a:solidFill>
                <a:latin typeface="Arial"/>
              </a:rPr>
              <a:t>Причини ключового значення проблем зайнятості з погляду концепції людського розвитк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29528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удова діяльність людини дозволяє їй самостійно забезпечити необхідні для гідного існування доходи, які можуть бути спрямовані на індивідуальний людський розвит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143000"/>
            <a:ext cx="0" cy="51055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6765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886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743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362320"/>
            <a:ext cx="7925040" cy="838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удова діяльність дозволяє кожному реалізувати накопичений людський капітал і створює стимули для одержання освіти й інших приватних інвестицій у людський капіта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352680"/>
            <a:ext cx="7925040" cy="10670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ормально й ефективно функціонуючий ринок праці дозволяє державі зосередитися на підтримці і захисті окремих соціально вразливих і непрацездатних категорій громадян і забезпечити більшу рівність можливостей для людського розвитку громад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1055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4572000"/>
            <a:ext cx="7925040" cy="10666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сокий рівень зайнятості в умовах ефективного виробництва забезпечує не тільки стабільність індивідуальних доходів, але і зростання податкових надходжень до державного бюджету і сукупних доходів суспі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5791320"/>
            <a:ext cx="7925040" cy="838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удова діяльність багато в чому визначає процес соціалізації особистості, формує ціннісні установки й орієнтації, перешкоджає формуванню і поширенню девіантної і криміногенної поведі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2485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533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Принципи державного регулювання сфери зайнятост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914400"/>
            <a:ext cx="0" cy="51814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295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066680"/>
            <a:ext cx="792504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ов’язку держави підтримувати повну зайнятість в економіц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0574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67652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арантії зайнятості, що полягає в обмеженні дій, які ведуть до примусового (свавільного) звільн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8195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51460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езпеки праці, забезпечення контролю гігієни праці та техніки безпе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581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27672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арантії доходів, викорінення бідності і забезпечення права на дохі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ідтворення робочої сили, покриття державою витрат на освіту, професійну підготовку і охорону здоров’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2578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495288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арантії прав представників найманих працівників, посиленні ролі працівників при проведенні колективних переговор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60958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79132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охочення, створення умов для розвитку прогресивних форм зайнят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Активна політика зайнятос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2057400"/>
            <a:ext cx="4876920" cy="3886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мплекс заходів, спрямованих на розширення попиту на продуктивну працю з безпечними і здоровими умовами та гідною оплатою відповідно до законодавства, на поліпшення якості та конкурентоспроможності робочої сили, скорочення безробіття, запобігання довготривалого, застійного, масового безробіття, якнайшвидше добровільне залучення безробітних до активної пра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1905120"/>
            <a:ext cx="0" cy="1522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3275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ff"/>
                </a:solidFill>
                <a:latin typeface="Arial"/>
              </a:rPr>
              <a:t>Напрями активної політики зайнятості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29528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жвавлення економічної ситуації та інвестиційної активності в країн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143000"/>
            <a:ext cx="0" cy="49528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00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438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32767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13372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творення нової виробничої структури підтримки вітчизняного товаровироб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97180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озвиток системи нових робочих місць, збільшення потреби у робочій силі в пріоритетних галузях економі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809880"/>
            <a:ext cx="7925040" cy="990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тимулювання особистої ініціативи, розвиток підприємництва, малого та середнього бізнесу, що забезпечує створення нових робочих місц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95288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досконалення системи оплати праці та соціального захис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2670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52578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7913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допущення масового вивільнення працівни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60958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0-04-27T20:57:5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