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2ADD-9F47-43B0-A673-A33A44299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5790-B48C-42C9-ABAC-52EE290F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3D79-1597-4489-9843-02F41D6E7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D3D3-F987-45DD-A3E3-94A5DAD10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7AA3-0E14-4807-ADF5-CC1293E0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0BED-99B8-4B98-A7AD-F4AA08F3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406C-E916-46B7-B875-EFC08BFA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78C2-D817-4739-B897-1F378960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02D3-B809-4494-B679-B6B0D74E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4D6B-17FC-4222-B0F4-DC62189F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C9F5-B8E0-4711-981A-2F2B6623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208E-85FA-4113-B6D2-73C52FE7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DBF1-B390-42EF-9C35-07F6462C8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002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КОНОМІЧНЕ ЗРОСТАННЯ, ЗАЙНЯТІСТЬ І ЛЮДСЬКИЙ РОЗВИ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00200" y="2967120"/>
            <a:ext cx="601992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82240" cy="8380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ff"/>
                </a:solidFill>
                <a:latin typeface="Arial"/>
              </a:rPr>
              <a:t>Спрямованість заходів активної </a:t>
            </a:r>
            <a:br>
              <a:rPr sz="2600"/>
            </a:br>
            <a:r>
              <a:rPr b="1" lang="en-US" sz="2600" spc="-1" strike="noStrike">
                <a:solidFill>
                  <a:srgbClr val="cc00ff"/>
                </a:solidFill>
                <a:latin typeface="Arial"/>
              </a:rPr>
              <a:t>політики зайнятості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1752480"/>
            <a:ext cx="7925040" cy="990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збільшення попиту на робочу силу з боку як приватного, так і державного сектору економі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600200"/>
            <a:ext cx="0" cy="312408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22096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2895480"/>
            <a:ext cx="7925040" cy="13716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підвищення конкурентоспроможності робочої сили та забезпечення якісної відповідності робочої сили і робочих місць (в просторі і в часі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4419720"/>
            <a:ext cx="7925040" cy="6094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поліпшення процесу працевлаштува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Зміст лек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523880"/>
            <a:ext cx="8153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Економічне зростання як результат і фактор можливостей для розвитку трудового потенціал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819520"/>
            <a:ext cx="8153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Продуктивна зайнятість – основна сполучна ланка між досягненням економічного зростання і розвитком люди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3962520"/>
            <a:ext cx="8153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Принципи стратегії зайнятості, яка сприяє людському розвит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876920"/>
            <a:ext cx="8153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Активна політика зайнятості як пріоритет економічної і соціальної політики держав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382240" cy="990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Економічне зростан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209680"/>
            <a:ext cx="4267440" cy="38862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Збільшення масштабів сукупного виробництва і споживання в країні, яке характеризується передусім такими макроекономічними показниками як ВНП, ВВП, національний дохо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2057400"/>
            <a:ext cx="0" cy="15228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334332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8384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Напрями прогресу суспіль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1828800"/>
            <a:ext cx="7925040" cy="15238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9999"/>
                </a:solidFill>
                <a:latin typeface="Arial"/>
              </a:rPr>
              <a:t>від економічного зростання до людського розвитку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(ресурси з національного багатства зосереджені на засобах впливу на людський розвиток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1676520"/>
            <a:ext cx="0" cy="243828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4382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11480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3505320"/>
            <a:ext cx="7925040" cy="19047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9999"/>
                </a:solidFill>
                <a:latin typeface="Arial"/>
              </a:rPr>
              <a:t>від людського розвитку до економічного зростання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(будучи кінцевою метою діяльності, людський розвиток сприяє збільшенню національного багатства, є найважливішим фактором подальшого економічного зростанн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ff"/>
                </a:solidFill>
                <a:latin typeface="Arial"/>
              </a:rPr>
              <a:t>Чинники реалізації цілей розвитку трудового потенціалу в Україні та його трансформації в людський капітал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1371600"/>
            <a:ext cx="7925040" cy="12193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) попит на робочу силу певних професій і кваліфікації всередині країни, зумовлений структурою приватного споживання, державного та інвестиційного попиту, а також місце країни на світовому ринку високотехнологічної продукції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219320"/>
            <a:ext cx="0" cy="495288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213372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33526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2743200"/>
            <a:ext cx="7925040" cy="12952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) збалансованість пропозиції та попит на ринку праці в певні періоди або зменшення диспропорцій, що утворилися внаслідок зміни темпів чи моделі розвитку, узгодженість політики підготовки кадрів із стратегією розвит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4191120"/>
            <a:ext cx="7925040" cy="7617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) державна політика щодо розвитку людського потенціалу та його використан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5105520"/>
            <a:ext cx="7925040" cy="7617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) наявність передусім вітчизняного капіталу для здійснення певних структурних змін і досягнення стратегічних ці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6019920"/>
            <a:ext cx="7925040" cy="3808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) тип поведінки інвесторів і власників великих корпорац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457200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548640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617220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ff"/>
                </a:solidFill>
                <a:latin typeface="Arial"/>
              </a:rPr>
              <a:t>Причини ключового значення проблем зайнятості з погляду концепції людського розвитк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295280"/>
            <a:ext cx="7925040" cy="9144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удова діяльність людини дозволяє їй самостійно забезпечити необхідні для гідного існування доходи, які можуть бути спрямовані на індивідуальний людський розвито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143000"/>
            <a:ext cx="0" cy="510552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67652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388620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274320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2362320"/>
            <a:ext cx="7925040" cy="8380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удова діяльність дозволяє кожному реалізувати накопичений людський капітал і створює стимули для одержання освіти й інших приватних інвестицій у людський капіта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352680"/>
            <a:ext cx="7925040" cy="10670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нормально й ефективно функціонуючий ринок праці дозволяє державі зосередитися на підтримці і захисті окремих соціально вразливих і непрацездатних категорій громадян і забезпечити більшу рівність можливостей для людського розвитку громадя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510552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4572000"/>
            <a:ext cx="7925040" cy="10666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сокий рівень зайнятості в умовах ефективного виробництва забезпечує не тільки стабільність індивідуальних доходів, але і зростання податкових надходжень до державного бюджету і сукупних доходів суспіль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5791320"/>
            <a:ext cx="7925040" cy="8380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удова діяльність багато в чому визначає процес соціалізації особистості, формує ціннісні установки й орієнтації, перешкоджає формуванню і поширенню девіантної і криміногенної поведі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624852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5331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Принципи державного регулювання сфери зайнятості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914400"/>
            <a:ext cx="0" cy="518148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12952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066680"/>
            <a:ext cx="7925040" cy="4572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ов’язку держави підтримувати повну зайнятість в економіці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05740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1676520"/>
            <a:ext cx="7925040" cy="6858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арантії зайнятості, що полягає в обмеженні дій, які ведуть до примусового (свавільного) звільн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81952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2514600"/>
            <a:ext cx="7925040" cy="6094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езпеки праці, забезпечення контролю гігієни праці та техніки безпе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35812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3276720"/>
            <a:ext cx="7925040" cy="6858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арантії доходів, викорінення бідності і забезпечення права на дохі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4956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114800"/>
            <a:ext cx="7925040" cy="6858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ідтворення робочої сили, покриття державою витрат на освіту, професійну підготовку і охорону здоров’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525780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4952880"/>
            <a:ext cx="7925040" cy="6858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арантії прав представників найманих працівників, посиленні ролі працівників при проведенні колективних переговорі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60958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5791320"/>
            <a:ext cx="7925040" cy="6858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охочення, створення умов для розвитку прогресивних форм зайнят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382240" cy="990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Активна політика зайнятост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2057400"/>
            <a:ext cx="4876920" cy="38862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мплекс заходів, спрямованих на розширення попиту на продуктивну працю з безпечними і здоровими умовами та гідною оплатою відповідно до законодавства, на поліпшення якості та конкурентоспроможності робочої сили, скорочення безробіття, запобігання довготривалого, застійного, масового безробіття, якнайшвидше добровільне залучення безробітних до активної прац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1905120"/>
            <a:ext cx="0" cy="15228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32752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ff"/>
                </a:solidFill>
                <a:latin typeface="Arial"/>
              </a:rPr>
              <a:t>Напрями активної політики зайнятості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295280"/>
            <a:ext cx="7925040" cy="6858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жвавлення економічної ситуації та інвестиційної активності в країн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143000"/>
            <a:ext cx="0" cy="495288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160020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4382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327672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2133720"/>
            <a:ext cx="7925040" cy="6858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творення нової виробничої структури підтримки вітчизняного товаровиробн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2971800"/>
            <a:ext cx="7925040" cy="6858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озвиток системи нових робочих місць, збільшення потреби у робочій силі в пріоритетних галузях економі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3809880"/>
            <a:ext cx="7925040" cy="990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тимулювання особистої ініціативи, розвиток підприємництва, малого та середнього бізнесу, що забезпечує створення нових робочих місц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4952880"/>
            <a:ext cx="7925040" cy="6858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досконалення системи оплати праці та соціального захис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2670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525780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5791320"/>
            <a:ext cx="7925040" cy="5331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едопущення масового вивільнення працівник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60958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9T13:02:29Z</dcterms:created>
  <dc:creator>Viacheslav Tkachuk</dc:creator>
  <dc:description/>
  <dc:language>en-US</dc:language>
  <cp:lastModifiedBy> Main User</cp:lastModifiedBy>
  <dcterms:modified xsi:type="dcterms:W3CDTF">2020-04-27T20:57:57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