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036-39E9-49B9-A9EE-0782DDA6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64D-CED7-464E-AA68-B52FC457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C41-8060-45BF-9DD4-67A4FA90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690-5934-49F7-B9BA-BF7EF1A3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3EE-A1AD-47A5-9D50-F84716E3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FE7-CAA7-41CF-BAE2-41F9B22E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675-0946-487A-8B66-B384340D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E8B-8D75-469F-ACBA-571C52F7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733-E331-48D7-A45D-E5448E41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C62-096B-4745-9A77-CB8F1357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089-09E2-4D39-8500-3DB13278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FE0-DA56-4EDC-A032-9BB6A8D4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75B8-89F1-4090-B933-0B29A47DE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02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ІНДЕКС ЛЮДСЬКОГО РОЗВИТ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5562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c00ff"/>
                </a:solidFill>
                <a:latin typeface="Arial"/>
              </a:rPr>
              <a:t>Трирівнева система української національної методики побудови ІЛР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828800"/>
            <a:ext cx="7925040" cy="609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Верхній щабел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 це інтегральний регіональний індекс людського розвитку (РІЛ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600200"/>
            <a:ext cx="0" cy="36576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2096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666880"/>
            <a:ext cx="7925040" cy="1828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Другий щабель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– загальні індикатори розвитку дев’яти основних аспектів людського розвитку: рівня освіти населення; умов проживання населення; матеріального добробуту населення; стану та охорони здоров’я; екологічної ситуації; соціального середовища; демографічного розвитку; розвитку ринку праці; фінансування людського розви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365760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25780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4724280"/>
            <a:ext cx="7925040" cy="10670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Третій щабел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 характеристика кожного з аспектів людського розвитку регіонів України, що забезпечується використанням 94-х первинних складових 9-ти загальних індика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533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Система показників людського розвитку регіоні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7621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. Рівень освіти населен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609480"/>
            <a:ext cx="0" cy="594360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0666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7524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4479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. Умови проживання населен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438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21337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. Матеріальний добробут населен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1240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8195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. Стан та охорона здоров’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8098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5053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. Екологічна ситуаці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4956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41911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6. Соціальне середовищ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1814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8769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7. Демографічний розви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867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5627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. Розвиток регіональних ринків прац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65530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62485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9. Фінансування людського розвит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міст лек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6002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Вибір і кількісне представлення основних вимірів людського розвит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5146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Методика розрахунку Індексу людського розвитку та його складов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4290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Національна методика побудови індексу людського розвит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3434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Система показників людського розвитку регіон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1295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ff"/>
                </a:solidFill>
                <a:latin typeface="Arial"/>
              </a:rPr>
              <a:t>Три виміри, які відображають ключові можливості у забезпеченні всього процесу людського розвитку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133720"/>
            <a:ext cx="7925040" cy="10666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прожити довге й здорове житт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вимір – довголітт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981080"/>
            <a:ext cx="0" cy="320040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7432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51814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352680"/>
            <a:ext cx="7925040" cy="10670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набути, розширювати й оновлювати знання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вимір – освічені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572000"/>
            <a:ext cx="7925040" cy="12193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мати доступ до засобів існування, що забезпечують гідний рівень життя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(вимір – матеріальний рівень житт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8862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Вимір довголітт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209680"/>
            <a:ext cx="7925040" cy="8384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ідображає можливість людей прожити тривале й здорове житт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057400"/>
            <a:ext cx="0" cy="160020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8195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200400"/>
            <a:ext cx="79250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иміром довголіття обрано показник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середньої очікуваної тривалості життя при народжен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6576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оказник освіченос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209680"/>
            <a:ext cx="7925040" cy="1600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ідображає можливості людей набувати знань і здібностей для повноправної та багатогранної участі в житті сучасного суспільства та суттєвого і значимого особистого внеску в це житт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057400"/>
            <a:ext cx="0" cy="26668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0481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962520"/>
            <a:ext cx="7925040" cy="1600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оказника складається з двох компонентів: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досягнутого рівня грамотності дорослого населення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та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сукупної частки учнів у загальній чисельності населення відповідного ві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4724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Міра грамотнос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209680"/>
            <a:ext cx="4267440" cy="25146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Частка грамотних людей у загальній чисельності населення старшого 15 рок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2057400"/>
            <a:ext cx="0" cy="1522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3810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ff"/>
                </a:solidFill>
                <a:latin typeface="Arial"/>
              </a:rPr>
              <a:t>Сукупна частка учнів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362320"/>
            <a:ext cx="4267440" cy="2971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укупний валовий контингент учнів, або рівень охоплення навчанн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2057400"/>
            <a:ext cx="0" cy="3049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оказник матеріального рівня житт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2057400"/>
            <a:ext cx="7925040" cy="2133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ідображає можливості доступу людей до матеріальних ресурсів, необхідних для гідного існування, включаючи ведення здорового способу життя, забезпечення територіальної і соціальної мобільності, обмін інформацією і участь в житті суспіль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905120"/>
            <a:ext cx="0" cy="297180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1240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343400"/>
            <a:ext cx="7925040" cy="990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Характеризується скоригованим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 реальним валовим внутрішнім продуктом (ВВП) на душу населе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8769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382240" cy="1295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Часткові індекси людського розвит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43828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індекс тривалості житт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286000"/>
            <a:ext cx="0" cy="22096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7432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4956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27672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індекс рівня освіче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411480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індекс скоригованого реального ВВ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581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3:02:29Z</dcterms:created>
  <dc:creator>Viacheslav Tkachuk</dc:creator>
  <dc:description/>
  <dc:language>en-US</dc:language>
  <cp:lastModifiedBy> Main User</cp:lastModifiedBy>
  <dcterms:modified xsi:type="dcterms:W3CDTF">2020-04-27T11:11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