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687-6D36-466E-B177-5E690463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725-CF32-4C8D-9BA4-8A6B8F2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308-09EC-482C-8EE6-D08ABEB0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000-44F9-4828-AC18-B6A4F397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190-4C7C-4F8F-A29E-473AF2F7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810-50DC-4990-BA95-3A81145B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EA3-704D-4112-BE09-724CCB9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051-FE16-4BE4-AA5D-50045BA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A72-7C29-46FF-B540-B84EBB74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502-F00A-4127-9D9D-89D91B6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8E3-1320-4642-81CF-43852ED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626-3FA2-4083-BA7E-566E5EE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2C2C-949B-434F-BCAD-AB385D5E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ІНДЕКС ЛЮДСЬКОГО РОЗВИ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5562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cc00ff"/>
                </a:solidFill>
                <a:latin typeface="Arial"/>
              </a:rPr>
              <a:t>Трирівнева система української національної методики побудови ІЛР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8288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Верхній щабел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це інтегральний регіональний індекс людського розвитку (РІЛ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0" cy="36576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666880"/>
            <a:ext cx="7925040" cy="1828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9999"/>
                </a:solidFill>
                <a:latin typeface="Arial"/>
              </a:rPr>
              <a:t>Другий щабель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– загальні індикатори розвитку дев’яти основних аспектів людського розвитку: рівня освіти населення; умов проживання населення; матеріального добробуту населення; стану та охорони здоров’я; екологічної ситуації; соціального середовища; демографічного розвитку; розвитку ринку праці; фінансування людського розви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6576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7242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Третій щабель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характеристика кожного з аспектів людського розвитку регіонів України, що забезпечується використанням 94-х первинних складових 9-ти загальних індикат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Система показників людського розвитку регіоні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. Рівень освіти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609480"/>
            <a:ext cx="0" cy="59436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752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79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. Умови проживання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1337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. Матеріальний добробут населенн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8195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. Стан та охорона здоров’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809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5053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. Екологічна ситуа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41911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. Соціальне середовищ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81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8769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7. Демографічний розви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5627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. Розвиток регіональних ринків прац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553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2485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. Фінансування людського розвит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Вибір і кількісне представлення основних вимірів людського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Методика розрахунку Індексу людського розвитку та його складов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4290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Національна методика побудови індексу людського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3434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Система показників людського розвитку регіо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Три виміри, які відображають ключові можливості у забезпеченні всього процесу людського розвитк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133720"/>
            <a:ext cx="7925040" cy="1066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прожити довге й здорове житт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имір – довголітт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81080"/>
            <a:ext cx="0" cy="32004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181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3526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набути, розширювати й оновлювати знання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имір – освічені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5720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мати доступ до засобів існування, що забезпечують гідний рівень житт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вимір – матеріальний рівень житт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мір довголі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9680"/>
            <a:ext cx="7925040" cy="8384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ість людей прожити тривале й здорове житт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057400"/>
            <a:ext cx="0" cy="16002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819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200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иміром довголіття обрано показник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середньої очікуваної тривалості життя при народжен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6576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оказник освічен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09680"/>
            <a:ext cx="7925040" cy="1600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ості людей набувати знань і здібностей для повноправної та багатогранної участі в житті сучасного суспільства та суттєвого і значимого особистого внеску в це житт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057400"/>
            <a:ext cx="0" cy="2666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048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962520"/>
            <a:ext cx="7925040" cy="1600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казника складається з двох компонентів: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досягнутого рівня грамотності дорослого населе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та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сукупної частки учнів у загальній чисельності населення відповідного ві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724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Міра грамотн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4267440" cy="2514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Частка грамотних людей у загальній чисельності населення старшого 15 ро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ff"/>
                </a:solidFill>
                <a:latin typeface="Arial"/>
              </a:rPr>
              <a:t>Сукупна частка учнів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362320"/>
            <a:ext cx="4267440" cy="2971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купний валовий контингент учнів, або рівень охоплення навчанн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оказник матеріального рівня житт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057400"/>
            <a:ext cx="7925040" cy="2133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ідображає можливості доступу людей до матеріальних ресурсів, необхідних для гідного існування, включаючи ведення здорового способу життя, забезпечення територіальної і соціальної мобільності, обмін інформацією і участь в житті суспі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05120"/>
            <a:ext cx="0" cy="29718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34340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Характеризується скоригованим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реальним валовим внутрішнім продуктом (ВВП) на душу насел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769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асткові індекси людського розвит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індекс тривалості житт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286000"/>
            <a:ext cx="0" cy="22096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276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індекс рівня освіче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4114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індекс скоригованого реального ВВ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581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7T11:11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