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191-91AE-47EA-984C-AB25DCB6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333-82E8-465E-8B96-E5CD7AA2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F90-CC60-4164-B560-B062E01B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437-8551-4AD4-AA17-5765E593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A3B-0E67-46AD-82C1-4E297AFD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800-AA82-4C95-9BD7-D4F84318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E1B-3F1A-41ED-8C69-52E8F619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A32-3C16-488D-B2E0-F8856575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422-237D-43FF-9190-AF1B0ED1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3695-687D-490C-A208-6BF0C3FA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4A6-C87B-42A4-BE7F-58F2BF6E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194-D388-4110-B4C1-7ADE19DD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E140-C9AC-4C18-89DF-2DA24B60F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mbria"/>
              </a:rPr>
              <a:t>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ТРАНСФОРМАЦІЯ МОЛОДІЖНОГО РИНКУ ПРАЦІ В УМОВАХ ЦИФРОВОЇ ЕКОНОМІ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7432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1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Цифрова зайнятість молоді та її фор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5053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Цифрова зайнятість як інструмент для зниження рівня безробітт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34340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3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Мобільні додатки для пошуку роботи тимчасового характ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8052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іоритетні проблеми зайнятості молод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066680"/>
            <a:ext cx="8305920" cy="1676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подолання дисбалансу на ринку праці, тобто встановлення відповідності між тими, кого випускають заклади вищої освіти, і тими, на кого є попит на ринку прац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971800"/>
            <a:ext cx="8305920" cy="914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зацікавлення роботодавців у створенні нових робочих місц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8305920" cy="1219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поєднання інтересів держави, роботодавців і молодих фахівців в єдиному прагненні до персонального та загального благополучч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Фрілансер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1371600"/>
            <a:ext cx="5486400" cy="4495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незалежні висококваліфіковані працівники, які не перебувають у штаті підприємств, а самостійно надають послуги замовникам завдяки використанню інформаційно-комунікаційних технологій, без укладання довгострокового трудового догов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288612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орми цифрової зайнятос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76520"/>
            <a:ext cx="8610480" cy="914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електронний фрілан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819520"/>
            <a:ext cx="8610480" cy="761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електронний аутсорсі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йбільш популярні бірж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рілансу в Україн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Freelancehunt.co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51460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Cambria"/>
              </a:rPr>
              <a:t>Weblancer.ne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352680"/>
            <a:ext cx="8305920" cy="609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Cambria"/>
              </a:rPr>
              <a:t>Freelance.u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9112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Cambria"/>
              </a:rPr>
              <a:t>Kabanchik.u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02920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Freelance24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лектронний аутсорсінг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1371600"/>
            <a:ext cx="4800600" cy="4495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передбачає участь у соціально-трудових відносинах посередника, який повністю чи частково бере на себе ризики та виступає не тільки в ролі посередника, а й гар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32004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685800"/>
            <a:ext cx="83059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Навички майбутнього включаю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371600"/>
            <a:ext cx="76201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Cambria"/>
              </a:rPr>
              <a:t>здатність креативно мислити й управляти часом (тайм-менеджмен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2209680"/>
            <a:ext cx="76201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навички комуніка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895480"/>
            <a:ext cx="76201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управління проек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6765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5146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5146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6765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5146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2004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3581280"/>
            <a:ext cx="76201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володіння інструментами верстки сайт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219320"/>
            <a:ext cx="0" cy="327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80988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449568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4267080"/>
            <a:ext cx="76201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комп’ютерної графіки та відеомонта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380880" y="1544760"/>
          <a:ext cx="8382240" cy="4779720"/>
        </p:xfrm>
        <a:graphic>
          <a:graphicData uri="http://schemas.openxmlformats.org/drawingml/2006/table">
            <a:tbl>
              <a:tblPr/>
              <a:tblGrid>
                <a:gridCol w="4092840"/>
                <a:gridCol w="4289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«Жорсткі» навички (hard skil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«М’які» навички (soft skil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Вміння вести переговор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Спроможність бути зрозумілим для співрозмовни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Клієнтоорієнтовані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Грамотність мови та правопис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Вміння управляти людьми (проектами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Здатність створити для себе робоче місц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Навички роботи з поширеними програмними продуктами (наприклад,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MS </a:t>
                      </a: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Word,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MS</a:t>
                      </a: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 Excel,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MS</a:t>
                      </a: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 PowerPoint,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Corel Draw</a:t>
                      </a: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Професійна мобільні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Знання кількох іноземних м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Cambria"/>
                          <a:ea typeface="Times New Roman"/>
                        </a:rPr>
                        <a:t>Поєднання кількох різних професійних напрямів у одній діяльності (кваліфікаційна гнучкіст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925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арактеристика «жорстких» і «м’яких» навичок молоді для успішного працевлаштування на цифровому ринку пра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5T13:24:26Z</dcterms:created>
  <dc:creator>Viacheslav Tkachuk</dc:creator>
  <dc:description/>
  <dc:language>en-US</dc:language>
  <cp:lastModifiedBy> Main User</cp:lastModifiedBy>
  <dcterms:modified xsi:type="dcterms:W3CDTF">2020-04-26T22:59:0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