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8242-AA76-4032-A047-75C2B06D1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963E-8F40-4516-BF0A-42027D93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2575-979F-4F7B-ACE0-AE80B713D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8962-C0B1-4A8B-ABCC-DF591AA2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342D-F7A8-4546-B3F9-4443FADD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7321-0F64-40AE-88FF-3FE9D215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7973-86B4-4BD3-A4CA-9975F7A2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9C83-D05D-4899-9DA0-EFF7C8A4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F11E-4143-4B43-BB5D-EB9848EE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A106-C4EA-4BEE-9D8A-E66032F9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94A4-4760-4694-B932-3F9412AC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33A9-941D-487E-94C9-9C042E5B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B42D-9ACC-4AFA-9F7C-292EA5417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mbria"/>
              </a:rPr>
              <a:t>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ТРАНСФОРМАЦІЯ МОЛОДІЖНОГО РИНКУ ПРАЦІ В УМОВАХ ЦИФРОВОЇ ЕКОНОМІ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74320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1.</a:t>
            </a: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 Цифрова зайнятість молоді та її фор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5053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2.</a:t>
            </a: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 Цифрова зайнятість як інструмент для зниження рівня безробітт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34340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3.</a:t>
            </a: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 Мобільні додатки для пошуку роботи тимчасового характе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09480" y="38052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іоритетні проблеми зайнятості молоді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066680"/>
            <a:ext cx="8305920" cy="16765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подолання дисбалансу на ринку праці, тобто встановлення відповідності між тими, кого випускають заклади вищої освіти, і тими, на кого є попит на ринку прац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2971800"/>
            <a:ext cx="8305920" cy="9144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зацікавлення роботодавців у створенні нових робочих місц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8305920" cy="12193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поєднання інтересів держави, роботодавців і молодих фахівців в єдиному прагненні до персонального та загального благополучч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Фрілансер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1371600"/>
            <a:ext cx="5486400" cy="44956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незалежні висококваліфіковані працівники, які не перебувають у штаті підприємств, а самостійно надають послуги замовникам завдяки використанню інформаційно-комунікаційних технологій, без укладання довгострокового трудового догово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288612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914040"/>
            <a:ext cx="7925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Форми цифрової зайнятост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76520"/>
            <a:ext cx="8610480" cy="9144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електронний фріланс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819520"/>
            <a:ext cx="8610480" cy="761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електронний аутсорсі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йбільш популярні бірж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рілансу в Україні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676520"/>
            <a:ext cx="8305920" cy="609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Freelancehunt.co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514600"/>
            <a:ext cx="8305920" cy="609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uk-UA" sz="2400" spc="-1" strike="noStrike">
                <a:solidFill>
                  <a:srgbClr val="ffff00"/>
                </a:solidFill>
                <a:latin typeface="Cambria"/>
              </a:rPr>
              <a:t>Weblancer.ne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3352680"/>
            <a:ext cx="8305920" cy="6098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uk-UA" sz="2400" spc="-1" strike="noStrike">
                <a:solidFill>
                  <a:srgbClr val="ffff00"/>
                </a:solidFill>
                <a:latin typeface="Cambria"/>
              </a:rPr>
              <a:t>Freelance.u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91120"/>
            <a:ext cx="8305920" cy="609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uk-UA" sz="2400" spc="-1" strike="noStrike">
                <a:solidFill>
                  <a:srgbClr val="ffff00"/>
                </a:solidFill>
                <a:latin typeface="Cambria"/>
              </a:rPr>
              <a:t>Kabanchik.u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5029200"/>
            <a:ext cx="8305920" cy="609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Freelance24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Електронний аутсорсінг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1371600"/>
            <a:ext cx="4800600" cy="44956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передбачає участь у соціально-трудових відносинах посередника, який повністю чи частково бере на себе ризики та виступає не тільки в ролі посередника, а й гара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80880" y="2514600"/>
            <a:ext cx="320040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7200" y="685800"/>
            <a:ext cx="8305920" cy="5335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Навички майбутнього включаю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1371600"/>
            <a:ext cx="7620120" cy="685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Cambria"/>
              </a:rPr>
              <a:t>здатність креативно мислити й управляти часом (тайм-менеджмент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2209680"/>
            <a:ext cx="7620120" cy="5335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навички комуніка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2895480"/>
            <a:ext cx="7620120" cy="5335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управління проек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167652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251460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51460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167652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251460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320040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3581280"/>
            <a:ext cx="7620120" cy="5335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володіння інструментами верстки сайт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1219320"/>
            <a:ext cx="0" cy="3276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380988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449568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4267080"/>
            <a:ext cx="7620120" cy="5335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комп’ютерної графіки та відеомонтаж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380880" y="1544760"/>
          <a:ext cx="8382240" cy="4779720"/>
        </p:xfrm>
        <a:graphic>
          <a:graphicData uri="http://schemas.openxmlformats.org/drawingml/2006/table">
            <a:tbl>
              <a:tblPr/>
              <a:tblGrid>
                <a:gridCol w="4092840"/>
                <a:gridCol w="42894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«Жорсткі» навички (hard skill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«М’які» навички (soft skill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Вміння вести переговор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Спроможність бути зрозумілим для співрозмовник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Клієнтоорієнтованіс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Грамотність мови та правопис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Вміння управляти людьми (проектами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Здатність створити для себе робоче місц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Навички роботи з поширеними програмними продуктами (наприклад,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MS </a:t>
                      </a: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Word,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MS</a:t>
                      </a: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 Excel,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MS</a:t>
                      </a: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 PowerPoint,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Corel Draw</a:t>
                      </a: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Професійна мобільніс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Знання кількох іноземних м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Поєднання кількох різних професійних напрямів у одній діяльності (кваліфікаційна гнучкість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925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арактеристика «жорстких» і «м’яких» навичок молоді для успішного працевлаштування на цифровому ринку прац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5T13:24:26Z</dcterms:created>
  <dc:creator>Viacheslav Tkachuk</dc:creator>
  <dc:description/>
  <dc:language>en-US</dc:language>
  <cp:lastModifiedBy> Main User</cp:lastModifiedBy>
  <dcterms:modified xsi:type="dcterms:W3CDTF">2020-04-26T22:59:0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