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268-0B7B-4F2B-BA85-716015C2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414-17F7-434C-9B1E-92060BD4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7FD-7060-4DFE-B6D6-405A6651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185-9655-4952-A9E2-919AB6AF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AC2-5F71-4E0D-9C12-54DDBDBD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A20-CB52-4D89-B1C8-541CACE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19F-901C-4AD8-9BAE-C13534F0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F94-0189-47DB-BA81-92A81205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4BA-EE4B-4D64-8A50-8F23B94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898-09F2-4933-A737-4A75DF14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6D1-A247-4F97-9A40-1D2A5AE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60E-ECE6-4C2E-80BD-6E32369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9A22-9674-4C85-B956-16FA23308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И ЛЮДСЬКОГО РОЗВИТКУ В ЕКОНОМІЧНИХ КОНЦЕПЦІ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137040"/>
            <a:ext cx="47260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600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Економічне зростання й людський розвиток в класичній та неокласичній політекономі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743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огляди українських і російських науковців ХІХ – початку ХХ ст. на проблеми розвитку люд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облеми економічного зростання у світовій науковій думці початку ХХ 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6483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Концепції розвитку ІІ половини ХХ с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овідні висловлювання стародавніх мислител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8288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на має розглядатися не лише як засіб збільшення виробництва, а й як найважливіша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мета розвит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76520"/>
            <a:ext cx="0" cy="36576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4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200400"/>
            <a:ext cx="792504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Багатство – це явно не те благо, якого ми прагнемо, оскільки воно всього лише корисне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для досягнення чогось більш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72428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ій так, щоб ти завжди ставився до людей і в своїй особі, і в особі будь-кого іншого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як до мет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і ніколи б не ставився до них лише як до засоб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809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овідні висловлювання класиків політеконом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6765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 з їхніми виробничими здібностями являють собою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багат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3880"/>
            <a:ext cx="0" cy="41911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6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343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66688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гресуючий стан суспільства означає в дійсності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радість і достаток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для всіх його клас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7339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ацівник, окрім «звичайної заробітної плати» за «звичайну працю», має одержати й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шкодування витрат на навча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та прибуток на 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352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10552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иробництво багатства – це лише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засіб підтримання життя людини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, задоволення її потреб і розвитку її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ил – фізичних, розумових і мораль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715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гляди науковців ХІХ – початку ХХ ст.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на проблеми розвитку люд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5238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агатство – це плід праці люд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295280"/>
            <a:ext cx="0" cy="45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9051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3623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агатство має бути засобом для всіх людських здібностей і потре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8954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35053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юдська особа є найвищою цінніс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4343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марнотратство праці є болячкою в економічному розвитку суспіль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8769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548640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ушієм розвитку суспільства є голод і люб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гляди науковців на економічне зростання і людський розвиток на початку ХХ ст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6002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сягнення успіху можливе лише на основі духовності, освіти та морального оздоровлення суспільства, його трудової мотиваці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371600"/>
            <a:ext cx="0" cy="44956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4382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ніша реалізація індивідуальних здібностей та ініціатив людей сприятиме приросту світового бага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767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йважливішими умовами економічного зростання розвиток і реалізацію здібностей людини та розширення можливостей її особистого ви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7339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41972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ржавні інвестиції та громадські роботи можуть підвищити купівельну спроможність населення, зменшити масштаби економічної кризи і послабити соціальне напру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9528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5627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во максимальної свободи людини є визначальною складовою спонтанного економічного по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58672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ровідні концепції людського розвитку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ІІ половини ХХ ст.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6002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ростання ВВП на душу населення зменшує масштаби злиденності та підвищує загальний добробут насе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371600"/>
            <a:ext cx="0" cy="45720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981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792504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ростання стало не просто засобом забезпечення розвитку, а метою самого розви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8954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276720"/>
            <a:ext cx="7925040" cy="380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кономічне зростання призводитиме до зменшення бід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інки виграють від зростання навіть більшою мірою, ніж чоловіки, оскільки жінка отримує нарешті можливість стати повноцінною людиною, знаходячи застосування своїм розумовим здібностям і талантам тією ж мірою, що й чолові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3341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ідбувається пошук принципово нових орієнтирів суспільно-економічного прогресу, що зокрема в економічній науці виявилося тріумфом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концепції людського капітал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9436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4T10:44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