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D27-1A35-49F8-81D8-24B40576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CC0-C2EB-412B-81AD-88B72893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D18-9264-4399-9DD0-82E631E2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BA8-F122-4C03-8717-2FAB7BD7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2D2-CF0E-496A-9C2F-BF69D51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4B2-9E05-4F6B-A319-CE91356C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D18-1049-44B3-8B7C-9B9825AA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6A2-D713-4322-9397-4FAAD4E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C7F-B9CE-4233-B854-BE8C316C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65D-D291-42DB-9229-A82EFEF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8F8-4AFF-4500-90AF-3DAA67F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42E-938C-4D98-946A-400A00AE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906B-6103-44BC-B53B-A1A6F43E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И ЛЮДСЬКОГО РОЗВИТКУ В ЕКОНОМІЧНИХ КОНЦЕПЦІ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137040"/>
            <a:ext cx="4726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Економічне зростання й людський розвиток в класичній та неокласичній політеконом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743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огляди українських і російських науковців ХІХ – початку ХХ ст. на проблеми розвитку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облеми економічного зростання у світовій науковій думці початку ХХ 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6483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Концепції розвитку ІІ половини ХХ 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овідні висловлювання стародавніх мислител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8288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на має розглядатися не лише як засіб збільшення виробництва, а й як найважливіша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мета розвит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76520"/>
            <a:ext cx="0" cy="36576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4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200400"/>
            <a:ext cx="792504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агатство – це явно не те благо, якого ми прагнемо, оскільки воно всього лише корисне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для досягнення чогось більш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72428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ій так, щоб ти завжди ставився до людей і в своїй особі, і в особі будь-кого іншого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як до мет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і ніколи б не ставився до них лише як до засоб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809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овідні висловлювання класиків політеконом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765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 з їхніми виробничими здібностями являють собою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багат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3880"/>
            <a:ext cx="0" cy="4191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6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343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66688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гресуючий стан суспільства означає в дійсності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радість і достаток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для всіх його клас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7339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ацівник, окрім «звичайної заробітної плати» за «звичайну працю», має одержати й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шкодування витрат на навча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та прибуток на 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352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иробництво багатства – це лише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засіб підтримання життя людин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задоволення її потреб і розвитку її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ил – фізичних, розумових і мораль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715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гляди науковців ХІХ – початку ХХ ст.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на проблеми розвитку люд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5238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агатство – це плід праці люд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295280"/>
            <a:ext cx="0" cy="45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9051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3623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агатство має бути засобом для всіх людських здібностей і потре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8954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5053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юдська особа є найвищою цінніс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343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арнотратство праці є болячкою в економічному розвитку суспіль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8769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486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ушієм розвитку суспільства є голод і люб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гляди науковців на економічне зростання і людський розвиток на початку ХХ ст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6002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сягнення успіху можливе лише на основі духовності, освіти та морального оздоровлення суспільства, його трудової мотив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371600"/>
            <a:ext cx="0" cy="44956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4382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ніша реалізація індивідуальних здібностей та ініціатив людей сприятиме приросту світового бага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767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йважливішими умовами економічного зростання розвиток і реалізацію здібностей людини та розширення можливостей її особистого ви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7339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4197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ржавні інвестиції та громадські роботи можуть підвищити купівельну спроможність населення, зменшити масштаби економічної кризи і послабити соціальне напру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9528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5627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 максимальної свободи людини є визначальною складовою спонтанного економічного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ровідні концепції людського розвитку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ІІ половини ХХ ст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002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ростання ВВП на душу населення зменшує масштаби злиденності та підвищує загальний добробут насе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371600"/>
            <a:ext cx="0" cy="45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81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ростання стало не просто засобом забезпечення розвитку, а метою самого розви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8954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276720"/>
            <a:ext cx="7925040" cy="380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кономічне зростання призводитиме до зменшення бід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інки виграють від зростання навіть більшою мірою, ніж чоловіки, оскільки жінка отримує нарешті можливість стати повноцінною людиною, знаходячи застосування своїм розумовим здібностям і талантам тією ж мірою, що й чолов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3341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ідбувається пошук принципово нових орієнтирів суспільно-економічного прогресу, що зокрема в економічній науці виявилося тріумфом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концепції людського капітал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9436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4T10:44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