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png" ContentType="image/png"/>
  <Override PartName="/ppt/media/image27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7.png" ContentType="image/png"/>
  <Override PartName="/ppt/media/image10.png" ContentType="image/png"/>
  <Override PartName="/ppt/media/image28.wmf" ContentType="image/x-wmf"/>
  <Override PartName="/ppt/media/image15.png" ContentType="image/png"/>
  <Override PartName="/ppt/media/image24.jpeg" ContentType="image/jpeg"/>
  <Override PartName="/ppt/media/image5.png" ContentType="image/png"/>
  <Override PartName="/ppt/media/image1.jpeg" ContentType="image/jpeg"/>
  <Override PartName="/ppt/media/image2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C798-533B-4D5E-85D3-8390F50E542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FB4D-F2E8-47BC-A84C-FDD4C5CA73A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33EA-56F8-4CDF-A097-C39FE9C87DF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7793-370E-4253-8F24-5FE5F187CF7D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7463-11C5-4E42-A751-A78469AFE9C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8D05-867F-4E6B-9BD8-46358AC6FAE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07A4-321B-4CB7-A136-F75CB244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6921-2472-47D6-A7D2-478F2A6F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FED05-7291-44B7-8AB2-7F93564A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09E42-C377-434F-9333-3788150B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A54453-BD4E-4AA0-A3B4-0FFF90FE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60C55-2900-4120-98B7-7D2B4993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65D0A-DFD2-40A5-8C57-C9BFB86E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C2D4F-AEB5-4BB8-BB81-413D81E5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5337A-BD02-4794-82A4-392F11C1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BC88B-FC47-4461-8092-D3797167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A10D8-65A2-4D62-B2FD-C7FF42267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66D2-3ECE-454D-9B3E-1A598FA97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E143-A231-4012-983E-88C51074D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0314-0FF0-457C-A1D9-111B375F8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F841-DBE3-4AD1-99EF-7CA5623C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24DE-4FDD-4427-8F9D-B5ADB51E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21FA-6D60-47FB-8359-2709EBAB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C146-6C6A-4BB9-A1C6-31FFAA7E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0EE3-954C-4D32-B098-4FFDEB88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9CC3-32A7-439B-91FA-49609CA1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F06A-5780-4BF7-8BE4-778F724F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CE0F-14B5-4B97-81B0-1941640C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89A5-E0D7-4609-8B19-1B8C1A3F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C1B4-8BA7-487F-A490-17A682FD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A4C6-C28D-410D-9EB6-1E615E2D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844D-E6E1-459D-8863-DF8128D20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490B9-BF90-47E3-AD98-055DBB6A1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B6895-133B-4B04-818D-36C0CFB6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D79A9-FDDD-4B0F-A7EA-C298C8A1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F2A05-2338-47D3-8B45-08495CD5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4D8F0-37AD-4737-8BCB-8B81AC77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92AB-187B-466D-8858-5683D4AE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A98CF-94BA-44EB-8C57-3D3FDE4C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7D5AF-1B0E-4242-B750-4E830125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68E1A-FF28-426D-A0EB-A25D8131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5D94B-2CB3-4344-8D7F-F0DC519B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CA9E9-9E3F-4BBA-8D30-5BC6E87D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78770-8A18-424A-AC7C-99934DF44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4F72D-FE26-4D2B-8C28-460D74EB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10998-4A03-4D79-B2A9-A0477CB8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EAAC1-33CA-4673-B322-05939277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4138D-B8E1-46EF-9E55-BF00D794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91AB-48B0-4107-8F6A-0C9F8956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18F25-2B35-4F13-B12B-BD758FDF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8014A-3A57-4DAF-A478-8D1758BF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C4957-C730-41DA-AFF8-68FB44A0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1D2F2-4E1A-4CFC-922F-97AB92A3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F7B17-1E4F-47BD-8800-E27928E3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87FCC-D30E-46F5-8323-58057B7E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8F9FB-4A70-402E-9FE0-6675187F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7362D-5941-4BB9-96CD-B80B1CC1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996E4-8A5A-47A7-8CBB-FC70DFFB0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D1851-142D-42A9-8769-1583C027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F727-C974-4165-A1CE-DD0B416F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1086F-C845-4B75-85D9-D2531BD6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5F3FA-4A4D-4DD5-8E03-9F72844A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8A63A-0B98-42EA-855B-D3B139B8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DD809-A898-450D-AB6E-FCE8BE20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75B3F-D214-4A1F-9AC5-29364E9C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43B10-A963-4FEB-B815-F3B8673F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65024-ED9F-47EC-A2AB-E496C968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76F43-DDB8-47F1-B7A1-19F8FFAD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F9A05-3460-4E44-A883-F7C7FBC8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97A57-7882-46F4-8D25-A7726A55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B84A-F472-4B8A-86E2-A0818E72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EE8ED-BF46-44A2-B891-85BA9EF28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1210A-190C-4119-B400-C38A7B8BD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28476-98D9-4D6F-98FA-9CCF7335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6452D-23FB-490F-9960-9542A83C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C3134-AE8E-4285-A896-5A7E0248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05568-8C53-46DD-AFF2-315186A6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4B628-DDDA-4D30-8916-BA7AE537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E695F-E09B-477C-8683-D25BD242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60479-7C0C-4DE5-9E68-85C73050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CB8D8-066C-4E56-B724-6954DFA1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D009-C446-4CF7-A6EB-B4C7AFE6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6B48F-FD1D-4BEF-9D10-9961E47F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AD3D7-3267-438A-BB9C-B4031D2DB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E64AC-82EC-4F03-B4CE-9140DF987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8C1BE-286E-4805-834C-82A2C14C3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6D1AF-59BC-4EBD-A042-3DCF6344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09E76-9FD3-4BCE-8908-54DBB439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0AE81-7930-4915-9F4A-7A1D3C7F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95FB1-816B-4D57-A0C3-9B560502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D3465-2950-47BE-B1B7-4260CD02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60F0B-AA5E-4951-91A2-3CC03202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FC2E-3352-4A4D-894C-F17FE2B0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4294F-9BAF-46C2-8508-EA8E8913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6FE8B-86E9-4AE7-A859-C7334FF0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541F4-688A-4E4A-AC9C-7AD952EF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5364C-03A5-4637-989A-DD8241A43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B112B-41E5-4057-B122-84B94211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554E0-E6B5-4700-8AB4-01A2C8CB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51154-A562-4E6E-B276-9EE6983E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963B7-2158-48D6-830E-10428527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BE618-510B-4747-B390-72FDE31B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0164E-BB71-4EE6-AEC0-42B27A2C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3736-60C8-4A0E-A15C-CF4A728C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F88A5-B607-4572-8CAB-1FB62711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9A2E6-6C17-4214-A501-2B96806B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5D79F-61F1-43FB-98E0-49CEC2A2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A1CAE-AC24-48A9-9E4D-56B31040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466AD-004C-46B3-AFDD-3F0AC03B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6021B-4725-46E6-AD20-A62DF9B22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37FB3-5EBC-4FB9-AC4C-3BF96CD9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D32E4-8136-42FC-8F99-EED0BFDC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7D9D9-20A5-4019-BB85-5E02DB0E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A228B-B1CA-44D8-AF98-3604C2C3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6F3C-AA1B-4695-8D93-FFDE6701A73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B7D3-414A-46DD-A67C-E0B13D30EBB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0116-AA2F-4C5A-AA82-E09C41C4694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6F71-7808-4F18-9CA5-8CFFD16559A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1290-65A4-4339-9E04-690633C3F21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A76B-5D90-49DD-9509-A68EE2291E7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17D1-F3C4-424C-B670-2C42922A65B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9A9A-3461-4723-9D9E-3E6236CA3EC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1CC1-2EB7-4B4E-B812-92341E5331F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122400" y="115920"/>
            <a:ext cx="8540640" cy="25480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290520" y="2491920"/>
            <a:ext cx="85629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 Black"/>
              </a:rPr>
              <a:t>1.«Велика депресія» 1929–1933 рр. у СШ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 Black"/>
              </a:rPr>
              <a:t>2. Основні напрями і заходи «Нового курсу» Франкліна Рузвельта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 Black"/>
              </a:rPr>
              <a:t>3. Макроекономічна теоретична система Джона Мейнарда Кейнса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 Black"/>
              </a:rPr>
              <a:t>Зміст «кейнсіанської революції» в економічній науці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Прямоугольник 3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182520" y="165240"/>
            <a:ext cx="8790120" cy="1041120"/>
          </a:xfrm>
          <a:prstGeom prst="rect">
            <a:avLst/>
          </a:prstGeom>
          <a:ln w="0">
            <a:noFill/>
          </a:ln>
        </p:spPr>
      </p:pic>
      <p:sp>
        <p:nvSpPr>
          <p:cNvPr id="429" name="Прямоугольник 3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5"/>
          <p:cNvSpPr/>
          <p:nvPr/>
        </p:nvSpPr>
        <p:spPr>
          <a:xfrm>
            <a:off x="3786120" y="1285920"/>
            <a:ext cx="521496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Джон Мейнард Кейнс (1883-1946) 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отримав освіту в Кембриджі, де домінували погляди А. Маршал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До Кейнса в історії було тільки декілька випадків, коли такою складною наукою як економічна теорія виявляли зацікавлення широкі кола громадськості. Це було у випадках з «невидимою рукою» ринку Адам Сміта та теорією прибуткової вартості Карла Марк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b0f0"/>
                </a:solidFill>
                <a:latin typeface="Arial"/>
              </a:rPr>
              <a:t>«Я вважаю, що книга з економічної теорії, над якою я працюю, значною мірою спричинить революцію… у світі щодо до економічних пробле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a5644e"/>
                </a:solidFill>
                <a:latin typeface="Arial"/>
              </a:rPr>
              <a:t>Дж. М. Кейн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Объект 3" descr=""/>
          <p:cNvPicPr/>
          <p:nvPr/>
        </p:nvPicPr>
        <p:blipFill>
          <a:blip r:embed="rId2"/>
          <a:stretch/>
        </p:blipFill>
        <p:spPr>
          <a:xfrm>
            <a:off x="490680" y="1247760"/>
            <a:ext cx="2857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208080" y="457200"/>
            <a:ext cx="8783640" cy="8413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708360" y="1554120"/>
            <a:ext cx="52833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Franklin Gothic Book"/>
              </a:rPr>
              <a:t>З 1906 по 1914 </a:t>
            </a:r>
            <a:r>
              <a:rPr b="1" lang="uk-UA" sz="2800" spc="-1" strike="noStrike">
                <a:solidFill>
                  <a:srgbClr val="a5644e"/>
                </a:solidFill>
                <a:latin typeface="Franklin Gothic Book"/>
              </a:rPr>
              <a:t>рік Кейнс працював у Департаменті зі справ Індії в Королівській комісії з індійських фінансів і валюти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a5644e"/>
                </a:solidFill>
                <a:latin typeface="Franklin Gothic Book"/>
              </a:rPr>
              <a:t>У </a:t>
            </a:r>
            <a:r>
              <a:rPr b="1" lang="uk-UA" sz="2800" spc="-1" strike="noStrike">
                <a:solidFill>
                  <a:srgbClr val="ff0000"/>
                </a:solidFill>
                <a:latin typeface="Franklin Gothic Book"/>
              </a:rPr>
              <a:t>1913</a:t>
            </a:r>
            <a:r>
              <a:rPr b="1" lang="uk-UA" sz="2800" spc="-1" strike="noStrike">
                <a:solidFill>
                  <a:srgbClr val="a5644e"/>
                </a:solidFill>
                <a:latin typeface="Franklin Gothic Book"/>
              </a:rPr>
              <a:t> році вийшла його перша книга </a:t>
            </a:r>
            <a:r>
              <a:rPr b="1" lang="uk-UA" sz="2800" spc="-1" strike="noStrike">
                <a:solidFill>
                  <a:srgbClr val="0070c0"/>
                </a:solidFill>
                <a:latin typeface="Franklin Gothic Book"/>
              </a:rPr>
              <a:t>«Грошовий обіг і фінанси Індії»</a:t>
            </a:r>
            <a:r>
              <a:rPr b="1" lang="uk-UA" sz="2800" spc="-1" strike="noStrike">
                <a:solidFill>
                  <a:srgbClr val="a5644e"/>
                </a:solidFill>
                <a:latin typeface="Franklin Gothic Book"/>
              </a:rPr>
              <a:t>, де він з неокласичних позицій пропонує </a:t>
            </a:r>
            <a:r>
              <a:rPr b="1" lang="uk-UA" sz="2800" spc="-1" strike="noStrike">
                <a:solidFill>
                  <a:srgbClr val="c00000"/>
                </a:solidFill>
                <a:latin typeface="Franklin Gothic Book"/>
              </a:rPr>
              <a:t>зберігати підлегле становище індійської валюти по відношенню до англійської</a:t>
            </a:r>
            <a:r>
              <a:rPr b="1" lang="uk-UA" sz="2800" spc="-1" strike="noStrike">
                <a:solidFill>
                  <a:srgbClr val="a5644e"/>
                </a:solidFill>
                <a:latin typeface="Franklin Gothic Book"/>
              </a:rPr>
              <a:t>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4" name="Рисунок 4" descr=""/>
          <p:cNvPicPr/>
          <p:nvPr/>
        </p:nvPicPr>
        <p:blipFill>
          <a:blip r:embed="rId2"/>
          <a:stretch/>
        </p:blipFill>
        <p:spPr>
          <a:xfrm>
            <a:off x="351000" y="1700280"/>
            <a:ext cx="322560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1"/>
          <a:stretch/>
        </p:blipFill>
        <p:spPr>
          <a:xfrm>
            <a:off x="3724200" y="4632480"/>
            <a:ext cx="5095800" cy="61596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179280" y="609480"/>
            <a:ext cx="3456000" cy="598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У </a:t>
            </a:r>
            <a:r>
              <a:rPr b="1" lang="uk-UA" sz="2400" spc="-1" strike="noStrike">
                <a:solidFill>
                  <a:srgbClr val="ff0000"/>
                </a:solidFill>
                <a:latin typeface="Franklin Gothic Book"/>
              </a:rPr>
              <a:t>1919 </a:t>
            </a: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році  Кейнс брав участь в Паризькій мирній конференції, яка встановила умови повоєнного облаштування Європ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У книзі </a:t>
            </a:r>
            <a:r>
              <a:rPr b="1" lang="uk-UA" sz="2400" spc="-1" strike="noStrike">
                <a:solidFill>
                  <a:srgbClr val="0070c0"/>
                </a:solidFill>
                <a:latin typeface="Franklin Gothic Book"/>
              </a:rPr>
              <a:t>«Економічні наслідки Версальського миру»  (1919) </a:t>
            </a: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зазначає, що </a:t>
            </a:r>
            <a:r>
              <a:rPr b="1" lang="uk-UA" sz="2400" spc="-1" strike="noStrike" u="sng">
                <a:solidFill>
                  <a:srgbClr val="c00000"/>
                </a:solidFill>
                <a:uFillTx/>
                <a:latin typeface="Franklin Gothic Book"/>
              </a:rPr>
              <a:t>прийняті рішення не залишають надії на відбудову мирного господарства</a:t>
            </a: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, оскільки на Німеччину накладаються непомірні репарації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7" name="Объект 4" descr=""/>
          <p:cNvPicPr/>
          <p:nvPr/>
        </p:nvPicPr>
        <p:blipFill>
          <a:blip r:embed="rId2"/>
          <a:stretch/>
        </p:blipFill>
        <p:spPr>
          <a:xfrm>
            <a:off x="3708360" y="1268280"/>
            <a:ext cx="523548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Объект 4" descr=""/>
          <p:cNvPicPr/>
          <p:nvPr/>
        </p:nvPicPr>
        <p:blipFill>
          <a:blip r:embed="rId1"/>
          <a:stretch/>
        </p:blipFill>
        <p:spPr>
          <a:xfrm>
            <a:off x="108000" y="333360"/>
            <a:ext cx="3009960" cy="4824360"/>
          </a:xfrm>
          <a:prstGeom prst="rect">
            <a:avLst/>
          </a:prstGeom>
          <a:ln w="0">
            <a:noFill/>
          </a:ln>
        </p:spPr>
      </p:pic>
      <p:sp>
        <p:nvSpPr>
          <p:cNvPr id="439" name="Прямоугольник 5"/>
          <p:cNvSpPr/>
          <p:nvPr/>
        </p:nvSpPr>
        <p:spPr>
          <a:xfrm>
            <a:off x="3276720" y="260280"/>
            <a:ext cx="5688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Після кризи 1921 року Кейнс зосереджується на проблемі стабільності цін, рівня виробництва і зайнятост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Franklin Gothic Book"/>
              </a:rPr>
              <a:t>«Трактат про грошову реформу» (1923) </a:t>
            </a: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досліджує теоретичні і практичні питання грошової політ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c00000"/>
                </a:solidFill>
                <a:uFillTx/>
                <a:latin typeface="Franklin Gothic Book"/>
              </a:rPr>
              <a:t>Грошова політика повинна скеровуватися на стабілізацію внутрішніх цін, а не підтримку завищеного курсу валюти.</a:t>
            </a: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644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Золотий стандарт є «варварським пережитко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644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Емісія банкнот має контролюватись центральним банком незалежно від розмірів золотого запас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644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Гроші - активний фактор економічного проце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258480" y="18864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761f"/>
                </a:solidFill>
                <a:latin typeface="Franklin Gothic Medium"/>
              </a:rPr>
              <a:t>АДАМ СМІТ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49680" y="18864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761f"/>
                </a:solidFill>
                <a:latin typeface="Franklin Gothic Medium"/>
              </a:rPr>
              <a:t>ДЖОН МЕЙНАРД КЕЙНС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2" name="Объект 11" descr=""/>
          <p:cNvPicPr/>
          <p:nvPr/>
        </p:nvPicPr>
        <p:blipFill>
          <a:blip r:embed="rId1"/>
          <a:stretch/>
        </p:blipFill>
        <p:spPr>
          <a:xfrm>
            <a:off x="5292720" y="836640"/>
            <a:ext cx="2857680" cy="4162320"/>
          </a:xfrm>
          <a:prstGeom prst="rect">
            <a:avLst/>
          </a:prstGeom>
          <a:ln w="0">
            <a:noFill/>
          </a:ln>
        </p:spPr>
      </p:pic>
      <p:pic>
        <p:nvPicPr>
          <p:cNvPr id="443" name="Объект 10" descr=""/>
          <p:cNvPicPr/>
          <p:nvPr/>
        </p:nvPicPr>
        <p:blipFill>
          <a:blip r:embed="rId2"/>
          <a:stretch/>
        </p:blipFill>
        <p:spPr>
          <a:xfrm>
            <a:off x="349200" y="1484280"/>
            <a:ext cx="4200480" cy="2265480"/>
          </a:xfrm>
          <a:prstGeom prst="rect">
            <a:avLst/>
          </a:prstGeom>
          <a:ln w="0">
            <a:noFill/>
          </a:ln>
        </p:spPr>
      </p:pic>
      <p:sp>
        <p:nvSpPr>
          <p:cNvPr id="444" name="Прямоугольник 12"/>
          <p:cNvSpPr/>
          <p:nvPr/>
        </p:nvSpPr>
        <p:spPr>
          <a:xfrm>
            <a:off x="193680" y="4797360"/>
            <a:ext cx="871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Критика політики невтручання держави в економічне життя та </a:t>
            </a:r>
            <a:r>
              <a:rPr b="1" lang="uk-UA" sz="2400" spc="-1" strike="noStrike" u="sng">
                <a:solidFill>
                  <a:srgbClr val="c00000"/>
                </a:solidFill>
                <a:uFillTx/>
                <a:latin typeface="Arial"/>
              </a:rPr>
              <a:t>ідея урядового регулювання </a:t>
            </a: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поміщені у двох відомих памфлетах Кейнс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«Економічні наслідки політики пана Черчілля» (1925) і «Кінець «laissez faire» (19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Стрелка влево 13"/>
          <p:cNvSpPr/>
          <p:nvPr/>
        </p:nvSpPr>
        <p:spPr>
          <a:xfrm>
            <a:off x="4140360" y="1844640"/>
            <a:ext cx="1944360" cy="153828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995280" y="215640"/>
            <a:ext cx="492444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Результатом аналізу валютного курсу і золотого стандарту, що був розпочатий в «Трактаті про грошову реформу», була фундаментальна двотомна праця Кейнс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 </a:t>
            </a:r>
            <a:r>
              <a:rPr b="1" lang="uk-UA" sz="2800" spc="-1" strike="noStrike">
                <a:solidFill>
                  <a:srgbClr val="0070c0"/>
                </a:solidFill>
                <a:latin typeface="Franklin Gothic Book"/>
              </a:rPr>
              <a:t>«Трактат про гроші» (1930)</a:t>
            </a:r>
            <a:r>
              <a:rPr b="1" lang="uk-UA" sz="2800" spc="-1" strike="noStrike">
                <a:solidFill>
                  <a:srgbClr val="a5644e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майже сформовано революційну концепцію заощаджень та інвестиці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теорія надлишку заощаджень стала для Кейнса підставою для </a:t>
            </a:r>
            <a:r>
              <a:rPr b="1" lang="uk-UA" sz="2400" spc="-1" strike="noStrike" u="sng">
                <a:solidFill>
                  <a:srgbClr val="c00000"/>
                </a:solidFill>
                <a:uFillTx/>
                <a:latin typeface="Franklin Gothic Book"/>
              </a:rPr>
              <a:t>ідеї стимулювання зайнятості через систему громадських робіт</a:t>
            </a: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, які слід фінансувати через позик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7" name="Рисунок 4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377964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70c0"/>
                </a:solidFill>
                <a:latin typeface="Franklin Gothic Book"/>
              </a:rPr>
              <a:t>ЗАГАЛЬНА ТЕОРІЯ ЗАЙНЯТОСТІ, ПРОЦЕНТУ І ГРОШЕЙ (1936)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49" name="Объект 3" descr=""/>
          <p:cNvPicPr/>
          <p:nvPr/>
        </p:nvPicPr>
        <p:blipFill>
          <a:blip r:embed="rId1"/>
          <a:stretch/>
        </p:blipFill>
        <p:spPr>
          <a:xfrm>
            <a:off x="108000" y="1557360"/>
            <a:ext cx="3240000" cy="4525920"/>
          </a:xfrm>
          <a:prstGeom prst="rect">
            <a:avLst/>
          </a:prstGeom>
          <a:ln w="0">
            <a:noFill/>
          </a:ln>
        </p:spPr>
      </p:pic>
      <p:sp>
        <p:nvSpPr>
          <p:cNvPr id="450" name="Прямоугольник 4"/>
          <p:cNvSpPr/>
          <p:nvPr/>
        </p:nvSpPr>
        <p:spPr>
          <a:xfrm>
            <a:off x="3419640" y="1484280"/>
            <a:ext cx="5616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Книга принесла Джону Мейнарду Кейнсу світове визн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644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Критикуючи неокласиків за розгляд рідкісності як вихідний момент економічного аналізу, Кейнс зауважує, що </a:t>
            </a:r>
            <a:r>
              <a:rPr b="1" lang="uk-UA" sz="2400" spc="-1" strike="noStrike" u="sng">
                <a:solidFill>
                  <a:srgbClr val="c00000"/>
                </a:solidFill>
                <a:uFillTx/>
                <a:latin typeface="Franklin Gothic Book"/>
              </a:rPr>
              <a:t>економічні реалії засвідчують не стільки обмеженість, скільки надлишок ресурсів – масове безробіття, незавантажені потужності, нереалізовані това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644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Перед тим як шукати оптимальне співвідношення для використання рідкісних благ, </a:t>
            </a:r>
            <a:r>
              <a:rPr b="1" lang="uk-UA" sz="2400" spc="-1" strike="noStrike" u="sng">
                <a:solidFill>
                  <a:srgbClr val="c00000"/>
                </a:solidFill>
                <a:uFillTx/>
                <a:latin typeface="Franklin Gothic Book"/>
              </a:rPr>
              <a:t>слід забезпечити повну зайнятість населення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Заголовок 1" descr=""/>
          <p:cNvPicPr/>
          <p:nvPr/>
        </p:nvPicPr>
        <p:blipFill>
          <a:blip r:embed="rId1"/>
          <a:stretch/>
        </p:blipFill>
        <p:spPr>
          <a:xfrm>
            <a:off x="176040" y="457200"/>
            <a:ext cx="8815680" cy="8589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304920" y="1267920"/>
            <a:ext cx="8686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Дж. М. Кейнс основні категорії: цінності, капіталу, прибутку, ренти тощо пояснював подібно до неокласиків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Якщо теорія цін і доходів </a:t>
            </a:r>
            <a:r>
              <a:rPr b="1" lang="uk-UA" sz="2400" spc="-1" strike="noStrike">
                <a:solidFill>
                  <a:srgbClr val="0070c0"/>
                </a:solidFill>
                <a:latin typeface="Franklin Gothic Book"/>
              </a:rPr>
              <a:t>А. Маршалла </a:t>
            </a: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знаходиться в царині мікроекономіки, тобто аналізує закономірності економічної поведінки господарських суб’єктів, часткову рівновагу на окремих ринках, то </a:t>
            </a:r>
            <a:r>
              <a:rPr b="1" lang="uk-UA" sz="2400" spc="-1" strike="noStrike">
                <a:solidFill>
                  <a:srgbClr val="0070c0"/>
                </a:solidFill>
                <a:latin typeface="Franklin Gothic Book"/>
              </a:rPr>
              <a:t>Дж.М. Кейнс </a:t>
            </a:r>
            <a:r>
              <a:rPr b="1" lang="uk-UA" sz="2400" spc="-1" strike="noStrike" u="sng">
                <a:solidFill>
                  <a:srgbClr val="c00000"/>
                </a:solidFill>
                <a:uFillTx/>
                <a:latin typeface="Franklin Gothic Book"/>
              </a:rPr>
              <a:t>наголошував на обмеженості мікроаналізу, намагаючись обґрунтувати потребу в державному регулюванні економіки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Особливістю його методології є </a:t>
            </a:r>
            <a:r>
              <a:rPr b="1" lang="uk-UA" sz="2400" spc="-1" strike="noStrike" u="sng">
                <a:solidFill>
                  <a:srgbClr val="c00000"/>
                </a:solidFill>
                <a:uFillTx/>
                <a:latin typeface="Franklin Gothic Book"/>
              </a:rPr>
              <a:t>наголос на макроекономічних показниках  діяльності</a:t>
            </a: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: інвестиційних потоках, потоках доходів, на нагромадженні та заощадженнях, на виробництві і споживанні в межах усього суспільств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Прямоугольник 1"/>
          <p:cNvSpPr/>
          <p:nvPr/>
        </p:nvSpPr>
        <p:spPr>
          <a:xfrm>
            <a:off x="539640" y="336600"/>
            <a:ext cx="8425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a5644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Кейнс </a:t>
            </a:r>
            <a:r>
              <a:rPr b="1" lang="uk-UA" sz="2400" spc="-1" strike="noStrike" u="sng">
                <a:solidFill>
                  <a:srgbClr val="c00000"/>
                </a:solidFill>
                <a:uFillTx/>
                <a:latin typeface="Franklin Gothic Book"/>
              </a:rPr>
              <a:t>розробив категоріально-понятійний апарат </a:t>
            </a: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сучасної макроекономіки, який дозволяє її розглядати у вигляді функціонування чотирьох взаємопов’язаних ринків: </a:t>
            </a:r>
            <a:r>
              <a:rPr b="1" i="1" lang="uk-UA" sz="2400" spc="-1" strike="noStrike">
                <a:solidFill>
                  <a:srgbClr val="0070c0"/>
                </a:solidFill>
                <a:latin typeface="Franklin Gothic Book"/>
              </a:rPr>
              <a:t>ринку товарів і послуг, ринку праці, грошового ринку і ринку цінних папері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a5644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Математичне моделювання розширило межі мікроекономіки і органічно вписались в макроекономічну сфе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Franklin Gothic Book"/>
              </a:rPr>
              <a:t>Пояснення економічних категорій </a:t>
            </a: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у Кейнса базується на </a:t>
            </a:r>
            <a:r>
              <a:rPr b="1" i="1" lang="uk-UA" sz="2400" spc="-1" strike="noStrike" u="sng">
                <a:solidFill>
                  <a:srgbClr val="0070c0"/>
                </a:solidFill>
                <a:uFillTx/>
                <a:latin typeface="Franklin Gothic Book"/>
              </a:rPr>
              <a:t>психології економічних суб’єктів</a:t>
            </a: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: очікуваний прибуток, рентабельність, очікувані зміни цін, витрати, реальна купівельна сила грошей тощо. Проте </a:t>
            </a:r>
            <a:r>
              <a:rPr b="1" i="1" lang="uk-UA" sz="2400" spc="-1" strike="noStrike" u="sng">
                <a:solidFill>
                  <a:srgbClr val="0070c0"/>
                </a:solidFill>
                <a:uFillTx/>
                <a:latin typeface="Franklin Gothic Book"/>
              </a:rPr>
              <a:t>вони мають і об’єктивний зміст</a:t>
            </a: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, оскільки без них неможливо здійснювати прогнозування, яке є необхідним атрибутом всякої підприємницької діяльності і державного регулюв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Заголовок 1" descr=""/>
          <p:cNvPicPr/>
          <p:nvPr/>
        </p:nvPicPr>
        <p:blipFill>
          <a:blip r:embed="rId1"/>
          <a:stretch/>
        </p:blipFill>
        <p:spPr>
          <a:xfrm>
            <a:off x="60480" y="79200"/>
            <a:ext cx="8815320" cy="792360"/>
          </a:xfrm>
          <a:prstGeom prst="rect">
            <a:avLst/>
          </a:prstGeom>
          <a:ln w="0">
            <a:noFill/>
          </a:ln>
        </p:spPr>
      </p:pic>
      <p:sp>
        <p:nvSpPr>
          <p:cNvPr id="455" name="Прямоугольник 3"/>
          <p:cNvSpPr/>
          <p:nvPr/>
        </p:nvSpPr>
        <p:spPr>
          <a:xfrm>
            <a:off x="0" y="620640"/>
            <a:ext cx="9144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a56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Із збільшенням зайнятості зростає національний доход і збільшується </a:t>
            </a:r>
            <a:r>
              <a:rPr b="1" lang="uk-UA" sz="2400" spc="-1" strike="noStrike">
                <a:solidFill>
                  <a:srgbClr val="00b0f0"/>
                </a:solidFill>
                <a:latin typeface="Franklin Gothic Book"/>
              </a:rPr>
              <a:t>споживання, </a:t>
            </a: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але воно </a:t>
            </a:r>
            <a:r>
              <a:rPr b="1" lang="uk-UA" sz="2400" spc="-1" strike="noStrike">
                <a:solidFill>
                  <a:srgbClr val="00b0f0"/>
                </a:solidFill>
                <a:latin typeface="Franklin Gothic Book"/>
              </a:rPr>
              <a:t>зростає повільніше ніж доходи</a:t>
            </a: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, оскільки господарські суб’єкти мають </a:t>
            </a:r>
            <a:r>
              <a:rPr b="1" lang="uk-UA" sz="2400" spc="-1" strike="noStrike">
                <a:solidFill>
                  <a:srgbClr val="00b0f0"/>
                </a:solidFill>
                <a:latin typeface="Franklin Gothic Book"/>
              </a:rPr>
              <a:t>«схильність до заощаджень»</a:t>
            </a: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. Відбувається відносне скорочення споживання, що супроводжується зменшенням ефективного попиту. Попит впливає на розміри виробництва, а тому і на рівень зайнятості. Недостатній розвиток споживчого попиту можна компенсувати збільшенням видатків на нові інвестиції, тобто збільшивши виробничий поп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Franklin Gothic Book"/>
              </a:rPr>
              <a:t>Загальний обсяг інвестицій відіграє вирішальну роль у визначенні розмірів зайнятості. </a:t>
            </a: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Він залежить від бажання підприємців інвестувати, а вони будуть збільшувати інвестиції до того часу, коли їх «гранична ефективність» не знизиться до рівня проценту. Складність у тому, що гранична ефективність знижується, а рівень проценту зберігає стійкість. Що обмежує впровадження нових інвестицій і, як наслідок, обмежує зайняті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189000" y="139680"/>
            <a:ext cx="8955000" cy="1000080"/>
          </a:xfrm>
          <a:prstGeom prst="rect">
            <a:avLst/>
          </a:prstGeom>
          <a:ln w="0">
            <a:noFill/>
          </a:ln>
        </p:spPr>
      </p:pic>
      <p:pic>
        <p:nvPicPr>
          <p:cNvPr id="410" name="Объект 4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8435880" cy="4667400"/>
          </a:xfrm>
          <a:prstGeom prst="rect">
            <a:avLst/>
          </a:prstGeom>
          <a:ln w="0">
            <a:noFill/>
          </a:ln>
        </p:spPr>
      </p:pic>
      <p:sp>
        <p:nvSpPr>
          <p:cNvPr id="411" name="TextBox 5"/>
          <p:cNvSpPr/>
          <p:nvPr/>
        </p:nvSpPr>
        <p:spPr>
          <a:xfrm>
            <a:off x="1332000" y="614520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едеральний резервний банк Філадельф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Объект 4"/>
          <p:cNvGraphicFramePr/>
          <p:nvPr/>
        </p:nvGraphicFramePr>
        <p:xfrm>
          <a:off x="330120" y="1052640"/>
          <a:ext cx="8483760" cy="488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052640"/>
                    <a:ext cx="8483760" cy="48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TextBox 6"/>
          <p:cNvSpPr/>
          <p:nvPr/>
        </p:nvSpPr>
        <p:spPr>
          <a:xfrm>
            <a:off x="539640" y="33336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СХЕМА КЕЙНСІАНСЬКОГО КРУГООБІ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Заголовок 1" descr=""/>
          <p:cNvPicPr/>
          <p:nvPr/>
        </p:nvPicPr>
        <p:blipFill>
          <a:blip r:embed="rId1"/>
          <a:stretch/>
        </p:blipFill>
        <p:spPr>
          <a:xfrm>
            <a:off x="249120" y="79200"/>
            <a:ext cx="8712360" cy="11829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649"/>
              </a:spcBef>
              <a:buClr>
                <a:srgbClr val="0070c0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a5644e"/>
                </a:solidFill>
                <a:latin typeface="Franklin Gothic Book"/>
              </a:rPr>
              <a:t>розглянув проблему </a:t>
            </a:r>
            <a:r>
              <a:rPr b="1" lang="uk-UA" sz="2600" spc="-1" strike="noStrike">
                <a:solidFill>
                  <a:srgbClr val="c00000"/>
                </a:solidFill>
                <a:latin typeface="Franklin Gothic Book"/>
              </a:rPr>
              <a:t>безробіття в контексті аналізу факторів виробництва</a:t>
            </a:r>
            <a:r>
              <a:rPr b="1" lang="uk-UA" sz="2600" spc="-1" strike="noStrike">
                <a:solidFill>
                  <a:srgbClr val="a5644e"/>
                </a:solidFill>
                <a:latin typeface="Franklin Gothic Book"/>
              </a:rPr>
              <a:t> як складовий механізм економічної теорії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73040" indent="-473040">
              <a:spcBef>
                <a:spcPts val="649"/>
              </a:spcBef>
              <a:buClr>
                <a:srgbClr val="0070c0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a5644e"/>
                </a:solidFill>
                <a:latin typeface="Franklin Gothic Book"/>
              </a:rPr>
              <a:t>заперечив наявність механізмів саморегуляції в ринковій економіці, а отже довів </a:t>
            </a:r>
            <a:r>
              <a:rPr b="1" lang="uk-UA" sz="2600" spc="-1" strike="noStrike">
                <a:solidFill>
                  <a:srgbClr val="c00000"/>
                </a:solidFill>
                <a:latin typeface="Franklin Gothic Book"/>
              </a:rPr>
              <a:t>хибність доктрини “laissez faire”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73040" indent="-473040">
              <a:spcBef>
                <a:spcPts val="649"/>
              </a:spcBef>
              <a:buClr>
                <a:srgbClr val="0070c0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a5644e"/>
                </a:solidFill>
                <a:latin typeface="Franklin Gothic Book"/>
              </a:rPr>
              <a:t>виступив за </a:t>
            </a:r>
            <a:r>
              <a:rPr b="1" lang="uk-UA" sz="2600" spc="-1" strike="noStrike">
                <a:solidFill>
                  <a:srgbClr val="c00000"/>
                </a:solidFill>
                <a:latin typeface="Franklin Gothic Book"/>
              </a:rPr>
              <a:t>розширення регулюючих функцій держави </a:t>
            </a:r>
            <a:r>
              <a:rPr b="1" lang="uk-UA" sz="2600" spc="-1" strike="noStrike">
                <a:solidFill>
                  <a:srgbClr val="a5644e"/>
                </a:solidFill>
                <a:latin typeface="Franklin Gothic Book"/>
              </a:rPr>
              <a:t>в ринковій економіці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73040" indent="-473040">
              <a:spcBef>
                <a:spcPts val="649"/>
              </a:spcBef>
              <a:buClr>
                <a:srgbClr val="0070c0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a5644e"/>
                </a:solidFill>
                <a:latin typeface="Franklin Gothic Book"/>
              </a:rPr>
              <a:t>впровадив </a:t>
            </a:r>
            <a:r>
              <a:rPr b="1" lang="uk-UA" sz="2600" spc="-1" strike="noStrike" u="sng">
                <a:solidFill>
                  <a:srgbClr val="c00000"/>
                </a:solidFill>
                <a:uFillTx/>
                <a:latin typeface="Franklin Gothic Book"/>
              </a:rPr>
              <a:t>макроекономічний функціональний аналіз</a:t>
            </a:r>
            <a:r>
              <a:rPr b="1" lang="uk-UA" sz="2600" spc="-1" strike="noStrike">
                <a:solidFill>
                  <a:srgbClr val="a5644e"/>
                </a:solidFill>
                <a:latin typeface="Franklin Gothic Book"/>
              </a:rPr>
              <a:t>,  започаткувавши новий підхід в економічній науці, який базується на концепції взаємозалежності і цілісності системи індивідуальних ринків та залежності економічного зростання від структури суспільного продукту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73040" indent="-47304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Прямоугольник 1"/>
          <p:cNvSpPr/>
          <p:nvPr/>
        </p:nvSpPr>
        <p:spPr>
          <a:xfrm>
            <a:off x="324000" y="404640"/>
            <a:ext cx="849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70c0"/>
              </a:buClr>
              <a:buFont typeface="Franklin Gothic 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a5644e"/>
                </a:solidFill>
                <a:latin typeface="Franklin Gothic Book"/>
              </a:rPr>
              <a:t>обґрунтував </a:t>
            </a:r>
            <a:r>
              <a:rPr b="1" lang="uk-UA" sz="2800" spc="-1" strike="noStrike">
                <a:solidFill>
                  <a:srgbClr val="c00000"/>
                </a:solidFill>
                <a:latin typeface="Franklin Gothic Book"/>
              </a:rPr>
              <a:t>неспроможність закону Сея</a:t>
            </a:r>
            <a:r>
              <a:rPr b="1" lang="uk-UA" sz="2800" spc="-1" strike="noStrike">
                <a:solidFill>
                  <a:srgbClr val="a5644e"/>
                </a:solidFill>
                <a:latin typeface="Franklin Gothic Book"/>
              </a:rPr>
              <a:t>, згідно якого виробництво формує доходи, що забезпечують рівновагу попиту і пропозиції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70c0"/>
              </a:buClr>
              <a:buFont typeface="Franklin Gothic 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Franklin Gothic Book"/>
              </a:rPr>
              <a:t>заперечив гнучкість механізму ціноутворення </a:t>
            </a:r>
            <a:r>
              <a:rPr b="1" lang="uk-UA" sz="2800" spc="-1" strike="noStrike">
                <a:solidFill>
                  <a:srgbClr val="a5644e"/>
                </a:solidFill>
                <a:latin typeface="Franklin Gothic Book"/>
              </a:rPr>
              <a:t>на ринку товарів і послуг та на ринку прац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70c0"/>
              </a:buClr>
              <a:buFont typeface="Franklin Gothic 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a5644e"/>
                </a:solidFill>
                <a:latin typeface="Franklin Gothic Book"/>
              </a:rPr>
              <a:t>розробив</a:t>
            </a:r>
            <a:r>
              <a:rPr b="1" lang="uk-UA" sz="2800" spc="-1" strike="noStrike">
                <a:solidFill>
                  <a:srgbClr val="c00000"/>
                </a:solidFill>
                <a:latin typeface="Franklin Gothic Book"/>
              </a:rPr>
              <a:t> нову теорію регулювання виробництва і зайнятості та способи коригування ринкового механізму за допомогою державного втручання</a:t>
            </a:r>
            <a:r>
              <a:rPr b="1" lang="uk-UA" sz="2800" spc="-1" strike="noStrike">
                <a:solidFill>
                  <a:srgbClr val="a5644e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4" descr=""/>
          <p:cNvPicPr/>
          <p:nvPr/>
        </p:nvPicPr>
        <p:blipFill>
          <a:blip r:embed="rId1"/>
          <a:stretch/>
        </p:blipFill>
        <p:spPr>
          <a:xfrm>
            <a:off x="3571920" y="5072040"/>
            <a:ext cx="5346720" cy="54756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356760" y="499680"/>
            <a:ext cx="300852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«Велика депресія» 1929–1932 рр. була логічним наслідком </a:t>
            </a:r>
            <a:r>
              <a:rPr b="1" lang="uk-UA" sz="2400" spc="-1" strike="noStrike" u="sng">
                <a:solidFill>
                  <a:srgbClr val="c00000"/>
                </a:solidFill>
                <a:uFillTx/>
                <a:latin typeface="Franklin Gothic Book"/>
              </a:rPr>
              <a:t>поглиблення структурних диспропорцій</a:t>
            </a:r>
            <a:r>
              <a:rPr b="1" i="1" lang="uk-UA" sz="2400" spc="-1" strike="noStrike">
                <a:solidFill>
                  <a:srgbClr val="a5644e"/>
                </a:solidFill>
                <a:latin typeface="Franklin Gothic Book"/>
              </a:rPr>
              <a:t>, </a:t>
            </a: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закладених в економіці США </a:t>
            </a:r>
            <a:r>
              <a:rPr b="1" lang="uk-UA" sz="2400" spc="-1" strike="noStrike" u="sng">
                <a:solidFill>
                  <a:srgbClr val="c00000"/>
                </a:solidFill>
                <a:uFillTx/>
                <a:latin typeface="Franklin Gothic Book"/>
              </a:rPr>
              <a:t>під час стрімкого економічного піднесення 1924–1929 рр</a:t>
            </a: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., яке в економічній літературі називають періодом </a:t>
            </a:r>
            <a:r>
              <a:rPr b="1" i="1" lang="uk-UA" sz="2400" spc="-1" strike="noStrike">
                <a:solidFill>
                  <a:srgbClr val="ff0000"/>
                </a:solidFill>
                <a:latin typeface="Franklin Gothic Book"/>
              </a:rPr>
              <a:t>«</a:t>
            </a:r>
            <a:r>
              <a:rPr b="1" i="1" lang="en-US" sz="2400" spc="-1" strike="noStrike">
                <a:solidFill>
                  <a:srgbClr val="ff0000"/>
                </a:solidFill>
                <a:latin typeface="Franklin Gothic Book"/>
              </a:rPr>
              <a:t>prosperity</a:t>
            </a:r>
            <a:r>
              <a:rPr b="1" i="1" lang="uk-UA" sz="2400" spc="-1" strike="noStrike">
                <a:solidFill>
                  <a:srgbClr val="ff0000"/>
                </a:solidFill>
                <a:latin typeface="Franklin Gothic Book"/>
              </a:rPr>
              <a:t>»</a:t>
            </a:r>
            <a:r>
              <a:rPr b="1" lang="uk-UA" sz="2400" spc="-1" strike="noStrike">
                <a:solidFill>
                  <a:srgbClr val="ff0000"/>
                </a:solidFill>
                <a:latin typeface="Franklin Gothic Book"/>
              </a:rPr>
              <a:t> (розквіту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Рисунок 1" descr=""/>
          <p:cNvPicPr/>
          <p:nvPr/>
        </p:nvPicPr>
        <p:blipFill>
          <a:blip r:embed="rId2"/>
          <a:stretch/>
        </p:blipFill>
        <p:spPr>
          <a:xfrm>
            <a:off x="3689280" y="353880"/>
            <a:ext cx="50259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рямоугольник 1"/>
          <p:cNvSpPr/>
          <p:nvPr/>
        </p:nvSpPr>
        <p:spPr>
          <a:xfrm>
            <a:off x="2727360" y="115920"/>
            <a:ext cx="32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prosperity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2"/>
          <p:cNvSpPr/>
          <p:nvPr/>
        </p:nvSpPr>
        <p:spPr>
          <a:xfrm>
            <a:off x="223920" y="692280"/>
            <a:ext cx="8783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Досягнуто 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масового виробництва товарів і послуг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Добробут населення швидко зростав: наявність радіоприймачів, пральних машин, холодильників в американських сім`ях було звичним явищ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Arial"/>
              </a:rPr>
              <a:t>Частка заробітної плати у національному доході складала бл.80%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У значної частини громадян з`явилися автомобілі. 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Автомобіль став своєрідним символом процвітання Сполучених штатів Америки.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 Компанії «Дженерал моторс», «Форд», «Крайслер» у 1929 р. випускали майже 5 млн. автомобілів, що складало 75%  їх світового випус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Автомобільна промисловість була локомотивом розвитку алюмінієвої, сталеливарної, нафтохімічної та інших видів промисловост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Набула поширення радіотехнічна та авіаційна промислові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Arial"/>
              </a:rPr>
              <a:t>США стали лідером світової економіки: в державі вироблялося  48% світової промислової продукції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3943440" y="4290840"/>
            <a:ext cx="4956120" cy="54936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3240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Світова економічна криза почалася у Сполучених Штатах у так званий </a:t>
            </a:r>
            <a:r>
              <a:rPr b="1" lang="uk-UA" sz="2800" spc="-1" strike="noStrike">
                <a:solidFill>
                  <a:srgbClr val="000000"/>
                </a:solidFill>
                <a:latin typeface="Franklin Gothic Book"/>
              </a:rPr>
              <a:t>«чорний вівторок», 24 жовтня 1929 року </a:t>
            </a: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як грім серед ясного неба. Курси акцій провідних корпорацій на Нью-Йоркській фондовій біржі почали стрімко падати, що спровокувало біржову паніку. Наприклад, ціни на акції «Дженерал моторс» знизилися у 80 разів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9" name="Объект 6" descr=""/>
          <p:cNvPicPr/>
          <p:nvPr/>
        </p:nvPicPr>
        <p:blipFill>
          <a:blip r:embed="rId2"/>
          <a:stretch/>
        </p:blipFill>
        <p:spPr>
          <a:xfrm>
            <a:off x="3780000" y="1052640"/>
            <a:ext cx="52606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Прямоугольник 1"/>
          <p:cNvSpPr/>
          <p:nvPr/>
        </p:nvSpPr>
        <p:spPr>
          <a:xfrm>
            <a:off x="142920" y="765000"/>
            <a:ext cx="8893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Промислове виробництво у США протягом кризи скоротилося на 46,2% (автомобілів на 80%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Виплавка сталі скоротилася на 76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Обсяг міжнародної торгівлі скоротився на 30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У березні 1933 р. безробіття досягло свого піку – 17 млн. чол., а це означало, що безробітним був майже кожен третій працездатний громадян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Промислова криза поєднувалася з кризою аграрною. На сільськогосподарську продукцію ціни знизилися майже на 60%. Що спровокувало зростання заборгованості за кредитами у фермерських господарств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Arial"/>
              </a:rPr>
              <a:t>Щоб стримати падіння цін вдавалися до варварських методів знищення сільськогосподарської продукції. Світ дізнався, що пшеницю можна спалювати у топках паровозів і пароплавів, молоко виливати у океан, а поля зрілої бавовни спалювати.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Наслідком таких дій було зниження збору  зернових у 1934 р: пшениці – на 36%, кукурудзи – на 45%. Розорилося близько 18% фермерських господарств. Ряди переселенців і безробітних поповнилися близько 4 млн. бувших фермер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TextBox 2" descr=""/>
          <p:cNvPicPr/>
          <p:nvPr/>
        </p:nvPicPr>
        <p:blipFill>
          <a:blip r:embed="rId1"/>
          <a:stretch/>
        </p:blipFill>
        <p:spPr>
          <a:xfrm>
            <a:off x="122400" y="55440"/>
            <a:ext cx="841212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Прямоугольник 4"/>
          <p:cNvSpPr/>
          <p:nvPr/>
        </p:nvSpPr>
        <p:spPr>
          <a:xfrm>
            <a:off x="611280" y="750960"/>
            <a:ext cx="8353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Збанкрутувало близько 130 тис. фір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Федеральна резервна система зайняла вичікувальну пасивну позицію, залишивши без фінансової підтримки комерційні банки. Наслідком кризи була </a:t>
            </a:r>
            <a:r>
              <a:rPr b="1" lang="uk-UA" sz="2000" spc="-1" strike="noStrike">
                <a:solidFill>
                  <a:srgbClr val="c00000"/>
                </a:solidFill>
                <a:latin typeface="Arial"/>
              </a:rPr>
              <a:t>відмова від золотого стандарту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Arial"/>
              </a:rPr>
              <a:t>Національний доход США зменшився приблизно у півтора рази і знаходився на рівні 1911 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Заробітна плата скоротилася більш, ніж вдвічі, що суттєво вплинуло на обсяги платоспроможного попи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Країну охопила хвиля масових страйкі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Arial"/>
              </a:rPr>
              <a:t>В американців було підірвано віру у всесильність індивідуалізму як основи успіху та соціального добробу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Текст 2" descr=""/>
          <p:cNvPicPr/>
          <p:nvPr/>
        </p:nvPicPr>
        <p:blipFill>
          <a:blip r:embed="rId1"/>
          <a:stretch/>
        </p:blipFill>
        <p:spPr>
          <a:xfrm>
            <a:off x="42840" y="237960"/>
            <a:ext cx="8418600" cy="108432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4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3164040" cy="4175280"/>
          </a:xfrm>
          <a:prstGeom prst="rect">
            <a:avLst/>
          </a:prstGeom>
          <a:ln w="0">
            <a:noFill/>
          </a:ln>
        </p:spPr>
      </p:pic>
      <p:sp>
        <p:nvSpPr>
          <p:cNvPr id="425" name="TextBox 5"/>
          <p:cNvSpPr/>
          <p:nvPr/>
        </p:nvSpPr>
        <p:spPr>
          <a:xfrm>
            <a:off x="3851280" y="1268280"/>
            <a:ext cx="511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У США наслідком «великої депресії» було різке загострення політичної обстановки. Ділові круги усвідомлювали неспроможність республіканців вивести країну з глибокої криз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У 1932 р.  на президентських виборах перемогла очолювана Ф. Д. Рузвельтом  демократична партія. </a:t>
            </a:r>
            <a:r>
              <a:rPr b="1" lang="uk-UA" sz="2400" spc="-1" strike="noStrike">
                <a:solidFill>
                  <a:srgbClr val="c00000"/>
                </a:solidFill>
                <a:latin typeface="Arial"/>
              </a:rPr>
              <a:t>Він запропонував комплекс реформ, який увійшов в історію під назвою «Новий курс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6"/>
          <p:cNvSpPr/>
          <p:nvPr/>
        </p:nvSpPr>
        <p:spPr>
          <a:xfrm>
            <a:off x="177840" y="573264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32-й Президент С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Франклін Делано Рузвельт (1882-19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250920" y="188640"/>
            <a:ext cx="8686800" cy="69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Franklin Gothic Book"/>
              </a:rPr>
              <a:t>Банківська сфера</a:t>
            </a:r>
            <a:r>
              <a:rPr b="1" lang="uk-UA" sz="2200" spc="-1" strike="noStrike">
                <a:solidFill>
                  <a:srgbClr val="a5644e"/>
                </a:solidFill>
                <a:latin typeface="Franklin Gothic Book"/>
              </a:rPr>
              <a:t>:  1933, березень – тимчасове закриття усіх банків США; зупинка обміну банкнот на золото і вилучення його з обігу. Девальвація долара (пониження золотого вмісту до 41%) Наслідок: зросли експортні можливості США і зменшилась заборгованість монополій уряду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550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Franklin Gothic Book"/>
              </a:rPr>
              <a:t>Сільське господарство</a:t>
            </a:r>
            <a:r>
              <a:rPr b="1" lang="uk-UA" sz="2200" spc="-1" strike="noStrike">
                <a:solidFill>
                  <a:srgbClr val="a5644e"/>
                </a:solidFill>
                <a:latin typeface="Franklin Gothic Book"/>
              </a:rPr>
              <a:t>: 1933, травень - </a:t>
            </a:r>
            <a:r>
              <a:rPr b="1" lang="uk-UA" sz="2200" spc="-1" strike="noStrike">
                <a:solidFill>
                  <a:srgbClr val="00b050"/>
                </a:solidFill>
                <a:latin typeface="Franklin Gothic Book"/>
              </a:rPr>
              <a:t>Закон про відбудову аграрного сектору.</a:t>
            </a:r>
            <a:r>
              <a:rPr b="1" lang="uk-UA" sz="2200" spc="-1" strike="noStrike">
                <a:solidFill>
                  <a:srgbClr val="a5644e"/>
                </a:solidFill>
                <a:latin typeface="Franklin Gothic Book"/>
              </a:rPr>
              <a:t> Створено Адміністрацію регулювання сільського господарства. Підвищено ціни на с/г продукцію, через вилучення частини їх з обігу (закуплено і знищено 8 млн. голів ВРХ, 6 млн. свиней, зорано 10 млн. акрів полів достиглої бавовни)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550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Franklin Gothic Book"/>
              </a:rPr>
              <a:t>Індустрія</a:t>
            </a:r>
            <a:r>
              <a:rPr b="1" lang="uk-UA" sz="2200" spc="-1" strike="noStrike">
                <a:solidFill>
                  <a:srgbClr val="a5644e"/>
                </a:solidFill>
                <a:latin typeface="Franklin Gothic Book"/>
              </a:rPr>
              <a:t>: 1933, червень – </a:t>
            </a:r>
            <a:r>
              <a:rPr b="1" lang="uk-UA" sz="2200" spc="-1" strike="noStrike">
                <a:solidFill>
                  <a:srgbClr val="00b050"/>
                </a:solidFill>
                <a:latin typeface="Franklin Gothic Book"/>
              </a:rPr>
              <a:t>Закон про відбудову промисловості. </a:t>
            </a:r>
            <a:r>
              <a:rPr b="1" lang="uk-UA" sz="2200" spc="-1" strike="noStrike">
                <a:solidFill>
                  <a:srgbClr val="a5644e"/>
                </a:solidFill>
                <a:latin typeface="Franklin Gothic Book"/>
              </a:rPr>
              <a:t>Відміна антитрестівського законодавства. Примусове встановлення обсягів виробництва і цін. Регламентування рівня заробітної плати та тривалості робочого дня. Підтримка державного  підприємництва (1933 - Управління долиною річки Тенессі створило близько 40 тис. робочих місць)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550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Franklin Gothic Book"/>
              </a:rPr>
              <a:t>Закон Вагнера</a:t>
            </a:r>
            <a:r>
              <a:rPr b="1" lang="uk-UA" sz="2200" spc="-1" strike="noStrike">
                <a:solidFill>
                  <a:srgbClr val="a5644e"/>
                </a:solidFill>
                <a:latin typeface="Franklin Gothic Book"/>
              </a:rPr>
              <a:t>: національний закон про трудові відносини. Дозвіл на профспілки, колективні угоди і страйки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Юра</cp:lastModifiedBy>
  <dcterms:modified xsi:type="dcterms:W3CDTF">2018-10-28T18:52:14Z</dcterms:modified>
  <cp:revision>121</cp:revision>
  <dc:subject/>
  <dc:title>ІСТОРІЯ ЕКОНОМІКИ  ТА ЕКОНОМІЧНОЇ ДУМКИ</dc:title>
</cp:coreProperties>
</file>