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0.png" ContentType="image/png"/>
  <Override PartName="/ppt/media/image28.wmf" ContentType="image/x-wmf"/>
  <Override PartName="/ppt/media/image15.png" ContentType="image/png"/>
  <Override PartName="/ppt/media/image24.jpeg" ContentType="image/jpeg"/>
  <Override PartName="/ppt/media/image5.png" ContentType="image/png"/>
  <Override PartName="/ppt/media/image1.jpeg" ContentType="image/jpeg"/>
  <Override PartName="/ppt/media/image2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345D-247C-4F3D-81C5-C31EAD3D892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BE8C-C60A-4A16-8B70-72A23766595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878C-F68F-4FE2-921D-069562E5F76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74BF-D51E-4F23-942B-A3BDF0FD86E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45C1-8AF7-48F3-B9F8-067C42B3DFA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29EA-46D5-408C-A225-1B1E1CFEA1A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10A-1007-41E2-9117-0A72FA0D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93F4-B52D-4AA2-829C-E3D8ACFD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7499B-8AA2-4B09-9DC7-A24E6F08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00025-F6F0-4C71-8A3D-9C86862F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001E5-B79F-4D2F-9509-5A421056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1A902-DD9E-42F4-A958-E033D5B8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520AD-8B2E-44AD-897B-EFB07CCC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5F38B-19CC-4462-AE56-DB03DE16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8C4CF-1F99-48BD-9EA6-45690AF3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8C412-A190-496D-929F-258E0FAA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951C0-8C6A-46D1-9C96-E70AD67C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779F-3729-4EF1-80AB-21A9D03A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96A-D52F-4F49-8D21-EE848C70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91BF-86CC-4E84-A649-C9F0DB89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42A4-8DC7-42C0-987E-7ABA5527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03F2-AF06-4120-931A-23E9B7B2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27B8-3F4C-4C03-AD14-B86C242E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EC96-EF14-4B47-94DF-B52029A0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83C9-7863-4375-AEF3-12CDD013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3BB1-2A1A-4555-A9D3-8DA740F2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FF3D-1887-4EB6-BCE8-9E9CBADD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A38B-B93D-41EF-8877-CB207E68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DF2D-6A93-42C6-B26C-C7F37C87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5EAB-E149-4EA2-A304-B3F515B3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8195-D3C8-4D22-8C48-633B9215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A3BA-63E1-415A-9D4A-1B71AD19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65E4E-8E4E-4757-9A94-35219A86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A5049-AF67-46D5-AC7F-874A9ABF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81E2C-2659-42A0-905A-39AC39A1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24536-D87C-45F2-90C0-74DC3A18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F3EF9-AA9D-407F-AA59-920B798F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9FF8-5C9D-42A2-BDB3-F7704E6C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9A0D9-9A19-42EA-8CFD-096ABB6F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85BD9-BEE4-43C5-A43C-D51E77E0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9DC32-EBEB-440F-8A4B-B90F288B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028E4-D3E5-4EBF-BAB4-695B579A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2AD39-0E3A-4F71-ACD9-AE5BA81D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860E5-3C13-4122-8E97-3E4B7F9A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42CB5-1880-4354-8604-7BB83A13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A06EF-7B86-41AE-8C34-20402E2A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FEAB9-4C9F-49B2-885F-5BEBBD15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5ADC0-C188-4B04-8824-BAADC19B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CA18-C256-4341-9337-EEB93E8D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789B4-3780-4DCB-BA4D-E0F3FC62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6E155-BE42-402F-93A0-3767B66C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25D7E-7BD2-4B29-88F2-900A340C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DC124-0A4F-4AAB-AC34-5BC1C86B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B61AB-2479-466B-B20F-EE4341F7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BB3E2-2267-4E52-B531-DAFC9F1E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E0450-BB92-4ACC-BB6C-1200AF63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BFCD4-DAA6-4025-9D4F-187E5962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1EA80-79EC-4007-9729-1C737A9E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002E5-9341-40BB-BE41-57B5EAB7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4DDB-81E3-4B40-92C6-00C46DD3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5FC50-60EA-4991-98E3-95079353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DD814-4068-4EEB-9711-8AC3DDF8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145DB-668D-40D3-A6D0-A89AF08B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9F0B0-BDBD-41AF-959F-60F47D49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75DA3-442B-4602-8598-31C76279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5900B-77F0-42DE-900F-11700115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52DED-F8CF-4A2A-A66E-6CDAC7DC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8873F-472C-46D3-964D-BA5F67BC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3E7CF-9969-41B2-BAA0-036C16B9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D6946-AFBF-4B53-B3C2-D631EAE5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E412-045D-4149-885F-6E8D8771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71217-E7BA-41E1-913E-DD9E6E74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A2766-AA2A-4112-B2B2-B5406540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C294C-7195-433E-B68E-C0F4FA10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13FFE-2E0C-494E-A0FA-66BB81F9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66A57-B98E-4E7F-84E6-9DA99B52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72FD3-A6B4-46DD-9087-47AF7D6C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436FF-40A8-4D41-BA34-D42F84CF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06BD8-BF3D-48F9-B1F8-18E5B1AF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A7A56-36C7-48C3-B366-4B7065EC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06E92-38D7-44C2-9721-5F35633E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816D-162A-4DA3-BA5F-21BC9967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7257A-A9C4-445B-AAF4-E40D5A69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5C782-447E-4359-9204-2E1C149E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25AC7-6D57-4E25-8EC3-FB6D09BA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FB343-4B8B-42FA-83AF-243E8832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82FCB-D00C-40EF-9E0F-90579979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57CC8-4D50-4D22-AAC9-8325F93A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94FCB-F5B2-4796-93EF-94A5546F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776E6-FCFC-4D64-B3DF-870C1AD5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5C894-85F6-47D6-AA57-77B601C8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16A78-604C-4F35-882D-68F04AF1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14B-E56C-4376-986B-203E7D75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48F99-FCA9-42D7-A01D-84D13321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B4896-E520-45F5-AA7C-059D30D0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68057-45CB-4A27-8186-3635AF37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EB4A9-C7DB-4C91-B2DD-8382E0AD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1EEF9-9E68-4B76-909E-77A0439B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9118F-97D4-406D-8F96-80033F4F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4877D-E2F9-4B2C-92C9-48D455E5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CABD0-DDBA-48B4-BB5C-2BCBFB14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1FF26-DD43-471B-873B-1A940B1C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15308-4F31-4169-B717-C81F4CD7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9106-0FC5-4D64-9291-6A3B9319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4D6C0-413A-483F-8F0A-6826DBB9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E7A4E-F7B4-4B9C-86AC-F29ED9BD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BCF56-86BC-46B8-8BC5-39F691EF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C9DDC-977E-4E49-98E5-0A63B14B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0EA4A-22F9-4EDC-825E-731214F2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2A153-4406-4E78-8683-FEDFE449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E851B-C7E6-48AA-8E85-03D8EBDC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89EA1-4DE9-43D1-9E47-BA3F03E7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B19EA-4794-49C5-A90E-1657D83B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031B2-97AC-47C6-882B-18B10803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7D85-C2BC-47F8-99CC-38FE8C83DA1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A272-2A48-47B5-AE52-6F4F106B7F9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32D6-7F0D-476A-B1E0-2F41B558C8F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52DB-DF8E-481F-BDF9-1D5DDCD4ECF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F799-B76D-421C-AF93-71909375A27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B3DC-9527-413D-9EEC-4DEAFD3CEFD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6154-0636-4EB7-B3B8-E8AD2413249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8ABC-8530-4691-9A1A-EE33414313D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D5DB-2948-46FE-B7E0-B4FEA016D35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22400" y="115920"/>
            <a:ext cx="8540640" cy="2548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290520" y="2491920"/>
            <a:ext cx="85629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 Black"/>
              </a:rPr>
              <a:t>1.«Велика депресія» 1929–1933 рр. у СШ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 Black"/>
              </a:rPr>
              <a:t>2. Основні напрями і заходи «Нового курсу» Франкліна Рузвельта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 Black"/>
              </a:rPr>
              <a:t>3. Макроекономічна теоретична система Джона Мейнарда Кейнса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Arial Black"/>
              </a:rPr>
              <a:t>Зміст «кейнсіанської революції» в економічній науці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Прямоугольник 3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182520" y="165240"/>
            <a:ext cx="8790120" cy="104112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3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3786120" y="1285920"/>
            <a:ext cx="52149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Джон Мейнард Кейнс (1883-1946) 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отримав освіту в Кембриджі, де домінували погляди А. Марш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До Кейнса в історії було тільки декілька випадків, коли такою складною наукою як економічна теорія виявляли зацікавлення широкі кола громадськості. Це було у випадках з «невидимою рукою» ринку Адам Сміта та теорією прибуткової вартості Карла Марк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b0f0"/>
                </a:solidFill>
                <a:latin typeface="Arial"/>
              </a:rPr>
              <a:t>«Я вважаю, що книга з економічної теорії, над якою я працюю, значною мірою спричинить революцію… у світі щодо до економічних пробле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a5644e"/>
                </a:solidFill>
                <a:latin typeface="Arial"/>
              </a:rPr>
              <a:t>Дж. М. Кейн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Объект 3" descr=""/>
          <p:cNvPicPr/>
          <p:nvPr/>
        </p:nvPicPr>
        <p:blipFill>
          <a:blip r:embed="rId2"/>
          <a:stretch/>
        </p:blipFill>
        <p:spPr>
          <a:xfrm>
            <a:off x="490680" y="1247760"/>
            <a:ext cx="2857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208080" y="457200"/>
            <a:ext cx="8783640" cy="8413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708360" y="1554120"/>
            <a:ext cx="52833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Franklin Gothic Book"/>
              </a:rPr>
              <a:t>З 1906 по 1914 </a:t>
            </a:r>
            <a:r>
              <a:rPr b="1" lang="uk-UA" sz="2800" spc="-1" strike="noStrike">
                <a:solidFill>
                  <a:srgbClr val="a5644e"/>
                </a:solidFill>
                <a:latin typeface="Franklin Gothic Book"/>
              </a:rPr>
              <a:t>рік Кейнс працював у Департаменті зі справ Індії в Королівській комісії з індійських фінансів і валюти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5644e"/>
                </a:solidFill>
                <a:latin typeface="Franklin Gothic Book"/>
              </a:rPr>
              <a:t>У </a:t>
            </a:r>
            <a:r>
              <a:rPr b="1" lang="uk-UA" sz="2800" spc="-1" strike="noStrike">
                <a:solidFill>
                  <a:srgbClr val="ff0000"/>
                </a:solidFill>
                <a:latin typeface="Franklin Gothic Book"/>
              </a:rPr>
              <a:t>1913</a:t>
            </a:r>
            <a:r>
              <a:rPr b="1" lang="uk-UA" sz="2800" spc="-1" strike="noStrike">
                <a:solidFill>
                  <a:srgbClr val="a5644e"/>
                </a:solidFill>
                <a:latin typeface="Franklin Gothic Book"/>
              </a:rPr>
              <a:t> році вийшла його перша книга </a:t>
            </a:r>
            <a:r>
              <a:rPr b="1" lang="uk-UA" sz="2800" spc="-1" strike="noStrike">
                <a:solidFill>
                  <a:srgbClr val="0070c0"/>
                </a:solidFill>
                <a:latin typeface="Franklin Gothic Book"/>
              </a:rPr>
              <a:t>«Грошовий обіг і фінанси Індії»</a:t>
            </a:r>
            <a:r>
              <a:rPr b="1" lang="uk-UA" sz="2800" spc="-1" strike="noStrike">
                <a:solidFill>
                  <a:srgbClr val="a5644e"/>
                </a:solidFill>
                <a:latin typeface="Franklin Gothic Book"/>
              </a:rPr>
              <a:t>, де він з неокласичних позицій пропонує </a:t>
            </a: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зберігати підлегле становище індійської валюти по відношенню до англійської</a:t>
            </a:r>
            <a:r>
              <a:rPr b="1" lang="uk-UA" sz="2800" spc="-1" strike="noStrike">
                <a:solidFill>
                  <a:srgbClr val="a5644e"/>
                </a:solidFill>
                <a:latin typeface="Franklin Gothic Book"/>
              </a:rPr>
              <a:t>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4" name="Рисунок 4" descr=""/>
          <p:cNvPicPr/>
          <p:nvPr/>
        </p:nvPicPr>
        <p:blipFill>
          <a:blip r:embed="rId2"/>
          <a:stretch/>
        </p:blipFill>
        <p:spPr>
          <a:xfrm>
            <a:off x="351000" y="1700280"/>
            <a:ext cx="322560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3724200" y="4632480"/>
            <a:ext cx="5095800" cy="61596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179280" y="609480"/>
            <a:ext cx="345600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У </a:t>
            </a:r>
            <a:r>
              <a:rPr b="1" lang="uk-UA" sz="2400" spc="-1" strike="noStrike">
                <a:solidFill>
                  <a:srgbClr val="ff0000"/>
                </a:solidFill>
                <a:latin typeface="Franklin Gothic Book"/>
              </a:rPr>
              <a:t>1919 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році  Кейнс брав участь в Паризькій мирній конференції, яка встановила умови повоєнного облаштування Європ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У книзі </a:t>
            </a:r>
            <a:r>
              <a:rPr b="1" lang="uk-UA" sz="2400" spc="-1" strike="noStrike">
                <a:solidFill>
                  <a:srgbClr val="0070c0"/>
                </a:solidFill>
                <a:latin typeface="Franklin Gothic Book"/>
              </a:rPr>
              <a:t>«Економічні наслідки Версальського миру»  (1919) 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зазначає, що </a:t>
            </a:r>
            <a:r>
              <a:rPr b="1" lang="uk-UA" sz="2400" spc="-1" strike="noStrike" u="sng">
                <a:solidFill>
                  <a:srgbClr val="c00000"/>
                </a:solidFill>
                <a:uFillTx/>
                <a:latin typeface="Franklin Gothic Book"/>
              </a:rPr>
              <a:t>прийняті рішення не залишають надії на відбудову мирного господарства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, оскільки на Німеччину накладаються непомірні репарації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7" name="Объект 4" descr=""/>
          <p:cNvPicPr/>
          <p:nvPr/>
        </p:nvPicPr>
        <p:blipFill>
          <a:blip r:embed="rId2"/>
          <a:stretch/>
        </p:blipFill>
        <p:spPr>
          <a:xfrm>
            <a:off x="3708360" y="1268280"/>
            <a:ext cx="523548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Объект 4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3009960" cy="4824360"/>
          </a:xfrm>
          <a:prstGeom prst="rect">
            <a:avLst/>
          </a:prstGeom>
          <a:ln w="0">
            <a:noFill/>
          </a:ln>
        </p:spPr>
      </p:pic>
      <p:sp>
        <p:nvSpPr>
          <p:cNvPr id="439" name="Прямоугольник 5"/>
          <p:cNvSpPr/>
          <p:nvPr/>
        </p:nvSpPr>
        <p:spPr>
          <a:xfrm>
            <a:off x="3276720" y="260280"/>
            <a:ext cx="5688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Після кризи 1921 року Кейнс зосереджується на проблемі стабільності цін, рівня виробництва і зайнятост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Franklin Gothic Book"/>
              </a:rPr>
              <a:t>«Трактат про грошову реформу» (1923) 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досліджує теоретичні і практичні питання грошової політ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c00000"/>
                </a:solidFill>
                <a:uFillTx/>
                <a:latin typeface="Franklin Gothic Book"/>
              </a:rPr>
              <a:t>Грошова політика повинна скеровуватися на стабілізацію внутрішніх цін, а не підтримку завищеного курсу валюти.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644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Золотий стандарт є «варварським пережитк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644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Емісія банкнот має контролюватись центральним банком незалежно від розмірів золотого запа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644e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Гроші - активний фактор економічного проце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258480" y="18864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761f"/>
                </a:solidFill>
                <a:latin typeface="Franklin Gothic Medium"/>
              </a:rPr>
              <a:t>АДАМ СМІ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49680" y="18864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761f"/>
                </a:solidFill>
                <a:latin typeface="Franklin Gothic Medium"/>
              </a:rPr>
              <a:t>ДЖОН МЕЙНАРД КЕЙНС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Объект 11" descr=""/>
          <p:cNvPicPr/>
          <p:nvPr/>
        </p:nvPicPr>
        <p:blipFill>
          <a:blip r:embed="rId1"/>
          <a:stretch/>
        </p:blipFill>
        <p:spPr>
          <a:xfrm>
            <a:off x="5292720" y="836640"/>
            <a:ext cx="2857680" cy="4162320"/>
          </a:xfrm>
          <a:prstGeom prst="rect">
            <a:avLst/>
          </a:prstGeom>
          <a:ln w="0">
            <a:noFill/>
          </a:ln>
        </p:spPr>
      </p:pic>
      <p:pic>
        <p:nvPicPr>
          <p:cNvPr id="443" name="Объект 10" descr=""/>
          <p:cNvPicPr/>
          <p:nvPr/>
        </p:nvPicPr>
        <p:blipFill>
          <a:blip r:embed="rId2"/>
          <a:stretch/>
        </p:blipFill>
        <p:spPr>
          <a:xfrm>
            <a:off x="349200" y="1484280"/>
            <a:ext cx="4200480" cy="2265480"/>
          </a:xfrm>
          <a:prstGeom prst="rect">
            <a:avLst/>
          </a:prstGeom>
          <a:ln w="0">
            <a:noFill/>
          </a:ln>
        </p:spPr>
      </p:pic>
      <p:sp>
        <p:nvSpPr>
          <p:cNvPr id="444" name="Прямоугольник 12"/>
          <p:cNvSpPr/>
          <p:nvPr/>
        </p:nvSpPr>
        <p:spPr>
          <a:xfrm>
            <a:off x="193680" y="4797360"/>
            <a:ext cx="871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Критика політики невтручання держави в економічне життя та </a:t>
            </a:r>
            <a:r>
              <a:rPr b="1" lang="uk-UA" sz="2400" spc="-1" strike="noStrike" u="sng">
                <a:solidFill>
                  <a:srgbClr val="c00000"/>
                </a:solidFill>
                <a:uFillTx/>
                <a:latin typeface="Arial"/>
              </a:rPr>
              <a:t>ідея урядового регулювання </a:t>
            </a: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поміщені у двох відомих памфлетах Кейнс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Arial"/>
              </a:rPr>
              <a:t>«Економічні наслідки політики пана Черчілля» (1925) і «Кінець «laissez faire» (19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Стрелка влево 13"/>
          <p:cNvSpPr/>
          <p:nvPr/>
        </p:nvSpPr>
        <p:spPr>
          <a:xfrm>
            <a:off x="4140360" y="1844640"/>
            <a:ext cx="1944360" cy="1538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995280" y="215640"/>
            <a:ext cx="492444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Результатом аналізу валютного курсу і золотого стандарту, що був розпочатий в «Трактаті про грошову реформу», була фундаментальна двотомна праця Кейнс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 </a:t>
            </a:r>
            <a:r>
              <a:rPr b="1" lang="uk-UA" sz="2800" spc="-1" strike="noStrike">
                <a:solidFill>
                  <a:srgbClr val="0070c0"/>
                </a:solidFill>
                <a:latin typeface="Franklin Gothic Book"/>
              </a:rPr>
              <a:t>«Трактат про гроші» (1930)</a:t>
            </a:r>
            <a:r>
              <a:rPr b="1" lang="uk-UA" sz="2800" spc="-1" strike="noStrike">
                <a:solidFill>
                  <a:srgbClr val="a5644e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майже сформовано революційну концепцію заощаджень та інвестиці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теорія надлишку заощаджень стала для Кейнса підставою для </a:t>
            </a:r>
            <a:r>
              <a:rPr b="1" lang="uk-UA" sz="2400" spc="-1" strike="noStrike" u="sng">
                <a:solidFill>
                  <a:srgbClr val="c00000"/>
                </a:solidFill>
                <a:uFillTx/>
                <a:latin typeface="Franklin Gothic Book"/>
              </a:rPr>
              <a:t>ідеї стимулювання зайнятості через систему громадських робіт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, які слід фінансувати через позик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7" name="Рисунок 4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377964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Franklin Gothic Book"/>
              </a:rPr>
              <a:t>ЗАГАЛЬНА ТЕОРІЯ ЗАЙНЯТОСТІ, ПРОЦЕНТУ І ГРОШЕЙ (1936)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9" name="Объект 3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3240000" cy="452592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4"/>
          <p:cNvSpPr/>
          <p:nvPr/>
        </p:nvSpPr>
        <p:spPr>
          <a:xfrm>
            <a:off x="3419640" y="1484280"/>
            <a:ext cx="5616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Книга принесла Джону Мейнарду Кейнсу світове визн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Критикуючи неокласиків за розгляд рідкісності як вихідний момент економічного аналізу, Кейнс зауважує, що </a:t>
            </a:r>
            <a:r>
              <a:rPr b="1" lang="uk-UA" sz="2400" spc="-1" strike="noStrike" u="sng">
                <a:solidFill>
                  <a:srgbClr val="c00000"/>
                </a:solidFill>
                <a:uFillTx/>
                <a:latin typeface="Franklin Gothic Book"/>
              </a:rPr>
              <a:t>економічні реалії засвідчують не стільки обмеженість, скільки надлишок ресурсів – масове безробіття, незавантажені потужності, нереалізовані това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Перед тим як шукати оптимальне співвідношення для використання рідкісних благ, </a:t>
            </a:r>
            <a:r>
              <a:rPr b="1" lang="uk-UA" sz="2400" spc="-1" strike="noStrike" u="sng">
                <a:solidFill>
                  <a:srgbClr val="c00000"/>
                </a:solidFill>
                <a:uFillTx/>
                <a:latin typeface="Franklin Gothic Book"/>
              </a:rPr>
              <a:t>слід забезпечити повну зайнятість населенн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176040" y="457200"/>
            <a:ext cx="8815680" cy="8589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4920" y="1267920"/>
            <a:ext cx="8686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Дж. М. Кейнс основні категорії: цінності, капіталу, прибутку, ренти тощо пояснював подібно до неокласиків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Якщо теорія цін і доходів </a:t>
            </a:r>
            <a:r>
              <a:rPr b="1" lang="uk-UA" sz="2400" spc="-1" strike="noStrike">
                <a:solidFill>
                  <a:srgbClr val="0070c0"/>
                </a:solidFill>
                <a:latin typeface="Franklin Gothic Book"/>
              </a:rPr>
              <a:t>А. Маршалла 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знаходиться в царині мікроекономіки, тобто аналізує закономірності економічної поведінки господарських суб’єктів, часткову рівновагу на окремих ринках, то </a:t>
            </a:r>
            <a:r>
              <a:rPr b="1" lang="uk-UA" sz="2400" spc="-1" strike="noStrike">
                <a:solidFill>
                  <a:srgbClr val="0070c0"/>
                </a:solidFill>
                <a:latin typeface="Franklin Gothic Book"/>
              </a:rPr>
              <a:t>Дж.М. Кейнс </a:t>
            </a:r>
            <a:r>
              <a:rPr b="1" lang="uk-UA" sz="2400" spc="-1" strike="noStrike" u="sng">
                <a:solidFill>
                  <a:srgbClr val="c00000"/>
                </a:solidFill>
                <a:uFillTx/>
                <a:latin typeface="Franklin Gothic Book"/>
              </a:rPr>
              <a:t>наголошував на обмеженості мікроаналізу, намагаючись обґрунтувати потребу в державному регулюванні економіки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Особливістю його методології є </a:t>
            </a:r>
            <a:r>
              <a:rPr b="1" lang="uk-UA" sz="2400" spc="-1" strike="noStrike" u="sng">
                <a:solidFill>
                  <a:srgbClr val="c00000"/>
                </a:solidFill>
                <a:uFillTx/>
                <a:latin typeface="Franklin Gothic Book"/>
              </a:rPr>
              <a:t>наголос на макроекономічних показниках  діяльності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: інвестиційних потоках, потоках доходів, на нагромадженні та заощадженнях, на виробництві і споживанні в межах усього суспільств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Прямоугольник 1"/>
          <p:cNvSpPr/>
          <p:nvPr/>
        </p:nvSpPr>
        <p:spPr>
          <a:xfrm>
            <a:off x="539640" y="336600"/>
            <a:ext cx="842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Кейнс </a:t>
            </a:r>
            <a:r>
              <a:rPr b="1" lang="uk-UA" sz="2400" spc="-1" strike="noStrike" u="sng">
                <a:solidFill>
                  <a:srgbClr val="c00000"/>
                </a:solidFill>
                <a:uFillTx/>
                <a:latin typeface="Franklin Gothic Book"/>
              </a:rPr>
              <a:t>розробив категоріально-понятійний апарат 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сучасної макроекономіки, який дозволяє її розглядати у вигляді функціонування чотирьох взаємопов’язаних ринків: </a:t>
            </a:r>
            <a:r>
              <a:rPr b="1" i="1" lang="uk-UA" sz="2400" spc="-1" strike="noStrike">
                <a:solidFill>
                  <a:srgbClr val="0070c0"/>
                </a:solidFill>
                <a:latin typeface="Franklin Gothic Book"/>
              </a:rPr>
              <a:t>ринку товарів і послуг, ринку праці, грошового ринку і ринку цінних папер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5644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Математичне моделювання розширило межі мікроекономіки і органічно вписались в макроекономічну сфе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Franklin Gothic Book"/>
              </a:rPr>
              <a:t>Пояснення економічних категорій 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у Кейнса базується на </a:t>
            </a:r>
            <a:r>
              <a:rPr b="1" i="1" lang="uk-UA" sz="2400" spc="-1" strike="noStrike" u="sng">
                <a:solidFill>
                  <a:srgbClr val="0070c0"/>
                </a:solidFill>
                <a:uFillTx/>
                <a:latin typeface="Franklin Gothic Book"/>
              </a:rPr>
              <a:t>психології економічних суб’єктів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: очікуваний прибуток, рентабельність, очікувані зміни цін, витрати, реальна купівельна сила грошей тощо. Проте </a:t>
            </a:r>
            <a:r>
              <a:rPr b="1" i="1" lang="uk-UA" sz="2400" spc="-1" strike="noStrike" u="sng">
                <a:solidFill>
                  <a:srgbClr val="0070c0"/>
                </a:solidFill>
                <a:uFillTx/>
                <a:latin typeface="Franklin Gothic Book"/>
              </a:rPr>
              <a:t>вони мають і об’єктивний зміст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, оскільки без них неможливо здійснювати прогнозування, яке є необхідним атрибутом всякої підприємницької діяльності і державного регулюв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60480" y="79200"/>
            <a:ext cx="8815320" cy="792360"/>
          </a:xfrm>
          <a:prstGeom prst="rect">
            <a:avLst/>
          </a:prstGeom>
          <a:ln w="0">
            <a:noFill/>
          </a:ln>
        </p:spPr>
      </p:pic>
      <p:sp>
        <p:nvSpPr>
          <p:cNvPr id="455" name="Прямоугольник 3"/>
          <p:cNvSpPr/>
          <p:nvPr/>
        </p:nvSpPr>
        <p:spPr>
          <a:xfrm>
            <a:off x="0" y="62064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a56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Із збільшенням зайнятості зростає національний доход і збільшується </a:t>
            </a:r>
            <a:r>
              <a:rPr b="1" lang="uk-UA" sz="2400" spc="-1" strike="noStrike">
                <a:solidFill>
                  <a:srgbClr val="00b0f0"/>
                </a:solidFill>
                <a:latin typeface="Franklin Gothic Book"/>
              </a:rPr>
              <a:t>споживання, 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але воно </a:t>
            </a:r>
            <a:r>
              <a:rPr b="1" lang="uk-UA" sz="2400" spc="-1" strike="noStrike">
                <a:solidFill>
                  <a:srgbClr val="00b0f0"/>
                </a:solidFill>
                <a:latin typeface="Franklin Gothic Book"/>
              </a:rPr>
              <a:t>зростає повільніше ніж доходи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, оскільки господарські суб’єкти мають </a:t>
            </a:r>
            <a:r>
              <a:rPr b="1" lang="uk-UA" sz="2400" spc="-1" strike="noStrike">
                <a:solidFill>
                  <a:srgbClr val="00b0f0"/>
                </a:solidFill>
                <a:latin typeface="Franklin Gothic Book"/>
              </a:rPr>
              <a:t>«схильність до заощаджень»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. Відбувається відносне скорочення споживання, що супроводжується зменшенням ефективного попиту. Попит впливає на розміри виробництва, а тому і на рівень зайнятості. Недостатній розвиток споживчого попиту можна компенсувати збільшенням видатків на нові інвестиції, тобто збільшивши виробничий поп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Franklin Gothic Book"/>
              </a:rPr>
              <a:t>Загальний обсяг інвестицій відіграє вирішальну роль у визначенні розмірів зайнятості. 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Він залежить від бажання підприємців інвестувати, а вони будуть збільшувати інвестиції до того часу, коли їх «гранична ефективність» не знизиться до рівня проценту. Складність у тому, що гранична ефективність знижується, а рівень проценту зберігає стійкість. Що обмежує впровадження нових інвестицій і, як наслідок, обмежує зайняті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89000" y="139680"/>
            <a:ext cx="8955000" cy="1000080"/>
          </a:xfrm>
          <a:prstGeom prst="rect">
            <a:avLst/>
          </a:prstGeom>
          <a:ln w="0">
            <a:noFill/>
          </a:ln>
        </p:spPr>
      </p:pic>
      <p:pic>
        <p:nvPicPr>
          <p:cNvPr id="410" name="Объект 4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8435880" cy="4667400"/>
          </a:xfrm>
          <a:prstGeom prst="rect">
            <a:avLst/>
          </a:prstGeom>
          <a:ln w="0">
            <a:noFill/>
          </a:ln>
        </p:spPr>
      </p:pic>
      <p:sp>
        <p:nvSpPr>
          <p:cNvPr id="411" name="TextBox 5"/>
          <p:cNvSpPr/>
          <p:nvPr/>
        </p:nvSpPr>
        <p:spPr>
          <a:xfrm>
            <a:off x="1332000" y="614520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едеральний резервний банк Філадельф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Объект 4"/>
          <p:cNvGraphicFramePr/>
          <p:nvPr/>
        </p:nvGraphicFramePr>
        <p:xfrm>
          <a:off x="330120" y="1052640"/>
          <a:ext cx="8483760" cy="48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052640"/>
                    <a:ext cx="848376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TextBox 6"/>
          <p:cNvSpPr/>
          <p:nvPr/>
        </p:nvSpPr>
        <p:spPr>
          <a:xfrm>
            <a:off x="539640" y="33336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СХЕМА КЕЙНСІАНСЬКОГО КРУГООБІ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1" descr=""/>
          <p:cNvPicPr/>
          <p:nvPr/>
        </p:nvPicPr>
        <p:blipFill>
          <a:blip r:embed="rId1"/>
          <a:stretch/>
        </p:blipFill>
        <p:spPr>
          <a:xfrm>
            <a:off x="249120" y="79200"/>
            <a:ext cx="8712360" cy="11829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649"/>
              </a:spcBef>
              <a:buClr>
                <a:srgbClr val="0070c0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a5644e"/>
                </a:solidFill>
                <a:latin typeface="Franklin Gothic Book"/>
              </a:rPr>
              <a:t>розглянув проблему </a:t>
            </a:r>
            <a:r>
              <a:rPr b="1" lang="uk-UA" sz="2600" spc="-1" strike="noStrike">
                <a:solidFill>
                  <a:srgbClr val="c00000"/>
                </a:solidFill>
                <a:latin typeface="Franklin Gothic Book"/>
              </a:rPr>
              <a:t>безробіття в контексті аналізу факторів виробництва</a:t>
            </a:r>
            <a:r>
              <a:rPr b="1" lang="uk-UA" sz="2600" spc="-1" strike="noStrike">
                <a:solidFill>
                  <a:srgbClr val="a5644e"/>
                </a:solidFill>
                <a:latin typeface="Franklin Gothic Book"/>
              </a:rPr>
              <a:t> як складовий механізм економічної теорії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73040" indent="-473040">
              <a:spcBef>
                <a:spcPts val="649"/>
              </a:spcBef>
              <a:buClr>
                <a:srgbClr val="0070c0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a5644e"/>
                </a:solidFill>
                <a:latin typeface="Franklin Gothic Book"/>
              </a:rPr>
              <a:t>заперечив наявність механізмів саморегуляції в ринковій економіці, а отже довів </a:t>
            </a:r>
            <a:r>
              <a:rPr b="1" lang="uk-UA" sz="2600" spc="-1" strike="noStrike">
                <a:solidFill>
                  <a:srgbClr val="c00000"/>
                </a:solidFill>
                <a:latin typeface="Franklin Gothic Book"/>
              </a:rPr>
              <a:t>хибність доктрини “laissez faire”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73040" indent="-473040">
              <a:spcBef>
                <a:spcPts val="649"/>
              </a:spcBef>
              <a:buClr>
                <a:srgbClr val="0070c0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a5644e"/>
                </a:solidFill>
                <a:latin typeface="Franklin Gothic Book"/>
              </a:rPr>
              <a:t>виступив за </a:t>
            </a:r>
            <a:r>
              <a:rPr b="1" lang="uk-UA" sz="2600" spc="-1" strike="noStrike">
                <a:solidFill>
                  <a:srgbClr val="c00000"/>
                </a:solidFill>
                <a:latin typeface="Franklin Gothic Book"/>
              </a:rPr>
              <a:t>розширення регулюючих функцій держави </a:t>
            </a:r>
            <a:r>
              <a:rPr b="1" lang="uk-UA" sz="2600" spc="-1" strike="noStrike">
                <a:solidFill>
                  <a:srgbClr val="a5644e"/>
                </a:solidFill>
                <a:latin typeface="Franklin Gothic Book"/>
              </a:rPr>
              <a:t>в ринковій економіці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73040" indent="-473040">
              <a:spcBef>
                <a:spcPts val="649"/>
              </a:spcBef>
              <a:buClr>
                <a:srgbClr val="0070c0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a5644e"/>
                </a:solidFill>
                <a:latin typeface="Franklin Gothic Book"/>
              </a:rPr>
              <a:t>впровадив </a:t>
            </a:r>
            <a:r>
              <a:rPr b="1" lang="uk-UA" sz="2600" spc="-1" strike="noStrike" u="sng">
                <a:solidFill>
                  <a:srgbClr val="c00000"/>
                </a:solidFill>
                <a:uFillTx/>
                <a:latin typeface="Franklin Gothic Book"/>
              </a:rPr>
              <a:t>макроекономічний функціональний аналіз</a:t>
            </a:r>
            <a:r>
              <a:rPr b="1" lang="uk-UA" sz="2600" spc="-1" strike="noStrike">
                <a:solidFill>
                  <a:srgbClr val="a5644e"/>
                </a:solidFill>
                <a:latin typeface="Franklin Gothic Book"/>
              </a:rPr>
              <a:t>,  започаткувавши новий підхід в економічній науці, який базується на концепції взаємозалежності і цілісності системи індивідуальних ринків та залежності економічного зростання від структури суспільного продукту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473040" indent="-473040"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1"/>
          <p:cNvSpPr/>
          <p:nvPr/>
        </p:nvSpPr>
        <p:spPr>
          <a:xfrm>
            <a:off x="324000" y="404640"/>
            <a:ext cx="84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5644e"/>
                </a:solidFill>
                <a:latin typeface="Franklin Gothic Book"/>
              </a:rPr>
              <a:t>обґрунтував </a:t>
            </a: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неспроможність закону Сея</a:t>
            </a:r>
            <a:r>
              <a:rPr b="1" lang="uk-UA" sz="2800" spc="-1" strike="noStrike">
                <a:solidFill>
                  <a:srgbClr val="a5644e"/>
                </a:solidFill>
                <a:latin typeface="Franklin Gothic Book"/>
              </a:rPr>
              <a:t>, згідно якого виробництво формує доходи, що забезпечують рівновагу попиту і пропозиції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заперечив гнучкість механізму ціноутворення </a:t>
            </a:r>
            <a:r>
              <a:rPr b="1" lang="uk-UA" sz="2800" spc="-1" strike="noStrike">
                <a:solidFill>
                  <a:srgbClr val="a5644e"/>
                </a:solidFill>
                <a:latin typeface="Franklin Gothic Book"/>
              </a:rPr>
              <a:t>на ринку товарів і послуг та на ринку прац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Franklin Gothic 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a5644e"/>
                </a:solidFill>
                <a:latin typeface="Franklin Gothic Book"/>
              </a:rPr>
              <a:t>розробив</a:t>
            </a: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 нову теорію регулювання виробництва і зайнятості та способи коригування ринкового механізму за допомогою державного втручання</a:t>
            </a:r>
            <a:r>
              <a:rPr b="1" lang="uk-UA" sz="2800" spc="-1" strike="noStrike">
                <a:solidFill>
                  <a:srgbClr val="a5644e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4" descr=""/>
          <p:cNvPicPr/>
          <p:nvPr/>
        </p:nvPicPr>
        <p:blipFill>
          <a:blip r:embed="rId1"/>
          <a:stretch/>
        </p:blipFill>
        <p:spPr>
          <a:xfrm>
            <a:off x="3571920" y="5072040"/>
            <a:ext cx="5346720" cy="5475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56760" y="499680"/>
            <a:ext cx="300852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«Велика депресія» 1929–1932 рр. була логічним наслідком </a:t>
            </a:r>
            <a:r>
              <a:rPr b="1" lang="uk-UA" sz="2400" spc="-1" strike="noStrike" u="sng">
                <a:solidFill>
                  <a:srgbClr val="c00000"/>
                </a:solidFill>
                <a:uFillTx/>
                <a:latin typeface="Franklin Gothic Book"/>
              </a:rPr>
              <a:t>поглиблення структурних диспропорцій</a:t>
            </a:r>
            <a:r>
              <a:rPr b="1" i="1" lang="uk-UA" sz="2400" spc="-1" strike="noStrike">
                <a:solidFill>
                  <a:srgbClr val="a5644e"/>
                </a:solidFill>
                <a:latin typeface="Franklin Gothic Book"/>
              </a:rPr>
              <a:t>, 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закладених в економіці США </a:t>
            </a:r>
            <a:r>
              <a:rPr b="1" lang="uk-UA" sz="2400" spc="-1" strike="noStrike" u="sng">
                <a:solidFill>
                  <a:srgbClr val="c00000"/>
                </a:solidFill>
                <a:uFillTx/>
                <a:latin typeface="Franklin Gothic Book"/>
              </a:rPr>
              <a:t>під час стрімкого економічного піднесення 1924–1929 рр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., яке в економічній літературі називають періодом </a:t>
            </a:r>
            <a:r>
              <a:rPr b="1" i="1" lang="uk-UA" sz="2400" spc="-1" strike="noStrike">
                <a:solidFill>
                  <a:srgbClr val="ff0000"/>
                </a:solidFill>
                <a:latin typeface="Franklin Gothic Book"/>
              </a:rPr>
              <a:t>«</a:t>
            </a:r>
            <a:r>
              <a:rPr b="1" i="1" lang="en-US" sz="2400" spc="-1" strike="noStrike">
                <a:solidFill>
                  <a:srgbClr val="ff0000"/>
                </a:solidFill>
                <a:latin typeface="Franklin Gothic Book"/>
              </a:rPr>
              <a:t>prosperity</a:t>
            </a:r>
            <a:r>
              <a:rPr b="1" i="1" lang="uk-UA" sz="2400" spc="-1" strike="noStrike">
                <a:solidFill>
                  <a:srgbClr val="ff0000"/>
                </a:solidFill>
                <a:latin typeface="Franklin Gothic Book"/>
              </a:rPr>
              <a:t>»</a:t>
            </a:r>
            <a:r>
              <a:rPr b="1" lang="uk-UA" sz="2400" spc="-1" strike="noStrike">
                <a:solidFill>
                  <a:srgbClr val="ff0000"/>
                </a:solidFill>
                <a:latin typeface="Franklin Gothic Book"/>
              </a:rPr>
              <a:t> (розквіту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Рисунок 1" descr=""/>
          <p:cNvPicPr/>
          <p:nvPr/>
        </p:nvPicPr>
        <p:blipFill>
          <a:blip r:embed="rId2"/>
          <a:stretch/>
        </p:blipFill>
        <p:spPr>
          <a:xfrm>
            <a:off x="3689280" y="353880"/>
            <a:ext cx="50259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1"/>
          <p:cNvSpPr/>
          <p:nvPr/>
        </p:nvSpPr>
        <p:spPr>
          <a:xfrm>
            <a:off x="2727360" y="115920"/>
            <a:ext cx="32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prosperity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2"/>
          <p:cNvSpPr/>
          <p:nvPr/>
        </p:nvSpPr>
        <p:spPr>
          <a:xfrm>
            <a:off x="223920" y="692280"/>
            <a:ext cx="8783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Досягнуто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масового виробництва товарів і послуг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Добробут населення швидко зростав: наявність радіоприймачів, пральних машин, холодильників в американських сім`ях було звичним явищ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Частка заробітної плати у національному доході складала бл.80%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У значної частини громадян з`явилися автомобілі.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Автомобіль став своєрідним символом процвітання Сполучених штатів Америки.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Компанії «Дженерал моторс», «Форд», «Крайслер» у 1929 р. випускали майже 5 млн. автомобілів, що складало 75%  їх світового випус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Автомобільна промисловість була локомотивом розвитку алюмінієвої, сталеливарної, нафтохімічної та інших видів промисловост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Набула поширення радіотехнічна та авіаційна промислові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США стали лідером світової економіки: в державі вироблялося  48% світової промислової продукції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3943440" y="4290840"/>
            <a:ext cx="4956120" cy="54936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3240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Світова економічна криза почалася у Сполучених Штатах у так званий </a:t>
            </a:r>
            <a:r>
              <a:rPr b="1" lang="uk-UA" sz="2800" spc="-1" strike="noStrike">
                <a:solidFill>
                  <a:srgbClr val="000000"/>
                </a:solidFill>
                <a:latin typeface="Franklin Gothic Book"/>
              </a:rPr>
              <a:t>«чорний вівторок», 24 жовтня 1929 року </a:t>
            </a:r>
            <a:r>
              <a:rPr b="1" lang="uk-UA" sz="2400" spc="-1" strike="noStrike">
                <a:solidFill>
                  <a:srgbClr val="a5644e"/>
                </a:solidFill>
                <a:latin typeface="Franklin Gothic Book"/>
              </a:rPr>
              <a:t>як грім серед ясного неба. Курси акцій провідних корпорацій на Нью-Йоркській фондовій біржі почали стрімко падати, що спровокувало біржову паніку. Наприклад, ціни на акції «Дженерал моторс» знизилися у 80 разів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Объект 6" descr=""/>
          <p:cNvPicPr/>
          <p:nvPr/>
        </p:nvPicPr>
        <p:blipFill>
          <a:blip r:embed="rId2"/>
          <a:stretch/>
        </p:blipFill>
        <p:spPr>
          <a:xfrm>
            <a:off x="3780000" y="1052640"/>
            <a:ext cx="52606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Прямоугольник 1"/>
          <p:cNvSpPr/>
          <p:nvPr/>
        </p:nvSpPr>
        <p:spPr>
          <a:xfrm>
            <a:off x="142920" y="765000"/>
            <a:ext cx="8893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Промислове виробництво у США протягом кризи скоротилося на 46,2% (автомобілів на 80%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Виплавка сталі скоротилася на 76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Обсяг міжнародної торгівлі скоротився на 3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У березні 1933 р. безробіття досягло свого піку – 17 млн. чол., а це означало, що безробітним був майже кожен третій працездатний громадян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Промислова криза поєднувалася з кризою аграрною. На сільськогосподарську продукцію ціни знизилися майже на 60%. Що спровокувало зростання заборгованості за кредитами у фермерських господарств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Щоб стримати падіння цін вдавалися до варварських методів знищення сільськогосподарської продукції. Світ дізнався, що пшеницю можна спалювати у топках паровозів і пароплавів, молоко виливати у океан, а поля зрілої бавовни спалювати.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Наслідком таких дій було зниження збору  зернових у 1934 р: пшениці – на 36%, кукурудзи – на 45%. Розорилося близько 18% фермерських господарств. Ряди переселенців і безробітних поповнилися близько 4 млн. бувших фермер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TextBox 2" descr=""/>
          <p:cNvPicPr/>
          <p:nvPr/>
        </p:nvPicPr>
        <p:blipFill>
          <a:blip r:embed="rId1"/>
          <a:stretch/>
        </p:blipFill>
        <p:spPr>
          <a:xfrm>
            <a:off x="122400" y="55440"/>
            <a:ext cx="84121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оугольник 4"/>
          <p:cNvSpPr/>
          <p:nvPr/>
        </p:nvSpPr>
        <p:spPr>
          <a:xfrm>
            <a:off x="611280" y="750960"/>
            <a:ext cx="8353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Збанкрутувало близько 130 тис. фір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Федеральна резервна система зайняла вичікувальну пасивну позицію, залишивши без фінансової підтримки комерційні банки. Наслідком кризи була </a:t>
            </a: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відмова від золотого стандарту</a:t>
            </a: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Національний доход США зменшився приблизно у півтора рази і знаходився на рівні 1911 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Заробітна плата скоротилася більш, ніж вдвічі, що суттєво вплинуло на обсяги платоспроможного попи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a564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a5644e"/>
                </a:solidFill>
                <a:latin typeface="Arial"/>
              </a:rPr>
              <a:t>Країну охопила хвиля масових страйкі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Arial"/>
              </a:rPr>
              <a:t>В американців було підірвано віру у всесильність індивідуалізму як основи успіху та соціального добробу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Текст 2" descr=""/>
          <p:cNvPicPr/>
          <p:nvPr/>
        </p:nvPicPr>
        <p:blipFill>
          <a:blip r:embed="rId1"/>
          <a:stretch/>
        </p:blipFill>
        <p:spPr>
          <a:xfrm>
            <a:off x="42840" y="237960"/>
            <a:ext cx="8418600" cy="108432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4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3164040" cy="4175280"/>
          </a:xfrm>
          <a:prstGeom prst="rect">
            <a:avLst/>
          </a:prstGeom>
          <a:ln w="0">
            <a:noFill/>
          </a:ln>
        </p:spPr>
      </p:pic>
      <p:sp>
        <p:nvSpPr>
          <p:cNvPr id="425" name="TextBox 5"/>
          <p:cNvSpPr/>
          <p:nvPr/>
        </p:nvSpPr>
        <p:spPr>
          <a:xfrm>
            <a:off x="3851280" y="1268280"/>
            <a:ext cx="511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У США наслідком «великої депресії» було різке загострення політичної обстановки. Ділові круги усвідомлювали неспроможність республіканців вивести країну з глибокої криз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644e"/>
                </a:solidFill>
                <a:latin typeface="Arial"/>
              </a:rPr>
              <a:t>У 1932 р.  на президентських виборах перемогла очолювана Ф. Д. Рузвельтом  демократична партія. </a:t>
            </a:r>
            <a:r>
              <a:rPr b="1" lang="uk-UA" sz="2400" spc="-1" strike="noStrike">
                <a:solidFill>
                  <a:srgbClr val="c00000"/>
                </a:solidFill>
                <a:latin typeface="Arial"/>
              </a:rPr>
              <a:t>Він запропонував комплекс реформ, який увійшов в історію під назвою «Новий курс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6"/>
          <p:cNvSpPr/>
          <p:nvPr/>
        </p:nvSpPr>
        <p:spPr>
          <a:xfrm>
            <a:off x="177840" y="573264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2-й Президент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Франклін Делано Рузвельт (1882-19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250920" y="188640"/>
            <a:ext cx="8686800" cy="69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Franklin Gothic Book"/>
              </a:rPr>
              <a:t>Банківська сфера</a:t>
            </a:r>
            <a:r>
              <a:rPr b="1" lang="uk-UA" sz="2200" spc="-1" strike="noStrike">
                <a:solidFill>
                  <a:srgbClr val="a5644e"/>
                </a:solidFill>
                <a:latin typeface="Franklin Gothic Book"/>
              </a:rPr>
              <a:t>:  1933, березень – тимчасове закриття усіх банків США; зупинка обміну банкнот на золото і вилучення його з обігу. Девальвація долара (пониження золотого вмісту до 41%) Наслідок: зросли експортні можливості США і зменшилась заборгованість монополій уряду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55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Franklin Gothic Book"/>
              </a:rPr>
              <a:t>Сільське господарство</a:t>
            </a:r>
            <a:r>
              <a:rPr b="1" lang="uk-UA" sz="2200" spc="-1" strike="noStrike">
                <a:solidFill>
                  <a:srgbClr val="a5644e"/>
                </a:solidFill>
                <a:latin typeface="Franklin Gothic Book"/>
              </a:rPr>
              <a:t>: 1933, травень - </a:t>
            </a:r>
            <a:r>
              <a:rPr b="1" lang="uk-UA" sz="2200" spc="-1" strike="noStrike">
                <a:solidFill>
                  <a:srgbClr val="00b050"/>
                </a:solidFill>
                <a:latin typeface="Franklin Gothic Book"/>
              </a:rPr>
              <a:t>Закон про відбудову аграрного сектору.</a:t>
            </a:r>
            <a:r>
              <a:rPr b="1" lang="uk-UA" sz="2200" spc="-1" strike="noStrike">
                <a:solidFill>
                  <a:srgbClr val="a5644e"/>
                </a:solidFill>
                <a:latin typeface="Franklin Gothic Book"/>
              </a:rPr>
              <a:t> Створено Адміністрацію регулювання сільського господарства. Підвищено ціни на с/г продукцію, через вилучення частини їх з обігу (закуплено і знищено 8 млн. голів ВРХ, 6 млн. свиней, зорано 10 млн. акрів полів достиглої бавовни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55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Franklin Gothic Book"/>
              </a:rPr>
              <a:t>Індустрія</a:t>
            </a:r>
            <a:r>
              <a:rPr b="1" lang="uk-UA" sz="2200" spc="-1" strike="noStrike">
                <a:solidFill>
                  <a:srgbClr val="a5644e"/>
                </a:solidFill>
                <a:latin typeface="Franklin Gothic Book"/>
              </a:rPr>
              <a:t>: 1933, червень – </a:t>
            </a:r>
            <a:r>
              <a:rPr b="1" lang="uk-UA" sz="2200" spc="-1" strike="noStrike">
                <a:solidFill>
                  <a:srgbClr val="00b050"/>
                </a:solidFill>
                <a:latin typeface="Franklin Gothic Book"/>
              </a:rPr>
              <a:t>Закон про відбудову промисловості. </a:t>
            </a:r>
            <a:r>
              <a:rPr b="1" lang="uk-UA" sz="2200" spc="-1" strike="noStrike">
                <a:solidFill>
                  <a:srgbClr val="a5644e"/>
                </a:solidFill>
                <a:latin typeface="Franklin Gothic Book"/>
              </a:rPr>
              <a:t>Відміна антитрестівського законодавства. Примусове встановлення обсягів виробництва і цін. Регламентування рівня заробітної плати та тривалості робочого дня. Підтримка державного  підприємництва (1933 - Управління долиною річки Тенессі створило близько 40 тис. робочих місць)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55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Franklin Gothic Book"/>
              </a:rPr>
              <a:t>Закон Вагнера</a:t>
            </a:r>
            <a:r>
              <a:rPr b="1" lang="uk-UA" sz="2200" spc="-1" strike="noStrike">
                <a:solidFill>
                  <a:srgbClr val="a5644e"/>
                </a:solidFill>
                <a:latin typeface="Franklin Gothic Book"/>
              </a:rPr>
              <a:t>: національний закон про трудові відносини. Дозвіл на профспілки, колективні угоди і страйки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ра</cp:lastModifiedBy>
  <dcterms:modified xsi:type="dcterms:W3CDTF">2018-10-28T18:52:14Z</dcterms:modified>
  <cp:revision>121</cp:revision>
  <dc:subject/>
  <dc:title>ІСТОРІЯ ЕКОНОМІКИ  ТА ЕКОНОМІЧНОЇ ДУМКИ</dc:title>
</cp:coreProperties>
</file>