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1DC-67B0-4A67-8954-7A0E7433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406-37BC-457B-BCCD-406FB541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1F1-FBCC-4BB5-9D3C-C5E9393F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979-4407-405F-9A5E-FD9597CC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FD2-9E0F-465F-9DF4-6CB679B5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D67-1F7B-4A3F-BAC2-2FD5133E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C95-26C8-40B4-BC5A-9740769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EFE-0C37-4015-B0EA-484F3779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B16-CD72-4CCB-BC2B-900B08B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FE8-9D13-4A97-BED5-5E8903F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152-EEDE-462D-8120-F0828C0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000-E733-4BE9-9316-13FBF92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EA5-092E-4DCB-AD05-CAF6A2E1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752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ЧКИЙ РИНОК ПРА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666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Поняття жорсткості та гнучкості ринку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00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нучкість витрат на робочу 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8098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нучкість форм зайнятості та використання робочого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800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4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Географічна та професійна мобільність робочої сили як елемент гнучкості ринку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рактеристики жорсткого ринк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арантія зайнятості (забезпечення політики повної зайнятості та наявність гарної системи соцстрахува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8108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абільність зайнятості (жорстка регламентація звільнення, передбачення значних витрат підприємців у разі звільнення працівни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429000"/>
            <a:ext cx="83059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ення працівників стабільними доход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абільність змісту роботи (суворе дотримання встановлених класифікацій робіт і їхньої відповідності тарифікації працівникі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56272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ення безпеки роботи (дотримання техніки безпеки на робочому місці, регулювання режиму робо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нучкість ринку прац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371600"/>
            <a:ext cx="518184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mbria"/>
              </a:rPr>
              <a:t>комплекс заходів соціально-економічного, виробничого та юридичного характеру для пристосування діяльності підприємства до мінливих умов господарюва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2695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7617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итрати на робочу силу підприє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52388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1) витрати на наймання працівників (оплата послуг з наймання, оплата послуг із розміщення оголошень тощ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66688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2) витрати на утримання найнятих працівни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65760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3) витрати, пов’язані із звільненням праців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стандартні режими робочого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неповний робочий час і його різновиди (скорочений робочий тиждень, альтернативний робочий час, поділ одного робочого місця між кількома працівник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048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нучкий робочий рі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8862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тиснутий робочий тижд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7242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графіки гнучкого робочого ч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домна (дистанційна) робот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така форма організації праці, коли робота виконується працівником за місцем його проживання чи в іншому місці за його вибором, у т. ч. за допомогою інформаційно-комунікаційних технологій, але поза приміщенням роботодав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9440" y="2514600"/>
            <a:ext cx="32781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04920"/>
            <a:ext cx="8305920" cy="533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Види географічної мобільн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в залежності від тривалості мобіль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незворотна (постійна) та зворотна міграці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76201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мірою легаль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легальна і нелегаль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438280"/>
            <a:ext cx="7620120" cy="1295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ступенем організованості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організована (за рішенням державних і місцевих органів); неорганізована (за рішенням особи); вимушена (міграція у зв’язку з переїздом іншого члена сім’ї, у зв’язку з відсутністю робо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952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2952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2004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886200"/>
            <a:ext cx="7620120" cy="457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межами міграційних потоків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внутрішня і зовніш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495680"/>
            <a:ext cx="762012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напрямами міграційних потоків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типу «село-місто», «місто-село», «село-село», «місто-міст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5410080"/>
            <a:ext cx="7620120" cy="1067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за тривалістю міграції: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довгострокова (до кількох років), короткострокова (від 3-х місяців до 1 року), сезонна (до 3 місяців), вахтова (до 1 місяця), маятникові (щоденн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838080"/>
            <a:ext cx="0" cy="5105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148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8769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943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4-12T23:38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