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0E0-9E2F-430D-BF66-795A6D32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0F2-343B-4350-874B-563084FC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A73-02E5-44AD-BCC8-75BE25CF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401-E8A9-4D0B-84E5-E182FF62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EEE-822D-4D92-B213-BA833EC8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0AF-B144-46A3-BAE5-F159C4E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F9F-1F55-4C59-B0EA-CDDAEC4D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66F-8CD9-41C1-BDAF-889DAC2F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BD4-1D89-4B47-8284-AD46ABB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385-6138-447B-BFCA-664C1B48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194-6A14-4524-93C9-5D0D1046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C21-6F42-4666-A035-80DB763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FA43-12FF-4CA0-BA48-F58C98570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752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НУЧКИЙ РИНОК ПРАЦ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666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Поняття жорсткості та гнучкості ринку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004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Гнучкість витрат на робочу 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98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Гнучкість форм зайнятості та використання робочого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800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Географічна та професійна мобільність робочої сили як елемент гнучкості ринку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арактеристики жорсткого ринку прац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83059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гарантія зайнятості (забезпечення політики повної зайнятості та наявність гарної системи соцстрахува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98108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табільність зайнятості (жорстка регламентація звільнення, передбачення значних витрат підприємців у разі звільнення працівни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429000"/>
            <a:ext cx="8305920" cy="457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безпечення працівників стабільними дох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табільність змісту роботи (суворе дотримання встановлених класифікацій робіт і їхньої відповідності тарифікації працівникі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562720"/>
            <a:ext cx="83059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безпечення безпеки роботи (дотримання техніки безпеки на робочому місці, регулювання режиму робо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нучкість ринку праці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371600"/>
            <a:ext cx="518184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Cambria"/>
              </a:rPr>
              <a:t>комплекс заходів соціально-економічного, виробничого та юридичного характеру для пристосування діяльності підприємства до мінливих умов господарюванн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2695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7617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итрати на робочу силу підприє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523880"/>
            <a:ext cx="861048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1) витрати на наймання працівників (оплата послуг з наймання, оплата послуг із розміщення оголошень тощ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666880"/>
            <a:ext cx="861048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2) витрати на утримання найнятих працівни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657600"/>
            <a:ext cx="861048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3) витрати, пов’язані із звільненням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стандартні режими робочого ча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неповний робочий час і його різновиди (скорочений робочий тиждень, альтернативний робочий час, поділ одного робочого місця між кількома працівник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гнучкий робочий рі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тиснутий робочий тижд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графіки гнучкого робочого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домна (дистанційна) робот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1371600"/>
            <a:ext cx="48006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ака форма організації праці, коли робота виконується працівником за місцем його проживання чи в іншому місці за його вибором, у т. ч. за допомогою інформаційно-комунікаційних технологій, але поза приміщенням роботодав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9440" y="2514600"/>
            <a:ext cx="32781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04920"/>
            <a:ext cx="8305920" cy="533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Види географічної мобільност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в залежності від тривалості мобільності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незворотна (постійна) та зворотна міграці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7620120" cy="457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мірою легальності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легальна і нелегаль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438280"/>
            <a:ext cx="7620120" cy="1295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ступенем організованості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організована (за рішенням державних і місцевих органів); неорганізована (за рішенням особи); вимушена (міграція у зв’язку з переїздом іншого члена сім’ї, у зв’язку з відсутністю робо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2952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2952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2004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886200"/>
            <a:ext cx="7620120" cy="457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межами міграційних потоків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внутрішня і зовніш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495680"/>
            <a:ext cx="762012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напрямами міграційних потоків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типу «село-місто», «місто-село», «село-село», «місто-міст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410080"/>
            <a:ext cx="7620120" cy="1067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тривалістю міграції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довгострокова (до кількох років), короткострокова (від 3-х місяців до 1 року), сезонна (до 3 місяців), вахтова (до 1 місяця), маятникові (щоденн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838080"/>
            <a:ext cx="0" cy="5105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148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8769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943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4-12T23:38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