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43A-535C-41EE-9A43-2E192A2C22C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AA06-79E9-4642-95AE-A1CED8752CD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93A0-69DA-4DA7-B88C-98A2230BB5A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4E28-112B-4804-BE65-ACC8F492B14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9FE-71BA-45BA-BB6F-9BADD929971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EE0-2778-43C7-892A-A7072874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F52-9BE8-4D5D-A3C5-2FAFC5B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2F106-6CE7-495D-A3AE-05F743DE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B958A-DF5C-48D1-A9F6-135B052C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45F6-58ED-42D0-96DE-F88035F9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9E461-5B77-4B61-A10F-B797FE50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450D7-F6D6-4E39-A027-EC7DB4A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81782-957E-4FEA-AF2C-2D05C22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325D6-0B8A-474C-B050-618A7495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8764F-32A7-43A0-8B1E-28E244EA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8F1A0-F4A2-4DFB-A2A2-B5E036B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E3E-67C1-41DB-814D-92ACD7CC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D70-6139-407B-9426-4C9C448A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B23E-E902-4B24-AFFC-0973F0E1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44DF-1707-428C-8082-3A0D22C9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DC9D-CE38-4AFB-BB0D-EE48E42C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3DE-147C-4296-8927-643D625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C29B-9218-4C3A-BF75-ABB54E15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E8D5-6108-4448-B95C-687722B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3A6-7549-4C08-AAFB-E819E9D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00F-7580-4BB3-9465-03F026B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EA30-70EC-4855-90FE-187504A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72E9-1310-47F9-8E6C-BAC61B1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92DC-959C-4FEF-B64F-2D1382D1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3CE-2EE0-4E49-B55C-BA10B9F3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4498-3529-4BB2-826B-0DC798AD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5A99-F9D5-4471-95A1-3C4FBADD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FED0-BB5B-4D0B-9773-5FBD2498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9397-1ABB-4E27-8CED-1A80DB71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2A93-F6B4-43FA-A089-12B03BAE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C258-1BCD-4C4D-9CDC-CD4EA468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665-DE5F-4D5F-9C88-D11FE60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971F-B127-4A9C-A9E7-D06438FA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7EC3-4433-4994-AB7E-3B07B08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2E7B-3E40-43DA-860C-C7F6BA73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6F7C-5101-48D9-A1B0-2BEA266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BDB0-F07B-4E06-A1A2-C379D4A5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8169-A0FE-4CE4-84F2-2BAD926E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33D3-878C-4EA1-B56E-BAA05C2E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8104-AFB9-4516-A0DB-D953101F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029BD-3DF2-4687-8BFF-54A2C0DD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A9C8-B0AF-46FF-88D1-B4DDFBAE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F03-8F99-41B0-AA36-B5E40204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6718-1730-4859-A110-4191C41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3854-4DA6-400E-B048-54DEC6A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4B74-52B7-49FB-831C-27E9A73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ED39-AFF9-4BCE-A61E-1046957A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7F9C-2E4C-4958-9EB5-E32CBE3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CEB2-5601-497E-A3C1-92209E27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5DA1-FF32-4DD1-8BD6-DBA70A98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9E5A-0065-491F-8B38-4C11F7DB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F7E4B-F26E-4693-96FD-E9E96E6E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9D11-F529-41ED-8AF3-4D8E5D76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865-0BDC-47CD-8EE9-D79933FA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E2A4-D449-4BB5-8EF8-57025D36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E41A-A065-427F-B39B-052BCB53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09EE-46E2-4005-974F-73A479DE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291BD-58DF-4361-92AC-6709B73B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7C69A-55B5-4C6F-AFC2-7F124AF2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D7B9-4D9B-4931-A25A-4F7D62E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D309-65E9-4CD0-8D10-E9770C36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4881-944E-4E14-AC87-289D6C13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4E58-7AD3-4D94-9AA1-FE11D6A1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3358-3FBD-4756-A8C8-6DF204CB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BDE-9ED0-42F2-82F3-D128AC38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D3024-3E48-4E2B-BE95-7821A9D7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84D04-ECA3-447D-90F9-EE74228F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BB15-D259-44AF-A6D3-6D3D015E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DB1B-771E-41A5-934B-AB1BD50C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BBE9-BC68-4C32-9FFB-031BE670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368D-B384-42F9-8908-E018D16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4F8E5-1443-488C-9184-379D0E6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43A76-6B1F-4124-B457-2D2212AE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8A01-736C-4484-8A7A-89FD7A4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A394C-8EFD-4513-9BD7-877E7B33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E89-F4A6-452E-A76D-33C35C03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2B76-7799-47EA-9ED3-F6E01FAE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59097-E038-42ED-AD8B-83D10C61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C7D8-B0C4-4612-941B-E66DC1B0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16BA-C0BA-4769-9237-7E18F1EF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A64A-4803-42B6-8A23-9C98725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6B51E-8E33-4A02-8F25-68E67E48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BCB8-6EDE-467E-A055-2FA0925B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A530-67CC-440D-B8DB-3CEC538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112CF-3C46-4DA9-B83C-D5DF7A97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38309-3BCC-4607-9C88-8BECAB6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743-1763-489E-8BA4-42D2B94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D9B82-C26D-4BC3-B015-3BDED7F8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5C7F-D1AC-4E4D-97BF-EC6567F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1C30-C421-4877-9516-0B18F37B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56BE-C323-45FF-B334-ACF28E4E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3D298-5947-4A5E-838A-C420E707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C4A16-FDA0-4247-A94C-D067AD04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568A0-AE06-4A66-AC17-F03955B6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5231D-4C4B-4B83-B59D-D68DE01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872D5-5FC1-4763-A64B-63CF829C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0C59-D9C9-4C3E-A8E8-C43C0AB9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0B7-EB8C-4D93-A7BC-A69A76FC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20810-5A5B-4461-A0B2-B879F11F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82F14-3C52-433B-9A94-8703D6B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1FF2C-AE3D-4653-949E-49DC9685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D2168-B16E-4954-8D85-DAEAD61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B58BE-C434-43FB-B46E-73DA1941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F9E64-BEBB-40B9-8897-5C164C60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E3077-AFCB-469B-8014-97721F63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C7FBD-3379-4A5E-AFE7-DF096D9C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09ED3-265B-414C-9668-6EC3512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21E11-7D51-4ED5-8B0C-A0CEEC8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8A0-124B-4952-BBEA-6688985145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CB52-7059-4B4F-A403-8EDE34A98E0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0354-7723-4B86-BA77-5A6E5B22AD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67A6-06F1-4554-A45E-ACC79A9EF55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8EEC-1D7C-40B2-9B6B-00D4C144E4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456E-3B12-440A-A407-E9AAC7933D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2A3C-2D37-42D0-864A-1885C16FEE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0B4-AA90-4707-B847-F52270C6ED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4C33-F562-44B7-A142-62A7F3DD7E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9680" y="450720"/>
            <a:ext cx="8802720" cy="3249720"/>
          </a:xfrm>
          <a:prstGeom prst="rect">
            <a:avLst/>
          </a:prstGeom>
          <a:ln w="0">
            <a:noFill/>
          </a:ln>
        </p:spPr>
      </p:pic>
      <p:pic>
        <p:nvPicPr>
          <p:cNvPr id="407" name="Содержимое 2" descr=""/>
          <p:cNvPicPr/>
          <p:nvPr/>
        </p:nvPicPr>
        <p:blipFill>
          <a:blip r:embed="rId2"/>
          <a:stretch/>
        </p:blipFill>
        <p:spPr>
          <a:xfrm>
            <a:off x="304920" y="3517920"/>
            <a:ext cx="8692920" cy="29862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428760" y="285840"/>
            <a:ext cx="85723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неокласика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виросла з </a:t>
            </a:r>
            <a:r>
              <a:rPr b="1" lang="uk-UA" sz="2200" spc="-1" strike="noStrike">
                <a:solidFill>
                  <a:srgbClr val="00b0f0"/>
                </a:solidFill>
                <a:latin typeface="Arial"/>
              </a:rPr>
              <a:t>маргіналізму,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то  вона має з своїм раннім етапом такі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Принцип оптимізації, що тісно пов'язаний з ідеєю повної раціональності поведінки економічних суб’єктів (концепція – homo economicu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Методологічний індивідуаліз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Привнесення в економічну теорію суб’єктивізму і психологізм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4. Наголос на функціональному, а не на причинно-наслідковому, методі аналі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5. Сприйняття економіки як системи рівнова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Проте, трансформуючись у неокласику, маргіналізм </a:t>
            </a:r>
            <a:r>
              <a:rPr b="1" i="1" lang="uk-UA" sz="2200" spc="-1" strike="noStrike">
                <a:solidFill>
                  <a:srgbClr val="ff0000"/>
                </a:solidFill>
                <a:latin typeface="Arial"/>
              </a:rPr>
              <a:t>втратив деякі свої суттєві риси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, зокрема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1. Надмірний акцент на сфері споживання та нехтування сферою виробниц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2. пояснення теорії цінності як основної проблеми економічної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3. Надмірний психологізм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95120" y="414360"/>
            <a:ext cx="8802720" cy="111600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4" descr="1050751.jpg"/>
          <p:cNvPicPr/>
          <p:nvPr/>
        </p:nvPicPr>
        <p:blipFill>
          <a:blip r:embed="rId2"/>
          <a:stretch/>
        </p:blipFill>
        <p:spPr>
          <a:xfrm>
            <a:off x="500040" y="1500120"/>
            <a:ext cx="2286000" cy="346716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Documents and Settings\Admin\Рабочий стол\f33e80ac9cb1fece3a8c2ea87a08ae8c_180x0.jpg"/>
          <p:cNvPicPr/>
          <p:nvPr/>
        </p:nvPicPr>
        <p:blipFill>
          <a:blip r:embed="rId3"/>
          <a:stretch/>
        </p:blipFill>
        <p:spPr>
          <a:xfrm>
            <a:off x="3071880" y="1500120"/>
            <a:ext cx="2786040" cy="3552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C:\Documents and Settings\Admin\Рабочий стол\01-01-1920.jpg"/>
          <p:cNvPicPr/>
          <p:nvPr/>
        </p:nvPicPr>
        <p:blipFill>
          <a:blip r:embed="rId4"/>
          <a:stretch/>
        </p:blipFill>
        <p:spPr>
          <a:xfrm>
            <a:off x="6072120" y="1500120"/>
            <a:ext cx="2500560" cy="3537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6"/>
          <p:cNvSpPr/>
          <p:nvPr/>
        </p:nvSpPr>
        <p:spPr>
          <a:xfrm>
            <a:off x="500040" y="52149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л Менґ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40-19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6072120" y="521496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ідріх фон Ві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851-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3143160" y="52149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йґен Бем-Бав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51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4"/>
          <p:cNvSpPr/>
          <p:nvPr/>
        </p:nvSpPr>
        <p:spPr>
          <a:xfrm>
            <a:off x="428760" y="58680"/>
            <a:ext cx="821520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Методологічні засади австрійського маргіналізму у порівнянні з іншими школами мають певні особливост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Надмірний наголос на суб’єктивізмі та психологізм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Значний акцент на сфері споживання і нехтування сферою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Дотримання принципу «вихідної категорії», характерного для класичної політичної економ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. Розуміння економічної науки як такої, що досліджує причинно-наслідкові, а не функціональні зв’я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.Перевага якісного характеру економічного аналізу та нехтування графічними та алгебраїчними методами аналі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. Погляд на економічні феномени як на результат спонтанних ді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. Відмова від погляду на господарство як на систему рівноваги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1555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економічного блага.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Річ набуває рис блага за таких умов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певної потреби людин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явність в даної речі потенційних властивостей, що дозволяють їй задовольнити цю потребу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знання людини щодо потенційних властивостей речі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володіння річчю, що дозволяє використовувати перелічені властивос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1"/>
          <p:cNvSpPr/>
          <p:nvPr/>
        </p:nvSpPr>
        <p:spPr>
          <a:xfrm>
            <a:off x="142920" y="428760"/>
            <a:ext cx="8715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Концепція суб'єктивної ціннос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Суб'єктивна цінність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– це значення, яке має для індивіда дане благо.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не є об'єктивною властивістю речі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b0f0"/>
                </a:solidFill>
                <a:latin typeface="Arial"/>
                <a:ea typeface="Arial"/>
              </a:rPr>
              <a:t>Цінність – це оцінка блага індивідом.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 Тому одне й те ж саме благо може мати різну цінність для різних індивід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еобхідними умовами для володіння благом є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) його корисність для даного індиві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б) рідкісні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  <a:ea typeface="Arial"/>
              </a:rPr>
              <a:t>Суб'єктивна цінність блага визначається корисністю останньої одиниці спожитого бла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285840" y="928800"/>
          <a:ext cx="8643960" cy="5808600"/>
        </p:xfrm>
        <a:graphic>
          <a:graphicData uri="http://schemas.openxmlformats.org/drawingml/2006/table">
            <a:tbl>
              <a:tblPr/>
              <a:tblGrid>
                <a:gridCol w="1977840"/>
                <a:gridCol w="594000"/>
                <a:gridCol w="504720"/>
                <a:gridCol w="658800"/>
                <a:gridCol w="587160"/>
                <a:gridCol w="658800"/>
                <a:gridCol w="586080"/>
                <a:gridCol w="658800"/>
                <a:gridCol w="585720"/>
                <a:gridCol w="512640"/>
                <a:gridCol w="1319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пожиті одиниц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 ї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І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ютю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р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ре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етве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'я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Ш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ь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с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в'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ся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мські цифри – конкретні види бла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абські цифри – кількісне значення корисності блага для індиві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2"/>
          <p:cNvSpPr/>
          <p:nvPr/>
        </p:nvSpPr>
        <p:spPr>
          <a:xfrm>
            <a:off x="1357200" y="28584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БЛИЦЯ МЕНГ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024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3568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На початку 70-х рр. ХІХ ст. відбулась так звана «маргіналістична революція», яка була провісником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неокласичної парадигм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в економічній науц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Майже одночасно і незалежно одна від одної різними мовами відразу у трьох країнах – Австрії, Великій Британії  та Швейцарії з’явилися написані на основі теорії граничної корисності праці </a:t>
            </a:r>
            <a:r>
              <a:rPr b="1" lang="uk-UA" sz="2000" spc="-1" strike="noStrike">
                <a:solidFill>
                  <a:srgbClr val="0070c0"/>
                </a:solidFill>
                <a:latin typeface="Arial"/>
                <a:ea typeface="Arial"/>
              </a:rPr>
              <a:t>Карла Менгера, Вільяма Стенлі Джевонса та Леона Вальраса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зм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був своєрідною реакцією на теорію цінності класичної школи. Згідно класичних теорій цінності (трудової теорії цінності, теорії трьох факторів виробництва) цінність блага визначається майже виключно </a:t>
            </a:r>
            <a:r>
              <a:rPr b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об’єктивними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 факторами – витратами виробництва. Натомість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  <a:ea typeface="Arial"/>
              </a:rPr>
              <a:t>маргіналісти </a:t>
            </a:r>
            <a:r>
              <a:rPr b="1" lang="uk-UA" sz="2000" spc="-1" strike="noStrike">
                <a:solidFill>
                  <a:srgbClr val="4e3b30"/>
                </a:solidFill>
                <a:latin typeface="Arial"/>
                <a:ea typeface="Arial"/>
              </a:rPr>
              <a:t>зосередились на вивченні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  <a:ea typeface="Arial"/>
              </a:rPr>
              <a:t>суб’єктивних факторів цінності – уподобаннях окремої людин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285840" y="219240"/>
          <a:ext cx="8643960" cy="63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9240"/>
                    <a:ext cx="8643960" cy="63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1"/>
          <p:cNvSpPr/>
          <p:nvPr/>
        </p:nvSpPr>
        <p:spPr>
          <a:xfrm>
            <a:off x="500040" y="357120"/>
            <a:ext cx="842976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Маргіналістична революція окреслює </a:t>
            </a:r>
            <a:r>
              <a:rPr b="1" lang="uk-UA" sz="2200" spc="-1" strike="noStrike">
                <a:solidFill>
                  <a:srgbClr val="ff0000"/>
                </a:solidFill>
                <a:latin typeface="Arial"/>
                <a:ea typeface="Arial"/>
              </a:rPr>
              <a:t>перший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Arial"/>
              </a:rPr>
              <a:t> або ранній етап становлення неокласики, який ще називають маргіналізмом у вузькому розумін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Він має такі основні ри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1. Предмет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Зміщення акцентів з сфери виробництва на сферу спож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2. Методи економічного аналізу. </a:t>
            </a:r>
            <a:r>
              <a:rPr b="1" i="1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Абстрактно-дедуктивний та заміна причинно-наслідкового аналізу функціональни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що відкрило двері для використання в економічній науці математичних метод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357120" y="571680"/>
            <a:ext cx="8501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Широке запровадження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граничних величин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(«маргіналізм» від латинського margo – межа, границя) та </a:t>
            </a:r>
            <a:r>
              <a:rPr b="0" lang="uk-UA" sz="3200" spc="-1" strike="noStrike">
                <a:solidFill>
                  <a:srgbClr val="00b0f0"/>
                </a:solidFill>
                <a:latin typeface="Arial"/>
                <a:ea typeface="Arial"/>
              </a:rPr>
              <a:t>диференційного числе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Зосередження уваги на зміні певної величини, за умови що друга змінилася на одиниц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4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Суб’єктивіз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–  дослідження економічних явищ з точки зору окремого суб’єкту господарювання. Маргіналізм  часто називають суб’єктивною школою економі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285840" y="357120"/>
            <a:ext cx="857232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5. Методологічний індивідуалізм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виведення закономірностей функціонування господарства в цілому із поведінки окремо взятого суб’єкту господарювання.</a:t>
            </a:r>
            <a:r>
              <a:rPr b="1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6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Наголос на дослідженні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використання обмежених ресурсів з метою задоволення потреб людини в окреслений проміжок часу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Сприйняття ринкової системи як </a:t>
            </a:r>
            <a:r>
              <a:rPr b="0" i="1" lang="uk-UA" sz="3000" spc="-1" strike="noStrike">
                <a:solidFill>
                  <a:srgbClr val="00b0f0"/>
                </a:solidFill>
                <a:latin typeface="Arial"/>
                <a:ea typeface="Arial"/>
              </a:rPr>
              <a:t>системи рівноваги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Arial"/>
              </a:rPr>
              <a:t>(крім австрійської школи), яка базується на раціональній поведінці людини (концепції homo economic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2"/>
          <p:cNvSpPr/>
          <p:nvPr/>
        </p:nvSpPr>
        <p:spPr>
          <a:xfrm>
            <a:off x="642960" y="14292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критика класиків представниками маргіналізму дещо пом’якшується і у процесі його еволюції він запозичує певні елементи класичної політичної економ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На 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  <a:ea typeface="Arial"/>
              </a:rPr>
              <a:t>другому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або пізньому етапі (80-90-і рр. ХІХ ст.) маргіналізм зусиллями американ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Джона Бейтса Кларка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, швейцар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Вільфредо Парето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і особливо англійця </a:t>
            </a:r>
            <a:r>
              <a:rPr b="1" lang="uk-UA" sz="2800" spc="-1" strike="noStrike">
                <a:solidFill>
                  <a:srgbClr val="0070c0"/>
                </a:solidFill>
                <a:latin typeface="Arial"/>
                <a:ea typeface="Arial"/>
              </a:rPr>
              <a:t>Альфреда Маршалла </a:t>
            </a:r>
            <a:r>
              <a:rPr b="1" lang="uk-UA" sz="2800" spc="-1" strike="noStrike">
                <a:solidFill>
                  <a:srgbClr val="4e3b30"/>
                </a:solidFill>
                <a:latin typeface="Arial"/>
                <a:ea typeface="Arial"/>
              </a:rPr>
              <a:t>поступово трансформується в неокласичну школу (маргіналізм у широкому розумінні), яка стає провідною парадигмою в економічній науці на довгі десяти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571680" y="500040"/>
            <a:ext cx="8286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f0"/>
                </a:solidFill>
                <a:latin typeface="Arial"/>
              </a:rPr>
              <a:t>Неокласична школа і класична політична економія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ють так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спільні риси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Погляд на економічну теорію як на науку універсальну, що має абстрактно-дедуктивн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Концепція людини економічної –  homo economi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Недооцінка ролі грошей та ігнорування впливу їх кількості на реальні господарські проце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. Заперечення криз перевиробництва та певне нехтування проблемами макроекономі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. Принцип економічної політики – доктрина laissez faire та заперечення необхідності втручання держави в економ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500040" y="21420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новними </a:t>
            </a: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розбіжностями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між </a:t>
            </a:r>
            <a:r>
              <a:rPr b="1" lang="uk-UA" sz="3200" spc="-1" strike="noStrike">
                <a:solidFill>
                  <a:srgbClr val="00b0f0"/>
                </a:solidFill>
                <a:latin typeface="Arial"/>
              </a:rPr>
              <a:t>класиками і неокласиками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є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гнорування останніми теорії цінності як основної проблеми економічної наук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дмова від аналізу економічного зростання і динаміки розподілу доход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ogoby4</cp:lastModifiedBy>
  <dcterms:modified xsi:type="dcterms:W3CDTF">2016-10-05T19:04:45Z</dcterms:modified>
  <cp:revision>74</cp:revision>
  <dc:subject/>
  <dc:title>ІСТОРІЯ ЕКОНОМІКИ  ТА ЕКОНОМІЧНОЇ ДУМКИ</dc:title>
</cp:coreProperties>
</file>