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77E8-E38D-4BE8-9223-D6126304EA1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1748-4387-4608-ACAE-3FB53052166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15FB-119A-4A07-ABD4-EA63D9BD137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3A63-7E29-4E1C-A4B0-8534F6A5D9B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BA96-26A9-4A89-B269-C30D57B60CF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FC0-5200-4DFC-8A4A-97671A60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9C4-6A05-4CB7-BD7E-3A03F9FB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C7533-1DF4-47EC-A11F-B4D97E4E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15EEA-9593-4248-B2E7-BE5A7B48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4C724-70F4-4914-AAA1-9439087D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CB8E6-A466-4412-90A4-A9D26420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B73FC-9C7A-4C9E-9EF8-35D37998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1A22C-904E-4317-896D-81A0E7E6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49C44-4926-4244-AF43-8C247496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B42F5-8F7C-44B8-AA7C-095B7B12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184BE-C6DA-4084-8A16-1860466C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9FE-DC27-4F3A-BC32-4FBF1DD9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393-67A8-45E0-B7C1-61DB609E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9885-BEFD-4AFE-8BC6-6D49E561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25A9-3424-4B70-A788-C8A19511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C475-843D-409D-AE1D-6EF15C3D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411C-F60E-4699-94FD-F77A1314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D57D-128E-4FA5-867E-29A70957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E925-C62F-451F-848E-05F4FEB2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6D38-C204-46FF-A3DD-7E82891B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4B4-3189-4777-81C6-ED23A1A0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954A-D676-4A3D-8914-5EDAB28D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85C1-CF91-4F35-A071-0ECE71D7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2817-BA59-44B4-8EE5-AD93A7BB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370D-3998-48A1-982F-F75E6C96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77CD-785B-4C44-9E2C-F1DF89B1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D3F66-B95B-45C2-B906-F8E59E7F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1D791-C486-4090-A72A-FF4F863D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39E18-D5E6-4148-889F-51C11248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8B96E-0224-4C42-BC37-3473ECF4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6D11D-3B5E-4CEC-9CC3-2293E2DB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D95-A716-4608-B7B7-180B598C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BCD7A-FF37-4365-9300-0A6FF260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02E6A-47D3-4047-96E8-952D08E7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90D23-1BE6-4C94-94A7-3A544DAC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1D9A8-2987-4246-896D-B4A07FAC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F204F-B51B-44B8-B4C6-FED19FDD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440D-4DE0-4110-9B92-30C93DDC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73724-A85B-4FF1-B9EB-24226553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5F8F1-CB4D-4A78-A978-DA542C6B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95347-3E09-4891-A52B-3F5FE731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49846-44D8-4A6A-8915-B07DAA23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A6A-87ED-42DC-BBC7-031B2751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0C426-A1AF-4D84-8A5B-AED10EE2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68ED-49ED-47A0-B6D3-5CD54346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06359-17BD-4206-ACCD-C0FC9F1B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45CD9-F2A9-471C-8DB0-3FD3CED5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B574D-DEDB-4255-9F45-4B925F92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6D9F6-3991-4FDB-AF9F-03CE3F03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ADFBE-0084-45A5-91B5-316BAE1E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21E5F-FEE3-4544-BD15-967F16E8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89584-D66B-46DB-83D6-11A2D23B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EC051-48B6-4653-ABF2-AC6EEDD6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BA5-F26F-47C6-8C26-B51CD2C2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4AEE0-C5D8-4AD8-92AA-3E7143DB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F067D-48F0-4C0B-ABA0-A975CBAE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5E00A-FF16-4B8D-BD2F-A5ABE0C2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82A20-F76E-451C-A764-063ED7C4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DC74D-B5F6-47E8-A4C1-2E9BEF67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80E67-BAC6-4497-9AE2-284A664A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13B01-82FE-4696-9BE9-75912E8F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86187-7158-48BF-8501-8E75F107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9CEA1-AB28-4C97-B9ED-02E92B0A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E9F12-C10E-41E5-B502-E75C6BBE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BDE-46B9-4A6B-B4FB-4DD3D744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F43AC-C2B4-4F6C-908E-EE8190F1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A4E49-3250-4CE5-A5B1-D5DFC78E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A5C46-9951-41FF-8167-E6B8E7BE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47BBD-833F-4C06-87D7-4D1FA6CE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A12C0-2F2D-4BFC-BAA4-F1B3B06A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FBC84-9CFA-47B7-B529-4A24A080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3C848-9921-4895-AB98-678F68D9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996FA-5B87-4104-BB97-AA7FB2A9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DFE06-49C4-4463-9A38-F70E662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313EC-EC37-4227-8FFA-FB4BBE82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9CC-8DAA-483C-A689-F742104D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52650-6E65-4176-88DE-1C2B4618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6B0F9-32D6-43D7-812E-03B37FEB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44E7E-D006-4D1E-8AE0-FBCB3101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17CC4-4EFD-49AE-9A18-0C364EA4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8E7B8-2540-421C-8133-204EEB77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25F04-3CC9-4649-8B8E-AC05D5B3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04818-D6EB-45BA-A2F4-5CA97B82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6E761-3BE2-42D3-9A33-5FEF4AB8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CFBC8-BBDD-455A-92CD-0D98A896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3E6F7-DBB4-4B9E-9EA7-0DA55E46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421-A8EA-48E3-A79B-5C5CC867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E27EF-AD77-401F-812E-D33B06CD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DDC64-36FD-4036-8F62-028E8BAB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13A46-B5B6-43DF-9D5A-64600324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7FFD7-0AEF-425B-9AC0-B9818B80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A3443-2D79-40CC-9819-2B44B740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893C5-DCB2-4D2C-8594-71CE2986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B2DA2-B4ED-499D-9A4C-F416BF48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1660D-C368-4EC3-AA8A-EAA33723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E6287-B547-482D-9EDE-34A7D96D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1A550-4011-4E83-907E-24576A9B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438-1916-4BE9-8B37-4D0B4BA5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14100-5336-4D5F-833E-B445E027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16C86-357B-416E-B9FC-9CAC8327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8196B-446F-4A3C-9429-CA3FF17D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247C2-D47A-46BD-98A9-ACAEEB3C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0ED64-8210-44DC-BD75-86A91EFD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BCB16-5F52-4737-9F9C-2D7C4056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54F6F-5B1C-4446-9D1A-16E6A9C3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45509-AE02-45E6-B176-0B7A3300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AB42C-7D46-433B-9217-BA15E58B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847CF-4023-4E0F-A063-53D89DBF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1096-65B4-4EFA-8B6B-5DDAFE32EB4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A6A3-D053-4E90-9651-5880D037094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1E3B-91EA-4B77-AFC2-2BF513487A3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4FC7-CFCD-40D2-AA52-915CE2A738F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77D2-F7F9-4F57-A86A-71C5EBFB556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35EE-C9D4-4BC2-B971-ABE1AB71E3F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BF9B-BF4C-4BA7-B4E7-826A0E52E5B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0AB7-F35B-4E76-9905-F736468A2A2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6ADE-E9B5-4F73-BB53-80C5ED71116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39680" y="450720"/>
            <a:ext cx="8802720" cy="3249720"/>
          </a:xfrm>
          <a:prstGeom prst="rect">
            <a:avLst/>
          </a:prstGeom>
          <a:ln w="0">
            <a:noFill/>
          </a:ln>
        </p:spPr>
      </p:pic>
      <p:pic>
        <p:nvPicPr>
          <p:cNvPr id="407" name="Содержимое 2" descr=""/>
          <p:cNvPicPr/>
          <p:nvPr/>
        </p:nvPicPr>
        <p:blipFill>
          <a:blip r:embed="rId2"/>
          <a:stretch/>
        </p:blipFill>
        <p:spPr>
          <a:xfrm>
            <a:off x="304920" y="3517920"/>
            <a:ext cx="8692920" cy="29862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1"/>
          <p:cNvSpPr/>
          <p:nvPr/>
        </p:nvSpPr>
        <p:spPr>
          <a:xfrm>
            <a:off x="428760" y="285840"/>
            <a:ext cx="85723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Оскільки </a:t>
            </a:r>
            <a:r>
              <a:rPr b="1" lang="uk-UA" sz="2200" spc="-1" strike="noStrike">
                <a:solidFill>
                  <a:srgbClr val="00b0f0"/>
                </a:solidFill>
                <a:latin typeface="Arial"/>
              </a:rPr>
              <a:t>неокласика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виросла з </a:t>
            </a:r>
            <a:r>
              <a:rPr b="1" lang="uk-UA" sz="2200" spc="-1" strike="noStrike">
                <a:solidFill>
                  <a:srgbClr val="00b0f0"/>
                </a:solidFill>
                <a:latin typeface="Arial"/>
              </a:rPr>
              <a:t>маргіналізму,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то  вона має з своїм раннім етапом такі </a:t>
            </a:r>
            <a:r>
              <a:rPr b="1" i="1" lang="uk-UA" sz="2200" spc="-1" strike="noStrike">
                <a:solidFill>
                  <a:srgbClr val="ff0000"/>
                </a:solidFill>
                <a:latin typeface="Arial"/>
              </a:rPr>
              <a:t>спільні риси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1. Принцип оптимізації, що тісно пов'язаний з ідеєю повної раціональності поведінки економічних суб’єктів (концепція – homo economicu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2. Методологічний індивідуаліз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3. Привнесення в економічну теорію суб’єктивізму і психологіз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4. Наголос на функціональному, а не на причинно-наслідковому, методі аналі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5. Сприйняття економіки як системи рівноваг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Проте, трансформуючись у неокласику, маргіналізм </a:t>
            </a:r>
            <a:r>
              <a:rPr b="1" i="1" lang="uk-UA" sz="2200" spc="-1" strike="noStrike">
                <a:solidFill>
                  <a:srgbClr val="ff0000"/>
                </a:solidFill>
                <a:latin typeface="Arial"/>
              </a:rPr>
              <a:t>втратив деякі свої суттєві риси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, зокрема: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1. Надмірний акцент на сфері споживання та нехтування сферою виробниц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2. пояснення теорії цінності як основної проблеми економічної нау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3. Надмірний психологізм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95120" y="414360"/>
            <a:ext cx="8802720" cy="111600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4" descr="1050751.jpg"/>
          <p:cNvPicPr/>
          <p:nvPr/>
        </p:nvPicPr>
        <p:blipFill>
          <a:blip r:embed="rId2"/>
          <a:stretch/>
        </p:blipFill>
        <p:spPr>
          <a:xfrm>
            <a:off x="500040" y="1500120"/>
            <a:ext cx="2286000" cy="346716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C:\Documents and Settings\Admin\Рабочий стол\f33e80ac9cb1fece3a8c2ea87a08ae8c_180x0.jpg"/>
          <p:cNvPicPr/>
          <p:nvPr/>
        </p:nvPicPr>
        <p:blipFill>
          <a:blip r:embed="rId3"/>
          <a:stretch/>
        </p:blipFill>
        <p:spPr>
          <a:xfrm>
            <a:off x="3071880" y="1500120"/>
            <a:ext cx="2786040" cy="3552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Documents and Settings\Admin\Рабочий стол\01-01-1920.jpg"/>
          <p:cNvPicPr/>
          <p:nvPr/>
        </p:nvPicPr>
        <p:blipFill>
          <a:blip r:embed="rId4"/>
          <a:stretch/>
        </p:blipFill>
        <p:spPr>
          <a:xfrm>
            <a:off x="6072120" y="1500120"/>
            <a:ext cx="2500560" cy="35370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6"/>
          <p:cNvSpPr/>
          <p:nvPr/>
        </p:nvSpPr>
        <p:spPr>
          <a:xfrm>
            <a:off x="500040" y="52149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л Менґ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40-192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7"/>
          <p:cNvSpPr/>
          <p:nvPr/>
        </p:nvSpPr>
        <p:spPr>
          <a:xfrm>
            <a:off x="6072120" y="521496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рідріх фон Віз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851-19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8"/>
          <p:cNvSpPr/>
          <p:nvPr/>
        </p:nvSpPr>
        <p:spPr>
          <a:xfrm>
            <a:off x="3143160" y="52149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йґен Бем-Бав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51-19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рямоугольник 4"/>
          <p:cNvSpPr/>
          <p:nvPr/>
        </p:nvSpPr>
        <p:spPr>
          <a:xfrm>
            <a:off x="428760" y="58680"/>
            <a:ext cx="821520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Методологічні засади австрійського маргіналізму у порівнянні з іншими школами мають певні особливост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Надмірний наголос на суб’єктивізмі та психологізм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Значний акцент на сфері споживання і нехтування сферою виробниц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Дотримання принципу «вихідної категорії», характерного для класичної політичної економ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Розуміння економічної науки як такої, що досліджує причинно-наслідкові, а не функціональні зв’я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.Перевага якісного характеру економічного аналізу та нехтування графічними та алгебраїчними методами аналі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. Погляд на економічні феномени як на результат спонтанних д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. Відмова від погляду на господарство як на систему рівноваги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17280" cy="1555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3760"/>
            <a:ext cx="86868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Концепція економічного блага.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Річ набуває рис блага за таких умов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наявність певної потреби людин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наявність в даної речі потенційних властивостей, що дозволяють їй задовольнити цю потребу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знання людини щодо потенційних властивостей речі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володіння річчю, що дозволяє використовувати перелічені властивості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1"/>
          <p:cNvSpPr/>
          <p:nvPr/>
        </p:nvSpPr>
        <p:spPr>
          <a:xfrm>
            <a:off x="142920" y="428760"/>
            <a:ext cx="871524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Концепція суб'єктивної цінност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f0"/>
                </a:solidFill>
                <a:latin typeface="Arial"/>
                <a:ea typeface="Arial"/>
              </a:rPr>
              <a:t>Суб'єктивна цінність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– це значення, яке має для індивіда дане благо. </a:t>
            </a:r>
            <a:r>
              <a:rPr b="1" lang="uk-UA" sz="2800" spc="-1" strike="noStrike">
                <a:solidFill>
                  <a:srgbClr val="00b0f0"/>
                </a:solidFill>
                <a:latin typeface="Arial"/>
                <a:ea typeface="Arial"/>
              </a:rPr>
              <a:t>Цінність не є об'єктивною властивістю речі.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1" lang="uk-UA" sz="2800" spc="-1" strike="noStrike">
                <a:solidFill>
                  <a:srgbClr val="00b0f0"/>
                </a:solidFill>
                <a:latin typeface="Arial"/>
                <a:ea typeface="Arial"/>
              </a:rPr>
              <a:t>Цінність – це оцінка блага індивідом.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 Тому одне й те ж саме благо може мати різну цінність для різних індивід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Необхідними умовами для володіння благом є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а) його корисність для даного індиві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б) рідкісні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Суб'єктивна цінність блага визначається корисністю останньої одиниці спожитого бла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285840" y="928800"/>
          <a:ext cx="8643960" cy="5808600"/>
        </p:xfrm>
        <a:graphic>
          <a:graphicData uri="http://schemas.openxmlformats.org/drawingml/2006/table">
            <a:tbl>
              <a:tblPr/>
              <a:tblGrid>
                <a:gridCol w="1977840"/>
                <a:gridCol w="594000"/>
                <a:gridCol w="504720"/>
                <a:gridCol w="658800"/>
                <a:gridCol w="587160"/>
                <a:gridCol w="658800"/>
                <a:gridCol w="586080"/>
                <a:gridCol w="658800"/>
                <a:gridCol w="585720"/>
                <a:gridCol w="512640"/>
                <a:gridCol w="1319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Спожиті одини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І ї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І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ІІ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ютю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ер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р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ре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етве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'я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Ш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ь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ось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ев'я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еся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имські цифри – конкретні види бла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рабські цифри – кількісне значення корисності блага для індиві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4" name="TextBox 2"/>
          <p:cNvSpPr/>
          <p:nvPr/>
        </p:nvSpPr>
        <p:spPr>
          <a:xfrm>
            <a:off x="1357200" y="28584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АБЛИЦЯ МЕНГ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10242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3568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На початку 70-х рр. ХІХ ст. відбулась так звана «маргіналістична революція», яка була провісником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неокласичної парадигми 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в економічній науці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Майже одночасно і незалежно одна від одної різними мовами відразу у трьох країнах – Австрії, Великій Британії  та Швейцарії з’явилися написані на основі теорії граничної корисності праці </a:t>
            </a:r>
            <a:r>
              <a:rPr b="1" lang="uk-UA" sz="2000" spc="-1" strike="noStrike">
                <a:solidFill>
                  <a:srgbClr val="0070c0"/>
                </a:solidFill>
                <a:latin typeface="Arial"/>
                <a:ea typeface="Arial"/>
              </a:rPr>
              <a:t>Карла Менгера, Вільяма Стенлі Джевонса та Леона Вальраса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Маргіналізм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 був своєрідною реакцією на теорію цінності класичної школи. Згідно класичних теорій цінності (трудової теорії цінності, теорії трьох факторів виробництва) цінність блага визначається майже виключно </a:t>
            </a:r>
            <a:r>
              <a:rPr b="1" lang="uk-UA" sz="2000" spc="-1" strike="noStrike">
                <a:solidFill>
                  <a:srgbClr val="00b0f0"/>
                </a:solidFill>
                <a:latin typeface="Arial"/>
                <a:ea typeface="Arial"/>
              </a:rPr>
              <a:t>об’єктивними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 факторами – витратами виробництва. Натомість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маргіналісти 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зосередились на вивченні </a:t>
            </a:r>
            <a:r>
              <a:rPr b="1" i="1" lang="uk-UA" sz="2000" spc="-1" strike="noStrike">
                <a:solidFill>
                  <a:srgbClr val="00b0f0"/>
                </a:solidFill>
                <a:latin typeface="Arial"/>
                <a:ea typeface="Arial"/>
              </a:rPr>
              <a:t>суб’єктивних факторів цінності – уподобаннях окремої людин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Object 2"/>
          <p:cNvGraphicFramePr/>
          <p:nvPr/>
        </p:nvGraphicFramePr>
        <p:xfrm>
          <a:off x="285840" y="219240"/>
          <a:ext cx="8643960" cy="63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19240"/>
                    <a:ext cx="8643960" cy="63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1"/>
          <p:cNvSpPr/>
          <p:nvPr/>
        </p:nvSpPr>
        <p:spPr>
          <a:xfrm>
            <a:off x="500040" y="357120"/>
            <a:ext cx="8429760" cy="65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Маргіналістична революція окреслює </a:t>
            </a:r>
            <a:r>
              <a:rPr b="1" lang="uk-UA" sz="2200" spc="-1" strike="noStrike">
                <a:solidFill>
                  <a:srgbClr val="ff0000"/>
                </a:solidFill>
                <a:latin typeface="Arial"/>
                <a:ea typeface="Arial"/>
              </a:rPr>
              <a:t>перший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 або ранній етап становлення неокласики, який ще називають маргіналізмом у вузькому розумінні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Він має такі основні рис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1. Предмет економічного аналізу. </a:t>
            </a:r>
            <a:r>
              <a:rPr b="1" i="1" lang="uk-UA" sz="3200" spc="-1" strike="noStrike">
                <a:solidFill>
                  <a:srgbClr val="00b0f0"/>
                </a:solidFill>
                <a:latin typeface="Arial"/>
                <a:ea typeface="Arial"/>
              </a:rPr>
              <a:t>Зміщення акцентів з сфери виробництва на сферу спожи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2. Методи економічного аналізу. </a:t>
            </a:r>
            <a:r>
              <a:rPr b="1" i="1" lang="uk-UA" sz="3200" spc="-1" strike="noStrike">
                <a:solidFill>
                  <a:srgbClr val="00b0f0"/>
                </a:solidFill>
                <a:latin typeface="Arial"/>
                <a:ea typeface="Arial"/>
              </a:rPr>
              <a:t>Абстрактно-дедуктивний та заміна причинно-наслідкового аналізу функціональним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що відкрило двері для використання в економічній науці математичних методі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357120" y="571680"/>
            <a:ext cx="8501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3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Широке запровадження </a:t>
            </a:r>
            <a:r>
              <a:rPr b="0" lang="uk-UA" sz="3200" spc="-1" strike="noStrike">
                <a:solidFill>
                  <a:srgbClr val="00b0f0"/>
                </a:solidFill>
                <a:latin typeface="Arial"/>
                <a:ea typeface="Arial"/>
              </a:rPr>
              <a:t>граничних величин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(«маргіналізм» від латинського margo – межа, границя) та </a:t>
            </a:r>
            <a:r>
              <a:rPr b="0" lang="uk-UA" sz="3200" spc="-1" strike="noStrike">
                <a:solidFill>
                  <a:srgbClr val="00b0f0"/>
                </a:solidFill>
                <a:latin typeface="Arial"/>
                <a:ea typeface="Arial"/>
              </a:rPr>
              <a:t>диференційного числе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осередження уваги на зміні певної величини, за умови що друга змінилася на одиниц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4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Суб’єктивіз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–  дослідження економічних явищ з точки зору окремого суб’єкту господарювання. Маргіналізм  часто називають суб’єктивною школою економік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285840" y="357120"/>
            <a:ext cx="857232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5. Методологічний індивідуалізм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виведення закономірностей функціонування господарства в цілому із поведінки окремо взятого суб’єкту господарювання.</a:t>
            </a:r>
            <a:r>
              <a:rPr b="1" i="1" lang="uk-UA" sz="30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6.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Наголос на дослідженні </a:t>
            </a:r>
            <a:r>
              <a:rPr b="0" i="1" lang="uk-UA" sz="3000" spc="-1" strike="noStrike">
                <a:solidFill>
                  <a:srgbClr val="00b0f0"/>
                </a:solidFill>
                <a:latin typeface="Arial"/>
                <a:ea typeface="Arial"/>
              </a:rPr>
              <a:t>використання обмежених ресурсів з метою задоволення потреб людини в окреслений проміжок часу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7.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Сприйняття ринкової системи як </a:t>
            </a:r>
            <a:r>
              <a:rPr b="0" i="1" lang="uk-UA" sz="3000" spc="-1" strike="noStrike">
                <a:solidFill>
                  <a:srgbClr val="00b0f0"/>
                </a:solidFill>
                <a:latin typeface="Arial"/>
                <a:ea typeface="Arial"/>
              </a:rPr>
              <a:t>системи рівноваги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(крім австрійської школи), яка базується на раціональній поведінці людини (концепції homo economic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2"/>
          <p:cNvSpPr/>
          <p:nvPr/>
        </p:nvSpPr>
        <p:spPr>
          <a:xfrm>
            <a:off x="642960" y="14292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Поступово критика класиків представниками маргіналізму дещо пом’якшується і у процесі його еволюції він запозичує певні елементи класичної політичної економ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На 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другому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або пізньому етапі (80-90-і рр. ХІХ ст.) маргіналізм зусиллями американця </a:t>
            </a:r>
            <a:r>
              <a:rPr b="1" lang="uk-UA" sz="2800" spc="-1" strike="noStrike">
                <a:solidFill>
                  <a:srgbClr val="0070c0"/>
                </a:solidFill>
                <a:latin typeface="Arial"/>
                <a:ea typeface="Arial"/>
              </a:rPr>
              <a:t>Джона Бейтса Кларка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, швейцарця </a:t>
            </a:r>
            <a:r>
              <a:rPr b="1" lang="uk-UA" sz="2800" spc="-1" strike="noStrike">
                <a:solidFill>
                  <a:srgbClr val="0070c0"/>
                </a:solidFill>
                <a:latin typeface="Arial"/>
                <a:ea typeface="Arial"/>
              </a:rPr>
              <a:t>Вільфредо Парето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і особливо англійця </a:t>
            </a:r>
            <a:r>
              <a:rPr b="1" lang="uk-UA" sz="2800" spc="-1" strike="noStrike">
                <a:solidFill>
                  <a:srgbClr val="0070c0"/>
                </a:solidFill>
                <a:latin typeface="Arial"/>
                <a:ea typeface="Arial"/>
              </a:rPr>
              <a:t>Альфреда Маршалла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поступово трансформується в неокласичну школу (маргіналізм у широкому розумінні), яка стає провідною парадигмою в економічній науці на довгі десятиліт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571680" y="500040"/>
            <a:ext cx="828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Arial"/>
              </a:rPr>
              <a:t>Неокласична школа і класична політична економія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ають такі 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спільні риси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 Погляд на економічну теорію як на науку універсальну, що має абстрактно-дедуктивни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. Концепція людини економічної –  homo economi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. Недооцінка ролі грошей та ігнорування впливу їх кількості на реальні господарські проце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. Заперечення криз перевиробництва та певне нехтування проблемами макроекономі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5. Принцип економічної політики – доктрина laissez faire та заперечення необхідності втручання держави в економі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500040" y="21420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новними </a:t>
            </a: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розбіжностями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між </a:t>
            </a:r>
            <a:r>
              <a:rPr b="1" lang="uk-UA" sz="3200" spc="-1" strike="noStrike">
                <a:solidFill>
                  <a:srgbClr val="00b0f0"/>
                </a:solidFill>
                <a:latin typeface="Arial"/>
              </a:rPr>
              <a:t>класиками і неокласиками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є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гнорування останніми теорії цінності як основної проблеми економічної науки 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ідмова від аналізу економічного зростання і динаміки розподілу доход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ogoby4</cp:lastModifiedBy>
  <dcterms:modified xsi:type="dcterms:W3CDTF">2016-10-05T19:04:45Z</dcterms:modified>
  <cp:revision>74</cp:revision>
  <dc:subject/>
  <dc:title>ІСТОРІЯ ЕКОНОМІКИ  ТА ЕКОНОМІЧНОЇ ДУМКИ</dc:title>
</cp:coreProperties>
</file>