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5913-0A5D-4458-BA13-FE61CCB4C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2D69-4E09-48A0-94CB-55713E1EB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5A26-EDDE-4715-A334-179769BF6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B8E4-ADA8-40F2-98DC-B74E341E0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AFA7-EE49-4E11-897E-08FE164DD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8E78-B768-4DC3-8CF4-608D6B83B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03C5-713A-4F64-9FEB-323140121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9EA0-9272-420E-B5F1-40D5238CB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5E53-1D5B-4968-9CDD-B8D2EDB10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ED3F-AE8D-4D36-A456-62EFBB00E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4D82-6840-4584-9357-DB806BAE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DE30-BBD8-4379-AE3E-33189880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879B4-D973-47BD-A51D-1B48FF2960B4}" type="slidenum">
              <a:rPr b="0" lang="uk-U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myagkiy_zheltyy_svet_1920x1200"/>
          <p:cNvPicPr/>
          <p:nvPr/>
        </p:nvPicPr>
        <p:blipFill>
          <a:blip r:embed="rId1"/>
          <a:stretch/>
        </p:blipFill>
        <p:spPr>
          <a:xfrm>
            <a:off x="-152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Arial"/>
              </a:rPr>
              <a:t>ПІЗНАВАЛЬНИЙ ТРЕНІН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3520" y="2362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uk-UA" sz="4800" spc="-1" strike="noStrike">
                <a:solidFill>
                  <a:srgbClr val="000000"/>
                </a:solidFill>
                <a:latin typeface="Arial"/>
              </a:rPr>
              <a:t>Основи підготовки </a:t>
            </a: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CV</a:t>
            </a:r>
            <a:r>
              <a:rPr b="1" i="1" lang="uk-UA" sz="4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job-interview"/>
          <p:cNvPicPr/>
          <p:nvPr/>
        </p:nvPicPr>
        <p:blipFill>
          <a:blip r:embed="rId2"/>
          <a:stretch/>
        </p:blipFill>
        <p:spPr>
          <a:xfrm>
            <a:off x="2057400" y="3421080"/>
            <a:ext cx="3986280" cy="24289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715000" y="5105520"/>
            <a:ext cx="2895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myagkiy_zheltyy_svet_1920x12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Елемент №2 </a:t>
            </a:r>
            <a:br>
              <a:rPr sz="4000"/>
            </a:b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“ПОДАННЯ КАНДИДАТУРИ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Object 4"/>
          <p:cNvGraphicFramePr/>
          <p:nvPr/>
        </p:nvGraphicFramePr>
        <p:xfrm>
          <a:off x="228600" y="2743200"/>
          <a:ext cx="8667720" cy="800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2743200"/>
                    <a:ext cx="866772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myagkiy_zheltyy_svet_1920x12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Елемент №3</a:t>
            </a:r>
            <a:br>
              <a:rPr sz="4000"/>
            </a:b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“ДОСВІД РОБОТИ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Object 6"/>
          <p:cNvGraphicFramePr/>
          <p:nvPr/>
        </p:nvGraphicFramePr>
        <p:xfrm>
          <a:off x="380880" y="2395440"/>
          <a:ext cx="8458200" cy="3014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2395440"/>
                    <a:ext cx="8458200" cy="30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myagkiy_zheltyy_svet_1920x12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Елемент №4 </a:t>
            </a:r>
            <a:br>
              <a:rPr sz="4000"/>
            </a:b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“ОСВІТА ТА ОСНОВНІ ТРЕНІНГИ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Object 6"/>
          <p:cNvGraphicFramePr/>
          <p:nvPr/>
        </p:nvGraphicFramePr>
        <p:xfrm>
          <a:off x="228600" y="2771640"/>
          <a:ext cx="8686800" cy="1343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2771640"/>
                    <a:ext cx="8686800" cy="13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myagkiy_zheltyy_svet_1920x12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Елемент №5 </a:t>
            </a:r>
            <a:br>
              <a:rPr sz="4000"/>
            </a:b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“ОСОБИСТІ НАВИЧКИ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Object 6"/>
          <p:cNvGraphicFramePr/>
          <p:nvPr/>
        </p:nvGraphicFramePr>
        <p:xfrm>
          <a:off x="262080" y="2666880"/>
          <a:ext cx="8653320" cy="117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2080" y="2666880"/>
                    <a:ext cx="8653320" cy="11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myagkiy_zheltyy_svet_1920x12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Елемент №6</a:t>
            </a:r>
            <a:br>
              <a:rPr sz="4000"/>
            </a:b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“МОВИ, ЯКИМИ ВИ ВОЛОДІЄТЕ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6"/>
          <p:cNvGraphicFramePr/>
          <p:nvPr/>
        </p:nvGraphicFramePr>
        <p:xfrm>
          <a:off x="304920" y="2514600"/>
          <a:ext cx="8562960" cy="1957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2514600"/>
                    <a:ext cx="8562960" cy="19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myagkiy_zheltyy_svet_1920x12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Елемент №7</a:t>
            </a:r>
            <a:br>
              <a:rPr sz="4000"/>
            </a:b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“НАВИЧКИ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Object 6"/>
          <p:cNvGraphicFramePr/>
          <p:nvPr/>
        </p:nvGraphicFramePr>
        <p:xfrm>
          <a:off x="457200" y="1828800"/>
          <a:ext cx="8305920" cy="437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828800"/>
                    <a:ext cx="8305920" cy="43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myagkiy_zheltyy_svet_1920x12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Елемент №8</a:t>
            </a:r>
            <a:br>
              <a:rPr sz="4000"/>
            </a:b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“ІНШІ РОЗДІЛИ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Object 6"/>
          <p:cNvGraphicFramePr/>
          <p:nvPr/>
        </p:nvGraphicFramePr>
        <p:xfrm>
          <a:off x="990720" y="1905120"/>
          <a:ext cx="7151400" cy="452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2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905120"/>
                    <a:ext cx="71514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myagkiy_zheltyy_svet_1920x12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Arial"/>
              </a:rPr>
              <a:t>Вітаємо Вас з першим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V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unnamed"/>
          <p:cNvPicPr/>
          <p:nvPr/>
        </p:nvPicPr>
        <p:blipFill>
          <a:blip r:embed="rId2"/>
          <a:stretch/>
        </p:blipFill>
        <p:spPr>
          <a:xfrm>
            <a:off x="3048120" y="2666880"/>
            <a:ext cx="28573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myagkiy_zheltyy_svet_1920x12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Arial"/>
              </a:rPr>
              <a:t>Що таке </a:t>
            </a: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CV</a:t>
            </a:r>
            <a:r>
              <a:rPr b="1" lang="uk-UA" sz="7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Curriculum vitæ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, </a:t>
            </a: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CV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 (в перекладі з лат. «</a:t>
            </a:r>
            <a:r>
              <a:rPr b="1" lang="uk-UA" sz="3600" spc="-1" strike="noStrike">
                <a:solidFill>
                  <a:srgbClr val="ffffff"/>
                </a:solidFill>
                <a:latin typeface="Arial"/>
              </a:rPr>
              <a:t>перебіг життя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») - це стислий опис біографічних даних людини, набутих кваліфікацій та професійних навичок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304920" y="4191120"/>
            <a:ext cx="85341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Один з основних документів при поданні на вакантне місце, стажування чи навчання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2307636569_41910841f2_o"/>
          <p:cNvPicPr/>
          <p:nvPr/>
        </p:nvPicPr>
        <p:blipFill>
          <a:blip r:embed="rId1"/>
          <a:stretch/>
        </p:blipFill>
        <p:spPr>
          <a:xfrm>
            <a:off x="0" y="-838080"/>
            <a:ext cx="9144000" cy="89582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800" spc="-1" strike="noStrike">
                <a:solidFill>
                  <a:srgbClr val="ffffff"/>
                </a:solidFill>
                <a:latin typeface="Arial"/>
              </a:rPr>
              <a:t>Резюме чи </a:t>
            </a:r>
            <a:r>
              <a:rPr b="1" lang="en-US" sz="6800" spc="-1" strike="noStrike">
                <a:solidFill>
                  <a:srgbClr val="ffffff"/>
                </a:solidFill>
                <a:latin typeface="Arial"/>
              </a:rPr>
              <a:t>CV</a:t>
            </a:r>
            <a:r>
              <a:rPr b="1" lang="uk-UA" sz="6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Вопросительный Знак, Примечание, Дублировать, Запрос"/>
          <p:cNvPicPr/>
          <p:nvPr/>
        </p:nvPicPr>
        <p:blipFill>
          <a:blip r:embed="rId2"/>
          <a:stretch/>
        </p:blipFill>
        <p:spPr>
          <a:xfrm>
            <a:off x="4343400" y="-127080"/>
            <a:ext cx="396252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myagkiy_zheltyy_svet_1920x12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3581640" cy="88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ff"/>
                </a:solidFill>
                <a:latin typeface="Arial"/>
              </a:rPr>
              <a:t>Резюм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5257800" y="533520"/>
            <a:ext cx="2590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V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723920" y="1828800"/>
            <a:ext cx="403884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Об'ємний документ, кілька сторі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380880" y="1828800"/>
            <a:ext cx="4114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Обмежений 1-ю сторінко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4343400" y="2743200"/>
            <a:ext cx="4419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Містить основну та всю важливу додаткову інформаці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380880" y="2743200"/>
            <a:ext cx="4114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Вимагається основна інформація про кандид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4724280" y="4038480"/>
            <a:ext cx="403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Характеризує людину всестороннь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380880" y="4038480"/>
            <a:ext cx="403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Інформація подається під конкретну вакансі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2"/>
          <p:cNvSpPr/>
          <p:nvPr/>
        </p:nvSpPr>
        <p:spPr>
          <a:xfrm>
            <a:off x="4724280" y="4952880"/>
            <a:ext cx="403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Вимагає багато часу на опрацюва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3"/>
          <p:cNvSpPr/>
          <p:nvPr/>
        </p:nvSpPr>
        <p:spPr>
          <a:xfrm>
            <a:off x="380880" y="4952880"/>
            <a:ext cx="403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Може бути швидко опрацьован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0" descr="myagkiy_zheltyy_svet_1920x12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9250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Arial"/>
              </a:rPr>
              <a:t>З чого складається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V</a:t>
            </a:r>
            <a:r>
              <a:rPr b="1" lang="uk-UA" sz="4400" spc="-1" strike="noStrike">
                <a:solidFill>
                  <a:srgbClr val="ffffff"/>
                </a:solidFill>
                <a:latin typeface="Arial"/>
              </a:rPr>
              <a:t>? </a:t>
            </a:r>
            <a:r>
              <a:rPr b="1" lang="uk-UA" sz="4400" spc="-1" strike="noStrike" u="sng">
                <a:solidFill>
                  <a:srgbClr val="0099ff"/>
                </a:solidFill>
                <a:uFillTx/>
                <a:latin typeface="Arial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09480" y="19807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Персональна інформаці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(наприклад, ваша адреса, телефон,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e-mail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, стать, громадянств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609480" y="3200400"/>
            <a:ext cx="79250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Подання кандидатур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(тобто вакансії, на які ви претендуєте чи претендувал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609480" y="4343400"/>
            <a:ext cx="7925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Досвід робот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(зазначається хронологія місць і посад, де ви працювали з уточненням основних функцій чи видів робіт, що виконувалис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8" descr="myagkiy_zheltyy_svet_1920x1200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4"/>
          <p:cNvSpPr/>
          <p:nvPr/>
        </p:nvSpPr>
        <p:spPr>
          <a:xfrm>
            <a:off x="609480" y="457200"/>
            <a:ext cx="79250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Arial"/>
              </a:rPr>
              <a:t>З чого складається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V</a:t>
            </a:r>
            <a:r>
              <a:rPr b="1" lang="uk-UA" sz="4400" spc="-1" strike="noStrike">
                <a:solidFill>
                  <a:srgbClr val="ffffff"/>
                </a:solidFill>
                <a:latin typeface="Arial"/>
              </a:rPr>
              <a:t>? </a:t>
            </a:r>
            <a:r>
              <a:rPr b="1" lang="uk-UA" sz="4400" spc="-1" strike="noStrike" u="sng">
                <a:solidFill>
                  <a:srgbClr val="0099ff"/>
                </a:solidFill>
                <a:uFillTx/>
                <a:latin typeface="Arial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685800" y="1752480"/>
            <a:ext cx="79246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Освіта та основні тренінг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(у хронологічному порядку викладаються освітні здобутки та тренінги, в яких ви брали участь і отримали сертифіка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685800" y="3429000"/>
            <a:ext cx="79246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Особисті навичк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(дається перелік тих умінь і навичок, що якісно вас вирізняють з-поміж інших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685800" y="4800600"/>
            <a:ext cx="79246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Мови, якими ви володієт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(наводиться перелік мов із зазначенням рівня їх розумі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і використання у побуті, а також у робочій обстановці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7" descr="myagkiy_zheltyy_svet_1920x12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4"/>
          <p:cNvSpPr/>
          <p:nvPr/>
        </p:nvSpPr>
        <p:spPr>
          <a:xfrm>
            <a:off x="685800" y="1905120"/>
            <a:ext cx="79246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Навичк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(перераховуються усі важливі ваші навички, згрупован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за окремими розділами, наприклад комунікаційні, організаційні, професійні,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IT-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навички, інші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609480" y="457200"/>
            <a:ext cx="79250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Arial"/>
              </a:rPr>
              <a:t>З чого складається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V</a:t>
            </a:r>
            <a:r>
              <a:rPr b="1" lang="uk-UA" sz="4400" spc="-1" strike="noStrike">
                <a:solidFill>
                  <a:srgbClr val="ffffff"/>
                </a:solidFill>
                <a:latin typeface="Arial"/>
              </a:rPr>
              <a:t>? </a:t>
            </a:r>
            <a:r>
              <a:rPr b="1" lang="uk-UA" sz="4400" spc="-1" strike="noStrike" u="sng">
                <a:solidFill>
                  <a:srgbClr val="0099ff"/>
                </a:solidFill>
                <a:uFillTx/>
                <a:latin typeface="Arial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685800" y="3886200"/>
            <a:ext cx="79246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Інші розділ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(до них можуть належати ті, що розкривають вашу активність, наприклад, у роботі конференцій чи семінарів, у проектах, організаціях, науковій діяльності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6" descr="myagkiy_zheltyy_svet_1920x12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Arial"/>
              </a:rPr>
              <a:t>Розгляд бланку 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CV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Без назви-1"/>
          <p:cNvPicPr/>
          <p:nvPr/>
        </p:nvPicPr>
        <p:blipFill>
          <a:blip r:embed="rId2"/>
          <a:stretch/>
        </p:blipFill>
        <p:spPr>
          <a:xfrm>
            <a:off x="457200" y="1828800"/>
            <a:ext cx="8229600" cy="946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myagkiy_zheltyy_svet_1920x12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Елемент №1 </a:t>
            </a:r>
            <a:br>
              <a:rPr sz="4000"/>
            </a:b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“ПЕРСОНАЛЬНА ІНФОРМАЦІЯ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Object 5"/>
          <p:cNvGraphicFramePr/>
          <p:nvPr/>
        </p:nvGraphicFramePr>
        <p:xfrm>
          <a:off x="228600" y="2446200"/>
          <a:ext cx="8686800" cy="204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2446200"/>
                    <a:ext cx="8686800" cy="20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03T05:07:38Z</dcterms:created>
  <dc:creator>Viacheslav TKACHUK</dc:creator>
  <dc:description/>
  <dc:language>en-US</dc:language>
  <cp:lastModifiedBy>anna</cp:lastModifiedBy>
  <dcterms:modified xsi:type="dcterms:W3CDTF">2019-10-17T09:53:07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