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DCF-6CD5-4B42-99E7-9A2C55BE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94DB-7E79-4016-AFE0-3B9FCCF0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AC2-AC3A-469E-8B26-CB165F7A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7F7-5C56-43BA-8DCC-2ED18E42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4FB8-DA21-4011-80B5-8DE53CF4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2B7A-A08D-4520-A23A-59C48748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507-1751-4229-9264-83D4626A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EF5-4862-4612-A014-657A02B8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56C-6899-40F1-9084-EC148669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D86-E018-4DBD-864D-E41B7871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A83-2D3A-4684-8C49-1354DF7C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A98F-8A49-4343-B422-815ED2BF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A600-F805-4CA0-8379-752F36E55628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yagkiy_zheltyy_svet_1920x1200"/>
          <p:cNvPicPr/>
          <p:nvPr/>
        </p:nvPicPr>
        <p:blipFill>
          <a:blip r:embed="rId1"/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ПІЗНАВАЛЬНИЙ ТРЕНІ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uk-UA" sz="4800" spc="-1" strike="noStrike">
                <a:solidFill>
                  <a:srgbClr val="000000"/>
                </a:solidFill>
                <a:latin typeface="Arial"/>
              </a:rPr>
              <a:t>Основи підготовки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V</a:t>
            </a:r>
            <a:r>
              <a:rPr b="1" i="1" lang="uk-UA" sz="4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job-interview"/>
          <p:cNvPicPr/>
          <p:nvPr/>
        </p:nvPicPr>
        <p:blipFill>
          <a:blip r:embed="rId2"/>
          <a:stretch/>
        </p:blipFill>
        <p:spPr>
          <a:xfrm>
            <a:off x="2057400" y="3421080"/>
            <a:ext cx="3986280" cy="2428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715000" y="5105520"/>
            <a:ext cx="289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Елемент №2 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“ПОДАННЯ КАНДИДАТУРИ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228600" y="2743200"/>
          <a:ext cx="8667720" cy="8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743200"/>
                    <a:ext cx="86677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Елемент №3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“ДОСВІД РОБОТИ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380880" y="2395440"/>
          <a:ext cx="8458200" cy="30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395440"/>
                    <a:ext cx="845820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Елемент №4 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“ОСВІТА ТА ОСНОВНІ ТРЕНІНГИ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6"/>
          <p:cNvGraphicFramePr/>
          <p:nvPr/>
        </p:nvGraphicFramePr>
        <p:xfrm>
          <a:off x="228600" y="2771640"/>
          <a:ext cx="8686800" cy="134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771640"/>
                    <a:ext cx="868680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Елемент №5 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“ОСОБИСТІ НАВИЧКИ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6"/>
          <p:cNvGraphicFramePr/>
          <p:nvPr/>
        </p:nvGraphicFramePr>
        <p:xfrm>
          <a:off x="262080" y="2666880"/>
          <a:ext cx="8653320" cy="11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080" y="2666880"/>
                    <a:ext cx="865332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Елемент №6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“МОВИ, ЯКИМИ ВИ ВОЛОДІЄТЕ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6"/>
          <p:cNvGraphicFramePr/>
          <p:nvPr/>
        </p:nvGraphicFramePr>
        <p:xfrm>
          <a:off x="304920" y="2514600"/>
          <a:ext cx="8562960" cy="195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14600"/>
                    <a:ext cx="856296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Елемент №7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“НАВИЧКИ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457200" y="1828800"/>
          <a:ext cx="8305920" cy="43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28800"/>
                    <a:ext cx="830592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Елемент №8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“ІНШІ РОЗДІЛИ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6"/>
          <p:cNvGraphicFramePr/>
          <p:nvPr/>
        </p:nvGraphicFramePr>
        <p:xfrm>
          <a:off x="990720" y="1905120"/>
          <a:ext cx="715140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905120"/>
                    <a:ext cx="7151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Вітаємо Вас з першим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V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unnamed"/>
          <p:cNvPicPr/>
          <p:nvPr/>
        </p:nvPicPr>
        <p:blipFill>
          <a:blip r:embed="rId2"/>
          <a:stretch/>
        </p:blipFill>
        <p:spPr>
          <a:xfrm>
            <a:off x="3048120" y="26668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Що таке 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Curriculum vitæ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CV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 (в перекладі з лат. «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перебіг життя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») - це стислий опис біографічних даних людини, набутих кваліфікацій та професійних навичо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04920" y="4191120"/>
            <a:ext cx="8534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Один з основних документів при поданні на вакантне місце, стажування чи навчанн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307636569_41910841f2_o"/>
          <p:cNvPicPr/>
          <p:nvPr/>
        </p:nvPicPr>
        <p:blipFill>
          <a:blip r:embed="rId1"/>
          <a:stretch/>
        </p:blipFill>
        <p:spPr>
          <a:xfrm>
            <a:off x="0" y="-838080"/>
            <a:ext cx="9144000" cy="8958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800" spc="-1" strike="noStrike">
                <a:solidFill>
                  <a:srgbClr val="ffffff"/>
                </a:solidFill>
                <a:latin typeface="Arial"/>
              </a:rPr>
              <a:t>Резюме чи </a:t>
            </a: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1" lang="uk-UA" sz="6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Вопросительный Знак, Примечание, Дублировать, Запрос"/>
          <p:cNvPicPr/>
          <p:nvPr/>
        </p:nvPicPr>
        <p:blipFill>
          <a:blip r:embed="rId2"/>
          <a:stretch/>
        </p:blipFill>
        <p:spPr>
          <a:xfrm>
            <a:off x="4343400" y="-127080"/>
            <a:ext cx="39625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358164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Резюм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257800" y="533520"/>
            <a:ext cx="259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23920" y="1828800"/>
            <a:ext cx="4038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б'ємний документ, кілька сторі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0880" y="1828800"/>
            <a:ext cx="411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бмежений 1-ю сторінк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343400" y="2743200"/>
            <a:ext cx="441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Містить основну та всю важливу додаткову інформаці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80880" y="2743200"/>
            <a:ext cx="4114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Вимагається основна інформація про кандид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724280" y="4038480"/>
            <a:ext cx="403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Характеризує людину всестороннь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80880" y="4038480"/>
            <a:ext cx="403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Інформація подається під конкретну вакансі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724280" y="4952880"/>
            <a:ext cx="403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Вимагає багато часу на опрац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380880" y="4952880"/>
            <a:ext cx="403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Може бути швидко опрацьова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З чого складається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1" lang="uk-UA" sz="4400" spc="-1" strike="noStrike" u="sng">
                <a:solidFill>
                  <a:srgbClr val="0099ff"/>
                </a:solidFill>
                <a:uFillTx/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09480" y="19807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ерсональна інформаці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(наприклад, ваша адреса, телефон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-mail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, стать, громадянст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09480" y="3200400"/>
            <a:ext cx="7925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дання кандидатур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(тобто вакансії, на які ви претендуєте чи претендува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609480" y="4343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Досвід робо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(зазначається хронологія місць і посад, де ви працювали з уточненням основних функцій чи видів робіт, що виконували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609480" y="457200"/>
            <a:ext cx="7925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З чого складається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1" lang="uk-UA" sz="4400" spc="-1" strike="noStrike" u="sng">
                <a:solidFill>
                  <a:srgbClr val="0099ff"/>
                </a:solidFill>
                <a:uFillTx/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685800" y="175248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світа та основні тренінг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(у хронологічному порядку викладаються освітні здобутки та тренінги, в яких ви брали участь і отримали сертифіка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85800" y="342900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собисті навич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(дається перелік тих умінь і навичок, що якісно вас вирізняють з-поміж інши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685800" y="480060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Мови, якими ви володіє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(наводиться перелік мов із зазначенням рівня їх розумі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 використання у побуті, а також у робочій обстановц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685800" y="1905120"/>
            <a:ext cx="7924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Навич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(перераховуються усі важливі ваші навички, згрупова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а окремими розділами, наприклад комунікаційні, організаційні, професійні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T-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вички, інш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609480" y="457200"/>
            <a:ext cx="7925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З чого складається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1" lang="uk-UA" sz="4400" spc="-1" strike="noStrike" u="sng">
                <a:solidFill>
                  <a:srgbClr val="0099ff"/>
                </a:solidFill>
                <a:uFillTx/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685800" y="3886200"/>
            <a:ext cx="7924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Інші розді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(до них можуть належати ті, що розкривають вашу активність, наприклад, у роботі конференцій чи семінарів, у проектах, організаціях, науковій діяльност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Розгляд бланку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Без назви-1"/>
          <p:cNvPicPr/>
          <p:nvPr/>
        </p:nvPicPr>
        <p:blipFill>
          <a:blip r:embed="rId2"/>
          <a:stretch/>
        </p:blipFill>
        <p:spPr>
          <a:xfrm>
            <a:off x="457200" y="1828800"/>
            <a:ext cx="8229600" cy="94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Елемент №1 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“ПЕРСОНАЛЬНА ІНФОРМАЦІЯ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228600" y="2446200"/>
          <a:ext cx="8686800" cy="204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446200"/>
                    <a:ext cx="868680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3T05:07:38Z</dcterms:created>
  <dc:creator>Viacheslav TKACHUK</dc:creator>
  <dc:description/>
  <dc:language>en-US</dc:language>
  <cp:lastModifiedBy>anna</cp:lastModifiedBy>
  <dcterms:modified xsi:type="dcterms:W3CDTF">2019-10-17T09:53:0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