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4D2B-E3B7-4C14-B55A-31A89825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15BE-072A-4EFE-B870-1E52E7BE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F681-2456-4538-BB28-E3309245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886-BD42-47ED-9B6B-C2B2A5A8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F6A1-C02F-41C7-A922-364156DD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61B4-6D69-462B-B0D5-DD6C511E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BF9-04D0-4A8D-8FE8-4179A5D2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D567-54E3-4D2C-93BC-7C5A7E4D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B00F-1EE4-4D22-87C0-279C2FC3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124-2B7A-4E46-A8D6-72F9DD60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885-2FA0-4BD9-8DA1-F9D30B9F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A914-DA0F-40FD-8813-F0920E60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BB68-2BD1-4730-827C-CB1EA28A1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mbria"/>
              </a:rPr>
              <a:t>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ІНДИВІДУАЛЬНА ПРОПОЗИЦІЯ РОБОЧОЇ СИЛИ НА РИНКУ ПРА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429000"/>
            <a:ext cx="8305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1. Пропозиція кількості часу робо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038480"/>
            <a:ext cx="8305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2. Аналіз пропозиції робочого ча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4648320"/>
            <a:ext cx="8305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3. Пропозиція якості робочої с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457200"/>
            <a:ext cx="7925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Індивідуальна пропозиція робочої сили на ринку праці – ц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676520"/>
            <a:ext cx="8305560" cy="1523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кількість робочих годин на тиждень, місяць, рік, протягом яких індивід бажає працювати, перебуваючи на ринку прац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429000"/>
            <a:ext cx="8305560" cy="13716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якість роботи, що визначається рівнем здібностей людини, загальної та професійної підготовки, досвід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5029200"/>
            <a:ext cx="8305560" cy="99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інтенсивність праці, яку людина проявляє в процесі виробниц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305920" cy="7621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Людина на ринку праці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2362320"/>
            <a:ext cx="2590920" cy="14475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кількість часу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2362320"/>
            <a:ext cx="2590920" cy="14475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якість робочої с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2362320"/>
            <a:ext cx="2590920" cy="14475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інтенсивність прац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1828800"/>
            <a:ext cx="0" cy="533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676160" y="1828800"/>
            <a:ext cx="1981080" cy="533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1828800"/>
            <a:ext cx="1828800" cy="533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925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тапи аналізу пропозиці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обочого ча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76520"/>
            <a:ext cx="8305920" cy="1143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1) аналіз старту, при якому індивід згоден почати роботу за певною професією і кваліфікаціє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048120"/>
            <a:ext cx="8305920" cy="1523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2) аналіз залежності зміни пропозиції робочого часу і зміни заробітної плати в межах нормативної тривалості робочого час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800600"/>
            <a:ext cx="830592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3) аналіз залежності зміни пропозиції робочого часу і зміни заробітної плати понад нормативний робочий час (надурочна робо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актори якості робочої си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143000"/>
            <a:ext cx="8305920" cy="1143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uk-UA" sz="2400" spc="-1" strike="noStrike">
                <a:solidFill>
                  <a:srgbClr val="3399ff"/>
                </a:solidFill>
                <a:latin typeface="Cambria"/>
              </a:rPr>
              <a:t>вік</a:t>
            </a:r>
            <a:r>
              <a:rPr b="0" lang="uk-UA" sz="2400" spc="-1" strike="noStrike">
                <a:solidFill>
                  <a:srgbClr val="ffff00"/>
                </a:solidFill>
                <a:latin typeface="Cambria"/>
              </a:rPr>
              <a:t> (працездатне населення, населення молодше і старше працездатного віку мають різну якість робочої сили в залежності від працездатності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514600"/>
            <a:ext cx="8305920" cy="1219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3399ff"/>
                </a:solidFill>
                <a:latin typeface="Cambria"/>
              </a:rPr>
              <a:t>стать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(є роботи, які більш якісно виконують жінки (медсестра тощо), і роботи, які зазвичай краще виконують чоловіки (шахтарі, вантажники тощ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962520"/>
            <a:ext cx="8305920" cy="1523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3399ff"/>
                </a:solidFill>
                <a:latin typeface="Cambria"/>
              </a:rPr>
              <a:t>фізичне здоров’я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(здорова людина може забезпечити виконання поставлених завдань краще ніж хвора, так як фізична компонента її робочої сили буде кращої якості ніж хворої людин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5715000"/>
            <a:ext cx="8305920" cy="533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3399ff"/>
                </a:solidFill>
                <a:latin typeface="Cambria"/>
              </a:rPr>
              <a:t>рівня професійної освіти та досвід робо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1676520"/>
            <a:ext cx="8305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ambria"/>
              </a:rPr>
              <a:t>Фактори інтенсивності пра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2514600"/>
            <a:ext cx="762012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кількість робочих годин на доб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3352680"/>
            <a:ext cx="762012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рівень заробітної пла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362320"/>
            <a:ext cx="0" cy="1295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81952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365760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5T13:24:26Z</dcterms:created>
  <dc:creator>Viacheslav Tkachuk</dc:creator>
  <dc:description/>
  <dc:language>en-US</dc:language>
  <cp:lastModifiedBy> Main User</cp:lastModifiedBy>
  <dcterms:modified xsi:type="dcterms:W3CDTF">2020-03-29T21:48:2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