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2BB-E877-4D07-BFEC-A9A3AFD1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8AA-F8AA-44D2-A8AA-4A40DEF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47A-1C1B-431C-AB41-C26DF053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480-3369-4EF5-8DA0-C8DDD65D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EA1-C78E-4D6A-A6E5-C3A87F44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33D-B52A-422B-8E8A-6CCCC52E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38B-3906-4BC9-B849-B9BD0E7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10A-AF66-46D1-AFC5-5E91A44D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9E4-D43C-45AD-9C7D-2E5F17F4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E71-B5C1-4D8A-9D28-EC5FB87F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8C6-F51C-48E8-9E11-D815C67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F47-6F3A-4265-9623-6496BFD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4703-7679-446A-A1EA-95B01317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ІНДИВІДУАЛЬНА ПРОПОЗИЦІЯ РОБОЧОЇ СИЛИ НА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342900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1. Пропозиція кількості часу роб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03848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2. Аналіз пропозиції робочого ч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648320"/>
            <a:ext cx="830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3. Пропозиція якості робочої с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Індивідуальна пропозиція робочої сили на ринку праці – ц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676520"/>
            <a:ext cx="8305560" cy="1523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кількість робочих годин на тиждень, місяць, рік, протягом яких індивід бажає працювати, перебуваючи на ринку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429000"/>
            <a:ext cx="8305560" cy="1371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якість роботи, що визначається рівнем здібностей людини, загальної та професійної підготовки, досві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029200"/>
            <a:ext cx="8305560" cy="99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інтенсивність праці, яку людина проявляє в процесі виробниц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Людина на ринку прац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362320"/>
            <a:ext cx="25909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кількість часу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362320"/>
            <a:ext cx="25909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якість робочо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362320"/>
            <a:ext cx="25909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інтенсивність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8288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160" y="1828800"/>
            <a:ext cx="198108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1828800"/>
            <a:ext cx="182880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тапи аналізу пропоз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обочого ча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305920" cy="1143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1) аналіз старту, при якому індивід згоден почати роботу за певною професією і кваліфікаціє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8120"/>
            <a:ext cx="8305920" cy="1523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2) аналіз залежності зміни пропозиції робочого часу і зміни заробітної плати в межах нормативної тривалості робочого час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800600"/>
            <a:ext cx="83059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3) аналіз залежності зміни пропозиції робочого часу і зміни заробітної плати понад нормативний робочий час (надурочна роб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актори якості робочої с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143000"/>
            <a:ext cx="8305920" cy="1143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uk-UA" sz="2400" spc="-1" strike="noStrike">
                <a:solidFill>
                  <a:srgbClr val="3399ff"/>
                </a:solidFill>
                <a:latin typeface="Cambria"/>
              </a:rPr>
              <a:t>вік</a:t>
            </a:r>
            <a:r>
              <a:rPr b="0" lang="uk-UA" sz="2400" spc="-1" strike="noStrike">
                <a:solidFill>
                  <a:srgbClr val="ffff00"/>
                </a:solidFill>
                <a:latin typeface="Cambria"/>
              </a:rPr>
              <a:t> (працездатне населення, населення молодше і старше працездатного віку мають різну якість робочої сили в залежності від працездатності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514600"/>
            <a:ext cx="8305920" cy="12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99ff"/>
                </a:solidFill>
                <a:latin typeface="Cambria"/>
              </a:rPr>
              <a:t>стать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(є роботи, які більш якісно виконують жінки (медсестра тощо), і роботи, які зазвичай краще виконують чоловіки (шахтарі, вантажники тощ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962520"/>
            <a:ext cx="8305920" cy="1523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99ff"/>
                </a:solidFill>
                <a:latin typeface="Cambria"/>
              </a:rPr>
              <a:t>фізичне здоров’я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(здорова людина може забезпечити виконання поставлених завдань краще ніж хвора, так як фізична компонента її робочої сили буде кращої якості ніж хворої людин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7150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3399ff"/>
                </a:solidFill>
                <a:latin typeface="Cambria"/>
              </a:rPr>
              <a:t>рівня професійної освіти та досвід р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1676520"/>
            <a:ext cx="8305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ambria"/>
              </a:rPr>
              <a:t>Фактори інтенсивності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51460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кількість робочих годин на до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35268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рівень заробітної пл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3623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8195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3-29T21:48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