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CE47-A1D6-4ACD-881F-705328A2BB8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1DEC-86E2-49CF-84C5-CB44BFD4E81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FBAE-BED9-40C8-8475-52E26237CA8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2C32-F89E-4BE0-B441-950403EA52D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3C0C-2888-4DEC-BCED-8AFE333F63C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345-839E-4175-B991-429C8201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ED1-3869-4046-9402-CB9890AC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C6795-4D3A-4B98-BDC9-29080FB9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A9110-56A7-4425-91A3-6496AD3F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B6173-8419-4677-9E6F-DA0B4B8A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4884A-A250-49FC-8520-8D1915AB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60E55-A209-4276-A965-3255DE0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3146A-A71D-4BD6-9993-D561F79C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4BFBB-3E69-40C3-83F1-D67C3AA6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7EE2E-3031-41C7-B408-70BF24FB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7BD22-3C5B-494E-8569-A5A1E054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72A-D578-498B-A774-E42B2552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258-CDC2-43C8-A5D4-13933EA3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F7B1-9D20-49D5-B42D-A08DB3EB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3518-7E12-4E8B-825B-6A44E231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95A9-C223-4C9E-89E3-A3129374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B3D9-F18D-40D4-A067-60C2EAA5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2DC8-17E5-480D-BBBB-6FF87D43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0013-BE45-4CEA-98D2-BEC22F9B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93EB-22B3-465F-B421-EA7EF9EF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5AB-C907-496B-A677-09E66F81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A81D-9382-4E2B-A903-109A67E8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3682-722F-4BFF-A850-5C8DC599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A182-CD97-446E-8005-F1CE3502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60C9-D06F-4534-A16B-32DC7980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026E-6451-4072-8716-CA6CEEA9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D171-AC27-4ED9-988F-DD88C9B2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9153-3D0B-4318-9440-D394631A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AB84-D164-41B9-9A78-D8F096A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44B47-1BCA-4C94-A376-CB19C5A0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DA8A-FBC5-42D4-88AE-A5B38A2F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88FC-20F6-4AFC-B565-B1AE631E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4A9B-852D-48D5-96A2-EC7E5ACF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3B5B-D008-4B9F-85C9-5937AC4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0AE8-DA3D-48CE-A520-3A97EB5B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B421-6408-40DF-B686-138A5E6C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CEB0-0857-4331-A76E-315DC283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A3B9-09A8-4E34-9235-2D361A84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E0E13-1EF3-423B-A0FF-15A520EA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AD9C3-2347-4B22-B669-6B077AA2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BE57-C369-4B20-A821-87FBBA3C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95CC-EFE6-4F9B-8A36-80321AD0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CEE-227F-4D7E-94F1-7CFC5A5B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E2643-C2F4-4728-ACB2-11F2ED6B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0CD19-CA20-4FEA-ACF0-9DBD494A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2BDB-AEE8-49FC-9893-B5456985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3397-8623-466D-BDD0-A767F16E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A4243-D2EB-4A3F-9A82-C4731D3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EBDF-166A-4795-A88C-034DC2C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8367-D177-4245-9BA4-1D357B34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AAB2-B73D-4EBB-B560-064A7549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C399-D96F-46F6-9C78-B0741670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C2F8F-3344-4630-8F6C-5006E3B7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39D-B7BE-4AEB-9C24-19354A22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E8ADD-BA45-4C31-ACD2-75D745CF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76445-1B95-4EF1-82D4-52030C07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88DEB-CE9C-4E4A-8BB1-40CDD5B7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97ED-46C8-41C2-90CF-A2C6B23F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A13E5-1713-496B-82A9-0C30ECBD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AE0E-A56A-4488-8D27-5D4529F9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F70C9-C760-429C-8816-AD179D0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B1807-B888-49C8-9DB4-D56494C2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6C2B-4115-4AB6-8AB9-916FAB1C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38D4F-896C-4B8F-89AE-3F8D2A82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F8D-CCDD-4B58-8C8E-25A5BD90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77A70-8BF6-4B0C-8FB3-92A1E467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0FC1A-C790-438B-ACD8-96F95DA5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73B7-043A-46C0-889A-10159405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CEA66-ADEA-4BDC-B0BF-66A22869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A57F3-9289-45F9-AAA9-F67C7E90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7198-2FD7-4284-B1EA-FF79C13D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7A5B7-4A79-400E-9C28-879EA18B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E7F29-4696-45E9-9056-43E6107C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18B66-4894-4143-B4EB-A960E06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BCF46-574C-4F3F-B7C0-1A9F0B1C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781-BEE3-4579-95AA-DFCBC6CA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91FAA-DAC7-4EB4-A473-F515EEFA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3ED82-4443-452E-9442-31E0A21F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97BC9-46B2-4A5A-A44E-FDD5E5CF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81D6F-EB77-4042-9DC6-7045B592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B4437-446F-4BA4-854D-A322ED5D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9B44-F1E4-4D4A-96FA-1A16B745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20AC0-904A-44E6-994C-7A78401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3064B-0B4D-4F2C-A7FA-A2E2E77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C1758-BE59-4F99-92E5-C1398559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2D847-BF6B-4D21-B762-102BF682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62C-FAFB-4EED-824B-99BB33C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86839-C2DA-4FE3-A6C1-7261F7D9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810F-7329-47D3-8A04-2C1A76B7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8E82A-51CA-48D7-8B3C-0D381CE9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8E4FC-DD3D-4747-8BC2-99F195E8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4229B-9399-4573-8C52-1BF1C95D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72C2D-23F4-45A7-833E-05B7BDFC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DF919-9C83-4553-B7E8-A6C9803A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BCEC0-1497-43F0-AB0A-03756A23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EA41A-5A5C-41E4-93E9-64351F44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91FAC-CBFE-4723-84E1-6FD171D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096-02AB-4D1E-A3B8-888E0DC5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94350-4EDC-4756-B196-559548D1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A5154-F8A0-4E52-AAC6-64D51504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3C874-DB4D-46E8-83B4-F408A5DB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4CDFF-53E0-40FB-8F91-AD90C04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6CF2A-8F96-45F8-9BF0-CD5CF7F4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62BDF-882B-41A2-B5CC-D8DC8A40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269CD-0513-473B-A17C-5640920F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FF7D3-8C90-4B53-A0D4-CA04A9F6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A665F-B908-4C9D-9E8F-5AB305E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2AD12-B96F-45FD-8623-38B095C4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CB4A-6EE3-469E-B0B6-BC2852537D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7502-7A31-4C1B-BA8C-DD733B3978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7BFA-B94B-410D-9FF8-9965640A029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2FD7-FD81-40BF-A099-5AEA0483B5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E339-21E3-4BAE-9D5D-56022B1D99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F8A0-5E9D-47DE-A552-4C90D06E979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D86B-DB94-48AD-8C65-136C75D47B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9C08-3FAF-402B-8230-22B6A239F7A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34AD-9E16-4091-991D-E9CC2B6379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9680" y="450720"/>
            <a:ext cx="8802720" cy="324972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2" descr=""/>
          <p:cNvPicPr/>
          <p:nvPr/>
        </p:nvPicPr>
        <p:blipFill>
          <a:blip r:embed="rId2"/>
          <a:stretch/>
        </p:blipFill>
        <p:spPr>
          <a:xfrm>
            <a:off x="304920" y="3517920"/>
            <a:ext cx="8692920" cy="29862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428760" y="285840"/>
            <a:ext cx="85723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Оскільки </a:t>
            </a:r>
            <a:r>
              <a:rPr b="1" lang="uk-UA" sz="2200" spc="-1" strike="noStrike">
                <a:solidFill>
                  <a:srgbClr val="00b0f0"/>
                </a:solidFill>
                <a:latin typeface="Arial"/>
              </a:rPr>
              <a:t>неокласика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виросла з </a:t>
            </a:r>
            <a:r>
              <a:rPr b="1" lang="uk-UA" sz="2200" spc="-1" strike="noStrike">
                <a:solidFill>
                  <a:srgbClr val="00b0f0"/>
                </a:solidFill>
                <a:latin typeface="Arial"/>
              </a:rPr>
              <a:t>маргіналізму,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то  вона має з своїм раннім етапом такі </a:t>
            </a:r>
            <a:r>
              <a:rPr b="1" i="1" lang="uk-UA" sz="2200" spc="-1" strike="noStrike">
                <a:solidFill>
                  <a:srgbClr val="ff0000"/>
                </a:solidFill>
                <a:latin typeface="Arial"/>
              </a:rPr>
              <a:t>спільні риси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 Принцип оптимізації, що тісно пов'язаний з ідеєю повної раціональності поведінки економічних суб’єктів (концепція – homo economicu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 Методологічний індивідуаліз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 Привнесення в економічну теорію суб’єктивізму і психологіз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 Наголос на функціональному, а не на причинно-наслідковому, методі аналі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5. Сприйняття економіки як системи рівнова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Проте, трансформуючись у неокласику, маргіналізм </a:t>
            </a:r>
            <a:r>
              <a:rPr b="1" i="1" lang="uk-UA" sz="2200" spc="-1" strike="noStrike">
                <a:solidFill>
                  <a:srgbClr val="ff0000"/>
                </a:solidFill>
                <a:latin typeface="Arial"/>
              </a:rPr>
              <a:t>втратив деякі свої суттєві риси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, зокрема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 Надмірний акцент на сфері споживання та нехтування сферою виробниц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 пояснення теорії цінності як основної проблеми економічної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 Надмірний психологізм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95120" y="414360"/>
            <a:ext cx="8802720" cy="111600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4" descr="1050751.jpg"/>
          <p:cNvPicPr/>
          <p:nvPr/>
        </p:nvPicPr>
        <p:blipFill>
          <a:blip r:embed="rId2"/>
          <a:stretch/>
        </p:blipFill>
        <p:spPr>
          <a:xfrm>
            <a:off x="500040" y="1500120"/>
            <a:ext cx="2286000" cy="346716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Documents and Settings\Admin\Рабочий стол\f33e80ac9cb1fece3a8c2ea87a08ae8c_180x0.jpg"/>
          <p:cNvPicPr/>
          <p:nvPr/>
        </p:nvPicPr>
        <p:blipFill>
          <a:blip r:embed="rId3"/>
          <a:stretch/>
        </p:blipFill>
        <p:spPr>
          <a:xfrm>
            <a:off x="3071880" y="1500120"/>
            <a:ext cx="2786040" cy="3552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Рабочий стол\01-01-1920.jpg"/>
          <p:cNvPicPr/>
          <p:nvPr/>
        </p:nvPicPr>
        <p:blipFill>
          <a:blip r:embed="rId4"/>
          <a:stretch/>
        </p:blipFill>
        <p:spPr>
          <a:xfrm>
            <a:off x="6072120" y="1500120"/>
            <a:ext cx="2500560" cy="3537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6"/>
          <p:cNvSpPr/>
          <p:nvPr/>
        </p:nvSpPr>
        <p:spPr>
          <a:xfrm>
            <a:off x="500040" y="52149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л Менґ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40-192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6072120" y="52149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ідріх фон Ві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51-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3143160" y="52149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ґен Бем-Бав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51-19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4"/>
          <p:cNvSpPr/>
          <p:nvPr/>
        </p:nvSpPr>
        <p:spPr>
          <a:xfrm>
            <a:off x="428760" y="58680"/>
            <a:ext cx="821520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Методологічні засади австрійського маргіналізму у порівнянні з іншими школами мають певні особливост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Надмірний наголос на суб’єктивізмі та психологізм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Значний акцент на сфері споживання і нехтування сферою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Дотримання принципу «вихідної категорії», характерного для класичної політичної економ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Розуміння економічної науки як такої, що досліджує причинно-наслідкові, а не функціональні зв’я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Перевага якісного характеру економічного аналізу та нехтування графічними та алгебраїчними методами аналі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Погляд на економічні феномени як на результат спонтанних д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. Відмова від погляду на господарство як на систему рівноваги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1555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Концепція економічного блага.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Річ набуває рис блага за таких умов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явність певної потреби людин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явність в даної речі потенційних властивостей, що дозволяють їй задовольнити цю потребу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знання людини щодо потенційних властивостей речі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володіння річчю, що дозволяє використовувати перелічені властивості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>
            <a:off x="142920" y="428760"/>
            <a:ext cx="8715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Концепція суб'єктивної ціннос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Суб'єктивна цінність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– це значення, яке має для індивіда дане благо. </a:t>
            </a: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Цінність не є об'єктивною властивістю речі.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Цінність – це оцінка блага індивідом.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 Тому одне й те ж саме благо може мати різну цінність для різних індивід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еобхідними умовами для володіння благом є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а) його корисність для даного індиві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б) рідкісні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Суб'єктивна цінність блага визначається корисністю останньої одиниці спожитого бла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285840" y="928800"/>
          <a:ext cx="8643960" cy="5808600"/>
        </p:xfrm>
        <a:graphic>
          <a:graphicData uri="http://schemas.openxmlformats.org/drawingml/2006/table">
            <a:tbl>
              <a:tblPr/>
              <a:tblGrid>
                <a:gridCol w="1977840"/>
                <a:gridCol w="594000"/>
                <a:gridCol w="504720"/>
                <a:gridCol w="658800"/>
                <a:gridCol w="587160"/>
                <a:gridCol w="658800"/>
                <a:gridCol w="586080"/>
                <a:gridCol w="658800"/>
                <a:gridCol w="585720"/>
                <a:gridCol w="512640"/>
                <a:gridCol w="1319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пожиті оди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 ї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ютю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р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ре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етве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'я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Ш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ь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сь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в'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с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имські цифри – конкретні види бла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абські цифри – кількісне значення корисності блага для індиві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4" name="TextBox 2"/>
          <p:cNvSpPr/>
          <p:nvPr/>
        </p:nvSpPr>
        <p:spPr>
          <a:xfrm>
            <a:off x="1357200" y="28584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БЛИЦЯ МЕНГ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024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3568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На початку 70-х рр. ХІХ ст. відбулась так звана «маргіналістична революція», яка була провісником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неокласичної парадигми 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в економічній науці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Майже одночасно і незалежно одна від одної різними мовами відразу у трьох країнах – Австрії, Великій Британії  та Швейцарії з’явилися написані на основі теорії граничної корисності праці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  <a:ea typeface="Arial"/>
              </a:rPr>
              <a:t>Карла Менгера, Вільяма Стенлі Джевонса та Леона Вальраса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Маргіналізм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був своєрідною реакцією на теорію цінності класичної школи. Згідно класичних теорій цінності (трудової теорії цінності, теорії трьох факторів виробництва) цінність блага визначається майже виключно </a:t>
            </a:r>
            <a:r>
              <a:rPr b="1" lang="uk-UA" sz="2000" spc="-1" strike="noStrike">
                <a:solidFill>
                  <a:srgbClr val="00b0f0"/>
                </a:solidFill>
                <a:latin typeface="Arial"/>
                <a:ea typeface="Arial"/>
              </a:rPr>
              <a:t>об’єктивними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факторами – витратами виробництва. Натомість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маргіналісти 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зосередились на вивченні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  <a:ea typeface="Arial"/>
              </a:rPr>
              <a:t>суб’єктивних факторів цінності – уподобаннях окремої людин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285840" y="219240"/>
          <a:ext cx="8643960" cy="63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19240"/>
                    <a:ext cx="8643960" cy="63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500040" y="357120"/>
            <a:ext cx="842976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Маргіналістична революція окреслює </a:t>
            </a:r>
            <a:r>
              <a:rPr b="1" lang="uk-UA" sz="2200" spc="-1" strike="noStrike">
                <a:solidFill>
                  <a:srgbClr val="ff0000"/>
                </a:solidFill>
                <a:latin typeface="Arial"/>
                <a:ea typeface="Arial"/>
              </a:rPr>
              <a:t>перший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 або ранній етап становлення неокласики, який ще називають маргіналізмом у вузькому розумін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Він має такі основні ри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1. Предмет економічного аналізу. </a:t>
            </a:r>
            <a:r>
              <a:rPr b="1" i="1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Зміщення акцентів з сфери виробництва на сферу спож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2. Методи економічного аналізу. </a:t>
            </a:r>
            <a:r>
              <a:rPr b="1" i="1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Абстрактно-дедуктивний та заміна причинно-наслідкового аналізу функціональни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що відкрило двері для використання в економічній науці математичних методі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357120" y="571680"/>
            <a:ext cx="8501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Широке запровадження </a:t>
            </a:r>
            <a:r>
              <a:rPr b="0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граничних величин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(«маргіналізм» від латинського margo – межа, границя) та </a:t>
            </a:r>
            <a:r>
              <a:rPr b="0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диференційного числе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осередження уваги на зміні певної величини, за умови що друга змінилася на одиниц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4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Суб’єктивіз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–  дослідження економічних явищ з точки зору окремого суб’єкту господарювання. Маргіналізм  часто називають суб’єктивною школою економік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285840" y="357120"/>
            <a:ext cx="85723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5. Методологічний індивідуалізм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виведення закономірностей функціонування господарства в цілому із поведінки окремо взятого суб’єкту господарювання.</a:t>
            </a:r>
            <a:r>
              <a:rPr b="1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6.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Наголос на дослідженні </a:t>
            </a:r>
            <a:r>
              <a:rPr b="0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використання обмежених ресурсів з метою задоволення потреб людини в окреслений проміжок часу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7.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Сприйняття ринкової системи як </a:t>
            </a:r>
            <a:r>
              <a:rPr b="0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системи рівноваги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(крім австрійської школи), яка базується на раціональній поведінці людини (концепції homo economi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2"/>
          <p:cNvSpPr/>
          <p:nvPr/>
        </p:nvSpPr>
        <p:spPr>
          <a:xfrm>
            <a:off x="642960" y="14292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Поступово критика класиків представниками маргіналізму дещо пом’якшується і у процесі його еволюції він запозичує певні елементи класичної політичної економ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другому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або пізньому етапі (80-90-і рр. ХІХ ст.) маргіналізм зусиллями американ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Джона Бейтса Кларка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, швейцар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Вільфредо Парето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і особливо англій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Альфреда Маршалла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поступово трансформується в неокласичну школу (маргіналізм у широкому розумінні), яка стає провідною парадигмою в економічній науці на довгі десятилі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571680" y="50004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Arial"/>
              </a:rPr>
              <a:t>Неокласична школа і класична політична економія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ють такі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спільні риси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Погляд на економічну теорію як на науку універсальну, що має абстрактно-дедуктивни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 Концепція людини економічної –  homo economi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 Недооцінка ролі грошей та ігнорування впливу їх кількості на реальні господарські проце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. Заперечення криз перевиробництва та певне нехтування проблемами макроекономі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. Принцип економічної політики – доктрина laissez faire та заперечення необхідності втручання держави в економі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500040" y="21420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ими </a:t>
            </a: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розбіжностям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між </a:t>
            </a:r>
            <a:r>
              <a:rPr b="1" lang="uk-UA" sz="3200" spc="-1" strike="noStrike">
                <a:solidFill>
                  <a:srgbClr val="00b0f0"/>
                </a:solidFill>
                <a:latin typeface="Arial"/>
              </a:rPr>
              <a:t>класиками і неокласиками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гнорування останніми теорії цінності як основної проблеми економічної науки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дмова від аналізу економічного зростання і динаміки розподілу доход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ogoby4</cp:lastModifiedBy>
  <dcterms:modified xsi:type="dcterms:W3CDTF">2016-10-05T19:04:45Z</dcterms:modified>
  <cp:revision>74</cp:revision>
  <dc:subject/>
  <dc:title>ІСТОРІЯ ЕКОНОМІКИ  ТА ЕКОНОМІЧНОЇ ДУМКИ</dc:title>
</cp:coreProperties>
</file>