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E769-53C5-4813-BF35-128EB36FE8D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180D-0D9E-4D18-BA39-AA3C5DF6975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49B4-206E-433E-9759-DC9FD636E0B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6C6A-E5B8-4339-9ABB-67937D4DAC9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CDD6-9436-409A-892B-BF81C291AA9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132-5DC7-42D6-8428-E17D3610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C58-DDFB-41D2-AC24-3C79C541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92BCB-186B-4A5F-A236-AC7E3525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CD7EB-F105-4C71-83F7-3C4589B4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2550C-BF26-4D83-8307-F36BA5F9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82197-636B-4D59-AE3A-CFCA0771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DB6B3-5C2C-4337-AB0B-B0829BE8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1DC66-BB5B-4FB1-BF31-26E8E84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8AFBD-79C3-42C8-B526-D4D88534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61D99-AC9F-401B-8A9D-19BA14D6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2567E-D038-4BC9-ABB2-4BB5F877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AE5-BEE1-4189-A163-B06AD318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1FE-5BC9-49FB-9E3C-EC0DCB32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EB1F-9A49-4EBC-97AE-09955763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4A94-3AD2-4E2D-979C-4756E6EA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6811-5BE9-4B00-A7AC-82E5E696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F659-E638-4212-8170-FD2989B6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2FE6-9864-4E1B-A1B2-6D75E603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FB3C-E41E-466C-B1D8-8DFF8297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3C1F-B858-4CAD-8565-CBBF14E3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13B-47D9-476A-8660-ED39C86A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00CB-1BAC-4578-A75C-7049B3E4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DEE5-C923-4B24-8D16-AEE1C4AF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58CF-B44A-4595-8338-23A81791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FF86-B953-4AA2-BCC9-9BB68686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4ECF-90EF-41E2-9887-86658D96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3C54-5B3C-49C9-B2D4-409ADAB0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9C63-76DC-42A8-A8AE-C391CF33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E98F-B448-4EDA-BB9E-E364AE01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CCF9-706E-42F9-9CA4-31972D2B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19BA-12AC-444F-81D7-0EAB1647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23D-A206-4E9A-A455-71188C8F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224F-6124-483F-B903-1B9621A2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AA221-EA27-4136-A6DE-449EF17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6A63-E707-4D34-855D-DABE22D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C54E-58FA-4555-B0A0-1C5BB01D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2AB6F-7065-47AA-A9AE-61204A6E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419B-9812-4CD7-8986-33BC676D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028B-19FD-4957-9B9A-82AD1D5D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D7B00-4FD2-4C5F-9E2D-A4DE9CA3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E6D6-4D48-4998-AFE8-963C8DC7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3B91D-D042-443A-AC1C-8262C5E4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B8F-A8C3-4811-9277-56F0158D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1565-FD84-466C-9EF7-B1C2D199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9BF4-6EF9-4CED-9ACD-7B733938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4A56-F9AE-400A-9C35-792C9A89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536B-FF1E-450D-A677-AC7C951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422F8-4AF1-4DB7-9DBA-7E3E334D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BD774-9A03-4478-A515-1DAD794D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4F20D-DEC5-4F2C-A415-A1BE5298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2BA0-6211-498C-98DD-CDC6EE73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4A0A-E157-44D5-B249-364FE30E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3399-C22B-41D2-84EF-3286BEBC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3F3-8CBA-4824-860B-2BF2421C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CC212-9C35-4672-838D-FE2952B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972F8-6F4B-41B8-9008-A683B1F1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9D41A-9925-42F1-9A70-EF665760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2D8D0-816B-4B50-9512-C1A1FCE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63A6-76AA-431B-A9BF-A65173C1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F43A5-E852-4D15-8184-64A60424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35EE-CC3E-4741-B512-22A3F98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2DF21-D456-4164-8CA1-F2F850E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1FD6D-DDFA-4904-BFB4-C617031B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13261-6335-4746-9782-759462B3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994-E3AD-490D-904E-8BB392BA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497D-5751-4DA2-AEE8-0DA75B8F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EEAD9-05FD-42B3-8E03-0676D5F7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841D-7EF2-44F5-A1D0-3EEBFFB3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A8A63-A809-43E2-A348-D8BA439B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2CAD-45F0-45B4-8379-578F45CF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8493-05ED-4645-B94D-318D1AF9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C72C9-2EC7-4B1C-A55B-3742CF38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41C52-A39C-49E4-97A8-2C695132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3D636-622C-46BF-B691-C4477D4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8916C-1901-45B1-98AA-92AE86DF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24E-D8ED-454F-8B12-9E2270E0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AB4C5-0F34-4603-8D97-3D9D5BEC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C0EC1-206A-4177-BF87-8A1B7DBF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A0265-0AD6-43F5-B435-E19CF188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81179-2B1D-4383-958F-7ADAF77C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A4344-F7D2-4F28-8880-0C2BB33B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7C389-67BB-4933-801C-C6D653C2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47F17-249D-44A0-8DF6-ED00A893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D641D-35E0-4FB4-A637-C0EB63A5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D6693-6127-41E9-87C6-F9CD7499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C0587-2E4C-4873-A67A-A29B515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31F-AE95-404B-BDC0-D3F54D20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433D-7EDB-4656-82B5-9449E1E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72FB-A418-49B4-8C50-787DC9F3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57A1F-E0D0-4C83-8F45-E1F70A0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57CF0-48A5-42CD-AB6E-6FCB1FDF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FCA2-7E0D-4E14-9C29-F8ABBF6F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3E9D5-537F-496E-A4D8-1DAFE5DD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DBE48-7B1E-48BF-90A7-020153DA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CD8D4-E60E-40D1-8CCC-A126BEA3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4DAF6-49A6-4591-97BD-6D87AAD2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0AF2A-1A83-4778-A36F-B1FD8421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720-59C6-4864-A53B-76A8D05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FD88F-8B0A-40E4-9F9E-42D57DA6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6D874-8EA7-4313-A2EB-11751A91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ABE11-B8D1-4A59-843B-6DD7B65E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5B22A-9E6B-4894-975C-3241BCE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8411C-BE8B-4787-93D2-EAD6CB4F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563FA-CA89-4024-8F02-BA5B3F6E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6D47F-FEAA-4839-A9E0-A7BDAFAB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E853E-1759-4F3F-B04D-3045BFC8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61D11-3894-43B1-BA94-59153D22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49DB4-F636-4BF9-B5DF-F2877528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1088-6D19-4CD1-8225-E8DAF6DB6BA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75A0-DF96-4640-A3E7-2EDE02A11BF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3A8D-CB35-443C-B34C-74AED8C078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F719-666C-4056-86E1-EB39C8E64E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F665-FBCE-4BD1-8BDA-AC981FCABE6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9423-F8A6-4B38-B205-6C1BE7F87F8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F6C2-A357-4043-8F66-42A568DBCC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48A5-FF6C-4D23-9BAB-2DB0C220C0E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6F5B-1856-4DEC-989F-60200851102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9680" y="450720"/>
            <a:ext cx="8802720" cy="324972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2" descr=""/>
          <p:cNvPicPr/>
          <p:nvPr/>
        </p:nvPicPr>
        <p:blipFill>
          <a:blip r:embed="rId2"/>
          <a:stretch/>
        </p:blipFill>
        <p:spPr>
          <a:xfrm>
            <a:off x="304920" y="3517920"/>
            <a:ext cx="8692920" cy="29862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428760" y="285840"/>
            <a:ext cx="85723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Оскільки </a:t>
            </a:r>
            <a:r>
              <a:rPr b="1" lang="uk-UA" sz="2200" spc="-1" strike="noStrike">
                <a:solidFill>
                  <a:srgbClr val="00b0f0"/>
                </a:solidFill>
                <a:latin typeface="Arial"/>
              </a:rPr>
              <a:t>неокласика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виросла з </a:t>
            </a:r>
            <a:r>
              <a:rPr b="1" lang="uk-UA" sz="2200" spc="-1" strike="noStrike">
                <a:solidFill>
                  <a:srgbClr val="00b0f0"/>
                </a:solidFill>
                <a:latin typeface="Arial"/>
              </a:rPr>
              <a:t>маргіналізму,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то  вона має з своїм раннім етапом такі </a:t>
            </a:r>
            <a:r>
              <a:rPr b="1" i="1" lang="uk-UA" sz="2200" spc="-1" strike="noStrike">
                <a:solidFill>
                  <a:srgbClr val="ff0000"/>
                </a:solidFill>
                <a:latin typeface="Arial"/>
              </a:rPr>
              <a:t>спільні риси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. Принцип оптимізації, що тісно пов'язаний з ідеєю повної раціональності поведінки економічних суб’єктів (концепція – homo economicu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2. Методологічний індивідуаліз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 Привнесення в економічну теорію суб’єктивізму і психологіз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4. Наголос на функціональному, а не на причинно-наслідковому, методі аналі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5. Сприйняття економіки як системи рівнова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Проте, трансформуючись у неокласику, маргіналізм </a:t>
            </a:r>
            <a:r>
              <a:rPr b="1" i="1" lang="uk-UA" sz="2200" spc="-1" strike="noStrike">
                <a:solidFill>
                  <a:srgbClr val="ff0000"/>
                </a:solidFill>
                <a:latin typeface="Arial"/>
              </a:rPr>
              <a:t>втратив деякі свої суттєві риси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, зокрема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. Надмірний акцент на сфері споживання та нехтування сферою виробниц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2. пояснення теорії цінності як основної проблеми економічної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 Надмірний психологізм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95120" y="414360"/>
            <a:ext cx="8802720" cy="111600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4" descr="1050751.jpg"/>
          <p:cNvPicPr/>
          <p:nvPr/>
        </p:nvPicPr>
        <p:blipFill>
          <a:blip r:embed="rId2"/>
          <a:stretch/>
        </p:blipFill>
        <p:spPr>
          <a:xfrm>
            <a:off x="500040" y="1500120"/>
            <a:ext cx="2286000" cy="346716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C:\Documents and Settings\Admin\Рабочий стол\f33e80ac9cb1fece3a8c2ea87a08ae8c_180x0.jpg"/>
          <p:cNvPicPr/>
          <p:nvPr/>
        </p:nvPicPr>
        <p:blipFill>
          <a:blip r:embed="rId3"/>
          <a:stretch/>
        </p:blipFill>
        <p:spPr>
          <a:xfrm>
            <a:off x="3071880" y="1500120"/>
            <a:ext cx="2786040" cy="3552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Admin\Рабочий стол\01-01-1920.jpg"/>
          <p:cNvPicPr/>
          <p:nvPr/>
        </p:nvPicPr>
        <p:blipFill>
          <a:blip r:embed="rId4"/>
          <a:stretch/>
        </p:blipFill>
        <p:spPr>
          <a:xfrm>
            <a:off x="6072120" y="1500120"/>
            <a:ext cx="2500560" cy="3537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6"/>
          <p:cNvSpPr/>
          <p:nvPr/>
        </p:nvSpPr>
        <p:spPr>
          <a:xfrm>
            <a:off x="500040" y="52149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л Менґ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40-192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7"/>
          <p:cNvSpPr/>
          <p:nvPr/>
        </p:nvSpPr>
        <p:spPr>
          <a:xfrm>
            <a:off x="6072120" y="52149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рідріх фон Ві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851-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3143160" y="52149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йґен Бем-Бав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51-19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4"/>
          <p:cNvSpPr/>
          <p:nvPr/>
        </p:nvSpPr>
        <p:spPr>
          <a:xfrm>
            <a:off x="428760" y="58680"/>
            <a:ext cx="821520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Методологічні засади австрійського маргіналізму у порівнянні з іншими школами мають певні особливост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Надмірний наголос на суб’єктивізмі та психологізм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Значний акцент на сфері споживання і нехтування сферою вироб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Дотримання принципу «вихідної категорії», характерного для класичної політичної економ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Розуміння економічної науки як такої, що досліджує причинно-наслідкові, а не функціональні зв’я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Перевага якісного характеру економічного аналізу та нехтування графічними та алгебраїчними методами аналі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Погляд на економічні феномени як на результат спонтанних д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. Відмова від погляду на господарство як на систему рівноваги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1555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Концепція економічного блага.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Річ набуває рис блага за таких умов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явність певної потреби людин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явність в даної речі потенційних властивостей, що дозволяють їй задовольнити цю потребу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знання людини щодо потенційних властивостей речі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володіння річчю, що дозволяє використовувати перелічені властивості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>
            <a:off x="142920" y="428760"/>
            <a:ext cx="8715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Концепція суб'єктивної ціннос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Суб'єктивна цінність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– це значення, яке має для індивіда дане благо. </a:t>
            </a: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Цінність не є об'єктивною властивістю речі.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Цінність – це оцінка блага індивідом.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 Тому одне й те ж саме благо може мати різну цінність для різних індивід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еобхідними умовами для володіння благом є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а) його корисність для даного індиві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б) рідкісні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Суб'єктивна цінність блага визначається корисністю останньої одиниці спожитого бла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285840" y="928800"/>
          <a:ext cx="8643960" cy="5808600"/>
        </p:xfrm>
        <a:graphic>
          <a:graphicData uri="http://schemas.openxmlformats.org/drawingml/2006/table">
            <a:tbl>
              <a:tblPr/>
              <a:tblGrid>
                <a:gridCol w="1977840"/>
                <a:gridCol w="594000"/>
                <a:gridCol w="504720"/>
                <a:gridCol w="658800"/>
                <a:gridCol w="587160"/>
                <a:gridCol w="658800"/>
                <a:gridCol w="586080"/>
                <a:gridCol w="658800"/>
                <a:gridCol w="585720"/>
                <a:gridCol w="512640"/>
                <a:gridCol w="1319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пожиті оди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 ї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ютю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р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ре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етве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'я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Ш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ь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ось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в'я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ся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имські цифри – конкретні види бла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абські цифри – кількісне значення корисності блага для індиві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4" name="TextBox 2"/>
          <p:cNvSpPr/>
          <p:nvPr/>
        </p:nvSpPr>
        <p:spPr>
          <a:xfrm>
            <a:off x="1357200" y="28584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БЛИЦЯ МЕНГ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024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3568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На початку 70-х рр. ХІХ ст. відбулась так звана «маргіналістична революція», яка була провісником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неокласичної парадигми 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в економічній науці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Майже одночасно і незалежно одна від одної різними мовами відразу у трьох країнах – Австрії, Великій Британії  та Швейцарії з’явилися написані на основі теорії граничної корисності праці </a:t>
            </a:r>
            <a:r>
              <a:rPr b="1" lang="uk-UA" sz="2000" spc="-1" strike="noStrike">
                <a:solidFill>
                  <a:srgbClr val="0070c0"/>
                </a:solidFill>
                <a:latin typeface="Arial"/>
                <a:ea typeface="Arial"/>
              </a:rPr>
              <a:t>Карла Менгера, Вільяма Стенлі Джевонса та Леона Вальраса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Маргіналізм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був своєрідною реакцією на теорію цінності класичної школи. Згідно класичних теорій цінності (трудової теорії цінності, теорії трьох факторів виробництва) цінність блага визначається майже виключно </a:t>
            </a:r>
            <a:r>
              <a:rPr b="1" lang="uk-UA" sz="2000" spc="-1" strike="noStrike">
                <a:solidFill>
                  <a:srgbClr val="00b0f0"/>
                </a:solidFill>
                <a:latin typeface="Arial"/>
                <a:ea typeface="Arial"/>
              </a:rPr>
              <a:t>об’єктивними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факторами – витратами виробництва. Натомість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маргіналісти 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зосередились на вивченні </a:t>
            </a:r>
            <a:r>
              <a:rPr b="1" i="1" lang="uk-UA" sz="2000" spc="-1" strike="noStrike">
                <a:solidFill>
                  <a:srgbClr val="00b0f0"/>
                </a:solidFill>
                <a:latin typeface="Arial"/>
                <a:ea typeface="Arial"/>
              </a:rPr>
              <a:t>суб’єктивних факторів цінності – уподобаннях окремої людин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285840" y="219240"/>
          <a:ext cx="8643960" cy="63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19240"/>
                    <a:ext cx="8643960" cy="63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500040" y="357120"/>
            <a:ext cx="842976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Маргіналістична революція окреслює </a:t>
            </a:r>
            <a:r>
              <a:rPr b="1" lang="uk-UA" sz="2200" spc="-1" strike="noStrike">
                <a:solidFill>
                  <a:srgbClr val="ff0000"/>
                </a:solidFill>
                <a:latin typeface="Arial"/>
                <a:ea typeface="Arial"/>
              </a:rPr>
              <a:t>перший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 або ранній етап становлення неокласики, який ще називають маргіналізмом у вузькому розумін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Він має такі основні ри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1. Предмет економічного аналізу. </a:t>
            </a:r>
            <a:r>
              <a:rPr b="1" i="1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Зміщення акцентів з сфери виробництва на сферу спожи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2. Методи економічного аналізу. </a:t>
            </a:r>
            <a:r>
              <a:rPr b="1" i="1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Абстрактно-дедуктивний та заміна причинно-наслідкового аналізу функціональни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що відкрило двері для використання в економічній науці математичних методі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357120" y="571680"/>
            <a:ext cx="8501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3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Широке запровадження </a:t>
            </a:r>
            <a:r>
              <a:rPr b="0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граничних величин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(«маргіналізм» від латинського margo – межа, границя) та </a:t>
            </a:r>
            <a:r>
              <a:rPr b="0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диференційного числе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осередження уваги на зміні певної величини, за умови що друга змінилася на одиниц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4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Суб’єктивіз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–  дослідження економічних явищ з точки зору окремого суб’єкту господарювання. Маргіналізм  часто називають суб’єктивною школою економік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285840" y="357120"/>
            <a:ext cx="85723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5. Методологічний індивідуалізм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виведення закономірностей функціонування господарства в цілому із поведінки окремо взятого суб’єкту господарювання.</a:t>
            </a:r>
            <a:r>
              <a:rPr b="1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6.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Наголос на дослідженні </a:t>
            </a:r>
            <a:r>
              <a:rPr b="0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використання обмежених ресурсів з метою задоволення потреб людини в окреслений проміжок часу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7.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Сприйняття ринкової системи як </a:t>
            </a:r>
            <a:r>
              <a:rPr b="0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системи рівноваги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(крім австрійської школи), яка базується на раціональній поведінці людини (концепції homo economi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2"/>
          <p:cNvSpPr/>
          <p:nvPr/>
        </p:nvSpPr>
        <p:spPr>
          <a:xfrm>
            <a:off x="642960" y="14292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Поступово критика класиків представниками маргіналізму дещо пом’якшується і у процесі його еволюції він запозичує певні елементи класичної політичної економ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другому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або пізньому етапі (80-90-і рр. ХІХ ст.) маргіналізм зусиллями американ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Джона Бейтса Кларка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, швейцар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Вільфредо Парето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і особливо англій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Альфреда Маршалла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поступово трансформується в неокласичну школу (маргіналізм у широкому розумінні), яка стає провідною парадигмою в економічній науці на довгі десятилі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571680" y="50004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Arial"/>
              </a:rPr>
              <a:t>Неокласична школа і класична політична економія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ють такі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спільні риси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Погляд на економічну теорію як на науку універсальну, що має абстрактно-дедуктивни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 Концепція людини економічної –  homo economi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 Недооцінка ролі грошей та ігнорування впливу їх кількості на реальні господарські проце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. Заперечення криз перевиробництва та певне нехтування проблемами макроекономі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. Принцип економічної політики – доктрина laissez faire та заперечення необхідності втручання держави в економі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500040" y="21420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ими </a:t>
            </a: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розбіжностями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між </a:t>
            </a:r>
            <a:r>
              <a:rPr b="1" lang="uk-UA" sz="3200" spc="-1" strike="noStrike">
                <a:solidFill>
                  <a:srgbClr val="00b0f0"/>
                </a:solidFill>
                <a:latin typeface="Arial"/>
              </a:rPr>
              <a:t>класиками і неокласиками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гнорування останніми теорії цінності як основної проблеми економічної науки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ідмова від аналізу економічного зростання і динаміки розподілу доход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ogoby4</cp:lastModifiedBy>
  <dcterms:modified xsi:type="dcterms:W3CDTF">2016-10-05T19:04:45Z</dcterms:modified>
  <cp:revision>74</cp:revision>
  <dc:subject/>
  <dc:title>ІСТОРІЯ ЕКОНОМІКИ  ТА ЕКОНОМІЧНОЇ ДУМКИ</dc:title>
</cp:coreProperties>
</file>