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0910-0782-45C3-ADBF-63DDDBEF5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5655-0C79-40EA-8078-93D91F66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A7E7-AF3A-4A15-BC38-65E1543EB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5CF4-D131-452A-A8C8-361BBEA71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953E-45AD-47C6-B814-02CCC646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209E-CA7F-4DB7-B523-86B54066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C001-0384-4515-B7B9-B26576DA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72E2-D9FD-4BD6-814D-6FD420A6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DD06-3E59-480B-8FAD-F7A91007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3C37-E02F-4B41-905C-35431F04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FDAF-70F3-48D5-ABA8-6FF8DB30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396C-F3C4-49CF-8F7D-5E59EEC6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ACAE-2C68-4467-8A91-1F3DE757D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УТНІСТЬ ТА ВИДИ ЗДІБНОСТЕЙ ЛЮДИ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666880" y="2438280"/>
            <a:ext cx="364644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82240" cy="15238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Arial"/>
              </a:rPr>
              <a:t>Здібності – це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666880"/>
            <a:ext cx="8382240" cy="289584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єднання сприятливих індивідуально-своєрідних особливостей та якостей психіки, що виявляються у швидкості, результативності та якості виконання відповідної діяльності за мінімальних силових, енергетичних і часових затр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19720" y="2209680"/>
            <a:ext cx="0" cy="4572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82240" cy="12189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Чинники рівня розвитку </a:t>
            </a:r>
            <a:br>
              <a:rPr sz="3200"/>
            </a:b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здібностей людин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981080"/>
            <a:ext cx="8001000" cy="9144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якість знань і вмінь, міра їх поєднання в єдине ціл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3124080"/>
            <a:ext cx="8001000" cy="13716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родні задатки людини, якості природних нервових механізмів елементарної психічної діяльност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4724280"/>
            <a:ext cx="8001000" cy="14479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ільша чи менша «тренованість» самих мозкових структур, які беруть участь у здійсненні пізнавальних і психомоторних процес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752480"/>
            <a:ext cx="0" cy="3657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541008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380988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251460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382240" cy="9144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Рівні здібностей люди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209680"/>
            <a:ext cx="7925040" cy="152424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репродуктивний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забезпечує високе вміння засвоювати знання, оволодівати діяльніст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3962520"/>
            <a:ext cx="7925040" cy="12189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творчий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забезпечує створення нового, оригіна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981080"/>
            <a:ext cx="0" cy="25909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2971800"/>
            <a:ext cx="2286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4572000"/>
            <a:ext cx="2286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114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Arial"/>
              </a:rPr>
              <a:t>Талант – це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2514600"/>
            <a:ext cx="4496040" cy="28954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акий рівень розвитку здібностей, який дає людині можливості творчо працювати й досягнути надзвичайно важливих, значущих успіхів у діяльнос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2057400"/>
            <a:ext cx="0" cy="4572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715000" y="2438280"/>
            <a:ext cx="20923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114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Arial"/>
              </a:rPr>
              <a:t>Геніальність –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2514600"/>
            <a:ext cx="4496040" cy="28954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йвищий рівень творчих виявів особистості, який втілюється у творчості, що має історичне значення для життя суспі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2057400"/>
            <a:ext cx="0" cy="4572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34120" y="2286000"/>
            <a:ext cx="32385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9T13:02:29Z</dcterms:created>
  <dc:creator>Viacheslav Tkachuk</dc:creator>
  <dc:description/>
  <dc:language>en-US</dc:language>
  <cp:lastModifiedBy> Main User</cp:lastModifiedBy>
  <dcterms:modified xsi:type="dcterms:W3CDTF">2020-03-25T21:34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