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E2F0-3C68-411E-AF0F-E57FE775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EBB-7D39-4CCD-9676-4ECFCCEE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16D-5F0E-4B0D-BB48-E34998B3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0D8-BACA-4AAF-91A0-9340608F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210-3861-4298-95E4-D406BA58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1C6-05FD-4E35-A5C1-5A72D31B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6C1-BC78-4650-9E48-05876E51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FCC-2AC8-48DA-9B65-527B4730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BBF-0B6F-4362-8C98-6201CE5D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239-1BE8-4FB9-9B18-E06BFD0C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50E-A406-43A3-B394-F15217F2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1A8-D99B-4988-AF8C-E873F9BA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A6FC-8805-413C-8A72-71741CB3A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УТНІСТЬ ТА ВИДИ ЗДІБНОСТЕЙ ЛЮД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36464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1523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Здібності – ц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666880"/>
            <a:ext cx="8382240" cy="2895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єднання сприятливих індивідуально-своєрідних особливостей та якостей психіки, що виявляються у швидкості, результативності та якості виконання відповідної діяльності за мінімальних силових, енергетичних і часових зат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220968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12189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Чинники рівня розвитку </a:t>
            </a:r>
            <a:br>
              <a:rPr sz="3200"/>
            </a:b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здібностей людин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981080"/>
            <a:ext cx="800100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кість знань і вмінь, міра їх поєднання в єдине ці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124080"/>
            <a:ext cx="8001000" cy="13716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родні задатки людини, якості природних нервових механізмів елементарної психічної діяльност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724280"/>
            <a:ext cx="8001000" cy="14479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ільша чи менша «тренованість» самих мозкових структур, які беруть участь у здійсненні пізнавальних і психомоторних проце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75248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410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8098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51460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144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Рівні здібностей люди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09680"/>
            <a:ext cx="7925040" cy="15242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репродуктивни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забезпечує високе вміння засвоювати знання, оволодівати діяльніст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962520"/>
            <a:ext cx="7925040" cy="12189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творчи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забезпечує створення нового, оригін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981080"/>
            <a:ext cx="0" cy="25909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9718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572000"/>
            <a:ext cx="228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Талант – ц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514600"/>
            <a:ext cx="4496040" cy="2895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акий рівень розвитку здібностей, який дає людині можливості творчо працювати й досягнути надзвичайно важливих, значущих успіхів у дія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205740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20923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1143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Геніальність –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514600"/>
            <a:ext cx="4496040" cy="289548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йвищий рівень творчих виявів особистості, який втілюється у творчості, що має історичне значення для життя суспі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057400"/>
            <a:ext cx="0" cy="4572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238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3:02:29Z</dcterms:created>
  <dc:creator>Viacheslav Tkachuk</dc:creator>
  <dc:description/>
  <dc:language>en-US</dc:language>
  <cp:lastModifiedBy> Main User</cp:lastModifiedBy>
  <dcterms:modified xsi:type="dcterms:W3CDTF">2020-03-25T21:34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