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244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784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itsway.kiev.ua/pdf/Science-practic%20comment%20for%20Law%20about%20Electr%20Signature.pdf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29080" cy="39956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Джерел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ауково-практичний коментар щодо застосування електронного цифрового підпису в Україні. (Авторське право АМВ Group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Microsoft YaHei"/>
                <a:hlinkClick r:id="rId1"/>
              </a:rPr>
              <a:t>http://www.itsway.kiev.ua</a:t>
            </a:r>
            <a:r>
              <a:rPr b="0" lang="en-US" sz="1200" spc="-1" strike="noStrike" u="sng">
                <a:solidFill>
                  <a:srgbClr val="000080"/>
                </a:solidFill>
                <a:uFillTx/>
                <a:latin typeface="Times New Roman"/>
                <a:ea typeface="Microsoft YaHe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7C3-1E09-4617-BA27-25B78A74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C7E-D800-4403-A2E6-56CBF329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C10-DAEE-49AD-8263-EDBE7BE5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E9B-A377-462D-9F8F-C071FEF5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2F4A-643D-4A3A-BBF7-BB614521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3D65-2014-47D6-BD82-6D8CF294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C5EA-E73D-46CA-AF67-D24C4451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2CEF-4B15-43B3-AA5E-AA6F85FC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89B1-D7D7-48CD-97E2-3463BA3C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D207-7E13-4884-97D1-A8FC07A7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325E-A664-411E-B25B-349D8907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C2F-213B-4416-B551-68338F29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5D21-EAFA-4AF0-A17E-B383F51A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40E2-61E6-4C5F-9B92-2F5DD42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636F-3131-4756-9E0F-5DE83716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1A1A-9343-4CBE-93D8-3BB5861E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08D8-FAAE-4E6E-B38F-4A7B1086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789D-182C-4B53-9708-6FC7B720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45BBF-FC10-4B63-9441-62313F0A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24949-66BF-48EB-BFF5-A7AC8541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FFD8A-E0D5-4313-B662-B058743F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6A63-2052-49E6-9EF5-D97D15FB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BBE-A651-40AA-A686-02F299AD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06E7-5D80-4F2E-8A43-B2FE78A1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0A8A-D8AD-440C-8C4C-5017F120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D6E8B-9EDF-4237-B05A-E704CFD3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51CF-CE0D-4D86-B4A1-8E31C8E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4C7E1-9069-462B-A47E-4EDE8CEF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50E6-417E-47C9-B024-72B2C34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9AE0-9ECA-4624-8713-3F138C8F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3C5D-79E6-4ECD-94EF-DB2EE928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A56FA-DCA7-4AAA-9569-DE1E9A4C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DA07A-F009-4C3B-B806-E94D83F5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DC1-0951-4F65-B3CF-C51A644F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D5E9-0D44-4AF7-92CF-C265CBE2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BEDA6-6FF3-4613-8275-34637DEB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35C09-2AEF-4457-B2AD-9CDC0FD4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5008-ABB9-47BC-BC6D-B9CC1A23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60EF-EBD4-49D0-A5B9-544073D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7464-5772-4B3A-9231-8E609591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3A013-3E36-4C0F-9F2C-A9B18F23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8176-9D0F-4631-97C6-A3268859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D803-06B3-4CEE-85DB-9C505395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F860B-1602-4D98-871C-4AFFC908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C4B-635D-4883-902A-A2546AB2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F61F3-324D-458E-BBBA-E0862224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62610-B9B5-4F0E-8FE7-B6F12C78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4BF69-B3D3-4EBF-BF6D-36BE155E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2D91-625A-4A3A-A921-7C30ABF0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2B83-8ACA-4FD4-AF49-48835AA9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1B29C-75DD-4C99-AF9E-8F832F0A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C4625-E967-4C9D-91AA-BDB17CE0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480D-6F58-4DAD-B8AC-F24D8D5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0EE49-52AD-478B-97F5-2801BD7E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A8AA-F5AA-424D-A76A-65D3BCB4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06480" y="403200"/>
            <a:ext cx="8291520" cy="28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659-F95F-45A1-A60B-C16C32D7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71016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13840" y="121248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0648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71016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513840" y="3274200"/>
            <a:ext cx="266976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1767D-770B-4B61-8513-E96E6BC3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42B-F32E-4617-91B3-F1FF3A7B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5200" y="327420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25F-2930-4532-B6BA-641B3E78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0648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5200" y="1212480"/>
            <a:ext cx="404604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06480" y="3274200"/>
            <a:ext cx="8291520" cy="188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AD1-F55A-4AD0-8C0B-54C93BD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567400"/>
            <a:ext cx="3940200" cy="19922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3240" y="5567400"/>
            <a:ext cx="10083960" cy="199224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B1324A-9820-4D1C-B542-35B95BA9C6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756474-7191-4C78-941A-56E2E0DB3C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3240" y="-1440"/>
            <a:ext cx="10083960" cy="756108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0A6D7D-5B7E-4B10-9A57-9730A948F6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77720" y="-477720"/>
            <a:ext cx="7559640" cy="851544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3E53DF-B83E-4176-939F-992556F1BE51}" type="slidenum">
              <a:rPr b="0" lang="en-US" sz="18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919240"/>
            <a:ext cx="3936960" cy="46404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564160"/>
            <a:ext cx="3936960" cy="199548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6480" y="403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1212480"/>
            <a:ext cx="8291520" cy="394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87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78000" indent="-378000">
              <a:spcBef>
                <a:spcPts val="887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78000" indent="-378000">
              <a:spcBef>
                <a:spcPts val="8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21760" y="6470280"/>
            <a:ext cx="2398680" cy="22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878280" y="6927840"/>
            <a:ext cx="520848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342000" y="6883200"/>
            <a:ext cx="392040" cy="392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10080" rIns="10080" tIns="10080" bIns="1008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CDD347-9A73-4434-A952-3B6ECAAF4C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722160" y="154764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нна система документообігу та звітност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і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(тенденції у запровадженні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т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станні зміни у нормативному регулюванні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503280" y="900000"/>
            <a:ext cx="906300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00000" y="250920"/>
            <a:ext cx="8355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Franklin Gothic Book"/>
              </a:rPr>
              <a:t>Основні тези закону про електронний цифровий підп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896760" y="907560"/>
            <a:ext cx="8358480" cy="498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лектронний цифровий підпис (ЕЦП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ц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ид електронного підпису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триманого за результатом криптографічного  перетворення набору електронних даних, яки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дається до цього набору або логічно з ним поєднуєтьс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ЦП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иконує такі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ункції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дентифікація підписувача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-  засвідчує, що підписаний документ надходить від особи, яка його підписа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ідтвердження цілісності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даних в електронній формі -  є гарантією того, що підписаний документ не зазнав модифікації з боку третіх осіб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авові наслідки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-  позбавляє особу, яка підписала документ, можливості відмовитися від зобов’язань, викладених у підписаному докумен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вага! ЕЦП не робить документ конфіденційни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503280" y="68400"/>
            <a:ext cx="9058320" cy="954000"/>
          </a:xfrm>
          <a:prstGeom prst="rect">
            <a:avLst/>
          </a:prstGeom>
          <a:noFill/>
          <a:ln w="3168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уб'єкти електронного документообігу із застосуванням ЕЦ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682560" y="1625760"/>
            <a:ext cx="2197080" cy="100152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ідписув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544920" y="1617840"/>
            <a:ext cx="2733480" cy="100944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Центр сертифікації ключів (ЦС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659640" y="1617840"/>
            <a:ext cx="2809800" cy="96192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ористув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627960" y="3089160"/>
            <a:ext cx="2916000" cy="184320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еревіряє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електронний цифровий підп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600360" y="3060720"/>
            <a:ext cx="2725920" cy="187164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надає послуги обслуговування процесу електронного цифрового підпи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539640" y="3078000"/>
            <a:ext cx="2786040" cy="1854360"/>
          </a:xfrm>
          <a:prstGeom prst="rect">
            <a:avLst/>
          </a:prstGeom>
          <a:noFill/>
          <a:ln w="25560">
            <a:solidFill>
              <a:srgbClr val="3333cc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олодіє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обистим ключем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(доступним тільки йом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1600200" y="1042920"/>
            <a:ext cx="217440" cy="58104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4751280" y="1042920"/>
            <a:ext cx="217440" cy="58104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7991640" y="1039680"/>
            <a:ext cx="217440" cy="579600"/>
          </a:xfrm>
          <a:prstGeom prst="downArrow">
            <a:avLst>
              <a:gd name="adj1" fmla="val 50000"/>
              <a:gd name="adj2" fmla="val 5006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1584360" y="2627280"/>
            <a:ext cx="216000" cy="436680"/>
          </a:xfrm>
          <a:prstGeom prst="downArrow">
            <a:avLst>
              <a:gd name="adj1" fmla="val 50000"/>
              <a:gd name="adj2" fmla="val 5054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4751280" y="2627280"/>
            <a:ext cx="217440" cy="436680"/>
          </a:xfrm>
          <a:prstGeom prst="downArrow">
            <a:avLst>
              <a:gd name="adj1" fmla="val 50000"/>
              <a:gd name="adj2" fmla="val 5020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3"/>
          <p:cNvSpPr/>
          <p:nvPr/>
        </p:nvSpPr>
        <p:spPr>
          <a:xfrm>
            <a:off x="7993080" y="2627280"/>
            <a:ext cx="216000" cy="436680"/>
          </a:xfrm>
          <a:prstGeom prst="downArrow">
            <a:avLst>
              <a:gd name="adj1" fmla="val 50000"/>
              <a:gd name="adj2" fmla="val 50542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360360" y="214200"/>
            <a:ext cx="936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Щоб стати суб'єктом електронного документообігу в Україні необхід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611280" y="1136520"/>
            <a:ext cx="899136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Укласти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говір про надання послуг електронного цифрового підпису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за умови відсутності) з відповідним акредитованим центром сертифікації ключів (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АЦСК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. Отримати пару ключів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для забезпечення підписання власних ЕД та здійснення криптографічного шифрування 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3. Інсталювати відповідне програмне забезпече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 що забезпечує  підготовку даних для виконання алгоритмів ЕЦ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.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Встановити кореспондентські відносини з метою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обмін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сертифікатами відкритих ключів шифрува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(відкритими ключами), що надає можливість у подальшому здійснювати обмін електронними повідомленнями у шифрованому вигля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682560" y="2851200"/>
            <a:ext cx="89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ватний (особистий, таємний) ключ -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араметр криптографічного алгоритму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ормування електронного цифрового  підпису,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ступний тільки підписувач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критий ключ – параметр криптографічного алгоритму перевірки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нного цифрового  підпису,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ступний всім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б'єктам відносин у сфері використання ЕЦП (публікується в загальному доступі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нний документ з ЕЦП може бути перевірений будь-яким контрагентом, що має відкритий ключ відправника.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ЦП не захищає документ від прочитання сторонніми особ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Для забезпечення конфіденційності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кумента використовується шифруванн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503280" y="144360"/>
            <a:ext cx="9063000" cy="7207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икористання алгоритмів асиметричного шифрування при реалізації електронного цифрового підпи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82560" y="993600"/>
            <a:ext cx="8643960" cy="50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ЕТОД КРИПТОГРАФІЇ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ОСНОВІ УНІКАЛЬНОЇ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В’ЯЗАНОЇ ПАРИ КЛЮЧ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228760" y="1876320"/>
            <a:ext cx="281160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ватний (закритий) ключ створює підп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5611680" y="1851120"/>
            <a:ext cx="2357640" cy="642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дкритий ключ перевіряє підп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AutoShape 6"/>
          <p:cNvCxnSpPr/>
          <p:nvPr/>
        </p:nvCxnSpPr>
        <p:spPr>
          <a:xfrm flipH="1">
            <a:off x="3327120" y="1565280"/>
            <a:ext cx="28800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AutoShape 7"/>
          <p:cNvCxnSpPr/>
          <p:nvPr/>
        </p:nvCxnSpPr>
        <p:spPr>
          <a:xfrm>
            <a:off x="6040440" y="1564920"/>
            <a:ext cx="34992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03280" y="317520"/>
            <a:ext cx="9063000" cy="65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Franklin Gothic Book"/>
              </a:rPr>
              <a:t>Процедура використання електронного цифрового підпис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92000" y="1187280"/>
            <a:ext cx="7791480" cy="559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503280" y="317520"/>
            <a:ext cx="9063000" cy="6541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Процедура захисту інформації від несанціонованого перегляду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719280" y="1023840"/>
            <a:ext cx="793404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1511280" y="1692360"/>
            <a:ext cx="6130800" cy="431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ня документу автор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1511280" y="5560920"/>
            <a:ext cx="6130800" cy="513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икористання докумен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511280" y="2266920"/>
            <a:ext cx="6130800" cy="493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ання документу закритим ключем авт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295280" y="539640"/>
            <a:ext cx="8137800" cy="9352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Етапи роботи з електронним документом на який накладається ЕЦ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719280" y="176364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863640" y="363528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863640" y="565164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719280" y="743040"/>
            <a:ext cx="144360" cy="51973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1512720" y="2925720"/>
            <a:ext cx="6129360" cy="493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Шифрування документу відкритим ключем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1512720" y="3575160"/>
            <a:ext cx="6129360" cy="4921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ранспортування документу від автора до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512720" y="4222800"/>
            <a:ext cx="6129360" cy="4935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шифрування документу закритим ключем отримув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1512720" y="4861080"/>
            <a:ext cx="6129360" cy="4935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еревірка ЕЦП автора за допомогою його відкритого клю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863640" y="234000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863640" y="298764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863640" y="428472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7"/>
          <p:cNvSpPr/>
          <p:nvPr/>
        </p:nvSpPr>
        <p:spPr>
          <a:xfrm>
            <a:off x="863640" y="493236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 rot="16200000">
            <a:off x="7345080" y="3420360"/>
            <a:ext cx="2149560" cy="873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хист від несанкціонованого перегля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9"/>
          <p:cNvSpPr/>
          <p:nvPr/>
        </p:nvSpPr>
        <p:spPr>
          <a:xfrm rot="10800000">
            <a:off x="7659720" y="2990520"/>
            <a:ext cx="333360" cy="360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20"/>
          <p:cNvSpPr/>
          <p:nvPr/>
        </p:nvSpPr>
        <p:spPr>
          <a:xfrm rot="10800000">
            <a:off x="7659720" y="4285800"/>
            <a:ext cx="333360" cy="360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1"/>
          <p:cNvSpPr/>
          <p:nvPr/>
        </p:nvSpPr>
        <p:spPr>
          <a:xfrm rot="16200000">
            <a:off x="7452360" y="3632400"/>
            <a:ext cx="3807000" cy="449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Електронний цифровий підп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22"/>
          <p:cNvSpPr/>
          <p:nvPr/>
        </p:nvSpPr>
        <p:spPr>
          <a:xfrm rot="10800000">
            <a:off x="7616880" y="2342880"/>
            <a:ext cx="1527120" cy="36036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23"/>
          <p:cNvSpPr/>
          <p:nvPr/>
        </p:nvSpPr>
        <p:spPr>
          <a:xfrm rot="10800000">
            <a:off x="7632720" y="4935240"/>
            <a:ext cx="1527120" cy="36036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539640" y="179280"/>
            <a:ext cx="9180720" cy="9003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равила використання особистого ключа ЕЦП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900000" y="1619280"/>
            <a:ext cx="8820360" cy="539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писувач несе відповідальність за зберігання особистого клю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900000" y="2340000"/>
            <a:ext cx="8820360" cy="102852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користання особистого ключа підписувачем здійснюється на умовах конфіденційності. Підписувач зобов'язаний зберігати свій ключ у таємниці та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е допускати використання особистого ключа іншими особ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900000" y="3540240"/>
            <a:ext cx="8820360" cy="51408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піювання особистих ключів та/або передача їх іншим особам забороняєтьс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898560" y="4226040"/>
            <a:ext cx="8820000" cy="8586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приміщені де знаходяться або до якого мають доступ інші особи, забороняється залишення носія з особистим ключем або працюючої програми ЕЦП з введеним особистим ключем у відсутності підписува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900000" y="5254560"/>
            <a:ext cx="8820360" cy="6858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 застосуванні ЕЦП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писувач зобов'язаний: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не використовуват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особистий ключ у разі його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компрометації</a:t>
            </a: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863640" y="179280"/>
            <a:ext cx="8820000" cy="1008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омпрометація ЕЦП при застосуванн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истем електронного банкін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079640" y="1547640"/>
            <a:ext cx="8569080" cy="7923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вичаєві”  форми роботи з ЕЦП при використанні електронних систем. Компрометація ЕЦП під час роботи з системою “Клієнт-банк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079640" y="3564000"/>
            <a:ext cx="8569080" cy="102852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Юридична колізія використання ЕЦП при підписанні банківських документів. Постанова НБУ  ві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11.200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1079640" y="2700360"/>
            <a:ext cx="8569080" cy="54288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удова практика стосовно несанкціонованого використання ЕЦП в системі електронного банкін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1079640" y="4859280"/>
            <a:ext cx="8569080" cy="85896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егітимний варіант використання ЕЦП (особиста участь керівництва , надання повноважень операто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431640" y="2771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431640" y="5148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87280" y="466560"/>
            <a:ext cx="144360" cy="496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431640" y="3924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863640" y="179280"/>
            <a:ext cx="8820000" cy="1008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і недоліки існуючих механізмів ЕЦ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 електронного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1079640" y="4500720"/>
            <a:ext cx="8569080" cy="79200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рфейсна недосконалість діючих програмних продукт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079640" y="2987640"/>
            <a:ext cx="8820000" cy="863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сутність спільних форматів ЕЦП різних сертифікаційних центр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079640" y="1403280"/>
            <a:ext cx="8785080" cy="1079640"/>
          </a:xfrm>
          <a:prstGeom prst="rect">
            <a:avLst/>
          </a:prstGeom>
          <a:noFill/>
          <a:ln w="31680">
            <a:solidFill>
              <a:srgbClr val="f96a1b"/>
            </a:solidFill>
            <a:round/>
          </a:ln>
          <a:effectLst>
            <a:outerShdw dist="50760" dir="54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врегульовані питання надання електронних документів контролюючим органам при перевірці а також су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431640" y="3203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431640" y="4716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287280" y="466560"/>
            <a:ext cx="144360" cy="4537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511280" y="1692360"/>
            <a:ext cx="7416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Оперативність руху інформа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511280" y="3780000"/>
            <a:ext cx="741672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Мінімізація затрат на обслугову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11280" y="4643280"/>
            <a:ext cx="741672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Зручність узагальнення та отримання інформації за потреб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511280" y="2700360"/>
            <a:ext cx="741672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Вимоги нормативно-правового регулюван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295280" y="539640"/>
            <a:ext cx="81378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Franklin Gothic Book"/>
              </a:rPr>
              <a:t>Актуальність те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719280" y="183528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863640" y="2916360"/>
            <a:ext cx="647640" cy="358560"/>
          </a:xfrm>
          <a:prstGeom prst="rightArrow">
            <a:avLst>
              <a:gd name="adj1" fmla="val 50000"/>
              <a:gd name="adj2" fmla="val 5017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863640" y="385272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863640" y="478800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719280" y="755640"/>
            <a:ext cx="144360" cy="4319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539640" y="422280"/>
            <a:ext cx="9063000" cy="534960"/>
          </a:xfrm>
          <a:prstGeom prst="rect">
            <a:avLst/>
          </a:prstGeom>
          <a:noFill/>
          <a:ln w="31680">
            <a:solidFill>
              <a:srgbClr val="3333c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і нормативні документи міжнародного рів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03280" y="1065240"/>
            <a:ext cx="9063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Директива 1999/93/ЄС Європейського парламенту та Ради "Про систему електронних підписів, що застосовується в межах Співтовариства" від 13 грудня 1999 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Типовий закон ЮНСІТРАЛ «Про електронні підписи» (Комісія ООН з права міжнародної торгівлі) від 5 липня 2001 р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нвенція ООН про використання електронних повідомлень у міжнародних договорах 2005 ро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омиссия ООН по праву международной торговли - Содействие укреплению доверия к электронной торговле: правовые вопросы международного использования электронных методов удостоверения подлинности и подпис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nvoicing Directive 2001/115/ЕC (про політику ЕС щодо електронних рахункі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TSI TS 101 456: Policy requirements for certification authorities issuing qualified certific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ETSI TS 102 042: Policy requirements for certification authorities issuing public key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ertific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SO 16175-2:2011 Информация и документация. Принципы и функциональные требования к записям в электронной офисной ср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079640" y="1403280"/>
            <a:ext cx="7416720" cy="1366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 дозволяється обмеження або позбавлення юридичної сили будь-якого методу створення електронного підпису, якщо такий підпис є настільки надійним, що відповідає меті, для якої документ на електронному носії був підготовлений або переданий, включаючи всі відповідні домовленості (ч. 1 ст. 6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иповий закон ЮНСІТРАЛ «Про електронні підписи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1079640" y="4932360"/>
            <a:ext cx="7416720" cy="1943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ржави  - учасники забезпечують, щоб удосконалені електронні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и, засновані на чинних сертифікатах і створені за допомогою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езпечних механізмів створення підпису: a) задовольняли юридичним вимогам до підписів стосовно даних,  поданих у електронній формі, так само, як підпис, написаний власноручно, задовольняє вимоги стосовно даних, нанесених на папір; b) були прийнятними в якості доказів у судочинстві. (ст.5. п.1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ирективи 1999/93/Є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079640" y="2843280"/>
            <a:ext cx="7416720" cy="18730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мін "удосконалений електронний підпис" означає електронний підпис, який відповідає наступним вимогам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в'язаний винятково з особою, що підписала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ає можливість ідентифікувати особу, що підписала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творений за допомогою засобів, як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дписувач, може тримати під своїм повним контролем;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ов'язаний з даними, до яких він відноситься у такий спосіб, що будь-яку подальшу зміну даних можна виявити (ст.2. п.2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ирективи 1999/93/Є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863640" y="250920"/>
            <a:ext cx="8137440" cy="93492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сновні тези міжнародного законодавства стосовно цифрового підпи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431640" y="370692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431640" y="572292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287280" y="466560"/>
            <a:ext cx="144360" cy="5545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539640" y="1074600"/>
            <a:ext cx="8640720" cy="55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" rIns="5400" tIns="33480" bIns="54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Наказом від 20 серпня 2012 року № 1236/5/453 «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Про затвердження вимог до форматів, структури та протоколів, що реалізуються у надійних засобах електронного цифрового підпису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», який набрав чинності 07 вересня 2012 року внесено суттєві зміни до організації використання національних ЕЦП, які покликані вирішити питання їх вразливості та внормувати методику використання, а са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 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затверджено нові формати ЕЦ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-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обов'язковість (для всіх форматів крім базового) фіксування позначки час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	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ahoma"/>
                <a:ea typeface="Microsoft YaHei"/>
              </a:rPr>
              <a:t>-   вирішення питання сумісності ЕЦП різних сертифікаційних центр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Дані зміни узгоджують в цілому процедуру накладання ЕЦП з міжнародними вимог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При цьому, організації, які експлуатують надійні засоби ЕЦП (акредитовані сертифікаційні центри) забезпечують застосування у них нових положень 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з 01 червня 2013 року</a:t>
            </a:r>
            <a:r>
              <a:rPr b="0" lang="uk-UA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863640" y="250920"/>
            <a:ext cx="8137440" cy="6490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станні зміни законодавства щодо ЕД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"/>
          <p:cNvGrpSpPr/>
          <p:nvPr/>
        </p:nvGrpSpPr>
        <p:grpSpPr>
          <a:xfrm>
            <a:off x="479520" y="396720"/>
            <a:ext cx="9297360" cy="5975280"/>
            <a:chOff x="479520" y="396720"/>
            <a:chExt cx="9297360" cy="5975280"/>
          </a:xfrm>
        </p:grpSpPr>
        <p:sp>
          <p:nvSpPr>
            <p:cNvPr id="369" name="Rectangle 2"/>
            <p:cNvSpPr/>
            <p:nvPr/>
          </p:nvSpPr>
          <p:spPr>
            <a:xfrm>
              <a:off x="479520" y="396720"/>
              <a:ext cx="9297360" cy="65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0" bIns="46800" anchor="t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3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Наказом вводяться типи форматів ЕЦП: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3"/>
            <p:cNvSpPr/>
            <p:nvPr/>
          </p:nvSpPr>
          <p:spPr>
            <a:xfrm>
              <a:off x="479520" y="1055520"/>
              <a:ext cx="280800" cy="114264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760320" y="1055520"/>
              <a:ext cx="259128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Базовий ЕЦ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3351600" y="1055520"/>
              <a:ext cx="642528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Не надає 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можливості встановити дійсність підпису у випадку, якщо ЕЦП перевіряється </a:t>
              </a:r>
              <a:r>
                <a:rPr b="1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після закінчення строку чинності сертифікат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479520" y="2198160"/>
              <a:ext cx="280800" cy="177228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760320" y="2198160"/>
              <a:ext cx="2591280" cy="177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Базовий ЕЦП із визначеною політикою підпису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3351600" y="2198160"/>
              <a:ext cx="6425280" cy="177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Містить атрибут, що вказує на політику підпису, дотримання якої є обов’язковим під час формування та перевірки ЕЦ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479520" y="3970440"/>
              <a:ext cx="280800" cy="2185920"/>
            </a:xfrm>
            <a:prstGeom prst="rect">
              <a:avLst/>
            </a:prstGeom>
            <a:solidFill>
              <a:srgbClr val="99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972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760320" y="3970440"/>
              <a:ext cx="2591280" cy="24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ahoma"/>
                  <a:ea typeface="Microsoft YaHei"/>
                </a:rPr>
                <a:t>ЕЦП з посилан-ням на повний набір даних перевірки та ЕЦП з повним набором даних перевірк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2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351600" y="3970440"/>
              <a:ext cx="6425280" cy="24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560" bIns="46800" anchor="t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Забезпечують можливість встановлення дійсності ЕЦП у довгостроковому періоді (після закінчення строку чинності сертифіката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Додатково містять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 позначку часу відносно цифрового підпису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- сертифікати або посилання на сертифікати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інформацію про статус для кожного сертифікат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76000"/>
                </a:lnSpc>
                <a:buClr>
                  <a:srgbClr val="000000"/>
                </a:buClr>
                <a:buFont typeface="Arial"/>
                <a:buChar char="-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479520" y="105552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6"/>
            <p:cNvSpPr/>
            <p:nvPr/>
          </p:nvSpPr>
          <p:spPr>
            <a:xfrm>
              <a:off x="479520" y="219816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7"/>
            <p:cNvSpPr/>
            <p:nvPr/>
          </p:nvSpPr>
          <p:spPr>
            <a:xfrm>
              <a:off x="760320" y="2198160"/>
              <a:ext cx="2591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8"/>
            <p:cNvSpPr/>
            <p:nvPr/>
          </p:nvSpPr>
          <p:spPr>
            <a:xfrm>
              <a:off x="3351600" y="2198160"/>
              <a:ext cx="6425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9"/>
            <p:cNvSpPr/>
            <p:nvPr/>
          </p:nvSpPr>
          <p:spPr>
            <a:xfrm>
              <a:off x="479520" y="3970440"/>
              <a:ext cx="2808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0"/>
            <p:cNvSpPr/>
            <p:nvPr/>
          </p:nvSpPr>
          <p:spPr>
            <a:xfrm>
              <a:off x="760320" y="3970440"/>
              <a:ext cx="2591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>
              <a:off x="3351600" y="3970440"/>
              <a:ext cx="64252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"/>
            <p:cNvSpPr/>
            <p:nvPr/>
          </p:nvSpPr>
          <p:spPr>
            <a:xfrm>
              <a:off x="479520" y="6156720"/>
              <a:ext cx="280800" cy="215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47952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47952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47952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76032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4"/>
            <p:cNvSpPr/>
            <p:nvPr/>
          </p:nvSpPr>
          <p:spPr>
            <a:xfrm>
              <a:off x="76032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5"/>
            <p:cNvSpPr/>
            <p:nvPr/>
          </p:nvSpPr>
          <p:spPr>
            <a:xfrm>
              <a:off x="760320" y="3970440"/>
              <a:ext cx="0" cy="2401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7"/>
            <p:cNvSpPr/>
            <p:nvPr/>
          </p:nvSpPr>
          <p:spPr>
            <a:xfrm>
              <a:off x="335160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335160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9"/>
            <p:cNvSpPr/>
            <p:nvPr/>
          </p:nvSpPr>
          <p:spPr>
            <a:xfrm>
              <a:off x="335160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9776880" y="1055520"/>
              <a:ext cx="0" cy="1142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>
              <a:off x="9776880" y="2198160"/>
              <a:ext cx="0" cy="1772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9776880" y="3970440"/>
              <a:ext cx="0" cy="2185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1079640" y="1403280"/>
            <a:ext cx="7416720" cy="1008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истема накладання ЕЦП та шифрування документу відкритим ключом отримувача дозволяє забезпечити конфіденційність та достовірність інформації в системі ЕД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1079640" y="3924360"/>
            <a:ext cx="741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провадження електронної системи документообігу поширюється на нові напрями господарського житт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1079640" y="2700360"/>
            <a:ext cx="7416720" cy="863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ласник особистого ключа повинен самостійно забезпечувати неможливість його використання іншими особ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863640" y="250920"/>
            <a:ext cx="8137440" cy="93492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исновки та рекомендац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287280" y="1835280"/>
            <a:ext cx="792360" cy="36036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431640" y="298764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431640" y="4140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287280" y="466560"/>
            <a:ext cx="144360" cy="496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287280" y="466560"/>
            <a:ext cx="57636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1079640" y="4932360"/>
            <a:ext cx="741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станні зміни в нормативно-правовому регулюванні наближають вітчизняну нормативну базу до міжнародно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431640" y="5148360"/>
            <a:ext cx="648000" cy="3603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76120" y="1874880"/>
            <a:ext cx="960624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3200"/>
            </a:br>
            <a:br>
              <a:rPr sz="1900"/>
            </a:br>
            <a:br>
              <a:rPr sz="19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879480" y="1403280"/>
            <a:ext cx="92012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100"/>
            </a:br>
            <a:br>
              <a:rPr sz="19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31640" y="248436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Управлінськ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ис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ого документообігу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1308240" y="6997680"/>
            <a:ext cx="80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ТОВ «Комплексне управління бізнес-процесам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511280" y="1692360"/>
            <a:ext cx="7416720" cy="718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ербальний (надання усних розпоряджен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1511280" y="3780000"/>
            <a:ext cx="7416720" cy="1223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ий неавтоматизований (несистематизована форма електронного документообіг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511280" y="5148360"/>
            <a:ext cx="7416720" cy="1655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ий автоматизований (налагодження в інформаційній системі бізнес-процесів здійснення управлінських функц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511280" y="2700360"/>
            <a:ext cx="741672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аперовий (формування паперового документу-розпорядженн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1295280" y="539640"/>
            <a:ext cx="8137800" cy="935280"/>
          </a:xfrm>
          <a:prstGeom prst="rect">
            <a:avLst/>
          </a:prstGeom>
          <a:noFill/>
          <a:ln w="41400">
            <a:solidFill>
              <a:srgbClr val="2d2db9"/>
            </a:solidFill>
            <a:miter/>
          </a:ln>
          <a:effectLst>
            <a:outerShdw dist="50911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Варіанти здійснення розпорядчих функці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719280" y="1835280"/>
            <a:ext cx="792000" cy="36036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863640" y="2916360"/>
            <a:ext cx="647640" cy="358560"/>
          </a:xfrm>
          <a:prstGeom prst="rightArrow">
            <a:avLst>
              <a:gd name="adj1" fmla="val 50000"/>
              <a:gd name="adj2" fmla="val 5017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63640" y="421308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9"/>
          <p:cNvSpPr/>
          <p:nvPr/>
        </p:nvSpPr>
        <p:spPr>
          <a:xfrm>
            <a:off x="863640" y="5292720"/>
            <a:ext cx="647640" cy="358920"/>
          </a:xfrm>
          <a:prstGeom prst="rightArrow">
            <a:avLst>
              <a:gd name="adj1" fmla="val 50000"/>
              <a:gd name="adj2" fmla="val 501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719280" y="755640"/>
            <a:ext cx="144360" cy="4824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719280" y="755640"/>
            <a:ext cx="576000" cy="216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152360" y="1908000"/>
            <a:ext cx="7848720" cy="4320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платеж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576360" y="539640"/>
            <a:ext cx="8280360" cy="64764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фери застосування розпорядчого управлінського документообігу в інформаційній систем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152360" y="2556000"/>
            <a:ext cx="7848720" cy="360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договірної документ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152360" y="3059280"/>
            <a:ext cx="7848720" cy="360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цін на номенклатуру та зниж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152360" y="3597120"/>
            <a:ext cx="7848720" cy="75888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истема погодження прийняття на роботу, переміщення та звільнення працівник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152360" y="4498920"/>
            <a:ext cx="7848720" cy="576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ший довільний розпорядчий процес (повернення, нарахування премій та ін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649440" y="197964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10"/>
          <p:cNvSpPr/>
          <p:nvPr/>
        </p:nvSpPr>
        <p:spPr>
          <a:xfrm>
            <a:off x="649440" y="262728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649440" y="313200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12"/>
          <p:cNvSpPr/>
          <p:nvPr/>
        </p:nvSpPr>
        <p:spPr>
          <a:xfrm>
            <a:off x="649440" y="3780000"/>
            <a:ext cx="502920" cy="2156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13"/>
          <p:cNvSpPr/>
          <p:nvPr/>
        </p:nvSpPr>
        <p:spPr>
          <a:xfrm>
            <a:off x="649440" y="4572000"/>
            <a:ext cx="502920" cy="21600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649440" y="1187280"/>
            <a:ext cx="142560" cy="3529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"/>
          <p:cNvSpPr/>
          <p:nvPr/>
        </p:nvSpPr>
        <p:spPr>
          <a:xfrm>
            <a:off x="1727280" y="1908000"/>
            <a:ext cx="7345440" cy="5749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онсолідована база да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792000" y="611280"/>
            <a:ext cx="8280720" cy="100800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обхідні передумови функціонування ефективної системи управлінського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727280" y="2843280"/>
            <a:ext cx="7345440" cy="9381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аксимальне обмеження числа працівників, які змінюють довідкову інформаці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727280" y="4067280"/>
            <a:ext cx="7345440" cy="10810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Жорстке обмеження можливості виконання господарських операцій без завершення процесу санкціонува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008000" y="1619280"/>
            <a:ext cx="144360" cy="3024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1152360" y="2050920"/>
            <a:ext cx="574920" cy="21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1152360" y="3203640"/>
            <a:ext cx="574920" cy="21600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1152360" y="4500720"/>
            <a:ext cx="574920" cy="215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1798560" y="1692360"/>
            <a:ext cx="7345440" cy="72072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значення логічного маршруту накладання електронних підписів та повноважень в працівник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782640" y="755640"/>
            <a:ext cx="836136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думови ефективного функціонування електронної системи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800360" y="2556000"/>
            <a:ext cx="7416720" cy="647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Фіксування історії погодження електронного докумен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1800360" y="3419640"/>
            <a:ext cx="7416720" cy="647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Забезпечення можливості накладення підпису через електронну пошту або безпосередньо в програм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1800360" y="4356000"/>
            <a:ext cx="7416720" cy="93672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ливість обмеження санкціонування враховуючи  стан взаєморозрахунків, відповідність бюджету або інші показники бази дан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1008000" y="1547640"/>
            <a:ext cx="155520" cy="3259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1152360" y="197964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1152360" y="277164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1152360" y="363528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152360" y="4643280"/>
            <a:ext cx="648000" cy="216000"/>
          </a:xfrm>
          <a:prstGeom prst="rightArrow">
            <a:avLst>
              <a:gd name="adj1" fmla="val 50000"/>
              <a:gd name="adj2" fmla="val 4990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503280" y="301680"/>
            <a:ext cx="90630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Сфери поширення електронного документообі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754200" y="1279440"/>
            <a:ext cx="88484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вітність в ДПС та ПФ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Банківські розраху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лектронні державні закупівл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итниц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формлення паспорт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окументи держ.реєстрат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окументи для перевезення (авіа, залізниц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Реєстрація персональних дан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іяльність на фондовому рин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проваджується в суд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"/>
          <p:cNvSpPr/>
          <p:nvPr/>
        </p:nvSpPr>
        <p:spPr>
          <a:xfrm>
            <a:off x="1009800" y="395280"/>
            <a:ext cx="8207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побудови маршруту послідовного накладання електронних підписів на платіжне дорученн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579600" y="5364000"/>
            <a:ext cx="2736720" cy="648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ніціа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008000" y="4356000"/>
            <a:ext cx="273708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ухгал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224000" y="3419640"/>
            <a:ext cx="273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ерівник центру відповідальност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1440000" y="2556000"/>
            <a:ext cx="2736720" cy="647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Керівник фінансової служ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1727280" y="1547640"/>
            <a:ext cx="2736720" cy="792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Вивантаження в клієнт-банк операт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1" name="Прямая со стрелкой 2"/>
          <p:cNvCxnSpPr>
            <a:stCxn id="456" idx="0"/>
            <a:endCxn id="457" idx="2"/>
          </p:cNvCxnSpPr>
          <p:nvPr/>
        </p:nvCxnSpPr>
        <p:spPr>
          <a:xfrm flipV="1">
            <a:off x="1947960" y="5002920"/>
            <a:ext cx="4291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Прямая со стрелкой 9"/>
          <p:cNvCxnSpPr>
            <a:stCxn id="457" idx="0"/>
            <a:endCxn id="458" idx="2"/>
          </p:cNvCxnSpPr>
          <p:nvPr/>
        </p:nvCxnSpPr>
        <p:spPr>
          <a:xfrm flipV="1">
            <a:off x="2376360" y="4066920"/>
            <a:ext cx="21672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Прямая со стрелкой 11"/>
          <p:cNvCxnSpPr>
            <a:stCxn id="458" idx="0"/>
            <a:endCxn id="459" idx="2"/>
          </p:cNvCxnSpPr>
          <p:nvPr/>
        </p:nvCxnSpPr>
        <p:spPr>
          <a:xfrm flipV="1">
            <a:off x="2592360" y="32032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Прямая со стрелкой 13"/>
          <p:cNvCxnSpPr>
            <a:stCxn id="459" idx="0"/>
            <a:endCxn id="460" idx="2"/>
          </p:cNvCxnSpPr>
          <p:nvPr/>
        </p:nvCxnSpPr>
        <p:spPr>
          <a:xfrm flipV="1">
            <a:off x="2808360" y="2339640"/>
            <a:ext cx="2880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5" name="Text Box 3"/>
          <p:cNvSpPr/>
          <p:nvPr/>
        </p:nvSpPr>
        <p:spPr>
          <a:xfrm>
            <a:off x="5113440" y="2303640"/>
            <a:ext cx="2736720" cy="79200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Банківська ви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5143680" y="4221000"/>
            <a:ext cx="2736720" cy="79236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а звіт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Прямая со стрелкой 18"/>
          <p:cNvCxnSpPr>
            <a:stCxn id="465" idx="2"/>
            <a:endCxn id="466" idx="0"/>
          </p:cNvCxnSpPr>
          <p:nvPr/>
        </p:nvCxnSpPr>
        <p:spPr>
          <a:xfrm>
            <a:off x="6481800" y="3095640"/>
            <a:ext cx="30600" cy="11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8" name="Прямая со стрелкой 22"/>
          <p:cNvCxnSpPr/>
          <p:nvPr/>
        </p:nvCxnSpPr>
        <p:spPr>
          <a:xfrm>
            <a:off x="4464000" y="1979280"/>
            <a:ext cx="65016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" descr=""/>
          <p:cNvPicPr/>
          <p:nvPr/>
        </p:nvPicPr>
        <p:blipFill>
          <a:blip r:embed="rId1"/>
          <a:stretch/>
        </p:blipFill>
        <p:spPr>
          <a:xfrm>
            <a:off x="0" y="611280"/>
            <a:ext cx="10009080" cy="55450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2"/>
          <p:cNvSpPr/>
          <p:nvPr/>
        </p:nvSpPr>
        <p:spPr>
          <a:xfrm>
            <a:off x="1009800" y="-36360"/>
            <a:ext cx="8351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збереження історії накладення електронних підписів зі збереженням відмітки ча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360360" y="1033560"/>
            <a:ext cx="9433080" cy="4833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"/>
          <p:cNvSpPr/>
          <p:nvPr/>
        </p:nvSpPr>
        <p:spPr>
          <a:xfrm>
            <a:off x="936720" y="250920"/>
            <a:ext cx="806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иклад інтерфейсу накладання електронного підпис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936720" y="1692360"/>
            <a:ext cx="8423280" cy="6462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ий документ – як правило заявка, замовлення, вимога або наказ на проведення опер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2576520" y="596880"/>
            <a:ext cx="426384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понована базова схема процесу документообі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008000" y="3635280"/>
            <a:ext cx="8280360" cy="57636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Господарська операція (надходження, реалізація, проплата, погодження цін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295280" y="4643280"/>
            <a:ext cx="7848720" cy="50508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ий документ              Паперови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958680" y="2771640"/>
            <a:ext cx="8280720" cy="43020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Накладання електронних підписів санкціонування операці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5"/>
          <p:cNvSpPr/>
          <p:nvPr/>
        </p:nvSpPr>
        <p:spPr>
          <a:xfrm>
            <a:off x="3527280" y="5651640"/>
            <a:ext cx="3240360" cy="431640"/>
          </a:xfrm>
          <a:prstGeom prst="rect">
            <a:avLst/>
          </a:prstGeom>
          <a:noFill/>
          <a:ln w="22320">
            <a:solidFill>
              <a:srgbClr val="2d2db9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Електронна звітн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Двойная стрелка влево/вправо 5"/>
          <p:cNvSpPr/>
          <p:nvPr/>
        </p:nvSpPr>
        <p:spPr>
          <a:xfrm>
            <a:off x="4535640" y="4716360"/>
            <a:ext cx="934920" cy="287280"/>
          </a:xfrm>
          <a:prstGeom prst="leftRightArrow">
            <a:avLst>
              <a:gd name="adj1" fmla="val 50000"/>
              <a:gd name="adj2" fmla="val 5018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низ 10"/>
          <p:cNvSpPr/>
          <p:nvPr/>
        </p:nvSpPr>
        <p:spPr>
          <a:xfrm>
            <a:off x="4824360" y="3201840"/>
            <a:ext cx="274680" cy="433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Стрелка вниз 11"/>
          <p:cNvSpPr/>
          <p:nvPr/>
        </p:nvSpPr>
        <p:spPr>
          <a:xfrm>
            <a:off x="4824360" y="4211640"/>
            <a:ext cx="287280" cy="431640"/>
          </a:xfrm>
          <a:prstGeom prst="downArrow">
            <a:avLst>
              <a:gd name="adj1" fmla="val 50000"/>
              <a:gd name="adj2" fmla="val 500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Стрелка вниз 12"/>
          <p:cNvSpPr/>
          <p:nvPr/>
        </p:nvSpPr>
        <p:spPr>
          <a:xfrm>
            <a:off x="4751280" y="5148360"/>
            <a:ext cx="360360" cy="504720"/>
          </a:xfrm>
          <a:prstGeom prst="downArrow">
            <a:avLst>
              <a:gd name="adj1" fmla="val 50000"/>
              <a:gd name="adj2" fmla="val 5012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Стрелка вниз 9"/>
          <p:cNvSpPr/>
          <p:nvPr/>
        </p:nvSpPr>
        <p:spPr>
          <a:xfrm>
            <a:off x="4824360" y="2340000"/>
            <a:ext cx="287280" cy="431640"/>
          </a:xfrm>
          <a:prstGeom prst="downArrow">
            <a:avLst>
              <a:gd name="adj1" fmla="val 50000"/>
              <a:gd name="adj2" fmla="val 4984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503280" y="1908000"/>
            <a:ext cx="9010440" cy="3672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"/>
          <p:cNvSpPr/>
          <p:nvPr/>
        </p:nvSpPr>
        <p:spPr>
          <a:xfrm>
            <a:off x="863640" y="539640"/>
            <a:ext cx="8497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кумент</a:t>
            </a:r>
            <a:r>
              <a:rPr b="0" lang="vi-VN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 — засіб закріплення різними способами на відповідному матеріалі інформації про факти, події, явища об'єктивної дійсності та розумову діяльність люди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5904000" y="2411280"/>
            <a:ext cx="3673440" cy="1152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Електронний докумен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60360" y="3995640"/>
            <a:ext cx="5184720" cy="936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аперовий документ    електронний документ - електронна звіт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60360" y="2411280"/>
            <a:ext cx="5184720" cy="1152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Паперовий документ або усна вказі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904000" y="3995640"/>
            <a:ext cx="3673440" cy="107964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Господарська операція - електронний документ – електронна звітні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2087640" y="395280"/>
            <a:ext cx="6192720" cy="64764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аріанти організації системи документообі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08000" y="1619280"/>
            <a:ext cx="381636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радиційний (паперов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5832360" y="1619280"/>
            <a:ext cx="3816360" cy="36828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втоматизований (електронн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592360" y="3564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7704000" y="356400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2519280" y="1979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7704000" y="197964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2952720" y="1042920"/>
            <a:ext cx="358920" cy="576360"/>
          </a:xfrm>
          <a:prstGeom prst="downArrow">
            <a:avLst>
              <a:gd name="adj1" fmla="val 50000"/>
              <a:gd name="adj2" fmla="val 5018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6985080" y="1042920"/>
            <a:ext cx="358560" cy="576360"/>
          </a:xfrm>
          <a:prstGeom prst="downArrow">
            <a:avLst>
              <a:gd name="adj1" fmla="val 50000"/>
              <a:gd name="adj2" fmla="val 5023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Прямая со стрелкой 17"/>
          <p:cNvCxnSpPr/>
          <p:nvPr/>
        </p:nvCxnSpPr>
        <p:spPr>
          <a:xfrm>
            <a:off x="3311280" y="435564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0" name="Text Box 1"/>
          <p:cNvSpPr/>
          <p:nvPr/>
        </p:nvSpPr>
        <p:spPr>
          <a:xfrm>
            <a:off x="2952720" y="2050920"/>
            <a:ext cx="4680000" cy="289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Розпорядчі докумен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527280" y="3635280"/>
            <a:ext cx="3673800" cy="289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Облікові докумен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431640" y="1332000"/>
          <a:ext cx="9075960" cy="3537000"/>
        </p:xfrm>
        <a:graphic>
          <a:graphicData uri="http://schemas.openxmlformats.org/drawingml/2006/table">
            <a:tbl>
              <a:tblPr/>
              <a:tblGrid>
                <a:gridCol w="3024360"/>
                <a:gridCol w="3027240"/>
                <a:gridCol w="302436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итер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л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ікова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озпорядча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орсткість регулюв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илена (спеціалізоване програмне забезпеченн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ощена (достатньо електронного листа або документу внесеного в інформаційну систему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складності формування звітност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ніверсальний (звітність в інформаційній системі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контро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троспектив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передні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ідповідальні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гідно з чинним законодав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рівні внутрішніх регламентів та усних домовле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55"/>
          <p:cNvSpPr/>
          <p:nvPr/>
        </p:nvSpPr>
        <p:spPr>
          <a:xfrm>
            <a:off x="900000" y="360360"/>
            <a:ext cx="8355240" cy="703800"/>
          </a:xfrm>
          <a:prstGeom prst="rect">
            <a:avLst/>
          </a:prstGeom>
          <a:solidFill>
            <a:srgbClr val="ffffff"/>
          </a:solidFill>
          <a:ln w="31680">
            <a:solidFill>
              <a:srgbClr val="3333cc"/>
            </a:solidFill>
            <a:miter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рівняння розпорядчої та облікової систем електронного документообі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276120" y="1874880"/>
            <a:ext cx="960624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br>
              <a:rPr sz="3200"/>
            </a:br>
            <a:br>
              <a:rPr sz="1900"/>
            </a:br>
            <a:br>
              <a:rPr sz="19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879480" y="1403280"/>
            <a:ext cx="92012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100"/>
            </a:br>
            <a:br>
              <a:rPr sz="19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31640" y="2484360"/>
            <a:ext cx="9201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Обліков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истем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лектронного документообігу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76280" y="393840"/>
            <a:ext cx="9063000" cy="50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Основні нормативні документи Украї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76280" y="942840"/>
            <a:ext cx="906300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електронні документи та електронний документообіг" від 22.05.2003 р. № 851-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електронний цифровий підпис" 22.05.2003 р. № 852-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он України "Про захист інформації в інформаційно-телекомунікаційних системах" від 05.07.94 р. № 80/94-ВР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(в редакції від 19.03.2009 р. N 1180-V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анова Кабінету Міністрів України "Про затвердження Порядку засвідчення наявності електронного документа (електронних даних) на певний момент часу" від 26.05.2004 р. № 6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останова Кабінету Міністрів України "Про затвердження Порядку застосування електронного цифрового підпису органами державної влади, органами місцевого самоврядування, підприємствами, установами та організаціями державної форми власності" від 28.10.2004 р. №1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503280" y="2340000"/>
            <a:ext cx="1981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Електронний підпи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2894040" y="2340000"/>
            <a:ext cx="3313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Електронний цифровий підпис без посиленого сертифікату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87240" y="539640"/>
            <a:ext cx="8745840" cy="720720"/>
          </a:xfrm>
          <a:prstGeom prst="rect">
            <a:avLst/>
          </a:prstGeom>
          <a:noFill/>
          <a:ln w="3168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Засвідчення електронного документу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6359400" y="2340000"/>
            <a:ext cx="3313080" cy="72072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  <a:effectLst>
            <a:outerShdw dist="3818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Електронний цифровий підпис з посиленим сертифікатом ключів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514440" y="3419640"/>
            <a:ext cx="8918640" cy="34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документ   -   документ,   інформація   в   якому зафіксована у вигляді  електронних  даних,  включаючи  обов'язкові реквізи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 підпис - дані в електронній формі, які додаються до  інших  електронних  даних  або  логічно  з  ними  пов'язані та призначені для ідентифікації підписувача цих да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лектронний підпис не може бути визнаний недійсним лише через те, що він має електронну форму або не ґрунтується на посиленому сертифікаті клю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 печатки і власноручного підпису на бухгалтерських документах прирівнюється застосування лише посиленого сертифікату клю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356000" y="126036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7848720" y="126036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1224000" y="1258920"/>
            <a:ext cx="252360" cy="107964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>user</dc:creator>
  <dc:description/>
  <dc:language>en-US</dc:language>
  <cp:lastModifiedBy>Николай</cp:lastModifiedBy>
  <dcterms:modified xsi:type="dcterms:W3CDTF">2017-11-23T07:54:14Z</dcterms:modified>
  <cp:revision>313</cp:revision>
  <dc:subject/>
  <dc:title>Презентация PowerPoint</dc:title>
</cp:coreProperties>
</file>