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itsway.kiev.ua/pdf/Science-practic%20comment%20for%20Law%20about%20Electr%20Signature.pdf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9080" cy="3995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Джерел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уково-практичний коментар щодо застосування електронного цифрового підпису в Україні. (Авторське право АМВ Group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Microsoft YaHei"/>
                <a:hlinkClick r:id="rId1"/>
              </a:rPr>
              <a:t>http://www.itsway.kiev.ua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CE7-9CCD-48BB-98FA-A7052E7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BE4-F0C5-474F-ADCE-D2E3931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B86-4B7A-4395-BCA9-53933594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644-4761-4017-BB8E-6922696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4A9-8424-45DF-A4F6-F40EE752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76E-D426-4244-8BFE-15E3A2E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C683-C977-4DF2-B047-D856631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DF39-5866-41E2-9ABD-0C5CDB0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75D-008D-402E-B9B3-DD777E3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A91-CAEB-464D-BE6C-8C628070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610-37BE-4743-9CF6-9336706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367-0DAF-4EF0-B2AD-084B664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FFFB-2C21-4C5E-8EF2-8D5F358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DCEA-5062-499E-A6ED-5F3489C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D18-6D83-4337-A33D-BAE9A9CD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00F8-6809-4709-B2EA-86CFED44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1C9B-52C6-46D0-834B-8729D2E2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B92F-C809-4ED5-9A42-F1F420D4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7D59-8236-45D2-819F-D8DFA9C6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47DC-B39B-4E11-AA8F-1089E2D4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EFC5-6953-45C1-8D72-58C0256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38D5-3796-485E-BADD-95F6D094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A4A-CC84-4C67-AC22-8337741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1B1C-338F-42A6-8E84-25A8859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0178-FEAF-4EE3-A89A-5EC0B59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F989-D4C5-4117-8077-872741D2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9099-DE5D-4E94-8536-02A64DD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B8D3-75FB-4417-B888-28EEE6A0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23BA-42E6-4E10-B5B2-27766565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5AA1-C423-494C-A73A-35FC10FF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4598-FDBF-47C6-80FF-3A2C621C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4AC9-ACA9-42C1-9471-23A1877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7B7A-C633-418F-8589-510C4ABB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6B0-EC26-4E58-9B64-0693DD53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0FA0-CD6B-4B40-8808-6900D8E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5B96-E1DD-42C1-AD6B-7D4E28C4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A60F-711B-427E-8385-9DB0432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0B10-B3D5-4301-BA53-0AA21F9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EFB5-44B2-4F73-A478-FF021B9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0C5C-6A0E-4263-8B3F-72EF5AD2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F207-CD74-4400-B156-268DA56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B86B-304A-44A1-BC10-C1F2E5F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C2EB-E908-48BB-81CB-B0019B8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CB44-6C2C-4BAD-ABDC-6E3A0E29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EC1-8086-4531-89A1-A9422C8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55E1-9885-40FF-9B67-7CF9B62E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4A0A-2748-485B-B980-505D738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89DE-05D5-4574-87AA-C3BDD3C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81288-AB74-4166-A4B9-2CEC923F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D742-C202-44D6-A012-123C706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BCE4-AE9A-41A3-846F-0DDBBFD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E459-B3DC-4440-A343-A0D39F5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6669-C192-4E5D-BFF4-D16F0E9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86EBC-874C-4E1C-8307-282E988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F698A-BE6D-45D3-9DB7-F39145F7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4A6-2794-44F6-9BA2-348D023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ACC4-3159-48D3-A412-98416D08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03C-762A-4233-A9EB-41414C7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AB4-D020-4E81-8E3C-57F441D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CF7-0250-4B88-86FB-CDAE007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CDB8A2-8809-4BDC-B7F6-4578D8C37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76BC65-E6EA-4366-8519-92816039F7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CE154-23EC-4B5E-A7D4-5943AD6F0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5F1E32-CB2B-48D3-85AE-BD116117EF2C}" type="slidenum">
              <a:rPr b="0" lang="en-US" sz="18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AA1818-6DD8-469F-B1BF-5A37EC680C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722160" y="154764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а система документообігу та звітност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і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тенденції у запровадженні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танні зміни у нормативному регулюванні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900000"/>
            <a:ext cx="9063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00000" y="250920"/>
            <a:ext cx="8355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Основні тези закону про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96760" y="907560"/>
            <a:ext cx="8358480" cy="49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лектронний цифровий підпис (ЕЦП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ц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д електронного підпис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иманого за результатом криптографічного  перетворення набору електронних даних, як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дається до цього набору або логічно з ним поєднуєть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ЦП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конує такі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ії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дентифікація підписувача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засвідчує, що підписаний документ надходить від особи, яка його підпис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ідтвердження цілісності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аних в електронній формі -  є гарантією того, що підписаний документ не зазнав модифікації з боку третіх осі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авові наслідки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позбавляє особу, яка підписала документ, можливості відмовитися від зобов’язань, викладених у підписаному докумен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вага! ЕЦП не робить документ конфіденційн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3280" y="68400"/>
            <a:ext cx="9058320" cy="954000"/>
          </a:xfrm>
          <a:prstGeom prst="rect">
            <a:avLst/>
          </a:prstGeom>
          <a:noFill/>
          <a:ln w="3168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б'єкти електронного документообігу із застосуванням ЕЦ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682560" y="1625760"/>
            <a:ext cx="2197080" cy="10015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ідпис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544920" y="1617840"/>
            <a:ext cx="2733480" cy="10094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Центр сертифікації ключів (ЦС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659640" y="1617840"/>
            <a:ext cx="2809800" cy="9619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орист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627960" y="3089160"/>
            <a:ext cx="2916000" cy="184320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віряє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600360" y="3060720"/>
            <a:ext cx="2725920" cy="18716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дає послуги обслуговування процесу електронного цифрового підпи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39640" y="3078000"/>
            <a:ext cx="2786040" cy="185436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олодіє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обистим ключем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(доступним тільки йом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60020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475128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7991640" y="1039680"/>
            <a:ext cx="217440" cy="5796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158436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751280" y="2627280"/>
            <a:ext cx="217440" cy="436680"/>
          </a:xfrm>
          <a:prstGeom prst="downArrow">
            <a:avLst>
              <a:gd name="adj1" fmla="val 50000"/>
              <a:gd name="adj2" fmla="val 502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799308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60360" y="214200"/>
            <a:ext cx="93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Щоб стати суб'єктом електронного документообігу в Україні необхід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611280" y="1136520"/>
            <a:ext cx="8991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Укласти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говір про надання послуг електронного цифрового підпису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за умови відсутності) з відповідним акредитованим центром сертифікації ключів (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АЦСК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 Отримати пару ключ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ля забезпечення підписання власних ЕД та здійснення криптографічного шифрування 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3. Інсталювати відповідне програмне забезпе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що забезпечує  підготовку даних для виконання алгоритмів ЕЦ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Встановити кореспондентські відносини з метою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мі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сертифікатами відкритих ключів шифрува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відкритими ключами), що надає можливість у подальшому здійснювати обмін електронними повідомленнями у шифрованому вигля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682560" y="2851200"/>
            <a:ext cx="89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ватний (особистий, таємний) ключ -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араметр криптографічн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вання електронного цифрового  підпису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тільки підписувач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ий ключ – параметр криптографічного алгоритму перевірки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ого цифрового  підпису,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всі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б'єктам відносин у сфері використання ЕЦП (публікується в загальному доступі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ий документ з ЕЦП може бути перевірений будь-яким контрагентом, що має відкритий ключ відправника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ЦП не захищає документ від прочитання сторонніми 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ля забезпечення конфіденцій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кумента використовується шифр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503280" y="144360"/>
            <a:ext cx="906300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икористання алгоритмів асиметричного шифрування при реалізації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82560" y="993600"/>
            <a:ext cx="864396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 КРИПТОГРАФ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УНІКАЛЬНОЇ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’ЯЗАНОЇ ПАРИ КЛЮЧ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228760" y="1876320"/>
            <a:ext cx="281160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ватний (закритий) ключ створю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5611680" y="1851120"/>
            <a:ext cx="235764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критий ключ перевіря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6"/>
          <p:cNvCxnSpPr/>
          <p:nvPr/>
        </p:nvCxnSpPr>
        <p:spPr>
          <a:xfrm flipH="1">
            <a:off x="3327120" y="1565280"/>
            <a:ext cx="28800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7"/>
          <p:cNvCxnSpPr/>
          <p:nvPr/>
        </p:nvCxnSpPr>
        <p:spPr>
          <a:xfrm>
            <a:off x="6040440" y="1564920"/>
            <a:ext cx="3499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Franklin Gothic Book"/>
              </a:rPr>
              <a:t>Процедура використання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92000" y="1187280"/>
            <a:ext cx="779148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Процедура захисту інформації від несанціонованого перегля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19280" y="1023840"/>
            <a:ext cx="79340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511280" y="1692360"/>
            <a:ext cx="6130800" cy="431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документу авто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1280" y="5560920"/>
            <a:ext cx="6130800" cy="513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користання докумен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11280" y="2266920"/>
            <a:ext cx="613080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ання документу закритим ключем авт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Етапи роботи з електронним документом на який накладається ЕЦ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19280" y="176364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863640" y="363528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863640" y="5651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719280" y="743040"/>
            <a:ext cx="144360" cy="5197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512720" y="2925720"/>
            <a:ext cx="612936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Шифрування документу від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512720" y="3575160"/>
            <a:ext cx="6129360" cy="4921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ранспортування документу від автора до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512720" y="422280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шифрування документу за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512720" y="486108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еревірка ЕЦП автора за допомогою його відкритого клю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863640" y="2340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863640" y="2987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863640" y="428472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863640" y="493236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 rot="16200000">
            <a:off x="7345080" y="3420360"/>
            <a:ext cx="2149560" cy="873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хист від несанкціонованого перегля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 rot="10800000">
            <a:off x="7659720" y="299052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0"/>
          <p:cNvSpPr/>
          <p:nvPr/>
        </p:nvSpPr>
        <p:spPr>
          <a:xfrm rot="10800000">
            <a:off x="7659720" y="428580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 rot="16200000">
            <a:off x="7452360" y="3632400"/>
            <a:ext cx="3807000" cy="44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ий цифров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2"/>
          <p:cNvSpPr/>
          <p:nvPr/>
        </p:nvSpPr>
        <p:spPr>
          <a:xfrm rot="10800000">
            <a:off x="7616880" y="234288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3"/>
          <p:cNvSpPr/>
          <p:nvPr/>
        </p:nvSpPr>
        <p:spPr>
          <a:xfrm rot="10800000">
            <a:off x="7632720" y="493524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9640" y="179280"/>
            <a:ext cx="9180720" cy="900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авила використання особистого ключа ЕЦ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00000" y="1619280"/>
            <a:ext cx="8820360" cy="53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писувач несе відповідальність за зберігання особистого клю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00000" y="2340000"/>
            <a:ext cx="882036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ристання особистого ключа підписувачем здійснюється на умовах конфіденційності. Підписувач зобов'язаний зберігати свій ключ у таємниці та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допускати використання особистого ключа іншими 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00000" y="3540240"/>
            <a:ext cx="8820360" cy="5140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вання особистих ключів та/або передача їх іншим особам забороняєть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98560" y="4226040"/>
            <a:ext cx="8820000" cy="8586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приміщені де знаходяться або до якого мають доступ інші особи, забороняється залишення носія з особистим ключем або працюючої програми ЕЦП з введеним особистим ключем у відсутності підписув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900000" y="5254560"/>
            <a:ext cx="8820360" cy="6858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застосуванні ЕЦП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писувач зобов'язаний: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використовуват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особистий ключ у разі йог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омпрометації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мпрометація ЕЦП при застосуванн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 електронного банкін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079640" y="1547640"/>
            <a:ext cx="8569080" cy="792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вичаєві”  форми роботи з ЕЦП при використанні електронних систем. Компрометація ЕЦП під час роботи з системою “Клієнт-банк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79640" y="3564000"/>
            <a:ext cx="856908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ридична колізія використання ЕЦП при підписанні банківських документів. Постанова НБУ  ві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1.200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079640" y="2700360"/>
            <a:ext cx="8569080" cy="5428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дова практика стосовно несанкціонованого використання ЕЦП в системі електронного банкі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79640" y="4859280"/>
            <a:ext cx="8569080" cy="8589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егітимний варіант використання ЕЦП (особиста участь керівництва , надання повноважень операто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431640" y="2771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31640" y="3924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недоліки існуючих механізмів ЕЦ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 електронн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079640" y="4500720"/>
            <a:ext cx="8569080" cy="792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рфейсна недосконалість діючих програмних продук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79640" y="2987640"/>
            <a:ext cx="8820000" cy="863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утність спільних форматів ЕЦП різних сертифікаційних цент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079640" y="1403280"/>
            <a:ext cx="8785080" cy="107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врегульовані питання надання електронних документів контролюючим органам при перевірці а також су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31640" y="3203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31640" y="4716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87280" y="466560"/>
            <a:ext cx="144360" cy="453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перативність руху інформ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511280" y="3780000"/>
            <a:ext cx="7416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Мінімізація затрат на обслугов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11280" y="4643280"/>
            <a:ext cx="741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Зручність узагальнення та отримання інформації за потреб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Вимоги нормативно-правового регулю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95280" y="539640"/>
            <a:ext cx="81378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Franklin Gothic Book"/>
              </a:rPr>
              <a:t>Актуальність 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863640" y="385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863640" y="4788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19280" y="755640"/>
            <a:ext cx="144360" cy="431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539640" y="422280"/>
            <a:ext cx="9063000" cy="53496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і нормативні документи міжнародного рів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03280" y="1065240"/>
            <a:ext cx="9063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иректива 1999/93/ЄС Європейського парламенту та Ради "Про систему електронних підписів, що застосовується в межах Співтовариства" від 13 грудня 199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иповий закон ЮНСІТРАЛ «Про електронні підписи» (Комісія ООН з права міжнародної торгівлі) від 5 липня 2001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венція ООН про використання електронних повідомлень у міжнародних договорах 2005 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иссия ООН по праву международной торговли - Содействие укреплению доверия к электронной торговле: правовые вопросы международного использования электронных методов удостоверения подлинности и подпис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voicing Directive 2001/115/ЕC (про політику ЕС щодо електронних рахун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1 456: Policy requirements for certification authorities issuing qualified 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2 042: Policy requirements for certification authorities issuing public ke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SO 16175-2:2011 Информация и документация. Принципы и функциональные требования к записям в электронной офис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079640" y="1403280"/>
            <a:ext cx="7416720" cy="1366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 дозволяється обмеження або позбавлення юридичної сили будь-якого методу створення електронного підпису, якщо такий підпис є настільки надійним, що відповідає меті, для якої документ на електронному носії був підготовлений або переданий, включаючи всі відповідні домовленості (ч. 1 ст. 6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овий закон ЮНСІТРАЛ «Про електронні підписи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079640" y="4932360"/>
            <a:ext cx="7416720" cy="1943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ржави  - учасники забезпечують, щоб удосконалені електронні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и, засновані на чинних сертифікатах і створені за допомогою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чних механізмів створення підпису: a) задовольняли юридичним вимогам до підписів стосовно даних,  поданих у електронній формі, так само, як підпис, написаний власноручно, задовольняє вимоги стосовно даних, нанесених на папір; b) були прийнятними в якості доказів у судочинстві. (ст.5. п.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079640" y="2843280"/>
            <a:ext cx="7416720" cy="1873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ін "удосконалений електронний підпис" означає електронний підпис, який відповідає наступним вимогам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винятково з особою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є можливість ідентифікувати особу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ий за допомогою засобів, як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увач, може тримати під своїм повним контролем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з даними, до яких він відноситься у такий спосіб, що будь-яку подальшу зміну даних можна виявити (ст.2. п.2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новні тези міжнародного законодавства стосовно цифрового підпи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431640" y="3706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431640" y="5722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287280" y="466560"/>
            <a:ext cx="144360" cy="5545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9640" y="1074600"/>
            <a:ext cx="864072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33480" bIns="54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Наказом від 20 серпня 2012 року № 1236/5/453 «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о затвердження вимог до форматів, структури та протоколів, що реалізуються у надійних засобах електронного цифрового підпис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», який набрав чинності 07 вересня 2012 року внесено суттєві зміни до організації використання національних ЕЦП, які покликані вирішити питання їх вразливості та внормувати методику використання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затверджено нові формати ЕЦ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обов'язковість (для всіх форматів крім базового) фіксування позначки ча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-   вирішення питання сумісності ЕЦП різних сертифікаційних центр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Дані зміни узгоджують в цілому процедуру накладання ЕЦП з міжнародними вимог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и цьому, організації, які експлуатують надійні засоби ЕЦП (акредитовані сертифікаційні центри) забезпечують застосування у них нових положень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з 01 червня 2013 рок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863640" y="250920"/>
            <a:ext cx="8137440" cy="6490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танні зміни законодавства щодо Е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479520" y="396720"/>
            <a:ext cx="9297360" cy="5975280"/>
            <a:chOff x="479520" y="396720"/>
            <a:chExt cx="9297360" cy="5975280"/>
          </a:xfrm>
        </p:grpSpPr>
        <p:sp>
          <p:nvSpPr>
            <p:cNvPr id="369" name="Rectangle 2"/>
            <p:cNvSpPr/>
            <p:nvPr/>
          </p:nvSpPr>
          <p:spPr>
            <a:xfrm>
              <a:off x="479520" y="396720"/>
              <a:ext cx="9297360" cy="65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0" bIns="46800" anchor="t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аказом вводяться типи форматів ЕЦП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"/>
            <p:cNvSpPr/>
            <p:nvPr/>
          </p:nvSpPr>
          <p:spPr>
            <a:xfrm>
              <a:off x="479520" y="1055520"/>
              <a:ext cx="280800" cy="11426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760320" y="1055520"/>
              <a:ext cx="2591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351600" y="1055520"/>
              <a:ext cx="6425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е надає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ожливості встановити дійсність підпису у випадку, якщо ЕЦП перевіряється 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після закінчення строку чинності сертифікат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79520" y="2198160"/>
              <a:ext cx="280800" cy="17722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760320" y="2198160"/>
              <a:ext cx="2591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 із визначеною політикою підпис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3351600" y="2198160"/>
              <a:ext cx="6425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істить атрибут, що вказує на політику підпису, дотримання якої є обов’язковим під час формування та перевірки ЕЦ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79520" y="3970440"/>
              <a:ext cx="280800" cy="218592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760320" y="3970440"/>
              <a:ext cx="2591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ЕЦП з посилан-ням на повний набір даних перевірки та ЕЦП з повним набором даних перевір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351600" y="3970440"/>
              <a:ext cx="6425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езпечують можливість встановлення дійсності ЕЦП у довгостроковому періоді (після закінчення строку чинності сертифіката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одатково містять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позначку часу відносно цифрового підпис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сертифікати або посилання на сертифіка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інформацію про статус для кожного сертифіка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79520" y="105552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479520" y="219816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760320" y="219816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3351600" y="219816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479520" y="397044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760320" y="397044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3351600" y="397044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79520" y="6156720"/>
              <a:ext cx="280800" cy="21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4795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795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47952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7603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>
              <a:off x="7603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>
              <a:off x="760320" y="3970440"/>
              <a:ext cx="0" cy="240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>
              <a:off x="335160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335160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335160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977688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>
              <a:off x="977688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977688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079640" y="1403280"/>
            <a:ext cx="7416720" cy="100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 накладання ЕЦП та шифрування документу відкритим ключом отримувача дозволяє забезпечити конфіденційність та достовірність інформації в системі Е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079640" y="3924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провадження електронної системи документообігу поширюється на нові напрями господарського житт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1079640" y="2700360"/>
            <a:ext cx="7416720" cy="86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ласник особистого ключа повинен самостійно забезпечувати неможливість його використання іншими особ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исновки та рекоменд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31640" y="2987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31640" y="4140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079640" y="4932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танні зміни в нормативно-правовому регулюванні наближають вітчизняну нормативну базу до міжнародно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інськ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308240" y="6997680"/>
            <a:ext cx="80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ТОВ «Комплексне управління бізнес-процесам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ербальний (надання усних розпорядж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511280" y="3780000"/>
            <a:ext cx="7416720" cy="122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неавтоматизований (несистематизована форма електронного документообіг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511280" y="5148360"/>
            <a:ext cx="7416720" cy="1655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автоматизований (налагодження в інформаційній системі бізнес-процесів здійснення управлінських функц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перовий (формування паперового документу-розпорядженн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Варіанти здійснення розпорядчих функ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63640" y="421308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63640" y="529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719280" y="755640"/>
            <a:ext cx="144360" cy="4824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52360" y="1908000"/>
            <a:ext cx="7848720" cy="4320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латеж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576360" y="539640"/>
            <a:ext cx="828036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фери застосування розпорядчого управлінського документообігу в інформаційній систе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52360" y="255600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договірної документ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152360" y="305928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цін на номенклатуру та зни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152360" y="3597120"/>
            <a:ext cx="7848720" cy="7588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рийняття на роботу, переміщення та звільнення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152360" y="4498920"/>
            <a:ext cx="784872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ший довільний розпорядчий процес (повернення, нарахування премій та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649440" y="197964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649440" y="262728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649440" y="313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2"/>
          <p:cNvSpPr/>
          <p:nvPr/>
        </p:nvSpPr>
        <p:spPr>
          <a:xfrm>
            <a:off x="649440" y="3780000"/>
            <a:ext cx="502920" cy="2156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649440" y="457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649440" y="1187280"/>
            <a:ext cx="142560" cy="352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727280" y="1908000"/>
            <a:ext cx="7345440" cy="574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солідована база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792000" y="611280"/>
            <a:ext cx="8280720" cy="100800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обхідні передумови функціонування ефективної системи управлінськ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727280" y="2843280"/>
            <a:ext cx="7345440" cy="9381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аксимальне обмеження числа працівників, які змінюють довідкову інформаці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27280" y="4067280"/>
            <a:ext cx="7345440" cy="1081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Жорстке обмеження можливості виконання господарських операцій без завершення процесу санкціон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008000" y="1619280"/>
            <a:ext cx="144360" cy="3024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1152360" y="205092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1152360" y="320364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152360" y="4500720"/>
            <a:ext cx="574920" cy="21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1798560" y="1692360"/>
            <a:ext cx="7345440" cy="720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ення логічного маршруту накладання електронних підписів та повноважень в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782640" y="755640"/>
            <a:ext cx="836136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думови ефективного функціонування електронно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800360" y="255600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іксування історії погодження електронного докумен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800360" y="341964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абезпечення можливості накладення підпису через електронну пошту або безпосередньо в програ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1800360" y="4356000"/>
            <a:ext cx="7416720" cy="936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ливість обмеження санкціонування враховуючи  стан взаєморозрахунків, відповідність бюджету або інші показники бази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1008000" y="1547640"/>
            <a:ext cx="155520" cy="3259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152360" y="1979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1152360" y="2771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1152360" y="3635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152360" y="4643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503280" y="301680"/>
            <a:ext cx="9063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Сфери поширення електронного документообі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754200" y="1279440"/>
            <a:ext cx="88484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ітність в ДПС та ПФ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анківські розраху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і державні закупів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итниц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формлення паспор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ерж.реєстра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ля перевезення (авіа, залізниц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єстрація персональних да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іяльність на фондовому ри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проваджується в су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"/>
          <p:cNvSpPr/>
          <p:nvPr/>
        </p:nvSpPr>
        <p:spPr>
          <a:xfrm>
            <a:off x="1009800" y="395280"/>
            <a:ext cx="820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побудови маршруту послідовного накладання електронних підписів на платіжне дору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9600" y="5364000"/>
            <a:ext cx="2736720" cy="64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іці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008000" y="4356000"/>
            <a:ext cx="273708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ухгал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24000" y="341964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центру відповідально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440000" y="255600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фінансової служ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727280" y="154764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вантаження в клієнт-банк опера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Прямая со стрелкой 2"/>
          <p:cNvCxnSpPr>
            <a:stCxn id="456" idx="0"/>
            <a:endCxn id="457" idx="2"/>
          </p:cNvCxnSpPr>
          <p:nvPr/>
        </p:nvCxnSpPr>
        <p:spPr>
          <a:xfrm flipV="1">
            <a:off x="1947960" y="5002920"/>
            <a:ext cx="4291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9"/>
          <p:cNvCxnSpPr>
            <a:stCxn id="457" idx="0"/>
            <a:endCxn id="458" idx="2"/>
          </p:cNvCxnSpPr>
          <p:nvPr/>
        </p:nvCxnSpPr>
        <p:spPr>
          <a:xfrm flipV="1">
            <a:off x="2376360" y="4066920"/>
            <a:ext cx="216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1"/>
          <p:cNvCxnSpPr>
            <a:stCxn id="458" idx="0"/>
            <a:endCxn id="459" idx="2"/>
          </p:cNvCxnSpPr>
          <p:nvPr/>
        </p:nvCxnSpPr>
        <p:spPr>
          <a:xfrm flipV="1">
            <a:off x="2592360" y="32032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13"/>
          <p:cNvCxnSpPr>
            <a:stCxn id="459" idx="0"/>
            <a:endCxn id="460" idx="2"/>
          </p:cNvCxnSpPr>
          <p:nvPr/>
        </p:nvCxnSpPr>
        <p:spPr>
          <a:xfrm flipV="1">
            <a:off x="2808360" y="2339640"/>
            <a:ext cx="288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 Box 3"/>
          <p:cNvSpPr/>
          <p:nvPr/>
        </p:nvSpPr>
        <p:spPr>
          <a:xfrm>
            <a:off x="5113440" y="2303640"/>
            <a:ext cx="273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нківська ви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143680" y="422100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Прямая со стрелкой 18"/>
          <p:cNvCxnSpPr>
            <a:stCxn id="465" idx="2"/>
            <a:endCxn id="466" idx="0"/>
          </p:cNvCxnSpPr>
          <p:nvPr/>
        </p:nvCxnSpPr>
        <p:spPr>
          <a:xfrm>
            <a:off x="6481800" y="3095640"/>
            <a:ext cx="30600" cy="11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8" name="Прямая со стрелкой 22"/>
          <p:cNvCxnSpPr/>
          <p:nvPr/>
        </p:nvCxnSpPr>
        <p:spPr>
          <a:xfrm>
            <a:off x="4464000" y="1979280"/>
            <a:ext cx="65016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0" y="611280"/>
            <a:ext cx="10009080" cy="55450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1009800" y="-36360"/>
            <a:ext cx="835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збереження історії накладення електронних підписів зі збереженням відмітки ч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360360" y="1033560"/>
            <a:ext cx="9433080" cy="4833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"/>
          <p:cNvSpPr/>
          <p:nvPr/>
        </p:nvSpPr>
        <p:spPr>
          <a:xfrm>
            <a:off x="936720" y="250920"/>
            <a:ext cx="806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інтерфейсу накладання електронного підпи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36720" y="1692360"/>
            <a:ext cx="8423280" cy="646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– як правило заявка, замовлення, вимога або наказ на проведе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576520" y="596880"/>
            <a:ext cx="426384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понована базова схема процесу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08000" y="3635280"/>
            <a:ext cx="828036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Господарська операція (надходження, реалізація, проплата, погодження ці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295280" y="4643280"/>
            <a:ext cx="7848720" cy="5050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             Паперови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958680" y="2771640"/>
            <a:ext cx="8280720" cy="430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кладання електронних підписів санкціонува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3527280" y="5651640"/>
            <a:ext cx="3240360" cy="431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Двойная стрелка влево/вправо 5"/>
          <p:cNvSpPr/>
          <p:nvPr/>
        </p:nvSpPr>
        <p:spPr>
          <a:xfrm>
            <a:off x="4535640" y="4716360"/>
            <a:ext cx="934920" cy="287280"/>
          </a:xfrm>
          <a:prstGeom prst="leftRightArrow">
            <a:avLst>
              <a:gd name="adj1" fmla="val 50000"/>
              <a:gd name="adj2" fmla="val 501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0"/>
          <p:cNvSpPr/>
          <p:nvPr/>
        </p:nvSpPr>
        <p:spPr>
          <a:xfrm>
            <a:off x="4824360" y="3201840"/>
            <a:ext cx="274680" cy="433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трелка вниз 11"/>
          <p:cNvSpPr/>
          <p:nvPr/>
        </p:nvSpPr>
        <p:spPr>
          <a:xfrm>
            <a:off x="4824360" y="4211640"/>
            <a:ext cx="287280" cy="431640"/>
          </a:xfrm>
          <a:prstGeom prst="downArrow">
            <a:avLst>
              <a:gd name="adj1" fmla="val 50000"/>
              <a:gd name="adj2" fmla="val 500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4751280" y="5148360"/>
            <a:ext cx="360360" cy="504720"/>
          </a:xfrm>
          <a:prstGeom prst="downArrow">
            <a:avLst>
              <a:gd name="adj1" fmla="val 50000"/>
              <a:gd name="adj2" fmla="val 5012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трелка вниз 9"/>
          <p:cNvSpPr/>
          <p:nvPr/>
        </p:nvSpPr>
        <p:spPr>
          <a:xfrm>
            <a:off x="4824360" y="2340000"/>
            <a:ext cx="28728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503280" y="1908000"/>
            <a:ext cx="9010440" cy="367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863640" y="539640"/>
            <a:ext cx="8497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кумент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— засіб закріплення різними способами на відповідному матеріалі інформації про факти, події, явища об'єктивної дійсності та розумову діяльність люди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904000" y="2411280"/>
            <a:ext cx="367344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Електронний докуме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60360" y="3995640"/>
            <a:ext cx="5184720" cy="936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   електронний документ -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60360" y="2411280"/>
            <a:ext cx="518472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або усна вказі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904000" y="3995640"/>
            <a:ext cx="3673440" cy="1079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- електронний документ –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87640" y="395280"/>
            <a:ext cx="619272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аріанти організаці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0800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диційний (паперов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83236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ий (електронн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59236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770400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251928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770400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2952720" y="1042920"/>
            <a:ext cx="358920" cy="576360"/>
          </a:xfrm>
          <a:prstGeom prst="downArrow">
            <a:avLst>
              <a:gd name="adj1" fmla="val 50000"/>
              <a:gd name="adj2" fmla="val 5018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6985080" y="1042920"/>
            <a:ext cx="358560" cy="576360"/>
          </a:xfrm>
          <a:prstGeom prst="downArrow">
            <a:avLst>
              <a:gd name="adj1" fmla="val 50000"/>
              <a:gd name="adj2" fmla="val 5023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Прямая со стрелкой 17"/>
          <p:cNvCxnSpPr/>
          <p:nvPr/>
        </p:nvCxnSpPr>
        <p:spPr>
          <a:xfrm>
            <a:off x="3311280" y="4355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0" name="Text Box 1"/>
          <p:cNvSpPr/>
          <p:nvPr/>
        </p:nvSpPr>
        <p:spPr>
          <a:xfrm>
            <a:off x="2952720" y="2050920"/>
            <a:ext cx="46800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озпорядч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527280" y="3635280"/>
            <a:ext cx="36738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Обліков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31640" y="1332000"/>
          <a:ext cx="9075960" cy="3537000"/>
        </p:xfrm>
        <a:graphic>
          <a:graphicData uri="http://schemas.openxmlformats.org/drawingml/2006/table">
            <a:tbl>
              <a:tblPr/>
              <a:tblGrid>
                <a:gridCol w="3024360"/>
                <a:gridCol w="3027240"/>
                <a:gridCol w="302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л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ков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порядч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орсткість регулю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ена (спеціалізоване програмне забезпеченн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ощена (достатньо електронного листа або документу внесеного в інформаційну систем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складності формування звітнос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іверсальний (звітність в інформаційній систем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контро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троспектив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передні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ідповідальн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гідно з чинним законодав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рівні внутрішніх регламентів та усних домовле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55"/>
          <p:cNvSpPr/>
          <p:nvPr/>
        </p:nvSpPr>
        <p:spPr>
          <a:xfrm>
            <a:off x="900000" y="360360"/>
            <a:ext cx="835524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рівняння розпорядчої та облікової систем електронного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ліков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76280" y="393840"/>
            <a:ext cx="9063000" cy="50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сновні нормативні документи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76280" y="942840"/>
            <a:ext cx="9063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і документи та електронний документообіг" від 22.05.2003 р. № 851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ий цифровий підпис" 22.05.2003 р. № 852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захист інформації в інформаційно-телекомунікаційних системах" від 05.07.94 р. № 80/94-ВР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(в редакції від 19.03.2009 р. N 1180-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відчення наявності електронного документа (електронних даних) на певний момент часу" від 26.05.2004 р. № 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тосування електронного цифрового підпису органами державної влади, органами місцевого самоврядування, підприємствами, установами та організаціями державної форми власності" від 28.10.2004 р. №1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503280" y="2340000"/>
            <a:ext cx="1981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н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89404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без посиленого сертифікат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539640"/>
            <a:ext cx="874584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асвідчення електронного документ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35940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з посиленим сертифікатом ключів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4440" y="3419640"/>
            <a:ext cx="89186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документ   -   документ,   інформація   в   якому зафіксована у вигляді  електронних  даних,  включаючи  обов'язкові реквізи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 підпис - дані в електронній формі, які додаються до  інших  електронних  даних  або  логічно  з  ними  пов'язані та призначені для ідентифікації підписувача цих да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підпис не може бути визнаний недійсним лише через те, що він має електронну форму або не ґрунтується на посиленому сертифікаті клю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печатки і власноручного підпису на бухгалтерських документах прирівнюється застосування лише посиленого сертифікату клю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35600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84872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224000" y="125892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user</dc:creator>
  <dc:description/>
  <dc:language>en-US</dc:language>
  <cp:lastModifiedBy>Николай</cp:lastModifiedBy>
  <dcterms:modified xsi:type="dcterms:W3CDTF">2017-11-23T07:54:14Z</dcterms:modified>
  <cp:revision>313</cp:revision>
  <dc:subject/>
  <dc:title>Презентация PowerPoint</dc:title>
</cp:coreProperties>
</file>