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DAA5-E0B1-42A7-8F06-E2D4422AD1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BFE-9AC9-40B3-8837-9C7DF839A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E68-93A7-4C6A-9AE2-7AA711F2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4FF-B224-46FA-8A15-E2BEAE7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C78-D136-4F55-A5D9-DCF229F9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7B7-8F0C-424C-A4BA-90A7B979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99A-F88A-4091-9EC4-0F68DDE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A041-F661-4A14-8329-857C68C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737-ADC9-418A-8AC8-7FEFEAAD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FD99-8039-4351-9701-1476F4A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06A3-3FAC-4BEF-A0BC-0892D1BE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2C16-7283-43B2-B6BC-1C5ADE6F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CF56-3082-47AB-B9F2-FA26623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59F-EB27-47D1-A95D-82BC608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AF34-333E-4FDF-9A60-CB66E0B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E58-439B-46F4-97B9-5816A09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9F11-4AB0-444D-8136-A9D6036F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90C9-476B-4DDF-90A7-26C0D850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44D-585E-4D7D-BA9C-AA737D24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DC9-A208-45A5-B8FB-D5C62259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FB0-0B81-4B84-9FD4-A939071C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199-5D6F-4824-AF57-C161B11B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1F3-F910-4756-88A5-8FF9A1D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7FB-33B7-4D53-83C8-51C205BB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DC2-C955-4D2A-B8B2-EE2E568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651-B273-4D0E-B3ED-8D14B98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5A79-ECA9-44CB-AE6B-B846132A10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84D-15C0-4F80-A8C5-DF47DEFA8B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5800" y="333360"/>
            <a:ext cx="615492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39640" y="508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СТАНОВЛЕННЯ ЕКОНОМІЧНОЇ НАУКИ В УКРАЇН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11280" y="404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Людвіг фон Як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Grunds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ä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ze der National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Oekonomie oder National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irthschftslehre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» (Харків, 1809)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57544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різняв три складові економі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літична економія (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наука про народне господарств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ержавна економіка (фінансове право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кономічна діяльність держави (цивільне пра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images1"/>
          <p:cNvPicPr/>
          <p:nvPr/>
        </p:nvPicPr>
        <p:blipFill>
          <a:blip r:embed="rId1"/>
          <a:stretch/>
        </p:blipFill>
        <p:spPr>
          <a:xfrm>
            <a:off x="6851520" y="115920"/>
            <a:ext cx="1954440" cy="244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539640" y="2349360"/>
            <a:ext cx="84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ирока програма економічного розвитку основних секторів економіки, в першу чергу – аграрного. Філотехнічне товари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шук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нових форм соціальної організац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у реформуванні власного маєтку:обізнаність з господарською практикою. Ґрунтовні економічні розрахунки організації селянських повинностей, рентних платежів, лісокористування, організації податкової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ільки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вільний селян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датен на продуктивну прац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рішення економічних проблем можливе з ліквідацією кріпосництва, – головної соціальної проблеми, яка гальмує ефективність економічної систе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16360" y="57312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Василь Каразин (1773–184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189000"/>
            <a:ext cx="76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Тихін Степанов (1795–1847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392200" y="2513160"/>
            <a:ext cx="17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-4587840" y="427824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40360" y="1863720"/>
            <a:ext cx="485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Політичні науки охоплюють життя народів, </a:t>
            </a:r>
            <a:r>
              <a:rPr b="1" i="1" lang="uk-UA" sz="1800" spc="-1" strike="noStrike">
                <a:solidFill>
                  <a:srgbClr val="ff19ff"/>
                </a:solidFill>
                <a:latin typeface="Arial"/>
              </a:rPr>
              <a:t>політична економія охоплює життя фізичне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, а політика, у вузькому розумінні життя моральне. З цього видно, який великий вони мають мати вплив на держави»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Юрий\Desktop\Stepanov1.JPG"/>
          <p:cNvPicPr/>
          <p:nvPr/>
        </p:nvPicPr>
        <p:blipFill>
          <a:blip r:embed="rId1"/>
          <a:stretch/>
        </p:blipFill>
        <p:spPr>
          <a:xfrm>
            <a:off x="324000" y="1362240"/>
            <a:ext cx="319716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324000" y="260280"/>
            <a:ext cx="8640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політик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Тихін Степанов зараховув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Arial"/>
              </a:rPr>
              <a:t>«релігію, правління, законодавство, освіту, власність усіх станів, моральність, словом, всі частини розумового життя суспільства полягають в його пізнавальній галузі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еорія політичної економ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складається з трьох розділі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жерела багатства (природа, праця, капіта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леми розподілу багат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леми спожи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«практичній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частині досліджує галузі господарства, джерела податків, напрямки видатків уряду та державний бор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Економіку він розглядав як систему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Arial"/>
              </a:rPr>
              <a:t>«Прагнення мислителів до узагальнення пізнання складає відмінну рису просвітницької епохи. Тоді тільки такий напрям був би помилковим, коли у самій природі не було все узагальнене? – Природа, подібно до її частин, складає організм, організм вміщує у собі систему, а у системі все узагальнено, тай інакше бути не може»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753480" y="11592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Тихін Сте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«Записки про політичну економію» (1844, 1848 рр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6120" y="1125360"/>
            <a:ext cx="8567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 центрі філософської концепції політичної економії -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людина та її діяльніст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Буття суспільства є необхідною умовою розкриття фізично-морального життя люди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арактеристика індивіда виводить із характеристики інституцій (суспільства), схильність до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етодологічно холізм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Свобода виробничої і торгівельної діяльності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: справедливе відшкодування за витрачену працю, необхідність дотримуватись рівноваги між виробництвом та спожива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ституція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ці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найважливіша сила у творенні і примноженні багатства, а її продуктивність залежить від того наскільки вона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і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ституції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лади і управлі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аналізує у контексті категорій класичної політичної економії. Соціальна нерівність є результатом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еефективності функціональної структури владних інституці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а не дії економічних законі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95280" y="11714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отиваційні аспекти праці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Ощадливіст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озглядає як суттєву «доброчинність праці». Ощадливий завжди поділяє доход на дві частини: перша – йде на відтворення безпосередніх потреб, друга – використовується для безпосереднього спожи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щадливість дозволяє зберігати і працю і капі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щадливість є рисою народів освічених, таких, що зайняті переважно у сфері мануфактурного виробниц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сфери ощадливості він також зараховує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ередбачуваність, поряд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чистоту; пропонує утримуватися у використанні модних речей і в ощадливості брати приклад з голландців та англійц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46240" y="189000"/>
            <a:ext cx="83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Тихін Сте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«Записки про політичну економію» (1844, 1848 р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727560" y="528120"/>
            <a:ext cx="71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Іван Вернадський (1821–188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80b8a19-m"/>
          <p:cNvPicPr/>
          <p:nvPr/>
        </p:nvPicPr>
        <p:blipFill>
          <a:blip r:embed="rId1"/>
          <a:stretch/>
        </p:blipFill>
        <p:spPr>
          <a:xfrm>
            <a:off x="250920" y="1173240"/>
            <a:ext cx="3798720" cy="50641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"/>
          <p:cNvSpPr/>
          <p:nvPr/>
        </p:nvSpPr>
        <p:spPr>
          <a:xfrm>
            <a:off x="3995640" y="191628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У теоретичних питаннях І.В.Вернадський був безкомпромісним прихильником класичної школи в політичній економії. Він відстоював економічну свободу дій, приватновласницьке господарювання, виступав з критикою общинних порядків. Світоглядно Іван Вернадський солідаризувався з Тарасом Шевчен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Степан Злу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611280" y="404640"/>
            <a:ext cx="828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Антропоцентризм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який є характерною ознакою всієї української класичної політичної економ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нтропоцентризм наштовхнув вченого на створення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теорії потреб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якою він прагнув вдосконалити вчення А. Сміта: розкрити теорію потреб можна тільки враховуючи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поведінку споживач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орія потреб була не тільки своєрідною реакцією на відсутність ґрунтовних досліджень проблеми потреб класиками, а також засвідчувала вузькість для вченого класичного розуміння предмету економічної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539640" y="189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Іван Вернадський: «Критико-історичне дослідження про італійську політико-економічну літературу до початку ХІХ століття» (1849)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39640" y="1484280"/>
            <a:ext cx="84250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Системність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исл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никнення економічної науки сприяло поліпшенню економічного законодавства, особистої безпеки, появі громадянських прав праці, гармонізації стосунків між суспільною владою та індиві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Особиста безпек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основою усіх економічних дій»;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ця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головним і єдиним джерелом багатства»;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суспільна влад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найвищий зберігач священних інтересів суспільства»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нстатуємо чудовий опис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інституційного середовищ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економічної діяль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верджуючи, що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система уявляє собою придатність речі, історія надає їй цінності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истемний підхід доповнює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инципом історизм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684360" y="836640"/>
            <a:ext cx="828036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етодологічний холізм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(цілісні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рікає людям, які прагнуть задовольнити свої потреби за будь яку ціну, що вони не бачать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того органічного зв’язку, який існує між ними і суспільним тілом, і приховує від них справжню природу їх особистого добробуту, завжди вразливого, а тому тільки уявного, якщо він не є наслідком добробуту суспільного, який має бути основою для приватн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даному випадку відправним пунктом аналізу є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інституці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суспільного добробуту, а не окремий індивід. Очевидне прагнення охарактеризувати добробут індивіда відштовхуючись від характеристики інституцій, а не навп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) Наука також сприймається як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цілісніст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На науку ми звикли дивитись – і наш погляд досконало правильний –  як на дещо органічне, єдине ціле. Жодна частина її не може бути відірваною від неї без прямої втрати її гідності, без порушення її цілісності; так само і жоден момент її попереднього розвитку не має бути залишеним нами поза увагою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11280" y="2001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Методологія І.Вернадс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0000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Семен Десницький (бл.1740–17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Юрий\Desktop\DesnitskySE.jpg"/>
          <p:cNvPicPr/>
          <p:nvPr/>
        </p:nvPicPr>
        <p:blipFill>
          <a:blip r:embed="rId1"/>
          <a:stretch/>
        </p:blipFill>
        <p:spPr>
          <a:xfrm>
            <a:off x="179280" y="981000"/>
            <a:ext cx="3508560" cy="4535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3832200" y="1773360"/>
            <a:ext cx="506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В економічних і правничих дослідженнях С. Ю. Десницького чітко простежується синтез європейського просвітительства, смітіанства і українського свободолюб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Степан Злу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55640" y="189000"/>
            <a:ext cx="820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хильність до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инципу історизм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доводить таке його висловлювання: «Внаслідок тісного органічного зв’язку, який існує між усіма положеннями науки і всіма моментами її розвитку, ми не можемо заперечувати впливу попередніх думок на утворення майбутніх, навпаки – такий вплив існує високою міро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) у замітках до редагованого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Курсу політичної економії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Г. Шторха </a:t>
            </a:r>
            <a:r>
              <a:rPr b="1" i="1" lang="uk-UA" sz="2000" spc="-1" strike="noStrike">
                <a:solidFill>
                  <a:srgbClr val="990033"/>
                </a:solidFill>
                <a:latin typeface="Arial"/>
              </a:rPr>
              <a:t>надає перевагу визначенню політичної економії як науки про господарств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зараховуючи політичну економію до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розряду так званих камеральних або господарських наук, тобто таких, що досліджують народне господарст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проблем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ласност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. Вернадський підходить через поняття володіння, яке він розглядає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не як право володіння річчю чи предметом, а як фактичну підставу всякої економічної діяльності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11280" y="1989000"/>
            <a:ext cx="8208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) Він вибудовує своєрідну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дихотомію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ці і володі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які у нього складають необхідні умови потреб людини. Дії сил праці і володіння протилежні, але певним чином доповнюють одна од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Arial"/>
              </a:rPr>
              <a:t>«Праця прагне до розширення, збільшує коло своєї діяльності, надаючи різним предметам більшої корисності, більшої цінності; володіння навпаки при певному привласненні, є елементом обмеження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олодіння розглядає як своєрідне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неформальне обмеже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в діяльності людини скерованої на задоволення потреб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11280" y="765000"/>
            <a:ext cx="828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) прагнул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розширено трактувати предмет політичної економ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залучаючи до наукового аналізу морально-етичні, духовні, правові та інші 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) перебували у пошуку нових форм соціальної організації, розуміючи необхідність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соціальних та економічних свобод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для трансформаційних перетворень економічної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) робили спроби дослідит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отивацію економічної поведінки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люд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) не відкидали необхідність державного впливу на вирішення гострих соціально-економічни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Наведені факти дозволяють стверджувати, що в кінці ХVIII – першій половині ХІХ ст. українські економісти пропонували прогресивні і ефективні заходи економічних реформ, які враховували не тільки європейські досягнення економічної думки, а й особливості господарського розвитку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6040" y="260280"/>
            <a:ext cx="82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Прихильники класичної політичної економії в Украї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51000" y="18900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Юридичні роздуми про відмінні поняття, що мають народи про власність маєтків у різних верствах співжиття”(178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Еволюційна теорія суспільного розвит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спільний розвиток послідовно проходить чотири стадії (стани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снування за рахунок ловлі звірів і збиральниц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отар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емлероб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мер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Еволюційна теорія повинна бути основою для аналізу державного устрою народів та їх досягнень на ниві науки та мистец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Володіння і власність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 основними суспільними інституціями, які опосередковують вплив мінливих форм господарства на суспільний розвиток. Зміна форм господарювання спричиняє зміну форм володіння і влас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родження і розвиток </a:t>
            </a: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інституції власност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тісно пов’язані з розвитком господарських умов життя суспільства. Власність розглядається як багатогранне економіко-правове поняття через призму використання (вживання), відчуження та юридичної належності реч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новою цінності створених продуктів і джерелом походження суспільної інституції власності є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прац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5651640" y="2852640"/>
            <a:ext cx="3384360" cy="31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826920" y="2924280"/>
            <a:ext cx="4392720" cy="20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9240" y="189000"/>
            <a:ext cx="4489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НІМЕЦЬКА КАМЕРАЛІ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ammeralwissenvchaft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71640" y="35002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Йозеф ЛА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059280" y="3500280"/>
            <a:ext cx="2089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Людвіг фон ЯК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36000" y="4292640"/>
            <a:ext cx="165564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Карл ШТО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30200" y="1125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воєрідна суміш суспільних наук, що викладалась у німецьких університетах  і скеровувалася на підготовку чиновник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ібрання правил, які передбачали широкі повноваження держави в обмеженні приватної діяль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іймала поліцію, торгівлю, фінанси, лісництво, землеробство, гірничу промисловість тощ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6516720" y="3429000"/>
            <a:ext cx="230328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Христіан ШЛЬО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940360" y="5300640"/>
            <a:ext cx="3024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Михайло БАЛУДЯН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971640" y="29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Харківськ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923800" y="28735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187280" y="4365720"/>
            <a:ext cx="259272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Тихін СТЕП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826920" y="5229360"/>
            <a:ext cx="4392720" cy="14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979200" y="530064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Київськ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042920" y="5805360"/>
            <a:ext cx="288144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ан ВЕРНАД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780000" y="4581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716360" y="4581360"/>
            <a:ext cx="0" cy="144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H="1">
            <a:off x="3924360" y="6021360"/>
            <a:ext cx="79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5" descr="index1"/>
          <p:cNvPicPr/>
          <p:nvPr/>
        </p:nvPicPr>
        <p:blipFill>
          <a:blip r:embed="rId1"/>
          <a:stretch/>
        </p:blipFill>
        <p:spPr>
          <a:xfrm>
            <a:off x="8024760" y="2565360"/>
            <a:ext cx="996840" cy="107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0" descr="index6"/>
          <p:cNvPicPr/>
          <p:nvPr/>
        </p:nvPicPr>
        <p:blipFill>
          <a:blip r:embed="rId2"/>
          <a:stretch/>
        </p:blipFill>
        <p:spPr>
          <a:xfrm>
            <a:off x="4140360" y="2637000"/>
            <a:ext cx="1441440" cy="91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images5"/>
          <p:cNvPicPr/>
          <p:nvPr/>
        </p:nvPicPr>
        <p:blipFill>
          <a:blip r:embed="rId3"/>
          <a:stretch/>
        </p:blipFill>
        <p:spPr>
          <a:xfrm>
            <a:off x="3995640" y="4941720"/>
            <a:ext cx="1368360" cy="88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2" descr="images 7"/>
          <p:cNvPicPr/>
          <p:nvPr/>
        </p:nvPicPr>
        <p:blipFill>
          <a:blip r:embed="rId4"/>
          <a:stretch/>
        </p:blipFill>
        <p:spPr>
          <a:xfrm>
            <a:off x="7020000" y="5734080"/>
            <a:ext cx="1871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755640" y="60228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цент на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історичні та статистично-економічні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дослідження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оскільки розглядали їх як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індуктив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основу нової економічної науки, а згодом і нової соціології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гнення вмонтувати досягнення класичної політичної економії у форму німецької камералістики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(еклек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ґрунтовна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юридична осві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яка дозволила німецьким економістам краще класиків зрозуміти роль і місце держави в економічній систе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ітке розмежування між теоретичною та прикладною наукою: запроваджено термін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економічна полі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вага до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соціальних питан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на місце і роль держави у їх реаліз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а методологія і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політика активістської ролі держав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озитивно сприймалася в Україні, знаходила більше розуміння, ніж політика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z faire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оширення класичної політичної економії у контексті камералістики сформувало своєрідність розвитку економічної науки  в Україні та окреслило сфери та напрямки майбутніх економічних дослідж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446560" y="163440"/>
            <a:ext cx="37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НІМЕЦЬКА КАМЕРАЛІ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Михайло Балудянський (1769–184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50760" y="1576440"/>
            <a:ext cx="794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1258067355_6b5bf7b0-b"/>
          <p:cNvPicPr/>
          <p:nvPr/>
        </p:nvPicPr>
        <p:blipFill>
          <a:blip r:embed="rId1"/>
          <a:stretch/>
        </p:blipFill>
        <p:spPr>
          <a:xfrm>
            <a:off x="324000" y="835200"/>
            <a:ext cx="3639960" cy="4754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3963960" y="177336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Михайло Балудянський був патріотом свого краю, але висока плата, цінні подарунки й почесті змушували його працювати в «наймах у сусідів» більшу частину життя. Кожні три роки він поновлював контракт, усе ж таки сподіваючись повернутися на батьківщину з якою ніколи не втрачав зв'язк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Степан Злу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9"/>
          <p:cNvSpPr/>
          <p:nvPr/>
        </p:nvSpPr>
        <p:spPr>
          <a:xfrm>
            <a:off x="539640" y="26028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1809 році він очолює одне із відділень комісії по кодифікації законів у Міністерстві фінансів Російської імперії, яке займалось фінансовими та сільськогосподарськими питанн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елика частина наукової спадщини вченого, що створена у перше десятиліття ХІХ ст., дійшла до нас у рукописному вигляді під наз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Система Михайла Балудянсь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підставі послідовного дослідження М. Балудянським теоретичних концепцій меркантилістів, фізіократів та Адама Сміта,  які він зробив у публікаціях </a:t>
            </a: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«Статистического журнала»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1806,1808 рр.), можна зробити висновок, що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економічна свобод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а пов’язані з нею цінності є найконструктивнішим елементом його концеп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26920" y="91440"/>
            <a:ext cx="7490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Генріх Шторх </a:t>
            </a:r>
            <a:r>
              <a:rPr b="0" lang="uk-UA" sz="2400" spc="-1" strike="noStrike">
                <a:solidFill>
                  <a:srgbClr val="990033"/>
                </a:solidFill>
                <a:latin typeface="Arial"/>
              </a:rPr>
              <a:t>(1766–18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Курс політичної економії, або викладення принципів, які визначають добробут націй»(1815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55640" y="335772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лага поділяються на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матеріальн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ематеріальн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перших складає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аціональне багатство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esse nationale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,сукупність других – 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аціональну цивілізацію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vilization nationale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зом вони складають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аціональний добробут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p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t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e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26920" y="177948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структурою праця складається з двох част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Теорія народного багатства» - вісім кни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«Теорія цивілізації»,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яка містить дві кни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 – «Елементи цивілізації, або внутрішні блага» і ІІ – «Про природний розвиток (успіхи) цивілізації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826920" y="501336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агне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розширити предмет політичної економії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доповнивши «теорію багатства», що опікується питаннями виробництва, розподілу і нагромадження матеріальних благ; «теорією цивілізації», що має опікуватися нематеріальними духовними цінност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116000" y="1148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Йозеф Л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55640" y="83880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Про вищий принцип політичної економії» (Рига, 18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ь народного господарства наявні три сектори: сільськогосподарський, промисловий і грошовий. Кругообіг між секторами у народногосподарській системі проаналізовано за допомогою простих лінійних рівнянь та цифрових прикладів, в площині трьох «національних балансі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Основні напрямки політичної арифметики» (Харків, 1810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ь народного господарства побудовано на основі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класової структури суспільств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Баланси потоків продуктів і послуг між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трьома класам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 сільськогосподарським, промисловим і служивим розраховані на основі системи лінійних рівня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Що таке гроші» (18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отирьохсекторна модель народногосподарського кругообігу. Чотири сектори економіки вчений пояснює як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чотири клас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 продуктивний  (виготовлення сировини), технічний (переробка сировини), комерційний і політичний класи. Взаємозв’язки між ними (через потоки продуктів, капіталів, грошей) вчений описує у вигляді трьох таблиць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5:58:05Z</dcterms:created>
  <dc:creator>Drogoby4</dc:creator>
  <dc:description/>
  <dc:language>en-US</dc:language>
  <cp:lastModifiedBy>Юрий</cp:lastModifiedBy>
  <dcterms:modified xsi:type="dcterms:W3CDTF">2017-05-11T21:10:48Z</dcterms:modified>
  <cp:revision>20</cp:revision>
  <dc:subject/>
  <dc:title>Слайд 1</dc:title>
</cp:coreProperties>
</file>