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F08-129C-4C3F-973A-8EDF68C9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D84-FF27-43B0-A720-243D2C80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1F4-CA2A-4F96-B849-9EDF5348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880-4F07-4102-9B7E-2A9EB515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A4F-B6C5-415F-A232-EB5E9691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A830-55F1-42D5-83AC-16DEFCBD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4EF-17AE-4B44-B5D9-40D5341E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318-54BE-4CC8-90F2-A85F8645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9D2-40F6-441B-82C3-EDB9789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997-FDB8-4C0A-89EF-2D7C6BC1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A39-DC2A-4B4B-9E50-EE414D81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877-272D-4D53-B602-913A136F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BD0A-C923-4C1A-A3ED-8F0A104DB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ОЛЬ ЕМОЦІЙ У ДІЯЛЬНОСТІ, ПОВЕДІНЦІ ТА РОЗВИТКУ ОСОБИСТ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44193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Види емоцій відповідно до потреб пізнавальної діяльності люди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0574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льтруїстич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9718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унікатив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8862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праксич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8006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праксичн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57150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пугнічні та і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828800"/>
            <a:ext cx="0" cy="434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1722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51055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267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276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4382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1523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Роль емоцій у творчому процес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666880"/>
            <a:ext cx="8382240" cy="2895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Емоція володіє здатністю підбирати враження або образи, які співзвучні тому настрою, який володіє людиною в цю хвил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20968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Необхідність саморегуляції у працівників виникає у таких випадк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447920"/>
            <a:ext cx="7925040" cy="838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Людина стикається з важкою, новою і незвичною проблемо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438280"/>
            <a:ext cx="792504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облема не має однозначного розв’язання, переважно існує кілька варіантів, серед яких складно вибрати оптималь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733920"/>
            <a:ext cx="792504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Працівник перебуває в ситуації підвищеного емоційного і фізичного напруження, що спонукає його до імпульсивних ді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029200"/>
            <a:ext cx="7925040" cy="838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ішення про те, як діяти працівнику, треба приймати в умовах дефіциту ча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6019920"/>
            <a:ext cx="792504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Дії працівника оцінюються іншими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219320"/>
            <a:ext cx="0" cy="5029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90512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1240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2670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41008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624852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Емоційні властивості включаю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0574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моційну збудливі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3048120"/>
            <a:ext cx="800100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либину переживання емоцій (емоційну глибину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43434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моційна ригід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828800"/>
            <a:ext cx="0" cy="297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8006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5812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362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0-03-19T13:43:0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