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441-FB6C-4F8A-85C6-801E5815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2B5-370C-4F16-A166-813E4B2D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648-1553-44E9-83C6-C6F544D3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0F3-0E57-4911-A785-88794BD2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571-2437-438F-80CA-A67F2B55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4F9-AFDC-4A06-8BF7-BB1EE33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5B5-C274-4ABC-9740-BEC7F7D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A82-A00D-4512-8F3E-36F260B6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4FA-B63D-4802-93CC-4E860C45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F90-37BE-47B1-883D-5B2CDE2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C64-EAF8-42B4-8129-579E68D3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F15-437A-4682-B89E-9EDDB18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4A6-60C6-4DE4-8E93-D3340106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ОЛЬ ЕМОЦІЙ У ДІЯЛЬНОСТІ, ПОВЕДІНЦІ ТА РОЗВИТКУ ОСОБИСТ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4193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емоцій відповідно до потреб пізнавальної діяльності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льтруїст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9718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унікатив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акс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акс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7150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угнічні та і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8288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172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276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Роль емоцій у творчому процес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666880"/>
            <a:ext cx="83822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моція володіє здатністю підбирати враження або образи, які співзвучні тому настрою, який володіє людиною в цю хви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2096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Необхідність саморегуляції у працівників виникає у таких випад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4479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на стикається з важкою, новою і незвичною проблемо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43828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блема не має однозначного розв’язання, переважно існує кілька варіантів, серед яких складно вибрати оптималь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73392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ацівник перебуває в ситуації підвищеного емоційного і фізичного напруження, що спонукає його до імпульсивних д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02920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ішення про те, як діяти працівнику, треба приймати в умовах дефіциту ча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019920"/>
            <a:ext cx="792504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ії працівника оцінюються іншим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219320"/>
            <a:ext cx="0" cy="5029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9051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267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2485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Емоційні властивості включаю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моційну збудливі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048120"/>
            <a:ext cx="80010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либину переживання емоцій (емоційну глибин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343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моційна ригід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82880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800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581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362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3-19T13:4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