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B80-E78A-43E6-B427-B7454B33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B14-896D-49D6-90E6-115190DF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762-367B-426C-86C4-3BB507F6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FC0-46E9-4674-A240-AF67002D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54F-FC75-47E3-9CF5-D6AD3D2C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60E-2EFC-4DDA-9B8E-12125469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B6B-547E-4042-9D4C-FF2CFCA4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C03-106D-4E86-A7F0-38D6E727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E15-5FAC-4228-A382-9B80519D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C24-C3F9-4CB1-83ED-E2968B4F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B6B-D9E5-41BE-B64A-9D44A124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C6B-32C4-41D5-ADE4-1BCE8D4F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8B37-3949-46E2-AE8A-D7D0BAD81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mbria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ЕХАНІЗМ ФУНКЦІОНУВАННЯ РИНКУ ПРАЦІ ТА ЙОГО РЕГУЛЮ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4290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1. Механізм функціонування ринку пра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0384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2. Особливості функціонування ринку пра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6483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3. Регулювання ринку пра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еханізм ринку праці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371600"/>
            <a:ext cx="8305920" cy="3429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Cambria"/>
              </a:rPr>
              <a:t>взаємодія і погодження різнорідних інтересів роботодавців і працездатного населення, яке має бажання працювати за наймом на сонові одержаної інформації, одержаної у вигляді ціни праці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руктура механізму ринку пра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371600"/>
            <a:ext cx="83059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попит на прац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209680"/>
            <a:ext cx="83059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пропозиція прац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048120"/>
            <a:ext cx="83059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ціна прац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3059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конкурен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ункції ринку пра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0592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Регулює попит і пропозицію праці; забезпечує зустріч покупців і продавців робочої сили для укладання трудових договорів з метою об’єднання робочої сили з іншими ресурсами виробниц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124080"/>
            <a:ext cx="8305920" cy="838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Забезпечує конкуренцію між робітниками за краще робоче місце, між роботодавцями – за найм робочої с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83059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Установлює рівноважну ціну на ринку пра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800600"/>
            <a:ext cx="83059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Сприяє повній, але економічно ефективній зайнят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ливості функціонування ринку прац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14400"/>
            <a:ext cx="861048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1. Невід’ємність права власності на товар «робоча сила» від його влас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752480"/>
            <a:ext cx="8610480" cy="838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2. У порівнянні з іншими ринками взаємодія покупця і продавця щодо продажу товару «робоча сила» має значно більшу тривалі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743200"/>
            <a:ext cx="8610480" cy="762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3. Наявність великої кількості інституціональних структур, що стоять на захисті прав продавців і покупців робочої с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657600"/>
            <a:ext cx="861048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4. Висока ступінь індивідуальних у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343400"/>
            <a:ext cx="861048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5. Своєрідність процесу обміну товару «робоча сила» в порівнянні з іншими това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5181480"/>
            <a:ext cx="8610480" cy="1143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6. Для найманого працівника критерієм укладання трудової угоди є не тільки грошова винагорода, а й інші аспекти праці (умови праці; гарантії збереження робочого місця; перспективи кар’єри; клімат в колективі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990720"/>
            <a:ext cx="83059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mbria"/>
              </a:rPr>
              <a:t>Суб’єкти регулювання ринку пра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828800"/>
            <a:ext cx="76201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профспіл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2666880"/>
            <a:ext cx="76201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об’єднання підприємці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505320"/>
            <a:ext cx="76201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держ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676520"/>
            <a:ext cx="0" cy="213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1337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9718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380988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5T13:24:26Z</dcterms:created>
  <dc:creator>Viacheslav Tkachuk</dc:creator>
  <dc:description/>
  <dc:language>en-US</dc:language>
  <cp:lastModifiedBy> Main User</cp:lastModifiedBy>
  <dcterms:modified xsi:type="dcterms:W3CDTF">2020-03-15T14:13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