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9AA-4838-48F0-9F9A-6FA090E1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58F-7DD6-4086-859D-A520A0D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5F9-A87C-470B-AD7F-AEBB3D51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D81-C814-48A7-A2CF-1A06AEF7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104-3DD4-4244-9870-C00DB3AE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7D0-C1EC-4BE0-AA83-6DCA82EF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FF4-D4F0-4A89-A6E3-D56B9ADC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889-A001-4617-9E1C-A75790E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D15-3872-4BD2-81E5-3B1264D4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879-238E-45D1-8E58-ED31B1F2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F13-E89B-4FE3-BA19-84DF017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5D5-336C-40BC-BE13-9744674E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77CD-2192-4F8A-9523-3ABD64CA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mbria"/>
              </a:rPr>
              <a:t>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ІЗМ ФУНКЦІОНУВАННЯ РИНКУ ПРАЦІ ТА ЙОГО РЕГУЛЮВА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4290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1. Механізм функціонування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0384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2. Особливості функціонування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648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3. Регулювання ринку пра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еханізм ринку праці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71600"/>
            <a:ext cx="8305920" cy="3429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Cambria"/>
              </a:rPr>
              <a:t>взаємодія і погодження різнорідних інтересів роботодавців і працездатного населення, яке має бажання працювати за наймом на сонові одержаної інформації, одержаної у вигляді ціни праці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руктура механізму ринку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37160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опит на прац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0968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ропозиція пра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812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ціна прац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конкурен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ункції ринку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059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Регулює попит і пропозицію праці; забезпечує зустріч покупців і продавців робочої сили для укладання трудових договорів з метою об’єднання робочої сили з іншими ресурсами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124080"/>
            <a:ext cx="8305920" cy="838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Забезпечує конкуренцію між робітниками за краще робоче місце, між роботодавцями – за найм робочої с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Установлює рівноважну ціну на ринку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800600"/>
            <a:ext cx="830592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"/>
              </a:rPr>
              <a:t>Сприяє повній, але економічно ефективній зайнят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ливості функціонування ринку прац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14400"/>
            <a:ext cx="861048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1. Невід’ємність права власності на товар «робоча сила» від його влас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752480"/>
            <a:ext cx="8610480" cy="838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2. У порівнянні з іншими ринками взаємодія покупця і продавця щодо продажу товару «робоча сила» має значно більшу тривал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743200"/>
            <a:ext cx="8610480" cy="7621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3. Наявність великої кількості інституціональних структур, що стоять на захисті прав продавців і покупців робочої с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657600"/>
            <a:ext cx="8610480" cy="533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4. Висока ступінь індивідуальних у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343400"/>
            <a:ext cx="861048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5. Своєрідність процесу обміну товару «робоча сила» в порівнянні з іншими тов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181480"/>
            <a:ext cx="8610480" cy="1143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mbria"/>
              </a:rPr>
              <a:t>6. Для найманого працівника критерієм укладання трудової угоди є не тільки грошова винагорода, а й інші аспекти праці (умови праці; гарантії збереження робочого місця; перспективи кар’єри; клімат в колективі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990720"/>
            <a:ext cx="83059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mbria"/>
              </a:rPr>
              <a:t>Суб’єкти регулювання ринку пра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82880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профспіл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266688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об’єднання підприємц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505320"/>
            <a:ext cx="7620120" cy="6858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mbria"/>
              </a:rPr>
              <a:t>держ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76520"/>
            <a:ext cx="0" cy="213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13372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97180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809880"/>
            <a:ext cx="228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5T13:24:26Z</dcterms:created>
  <dc:creator>Viacheslav Tkachuk</dc:creator>
  <dc:description/>
  <dc:language>en-US</dc:language>
  <cp:lastModifiedBy> Main User</cp:lastModifiedBy>
  <dcterms:modified xsi:type="dcterms:W3CDTF">2020-03-15T14:1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