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D433-A68D-4A87-8B7F-766D6EB0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90FD-6BE4-49B7-B542-51CF0355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ED87-69FB-489C-9C4B-3EDF20C8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853-04B9-4B95-ACAD-B918B8AB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4E42-AB71-42BD-8E56-3BE17902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C42C-D030-410D-8D78-7241732B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73EB-A3CA-4698-BF66-4779DE0B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F057-B581-4F9D-B0C0-7863BED1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FA0A-003A-47B6-AF5A-994C5424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10DE-A2C8-4D45-8079-6006E78F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9B93-6AF9-4C17-BB74-F592A796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0385-6FBF-44A1-9B5F-94EAE780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543C-A478-4675-A041-DD7475B06D3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Rola korporacji międzynarodowych.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Globalizac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pracowała Anna Kodyni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zagr inwestycje bezpośr w RP 2004"/>
          <p:cNvPicPr/>
          <p:nvPr/>
        </p:nvPicPr>
        <p:blipFill>
          <a:blip r:embed="rId1"/>
          <a:stretch/>
        </p:blipFill>
        <p:spPr>
          <a:xfrm>
            <a:off x="611280" y="1125360"/>
            <a:ext cx="8137440" cy="5399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755640" y="6453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Źródło: Mały Rocznik Statystyczny GUS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Korporac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Spółka kapitałow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której działalność obejmuje wiele krajów. Jej właścicielem jest kapitał (= udziałowcy spółek akcyjnych i spółek z o.o.). Często przekształcają się w konglomeraty, czyli organizacje gospodarcze działające na zasadach holdin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Holding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– przedsiębiorstwo o charakterze spółki akcyjnej, powołane w celu zarządzania innymi przedsiębiorstwami. Często monopolizują pewne dziedziny wytwarzania i dystrybucji dlatego ich działalność w wielu krajach jest ustawowo ogranicz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Korporac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worzy system międzynarodowych powiązań gospodarcz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ealizuje jednolitą strategię ekspansji ekonomiczn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Organization Chart 7"/>
          <p:cNvGrpSpPr/>
          <p:nvPr/>
        </p:nvGrpSpPr>
        <p:grpSpPr>
          <a:xfrm>
            <a:off x="431640" y="3906720"/>
            <a:ext cx="8208000" cy="2160000"/>
            <a:chOff x="431640" y="3906720"/>
            <a:chExt cx="8208000" cy="2160000"/>
          </a:xfrm>
        </p:grpSpPr>
        <p:cxnSp>
          <p:nvCxnSpPr>
            <p:cNvPr id="48" name="_s1028"/>
            <p:cNvCxnSpPr>
              <a:stCxn id="49" idx="0"/>
              <a:endCxn id="50" idx="2"/>
            </p:cNvCxnSpPr>
            <p:nvPr/>
          </p:nvCxnSpPr>
          <p:spPr>
            <a:xfrm flipV="1" rot="16200000">
              <a:off x="5424480" y="3881520"/>
              <a:ext cx="432720" cy="2210040"/>
            </a:xfrm>
            <a:prstGeom prst="bentConnector3">
              <a:avLst>
                <a:gd name="adj1" fmla="val 263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1029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3214440" y="3881160"/>
              <a:ext cx="432720" cy="2210760"/>
            </a:xfrm>
            <a:prstGeom prst="bentConnector3">
              <a:avLst>
                <a:gd name="adj1" fmla="val 263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0" name="_s1030"/>
            <p:cNvSpPr/>
            <p:nvPr/>
          </p:nvSpPr>
          <p:spPr>
            <a:xfrm>
              <a:off x="2642040" y="3906720"/>
              <a:ext cx="3788280" cy="8640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Zarząd firmy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acierzystej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1"/>
            <p:cNvSpPr/>
            <p:nvPr/>
          </p:nvSpPr>
          <p:spPr>
            <a:xfrm>
              <a:off x="431640" y="5202720"/>
              <a:ext cx="3788280" cy="8640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Filie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2"/>
            <p:cNvSpPr/>
            <p:nvPr/>
          </p:nvSpPr>
          <p:spPr>
            <a:xfrm>
              <a:off x="4851360" y="5202720"/>
              <a:ext cx="3788280" cy="8640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ddziały 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zagranicz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Kryteria tworzenia fil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asięg geograficzny rynków zbytu towarów i usł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ydzielanie jednostek poszczególnych branż wytwar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ydzielanie jednostek działających na wybranych rynkach np. rynku paliw, rynku lekarstw it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Cechy korporac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Bardzo duże zasoby kapitałow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– roczny dochód niektórych z nich jest większy od PKB wielu KSR.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(zysk brutto General Electric za 2001 był wyższy niż PKB Boliwii, Kenii czy Dem. Rep. Kong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Przewaga konkurencyjn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w poszczególnych branżach wytwar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Wysoko wykwalifikowana kadra zarządzają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Produkcja wyrobów bardzo zaawansowanych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technologicz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Efektywny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Ekspansj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korporacji międzynarodowych na kolejne ryn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Branże, w których działają korporac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Elektro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Automat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Produkcja samolot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Produkcja br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Produkcja chemikali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Produkcja lekarst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elekomunikac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ankowoś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bezpiecz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urysty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4572000" y="1557360"/>
            <a:ext cx="1871640" cy="25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6516720" y="2205000"/>
            <a:ext cx="237636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emysł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aawansowanych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technolog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rzykładowe korporac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najwieksze korporacje miedzynarodowe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1628640"/>
            <a:ext cx="9144000" cy="3213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250920" y="5084640"/>
            <a:ext cx="432108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Kop.J, Kucharska M., Szkurłat E.: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Geografia społeczno – ekonomiczna.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WSz PWN; Warszawa 2003, str. 2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Ekspansja w celu powiększenia zysku poprzez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mniejszenie kosztów – zbliżenie się do tańszych środków produkcji np. surowców, taniej siły roboczej, mniejszych podat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większenie produkcji – nowe rynki zbytu, które nie mogą się bronić ze względu na przestarzałe techn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Arial"/>
              </a:rPr>
              <a:t>Za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i przeciw korporacj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Dostarczają kapitał aktywizując obszar, na którym zlokalizowano nowe przedsiębiorst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Rozprzestrzenianie się nowoczesnych technolog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Rozprzestrzenianie się nowatorskich rozwiązań w zakresie organizacji produkcji i marketing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akacje podatkow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wierają naciski na rządy i samorządy aby otrzymać jak najkorzystniejsze warunki lokalizacji i działania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(szantaż -  grożenie lokalizacją działalności w kraju ościenny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79280" y="602136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99"/>
                </a:solidFill>
                <a:latin typeface="Arial"/>
              </a:rPr>
              <a:t>Upowszechnianie podobnych produktów i usług oraz zachowań konsum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8:54:05Z</dcterms:created>
  <dc:creator>oem</dc:creator>
  <dc:description/>
  <dc:language>en-US</dc:language>
  <cp:lastModifiedBy>User</cp:lastModifiedBy>
  <dcterms:modified xsi:type="dcterms:W3CDTF">2018-10-02T00:11:14Z</dcterms:modified>
  <cp:revision>8</cp:revision>
  <dc:subject/>
  <dc:title>Rola korporacji międzynarodowych. Globalizacja</dc:title>
</cp:coreProperties>
</file>