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742-E415-4477-9F71-27D6E2BF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10C-6B6A-4F8F-8EAE-A99C6934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E39-59F4-4C0E-A4E7-A05FB19B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82A-2290-4A51-9921-C430EEEF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704-3282-489D-A27F-9F56145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91C-0C20-4A1C-80EB-0C567D44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CB2-17A7-472A-944D-D4772EE4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F4F-34E4-4309-9E2B-9F6925BE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A84-60A9-414B-BB8B-6F16E3C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8AF-A525-49DC-BD87-A9F0186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69F-10EB-4612-A5FF-30523DC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D22-6C8A-4BF9-ABA3-671866C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57A2-A616-4358-BAA4-B324CFF5F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8"/>
          <p:cNvSpPr/>
          <p:nvPr/>
        </p:nvSpPr>
        <p:spPr>
          <a:xfrm>
            <a:off x="5364000" y="47628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Лекція 2</a:t>
            </a:r>
            <a:r>
              <a:rPr b="1" i="1" lang="uk-UA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95280" y="2282760"/>
            <a:ext cx="8497800" cy="2104920"/>
          </a:xfrm>
          <a:prstGeom prst="rect">
            <a:avLst/>
          </a:prstGeom>
          <a:solidFill>
            <a:srgbClr val="ffff66"/>
          </a:solidFill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Організація нормативно-правового забезпечення бухгалтерського облі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00040" y="285840"/>
            <a:ext cx="8215200" cy="642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795240" y="347760"/>
          <a:ext cx="7705800" cy="62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47760"/>
                    <a:ext cx="7705800" cy="62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3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50920" y="214200"/>
            <a:ext cx="8750160" cy="649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460440" y="404640"/>
          <a:ext cx="837864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404640"/>
                    <a:ext cx="837864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42920" y="142920"/>
            <a:ext cx="8929800" cy="621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До </a:t>
            </a:r>
            <a:r>
              <a:rPr b="1" i="1" lang="uk-UA" sz="2800" spc="-1" strike="noStrike">
                <a:solidFill>
                  <a:srgbClr val="000000"/>
                </a:solidFill>
                <a:latin typeface="Bookman Old Style"/>
              </a:rPr>
              <a:t>зовнішніх</a:t>
            </a: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факторів віднося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- економічно-правове поле діяльності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– стан господарського, податкового, економічного та інших законодавств; система оподаткування; рівень інфляції; розвиток інфраструктури ринку; інвестиційна активність тощ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- релігія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– релігійні особливості, яких дотримуються працівники конкретного підприєм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Bookman Old Style"/>
              </a:rPr>
              <a:t>Наприклад, ісламські етичні норми у побутовому житті та економічній сфері людської поведінки нерозривно пов’язані між собою. Норми Корану, відповідно до яких привчаються жити люди, які сповідують іслам, дають змогу не включати в текст договору певні умови (наприклад, не зазначати пункт щодо рекламацій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85840" y="214200"/>
            <a:ext cx="8786880" cy="528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100" spc="-1" strike="noStrike">
                <a:solidFill>
                  <a:srgbClr val="000000"/>
                </a:solidFill>
                <a:latin typeface="Bookman Old Style"/>
              </a:rPr>
              <a:t>Облікова політика</a:t>
            </a: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 – це сукупність принципів, методів і процедур, що використовуються підприємством для складання та подання фінансової звітності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Тобто це вибір підприємством конкретних методик, форми та техніки ведення бухгалтерського обліку, виходячи з положень чинних нормативних документів і особливостей діяльності підприємст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9"/>
          <p:cNvSpPr/>
          <p:nvPr/>
        </p:nvSpPr>
        <p:spPr>
          <a:xfrm>
            <a:off x="324000" y="285840"/>
            <a:ext cx="882000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ookman Old Style"/>
              </a:rPr>
              <a:t>2. Організація облікової політики підприєм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57120" y="285840"/>
            <a:ext cx="8569440" cy="594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Будучи елементом системи нормативного регулювання бухгалтерського обліку, облікова політика поєднує державне регулювання і певну самостійність підприємства з питань бухгалтерського обліку. Водночас ступінь свободи підприємства у формуванні облікової політики обмежено державною регламентацією бухгалтерського обліку, яка передбачає методики та облікові процедури, серед яких припустимі альтернативні варіан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00080" y="285840"/>
            <a:ext cx="728676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"/>
          <p:cNvGraphicFramePr/>
          <p:nvPr/>
        </p:nvGraphicFramePr>
        <p:xfrm>
          <a:off x="1633680" y="428760"/>
          <a:ext cx="593856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428760"/>
                    <a:ext cx="593856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57120" y="285840"/>
            <a:ext cx="864396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блікова політика на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державному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та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міждержавному рівнях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має обов’язковий характ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тут формуються загальні засади бухгалтерського облі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його законодавча база, визначаються межі, в яких власники кожного конкретного підприємства формують власну політику – облік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дним з проявів державної облікової політики є впровадження національних Положень (стандартів) бухгалтерського облі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1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428760" y="477720"/>
            <a:ext cx="85723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Складовими облікової політики 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ідприємства є організаційна, методична та технічна склад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Кожна складова облікової політики підприємства об’єднує відповідні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об’єкти,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за якими існують альтернативні варіанти –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елементи</a:t>
            </a: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285840" y="428760"/>
            <a:ext cx="857232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"/>
          <p:cNvGraphicFramePr/>
          <p:nvPr/>
        </p:nvGraphicFramePr>
        <p:xfrm>
          <a:off x="490680" y="1362240"/>
          <a:ext cx="83613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1362240"/>
                    <a:ext cx="83613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0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428760" y="477720"/>
            <a:ext cx="857232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Об’єктом облікової політики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підприємства є будь-яка норма або позиція підприємства з організації і ведення бухгалтерського обліку щодо якої передбачено альтернативні варіан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Елемент облікової політики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підприємства – це методичні прийоми та способи, які обираються з числа загальноприйнятих з урахуванням особливостей діяльності підприєм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8"/>
          <p:cNvSpPr/>
          <p:nvPr/>
        </p:nvSpPr>
        <p:spPr>
          <a:xfrm>
            <a:off x="539640" y="458640"/>
            <a:ext cx="7920000" cy="947160"/>
          </a:xfrm>
          <a:prstGeom prst="rect">
            <a:avLst/>
          </a:prstGeom>
          <a:solidFill>
            <a:srgbClr val="ffffff"/>
          </a:solidFill>
          <a:ln w="792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Bookman Old Style"/>
              </a:rPr>
              <a:t>В лекції 2 будуть розглянуті наступні пи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476360" y="1785960"/>
            <a:ext cx="727236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Bookman Old Style"/>
              </a:rPr>
              <a:t>1. Нормативне регулювання бухгалтерського обліку на рівні держ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76360" y="2955960"/>
            <a:ext cx="7272360" cy="459720"/>
          </a:xfrm>
          <a:prstGeom prst="rect">
            <a:avLst/>
          </a:prstGeom>
          <a:solidFill>
            <a:srgbClr val="ffff99"/>
          </a:solidFill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Bookman Old Style"/>
              </a:rPr>
              <a:t>2. Організація облікової політики підприєм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3"/>
          <p:cNvSpPr/>
          <p:nvPr/>
        </p:nvSpPr>
        <p:spPr>
          <a:xfrm>
            <a:off x="395280" y="1785960"/>
            <a:ext cx="936720" cy="57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7dee8"/>
          </a:solidFill>
          <a:ln w="223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4"/>
          <p:cNvSpPr/>
          <p:nvPr/>
        </p:nvSpPr>
        <p:spPr>
          <a:xfrm>
            <a:off x="395280" y="3067200"/>
            <a:ext cx="936720" cy="57600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b7dee8"/>
          </a:solidFill>
          <a:ln w="223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285840" y="285840"/>
            <a:ext cx="8715240" cy="594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оцес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формування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облікової політики</a:t>
            </a: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ередбачає сукупність дій щод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становлення переліку об’єктів облікової політики залежно від ряду фактор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ибору за кожним об’єктом елементів облікової полі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Склад елементів облікової політики розробляється залежно від об’єктів, внаслідок чого цей склад має індивідуальний характер для кожного підприєм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285840" y="285840"/>
            <a:ext cx="8715240" cy="623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Прикладом 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об’єкта організаційної складової облікової політики</a:t>
            </a: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 може бути форма організації бухгалтерського обліку, елементом – одна з чотирьох визначених законодавством форм організації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Прикладом 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об’єкта методичної складової облікової політики</a:t>
            </a: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 можуть бути основні засоби, елементами облікової політики, які йому відповідають, – метод нарахування амортизації, строк корисної експлуатації, ліквідаційна вартість основних засобів тощ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428760" y="285840"/>
            <a:ext cx="857232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б’єктом технічної складової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є форма ведення бухгалтерського обліку, елементами – журнальна, меморіально-ордерна, спрощена, комп’ютерна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оцес формування облікової політики трудомісткий і вимагає бачення перспектив розвитку підприємства, а також відповідального й професійного під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2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285840" y="285840"/>
            <a:ext cx="871524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ибір суб’єктів формування облікової політики залежить від обсягів діяльності підприємства, кваліфікації та рівня освіти облікових працівників, наявності платіжних засобів і є суто індивідуальним для кожного суб’єкта господарювання в конкретній економічній ситу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ийнята новоствореним підприємством облікова політика вважається дійсною з дня набуття ним прав юридичної ос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0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428760" y="477720"/>
            <a:ext cx="857232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1"/>
          <p:cNvGraphicFramePr/>
          <p:nvPr/>
        </p:nvGraphicFramePr>
        <p:xfrm>
          <a:off x="1357200" y="428760"/>
          <a:ext cx="5705640" cy="61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28760"/>
                    <a:ext cx="570564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1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428760" y="477720"/>
            <a:ext cx="8572320" cy="49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сновним внутрішнім нормативним документом, який регулює питання організації та ведення бухгалтерського обліку на підприємстві, є розпорядчий документ, який містить обрані елементи облікової полі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 якості такого розпорядчого документу доцільно використовувати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Положення про облікову політику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28760" y="477720"/>
            <a:ext cx="857232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У Положенні про облікову політику повинні передбачатися положення, які стосуються організації, технології, техніки та методики бухгалтерського обліку, а також контролю й організації відповідаль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28760" y="477720"/>
            <a:ext cx="857232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"/>
          <p:cNvGraphicFramePr/>
          <p:nvPr/>
        </p:nvGraphicFramePr>
        <p:xfrm>
          <a:off x="1585800" y="523800"/>
          <a:ext cx="53434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523800"/>
                    <a:ext cx="53434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428760" y="477720"/>
            <a:ext cx="8572320" cy="49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ажливе значення для оформлення облікової політики підприємства належить графіку документообороту, робочому плану рахунків, посадовим інструкціям, формам первинних документів, створеним на підприємстві, формам внутрішньої звітності та ін. Такі питання підлягають оформленню у вигляді додатків до Положення про облікову полі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285840" y="357120"/>
            <a:ext cx="857232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ідповідно до принципу послідовності підприємство повинно постійно (з року в рік) застосовувати обрану облікову політику. Однак у практичному житті можливі ситуації, коли необхідно вносити коригування в облікову політику, яке відбувається двома шляхами: внесення доповнень до положень облікової політики або внесення змін.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повнення облікової політики не вимагають коригування фінансової звітності на відміну від її змі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539640" y="2254320"/>
            <a:ext cx="8209080" cy="25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Суттєвий вплив на бухгалтерський облік здійснює нормативне регулювання, представлене в Україні п’ятьма рівнями, кожен з яких охоплює ряд документ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8"/>
          <p:cNvSpPr/>
          <p:nvPr/>
        </p:nvSpPr>
        <p:spPr>
          <a:xfrm>
            <a:off x="324000" y="285840"/>
            <a:ext cx="8820000" cy="157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ookman Old Style"/>
              </a:rPr>
              <a:t>1. Нормативне регулювання бухгалтерського обліку на рівні держа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428760" y="477720"/>
            <a:ext cx="8572320" cy="557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1"/>
          <p:cNvGraphicFramePr/>
          <p:nvPr/>
        </p:nvGraphicFramePr>
        <p:xfrm>
          <a:off x="500040" y="1428840"/>
          <a:ext cx="81723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81723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5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85840" y="285840"/>
            <a:ext cx="857232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255600" y="928800"/>
          <a:ext cx="84596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28800"/>
                    <a:ext cx="845964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69800" y="500040"/>
            <a:ext cx="838836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9"/>
          <p:cNvGraphicFramePr/>
          <p:nvPr/>
        </p:nvGraphicFramePr>
        <p:xfrm>
          <a:off x="506520" y="571680"/>
          <a:ext cx="8323200" cy="52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71680"/>
                    <a:ext cx="8323200" cy="52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28760" y="468360"/>
            <a:ext cx="842940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кументами всіх рівнів нормативного регулювання регламентую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ряд організаційних пита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а також правила ведення бухгалтерського обліку окремих його об’єктів, порядок розрахунку та сплати податків і обов’язкових платежів, схема кореспонденції рахун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та і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85840" y="285840"/>
            <a:ext cx="871524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сновним документом з регулювання бухгалтерського обліку 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Закон Украї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Про бухгалтерський облік та фінансову звітність в Україні”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який визначає правові засади регулювання, організації, ведення бухгалтерського обліку та складання фінансової звіт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Зокрема, цим законодавчим документом визначено десять принципів бухгалтерського обліку та фінансової звіт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428840" y="285840"/>
            <a:ext cx="671508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643040" y="357120"/>
          <a:ext cx="628668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57120"/>
                    <a:ext cx="62866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85840" y="301680"/>
            <a:ext cx="878688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Принципи бухгалтерського обліку є методологічною основою організації та ведення бухгалтерського обліку основою для розробки правил і стандартів бухгалтерського обліку, на основі та в межах яких на підприємстві формується облікова політ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Недотримання окремих принципів, правил і вимог бухгалтерського обліку без достатніх на те причин за певних умов трактується як неправильне ведення бухгалтерського обліку та незадовільна організація бухгалтерської справи на підприємств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24000" y="214200"/>
            <a:ext cx="8640720" cy="648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Поняття “політика” має широке застосування. Зокрема, під </a:t>
            </a:r>
            <a:r>
              <a:rPr b="0" i="1" lang="uk-UA" sz="3000" spc="-1" strike="noStrike">
                <a:solidFill>
                  <a:srgbClr val="000000"/>
                </a:solidFill>
                <a:latin typeface="Bookman Old Style"/>
              </a:rPr>
              <a:t>політикою</a:t>
            </a: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 розуміють: мистецтво можливого; людську діяльність, пов’язану із взаємодією різних соціальних груп, класів, прошарків суспільства; організаційно-управлінську діяльність у відношенні до суспільних процесів; активну форму діяльності суб’єктів щодо реалізації власного інтересу в конкурентному середовищ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Дане поняття також тісно пов’язане з поняттям держави та державної влади: його переклад з грецької означає “мистецтво управляти державою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1:51:18Z</dcterms:created>
  <dc:creator>Katya</dc:creator>
  <dc:description/>
  <dc:language>en-US</dc:language>
  <cp:lastModifiedBy>Фотиния</cp:lastModifiedBy>
  <dcterms:modified xsi:type="dcterms:W3CDTF">2013-11-20T13:25:09Z</dcterms:modified>
  <cp:revision>505</cp:revision>
  <dc:subject/>
  <dc:title>Слайд 1</dc:title>
</cp:coreProperties>
</file>