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B42A-0CC2-48D8-851A-15CC17ECEB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E56D-48EF-49D4-8693-8FD452908A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0CA-0BA6-48A2-91CA-E7131B28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00E-4857-4063-AE8B-B7149467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618-77B7-4199-8425-FEC78610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316-13E9-48A8-8C1E-9879E2B7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C473-E9AE-41AC-95B8-84DFBD7B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B5C9-3F06-4470-9023-BC3B411A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6477-7315-455B-975E-F9B42A47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95AB-1986-43F9-840F-BA01E52D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48C6-51EC-4861-9207-B6AD59D8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190F-4BD7-412A-BCC7-9D0CB95F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8A59-A363-4B68-A93E-75E78509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4C0-5BD9-450D-9097-E25D9B02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5F49-ED70-49D2-A8F8-37A57332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82C-E07A-43F3-AC63-477B62C1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7787-FDAF-4779-8EF0-1A9537F2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FBDF-B9F4-4EAA-9376-76A255C8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2F66-2278-4B99-B55C-7F95E6C7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6646-6291-4CC0-B39C-1E85CD07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D219-6A80-414D-8C4D-0E3A7155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17CB-AF0E-4CC8-9877-59A96958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EFF2-0050-4E6B-A90C-97C00D2D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ABFF-63F7-4ABD-8A03-47D21F43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7FF-4F43-4A68-9E6E-C5139B43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0046-39FA-473E-B827-28BF5A4B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866B-60AF-4729-9255-4EDFFA5B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C759-4C3B-4D4D-8FBD-E174B067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9CC3-B63B-479A-B892-BA05D017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52D8-3BBD-47D4-ABB8-AE510799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F0CE-BF0A-4365-AB27-ADAE7936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F94A-EE11-409B-B729-FB6866A9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6BA9D-E8F6-4644-BCA1-CD243E1E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2454F-E06E-453A-B7B8-6D4EB9A8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E851-A6FC-436B-81C8-47FB48EA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A20-12AF-41D6-92D5-47DFB062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9DBE-EECB-469B-82DF-F57BE00B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E833-130B-4318-B83D-99C729A7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EDDD4-D80F-4318-85D1-03781218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7DCF-70B8-4A72-98FC-68719C4B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FF23-DCE4-4AEB-B661-894158E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1B6CB-1798-49E8-BA34-A47E40A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CAD6-B2EE-4E3D-AE7F-5217797F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E3F4D-6941-40FB-8D5F-25E96FF6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2B97-109C-48F5-A2E9-DFF31780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6B6B7-5064-4863-ACD3-B019A9BE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415-24EE-49C9-BDB7-38BCF22C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7E5B-316F-4E15-80C8-29B531C7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7DE58-7DBB-433F-B05F-2BD0B077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EE7D8-BD94-41DB-87D6-DFDAE609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22136-8169-4A14-A0F5-3C378E53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D066-3A39-49E6-90B0-C70B337F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C8D15-E781-4D70-B11E-6951E45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76329-3903-431F-AC72-43CFEF2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1E5FE-9089-4E18-A794-29AA1C14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0056-0BC7-4A3B-BF9E-6234A61D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42199-D37C-4F34-A1A2-5F70711B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F09-4E80-4138-9FF1-44C12989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6631C-AB05-4CF5-9807-C090748D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22C63-BF79-4E54-A9D0-0A7A71DF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51C05-1030-4644-A913-95A7E88D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B0542-B828-4143-95CA-E9208BBE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02038-C762-4096-9254-983BA944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B64D7-99EE-4AA0-8DF0-7CDB577A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F4007-7BE4-42AD-B543-C1B82E02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234AA-7A61-4BA5-B144-FAA80513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8B138-4340-44EF-9EB9-257A0041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5F964-34F1-4E58-9B00-0447A86F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BF8-63F0-4C2F-BDDC-DE609054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F0D87-A026-4384-8843-ED86C728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76B02-27BD-43A2-BC25-B8E2B997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F23A8-CF12-428E-85E8-0E3D944E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E8EB0-EAF5-4637-8084-0B526644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6F1C3-7958-465A-92CB-D766AE99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9AE8A-7E07-4C82-94ED-BE54A499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E5E49-7895-483A-B775-AB0F3A58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90B1C-23DB-43F5-9CFC-6178AFC2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96EDA-8486-41A4-A624-5CC8610D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D7E57-B279-476B-87C7-286C3DEB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647-EFEB-4A8B-BB5F-5268B13E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3D218-FC1E-49EF-AAFD-BFB6180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5C3A3-4CB1-4F02-AD3E-4D66DDC3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8F992-E765-4CD2-88DD-51CE2735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CA44F-89F2-46B4-8DC4-DDB3C3F7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374FA-8EF3-4AC9-95BC-23B966FC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FEB-6AC1-4831-A9EF-B2AE71A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E7EE-91E5-4FEC-83DD-13C1E709A7B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6A04-4C92-4343-8F6F-A0B84733579A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B89B-9116-4A16-A94A-AEAE9C807BC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F87B-FE25-4DE8-B262-C5E7E4F01A0C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C012-A3FE-4E0A-87BA-1F1036155C8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B08F-1EFB-416B-912A-1A5F5AED4D09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4F93-8DF7-4044-88DC-93C8D0D501D7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2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22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438120" y="2919240"/>
            <a:ext cx="8675640" cy="298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Скругленный прямоугольник 1"/>
          <p:cNvSpPr/>
          <p:nvPr/>
        </p:nvSpPr>
        <p:spPr>
          <a:xfrm>
            <a:off x="324000" y="90972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зОВ “Яна” виробляє один вид продукції – радіотелефони, з ціною реалізації 200 грн. за одиницю. Витрати підприємства на виробництво продукції складають: змінні витрати на одиницю – 140 грн., загальні постійні витрати – 2400 грн. Керівництво бажає знати, який обсяг реалізації дозволить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досягти беззбитковості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отримати прибуток 600 грн.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изначити прибуток від реалізації 1300 телефоні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Скругленный прямоугольник 1"/>
          <p:cNvSpPr/>
          <p:nvPr/>
        </p:nvSpPr>
        <p:spPr>
          <a:xfrm>
            <a:off x="324000" y="1268280"/>
            <a:ext cx="8145360" cy="5616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жинальний дохід на одиницю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 – Зм витр на од. = 200 – 140 = 6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н.од.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 витр / МД на од. = 2400 : 60 = 4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ефіцієнт маржинального доходу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 на од / Ціна на од. = 60 : 200 = 0,3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грошових одиниця = Пост витрати / Коеф МД = 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0 : 0,3 = 800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324000" y="1268280"/>
            <a:ext cx="8145360" cy="4824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яг реалізації, що дозволить отримати прибуток 600 грн.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Пост. Витрати + БП)/ МД на од. = (2400 + 600) / 60 = 5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уток від реалізації 1300 телефонів = Обсяг реалізації х МД на од. – Постійні витрати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0 х 60 – 2400 = 75600 гр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7278840" cy="62712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8"/>
          <p:cNvSpPr/>
          <p:nvPr/>
        </p:nvSpPr>
        <p:spPr>
          <a:xfrm>
            <a:off x="3419640" y="765000"/>
            <a:ext cx="5126040" cy="863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ередбачає побудову графіку беззбитков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Стрелка вправо с вырезом 9"/>
          <p:cNvSpPr/>
          <p:nvPr/>
        </p:nvSpPr>
        <p:spPr>
          <a:xfrm>
            <a:off x="71280" y="692280"/>
            <a:ext cx="3276720" cy="1008000"/>
          </a:xfrm>
          <a:custGeom>
            <a:avLst/>
            <a:gdLst>
              <a:gd name="textAreaLeft" fmla="*/ 252000 w 3276720"/>
              <a:gd name="textAreaRight" fmla="*/ 3024720 w 327672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7" y="5400"/>
                </a:lnTo>
                <a:lnTo>
                  <a:pt x="18277" y="0"/>
                </a:lnTo>
                <a:lnTo>
                  <a:pt x="21600" y="10800"/>
                </a:lnTo>
                <a:lnTo>
                  <a:pt x="18277" y="21600"/>
                </a:lnTo>
                <a:lnTo>
                  <a:pt x="18277" y="16200"/>
                </a:lnTo>
                <a:lnTo>
                  <a:pt x="0" y="16200"/>
                </a:lnTo>
                <a:lnTo>
                  <a:pt x="166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Графіч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Прямоугольник 6" descr=""/>
          <p:cNvPicPr/>
          <p:nvPr/>
        </p:nvPicPr>
        <p:blipFill>
          <a:blip r:embed="rId2"/>
          <a:stretch/>
        </p:blipFill>
        <p:spPr>
          <a:xfrm>
            <a:off x="981000" y="1736640"/>
            <a:ext cx="6993000" cy="695520"/>
          </a:xfrm>
          <a:prstGeom prst="rect">
            <a:avLst/>
          </a:prstGeom>
          <a:ln w="0">
            <a:noFill/>
          </a:ln>
        </p:spPr>
      </p:pic>
      <p:sp>
        <p:nvSpPr>
          <p:cNvPr id="355" name="Стрелка вправо с вырезом 11"/>
          <p:cNvSpPr/>
          <p:nvPr/>
        </p:nvSpPr>
        <p:spPr>
          <a:xfrm>
            <a:off x="428760" y="23493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12"/>
          <p:cNvSpPr/>
          <p:nvPr/>
        </p:nvSpPr>
        <p:spPr>
          <a:xfrm>
            <a:off x="1857240" y="255888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обудова осей графі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право с вырезом 13"/>
          <p:cNvSpPr/>
          <p:nvPr/>
        </p:nvSpPr>
        <p:spPr>
          <a:xfrm>
            <a:off x="738360" y="306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Скругленный прямоугольник 14"/>
          <p:cNvSpPr/>
          <p:nvPr/>
        </p:nvSpPr>
        <p:spPr>
          <a:xfrm>
            <a:off x="2197080" y="32608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постій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Стрелка вправо с вырезом 15"/>
          <p:cNvSpPr/>
          <p:nvPr/>
        </p:nvSpPr>
        <p:spPr>
          <a:xfrm>
            <a:off x="98424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Скругленный прямоугольник 16"/>
          <p:cNvSpPr/>
          <p:nvPr/>
        </p:nvSpPr>
        <p:spPr>
          <a:xfrm>
            <a:off x="2413080" y="4003560"/>
            <a:ext cx="611964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Стрелка вправо с вырезом 17"/>
          <p:cNvSpPr/>
          <p:nvPr/>
        </p:nvSpPr>
        <p:spPr>
          <a:xfrm>
            <a:off x="1293840" y="450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Скругленный прямоугольник 18"/>
          <p:cNvSpPr/>
          <p:nvPr/>
        </p:nvSpPr>
        <p:spPr>
          <a:xfrm>
            <a:off x="2773440" y="4683240"/>
            <a:ext cx="59022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трелка вправо с вырезом 19"/>
          <p:cNvSpPr/>
          <p:nvPr/>
        </p:nvSpPr>
        <p:spPr>
          <a:xfrm>
            <a:off x="1560600" y="522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Скругленный прямоугольник 20"/>
          <p:cNvSpPr/>
          <p:nvPr/>
        </p:nvSpPr>
        <p:spPr>
          <a:xfrm>
            <a:off x="2989440" y="5443560"/>
            <a:ext cx="583056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зрахунок доходу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Стрелка вправо с вырезом 21"/>
          <p:cNvSpPr/>
          <p:nvPr/>
        </p:nvSpPr>
        <p:spPr>
          <a:xfrm>
            <a:off x="1797120" y="5950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Скругленный прямоугольник 22"/>
          <p:cNvSpPr/>
          <p:nvPr/>
        </p:nvSpPr>
        <p:spPr>
          <a:xfrm>
            <a:off x="3205080" y="6157800"/>
            <a:ext cx="5688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68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69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0" name="Прямоугольник 17" descr=""/>
          <p:cNvPicPr/>
          <p:nvPr/>
        </p:nvPicPr>
        <p:blipFill>
          <a:blip r:embed="rId2"/>
          <a:stretch/>
        </p:blipFill>
        <p:spPr>
          <a:xfrm>
            <a:off x="-19080" y="341280"/>
            <a:ext cx="824040" cy="2170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8" descr=""/>
          <p:cNvPicPr/>
          <p:nvPr/>
        </p:nvPicPr>
        <p:blipFill>
          <a:blip r:embed="rId3"/>
          <a:stretch/>
        </p:blipFill>
        <p:spPr>
          <a:xfrm>
            <a:off x="5559480" y="5303880"/>
            <a:ext cx="3176640" cy="6951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24" descr=""/>
          <p:cNvPicPr/>
          <p:nvPr/>
        </p:nvPicPr>
        <p:blipFill>
          <a:blip r:embed="rId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6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Прямоугольник 30" descr=""/>
          <p:cNvPicPr/>
          <p:nvPr/>
        </p:nvPicPr>
        <p:blipFill>
          <a:blip r:embed="rId7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383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Прямоугольник 37" descr=""/>
          <p:cNvPicPr/>
          <p:nvPr/>
        </p:nvPicPr>
        <p:blipFill>
          <a:blip r:embed="rId8"/>
          <a:stretch/>
        </p:blipFill>
        <p:spPr>
          <a:xfrm>
            <a:off x="2127240" y="4456080"/>
            <a:ext cx="3468600" cy="4334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9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387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числення загальних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У = а + </a:t>
              </a: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Х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 = 2400 + 140 х20 = 52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9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91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93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Прямоугольник 29" descr=""/>
          <p:cNvPicPr/>
          <p:nvPr/>
        </p:nvPicPr>
        <p:blipFill>
          <a:blip r:embed="rId8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30" descr=""/>
          <p:cNvPicPr/>
          <p:nvPr/>
        </p:nvPicPr>
        <p:blipFill>
          <a:blip r:embed="rId9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03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8" descr=""/>
          <p:cNvPicPr/>
          <p:nvPr/>
        </p:nvPicPr>
        <p:blipFill>
          <a:blip r:embed="rId10"/>
          <a:stretch/>
        </p:blipFill>
        <p:spPr>
          <a:xfrm>
            <a:off x="1311120" y="2670120"/>
            <a:ext cx="3267360" cy="151776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24" descr=""/>
          <p:cNvPicPr/>
          <p:nvPr/>
        </p:nvPicPr>
        <p:blipFill>
          <a:blip r:embed="rId11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408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ахунок доходу від реаліз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Дохід = Обсяг реалізації  х Ціна за од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хід = 20 х 200 = 4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0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412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13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14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 flipV="1">
            <a:off x="1000080" y="1856880"/>
            <a:ext cx="6357960" cy="3429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Блок-схема: узел 26"/>
          <p:cNvSpPr/>
          <p:nvPr/>
        </p:nvSpPr>
        <p:spPr>
          <a:xfrm>
            <a:off x="4214880" y="3429000"/>
            <a:ext cx="142920" cy="2142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Прямоугольник 27" descr=""/>
          <p:cNvPicPr/>
          <p:nvPr/>
        </p:nvPicPr>
        <p:blipFill>
          <a:blip r:embed="rId8"/>
          <a:stretch/>
        </p:blipFill>
        <p:spPr>
          <a:xfrm>
            <a:off x="2176560" y="2548080"/>
            <a:ext cx="2340000" cy="82836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28" descr=""/>
          <p:cNvPicPr/>
          <p:nvPr/>
        </p:nvPicPr>
        <p:blipFill>
          <a:blip r:embed="rId9"/>
          <a:stretch/>
        </p:blipFill>
        <p:spPr>
          <a:xfrm>
            <a:off x="7553160" y="1841400"/>
            <a:ext cx="1640160" cy="4636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29" descr=""/>
          <p:cNvPicPr/>
          <p:nvPr/>
        </p:nvPicPr>
        <p:blipFill>
          <a:blip r:embed="rId10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30" descr=""/>
          <p:cNvPicPr/>
          <p:nvPr/>
        </p:nvPicPr>
        <p:blipFill>
          <a:blip r:embed="rId11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28" name="Правая фигурная скобка 33"/>
          <p:cNvSpPr/>
          <p:nvPr/>
        </p:nvSpPr>
        <p:spPr>
          <a:xfrm>
            <a:off x="7358040" y="185724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Прямоугольник 37" descr=""/>
          <p:cNvPicPr/>
          <p:nvPr/>
        </p:nvPicPr>
        <p:blipFill>
          <a:blip r:embed="rId12"/>
          <a:stretch/>
        </p:blipFill>
        <p:spPr>
          <a:xfrm>
            <a:off x="2114640" y="3498840"/>
            <a:ext cx="2560680" cy="172548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38" descr=""/>
          <p:cNvPicPr/>
          <p:nvPr/>
        </p:nvPicPr>
        <p:blipFill>
          <a:blip r:embed="rId13"/>
          <a:stretch/>
        </p:blipFill>
        <p:spPr>
          <a:xfrm>
            <a:off x="1292400" y="3700440"/>
            <a:ext cx="48096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24" descr=""/>
          <p:cNvPicPr/>
          <p:nvPr/>
        </p:nvPicPr>
        <p:blipFill>
          <a:blip r:embed="rId1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вырезанными противолежащими углами 4"/>
          <p:cNvSpPr/>
          <p:nvPr/>
        </p:nvSpPr>
        <p:spPr>
          <a:xfrm>
            <a:off x="285840" y="1357200"/>
            <a:ext cx="8643960" cy="40719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Мета і методи аналізу взаємозвязку “витрати – обсяг – прибуток”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чутливості прибут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взаємозвязку “витрати – обсяг – прибуток” за умов асортименту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35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43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значення впливу на прибуток змінних витрат, ціни та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731880"/>
            <a:ext cx="87537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Стрелка вправо с вырезом 20"/>
          <p:cNvSpPr/>
          <p:nvPr/>
        </p:nvSpPr>
        <p:spPr>
          <a:xfrm>
            <a:off x="500040" y="21002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928880" y="210024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трелка вправо с вырезом 8"/>
          <p:cNvSpPr/>
          <p:nvPr/>
        </p:nvSpPr>
        <p:spPr>
          <a:xfrm>
            <a:off x="500040" y="32148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9"/>
          <p:cNvSpPr/>
          <p:nvPr/>
        </p:nvSpPr>
        <p:spPr>
          <a:xfrm>
            <a:off x="1928880" y="321480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трелка вправо с вырезом 6"/>
          <p:cNvSpPr/>
          <p:nvPr/>
        </p:nvSpPr>
        <p:spPr>
          <a:xfrm>
            <a:off x="500040" y="43149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1928880" y="431496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пераційний важіль (леверидж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365040"/>
            <a:ext cx="8966160" cy="151308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1928880" y="210024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0"/>
          <p:cNvSpPr/>
          <p:nvPr/>
        </p:nvSpPr>
        <p:spPr>
          <a:xfrm>
            <a:off x="4000680" y="32148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1"/>
          <p:cNvSpPr/>
          <p:nvPr/>
        </p:nvSpPr>
        <p:spPr>
          <a:xfrm>
            <a:off x="2071800" y="400068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обсягу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2"/>
          <p:cNvSpPr/>
          <p:nvPr/>
        </p:nvSpPr>
        <p:spPr>
          <a:xfrm>
            <a:off x="4071960" y="5000760"/>
            <a:ext cx="92880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"/>
          <p:cNvSpPr/>
          <p:nvPr/>
        </p:nvSpPr>
        <p:spPr>
          <a:xfrm>
            <a:off x="2000160" y="571500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-12600" y="237960"/>
            <a:ext cx="4419360" cy="100512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3"/>
          <p:cNvGrpSpPr/>
          <p:nvPr/>
        </p:nvGrpSpPr>
        <p:grpSpPr>
          <a:xfrm>
            <a:off x="1042920" y="987480"/>
            <a:ext cx="8021880" cy="1689120"/>
            <a:chOff x="1042920" y="987480"/>
            <a:chExt cx="8021880" cy="1689120"/>
          </a:xfrm>
        </p:grpSpPr>
        <p:pic>
          <p:nvPicPr>
            <p:cNvPr id="453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987480"/>
              <a:ext cx="802188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285920" y="114300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еличина, на яку фактичний (або запланований) обсяг реалізації перевищує критичний обсяг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очка беззбитков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-85680" y="36360"/>
            <a:ext cx="4419720" cy="135432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1042920" y="1133640"/>
            <a:ext cx="8021880" cy="1682640"/>
            <a:chOff x="1042920" y="1133640"/>
            <a:chExt cx="8021880" cy="168264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285920" y="128592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піввідношення запасу міцності та фактичного (або запланованого)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запасу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201600"/>
            <a:ext cx="8753400" cy="1047600"/>
          </a:xfrm>
          <a:prstGeom prst="rect">
            <a:avLst/>
          </a:prstGeom>
          <a:ln w="0">
            <a:noFill/>
          </a:ln>
        </p:spPr>
      </p:pic>
      <p:sp>
        <p:nvSpPr>
          <p:cNvPr id="47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16"/>
          <p:cNvSpPr/>
          <p:nvPr/>
        </p:nvSpPr>
        <p:spPr>
          <a:xfrm>
            <a:off x="1403280" y="1571760"/>
            <a:ext cx="7596360" cy="849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трелка вправо с вырезом 8"/>
          <p:cNvSpPr/>
          <p:nvPr/>
        </p:nvSpPr>
        <p:spPr>
          <a:xfrm>
            <a:off x="108000" y="2932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9"/>
          <p:cNvSpPr/>
          <p:nvPr/>
        </p:nvSpPr>
        <p:spPr>
          <a:xfrm>
            <a:off x="1403280" y="2492280"/>
            <a:ext cx="7596360" cy="1728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трелка вправо с вырезом 6"/>
          <p:cNvSpPr/>
          <p:nvPr/>
        </p:nvSpPr>
        <p:spPr>
          <a:xfrm>
            <a:off x="108000" y="4292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7"/>
          <p:cNvSpPr/>
          <p:nvPr/>
        </p:nvSpPr>
        <p:spPr>
          <a:xfrm>
            <a:off x="1476360" y="4292640"/>
            <a:ext cx="74167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трелка вправо с вырезом 10"/>
          <p:cNvSpPr/>
          <p:nvPr/>
        </p:nvSpPr>
        <p:spPr>
          <a:xfrm>
            <a:off x="108000" y="559584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11"/>
          <p:cNvSpPr/>
          <p:nvPr/>
        </p:nvSpPr>
        <p:spPr>
          <a:xfrm>
            <a:off x="1476360" y="5300640"/>
            <a:ext cx="7416720" cy="12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68360" y="1700280"/>
          <a:ext cx="8136000" cy="4755960"/>
        </p:xfrm>
        <a:graphic>
          <a:graphicData uri="http://schemas.openxmlformats.org/drawingml/2006/table">
            <a:tbl>
              <a:tblPr/>
              <a:tblGrid>
                <a:gridCol w="3602160"/>
                <a:gridCol w="1600200"/>
                <a:gridCol w="1466640"/>
                <a:gridCol w="1467000"/>
              </a:tblGrid>
              <a:tr h="142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л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шеньковий ліхтар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шту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з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нні витрати н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і постійні витрати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Д на одиниц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Овал 3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6"/>
          <p:cNvSpPr/>
          <p:nvPr/>
        </p:nvSpPr>
        <p:spPr>
          <a:xfrm>
            <a:off x="1403280" y="1571760"/>
            <a:ext cx="7596360" cy="2001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лок живлення = 60000/100000= 0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ишеньковий ліхтарик = 1 – 0,6 = 0,4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право с вырезом 8"/>
          <p:cNvSpPr/>
          <p:nvPr/>
        </p:nvSpPr>
        <p:spPr>
          <a:xfrm>
            <a:off x="108000" y="4156200"/>
            <a:ext cx="1357200" cy="1249200"/>
          </a:xfrm>
          <a:custGeom>
            <a:avLst/>
            <a:gdLst>
              <a:gd name="textAreaLeft" fmla="*/ 312480 w 1357200"/>
              <a:gd name="textAreaRight" fmla="*/ 1044720 w 1357200"/>
              <a:gd name="textAreaTop" fmla="*/ 312120 h 1249200"/>
              <a:gd name="textAreaBottom" fmla="*/ 93708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653" y="5400"/>
                </a:lnTo>
                <a:lnTo>
                  <a:pt x="11653" y="0"/>
                </a:lnTo>
                <a:lnTo>
                  <a:pt x="21600" y="10800"/>
                </a:lnTo>
                <a:lnTo>
                  <a:pt x="11653" y="21600"/>
                </a:lnTo>
                <a:lnTo>
                  <a:pt x="11653" y="16200"/>
                </a:lnTo>
                <a:lnTo>
                  <a:pt x="0" y="16200"/>
                </a:lnTo>
                <a:lnTo>
                  <a:pt x="49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9"/>
          <p:cNvSpPr/>
          <p:nvPr/>
        </p:nvSpPr>
        <p:spPr>
          <a:xfrm>
            <a:off x="1403280" y="3716280"/>
            <a:ext cx="7596360" cy="2521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х 0,6 + 2 х 0,4 = 2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Стрелка вправо с вырезом 6"/>
          <p:cNvSpPr/>
          <p:nvPr/>
        </p:nvSpPr>
        <p:spPr>
          <a:xfrm>
            <a:off x="108000" y="333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7"/>
          <p:cNvSpPr/>
          <p:nvPr/>
        </p:nvSpPr>
        <p:spPr>
          <a:xfrm>
            <a:off x="1476360" y="333360"/>
            <a:ext cx="7416720" cy="2374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= Постійні витрати / МД на од. = 182000 / 2,6 = 70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трелка вправо с вырезом 10"/>
          <p:cNvSpPr/>
          <p:nvPr/>
        </p:nvSpPr>
        <p:spPr>
          <a:xfrm>
            <a:off x="108000" y="3579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11"/>
          <p:cNvSpPr/>
          <p:nvPr/>
        </p:nvSpPr>
        <p:spPr>
          <a:xfrm>
            <a:off x="1476360" y="3284640"/>
            <a:ext cx="741672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блок живлення = 70000 х 0,6 = 42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кишенькові ліхтарики = 70000 х 0,4 = 28000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0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36360"/>
            <a:ext cx="44244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182600" y="1847880"/>
            <a:ext cx="8028000" cy="4467240"/>
            <a:chOff x="1182600" y="1847880"/>
            <a:chExt cx="8028000" cy="446724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182600" y="1847880"/>
              <a:ext cx="80280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428840" y="2000160"/>
              <a:ext cx="7572240" cy="42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системного дослідження взаємозв'язку витрат, обсягу реалізації та прибутку підприємства  заради визначення обсягу реалізації, який забезпечує відшкодування всіх витрат та отримання бажаного прибутку; величині прибутку при певному обсязі реалізації; впливу змін величини витрат, обсягу та ціни реалізації на прибуток підприємства; оптимальної структури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16" name="Стрелка вправо с вырезом 20"/>
          <p:cNvSpPr/>
          <p:nvPr/>
        </p:nvSpPr>
        <p:spPr>
          <a:xfrm>
            <a:off x="428760" y="24145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кругленный прямоугольник 16"/>
          <p:cNvSpPr/>
          <p:nvPr/>
        </p:nvSpPr>
        <p:spPr>
          <a:xfrm>
            <a:off x="1857240" y="24145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темати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трелка вправо с вырезом 8"/>
          <p:cNvSpPr/>
          <p:nvPr/>
        </p:nvSpPr>
        <p:spPr>
          <a:xfrm>
            <a:off x="428760" y="3529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1857240" y="3529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Граф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Прямоугольник 1" descr=""/>
          <p:cNvPicPr/>
          <p:nvPr/>
        </p:nvPicPr>
        <p:blipFill>
          <a:blip r:embed="rId1"/>
          <a:stretch/>
        </p:blipFill>
        <p:spPr>
          <a:xfrm>
            <a:off x="0" y="201600"/>
            <a:ext cx="8997840" cy="1047600"/>
          </a:xfrm>
          <a:prstGeom prst="rect">
            <a:avLst/>
          </a:prstGeom>
          <a:ln w="0">
            <a:noFill/>
          </a:ln>
        </p:spPr>
      </p:pic>
      <p:sp>
        <p:nvSpPr>
          <p:cNvPr id="321" name="Стрелка вправо с вырезом 20"/>
          <p:cNvSpPr/>
          <p:nvPr/>
        </p:nvSpPr>
        <p:spPr>
          <a:xfrm>
            <a:off x="42876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1857240" y="15717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ешта змінних факторів є постійни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трелка вправо с вырезом 8"/>
          <p:cNvSpPr/>
          <p:nvPr/>
        </p:nvSpPr>
        <p:spPr>
          <a:xfrm>
            <a:off x="428760" y="26859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кругленный прямоугольник 9"/>
          <p:cNvSpPr/>
          <p:nvPr/>
        </p:nvSpPr>
        <p:spPr>
          <a:xfrm>
            <a:off x="1857240" y="268596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дин вид продукції або постійна комбінація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с вырезом 6"/>
          <p:cNvSpPr/>
          <p:nvPr/>
        </p:nvSpPr>
        <p:spPr>
          <a:xfrm>
            <a:off x="428760" y="3786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1857240" y="37861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рибуток визначають на основі калькулювання змін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с вырезом 10"/>
          <p:cNvSpPr/>
          <p:nvPr/>
        </p:nvSpPr>
        <p:spPr>
          <a:xfrm>
            <a:off x="428760" y="4786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кругленный прямоугольник 11"/>
          <p:cNvSpPr/>
          <p:nvPr/>
        </p:nvSpPr>
        <p:spPr>
          <a:xfrm>
            <a:off x="1857240" y="478620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Сукупні витрати та дохід є лінійною функцією випус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с вырезом 12"/>
          <p:cNvSpPr/>
          <p:nvPr/>
        </p:nvSpPr>
        <p:spPr>
          <a:xfrm>
            <a:off x="428760" y="5815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Скругленный прямоугольник 13"/>
          <p:cNvSpPr/>
          <p:nvPr/>
        </p:nvSpPr>
        <p:spPr>
          <a:xfrm>
            <a:off x="1857240" y="5815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трати можна точно розподілити на змінні та пост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1468440" y="2487600"/>
            <a:ext cx="7742160" cy="2827440"/>
            <a:chOff x="1468440" y="2487600"/>
            <a:chExt cx="7742160" cy="2827440"/>
          </a:xfrm>
        </p:grpSpPr>
        <p:pic>
          <p:nvPicPr>
            <p:cNvPr id="333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714680" y="264312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реалізації (діяльності), при якому доходи підприємства дорівнюють його витратам, а прибуток відповідно дорівнює нулю, або маржинальний дохід дорівнює загальним постійним витрата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16"/>
          <p:cNvSpPr/>
          <p:nvPr/>
        </p:nvSpPr>
        <p:spPr>
          <a:xfrm>
            <a:off x="2714760" y="2276640"/>
            <a:ext cx="6119640" cy="252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Змінні витрати +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ТБ (г.од.) 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трелка вправо с вырезом 6"/>
          <p:cNvSpPr/>
          <p:nvPr/>
        </p:nvSpPr>
        <p:spPr>
          <a:xfrm>
            <a:off x="0" y="2714760"/>
            <a:ext cx="2714760" cy="1938240"/>
          </a:xfrm>
          <a:custGeom>
            <a:avLst/>
            <a:gdLst>
              <a:gd name="textAreaLeft" fmla="*/ 484560 w 2714760"/>
              <a:gd name="textAreaRight" fmla="*/ 2230200 w 2714760"/>
              <a:gd name="textAreaTop" fmla="*/ 484560 h 1938240"/>
              <a:gd name="textAreaBottom" fmla="*/ 1453680 h 19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7" y="5400"/>
                </a:ln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13887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допомогою рівня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36400"/>
            <a:ext cx="6534360" cy="1047960"/>
          </a:xfrm>
          <a:prstGeom prst="rect">
            <a:avLst/>
          </a:prstGeom>
          <a:ln w="0">
            <a:noFill/>
          </a:ln>
        </p:spPr>
      </p:pic>
      <p:sp>
        <p:nvSpPr>
          <p:cNvPr id="339" name="Скругленный прямоугольник 7"/>
          <p:cNvSpPr/>
          <p:nvPr/>
        </p:nvSpPr>
        <p:spPr>
          <a:xfrm>
            <a:off x="2714760" y="2205000"/>
            <a:ext cx="6119640" cy="2152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Постійні витрати / Маржинальний дохід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ржинальний дохід на од. = Ціна за од. –  Змінні витрати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0"/>
          <p:cNvSpPr/>
          <p:nvPr/>
        </p:nvSpPr>
        <p:spPr>
          <a:xfrm>
            <a:off x="0" y="2214720"/>
            <a:ext cx="2714760" cy="1428480"/>
          </a:xfrm>
          <a:custGeom>
            <a:avLst/>
            <a:gdLst>
              <a:gd name="textAreaLeft" fmla="*/ 357120 w 2714760"/>
              <a:gd name="textAreaRight" fmla="*/ 2357640 w 2714760"/>
              <a:gd name="textAreaTop" fmla="*/ 357120 h 1428480"/>
              <a:gd name="textAreaBottom" fmla="*/ 107136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916" y="5400"/>
                </a:lnTo>
                <a:lnTo>
                  <a:pt x="15916" y="0"/>
                </a:lnTo>
                <a:lnTo>
                  <a:pt x="21600" y="10800"/>
                </a:lnTo>
                <a:lnTo>
                  <a:pt x="15916" y="21600"/>
                </a:lnTo>
                <a:lnTo>
                  <a:pt x="15916" y="16200"/>
                </a:lnTo>
                <a:lnTo>
                  <a:pt x="0" y="16200"/>
                </a:lnTo>
                <a:lnTo>
                  <a:pt x="28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аржиналь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Скругленный прямоугольник 6"/>
          <p:cNvSpPr/>
          <p:nvPr/>
        </p:nvSpPr>
        <p:spPr>
          <a:xfrm>
            <a:off x="2738520" y="4500720"/>
            <a:ext cx="6119640" cy="1857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Постійні витрати / Коеф.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. Маржинального доходу = Маржинальний дохід на од.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7"/>
          <p:cNvSpPr/>
          <p:nvPr/>
        </p:nvSpPr>
        <p:spPr>
          <a:xfrm>
            <a:off x="539640" y="115920"/>
            <a:ext cx="8294760" cy="216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Змінні витрати + Постійні витрати + Бажаний прибуто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(Постійні витрати + Бажаний прибуток) / Коеф. маржинального доход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684360" y="2565360"/>
            <a:ext cx="8173800" cy="2208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= (Постійні витрати + Бажаний прибуток) / Маржинальний дохід на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Обсяг реалізації х Маржинальний дохід на од.  -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684360" y="4941720"/>
            <a:ext cx="8173800" cy="1582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Чистий прибуток / (1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23T08:30:45Z</dcterms:modified>
  <cp:revision>240</cp:revision>
  <dc:subject/>
  <dc:title>Слайд 1</dc:title>
</cp:coreProperties>
</file>