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938-FA5D-4E02-90E8-DD1A9B35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047-A938-4D89-8898-E41B946C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BDE-E675-46D2-9E66-EF20BD6D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54A-B8AB-4021-8CD0-E8D494C1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5A2A-7141-4367-A66B-28641B60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1575-D6BE-4F40-8060-8C097A2E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6E23-E4F4-427D-BB4A-CEAD06A0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52DF-AD3D-432F-A827-FBA88B84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0722-1974-46E5-AF89-ECDB293F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68E6-87C5-4B9C-AE92-8E5AF516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6373-1EA6-4D48-BEFB-0C5A834C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9C7-7BAB-412A-AAC5-E66BA8F2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190A-3B39-45FC-BAF7-003753E0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22E2-1255-4560-A1D0-15D922F8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E494-FE37-493D-A41D-2CC38DAB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D867-923F-4602-9537-2343C7D5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2DAB-99E1-47D5-AD7C-34673093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F78-3512-4E6F-87B6-5B20B630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103-6C64-439C-9E3C-868067F5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BF5-9DDF-48D4-9D56-5F29C13F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8E8-5D39-48E7-9FE3-47722150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426-8032-4DEB-8A16-C8EF41DA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ADD-42C8-4DB0-8E4B-C43DE3A2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1BD-DAB7-4A3F-9C80-F5B2664F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B291-0751-4E00-9AED-539F36CD59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E7E8-C9CF-4113-8ACB-96D78C5C6A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br>
              <a:rPr sz="1500"/>
            </a:b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ТЕОРЕТИЧНІ МОДЕЛІ РОЗВИТКУ НАУКИ: ПОРІВНЯЛЬНА ХАРАКТЕРИСТИК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9144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Юрій УЩАПОВСЬ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0033"/>
                </a:solidFill>
                <a:latin typeface="Times New Roman"/>
              </a:rPr>
              <a:t>Модель конкуруючих програм досліджень Імре Лакатоша </a:t>
            </a:r>
            <a:r>
              <a:rPr b="0" lang="uk-UA" sz="3200" spc="-1" strike="noStrike">
                <a:solidFill>
                  <a:srgbClr val="330033"/>
                </a:solidFill>
                <a:latin typeface="Times New Roman"/>
              </a:rPr>
              <a:t>(Lakatos) (1922-1974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Фальсифікація і методологія науково-дослідних програм”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(1968)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Історія науки була і повинна бути історією конкуруючих програм досліджень (або, якщо бажаєте, “парадигм”), але вона ніколи не була і не стане історією зміни періодів нормальних наук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Програма наукових досліджень (ПНД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ає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“жорстке ядро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умовно-незаперечні, специфічні для програми фундаментальні настанови), що перебувають під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“захисним поясом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допоміжних гіпотез, які попадають під шквал перевір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Захисний пояс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видозмінюється завдяки методологічних правил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“позитивної евристики”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Існують, також, правила  “негативної евристики”, що окреслюють небажані (заборонені) шляхи пошуку істи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0033"/>
                </a:solidFill>
                <a:latin typeface="Times New Roman"/>
              </a:rPr>
              <a:t>Модель конкуруючих програм досліджень Імре Лакатош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ff"/>
                </a:solidFill>
                <a:latin typeface="Arial"/>
              </a:rPr>
              <a:t>Прогресивними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є такі науково-дослідні програми які завдяки методам </a:t>
            </a:r>
            <a:r>
              <a:rPr b="0" lang="uk-UA" sz="2200" spc="-1" strike="noStrike">
                <a:solidFill>
                  <a:srgbClr val="0000ff"/>
                </a:solidFill>
                <a:latin typeface="Arial"/>
              </a:rPr>
              <a:t>“позитивної евристики”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стимулюють появу допоміжних гіпотез, що розширюють емпіричний і теоретичний зміст прогр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б’єктивною підставою для відмови від попередньої програми є поява нової, яка пояснює емпіричний успіх попередниці, і витісняє її ефективністю  методичних правил пошуку іст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початку програми наукових досліджень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і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охоплюють різні сфери, але згодом вони проникають на територію одна одної: що дозволяє досліджувати окремі проблеми (напр.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)  з різних методологічних позиці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приклад, n-a версія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суперечить m-ій версії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: експериментально програма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знаходить підтвердження, а програма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– ні. Проте це не засвідчує повну помилковість теоретичної концепції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: можливо версія m+1 знайде підтвердження експериментальним шляхом (проблема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), а програма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отримає новий поштовх для розвит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800" spc="-1" strike="noStrike">
                <a:solidFill>
                  <a:srgbClr val="330033"/>
                </a:solidFill>
                <a:latin typeface="Times New Roman"/>
              </a:rPr>
              <a:t>Модель конкуруючих програм досліджень Імре Лакатоша (схема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28600" y="1523880"/>
            <a:ext cx="2305080" cy="2590560"/>
            <a:chOff x="228600" y="1523880"/>
            <a:chExt cx="2305080" cy="2590560"/>
          </a:xfrm>
        </p:grpSpPr>
        <p:sp>
          <p:nvSpPr>
            <p:cNvPr id="155" name=""/>
            <p:cNvSpPr/>
            <p:nvPr/>
          </p:nvSpPr>
          <p:spPr>
            <a:xfrm>
              <a:off x="247680" y="1523880"/>
              <a:ext cx="2286000" cy="2130120"/>
            </a:xfrm>
            <a:prstGeom prst="ellipse">
              <a:avLst/>
            </a:prstGeom>
            <a:solidFill>
              <a:srgbClr val="3366ff"/>
            </a:solidFill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76240" y="2041920"/>
              <a:ext cx="1028880" cy="978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Жорст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ядр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3682800"/>
              <a:ext cx="2057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6480"/>
                  </a:moveTo>
                  <a:lnTo>
                    <a:pt x="26033" y="6480"/>
                  </a:lnTo>
                  <a:lnTo>
                    <a:pt x="26033" y="-7560"/>
                  </a:lnTo>
                  <a:lnTo>
                    <a:pt x="9800" y="-2160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хисний поя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8680" y="255996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390680" y="1580760"/>
              <a:ext cx="0" cy="34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90680" y="3078360"/>
              <a:ext cx="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62000" y="2559960"/>
              <a:ext cx="51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52280" y="4038480"/>
            <a:ext cx="2438280" cy="2285640"/>
            <a:chOff x="152280" y="4038480"/>
            <a:chExt cx="2438280" cy="2285640"/>
          </a:xfrm>
        </p:grpSpPr>
        <p:sp>
          <p:nvSpPr>
            <p:cNvPr id="163" name=""/>
            <p:cNvSpPr/>
            <p:nvPr/>
          </p:nvSpPr>
          <p:spPr>
            <a:xfrm>
              <a:off x="152280" y="4038480"/>
              <a:ext cx="2438280" cy="2285640"/>
            </a:xfrm>
            <a:prstGeom prst="ellipse">
              <a:avLst/>
            </a:prstGeom>
            <a:solidFill>
              <a:srgbClr val="3366ff"/>
            </a:solidFill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2600" y="4594320"/>
              <a:ext cx="1097280" cy="1050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Жорстк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ядр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uk-UA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34800" y="5150520"/>
              <a:ext cx="42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371240" y="4100040"/>
              <a:ext cx="0" cy="3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71240" y="57063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1080" y="5150520"/>
              <a:ext cx="54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143160" y="1676520"/>
            <a:ext cx="2876760" cy="2819160"/>
          </a:xfrm>
          <a:prstGeom prst="ellipse">
            <a:avLst/>
          </a:prstGeom>
          <a:solidFill>
            <a:srgbClr val="3366ff">
              <a:alpha val="55000"/>
            </a:srgbClr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3809880"/>
            <a:ext cx="2819520" cy="2641680"/>
          </a:xfrm>
          <a:prstGeom prst="ellipse">
            <a:avLst/>
          </a:prstGeom>
          <a:solidFill>
            <a:srgbClr val="3366ff">
              <a:alpha val="56000"/>
            </a:srgbClr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2438280"/>
            <a:ext cx="1028880" cy="939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Жорст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яд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4572000"/>
            <a:ext cx="137160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Жорст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яд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30080" y="181296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ерсія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94040" y="5504040"/>
            <a:ext cx="12351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ерсія</a:t>
            </a:r>
            <a:r>
              <a:rPr b="1" lang="uk-UA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523880"/>
            <a:ext cx="2876760" cy="2971800"/>
          </a:xfrm>
          <a:prstGeom prst="ellipse">
            <a:avLst/>
          </a:prstGeom>
          <a:solidFill>
            <a:srgbClr val="3366ff">
              <a:alpha val="55000"/>
            </a:srgbClr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3581280"/>
            <a:ext cx="3029040" cy="3124440"/>
          </a:xfrm>
          <a:prstGeom prst="ellipse">
            <a:avLst/>
          </a:prstGeom>
          <a:solidFill>
            <a:srgbClr val="3366ff">
              <a:alpha val="55000"/>
            </a:srgbClr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724280"/>
            <a:ext cx="1371600" cy="1295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Жорстке яд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2133720"/>
            <a:ext cx="1371600" cy="13208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Жорстке яд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2160" y="17366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60880" y="1752480"/>
            <a:ext cx="12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ерсія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21720" y="6080040"/>
            <a:ext cx="13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ерсія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2209680"/>
            <a:ext cx="685800" cy="838440"/>
          </a:xfrm>
          <a:custGeom>
            <a:avLst/>
            <a:gdLst>
              <a:gd name="textAreaLeft" fmla="*/ 106920 w 685800"/>
              <a:gd name="textAreaRight" fmla="*/ 600120 w 685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4648320"/>
            <a:ext cx="685800" cy="8380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2514600"/>
            <a:ext cx="685800" cy="8380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4724280"/>
            <a:ext cx="685800" cy="838440"/>
          </a:xfrm>
          <a:custGeom>
            <a:avLst/>
            <a:gdLst>
              <a:gd name="textAreaLeft" fmla="*/ 106920 w 685800"/>
              <a:gd name="textAreaRight" fmla="*/ 600120 w 685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88720" y="3962520"/>
            <a:ext cx="13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блема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92400" y="37940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блема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1600" y="153504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РАМА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7560" y="5802480"/>
            <a:ext cx="182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ГРАМ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Кумулятивна модель</a:t>
            </a:r>
            <a:br>
              <a:rPr sz="3800"/>
            </a:b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 П’єра Дюема 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(Duhem)</a:t>
            </a: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(1861-1916)</a:t>
            </a:r>
            <a:r>
              <a:rPr b="0" i="1" lang="uk-UA" sz="17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1700"/>
            </a:br>
            <a:r>
              <a:rPr b="0" lang="uk-UA" sz="17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Кумуляція 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Cumulatio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) – збільшення, скупчен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виток науки - поступовий послідовний  процес нагромадження наукових досягнень (фактів, теорій та методів). При переході до нової теорії результати експерименту піддаються теоретичній реінтерпритації: описова частина попередніх теорій майже цілковито стає складовою частиною нової теор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рішальному експерименту” (верифікації) можна піддавати тільки цілісні і комплексні теоретичні системи, а не ізольовані гіпотези. Під час верифікації неможливо визначити яка саме частина теорії помилкова. Отже,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існує логічна підстава для одночасного сприйняття двох, або більше теорій, які суперечать одна одні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нципи - інструменти, засоби для впорядкування, отриманих шляхом індукції, експериментальних законів. Отже, </a:t>
            </a:r>
            <a:r>
              <a:rPr b="0" i="1" lang="uk-UA" sz="2000" spc="-1" strike="noStrike">
                <a:solidFill>
                  <a:srgbClr val="ff0000"/>
                </a:solidFill>
                <a:latin typeface="Arial"/>
              </a:rPr>
              <a:t>теорії не можуть бути ні вірними, ні хибними: вони є лише інструментами в руках дослідника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Інструменти можна характеризувати з точки зору їх ефективності, еластичності, зручнос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Уіллард ван Орман Куайн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 (Quine) (н.1908)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ширив сформульовану П. Дюемом тезу про системний характер фізичної теорії на всяку наукову теорію. Філософія, згідно Куайна, принципово не відрізняється від природничих наук, виділяючись тільки дещо більшою спільністю своїх висновків і принцип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Теза Дюема – Куайна:</a:t>
            </a:r>
            <a:r>
              <a:rPr b="0" i="1" lang="uk-UA" sz="2400" spc="-1" strike="noStrike">
                <a:solidFill>
                  <a:srgbClr val="ff0000"/>
                </a:solidFill>
                <a:latin typeface="Arial"/>
              </a:rPr>
              <a:t> з огляду на системний характер наукового знання емпірична перевірка окремо взятих висновків теорії неможл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им чином, “вирішальний експеримент” не може раз і назавжди вирішити долю теорії. Кумулятивна модель, яка розглядає теорію як цілісність, надзвичайно стійка щодо суперечливих для неї результатів досліджень – її здатність до самокорекції виступає захистом від пор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Фальсифікаційна модель</a:t>
            </a:r>
            <a:br>
              <a:rPr sz="3800"/>
            </a:b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 Карла Р.Поппера 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(Popper)</a:t>
            </a: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(н.1902)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uk-UA" sz="2400" spc="-1" strike="noStrike">
                <a:solidFill>
                  <a:srgbClr val="0000ff"/>
                </a:solidFill>
                <a:latin typeface="Arial"/>
              </a:rPr>
              <a:t>Логіка наукового відкриття” (1934)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аперечує наявність логічних засобів для використання принципу емпіризму в методології. На перший план він висуває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роблему демаркації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 розділення знань на наукові і ненауков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Принцип емпіричної фальсифікації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від лат.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falsificar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підробляти, спотворювати): при перевірці для теорії важлива не стільки кількість підтверджень її істинності, скільки пошук таких емпіричних ситуацій, які спроможні її спростува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Щоб твердження могло претендувати на статус наукового, воно повинно бути сформульовано таким чином, щоб існувала принципова можливість його заперечення. </a:t>
            </a:r>
            <a:r>
              <a:rPr b="0" i="1" lang="uk-UA" sz="2400" spc="-1" strike="noStrike">
                <a:solidFill>
                  <a:srgbClr val="ff0000"/>
                </a:solidFill>
                <a:latin typeface="Arial"/>
              </a:rPr>
              <a:t>Суперечливі щодо теорії факт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асвідчують єдино можливий контакт з дослідженням і </a:t>
            </a:r>
            <a:r>
              <a:rPr b="0" i="1" lang="uk-UA" sz="2400" spc="-1" strike="noStrike">
                <a:solidFill>
                  <a:srgbClr val="ff0000"/>
                </a:solidFill>
                <a:latin typeface="Arial"/>
              </a:rPr>
              <a:t>є умовою прогресу пізна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800" spc="-1" strike="noStrike">
                <a:solidFill>
                  <a:srgbClr val="330033"/>
                </a:solidFill>
                <a:latin typeface="Times New Roman"/>
              </a:rPr>
              <a:t>Фальсифікаційна модель</a:t>
            </a:r>
            <a:br>
              <a:rPr sz="3800"/>
            </a:br>
            <a:r>
              <a:rPr b="0" i="1" lang="uk-UA" sz="3800" spc="-1" strike="noStrike">
                <a:solidFill>
                  <a:srgbClr val="330033"/>
                </a:solidFill>
                <a:latin typeface="Times New Roman"/>
              </a:rPr>
              <a:t> Карла Р.Поппера</a:t>
            </a: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uk-UA" sz="3800" spc="-1" strike="noStrike">
                <a:solidFill>
                  <a:srgbClr val="330033"/>
                </a:solidFill>
                <a:latin typeface="Times New Roman"/>
              </a:rPr>
              <a:t>(схема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14400" y="1676520"/>
            <a:ext cx="7696080" cy="5029200"/>
            <a:chOff x="914400" y="1676520"/>
            <a:chExt cx="7696080" cy="5029200"/>
          </a:xfrm>
        </p:grpSpPr>
        <p:sp>
          <p:nvSpPr>
            <p:cNvPr id="106" name=""/>
            <p:cNvSpPr/>
            <p:nvPr/>
          </p:nvSpPr>
          <p:spPr>
            <a:xfrm>
              <a:off x="914400" y="3352680"/>
              <a:ext cx="5715000" cy="3353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3880" y="4724280"/>
              <a:ext cx="2514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ТЕОРЕТИЧ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МОДЕЛЬ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00200" y="3429000"/>
              <a:ext cx="236232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Науко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іпоте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6880" y="4419720"/>
              <a:ext cx="228600" cy="304560"/>
            </a:xfrm>
            <a:prstGeom prst="upArrow">
              <a:avLst>
                <a:gd name="adj1" fmla="val 50000"/>
                <a:gd name="adj2" fmla="val 3330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14800" y="5791320"/>
              <a:ext cx="24382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</a:rPr>
                <a:t>Нова теоретична модель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62520" y="388620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24480" y="38862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038480" y="548640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41000" y="4038480"/>
              <a:ext cx="219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Експерименталь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ідтверджен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2320" y="1676520"/>
              <a:ext cx="2895480" cy="12952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ва гіпоте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81280" y="2971800"/>
              <a:ext cx="45720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7800" y="2286000"/>
              <a:ext cx="327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534520" y="228600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629400" y="464832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97280" y="2550960"/>
              <a:ext cx="191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ЕКСПЕРИМЕ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70760" y="5141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80240" y="5907240"/>
              <a:ext cx="93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Модель наукових революцій Томаса С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.</a:t>
            </a: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 Куна 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(Kuhn) (1922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-1995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труктура наукових революцій”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(1963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ука - соціальний інститут, діяльність наукових співтовариств. Історико-науковий процес є конкурентною боротьбою між різноманітними науковими співтовари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арадигма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укупність узагальнених ідей та методологічних настанов, які забезпечують існування наукової теорії. Якщо “парадигма” схвалюється науковим співтовариством, – то ми перебуваємо в межах так званої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нормальної науки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що має за мету не створення нової теорії, а “приведення до порядку парадигми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рмальну науку” характеризує науковий прогрес - кількість вирішених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800" spc="-1" strike="noStrike">
                <a:solidFill>
                  <a:srgbClr val="330033"/>
                </a:solidFill>
                <a:latin typeface="Times New Roman"/>
              </a:rPr>
              <a:t>Модель наукових революцій Томаса С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.</a:t>
            </a:r>
            <a:r>
              <a:rPr b="0" i="1" lang="uk-UA" sz="3800" spc="-1" strike="noStrike">
                <a:solidFill>
                  <a:srgbClr val="330033"/>
                </a:solidFill>
                <a:latin typeface="Times New Roman"/>
              </a:rPr>
              <a:t> Куна (схема)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1676520"/>
            <a:ext cx="3047760" cy="297180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2514600"/>
            <a:ext cx="1371600" cy="1295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арадиг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1676520"/>
            <a:ext cx="3048120" cy="3429000"/>
            <a:chOff x="0" y="1676520"/>
            <a:chExt cx="3048120" cy="3429000"/>
          </a:xfrm>
        </p:grpSpPr>
        <p:sp>
          <p:nvSpPr>
            <p:cNvPr id="129" name=""/>
            <p:cNvSpPr/>
            <p:nvPr/>
          </p:nvSpPr>
          <p:spPr>
            <a:xfrm>
              <a:off x="0" y="1676520"/>
              <a:ext cx="3048120" cy="2819160"/>
            </a:xfrm>
            <a:prstGeom prst="ellipse">
              <a:avLst/>
            </a:prstGeom>
            <a:solidFill>
              <a:srgbClr val="3366ff"/>
            </a:solidFill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440" y="2362320"/>
              <a:ext cx="1371600" cy="1295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Парадиг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840" y="4724280"/>
              <a:ext cx="213336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371" y="6480"/>
                  </a:moveTo>
                  <a:lnTo>
                    <a:pt x="22580" y="6480"/>
                  </a:lnTo>
                  <a:lnTo>
                    <a:pt x="22580" y="-18360"/>
                  </a:lnTo>
                  <a:lnTo>
                    <a:pt x="6171" y="-4320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рмальна нау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28600" y="3048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524240" y="1752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4240" y="3733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0" y="3048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095880" y="1676520"/>
            <a:ext cx="3048120" cy="297180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2438280"/>
            <a:ext cx="1371600" cy="1295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арадиг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2743200"/>
            <a:ext cx="838080" cy="914400"/>
          </a:xfrm>
          <a:custGeom>
            <a:avLst/>
            <a:gdLst>
              <a:gd name="textAreaLeft" fmla="*/ 130680 w 838080"/>
              <a:gd name="textAreaRight" fmla="*/ 733320 w 8380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1676520"/>
            <a:ext cx="1752480" cy="761760"/>
          </a:xfrm>
          <a:prstGeom prst="wedgeRoundRectCallout">
            <a:avLst>
              <a:gd name="adj1" fmla="val -31791"/>
              <a:gd name="adj2" fmla="val 136041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кова револю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2819520"/>
            <a:ext cx="976320" cy="7142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78560 h 714240"/>
              <a:gd name="textAreaBottom" fmla="*/ 535680 h 714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5029200"/>
            <a:ext cx="883944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’являється проблема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яку не можливо вирішити в межах існуючої “парадигми”: відбувається </a:t>
            </a:r>
            <a:r>
              <a:rPr b="0" lang="uk-UA" sz="2000" spc="-1" strike="noStrike">
                <a:solidFill>
                  <a:srgbClr val="ff0000"/>
                </a:solidFill>
                <a:latin typeface="Arial"/>
              </a:rPr>
              <a:t>“наукова революція”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ара “парадигма” розпадається, і, внаслідок конкурентної боротьби між альтернативними “парадигмами”, перемагає одна з них, – відбувається перехід до нового періоду “нормальної науки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8928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13372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388620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Пояснення Мартина Бронфенбреннера 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(Bronfenbrenner)</a:t>
            </a:r>
            <a:r>
              <a:rPr b="0" lang="uk-UA" sz="10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старілі ідеї в економіці не зникають із заміною старої парадигми на нову (уявлення меркантилістів досить стійкі, не дивлячись на їх витіснення ідеями класикі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більших успіхів економічна наука досягала, коли попередні парадигми повністю не відкидали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орія наукових революцій Куна 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теорія катастро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Вона не враховує специфіку розвитку економічної нау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Пояснення Мета </a:t>
            </a: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(Mehta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орія наукових революцій Т.Куна безповоротно не відкидає найсуттєвіших здобутків минулих економічних теорі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сякий період розвитку науки містить велику кількість парадигм, які взаємоперехрещуються і проникають одна в одну, і не всі  з них є несуміс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тарілі ідеї співіснують із новими тривалий час, оскільки </a:t>
            </a: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парадигми не змінюють одна одну миттє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08-03-10T15:33:0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