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564-54FA-49CE-8DFB-31CFE730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B55-7E27-4CF3-B1E9-97B34DC3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D60-7A2E-47E6-9195-BCF86985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355-621B-444B-9B6E-5D394D20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62FB-93FC-470B-9A49-6F410513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A7F3-BEF2-4E4D-93B6-E5755F45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431C-CC63-4D58-BBBF-A8C0EC9C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05BF-F7D7-4529-8BB3-823A0E95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B9B4-3847-4E94-980A-ADCB4609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D9A6-74B3-4533-A208-0677DF5D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4418-8D1C-4DDC-A6D5-B9474B48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B29-5B1C-4916-8C86-EF3A31B4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9040-3CA7-4D1F-81F3-6F08C42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7B65-68F2-4F75-85B1-602E61F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91B6-4E42-44FF-AD07-38472405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FC41-7571-4CC4-94AC-75C779BD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C802-FCAE-48CE-B83F-4D1C0BC0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F78-7872-4B1E-A50C-ECD4E7E0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07B-D04A-4EF2-8C74-66F6594B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0C7-D699-4DC5-8EDA-A57E1E4E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21A-D07B-43A8-945A-5A1C743E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157-0880-453C-B45F-AC501D0E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81F-B4A4-4AB8-806F-AC9576A2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FC3-107E-4FCE-86BB-EE19926F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A8EF-82E5-48FE-B47E-BA66ED3526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77C6-1926-437C-ADE4-669B993DE6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br>
              <a:rPr sz="15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ТЕОРЕТИЧНІ МОДЕЛІ РОЗВИТКУ НАУКИ: ПОРІВНЯЛЬНА ХАРАКТЕРИСТИК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9144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Юрій УЩАПОВС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0033"/>
                </a:solidFill>
                <a:latin typeface="Times New Roman"/>
              </a:rPr>
              <a:t>Модель конкуруючих програм досліджень Імре Лакатоша </a:t>
            </a:r>
            <a:r>
              <a:rPr b="0" lang="uk-UA" sz="3200" spc="-1" strike="noStrike">
                <a:solidFill>
                  <a:srgbClr val="330033"/>
                </a:solidFill>
                <a:latin typeface="Times New Roman"/>
              </a:rPr>
              <a:t>(Lakatos) (1922-1974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Фальсифікація і методологія науково-дослідних програм”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(1968)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Історія науки була і повинна бути історією конкуруючих програм досліджень (або, якщо бажаєте, “парадигм”), але вона ніколи не була і не стане історією зміни періодів нормальних наук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Програма наукових досліджень (ПНД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є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жорстке ядро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умовно-незаперечні, специфічні для програми фундаментальні настанови), що перебувають під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захисним поясом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опоміжних гіпотез, які попадають під шквал перевір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Захисний пояс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идозмінюється завдяки методологічних правил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позитивної евристики”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Існують, також, правила  “негативної евристики”, що окреслюють небажані (заборонені) шляхи пошуку істи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0033"/>
                </a:solidFill>
                <a:latin typeface="Times New Roman"/>
              </a:rPr>
              <a:t>Модель конкуруючих програм досліджень Імре Лакатош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ff"/>
                </a:solidFill>
                <a:latin typeface="Arial"/>
              </a:rPr>
              <a:t>Прогресивними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є такі науково-дослідні програми які завдяки методам </a:t>
            </a:r>
            <a:r>
              <a:rPr b="0" lang="uk-UA" sz="2200" spc="-1" strike="noStrike">
                <a:solidFill>
                  <a:srgbClr val="0000ff"/>
                </a:solidFill>
                <a:latin typeface="Arial"/>
              </a:rPr>
              <a:t>“позитивної евристики”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стимулюють появу допоміжних гіпотез, що розширюють емпіричний і теоретичний зміст прогр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б’єктивною підставою для відмови від попередньої програми є поява нової, яка пояснює емпіричний успіх попередниці, і витісняє її ефективністю  методичних правил пошуку іст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початку програми наукових досліджень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охоплюють різні сфери, але згодом вони проникають на територію одна одної: що дозволяє досліджувати окремі проблеми (напр.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)  з різних методологічних позиці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приклад, n-a версія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суперечить m-ій версії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: експериментально програма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знаходить підтвердження, а програма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– ні. Проте це не засвідчує повну помилковість теоретичної концепції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: можливо версія m+1 знайде підтвердження експериментальним шляхом (проблема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), а програма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отримає новий поштовх для розвит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Модель конкуруючих програм досліджень Імре Лакатоша (схема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8600" y="1523880"/>
            <a:ext cx="2305080" cy="2590560"/>
            <a:chOff x="228600" y="1523880"/>
            <a:chExt cx="2305080" cy="2590560"/>
          </a:xfrm>
        </p:grpSpPr>
        <p:sp>
          <p:nvSpPr>
            <p:cNvPr id="155" name=""/>
            <p:cNvSpPr/>
            <p:nvPr/>
          </p:nvSpPr>
          <p:spPr>
            <a:xfrm>
              <a:off x="247680" y="1523880"/>
              <a:ext cx="2286000" cy="2130120"/>
            </a:xfrm>
            <a:prstGeom prst="ellipse">
              <a:avLst/>
            </a:prstGeom>
            <a:solidFill>
              <a:srgbClr val="3366ff"/>
            </a:solidFill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76240" y="2041920"/>
              <a:ext cx="1028880" cy="978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Жорст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ядр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3682800"/>
              <a:ext cx="2057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6480"/>
                  </a:moveTo>
                  <a:lnTo>
                    <a:pt x="26033" y="6480"/>
                  </a:lnTo>
                  <a:lnTo>
                    <a:pt x="26033" y="-7560"/>
                  </a:lnTo>
                  <a:lnTo>
                    <a:pt x="9800" y="-2160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хисний поя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8680" y="255996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390680" y="1580760"/>
              <a:ext cx="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90680" y="3078360"/>
              <a:ext cx="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62000" y="2559960"/>
              <a:ext cx="5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52280" y="4038480"/>
            <a:ext cx="2438280" cy="2285640"/>
            <a:chOff x="152280" y="4038480"/>
            <a:chExt cx="2438280" cy="2285640"/>
          </a:xfrm>
        </p:grpSpPr>
        <p:sp>
          <p:nvSpPr>
            <p:cNvPr id="163" name=""/>
            <p:cNvSpPr/>
            <p:nvPr/>
          </p:nvSpPr>
          <p:spPr>
            <a:xfrm>
              <a:off x="152280" y="4038480"/>
              <a:ext cx="2438280" cy="2285640"/>
            </a:xfrm>
            <a:prstGeom prst="ellipse">
              <a:avLst/>
            </a:prstGeom>
            <a:solidFill>
              <a:srgbClr val="3366ff"/>
            </a:solidFill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600" y="4594320"/>
              <a:ext cx="1097280" cy="1050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Жорстк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ядр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34800" y="5150520"/>
              <a:ext cx="4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371240" y="410004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71240" y="57063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1080" y="5150520"/>
              <a:ext cx="54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143160" y="1676520"/>
            <a:ext cx="2876760" cy="2819160"/>
          </a:xfrm>
          <a:prstGeom prst="ellipse">
            <a:avLst/>
          </a:prstGeom>
          <a:solidFill>
            <a:srgbClr val="3366ff">
              <a:alpha val="55000"/>
            </a:srgbClr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809880"/>
            <a:ext cx="2819520" cy="2641680"/>
          </a:xfrm>
          <a:prstGeom prst="ellipse">
            <a:avLst/>
          </a:prstGeom>
          <a:solidFill>
            <a:srgbClr val="3366ff">
              <a:alpha val="56000"/>
            </a:srgbClr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2438280"/>
            <a:ext cx="1028880" cy="939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Жорст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яд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572000"/>
            <a:ext cx="137160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Жорст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яд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30080" y="18129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ерсія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94040" y="5504040"/>
            <a:ext cx="12351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ерсія</a:t>
            </a:r>
            <a:r>
              <a:rPr b="1" lang="uk-UA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523880"/>
            <a:ext cx="2876760" cy="2971800"/>
          </a:xfrm>
          <a:prstGeom prst="ellipse">
            <a:avLst/>
          </a:prstGeom>
          <a:solidFill>
            <a:srgbClr val="3366ff">
              <a:alpha val="55000"/>
            </a:srgbClr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581280"/>
            <a:ext cx="3029040" cy="3124440"/>
          </a:xfrm>
          <a:prstGeom prst="ellipse">
            <a:avLst/>
          </a:prstGeom>
          <a:solidFill>
            <a:srgbClr val="3366ff">
              <a:alpha val="55000"/>
            </a:srgbClr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724280"/>
            <a:ext cx="1371600" cy="129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Жорстке яд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2133720"/>
            <a:ext cx="1371600" cy="1320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Жорстке яд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2160" y="17366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60880" y="1752480"/>
            <a:ext cx="12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ерсія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21720" y="608004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ерсія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209680"/>
            <a:ext cx="685800" cy="838440"/>
          </a:xfrm>
          <a:custGeom>
            <a:avLst/>
            <a:gdLst>
              <a:gd name="textAreaLeft" fmla="*/ 106920 w 685800"/>
              <a:gd name="textAreaRight" fmla="*/ 600120 w 685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4648320"/>
            <a:ext cx="685800" cy="8380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2514600"/>
            <a:ext cx="685800" cy="8380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724280"/>
            <a:ext cx="685800" cy="838440"/>
          </a:xfrm>
          <a:custGeom>
            <a:avLst/>
            <a:gdLst>
              <a:gd name="textAreaLeft" fmla="*/ 106920 w 685800"/>
              <a:gd name="textAreaRight" fmla="*/ 600120 w 685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88720" y="3962520"/>
            <a:ext cx="13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блема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92400" y="37940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блема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1600" y="153504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РАМА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7560" y="5802480"/>
            <a:ext cx="182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РАМ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Кумулятивна модель</a:t>
            </a:r>
            <a:br>
              <a:rPr sz="3800"/>
            </a:b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П’єра Дюема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Duhem)</a:t>
            </a: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1861-1916)</a:t>
            </a:r>
            <a:r>
              <a:rPr b="0" i="1" lang="uk-UA" sz="17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1700"/>
            </a:br>
            <a:r>
              <a:rPr b="0" lang="uk-UA" sz="17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умуляція 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Cumulati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 – збільшення, скупчен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виток науки - поступовий послідовний  процес нагромадження наукових досягнень (фактів, теорій та методів). При переході до нової теорії результати експерименту піддаються теоретичній реінтерпритації: описова частина попередніх теорій майже цілковито стає складовою частиною нової теор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рішальному експерименту” (верифікації) можна піддавати тільки цілісні і комплексні теоретичні системи, а не ізольовані гіпотези. Під час верифікації неможливо визначити яка саме частина теорії помилкова. Отже,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існує логічна підстава для одночасного сприйняття двох, або більше теорій, які суперечать одна одні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нципи - інструменти, засоби для впорядкування, отриманих шляхом індукції, експериментальних законів. Отже,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теорії не можуть бути ні вірними, ні хибними: вони є лише інструментами в руках дослідника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Інструменти можна характеризувати з точки зору їх ефективності, еластичності, зручн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Уіллард ван Орман Куайн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 (Quine) (н.1908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ширив сформульовану П. Дюемом тезу про системний характер фізичної теорії на всяку наукову теорію. Філософія, згідно Куайна, принципово не відрізняється від природничих наук, виділяючись тільки дещо більшою спільністю своїх висновків і принцип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Теза Дюема – Куайна: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 з огляду на системний характер наукового знання емпірична перевірка окремо взятих висновків теорії неможл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им чином, “вирішальний експеримент” не може раз і назавжди вирішити долю теорії. Кумулятивна модель, яка розглядає теорію як цілісність, надзвичайно стійка щодо суперечливих для неї результатів досліджень – її здатність до самокорекції виступає захистом від пор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Фальсифікаційна модель</a:t>
            </a:r>
            <a:br>
              <a:rPr sz="3800"/>
            </a:b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Карла Р.Поппера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Popper)</a:t>
            </a: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н.1902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Логіка наукового відкриття” (1934)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перечує наявність логічних засобів для використання принципу емпіризму в методології. На перший план він висуває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роблему демаркації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розділення знань на наукові і ненауков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Принцип емпіричної фальсифікації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від лат.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falsificar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підробляти, спотворювати): при перевірці для теорії важлива не стільки кількість підтверджень її істинності, скільки пошук таких емпіричних ситуацій, які спроможні її спростува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Щоб твердження могло претендувати на статус наукового, воно повинно бути сформульовано таким чином, щоб існувала принципова можливість його заперечення. 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Суперечливі щодо теорії факт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свідчують єдино можливий контакт з дослідженням і 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є умовою прогресу пізна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Фальсифікаційна модель</a:t>
            </a:r>
            <a:br>
              <a:rPr sz="3800"/>
            </a:b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 Карла Р.Поппера</a:t>
            </a: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(схема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1676520"/>
            <a:ext cx="7696080" cy="5029200"/>
            <a:chOff x="914400" y="1676520"/>
            <a:chExt cx="7696080" cy="5029200"/>
          </a:xfrm>
        </p:grpSpPr>
        <p:sp>
          <p:nvSpPr>
            <p:cNvPr id="106" name=""/>
            <p:cNvSpPr/>
            <p:nvPr/>
          </p:nvSpPr>
          <p:spPr>
            <a:xfrm>
              <a:off x="914400" y="3352680"/>
              <a:ext cx="5715000" cy="3353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4724280"/>
              <a:ext cx="2514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ТЕОРЕТИЧ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МОДЕЛЬ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3429000"/>
              <a:ext cx="236232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аук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іпоте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4419720"/>
              <a:ext cx="228600" cy="304560"/>
            </a:xfrm>
            <a:prstGeom prst="upArrow">
              <a:avLst>
                <a:gd name="adj1" fmla="val 50000"/>
                <a:gd name="adj2" fmla="val 333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4800" y="5791320"/>
              <a:ext cx="24382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Нова теоретична модель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2520" y="388620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24480" y="38862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038480" y="548640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41000" y="4038480"/>
              <a:ext cx="219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ксперименталь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ідтвердже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2320" y="1676520"/>
              <a:ext cx="2895480" cy="12952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ва гіпоте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2971800"/>
              <a:ext cx="45720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7800" y="2286000"/>
              <a:ext cx="32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34520" y="228600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629400" y="464832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97280" y="2550960"/>
              <a:ext cx="191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КСПЕРИМЕ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70760" y="5141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0240" y="5907240"/>
              <a:ext cx="93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Модель наукових революцій Томаса С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.</a:t>
            </a: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Куна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Kuhn) (1922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-1995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руктура наукових революцій”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(196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ука - соціальний інститут, діяльність наукових співтовариств. Історико-науковий процес є конкурентною боротьбою між різноманітними науковими співтовари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арадигма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купність узагальнених ідей та методологічних настанов, які забезпечують існування наукової теорії. Якщо “парадигма” схвалюється науковим співтовариством, – то ми перебуваємо в межах так званої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нормальної науки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що має за мету не створення нової теорії, а “приведення до порядку парадигми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рмальну науку” характеризує науковий прогрес - кількість вирішени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Модель наукових революцій Томаса С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.</a:t>
            </a: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 Куна (схема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1676520"/>
            <a:ext cx="3047760" cy="297180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514600"/>
            <a:ext cx="1371600" cy="12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арадиг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1676520"/>
            <a:ext cx="3048120" cy="3429000"/>
            <a:chOff x="0" y="1676520"/>
            <a:chExt cx="3048120" cy="3429000"/>
          </a:xfrm>
        </p:grpSpPr>
        <p:sp>
          <p:nvSpPr>
            <p:cNvPr id="129" name=""/>
            <p:cNvSpPr/>
            <p:nvPr/>
          </p:nvSpPr>
          <p:spPr>
            <a:xfrm>
              <a:off x="0" y="1676520"/>
              <a:ext cx="3048120" cy="2819160"/>
            </a:xfrm>
            <a:prstGeom prst="ellipse">
              <a:avLst/>
            </a:prstGeom>
            <a:solidFill>
              <a:srgbClr val="3366ff"/>
            </a:solidFill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440" y="2362320"/>
              <a:ext cx="1371600" cy="1295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Парадиг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840" y="4724280"/>
              <a:ext cx="213336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371" y="6480"/>
                  </a:moveTo>
                  <a:lnTo>
                    <a:pt x="22580" y="6480"/>
                  </a:lnTo>
                  <a:lnTo>
                    <a:pt x="22580" y="-18360"/>
                  </a:lnTo>
                  <a:lnTo>
                    <a:pt x="6171" y="-4320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рмальна нау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28600" y="3048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524240" y="1752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4240" y="3733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0" y="3048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095880" y="1676520"/>
            <a:ext cx="3048120" cy="297180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2438280"/>
            <a:ext cx="1371600" cy="129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арадиг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2743200"/>
            <a:ext cx="838080" cy="914400"/>
          </a:xfrm>
          <a:custGeom>
            <a:avLst/>
            <a:gdLst>
              <a:gd name="textAreaLeft" fmla="*/ 130680 w 838080"/>
              <a:gd name="textAreaRight" fmla="*/ 733320 w 8380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1676520"/>
            <a:ext cx="1752480" cy="761760"/>
          </a:xfrm>
          <a:prstGeom prst="wedgeRoundRectCallout">
            <a:avLst>
              <a:gd name="adj1" fmla="val -31791"/>
              <a:gd name="adj2" fmla="val 136041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кова револю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2819520"/>
            <a:ext cx="976320" cy="7142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5029200"/>
            <a:ext cx="883944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’являється проблема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яку не можливо вирішити в межах існуючої “парадигми”: відбувається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“наукова революція”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ра “парадигма” розпадається, і, внаслідок конкурентної боротьби між альтернативними “парадигмами”, перемагає одна з них, – відбувається перехід до нового періоду “нормальної науки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8928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1337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38862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Пояснення Мартина Бронфенбреннера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Bronfenbrenner)</a:t>
            </a:r>
            <a:r>
              <a:rPr b="0" lang="uk-UA" sz="1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старілі ідеї в економіці не зникають із заміною старої парадигми на нову (уявлення меркантилістів досить стійкі, не дивлячись на їх витіснення ідеями класикі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більших успіхів економічна наука досягала, коли попередні парадигми повністю не відкидал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ія наукових революцій Куна 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теорія катастро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она не враховує специфіку розвитку економічної нау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Пояснення Мета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Mehta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орія наукових революцій Т.Куна безповоротно не відкидає найсуттєвіших здобутків минулих економічних теор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який період розвитку науки містить велику кількість парадигм, які взаємоперехрещуються і проникають одна в одну, і не всі  з них є несуміс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арілі ідеї співіснують із новими тривалий час, оскільки 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парадигми не змінюють одна одну миттє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8-03-10T15:33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