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CCA-82F3-4F5F-A09E-14DF9545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2CC-6977-46C9-800A-C5A5BFAD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168-D352-43FF-834A-38752007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520-D278-41C5-8B28-C1F45105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B507-AE45-4ACA-80E0-AE24F84E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3168-9E3E-463D-AA85-8DAA2799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EB69-A345-46E7-A04A-A4491946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3DCC-435C-49D7-AF41-75EC60C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CBF8-792E-4697-9BDF-B3244F38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37F3-BE6A-4251-AF80-119C18D7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EE3B-B5ED-4204-9413-431EC2B2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488-5949-4E42-B525-D81003AC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81CE-A1FF-4B24-B3BA-F98DAD85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C53E-7260-49D2-B716-0015D8B4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A0FB-8601-4338-B04D-CD185EC7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69F1-66D9-44FD-B8FD-189B8CD1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A565-8447-43B6-A1C9-8F36075E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C617-92BB-41F1-80AA-AB116389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DEB16-8647-4C89-AF50-5BB795BB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264F-7B56-4D48-BF44-76618CFB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8B36-FDE4-47DD-BCAA-8C4AAC37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96BD-8654-4778-86E0-4E2674B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DBA-F637-493E-B1B6-D32A4721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B083-F4BC-48EF-886E-7E9F3D08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7A16-21DF-40CA-8B76-A52037B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1BAB-022C-4BB0-9214-327195A3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941C-BB6A-4251-B56B-A552D08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78887-1E43-4EA7-B667-A020FBEE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E978-B01E-42ED-89BD-B624694C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FCD8-21EC-48F4-9618-002C2848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B42F-6605-4D0F-9658-9892682A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0DB5C-C88C-4901-B909-30C644D5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0F5A-FDE6-4B3B-8BDC-1866A2E8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967-913B-4555-8C94-F4CEA454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0B421-6C44-4461-A879-693AED50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EC36-4245-4FC1-9085-95F6D51C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DF5CC-DBC7-4975-946E-60046E7E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3176-F95C-4C72-B5DF-9F0FA98C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F11FD-E125-4334-9A66-9E907873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FFD3-C193-41E0-9217-3524F8FF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1BAD-7503-450A-AAE3-50796058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1793-E10E-45E1-AA7E-D0D9892B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A21B-A306-4B65-84A4-088A5E5F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4283-AB94-4B98-A25C-6F4B4A50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201-0F7D-49F9-96A5-30FACE6F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67B8-3776-4869-8CD6-0A475DE7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D9AF-C5F7-4A60-AE20-16078A0E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0200-A992-4702-919D-BD2709F9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80904-9D1F-4682-B3EB-1C741CAE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6682-23BA-40D6-B64B-733E77DD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1CCA0-2361-473E-9E13-2E2D7ABF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906DC-2C10-41A0-BFE7-5F2FDBB4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F87A-386C-4E12-ADF8-E4D6E27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A41BC-1922-4D75-AE65-33995DE8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707D6-94CB-4471-8B71-FCF5006E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34C-C650-4CF9-A1F8-1F3292DA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8E83C-7914-42A6-B166-72201E46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D6F77-713C-40EB-8436-4559E9EF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7FD05-C795-4F04-9198-008CA963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D647A-5008-499F-ADE6-0413C207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B868B-AB68-4BA4-BBCD-C367270F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FA0F8-D041-4F99-9FC0-8FD722B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D42C2-9075-4ECA-B225-0490C14E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F945B-CB84-44B2-93A1-82BC04F2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F8A68-E0B8-4622-9634-52C7C523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A7274-2280-432E-9ACA-B2F9BD9A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F47-B389-4F7B-A8C2-54BD7DD0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F450B-D1F2-4FCB-A1DD-A3B6D666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93640-EDA0-415F-BEA6-FAEF8DE1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7B293-571A-4F9D-BEC7-00C70F52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9C8C3-209C-41D2-B7F8-E715A6C7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0DDA0-AF77-4992-BD4B-184F4E30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F3995-0E2F-463A-8EF9-E4B91E15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B861B-CD90-4E0F-B531-82EF6096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7460-5792-4330-B8E6-419E8AEA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E4009-5711-4900-8FD3-89D49F7C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D54A-644C-4ED9-818A-FD95B62D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BDB-EC45-47CF-83D2-85FF09D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764C3-F6FB-439D-9284-50DA0851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F572-AC67-4F37-A7BE-4B11FD58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A4B4-A6E6-4FFB-A6D2-CC032C6E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1E65B-EC1C-496C-80A2-AB1A47A9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7C82B-02A6-463E-BB89-BBC50C95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24A-A225-4700-97F5-43C944A4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53A7-E125-4603-B629-02060AA82FB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2696-BA4B-4AD9-925B-459CA9B5B65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EE64-48FD-45BC-8785-5D35F180846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F5F7-26E8-4D0A-A144-7A82F832D87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EFB-E6BB-40A3-950E-0C73714B4F3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FC10-32D5-4618-8F24-374012031FF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D4FA-9E3E-48BF-A76C-96406624835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76280" y="676440"/>
            <a:ext cx="8502480" cy="19508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2951280"/>
            <a:ext cx="8448480" cy="2859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приємс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ди бізнесу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рошові пото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4438800" cy="9032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робництво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та збут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Штриховая стрелка вправо 27"/>
          <p:cNvSpPr/>
          <p:nvPr/>
        </p:nvSpPr>
        <p:spPr>
          <a:xfrm>
            <a:off x="2700360" y="4373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с двумя вырезанными противолежащими углами 10"/>
          <p:cNvSpPr/>
          <p:nvPr/>
        </p:nvSpPr>
        <p:spPr>
          <a:xfrm>
            <a:off x="4165560" y="516420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та інш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триховая стрелка вправо 11"/>
          <p:cNvSpPr/>
          <p:nvPr/>
        </p:nvSpPr>
        <p:spPr>
          <a:xfrm>
            <a:off x="3335400" y="52419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на комісі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с двумя вырезанными противолежащими углами 22"/>
          <p:cNvSpPr/>
          <p:nvPr/>
        </p:nvSpPr>
        <p:spPr>
          <a:xfrm>
            <a:off x="2220840" y="264312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Центри відповідальн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триховая стрелка вправо 23"/>
          <p:cNvSpPr/>
          <p:nvPr/>
        </p:nvSpPr>
        <p:spPr>
          <a:xfrm>
            <a:off x="1220760" y="271476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с двумя вырезанными противолежащими углами 24"/>
          <p:cNvSpPr/>
          <p:nvPr/>
        </p:nvSpPr>
        <p:spPr>
          <a:xfrm>
            <a:off x="2941560" y="365112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ункціональні служби та відді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Штриховая стрелка вправо 25"/>
          <p:cNvSpPr/>
          <p:nvPr/>
        </p:nvSpPr>
        <p:spPr>
          <a:xfrm>
            <a:off x="1941480" y="37227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5230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Єдність бюджетної систе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602316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межування доходів і витрат між рівнями бюджетної систе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87044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амостійність бюджет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511956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балансованість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Штриховая стрелка вправо 27"/>
          <p:cNvSpPr/>
          <p:nvPr/>
        </p:nvSpPr>
        <p:spPr>
          <a:xfrm>
            <a:off x="2700360" y="42530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с двумя вырезанными противолежащими углами 10"/>
          <p:cNvSpPr/>
          <p:nvPr/>
        </p:nvSpPr>
        <p:spPr>
          <a:xfrm>
            <a:off x="4525920" y="501984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ласніст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Штриховая стрелка вправо 11"/>
          <p:cNvSpPr/>
          <p:nvPr/>
        </p:nvSpPr>
        <p:spPr>
          <a:xfrm>
            <a:off x="3525840" y="5091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Штриховая стрелка вправо 12"/>
          <p:cNvSpPr/>
          <p:nvPr/>
        </p:nvSpPr>
        <p:spPr>
          <a:xfrm>
            <a:off x="3930480" y="595800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с двумя вырезанными противолежащими углами 13"/>
          <p:cNvSpPr/>
          <p:nvPr/>
        </p:nvSpPr>
        <p:spPr>
          <a:xfrm>
            <a:off x="4932360" y="5883120"/>
            <a:ext cx="410364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Достовірні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Інформацій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евентив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ординацій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ціноч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триховая стрелка вправо 27"/>
          <p:cNvSpPr/>
          <p:nvPr/>
        </p:nvSpPr>
        <p:spPr>
          <a:xfrm>
            <a:off x="2700360" y="42530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с двумя вырезанными противолежащими углами 10"/>
          <p:cNvSpPr/>
          <p:nvPr/>
        </p:nvSpPr>
        <p:spPr>
          <a:xfrm>
            <a:off x="4525920" y="501984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нтроль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Штриховая стрелка вправо 11"/>
          <p:cNvSpPr/>
          <p:nvPr/>
        </p:nvSpPr>
        <p:spPr>
          <a:xfrm>
            <a:off x="3525840" y="5091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365040"/>
            <a:ext cx="6522840" cy="127476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гори вни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с двумя вырезанными противолежащими углами 5"/>
          <p:cNvSpPr/>
          <p:nvPr/>
        </p:nvSpPr>
        <p:spPr>
          <a:xfrm>
            <a:off x="2293920" y="285912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низу вгор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Штриховая стрелка вправо 6"/>
          <p:cNvSpPr/>
          <p:nvPr/>
        </p:nvSpPr>
        <p:spPr>
          <a:xfrm>
            <a:off x="1122480" y="292428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Штриховая стрелка вправо 7"/>
          <p:cNvSpPr/>
          <p:nvPr/>
        </p:nvSpPr>
        <p:spPr>
          <a:xfrm>
            <a:off x="1698480" y="430200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с двумя вырезанными противолежащими углами 8"/>
          <p:cNvSpPr/>
          <p:nvPr/>
        </p:nvSpPr>
        <p:spPr>
          <a:xfrm>
            <a:off x="2654280" y="415620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мбіновани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195120"/>
            <a:ext cx="8186760" cy="8161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с двумя вырезанными противолежащими углами 20"/>
          <p:cNvSpPr/>
          <p:nvPr/>
        </p:nvSpPr>
        <p:spPr>
          <a:xfrm>
            <a:off x="1258920" y="981000"/>
            <a:ext cx="7885080" cy="12891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Доведення основних напрямів політики підприємства до осіб, відповідальних за підготовку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Штриховая стрелка вправо 21"/>
          <p:cNvSpPr/>
          <p:nvPr/>
        </p:nvSpPr>
        <p:spPr>
          <a:xfrm>
            <a:off x="357120" y="1341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с двумя вырезанными противолежащими углами 20"/>
          <p:cNvSpPr/>
          <p:nvPr/>
        </p:nvSpPr>
        <p:spPr>
          <a:xfrm>
            <a:off x="1395360" y="244008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обмежувальних чинник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Штриховая стрелка вправо 21"/>
          <p:cNvSpPr/>
          <p:nvPr/>
        </p:nvSpPr>
        <p:spPr>
          <a:xfrm>
            <a:off x="395280" y="2511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с двумя вырезанными противолежащими углами 20"/>
          <p:cNvSpPr/>
          <p:nvPr/>
        </p:nvSpPr>
        <p:spPr>
          <a:xfrm>
            <a:off x="1395360" y="3375000"/>
            <a:ext cx="74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переднє складання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Штриховая стрелка вправо 21"/>
          <p:cNvSpPr/>
          <p:nvPr/>
        </p:nvSpPr>
        <p:spPr>
          <a:xfrm>
            <a:off x="395280" y="34466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с двумя вырезанными противолежащими углами 20"/>
          <p:cNvSpPr/>
          <p:nvPr/>
        </p:nvSpPr>
        <p:spPr>
          <a:xfrm>
            <a:off x="1395360" y="422100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бговорення бюджетів із вищим керівництв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Штриховая стрелка вправо 21"/>
          <p:cNvSpPr/>
          <p:nvPr/>
        </p:nvSpPr>
        <p:spPr>
          <a:xfrm>
            <a:off x="395280" y="4292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с двумя вырезанными противолежащими углами 20"/>
          <p:cNvSpPr/>
          <p:nvPr/>
        </p:nvSpPr>
        <p:spPr>
          <a:xfrm>
            <a:off x="1476360" y="5067360"/>
            <a:ext cx="74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ординація і аналіз обговорених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Штриховая стрелка вправо 21"/>
          <p:cNvSpPr/>
          <p:nvPr/>
        </p:nvSpPr>
        <p:spPr>
          <a:xfrm>
            <a:off x="476280" y="513864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с двумя вырезанными противолежащими углами 20"/>
          <p:cNvSpPr/>
          <p:nvPr/>
        </p:nvSpPr>
        <p:spPr>
          <a:xfrm>
            <a:off x="1468440" y="593712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твердження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Штриховая стрелка вправо 21"/>
          <p:cNvSpPr/>
          <p:nvPr/>
        </p:nvSpPr>
        <p:spPr>
          <a:xfrm>
            <a:off x="468360" y="60087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Бюджетування з нул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с двумя вырезанными противолежащими углами 9"/>
          <p:cNvSpPr/>
          <p:nvPr/>
        </p:nvSpPr>
        <p:spPr>
          <a:xfrm>
            <a:off x="2357280" y="3786120"/>
            <a:ext cx="6121440" cy="1028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Бюджетування через прирощ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Штриховая стрелка вправо 10"/>
          <p:cNvSpPr/>
          <p:nvPr/>
        </p:nvSpPr>
        <p:spPr>
          <a:xfrm>
            <a:off x="145584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176040"/>
            <a:ext cx="6522840" cy="9036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с двумя вырезанными противолежащими углами 20"/>
          <p:cNvSpPr/>
          <p:nvPr/>
        </p:nvSpPr>
        <p:spPr>
          <a:xfrm>
            <a:off x="1357200" y="1279440"/>
            <a:ext cx="56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 ступенем ієрарх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Штриховая стрелка вправо 21"/>
          <p:cNvSpPr/>
          <p:nvPr/>
        </p:nvSpPr>
        <p:spPr>
          <a:xfrm>
            <a:off x="357120" y="13510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с двумя вырезанными противолежащими углами 20"/>
          <p:cNvSpPr/>
          <p:nvPr/>
        </p:nvSpPr>
        <p:spPr>
          <a:xfrm>
            <a:off x="2268360" y="2306520"/>
            <a:ext cx="6480360" cy="165600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енеральний (зведений) бюдже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інансові бюдже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пераційні бюджети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с двумя вырезанными противолежащими углами 5"/>
          <p:cNvSpPr/>
          <p:nvPr/>
        </p:nvSpPr>
        <p:spPr>
          <a:xfrm>
            <a:off x="1509840" y="4005360"/>
            <a:ext cx="572616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лежно від цілей порівня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Штриховая стрелка вправо 6"/>
          <p:cNvSpPr/>
          <p:nvPr/>
        </p:nvSpPr>
        <p:spPr>
          <a:xfrm>
            <a:off x="509760" y="407664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с двумя вырезанными противолежащими углами 20"/>
          <p:cNvSpPr/>
          <p:nvPr/>
        </p:nvSpPr>
        <p:spPr>
          <a:xfrm>
            <a:off x="2421000" y="4862520"/>
            <a:ext cx="6480000" cy="16574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татичний бюдж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нучкий бюдж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0" y="17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УВАННЯ БЮДЖЕТІВ ПІДПРИЄМ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37"/>
          <p:cNvGrpSpPr/>
          <p:nvPr/>
        </p:nvGrpSpPr>
        <p:grpSpPr>
          <a:xfrm>
            <a:off x="131760" y="825480"/>
            <a:ext cx="8910720" cy="5791320"/>
            <a:chOff x="131760" y="825480"/>
            <a:chExt cx="8910720" cy="5791320"/>
          </a:xfrm>
        </p:grpSpPr>
        <p:sp>
          <p:nvSpPr>
            <p:cNvPr id="414" name="Rectangle 4"/>
            <p:cNvSpPr/>
            <p:nvPr/>
          </p:nvSpPr>
          <p:spPr>
            <a:xfrm>
              <a:off x="3916440" y="5943600"/>
              <a:ext cx="2490840" cy="67320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ний балан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1792440" y="5005440"/>
              <a:ext cx="2020680" cy="67320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 доході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та витр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6"/>
            <p:cNvSpPr/>
            <p:nvPr/>
          </p:nvSpPr>
          <p:spPr>
            <a:xfrm>
              <a:off x="6477120" y="4869000"/>
              <a:ext cx="2344680" cy="93636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 руху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грошов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кошті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7"/>
            <p:cNvSpPr/>
            <p:nvPr/>
          </p:nvSpPr>
          <p:spPr>
            <a:xfrm>
              <a:off x="4286160" y="4869000"/>
              <a:ext cx="1744920" cy="80964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апітальни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 </a:t>
              </a: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вестиці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8"/>
            <p:cNvSpPr/>
            <p:nvPr/>
          </p:nvSpPr>
          <p:spPr>
            <a:xfrm>
              <a:off x="4465800" y="3863880"/>
              <a:ext cx="22636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грошов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ошт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9"/>
            <p:cNvSpPr/>
            <p:nvPr/>
          </p:nvSpPr>
          <p:spPr>
            <a:xfrm>
              <a:off x="2052720" y="825480"/>
              <a:ext cx="2154240" cy="4096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реалізації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0"/>
            <p:cNvSpPr/>
            <p:nvPr/>
          </p:nvSpPr>
          <p:spPr>
            <a:xfrm>
              <a:off x="6862680" y="3863880"/>
              <a:ext cx="217980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надходженн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грошових кошт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1"/>
            <p:cNvSpPr/>
            <p:nvPr/>
          </p:nvSpPr>
          <p:spPr>
            <a:xfrm>
              <a:off x="262080" y="1484280"/>
              <a:ext cx="1962000" cy="69840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управлінськ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тра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2"/>
            <p:cNvSpPr/>
            <p:nvPr/>
          </p:nvSpPr>
          <p:spPr>
            <a:xfrm>
              <a:off x="2292480" y="1677960"/>
              <a:ext cx="1890720" cy="50472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робнитцв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251240" y="1484280"/>
              <a:ext cx="1962360" cy="69840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омекрційн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тра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6283440" y="1677960"/>
              <a:ext cx="1877760" cy="50472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ших Ц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487440" y="2747880"/>
              <a:ext cx="188892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запас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16"/>
            <p:cNvSpPr/>
            <p:nvPr/>
          </p:nvSpPr>
          <p:spPr>
            <a:xfrm>
              <a:off x="2577960" y="2747880"/>
              <a:ext cx="18892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оплати праці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17"/>
            <p:cNvSpPr/>
            <p:nvPr/>
          </p:nvSpPr>
          <p:spPr>
            <a:xfrm>
              <a:off x="4670280" y="2747880"/>
              <a:ext cx="18892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ших витра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4208400" y="1027080"/>
              <a:ext cx="4407120" cy="2822760"/>
            </a:xfrm>
            <a:custGeom>
              <a:avLst/>
              <a:gdLst>
                <a:gd name="textAreaLeft" fmla="*/ 0 w 4407120"/>
                <a:gd name="textAreaRight" fmla="*/ 4407120 w 4407120"/>
                <a:gd name="textAreaTop" fmla="*/ 0 h 2822760"/>
                <a:gd name="textAreaBottom" fmla="*/ 2823120 h 2822760"/>
              </a:gdLst>
              <a:ahLst/>
              <a:rect l="textAreaLeft" t="textAreaTop" r="textAreaRight" b="textAreaBottom"/>
              <a:pathLst>
                <a:path w="2782" h="1781">
                  <a:moveTo>
                    <a:pt x="0" y="0"/>
                  </a:moveTo>
                  <a:lnTo>
                    <a:pt x="2782" y="0"/>
                  </a:lnTo>
                  <a:lnTo>
                    <a:pt x="2782" y="1781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131760" y="1046160"/>
              <a:ext cx="1913040" cy="4282920"/>
            </a:xfrm>
            <a:custGeom>
              <a:avLst/>
              <a:gdLst>
                <a:gd name="textAreaLeft" fmla="*/ 0 w 1913040"/>
                <a:gd name="textAreaRight" fmla="*/ 1913400 w 1913040"/>
                <a:gd name="textAreaTop" fmla="*/ 0 h 4282920"/>
                <a:gd name="textAreaBottom" fmla="*/ 4283280 h 4282920"/>
              </a:gdLst>
              <a:ahLst/>
              <a:rect l="textAreaLeft" t="textAreaTop" r="textAreaRight" b="textAreaBottom"/>
              <a:pathLst>
                <a:path w="1205" h="2698">
                  <a:moveTo>
                    <a:pt x="1205" y="0"/>
                  </a:moveTo>
                  <a:lnTo>
                    <a:pt x="0" y="0"/>
                  </a:lnTo>
                  <a:lnTo>
                    <a:pt x="0" y="2698"/>
                  </a:lnTo>
                  <a:lnTo>
                    <a:pt x="1029" y="2697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2762280" y="5688000"/>
              <a:ext cx="1163520" cy="59364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74" h="374">
                  <a:moveTo>
                    <a:pt x="0" y="0"/>
                  </a:moveTo>
                  <a:lnTo>
                    <a:pt x="0" y="372"/>
                  </a:lnTo>
                  <a:lnTo>
                    <a:pt x="1074" y="374"/>
                  </a:lnTo>
                </a:path>
              </a:pathLst>
            </a:custGeom>
            <a:noFill/>
            <a:ln w="28440">
              <a:solidFill>
                <a:srgbClr val="8a004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 flipH="1">
              <a:off x="6429240" y="5692680"/>
              <a:ext cx="1236960" cy="594000"/>
            </a:xfrm>
            <a:custGeom>
              <a:avLst/>
              <a:gdLst>
                <a:gd name="textAreaLeft" fmla="*/ 360 w 1236960"/>
                <a:gd name="textAreaRight" fmla="*/ 1237680 w 1236960"/>
                <a:gd name="textAreaTop" fmla="*/ 0 h 594000"/>
                <a:gd name="textAreaBottom" fmla="*/ 594000 h 594000"/>
              </a:gdLst>
              <a:ahLst/>
              <a:rect l="textAreaLeft" t="textAreaTop" r="textAreaRight" b="textAreaBottom"/>
              <a:pathLst>
                <a:path w="1074" h="374">
                  <a:moveTo>
                    <a:pt x="0" y="0"/>
                  </a:moveTo>
                  <a:lnTo>
                    <a:pt x="0" y="372"/>
                  </a:lnTo>
                  <a:lnTo>
                    <a:pt x="1074" y="374"/>
                  </a:lnTo>
                </a:path>
              </a:pathLst>
            </a:custGeom>
            <a:noFill/>
            <a:ln w="28440">
              <a:solidFill>
                <a:srgbClr val="8a004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2"/>
            <p:cNvSpPr/>
            <p:nvPr/>
          </p:nvSpPr>
          <p:spPr>
            <a:xfrm flipH="1">
              <a:off x="3817440" y="5324400"/>
              <a:ext cx="468360" cy="468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"/>
            <p:cNvSpPr/>
            <p:nvPr/>
          </p:nvSpPr>
          <p:spPr>
            <a:xfrm flipH="1">
              <a:off x="6041520" y="5329080"/>
              <a:ext cx="420840" cy="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1224000" y="2178000"/>
              <a:ext cx="5994360" cy="216000"/>
            </a:xfrm>
            <a:custGeom>
              <a:avLst/>
              <a:gdLst>
                <a:gd name="textAreaLeft" fmla="*/ 0 w 5994360"/>
                <a:gd name="textAreaRight" fmla="*/ 5994720 w 599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5"/>
            <p:cNvSpPr/>
            <p:nvPr/>
          </p:nvSpPr>
          <p:spPr>
            <a:xfrm>
              <a:off x="3236760" y="218124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6"/>
            <p:cNvSpPr/>
            <p:nvPr/>
          </p:nvSpPr>
          <p:spPr>
            <a:xfrm>
              <a:off x="5232240" y="219060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"/>
            <p:cNvSpPr/>
            <p:nvPr/>
          </p:nvSpPr>
          <p:spPr>
            <a:xfrm>
              <a:off x="3129120" y="1238400"/>
              <a:ext cx="0" cy="4284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"/>
            <p:cNvSpPr/>
            <p:nvPr/>
          </p:nvSpPr>
          <p:spPr>
            <a:xfrm>
              <a:off x="1432080" y="2390760"/>
              <a:ext cx="0" cy="33984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9"/>
            <p:cNvSpPr/>
            <p:nvPr/>
          </p:nvSpPr>
          <p:spPr>
            <a:xfrm>
              <a:off x="3522600" y="2390760"/>
              <a:ext cx="0" cy="33984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0"/>
            <p:cNvSpPr/>
            <p:nvPr/>
          </p:nvSpPr>
          <p:spPr>
            <a:xfrm>
              <a:off x="5614920" y="2397240"/>
              <a:ext cx="0" cy="33948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1"/>
            <p:cNvSpPr/>
            <p:nvPr/>
          </p:nvSpPr>
          <p:spPr>
            <a:xfrm>
              <a:off x="1401840" y="3263760"/>
              <a:ext cx="4241880" cy="196920"/>
            </a:xfrm>
            <a:custGeom>
              <a:avLst/>
              <a:gdLst>
                <a:gd name="textAreaLeft" fmla="*/ 0 w 4241880"/>
                <a:gd name="textAreaRight" fmla="*/ 4242240 w 4241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2"/>
            <p:cNvSpPr/>
            <p:nvPr/>
          </p:nvSpPr>
          <p:spPr>
            <a:xfrm>
              <a:off x="3522600" y="324792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3"/>
            <p:cNvSpPr/>
            <p:nvPr/>
          </p:nvSpPr>
          <p:spPr>
            <a:xfrm>
              <a:off x="3522600" y="3468600"/>
              <a:ext cx="0" cy="15192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34"/>
            <p:cNvSpPr/>
            <p:nvPr/>
          </p:nvSpPr>
          <p:spPr>
            <a:xfrm flipH="1">
              <a:off x="3532320" y="4110120"/>
              <a:ext cx="914400" cy="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5584680" y="4378320"/>
              <a:ext cx="2376720" cy="196920"/>
            </a:xfrm>
            <a:custGeom>
              <a:avLst/>
              <a:gdLst>
                <a:gd name="textAreaLeft" fmla="*/ 0 w 2376720"/>
                <a:gd name="textAreaRight" fmla="*/ 2377080 w 23767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"/>
            <p:cNvSpPr/>
            <p:nvPr/>
          </p:nvSpPr>
          <p:spPr>
            <a:xfrm>
              <a:off x="7659720" y="4578480"/>
              <a:ext cx="3240" cy="4032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298080" y="61920"/>
            <a:ext cx="89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ЕТНО-АНАЛИТИЧЕСКОЕ ОБЕСПЕЧЕНИЕ БЮДЖЕТНОГО ПЛАН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Object 3"/>
          <p:cNvGraphicFramePr/>
          <p:nvPr/>
        </p:nvGraphicFramePr>
        <p:xfrm>
          <a:off x="127080" y="449280"/>
          <a:ext cx="898344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449280"/>
                    <a:ext cx="898344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утність бюджетування та його організаці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Порядок складання та взаємоузгодження бюджет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Контроль виконання бюджет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ання бюджету прода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с двумя вырезанными противолежащими углами 9"/>
          <p:cNvSpPr/>
          <p:nvPr/>
        </p:nvSpPr>
        <p:spPr>
          <a:xfrm>
            <a:off x="2357280" y="3786120"/>
            <a:ext cx="6121440" cy="102888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виробниц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Штриховая стрелка вправо 10"/>
          <p:cNvSpPr/>
          <p:nvPr/>
        </p:nvSpPr>
        <p:spPr>
          <a:xfrm>
            <a:off x="145584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Необхідний обсяг виробництва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планований обсяг продажу за період в одиниця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виробництва формується на підставі даних бюджету продажу з урахуванням зміни залишків готової продукції за формуло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ки готової продукції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ки готової продукції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с двумя вырезанными противолежащими углами 20"/>
          <p:cNvSpPr/>
          <p:nvPr/>
        </p:nvSpPr>
        <p:spPr>
          <a:xfrm>
            <a:off x="1379520" y="2614680"/>
            <a:ext cx="6121440" cy="13143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прямих матеріаль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Штриховая стрелка вправо 21"/>
          <p:cNvSpPr/>
          <p:nvPr/>
        </p:nvSpPr>
        <p:spPr>
          <a:xfrm>
            <a:off x="477720" y="2862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Необхідний кількість придбання виробничих запас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, необхідна для виготовлення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Для визначення кількості матеріалів, що необхідно придбати за період, користуються формулою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 у залишку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 у залишку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3856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прямих витрат на оплату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Штриховая стрелка вправо 21"/>
          <p:cNvSpPr/>
          <p:nvPr/>
        </p:nvSpPr>
        <p:spPr>
          <a:xfrm>
            <a:off x="357120" y="25052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с двумя вырезанными противолежащими углами 6"/>
          <p:cNvSpPr/>
          <p:nvPr/>
        </p:nvSpPr>
        <p:spPr>
          <a:xfrm>
            <a:off x="2500200" y="3857760"/>
            <a:ext cx="6121440" cy="13856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наклад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Штриховая стрелка вправо 7"/>
          <p:cNvSpPr/>
          <p:nvPr/>
        </p:nvSpPr>
        <p:spPr>
          <a:xfrm>
            <a:off x="1598760" y="424800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с двумя вырезанными противолежащими углами 20"/>
          <p:cNvSpPr/>
          <p:nvPr/>
        </p:nvSpPr>
        <p:spPr>
          <a:xfrm>
            <a:off x="1379520" y="2614680"/>
            <a:ext cx="6121440" cy="18860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собівартості готової та реалізованої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Штриховая стрелка вправо 21"/>
          <p:cNvSpPr/>
          <p:nvPr/>
        </p:nvSpPr>
        <p:spPr>
          <a:xfrm>
            <a:off x="477720" y="3219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обівартість виготовле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незавершеного виробництва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собівартості готов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Витрати на виробництво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незавершеного виробництва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обівартість реалізова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готової продукції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собівартості реалізова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Собівартість виготовленої за період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готової продукції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и операцій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с двумя вырезанными противолежащими углами 9"/>
          <p:cNvSpPr/>
          <p:nvPr/>
        </p:nvSpPr>
        <p:spPr>
          <a:xfrm>
            <a:off x="2116080" y="3571920"/>
            <a:ext cx="6121440" cy="13572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ний звіт про фінансові результа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Штриховая стрелка вправо 10"/>
          <p:cNvSpPr/>
          <p:nvPr/>
        </p:nvSpPr>
        <p:spPr>
          <a:xfrm>
            <a:off x="121428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288440" y="61920"/>
            <a:ext cx="72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ИПИЧНАЯ ФОРМА БЮДЖЕТА ДОХОДОВ И РАСХОДОВ НКМ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Object 4"/>
          <p:cNvGraphicFramePr/>
          <p:nvPr/>
        </p:nvGraphicFramePr>
        <p:xfrm>
          <a:off x="177840" y="652320"/>
          <a:ext cx="8878680" cy="56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652320"/>
                    <a:ext cx="887868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60480" y="1311120"/>
            <a:ext cx="4419360" cy="183996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689120" y="2597040"/>
            <a:ext cx="7515360" cy="1859040"/>
            <a:chOff x="1689120" y="2597040"/>
            <a:chExt cx="7515360" cy="185904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689120" y="2597040"/>
              <a:ext cx="75153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928880" y="2749680"/>
              <a:ext cx="7072200" cy="13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дна з функцій управління, процес визначення дій, які повинні бути виконані в майбутньом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7599960" y="4932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Продолжение табл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2130120" y="6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Типичная форма бюджета доходов и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6"/>
          <p:cNvGraphicFramePr/>
          <p:nvPr/>
        </p:nvGraphicFramePr>
        <p:xfrm>
          <a:off x="376200" y="458640"/>
          <a:ext cx="854388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58640"/>
                    <a:ext cx="854388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3"/>
          <p:cNvSpPr/>
          <p:nvPr/>
        </p:nvSpPr>
        <p:spPr>
          <a:xfrm>
            <a:off x="7599960" y="4932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Продолжение табл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130120" y="6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Типичная форма бюджета доходов и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Object 6"/>
          <p:cNvGraphicFramePr/>
          <p:nvPr/>
        </p:nvGraphicFramePr>
        <p:xfrm>
          <a:off x="411120" y="528480"/>
          <a:ext cx="82915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528480"/>
                    <a:ext cx="82915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8"/>
          <p:cNvSpPr/>
          <p:nvPr/>
        </p:nvSpPr>
        <p:spPr>
          <a:xfrm>
            <a:off x="0" y="4241880"/>
            <a:ext cx="9144000" cy="25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с двумя вырезанными противолежащими углами 20"/>
          <p:cNvSpPr/>
          <p:nvPr/>
        </p:nvSpPr>
        <p:spPr>
          <a:xfrm>
            <a:off x="1258920" y="2719440"/>
            <a:ext cx="61214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грошових кош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Штриховая стрелка вправо 21"/>
          <p:cNvSpPr/>
          <p:nvPr/>
        </p:nvSpPr>
        <p:spPr>
          <a:xfrm>
            <a:off x="357120" y="31528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9" name="Object 1"/>
          <p:cNvGraphicFramePr/>
          <p:nvPr/>
        </p:nvGraphicFramePr>
        <p:xfrm>
          <a:off x="0" y="4595760"/>
          <a:ext cx="9144000" cy="19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95760"/>
                    <a:ext cx="9144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Прямоугольник с двумя вырезанными противолежащими углами 7"/>
          <p:cNvSpPr/>
          <p:nvPr/>
        </p:nvSpPr>
        <p:spPr>
          <a:xfrm>
            <a:off x="1258920" y="155736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капітальних інвести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Штриховая стрелка вправо 9"/>
          <p:cNvSpPr/>
          <p:nvPr/>
        </p:nvSpPr>
        <p:spPr>
          <a:xfrm>
            <a:off x="357120" y="17287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ума платежів постачальника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кредиторської заборгованості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Для визначення величини платежів за бюджетний період можна скористатися залежніст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Вартість придбаних за період запас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кредиторської заборгованості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3"/>
          <p:cNvSpPr/>
          <p:nvPr/>
        </p:nvSpPr>
        <p:spPr>
          <a:xfrm>
            <a:off x="1106280" y="85680"/>
            <a:ext cx="72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ИПИЧНАЯ ФОРМА БЮДЖЕТА ПЕРЕДВИЖЕНИЯ ДЕНЕЖНЫХ СРЕД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Object 4"/>
          <p:cNvGraphicFramePr/>
          <p:nvPr/>
        </p:nvGraphicFramePr>
        <p:xfrm>
          <a:off x="227160" y="547560"/>
          <a:ext cx="8723160" cy="59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47560"/>
                    <a:ext cx="872316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701640"/>
            <a:ext cx="6602400" cy="90180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с двумя вырезанными противолежащими углами 20"/>
          <p:cNvSpPr/>
          <p:nvPr/>
        </p:nvSpPr>
        <p:spPr>
          <a:xfrm>
            <a:off x="1450800" y="2571840"/>
            <a:ext cx="61214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прогнозного балансу підприєм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Штриховая стрелка вправо 21"/>
          <p:cNvSpPr/>
          <p:nvPr/>
        </p:nvSpPr>
        <p:spPr>
          <a:xfrm>
            <a:off x="549360" y="3005280"/>
            <a:ext cx="785880" cy="49500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AutoShape 2" descr=""/>
          <p:cNvPicPr/>
          <p:nvPr/>
        </p:nvPicPr>
        <p:blipFill>
          <a:blip r:embed="rId1"/>
          <a:stretch/>
        </p:blipFill>
        <p:spPr>
          <a:xfrm>
            <a:off x="-6480" y="1547640"/>
            <a:ext cx="4413240" cy="1341720"/>
          </a:xfrm>
          <a:prstGeom prst="rect">
            <a:avLst/>
          </a:prstGeom>
          <a:ln w="0">
            <a:noFill/>
          </a:ln>
        </p:spPr>
      </p:pic>
      <p:grpSp>
        <p:nvGrpSpPr>
          <p:cNvPr id="539" name="Rectangle 3"/>
          <p:cNvGrpSpPr/>
          <p:nvPr/>
        </p:nvGrpSpPr>
        <p:grpSpPr>
          <a:xfrm>
            <a:off x="1616040" y="2706840"/>
            <a:ext cx="7362720" cy="1109520"/>
            <a:chOff x="1616040" y="2706840"/>
            <a:chExt cx="7362720" cy="1109520"/>
          </a:xfrm>
        </p:grpSpPr>
        <p:pic>
          <p:nvPicPr>
            <p:cNvPr id="540" name="Rectangle 3" descr=""/>
            <p:cNvPicPr/>
            <p:nvPr/>
          </p:nvPicPr>
          <p:blipFill>
            <a:blip r:embed="rId2"/>
            <a:stretch/>
          </p:blipFill>
          <p:spPr>
            <a:xfrm>
              <a:off x="1616040" y="2706840"/>
              <a:ext cx="7362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857240" y="2857680"/>
              <a:ext cx="707256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Бюджети структурних підроз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2" name="Прямоугольник 5" descr=""/>
          <p:cNvPicPr/>
          <p:nvPr/>
        </p:nvPicPr>
        <p:blipFill>
          <a:blip r:embed="rId3"/>
          <a:stretch/>
        </p:blipFill>
        <p:spPr>
          <a:xfrm>
            <a:off x="628560" y="201600"/>
            <a:ext cx="6527880" cy="1273320"/>
          </a:xfrm>
          <a:prstGeom prst="rect">
            <a:avLst/>
          </a:prstGeom>
          <a:ln w="0">
            <a:noFill/>
          </a:ln>
        </p:spPr>
      </p:pic>
      <p:pic>
        <p:nvPicPr>
          <p:cNvPr id="543" name="AutoShape 2" descr=""/>
          <p:cNvPicPr/>
          <p:nvPr/>
        </p:nvPicPr>
        <p:blipFill>
          <a:blip r:embed="rId4"/>
          <a:stretch/>
        </p:blipFill>
        <p:spPr>
          <a:xfrm>
            <a:off x="-79200" y="3902040"/>
            <a:ext cx="4413240" cy="1339920"/>
          </a:xfrm>
          <a:prstGeom prst="rect">
            <a:avLst/>
          </a:prstGeom>
          <a:ln w="0">
            <a:noFill/>
          </a:ln>
        </p:spPr>
      </p:pic>
      <p:grpSp>
        <p:nvGrpSpPr>
          <p:cNvPr id="544" name="Rectangle 3"/>
          <p:cNvGrpSpPr/>
          <p:nvPr/>
        </p:nvGrpSpPr>
        <p:grpSpPr>
          <a:xfrm>
            <a:off x="1542960" y="5065560"/>
            <a:ext cx="7521840" cy="1852920"/>
            <a:chOff x="1542960" y="5065560"/>
            <a:chExt cx="7521840" cy="1852920"/>
          </a:xfrm>
        </p:grpSpPr>
        <p:pic>
          <p:nvPicPr>
            <p:cNvPr id="545" name="Rectangle 3" descr=""/>
            <p:cNvPicPr/>
            <p:nvPr/>
          </p:nvPicPr>
          <p:blipFill>
            <a:blip r:embed="rId5"/>
            <a:stretch/>
          </p:blipFill>
          <p:spPr>
            <a:xfrm>
              <a:off x="1542960" y="5065560"/>
              <a:ext cx="7521840" cy="18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785960" y="5214960"/>
              <a:ext cx="70722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труктурні підрозділи підприємства, що здійснюють контроль за виконанням бюджет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Прямоугольник 1" descr=""/>
          <p:cNvPicPr/>
          <p:nvPr/>
        </p:nvPicPr>
        <p:blipFill>
          <a:blip r:embed="rId1"/>
          <a:stretch/>
        </p:blipFill>
        <p:spPr>
          <a:xfrm>
            <a:off x="1347840" y="628560"/>
            <a:ext cx="6735600" cy="90828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с двумя вырезанными противолежащими углами 20"/>
          <p:cNvSpPr/>
          <p:nvPr/>
        </p:nvSpPr>
        <p:spPr>
          <a:xfrm>
            <a:off x="357120" y="2571840"/>
            <a:ext cx="3929040" cy="378612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б'єкт контрол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Контроль за достовірністю даних бюджетування (системи бюджетів структурних підрозділів та загального бюджету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Штриховая стрелка вправо 21"/>
          <p:cNvSpPr/>
          <p:nvPr/>
        </p:nvSpPr>
        <p:spPr>
          <a:xfrm rot="5400000">
            <a:off x="1944000" y="1856520"/>
            <a:ext cx="78552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с двумя вырезанными противолежащими углами 5"/>
          <p:cNvSpPr/>
          <p:nvPr/>
        </p:nvSpPr>
        <p:spPr>
          <a:xfrm>
            <a:off x="4929120" y="2571840"/>
            <a:ext cx="3929040" cy="37861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Засіб контрол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Використання системи бюджетів для контролю за господарською діяльністю через виявлення відхилень від заданих параметр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Штриховая стрелка вправо 6"/>
          <p:cNvSpPr/>
          <p:nvPr/>
        </p:nvSpPr>
        <p:spPr>
          <a:xfrm rot="5400000">
            <a:off x="6516000" y="1856520"/>
            <a:ext cx="78552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Rectangle 3"/>
          <p:cNvGrpSpPr/>
          <p:nvPr/>
        </p:nvGrpSpPr>
        <p:grpSpPr>
          <a:xfrm>
            <a:off x="549360" y="1042920"/>
            <a:ext cx="8661240" cy="4778280"/>
            <a:chOff x="549360" y="1042920"/>
            <a:chExt cx="8661240" cy="4778280"/>
          </a:xfrm>
        </p:grpSpPr>
        <p:pic>
          <p:nvPicPr>
            <p:cNvPr id="554" name="Rectangle 3" descr=""/>
            <p:cNvPicPr/>
            <p:nvPr/>
          </p:nvPicPr>
          <p:blipFill>
            <a:blip r:embed="rId1"/>
            <a:stretch/>
          </p:blipFill>
          <p:spPr>
            <a:xfrm>
              <a:off x="549360" y="1042920"/>
              <a:ext cx="866124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642960" y="1285920"/>
              <a:ext cx="800100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Є тільки одне благо - знання й тільки одне зло - неуцтво.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Сократ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865080"/>
            <a:ext cx="6523200" cy="9082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с двумя вырезанными противолежащими углами 20"/>
          <p:cNvSpPr/>
          <p:nvPr/>
        </p:nvSpPr>
        <p:spPr>
          <a:xfrm>
            <a:off x="539640" y="2708280"/>
            <a:ext cx="3675240" cy="15843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роткострокове (строком до року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21"/>
          <p:cNvSpPr/>
          <p:nvPr/>
        </p:nvSpPr>
        <p:spPr>
          <a:xfrm rot="6339000">
            <a:off x="2122920" y="19897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с двумя вырезанными противолежащими углами 20"/>
          <p:cNvSpPr/>
          <p:nvPr/>
        </p:nvSpPr>
        <p:spPr>
          <a:xfrm>
            <a:off x="4643280" y="2708280"/>
            <a:ext cx="3791160" cy="15843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ерспективне (строком більше року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Штриховая стрелка вправо 21"/>
          <p:cNvSpPr/>
          <p:nvPr/>
        </p:nvSpPr>
        <p:spPr>
          <a:xfrm rot="3411600">
            <a:off x="5290560" y="19897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132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14" name="Rectangle 3"/>
          <p:cNvGrpSpPr/>
          <p:nvPr/>
        </p:nvGrpSpPr>
        <p:grpSpPr>
          <a:xfrm>
            <a:off x="1542960" y="1487520"/>
            <a:ext cx="7667640" cy="3035160"/>
            <a:chOff x="1542960" y="1487520"/>
            <a:chExt cx="7667640" cy="3035160"/>
          </a:xfrm>
        </p:grpSpPr>
        <p:pic>
          <p:nvPicPr>
            <p:cNvPr id="315" name="Rectangle 3" descr=""/>
            <p:cNvPicPr/>
            <p:nvPr/>
          </p:nvPicPr>
          <p:blipFill>
            <a:blip r:embed="rId2"/>
            <a:stretch/>
          </p:blipFill>
          <p:spPr>
            <a:xfrm>
              <a:off x="1542960" y="1487520"/>
              <a:ext cx="766764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857240" y="1671480"/>
              <a:ext cx="7072560" cy="25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Процес планування майбутніх операцій підприємства та оформлення його результатів у вигляді системи бюджеті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132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18" name="Rectangle 3"/>
          <p:cNvGrpSpPr/>
          <p:nvPr/>
        </p:nvGrpSpPr>
        <p:grpSpPr>
          <a:xfrm>
            <a:off x="1579680" y="1700280"/>
            <a:ext cx="7594560" cy="4279680"/>
            <a:chOff x="1579680" y="1700280"/>
            <a:chExt cx="7594560" cy="4279680"/>
          </a:xfrm>
        </p:grpSpPr>
        <p:pic>
          <p:nvPicPr>
            <p:cNvPr id="319" name="Rectangle 3" descr=""/>
            <p:cNvPicPr/>
            <p:nvPr/>
          </p:nvPicPr>
          <p:blipFill>
            <a:blip r:embed="rId2"/>
            <a:stretch/>
          </p:blipFill>
          <p:spPr>
            <a:xfrm>
              <a:off x="1579680" y="1700280"/>
              <a:ext cx="7594560" cy="42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857240" y="1868400"/>
              <a:ext cx="7072560" cy="38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Кількісний план у грошовому вимірі, заздалегідь підготовлений та прийнятий до певного періоду часу, який зазвичай відображає заплановані на цей період величини доходів і витрат, необхідні для досягнення запланованої мет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0"/>
            <a:ext cx="6522840" cy="9079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с двумя вырезанными противолежащими углами 20"/>
          <p:cNvSpPr/>
          <p:nvPr/>
        </p:nvSpPr>
        <p:spPr>
          <a:xfrm>
            <a:off x="1357200" y="907920"/>
            <a:ext cx="7500960" cy="11527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отивація працівників на виконання цілей підприємств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Штриховая стрелка вправо 21"/>
          <p:cNvSpPr/>
          <p:nvPr/>
        </p:nvSpPr>
        <p:spPr>
          <a:xfrm>
            <a:off x="357120" y="12049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с двумя вырезанными противолежащими углами 22"/>
          <p:cNvSpPr/>
          <p:nvPr/>
        </p:nvSpPr>
        <p:spPr>
          <a:xfrm>
            <a:off x="1357200" y="2270160"/>
            <a:ext cx="7500960" cy="13748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Ув'язка параметрів  розвитку підприємства з власними та залученими ресурса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Штриховая стрелка вправо 23"/>
          <p:cNvSpPr/>
          <p:nvPr/>
        </p:nvSpPr>
        <p:spPr>
          <a:xfrm>
            <a:off x="357120" y="2717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с двумя вырезанными противолежащими углами 24"/>
          <p:cNvSpPr/>
          <p:nvPr/>
        </p:nvSpPr>
        <p:spPr>
          <a:xfrm>
            <a:off x="1357200" y="3774960"/>
            <a:ext cx="7500960" cy="13096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арантування виконання фінансових зобов'язань перед внутрішніми та зовнішніми суб'єкта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Штриховая стрелка вправо 25"/>
          <p:cNvSpPr/>
          <p:nvPr/>
        </p:nvSpPr>
        <p:spPr>
          <a:xfrm>
            <a:off x="357120" y="41497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с двумя вырезанными противолежащими углами 26"/>
          <p:cNvSpPr/>
          <p:nvPr/>
        </p:nvSpPr>
        <p:spPr>
          <a:xfrm>
            <a:off x="1357200" y="5300640"/>
            <a:ext cx="7500960" cy="122400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безпечення керівництва своєчасної та повною інформацією про фінансовий стан підприємств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Штриховая стрелка вправо 27"/>
          <p:cNvSpPr/>
          <p:nvPr/>
        </p:nvSpPr>
        <p:spPr>
          <a:xfrm>
            <a:off x="357120" y="5661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4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186760" cy="1079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94920" y="1341000"/>
            <a:ext cx="8209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-325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 сфері виробництва</a:t>
            </a:r>
            <a:r>
              <a:rPr b="1" lang="uk-UA" sz="3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птимізація витрат і зниження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обівартості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вищення ефективності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правління витратами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згодження цілей і завдань усі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робничих підрозділів зі стратегіє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сієї компанії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мотивація керівників структурни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розділі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7" descr="60992"/>
          <p:cNvPicPr/>
          <p:nvPr/>
        </p:nvPicPr>
        <p:blipFill>
          <a:blip r:embed="rId2"/>
          <a:stretch/>
        </p:blipFill>
        <p:spPr>
          <a:xfrm>
            <a:off x="5724360" y="1197000"/>
            <a:ext cx="3022920" cy="2376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i (7)"/>
          <p:cNvPicPr/>
          <p:nvPr/>
        </p:nvPicPr>
        <p:blipFill>
          <a:blip r:embed="rId3"/>
          <a:stretch/>
        </p:blipFill>
        <p:spPr>
          <a:xfrm>
            <a:off x="6516720" y="3716280"/>
            <a:ext cx="2143080" cy="172872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186760" cy="1079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394920" y="1341000"/>
            <a:ext cx="8209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 сфері фінансового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правління: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озстановка пріоритетів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користання фінансови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есурсів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вищення ефективності управління ліквідністю, фінансовою стійкістю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ерспективний фінансовий аналіз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рогнозування і управління майбутнім фінансовим станом компанії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 сфері виробництв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4" descr="60992"/>
          <p:cNvPicPr/>
          <p:nvPr/>
        </p:nvPicPr>
        <p:blipFill>
          <a:blip r:embed="rId2"/>
          <a:stretch/>
        </p:blipFill>
        <p:spPr>
          <a:xfrm>
            <a:off x="5724360" y="1197000"/>
            <a:ext cx="3022920" cy="2376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i (8)"/>
          <p:cNvPicPr/>
          <p:nvPr/>
        </p:nvPicPr>
        <p:blipFill>
          <a:blip r:embed="rId3">
            <a:grayscl/>
          </a:blip>
          <a:stretch/>
        </p:blipFill>
        <p:spPr>
          <a:xfrm>
            <a:off x="7164360" y="3645000"/>
            <a:ext cx="1504800" cy="208908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Богдан</cp:lastModifiedBy>
  <dcterms:modified xsi:type="dcterms:W3CDTF">2021-11-21T08:40:07Z</dcterms:modified>
  <cp:revision>158</cp:revision>
  <dc:subject/>
  <dc:title>Слайд 1</dc:title>
</cp:coreProperties>
</file>