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33B-C9E6-46EA-933E-0DB5127F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43B-F6A6-4C95-8DCC-9D42D703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E1C-C128-4BCB-A540-9911285E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AE3-7277-4066-8DE3-0B89F5FB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8BFA-227D-4F5F-8E72-6620E89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38C-5312-42A8-A4D9-5041726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9506-EA87-4F6B-9EE9-439BDBC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A96B-D6F3-497B-B2FE-7E73EFAB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F00A-7841-444C-8C0D-98C634B2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9D9F-0C8E-44F8-B421-2831D37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11F-13E4-4229-8B17-1C364BC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8AA-C3DC-458A-9FBA-050E252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04B-9A7A-43B8-B1F2-E042BC5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E7F-F023-47A5-8814-4E0D7DC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3E2F-37D2-4E7A-B361-21ACC5DE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90C-75DE-49D2-8446-74399B3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C24F-1AF3-4F39-AD6F-503354FC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58C8-9FB8-4515-8F82-3D113B5F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E199-97F3-43BD-B7DC-A8FAC67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9109-D142-4D58-9F14-3D4AF9A1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F4EE-2196-4B87-A0B2-E2C15E0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C12C-2144-47CB-937D-BBA8215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A0B-D9DE-44C1-A89F-870A139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4935-FA5E-44CB-AE7D-8C2CC3D6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23E6-DA46-422A-BF9C-6D8C0EA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11BC-B217-4075-8626-D53ADCD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5E28-BD07-4EB7-BBC8-9B2B12F9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6CA6-AA12-4F47-907C-A8D59A5A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D6CC-45B8-4351-B7CE-712D647F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AA4C-3DBD-4730-94E3-B9D4281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C3F9-7AA0-4D68-9690-05447676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22BF7-E774-4BA0-BDF6-B0B7A5C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1A8E-69AC-49A1-AD60-D208B2B3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110-8426-4D0D-A995-A248841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8FFF8-8363-4D66-8C31-39E48E8C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48362-2DF4-47FA-93C5-4FFADD7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51AB-755D-4613-9AE4-D82402A0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D3B0-A11F-4BE9-BFE9-A414EEB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15FA-AA95-4B4C-9936-B05C974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B09D-93EE-4264-9A99-2C5FC88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1035-948F-44E1-A8EB-5D2D3BF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A906-7264-4FE7-9B3B-296EFAD6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7560-6899-4324-A118-B2B2EC21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481D-2E1C-4153-BC9C-B8E1C73B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00B-6B67-44C5-BAAC-CADFA94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6735A-C4F5-4656-924D-F355E04D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32E6-48BF-49A0-B109-AE3E3E1F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3143-1CFC-472B-B75A-D93F3FC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32B38-7D0C-4410-8918-78F564F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A04D-8FF6-4CA0-B63B-2257C14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42CE-D8AF-4255-A4C8-47AF9F9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16B1E-944A-4124-B10D-C8C3937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F1AF-DA95-4152-8D81-C332AF3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A6738-3C2D-4EC3-A090-C94C8156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3B107-818D-4436-A7D2-347551A4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709-06E7-4961-82ED-02C3322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BA699-9E5E-468C-A020-2DDA37D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5B1A8-420A-4C35-848E-D0335171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6830-D037-421A-94F1-CA5524E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5018-45AF-412D-92F0-0BA37228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B8E7-0ED8-4FC8-85B9-59467550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4A94-37AA-434E-8FA5-A9DC435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D5E91-2984-4E00-8893-7E4881B3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C8B9-18F4-49E6-BB14-2E23363D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E446-6C85-4916-9AB6-2E58507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1350-A7F3-48A6-910E-0AED3C2D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E32-C997-460A-9B33-1E32B46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8705-9128-4368-BF19-D6DEFDE7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EC9CB-189A-4DA5-84DC-0F86D301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A3E97-2D29-4F8F-8E90-C8C674F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C2BD1-7A52-431B-88E4-FFB9ACFD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43C7A-887B-4FA4-9707-2B55CD5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B9B90-FABE-4071-BCB1-EEB86BB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2FD86-10D4-4C3C-81CD-9F7E915A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0CCC-F28E-4F34-85DB-CE4BE491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1B62F-304D-46F1-89B3-4CFA5CD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65C3A-C4DA-4D66-8A24-9C44DE44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958-7E90-41B3-B447-405BE32F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12278-2BA9-4982-8315-98BE900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7280-96BF-47DB-85AC-28D38D6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95E2F-24AE-4F94-8E39-476143C7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37247-E769-4E93-9690-A50DD587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7DEFC-BF00-4448-898B-C98599EB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622-409E-44B7-B79C-22E31D4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C704-AB64-4A13-A1F1-44D785F66C2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5A1-35FF-4282-8F5F-89FF025DB2E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2709-E1E6-4A82-AB63-214AE3C7E3D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73E1-A57A-4096-A5EA-A8360FE9773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631-53AB-411B-9DF3-036F6070050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126E-B9C8-47CD-841E-957993E0F414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8F8-241D-43DD-BEBC-68F266BE611E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8502480" cy="19508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2951280"/>
            <a:ext cx="8448480" cy="2859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ідприємств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ди бізнесу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рошові пото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9032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робництво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збут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Штриховая стрелка вправо 27"/>
          <p:cNvSpPr/>
          <p:nvPr/>
        </p:nvSpPr>
        <p:spPr>
          <a:xfrm>
            <a:off x="2700360" y="4373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с двумя вырезанными противолежащими углами 10"/>
          <p:cNvSpPr/>
          <p:nvPr/>
        </p:nvSpPr>
        <p:spPr>
          <a:xfrm>
            <a:off x="4165560" y="516420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та інш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Штриховая стрелка вправо 11"/>
          <p:cNvSpPr/>
          <p:nvPr/>
        </p:nvSpPr>
        <p:spPr>
          <a:xfrm>
            <a:off x="3335400" y="52419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а комісі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с двумя вырезанными противолежащими углами 22"/>
          <p:cNvSpPr/>
          <p:nvPr/>
        </p:nvSpPr>
        <p:spPr>
          <a:xfrm>
            <a:off x="2220840" y="2643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Центри відповідальності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Штриховая стрелка вправо 23"/>
          <p:cNvSpPr/>
          <p:nvPr/>
        </p:nvSpPr>
        <p:spPr>
          <a:xfrm>
            <a:off x="1220760" y="271476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с двумя вырезанными противолежащими углами 24"/>
          <p:cNvSpPr/>
          <p:nvPr/>
        </p:nvSpPr>
        <p:spPr>
          <a:xfrm>
            <a:off x="2941560" y="365112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ункціональні служби та відді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Штриховая стрелка вправо 25"/>
          <p:cNvSpPr/>
          <p:nvPr/>
        </p:nvSpPr>
        <p:spPr>
          <a:xfrm>
            <a:off x="1941480" y="3722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5230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Єдність бюджетної сис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60231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межування доходів і витрат між рівнями бюджетної систе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87044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амостійність бюджет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511956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балансованість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ласність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Штриховая стрелка вправо 12"/>
          <p:cNvSpPr/>
          <p:nvPr/>
        </p:nvSpPr>
        <p:spPr>
          <a:xfrm>
            <a:off x="3930480" y="5958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оугольник с двумя вырезанными противолежащими углами 13"/>
          <p:cNvSpPr/>
          <p:nvPr/>
        </p:nvSpPr>
        <p:spPr>
          <a:xfrm>
            <a:off x="4932360" y="5883120"/>
            <a:ext cx="410364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стовірніс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Інформацій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с двумя вырезанными противолежащими углами 22"/>
          <p:cNvSpPr/>
          <p:nvPr/>
        </p:nvSpPr>
        <p:spPr>
          <a:xfrm>
            <a:off x="2220840" y="246708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ревентив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Штриховая стрелка вправо 23"/>
          <p:cNvSpPr/>
          <p:nvPr/>
        </p:nvSpPr>
        <p:spPr>
          <a:xfrm>
            <a:off x="1220760" y="2538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с двумя вырезанными противолежащими углами 24"/>
          <p:cNvSpPr/>
          <p:nvPr/>
        </p:nvSpPr>
        <p:spPr>
          <a:xfrm>
            <a:off x="2941560" y="332424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й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Штриховая стрелка вправо 25"/>
          <p:cNvSpPr/>
          <p:nvPr/>
        </p:nvSpPr>
        <p:spPr>
          <a:xfrm>
            <a:off x="1941480" y="33955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с двумя вырезанными противолежащими углами 26"/>
          <p:cNvSpPr/>
          <p:nvPr/>
        </p:nvSpPr>
        <p:spPr>
          <a:xfrm>
            <a:off x="3700440" y="418140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ціноч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Штриховая стрелка вправо 27"/>
          <p:cNvSpPr/>
          <p:nvPr/>
        </p:nvSpPr>
        <p:spPr>
          <a:xfrm>
            <a:off x="2700360" y="42530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с двумя вырезанными противолежащими углами 10"/>
          <p:cNvSpPr/>
          <p:nvPr/>
        </p:nvSpPr>
        <p:spPr>
          <a:xfrm>
            <a:off x="4525920" y="501984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нтрольн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Штриховая стрелка вправо 11"/>
          <p:cNvSpPr/>
          <p:nvPr/>
        </p:nvSpPr>
        <p:spPr>
          <a:xfrm>
            <a:off x="3525840" y="50911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365040"/>
            <a:ext cx="6522840" cy="127476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с двумя вырезанными противолежащими углами 20"/>
          <p:cNvSpPr/>
          <p:nvPr/>
        </p:nvSpPr>
        <p:spPr>
          <a:xfrm>
            <a:off x="1357200" y="1609560"/>
            <a:ext cx="4438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гори вниз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Штриховая стрелка вправо 21"/>
          <p:cNvSpPr/>
          <p:nvPr/>
        </p:nvSpPr>
        <p:spPr>
          <a:xfrm>
            <a:off x="357120" y="16812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с двумя вырезанными противолежащими углами 5"/>
          <p:cNvSpPr/>
          <p:nvPr/>
        </p:nvSpPr>
        <p:spPr>
          <a:xfrm>
            <a:off x="2293920" y="2859120"/>
            <a:ext cx="4438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низу вгор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Штриховая стрелка вправо 6"/>
          <p:cNvSpPr/>
          <p:nvPr/>
        </p:nvSpPr>
        <p:spPr>
          <a:xfrm>
            <a:off x="1122480" y="292428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Штриховая стрелка вправо 7"/>
          <p:cNvSpPr/>
          <p:nvPr/>
        </p:nvSpPr>
        <p:spPr>
          <a:xfrm>
            <a:off x="1698480" y="430200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оугольник с двумя вырезанными противолежащими углами 8"/>
          <p:cNvSpPr/>
          <p:nvPr/>
        </p:nvSpPr>
        <p:spPr>
          <a:xfrm>
            <a:off x="2654280" y="4156200"/>
            <a:ext cx="4438800" cy="785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мбінований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195120"/>
            <a:ext cx="8186760" cy="8161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с двумя вырезанными противолежащими углами 20"/>
          <p:cNvSpPr/>
          <p:nvPr/>
        </p:nvSpPr>
        <p:spPr>
          <a:xfrm>
            <a:off x="1258920" y="981000"/>
            <a:ext cx="7885080" cy="12891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Доведення основних напрямів політики підприємства до осіб, відповідальних за підготовку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Штриховая стрелка вправо 21"/>
          <p:cNvSpPr/>
          <p:nvPr/>
        </p:nvSpPr>
        <p:spPr>
          <a:xfrm>
            <a:off x="357120" y="134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оугольник с двумя вырезанными противолежащими углами 20"/>
          <p:cNvSpPr/>
          <p:nvPr/>
        </p:nvSpPr>
        <p:spPr>
          <a:xfrm>
            <a:off x="1395360" y="244008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Визначення обмежувальних чинник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Штриховая стрелка вправо 21"/>
          <p:cNvSpPr/>
          <p:nvPr/>
        </p:nvSpPr>
        <p:spPr>
          <a:xfrm>
            <a:off x="395280" y="2511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оугольник с двумя вырезанными противолежащими углами 20"/>
          <p:cNvSpPr/>
          <p:nvPr/>
        </p:nvSpPr>
        <p:spPr>
          <a:xfrm>
            <a:off x="1395360" y="337500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опереднє склада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Штриховая стрелка вправо 21"/>
          <p:cNvSpPr/>
          <p:nvPr/>
        </p:nvSpPr>
        <p:spPr>
          <a:xfrm>
            <a:off x="395280" y="34466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оугольник с двумя вырезанными противолежащими углами 20"/>
          <p:cNvSpPr/>
          <p:nvPr/>
        </p:nvSpPr>
        <p:spPr>
          <a:xfrm>
            <a:off x="1395360" y="422100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бговорення бюджетів із вищим керівництв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Штриховая стрелка вправо 21"/>
          <p:cNvSpPr/>
          <p:nvPr/>
        </p:nvSpPr>
        <p:spPr>
          <a:xfrm>
            <a:off x="395280" y="4292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оугольник с двумя вырезанными противолежащими углами 20"/>
          <p:cNvSpPr/>
          <p:nvPr/>
        </p:nvSpPr>
        <p:spPr>
          <a:xfrm>
            <a:off x="1476360" y="5067360"/>
            <a:ext cx="74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ординація і аналіз обговорених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Штриховая стрелка вправо 21"/>
          <p:cNvSpPr/>
          <p:nvPr/>
        </p:nvSpPr>
        <p:spPr>
          <a:xfrm>
            <a:off x="476280" y="5138640"/>
            <a:ext cx="78588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с двумя вырезанными противолежащими углами 20"/>
          <p:cNvSpPr/>
          <p:nvPr/>
        </p:nvSpPr>
        <p:spPr>
          <a:xfrm>
            <a:off x="1468440" y="5937120"/>
            <a:ext cx="7462800" cy="78588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твердження бюдже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Штриховая стрелка вправо 21"/>
          <p:cNvSpPr/>
          <p:nvPr/>
        </p:nvSpPr>
        <p:spPr>
          <a:xfrm>
            <a:off x="468360" y="60087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506520"/>
            <a:ext cx="6522840" cy="9014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з нул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Бюджетування через прироще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176040"/>
            <a:ext cx="6522840" cy="90360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с двумя вырезанными противолежащими углами 20"/>
          <p:cNvSpPr/>
          <p:nvPr/>
        </p:nvSpPr>
        <p:spPr>
          <a:xfrm>
            <a:off x="1357200" y="1279440"/>
            <a:ext cx="566280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 ступенем ієрарх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Штриховая стрелка вправо 21"/>
          <p:cNvSpPr/>
          <p:nvPr/>
        </p:nvSpPr>
        <p:spPr>
          <a:xfrm>
            <a:off x="357120" y="13510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оугольник с двумя вырезанными противолежащими углами 20"/>
          <p:cNvSpPr/>
          <p:nvPr/>
        </p:nvSpPr>
        <p:spPr>
          <a:xfrm>
            <a:off x="2268360" y="2306520"/>
            <a:ext cx="6480360" cy="1656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енеральний (зведений) бюдже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Фінансові бюдж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Операційні бюджети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оугольник с двумя вырезанными противолежащими углами 5"/>
          <p:cNvSpPr/>
          <p:nvPr/>
        </p:nvSpPr>
        <p:spPr>
          <a:xfrm>
            <a:off x="1509840" y="4005360"/>
            <a:ext cx="5726160" cy="7858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лежно від цілей порівнянн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Штриховая стрелка вправо 6"/>
          <p:cNvSpPr/>
          <p:nvPr/>
        </p:nvSpPr>
        <p:spPr>
          <a:xfrm>
            <a:off x="509760" y="407664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оугольник с двумя вырезанными противолежащими углами 20"/>
          <p:cNvSpPr/>
          <p:nvPr/>
        </p:nvSpPr>
        <p:spPr>
          <a:xfrm>
            <a:off x="2421000" y="4862520"/>
            <a:ext cx="6480000" cy="16574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татичн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нучкий бюджет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0" y="17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ОРМУВАННЯ БЮДЖЕТІВ ПІДПРИЄМ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7"/>
          <p:cNvGrpSpPr/>
          <p:nvPr/>
        </p:nvGrpSpPr>
        <p:grpSpPr>
          <a:xfrm>
            <a:off x="131760" y="825480"/>
            <a:ext cx="8910720" cy="5791320"/>
            <a:chOff x="131760" y="825480"/>
            <a:chExt cx="8910720" cy="5791320"/>
          </a:xfrm>
        </p:grpSpPr>
        <p:sp>
          <p:nvSpPr>
            <p:cNvPr id="414" name="Rectangle 4"/>
            <p:cNvSpPr/>
            <p:nvPr/>
          </p:nvSpPr>
          <p:spPr>
            <a:xfrm>
              <a:off x="3916440" y="5943600"/>
              <a:ext cx="249084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ний балан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5"/>
            <p:cNvSpPr/>
            <p:nvPr/>
          </p:nvSpPr>
          <p:spPr>
            <a:xfrm>
              <a:off x="1792440" y="5005440"/>
              <a:ext cx="2020680" cy="67320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доході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та вит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6"/>
            <p:cNvSpPr/>
            <p:nvPr/>
          </p:nvSpPr>
          <p:spPr>
            <a:xfrm>
              <a:off x="6477120" y="4869000"/>
              <a:ext cx="2344680" cy="936360"/>
            </a:xfrm>
            <a:prstGeom prst="rect">
              <a:avLst/>
            </a:prstGeom>
            <a:gradFill rotWithShape="0">
              <a:gsLst>
                <a:gs pos="0">
                  <a:srgbClr val="d20028"/>
                </a:gs>
                <a:gs pos="50000">
                  <a:srgbClr val="ffe9f4"/>
                </a:gs>
                <a:gs pos="100000">
                  <a:srgbClr val="d20028"/>
                </a:gs>
              </a:gsLst>
              <a:lin ang="5400000"/>
            </a:gradFill>
            <a:ln w="381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Бюджет руху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грошови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8002c"/>
                  </a:solidFill>
                  <a:latin typeface="Arial"/>
                  <a:ea typeface="Arial"/>
                </a:rPr>
                <a:t>кошті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7"/>
            <p:cNvSpPr/>
            <p:nvPr/>
          </p:nvSpPr>
          <p:spPr>
            <a:xfrm>
              <a:off x="4286160" y="4869000"/>
              <a:ext cx="1744920" cy="80964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апітальни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 </a:t>
              </a: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вестиці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8"/>
            <p:cNvSpPr/>
            <p:nvPr/>
          </p:nvSpPr>
          <p:spPr>
            <a:xfrm>
              <a:off x="4465800" y="3863880"/>
              <a:ext cx="22636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грошов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9"/>
            <p:cNvSpPr/>
            <p:nvPr/>
          </p:nvSpPr>
          <p:spPr>
            <a:xfrm>
              <a:off x="2052720" y="825480"/>
              <a:ext cx="2154240" cy="4096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реалізації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"/>
            <p:cNvSpPr/>
            <p:nvPr/>
          </p:nvSpPr>
          <p:spPr>
            <a:xfrm>
              <a:off x="6862680" y="3863880"/>
              <a:ext cx="217980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надходженн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грошових кошт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1"/>
            <p:cNvSpPr/>
            <p:nvPr/>
          </p:nvSpPr>
          <p:spPr>
            <a:xfrm>
              <a:off x="262080" y="1484280"/>
              <a:ext cx="196200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управлінськ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2"/>
            <p:cNvSpPr/>
            <p:nvPr/>
          </p:nvSpPr>
          <p:spPr>
            <a:xfrm>
              <a:off x="2292480" y="1677960"/>
              <a:ext cx="189072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робнитцв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3"/>
            <p:cNvSpPr/>
            <p:nvPr/>
          </p:nvSpPr>
          <p:spPr>
            <a:xfrm>
              <a:off x="4251240" y="1484280"/>
              <a:ext cx="1962360" cy="69840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комекрційних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4"/>
            <p:cNvSpPr/>
            <p:nvPr/>
          </p:nvSpPr>
          <p:spPr>
            <a:xfrm>
              <a:off x="6283440" y="1677960"/>
              <a:ext cx="1877760" cy="50472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Ц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5"/>
            <p:cNvSpPr/>
            <p:nvPr/>
          </p:nvSpPr>
          <p:spPr>
            <a:xfrm>
              <a:off x="487440" y="2747880"/>
              <a:ext cx="188892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запасі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6"/>
            <p:cNvSpPr/>
            <p:nvPr/>
          </p:nvSpPr>
          <p:spPr>
            <a:xfrm>
              <a:off x="257796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оплати праці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4670280" y="2747880"/>
              <a:ext cx="1889280" cy="505080"/>
            </a:xfrm>
            <a:prstGeom prst="rect">
              <a:avLst/>
            </a:prstGeom>
            <a:solidFill>
              <a:srgbClr val="c3ffef"/>
            </a:solidFill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Бюджет</a:t>
              </a:r>
              <a:br>
                <a:rPr sz="1500"/>
              </a:br>
              <a:r>
                <a:rPr b="1" lang="ru-RU" sz="1500" spc="-1" strike="noStrike">
                  <a:solidFill>
                    <a:srgbClr val="003635"/>
                  </a:solidFill>
                  <a:latin typeface="Arial"/>
                  <a:ea typeface="Arial"/>
                </a:rPr>
                <a:t>інших витра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4208400" y="1027080"/>
              <a:ext cx="4407120" cy="2822760"/>
            </a:xfrm>
            <a:custGeom>
              <a:avLst/>
              <a:gdLst>
                <a:gd name="textAreaLeft" fmla="*/ 0 w 4407120"/>
                <a:gd name="textAreaRight" fmla="*/ 4407120 w 4407120"/>
                <a:gd name="textAreaTop" fmla="*/ 0 h 2822760"/>
                <a:gd name="textAreaBottom" fmla="*/ 2823120 h 2822760"/>
              </a:gdLst>
              <a:ahLst/>
              <a:rect l="textAreaLeft" t="textAreaTop" r="textAreaRight" b="textAreaBottom"/>
              <a:pathLst>
                <a:path w="2782" h="1781">
                  <a:moveTo>
                    <a:pt x="0" y="0"/>
                  </a:moveTo>
                  <a:lnTo>
                    <a:pt x="2782" y="0"/>
                  </a:lnTo>
                  <a:lnTo>
                    <a:pt x="2782" y="1781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9"/>
            <p:cNvSpPr/>
            <p:nvPr/>
          </p:nvSpPr>
          <p:spPr>
            <a:xfrm>
              <a:off x="131760" y="1046160"/>
              <a:ext cx="1913040" cy="4282920"/>
            </a:xfrm>
            <a:custGeom>
              <a:avLst/>
              <a:gdLst>
                <a:gd name="textAreaLeft" fmla="*/ 0 w 1913040"/>
                <a:gd name="textAreaRight" fmla="*/ 1913400 w 1913040"/>
                <a:gd name="textAreaTop" fmla="*/ 0 h 4282920"/>
                <a:gd name="textAreaBottom" fmla="*/ 4283280 h 4282920"/>
              </a:gdLst>
              <a:ahLst/>
              <a:rect l="textAreaLeft" t="textAreaTop" r="textAreaRight" b="textAreaBottom"/>
              <a:pathLst>
                <a:path w="1205" h="2698">
                  <a:moveTo>
                    <a:pt x="1205" y="0"/>
                  </a:moveTo>
                  <a:lnTo>
                    <a:pt x="0" y="0"/>
                  </a:lnTo>
                  <a:lnTo>
                    <a:pt x="0" y="2698"/>
                  </a:lnTo>
                  <a:lnTo>
                    <a:pt x="1029" y="2697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20"/>
            <p:cNvSpPr/>
            <p:nvPr/>
          </p:nvSpPr>
          <p:spPr>
            <a:xfrm>
              <a:off x="2762280" y="5688000"/>
              <a:ext cx="1163520" cy="59364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21"/>
            <p:cNvSpPr/>
            <p:nvPr/>
          </p:nvSpPr>
          <p:spPr>
            <a:xfrm flipH="1">
              <a:off x="6429240" y="5692680"/>
              <a:ext cx="1236960" cy="594000"/>
            </a:xfrm>
            <a:custGeom>
              <a:avLst/>
              <a:gdLst>
                <a:gd name="textAreaLeft" fmla="*/ 360 w 1236960"/>
                <a:gd name="textAreaRight" fmla="*/ 1237680 w 1236960"/>
                <a:gd name="textAreaTop" fmla="*/ 0 h 594000"/>
                <a:gd name="textAreaBottom" fmla="*/ 594000 h 594000"/>
              </a:gdLst>
              <a:ahLst/>
              <a:rect l="textAreaLeft" t="textAreaTop" r="textAreaRight" b="textAreaBottom"/>
              <a:pathLst>
                <a:path w="1074" h="374">
                  <a:moveTo>
                    <a:pt x="0" y="0"/>
                  </a:moveTo>
                  <a:lnTo>
                    <a:pt x="0" y="372"/>
                  </a:lnTo>
                  <a:lnTo>
                    <a:pt x="1074" y="374"/>
                  </a:lnTo>
                </a:path>
              </a:pathLst>
            </a:custGeom>
            <a:noFill/>
            <a:ln w="28440">
              <a:solidFill>
                <a:srgbClr val="8a004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2"/>
            <p:cNvSpPr/>
            <p:nvPr/>
          </p:nvSpPr>
          <p:spPr>
            <a:xfrm flipH="1">
              <a:off x="3817440" y="5324400"/>
              <a:ext cx="468360" cy="46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 flipH="1">
              <a:off x="6041520" y="5329080"/>
              <a:ext cx="42084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4"/>
            <p:cNvSpPr/>
            <p:nvPr/>
          </p:nvSpPr>
          <p:spPr>
            <a:xfrm>
              <a:off x="1224000" y="2178000"/>
              <a:ext cx="5994360" cy="216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5"/>
            <p:cNvSpPr/>
            <p:nvPr/>
          </p:nvSpPr>
          <p:spPr>
            <a:xfrm>
              <a:off x="3236760" y="218124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232240" y="219060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3129120" y="1238400"/>
              <a:ext cx="0" cy="4284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>
              <a:off x="143208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>
              <a:off x="3522600" y="2390760"/>
              <a:ext cx="0" cy="33984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5614920" y="2397240"/>
              <a:ext cx="0" cy="33948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1"/>
            <p:cNvSpPr/>
            <p:nvPr/>
          </p:nvSpPr>
          <p:spPr>
            <a:xfrm>
              <a:off x="1401840" y="3263760"/>
              <a:ext cx="4241880" cy="196920"/>
            </a:xfrm>
            <a:custGeom>
              <a:avLst/>
              <a:gdLst>
                <a:gd name="textAreaLeft" fmla="*/ 0 w 4241880"/>
                <a:gd name="textAreaRight" fmla="*/ 4242240 w 4241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3522600" y="3247920"/>
              <a:ext cx="0" cy="21276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3"/>
            <p:cNvSpPr/>
            <p:nvPr/>
          </p:nvSpPr>
          <p:spPr>
            <a:xfrm>
              <a:off x="3522600" y="3468600"/>
              <a:ext cx="0" cy="1519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34"/>
            <p:cNvSpPr/>
            <p:nvPr/>
          </p:nvSpPr>
          <p:spPr>
            <a:xfrm flipH="1">
              <a:off x="3532320" y="4110120"/>
              <a:ext cx="914400" cy="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5"/>
            <p:cNvSpPr/>
            <p:nvPr/>
          </p:nvSpPr>
          <p:spPr>
            <a:xfrm>
              <a:off x="5584680" y="4378320"/>
              <a:ext cx="2376720" cy="196920"/>
            </a:xfrm>
            <a:custGeom>
              <a:avLst/>
              <a:gdLst>
                <a:gd name="textAreaLeft" fmla="*/ 0 w 2376720"/>
                <a:gd name="textAreaRight" fmla="*/ 2377080 w 23767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827" h="136">
                  <a:moveTo>
                    <a:pt x="0" y="0"/>
                  </a:moveTo>
                  <a:lnTo>
                    <a:pt x="0" y="136"/>
                  </a:lnTo>
                  <a:lnTo>
                    <a:pt x="3827" y="136"/>
                  </a:lnTo>
                  <a:lnTo>
                    <a:pt x="3827" y="0"/>
                  </a:lnTo>
                </a:path>
              </a:pathLst>
            </a:custGeom>
            <a:noFill/>
            <a:ln w="28440">
              <a:solidFill>
                <a:srgbClr val="0036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"/>
            <p:cNvSpPr/>
            <p:nvPr/>
          </p:nvSpPr>
          <p:spPr>
            <a:xfrm>
              <a:off x="7659720" y="4578480"/>
              <a:ext cx="3240" cy="403200"/>
            </a:xfrm>
            <a:prstGeom prst="line">
              <a:avLst/>
            </a:prstGeom>
            <a:ln w="28440">
              <a:solidFill>
                <a:srgbClr val="00363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298080" y="61920"/>
            <a:ext cx="89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ЧЕТНО-АНАЛИТИЧЕСКОЕ ОБЕСПЕЧЕНИЕ БЮДЖЕТН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27080" y="449280"/>
          <a:ext cx="8983440" cy="63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449280"/>
                    <a:ext cx="898344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вырезанными противолежащими углами 4"/>
          <p:cNvSpPr/>
          <p:nvPr/>
        </p:nvSpPr>
        <p:spPr>
          <a:xfrm>
            <a:off x="285840" y="1214280"/>
            <a:ext cx="8643960" cy="4714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утність бюджетування та його організаці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Порядок складання та взаємоузгодже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Контроль виконання бюджет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Складання бюджету прод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с двумя вырезанными противолежащими углами 9"/>
          <p:cNvSpPr/>
          <p:nvPr/>
        </p:nvSpPr>
        <p:spPr>
          <a:xfrm>
            <a:off x="2357280" y="3786120"/>
            <a:ext cx="6121440" cy="102888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виробниц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Штриховая стрелка вправо 10"/>
          <p:cNvSpPr/>
          <p:nvPr/>
        </p:nvSpPr>
        <p:spPr>
          <a:xfrm>
            <a:off x="145584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Century Gothic"/>
              </a:rPr>
              <a:t>Необхідний обсяг виробництва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планований обсяг продажу за період в одиниця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виробництва формується на підставі даних бюджету продажу з урахуванням зміни залишків готової продукції за формуло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ки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31436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матеріаль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Штриховая стрелка вправо 21"/>
          <p:cNvSpPr/>
          <p:nvPr/>
        </p:nvSpPr>
        <p:spPr>
          <a:xfrm>
            <a:off x="477720" y="286236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Необхідний кількість придбання виробничих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, необхідна для виготовлення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кількості матеріалів, що необхідно придбати за період, користуються формулою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Кількість виробничих запасів у залишку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прямих витрат на оплату праці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Штриховая стрелка вправо 21"/>
          <p:cNvSpPr/>
          <p:nvPr/>
        </p:nvSpPr>
        <p:spPr>
          <a:xfrm>
            <a:off x="357120" y="2505240"/>
            <a:ext cx="785880" cy="49500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оугольник с двумя вырезанными противолежащими углами 6"/>
          <p:cNvSpPr/>
          <p:nvPr/>
        </p:nvSpPr>
        <p:spPr>
          <a:xfrm>
            <a:off x="2500200" y="3857760"/>
            <a:ext cx="6121440" cy="13856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наклад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Штриховая стрелка вправо 7"/>
          <p:cNvSpPr/>
          <p:nvPr/>
        </p:nvSpPr>
        <p:spPr>
          <a:xfrm>
            <a:off x="1598760" y="4248000"/>
            <a:ext cx="78552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80" name="Прямоугольник с двумя вырезанными противолежащими углами 20"/>
          <p:cNvSpPr/>
          <p:nvPr/>
        </p:nvSpPr>
        <p:spPr>
          <a:xfrm>
            <a:off x="1379520" y="2614680"/>
            <a:ext cx="6121440" cy="188604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собівартості готової та реалізованої продукції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Штриховая стрелка вправо 21"/>
          <p:cNvSpPr/>
          <p:nvPr/>
        </p:nvSpPr>
        <p:spPr>
          <a:xfrm>
            <a:off x="477720" y="3219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готов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итрати на виробництво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незавершеного виробництва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обівартість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Бюджет собівартості реалізованої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Собівартість виготовленої за період продукції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готової продукції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с двумя вырезанными противолежащими углами 20"/>
          <p:cNvSpPr/>
          <p:nvPr/>
        </p:nvSpPr>
        <p:spPr>
          <a:xfrm>
            <a:off x="1258920" y="211464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и операційних витра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Штриховая стрелка вправо 21"/>
          <p:cNvSpPr/>
          <p:nvPr/>
        </p:nvSpPr>
        <p:spPr>
          <a:xfrm>
            <a:off x="357120" y="2286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с двумя вырезанными противолежащими углами 9"/>
          <p:cNvSpPr/>
          <p:nvPr/>
        </p:nvSpPr>
        <p:spPr>
          <a:xfrm>
            <a:off x="2116080" y="3571920"/>
            <a:ext cx="6121440" cy="135720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ний звіт про фінансові результа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Штриховая стрелка вправо 10"/>
          <p:cNvSpPr/>
          <p:nvPr/>
        </p:nvSpPr>
        <p:spPr>
          <a:xfrm>
            <a:off x="1214280" y="39574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288440" y="61920"/>
            <a:ext cx="72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ДОХОДОВ И РАСХОДОВ НКМ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177840" y="652320"/>
          <a:ext cx="8878680" cy="56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652320"/>
                    <a:ext cx="887868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60480" y="1311120"/>
            <a:ext cx="441936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05" name="Rectangle 3"/>
          <p:cNvGrpSpPr/>
          <p:nvPr/>
        </p:nvGrpSpPr>
        <p:grpSpPr>
          <a:xfrm>
            <a:off x="1689120" y="2597040"/>
            <a:ext cx="7515360" cy="1859040"/>
            <a:chOff x="1689120" y="2597040"/>
            <a:chExt cx="7515360" cy="1859040"/>
          </a:xfrm>
        </p:grpSpPr>
        <p:pic>
          <p:nvPicPr>
            <p:cNvPr id="306" name="Rectangle 3" descr=""/>
            <p:cNvPicPr/>
            <p:nvPr/>
          </p:nvPicPr>
          <p:blipFill>
            <a:blip r:embed="rId2"/>
            <a:stretch/>
          </p:blipFill>
          <p:spPr>
            <a:xfrm>
              <a:off x="1689120" y="2597040"/>
              <a:ext cx="75153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928880" y="2749680"/>
              <a:ext cx="7072200" cy="13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Одна з функцій управління, процес визначення дій, які повинні бути виконані в майбутньому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8" name="Object 6"/>
          <p:cNvGraphicFramePr/>
          <p:nvPr/>
        </p:nvGraphicFramePr>
        <p:xfrm>
          <a:off x="376200" y="458640"/>
          <a:ext cx="854388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58640"/>
                    <a:ext cx="854388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3"/>
          <p:cNvSpPr/>
          <p:nvPr/>
        </p:nvSpPr>
        <p:spPr>
          <a:xfrm>
            <a:off x="7599960" y="4932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Arial"/>
              </a:rPr>
              <a:t>Продолжение таблицы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130120" y="6192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Arial"/>
              </a:rPr>
              <a:t>Типичная форма бюджета доходов и рас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2" name="Object 6"/>
          <p:cNvGraphicFramePr/>
          <p:nvPr/>
        </p:nvGraphicFramePr>
        <p:xfrm>
          <a:off x="411120" y="528480"/>
          <a:ext cx="82915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528480"/>
                    <a:ext cx="82915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8"/>
          <p:cNvSpPr/>
          <p:nvPr/>
        </p:nvSpPr>
        <p:spPr>
          <a:xfrm>
            <a:off x="0" y="4241880"/>
            <a:ext cx="9144000" cy="25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506520"/>
            <a:ext cx="6602400" cy="90144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с двумя вырезанными противолежащими углами 20"/>
          <p:cNvSpPr/>
          <p:nvPr/>
        </p:nvSpPr>
        <p:spPr>
          <a:xfrm>
            <a:off x="1258920" y="27194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бюджету грошових кошті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Штриховая стрелка вправо 21"/>
          <p:cNvSpPr/>
          <p:nvPr/>
        </p:nvSpPr>
        <p:spPr>
          <a:xfrm>
            <a:off x="357120" y="315288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Object 1"/>
          <p:cNvGraphicFramePr/>
          <p:nvPr/>
        </p:nvGraphicFramePr>
        <p:xfrm>
          <a:off x="0" y="4595760"/>
          <a:ext cx="9144000" cy="19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95760"/>
                    <a:ext cx="9144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Прямоугольник с двумя вырезанными противолежащими углами 7"/>
          <p:cNvSpPr/>
          <p:nvPr/>
        </p:nvSpPr>
        <p:spPr>
          <a:xfrm>
            <a:off x="1258920" y="1557360"/>
            <a:ext cx="6121440" cy="10285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Бюджет капітальних інвести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Штриховая стрелка вправо 9"/>
          <p:cNvSpPr/>
          <p:nvPr/>
        </p:nvSpPr>
        <p:spPr>
          <a:xfrm>
            <a:off x="357120" y="1728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2"/>
          <p:cNvSpPr/>
          <p:nvPr/>
        </p:nvSpPr>
        <p:spPr>
          <a:xfrm>
            <a:off x="428760" y="1643040"/>
            <a:ext cx="8358120" cy="71424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Century Gothic"/>
              </a:rPr>
              <a:t>Сума платежів постачальника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28760" y="300024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початок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4"/>
          <p:cNvSpPr/>
          <p:nvPr/>
        </p:nvSpPr>
        <p:spPr>
          <a:xfrm>
            <a:off x="4143240" y="237636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=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5"/>
          <p:cNvSpPr/>
          <p:nvPr/>
        </p:nvSpPr>
        <p:spPr>
          <a:xfrm>
            <a:off x="357120" y="285840"/>
            <a:ext cx="8358120" cy="114300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Для визначення величини платежів за бюджетний період можна скористатися залежніст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6"/>
          <p:cNvSpPr/>
          <p:nvPr/>
        </p:nvSpPr>
        <p:spPr>
          <a:xfrm>
            <a:off x="500040" y="442908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Вартість придбаних за період запас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4214880" y="3805200"/>
            <a:ext cx="785880" cy="5716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оугольник 8"/>
          <p:cNvSpPr/>
          <p:nvPr/>
        </p:nvSpPr>
        <p:spPr>
          <a:xfrm>
            <a:off x="571680" y="5857920"/>
            <a:ext cx="8358120" cy="78588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Залишок кредиторської заборгованості на кінець періоду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оугольник 9"/>
          <p:cNvSpPr/>
          <p:nvPr/>
        </p:nvSpPr>
        <p:spPr>
          <a:xfrm>
            <a:off x="4286160" y="5234040"/>
            <a:ext cx="785880" cy="571320"/>
          </a:xfrm>
          <a:prstGeom prst="rect">
            <a:avLst/>
          </a:prstGeom>
          <a:solidFill>
            <a:srgbClr val="17375e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Century Gothic"/>
              </a:rPr>
              <a:t>-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"/>
          <p:cNvSpPr/>
          <p:nvPr/>
        </p:nvSpPr>
        <p:spPr>
          <a:xfrm>
            <a:off x="1106280" y="85680"/>
            <a:ext cx="72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ТИПИЧНАЯ ФОРМА БЮДЖЕТА ПЕРЕДВИЖЕНИЯ ДЕНЕЖНЫХ СРЕД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Object 4"/>
          <p:cNvGraphicFramePr/>
          <p:nvPr/>
        </p:nvGraphicFramePr>
        <p:xfrm>
          <a:off x="227160" y="547560"/>
          <a:ext cx="8723160" cy="59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47560"/>
                    <a:ext cx="872316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701640"/>
            <a:ext cx="6602400" cy="90180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с двумя вырезанными противолежащими углами 20"/>
          <p:cNvSpPr/>
          <p:nvPr/>
        </p:nvSpPr>
        <p:spPr>
          <a:xfrm>
            <a:off x="1450800" y="2571840"/>
            <a:ext cx="6121440" cy="1285920"/>
          </a:xfrm>
          <a:prstGeom prst="pie">
            <a:avLst/>
          </a:prstGeom>
          <a:solidFill>
            <a:srgbClr val="18414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Крок 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Розробка прогнозного балансу підприєм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Штриховая стрелка вправо 21"/>
          <p:cNvSpPr/>
          <p:nvPr/>
        </p:nvSpPr>
        <p:spPr>
          <a:xfrm>
            <a:off x="549360" y="3005280"/>
            <a:ext cx="785880" cy="49500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AutoShape 2" descr=""/>
          <p:cNvPicPr/>
          <p:nvPr/>
        </p:nvPicPr>
        <p:blipFill>
          <a:blip r:embed="rId1"/>
          <a:stretch/>
        </p:blipFill>
        <p:spPr>
          <a:xfrm>
            <a:off x="-6480" y="1547640"/>
            <a:ext cx="4413240" cy="1341720"/>
          </a:xfrm>
          <a:prstGeom prst="rect">
            <a:avLst/>
          </a:prstGeom>
          <a:ln w="0">
            <a:noFill/>
          </a:ln>
        </p:spPr>
      </p:pic>
      <p:grpSp>
        <p:nvGrpSpPr>
          <p:cNvPr id="539" name="Rectangle 3"/>
          <p:cNvGrpSpPr/>
          <p:nvPr/>
        </p:nvGrpSpPr>
        <p:grpSpPr>
          <a:xfrm>
            <a:off x="1616040" y="2706840"/>
            <a:ext cx="7362720" cy="1109520"/>
            <a:chOff x="1616040" y="2706840"/>
            <a:chExt cx="7362720" cy="1109520"/>
          </a:xfrm>
        </p:grpSpPr>
        <p:pic>
          <p:nvPicPr>
            <p:cNvPr id="540" name="Rectangle 3" descr=""/>
            <p:cNvPicPr/>
            <p:nvPr/>
          </p:nvPicPr>
          <p:blipFill>
            <a:blip r:embed="rId2"/>
            <a:stretch/>
          </p:blipFill>
          <p:spPr>
            <a:xfrm>
              <a:off x="1616040" y="2706840"/>
              <a:ext cx="7362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857240" y="2857680"/>
              <a:ext cx="70725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Бюджети структурних підрозділ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2" name="Прямоугольник 5" descr=""/>
          <p:cNvPicPr/>
          <p:nvPr/>
        </p:nvPicPr>
        <p:blipFill>
          <a:blip r:embed="rId3"/>
          <a:stretch/>
        </p:blipFill>
        <p:spPr>
          <a:xfrm>
            <a:off x="628560" y="201600"/>
            <a:ext cx="6527880" cy="1273320"/>
          </a:xfrm>
          <a:prstGeom prst="rect">
            <a:avLst/>
          </a:prstGeom>
          <a:ln w="0">
            <a:noFill/>
          </a:ln>
        </p:spPr>
      </p:pic>
      <p:pic>
        <p:nvPicPr>
          <p:cNvPr id="543" name="AutoShape 2" descr=""/>
          <p:cNvPicPr/>
          <p:nvPr/>
        </p:nvPicPr>
        <p:blipFill>
          <a:blip r:embed="rId4"/>
          <a:stretch/>
        </p:blipFill>
        <p:spPr>
          <a:xfrm>
            <a:off x="-79200" y="3902040"/>
            <a:ext cx="4413240" cy="1339920"/>
          </a:xfrm>
          <a:prstGeom prst="rect">
            <a:avLst/>
          </a:prstGeom>
          <a:ln w="0">
            <a:noFill/>
          </a:ln>
        </p:spPr>
      </p:pic>
      <p:grpSp>
        <p:nvGrpSpPr>
          <p:cNvPr id="544" name="Rectangle 3"/>
          <p:cNvGrpSpPr/>
          <p:nvPr/>
        </p:nvGrpSpPr>
        <p:grpSpPr>
          <a:xfrm>
            <a:off x="1542960" y="5065560"/>
            <a:ext cx="7521840" cy="1852920"/>
            <a:chOff x="1542960" y="5065560"/>
            <a:chExt cx="7521840" cy="1852920"/>
          </a:xfrm>
        </p:grpSpPr>
        <p:pic>
          <p:nvPicPr>
            <p:cNvPr id="545" name="Rectangle 3" descr=""/>
            <p:cNvPicPr/>
            <p:nvPr/>
          </p:nvPicPr>
          <p:blipFill>
            <a:blip r:embed="rId5"/>
            <a:stretch/>
          </p:blipFill>
          <p:spPr>
            <a:xfrm>
              <a:off x="1542960" y="5065560"/>
              <a:ext cx="752184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785960" y="5214960"/>
              <a:ext cx="70722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000" spc="-1" strike="noStrike">
                  <a:solidFill>
                    <a:srgbClr val="ffffff"/>
                  </a:solidFill>
                  <a:latin typeface="Times New Roman"/>
                </a:rPr>
                <a:t>Структурні підрозділи підприємства, що здійснюють контроль за виконанням бюджетів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Прямоугольник 1" descr=""/>
          <p:cNvPicPr/>
          <p:nvPr/>
        </p:nvPicPr>
        <p:blipFill>
          <a:blip r:embed="rId1"/>
          <a:stretch/>
        </p:blipFill>
        <p:spPr>
          <a:xfrm>
            <a:off x="1347840" y="628560"/>
            <a:ext cx="6735600" cy="90828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с двумя вырезанными противолежащими углами 20"/>
          <p:cNvSpPr/>
          <p:nvPr/>
        </p:nvSpPr>
        <p:spPr>
          <a:xfrm>
            <a:off x="357120" y="2571840"/>
            <a:ext cx="3929040" cy="378612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Об'єкт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троль за достовірністю даних бюджетування (системи бюджетів структурних підрозділів та загального бюджету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Штриховая стрелка вправо 21"/>
          <p:cNvSpPr/>
          <p:nvPr/>
        </p:nvSpPr>
        <p:spPr>
          <a:xfrm rot="5400000">
            <a:off x="1944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с двумя вырезанными противолежащими углами 5"/>
          <p:cNvSpPr/>
          <p:nvPr/>
        </p:nvSpPr>
        <p:spPr>
          <a:xfrm>
            <a:off x="4929120" y="2571840"/>
            <a:ext cx="3929040" cy="37861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б контролю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Використання системи бюджетів для контролю за господарською діяльністю через виявлення відхилень від заданих параметр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Штриховая стрелка вправо 6"/>
          <p:cNvSpPr/>
          <p:nvPr/>
        </p:nvSpPr>
        <p:spPr>
          <a:xfrm rot="5400000">
            <a:off x="6516000" y="1856520"/>
            <a:ext cx="785520" cy="495360"/>
          </a:xfrm>
          <a:custGeom>
            <a:avLst/>
            <a:gdLst/>
            <a:ahLst/>
            <a:rect l="l" t="t" r="r" b="b"/>
            <a:pathLst>
              <a:path w="785813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3" y="123825"/>
                </a:lnTo>
                <a:lnTo>
                  <a:pt x="538163" y="0"/>
                </a:lnTo>
                <a:lnTo>
                  <a:pt x="785813" y="247650"/>
                </a:lnTo>
                <a:lnTo>
                  <a:pt x="538163" y="495300"/>
                </a:lnTo>
                <a:lnTo>
                  <a:pt x="538163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Rectangle 3"/>
          <p:cNvGrpSpPr/>
          <p:nvPr/>
        </p:nvGrpSpPr>
        <p:grpSpPr>
          <a:xfrm>
            <a:off x="549360" y="1042920"/>
            <a:ext cx="8661240" cy="4778280"/>
            <a:chOff x="549360" y="1042920"/>
            <a:chExt cx="8661240" cy="4778280"/>
          </a:xfrm>
        </p:grpSpPr>
        <p:pic>
          <p:nvPicPr>
            <p:cNvPr id="554" name="Rectangle 3" descr=""/>
            <p:cNvPicPr/>
            <p:nvPr/>
          </p:nvPicPr>
          <p:blipFill>
            <a:blip r:embed="rId1"/>
            <a:stretch/>
          </p:blipFill>
          <p:spPr>
            <a:xfrm>
              <a:off x="549360" y="1042920"/>
              <a:ext cx="866124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642960" y="1285920"/>
              <a:ext cx="800100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Є тільки одне благо - знання й тільки одне зло - неуцтво.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400" spc="-1" strike="noStrike">
                  <a:solidFill>
                    <a:srgbClr val="ffffff"/>
                  </a:solidFill>
                  <a:latin typeface="Century Gothic"/>
                </a:rPr>
                <a:t>Сократ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lang="uk-UA" sz="5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r>
                <a:rPr b="0" lang="uk-UA" sz="5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865080"/>
            <a:ext cx="6523200" cy="908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с двумя вырезанными противолежащими углами 20"/>
          <p:cNvSpPr/>
          <p:nvPr/>
        </p:nvSpPr>
        <p:spPr>
          <a:xfrm>
            <a:off x="539640" y="2708280"/>
            <a:ext cx="367524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Короткострокове (строком до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Штриховая стрелка вправо 21"/>
          <p:cNvSpPr/>
          <p:nvPr/>
        </p:nvSpPr>
        <p:spPr>
          <a:xfrm rot="6339000">
            <a:off x="212292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с двумя вырезанными противолежащими углами 20"/>
          <p:cNvSpPr/>
          <p:nvPr/>
        </p:nvSpPr>
        <p:spPr>
          <a:xfrm>
            <a:off x="4643280" y="2708280"/>
            <a:ext cx="3791160" cy="158436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Перспективне (строком більше року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Штриховая стрелка вправо 21"/>
          <p:cNvSpPr/>
          <p:nvPr/>
        </p:nvSpPr>
        <p:spPr>
          <a:xfrm rot="3411600">
            <a:off x="5290560" y="1989720"/>
            <a:ext cx="785880" cy="495360"/>
          </a:xfrm>
          <a:custGeom>
            <a:avLst/>
            <a:gdLst>
              <a:gd name="textAreaLeft" fmla="*/ 77400 w 785880"/>
              <a:gd name="textAreaRight" fmla="*/ 662040 w 7858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1e1c11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4" name="Rectangle 3"/>
          <p:cNvGrpSpPr/>
          <p:nvPr/>
        </p:nvGrpSpPr>
        <p:grpSpPr>
          <a:xfrm>
            <a:off x="1542960" y="1487520"/>
            <a:ext cx="7667640" cy="3035160"/>
            <a:chOff x="1542960" y="1487520"/>
            <a:chExt cx="7667640" cy="3035160"/>
          </a:xfrm>
        </p:grpSpPr>
        <p:pic>
          <p:nvPicPr>
            <p:cNvPr id="315" name="Rectangle 3" descr=""/>
            <p:cNvPicPr/>
            <p:nvPr/>
          </p:nvPicPr>
          <p:blipFill>
            <a:blip r:embed="rId2"/>
            <a:stretch/>
          </p:blipFill>
          <p:spPr>
            <a:xfrm>
              <a:off x="1542960" y="1487520"/>
              <a:ext cx="7667640" cy="30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857240" y="1671480"/>
              <a:ext cx="7072560" cy="25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Times New Roman"/>
                </a:rPr>
                <a:t>Процес планування майбутніх операцій підприємства та оформлення його результатів у вигляді системи бюджеті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utoShape 2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4413240" cy="1841400"/>
          </a:xfrm>
          <a:prstGeom prst="rect">
            <a:avLst/>
          </a:prstGeom>
          <a:ln w="0">
            <a:noFill/>
          </a:ln>
        </p:spPr>
      </p:pic>
      <p:grpSp>
        <p:nvGrpSpPr>
          <p:cNvPr id="318" name="Rectangle 3"/>
          <p:cNvGrpSpPr/>
          <p:nvPr/>
        </p:nvGrpSpPr>
        <p:grpSpPr>
          <a:xfrm>
            <a:off x="1579680" y="1700280"/>
            <a:ext cx="7594560" cy="4279680"/>
            <a:chOff x="1579680" y="1700280"/>
            <a:chExt cx="7594560" cy="4279680"/>
          </a:xfrm>
        </p:grpSpPr>
        <p:pic>
          <p:nvPicPr>
            <p:cNvPr id="319" name="Rectangle 3" descr=""/>
            <p:cNvPicPr/>
            <p:nvPr/>
          </p:nvPicPr>
          <p:blipFill>
            <a:blip r:embed="rId2"/>
            <a:stretch/>
          </p:blipFill>
          <p:spPr>
            <a:xfrm>
              <a:off x="1579680" y="1700280"/>
              <a:ext cx="759456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857240" y="1868400"/>
              <a:ext cx="7072560" cy="38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500" spc="-1" strike="noStrike">
                  <a:solidFill>
                    <a:srgbClr val="ffffff"/>
                  </a:solidFill>
                  <a:latin typeface="Times New Roman"/>
                </a:rPr>
                <a:t>Кількісний план у грошовому вимірі, заздалегідь підготовлений та прийнятий до певного періоду часу, який зазвичай відображає заплановані на цей період величини доходів і витрат, необхідні для досягнення запланованої мети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1" descr=""/>
          <p:cNvPicPr/>
          <p:nvPr/>
        </p:nvPicPr>
        <p:blipFill>
          <a:blip r:embed="rId1"/>
          <a:stretch/>
        </p:blipFill>
        <p:spPr>
          <a:xfrm>
            <a:off x="560520" y="0"/>
            <a:ext cx="6522840" cy="907920"/>
          </a:xfrm>
          <a:prstGeom prst="rect">
            <a:avLst/>
          </a:prstGeom>
          <a:ln w="0">
            <a:noFill/>
          </a:ln>
        </p:spPr>
      </p:pic>
      <p:sp>
        <p:nvSpPr>
          <p:cNvPr id="322" name="Прямоугольник с двумя вырезанными противолежащими углами 20"/>
          <p:cNvSpPr/>
          <p:nvPr/>
        </p:nvSpPr>
        <p:spPr>
          <a:xfrm>
            <a:off x="1357200" y="907920"/>
            <a:ext cx="7500960" cy="115272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Мотивація працівників на виконання цілей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Штриховая стрелка вправо 21"/>
          <p:cNvSpPr/>
          <p:nvPr/>
        </p:nvSpPr>
        <p:spPr>
          <a:xfrm>
            <a:off x="357120" y="12049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с двумя вырезанными противолежащими углами 22"/>
          <p:cNvSpPr/>
          <p:nvPr/>
        </p:nvSpPr>
        <p:spPr>
          <a:xfrm>
            <a:off x="1357200" y="2270160"/>
            <a:ext cx="7500960" cy="137484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Ув'язка параметрів  розвитку підприємства з власними та залученими ресурс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Штриховая стрелка вправо 23"/>
          <p:cNvSpPr/>
          <p:nvPr/>
        </p:nvSpPr>
        <p:spPr>
          <a:xfrm>
            <a:off x="357120" y="271764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рямоугольник с двумя вырезанными противолежащими углами 24"/>
          <p:cNvSpPr/>
          <p:nvPr/>
        </p:nvSpPr>
        <p:spPr>
          <a:xfrm>
            <a:off x="1357200" y="3774960"/>
            <a:ext cx="7500960" cy="1309680"/>
          </a:xfrm>
          <a:prstGeom prst="pi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Гарантування виконання фінансових зобов'язань перед внутрішніми та зовнішніми суб'єктам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Штриховая стрелка вправо 25"/>
          <p:cNvSpPr/>
          <p:nvPr/>
        </p:nvSpPr>
        <p:spPr>
          <a:xfrm>
            <a:off x="357120" y="414972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с двумя вырезанными противолежащими углами 26"/>
          <p:cNvSpPr/>
          <p:nvPr/>
        </p:nvSpPr>
        <p:spPr>
          <a:xfrm>
            <a:off x="1357200" y="5300640"/>
            <a:ext cx="7500960" cy="1224000"/>
          </a:xfrm>
          <a:prstGeom prst="pie">
            <a:avLst/>
          </a:prstGeom>
          <a:solidFill>
            <a:srgbClr val="604a7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абезпечення керівництва своєчасної та повною інформацією про фінансовий стан підприємств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Штриховая стрелка вправо 27"/>
          <p:cNvSpPr/>
          <p:nvPr/>
        </p:nvSpPr>
        <p:spPr>
          <a:xfrm>
            <a:off x="357120" y="5661000"/>
            <a:ext cx="785880" cy="495360"/>
          </a:xfrm>
          <a:custGeom>
            <a:avLst/>
            <a:gdLst/>
            <a:ahLst/>
            <a:rect l="l" t="t" r="r" b="b"/>
            <a:pathLst>
              <a:path w="785812" h="495300">
                <a:moveTo>
                  <a:pt x="0" y="123825"/>
                </a:moveTo>
                <a:lnTo>
                  <a:pt x="15478" y="123825"/>
                </a:lnTo>
                <a:lnTo>
                  <a:pt x="15478" y="371475"/>
                </a:lnTo>
                <a:lnTo>
                  <a:pt x="0" y="371475"/>
                </a:lnTo>
                <a:lnTo>
                  <a:pt x="0" y="123825"/>
                </a:lnTo>
                <a:close/>
                <a:moveTo>
                  <a:pt x="30956" y="123825"/>
                </a:moveTo>
                <a:lnTo>
                  <a:pt x="61913" y="123825"/>
                </a:lnTo>
                <a:lnTo>
                  <a:pt x="61913" y="371475"/>
                </a:lnTo>
                <a:lnTo>
                  <a:pt x="30956" y="371475"/>
                </a:lnTo>
                <a:lnTo>
                  <a:pt x="30956" y="123825"/>
                </a:lnTo>
                <a:close/>
                <a:moveTo>
                  <a:pt x="77391" y="123825"/>
                </a:moveTo>
                <a:lnTo>
                  <a:pt x="538162" y="123825"/>
                </a:lnTo>
                <a:lnTo>
                  <a:pt x="538162" y="0"/>
                </a:lnTo>
                <a:lnTo>
                  <a:pt x="785812" y="247650"/>
                </a:lnTo>
                <a:lnTo>
                  <a:pt x="538162" y="495300"/>
                </a:lnTo>
                <a:lnTo>
                  <a:pt x="538162" y="371475"/>
                </a:lnTo>
                <a:lnTo>
                  <a:pt x="77391" y="371475"/>
                </a:lnTo>
                <a:lnTo>
                  <a:pt x="77391" y="12382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4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0520" indent="-325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виробництва</a:t>
            </a:r>
            <a:r>
              <a:rPr b="1" lang="uk-UA" sz="3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тимізація витрат і зниження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обівартості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правління витратами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згодження цілей і завдань усі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робничих підрозділів зі стратегіє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сієї компанії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мотивація керівників структурн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80520" indent="-325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розділі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7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i (7)"/>
          <p:cNvPicPr/>
          <p:nvPr/>
        </p:nvPicPr>
        <p:blipFill>
          <a:blip r:embed="rId3"/>
          <a:stretch/>
        </p:blipFill>
        <p:spPr>
          <a:xfrm>
            <a:off x="6516720" y="3716280"/>
            <a:ext cx="2143080" cy="172872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390600" y="189000"/>
            <a:ext cx="8186760" cy="10792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394920" y="134100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 сфері фінансовог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 u="sng">
                <a:solidFill>
                  <a:srgbClr val="ffffff"/>
                </a:solidFill>
                <a:uFillTx/>
                <a:latin typeface="Verdana"/>
              </a:rPr>
              <a:t>управління: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озстановка пріоритеті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користання фінансових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сурсів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ідвищення ефективності управління ліквідністю, фінансовою стійкістю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ерспективний фінансовий аналіз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прогнозування і управління майбутнім фінансовим станом компанії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 сфері виробництв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4" descr="60992"/>
          <p:cNvPicPr/>
          <p:nvPr/>
        </p:nvPicPr>
        <p:blipFill>
          <a:blip r:embed="rId2"/>
          <a:stretch/>
        </p:blipFill>
        <p:spPr>
          <a:xfrm>
            <a:off x="5724360" y="1197000"/>
            <a:ext cx="3022920" cy="2376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 (8)"/>
          <p:cNvPicPr/>
          <p:nvPr/>
        </p:nvPicPr>
        <p:blipFill>
          <a:blip r:embed="rId3">
            <a:grayscl/>
          </a:blip>
          <a:stretch/>
        </p:blipFill>
        <p:spPr>
          <a:xfrm>
            <a:off x="7164360" y="3645000"/>
            <a:ext cx="1504800" cy="208908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38:36Z</dcterms:created>
  <dc:creator>Таня</dc:creator>
  <dc:description/>
  <dc:language>en-US</dc:language>
  <cp:lastModifiedBy>Богдан</cp:lastModifiedBy>
  <dcterms:modified xsi:type="dcterms:W3CDTF">2021-11-21T08:40:07Z</dcterms:modified>
  <cp:revision>158</cp:revision>
  <dc:subject/>
  <dc:title>Слайд 1</dc:title>
</cp:coreProperties>
</file>