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290E5-C446-48AD-AC89-80468A25A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25210-1717-45C3-86F7-A7C341007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CA511-CA5E-476F-8B9F-94E1DEB1D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58E65-6595-43D7-BF1B-07EC69BD2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B6DD-B1BC-4B50-AD16-93FFA5F7B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3E401-E221-4E12-8BC1-8817087AC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F4121-678C-4B2C-B134-6FAD6844B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361F4-9297-45D5-B12B-DB0E06AF8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2823D-F37D-416A-8EF6-AD005CEC1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946CB-8448-4E70-A731-61E34C69A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C8A6-FB3E-46A5-B8CF-8CD1255AF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25189-3C41-4140-8A71-C887A15F1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DD0C-8C19-411A-9516-1641FC07E55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rPr>
              <a:t>Лекція </a:t>
            </a:r>
            <a:r>
              <a:rPr b="1" i="1" lang="en-US" sz="4000" spc="-1" strike="noStrike" u="sng">
                <a:solidFill>
                  <a:srgbClr val="000000"/>
                </a:solidFill>
                <a:uFillTx/>
                <a:latin typeface="Bookman Old Style"/>
              </a:rPr>
              <a:t>1</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7" name="TextBox 9"/>
          <p:cNvSpPr/>
          <p:nvPr/>
        </p:nvSpPr>
        <p:spPr>
          <a:xfrm>
            <a:off x="395280" y="2282760"/>
            <a:ext cx="8497800" cy="143460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собливості організації обліку</a:t>
            </a:r>
            <a:r>
              <a:rPr b="0" i="1" lang="en-US" sz="4400" spc="-1" strike="noStrike">
                <a:solidFill>
                  <a:srgbClr val="000000"/>
                </a:solidFill>
                <a:latin typeface="Arial"/>
              </a:rPr>
              <a:t> </a:t>
            </a:r>
            <a:r>
              <a:rPr b="0" i="1" lang="uk-UA" sz="4400" spc="-1" strike="noStrike">
                <a:solidFill>
                  <a:srgbClr val="000000"/>
                </a:solidFill>
                <a:latin typeface="Arial"/>
              </a:rPr>
              <a:t>активі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Группа 3"/>
          <p:cNvGrpSpPr/>
          <p:nvPr/>
        </p:nvGrpSpPr>
        <p:grpSpPr>
          <a:xfrm>
            <a:off x="0" y="0"/>
            <a:ext cx="9144000" cy="6858000"/>
            <a:chOff x="0" y="0"/>
            <a:chExt cx="9144000" cy="6858000"/>
          </a:xfrm>
        </p:grpSpPr>
        <p:sp>
          <p:nvSpPr>
            <p:cNvPr id="12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9"/>
          <p:cNvSpPr/>
          <p:nvPr/>
        </p:nvSpPr>
        <p:spPr>
          <a:xfrm>
            <a:off x="324000" y="285840"/>
            <a:ext cx="87120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сі первинні документи, наведені в таблиці, складаються і підписуються членами комісії, призначеної розпорядженням (наказом) керівника підприємства. До складу такої комісії повинно входити не менше трьох осіб:</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сі перші особи підприємства: керівник, головний бухгалтер, головний інженер, головний механік, головний технолог, головний енергетик;</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садові особи тих структурних підрозділів, в яких знаходиться (або куди передається) об’єкт основних засобів: керівник (його заступник, начальник зміни, ділянки тощо), механік, технолог, бухгалтер.</a:t>
            </a:r>
            <a:endParaRPr b="0" lang="en-US" sz="28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3"/>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Группа 3"/>
          <p:cNvGrpSpPr/>
          <p:nvPr/>
        </p:nvGrpSpPr>
        <p:grpSpPr>
          <a:xfrm>
            <a:off x="0" y="0"/>
            <a:ext cx="9144000" cy="6858000"/>
            <a:chOff x="0" y="0"/>
            <a:chExt cx="9144000" cy="6858000"/>
          </a:xfrm>
        </p:grpSpPr>
        <p:sp>
          <p:nvSpPr>
            <p:cNvPr id="13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9"/>
          <p:cNvSpPr/>
          <p:nvPr/>
        </p:nvSpPr>
        <p:spPr>
          <a:xfrm>
            <a:off x="250920" y="214200"/>
            <a:ext cx="875016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Якщо підприємство мале та перерахованих посадових осіб у штаті не передбачено, то до комісії включаються посадові особи, які фактично виконують їх функції.</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 придбанні об’єкту основних засобів до комісії включаються також і представники підприємства-постачальника.</a:t>
            </a:r>
            <a:endParaRPr b="0" lang="en-US" sz="3200" spc="-1" strike="noStrike">
              <a:solidFill>
                <a:srgbClr val="000000"/>
              </a:solidFill>
              <a:latin typeface="Arial"/>
            </a:endParaRPr>
          </a:p>
        </p:txBody>
      </p:sp>
      <p:sp>
        <p:nvSpPr>
          <p:cNvPr id="1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Группа 3"/>
          <p:cNvGrpSpPr/>
          <p:nvPr/>
        </p:nvGrpSpPr>
        <p:grpSpPr>
          <a:xfrm>
            <a:off x="0" y="0"/>
            <a:ext cx="9144000" cy="6858000"/>
            <a:chOff x="0" y="0"/>
            <a:chExt cx="9144000" cy="6858000"/>
          </a:xfrm>
        </p:grpSpPr>
        <p:sp>
          <p:nvSpPr>
            <p:cNvPr id="1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9"/>
          <p:cNvSpPr/>
          <p:nvPr/>
        </p:nvSpPr>
        <p:spPr>
          <a:xfrm>
            <a:off x="142920" y="142920"/>
            <a:ext cx="8929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кт приймання-передачі повинен підписуватися усіма особами, які брали участь у його прийманні, а також матеріально відповідальними особами, які здають і приймають основний засіб. Особа, яка не погоджується зі змістом акту, зобов’язана підписати його з обґрунтуванням незгоди та висловити свою думк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 кожен первинний документ складається </a:t>
            </a:r>
            <a:r>
              <a:rPr b="1" lang="uk-UA" sz="3200" spc="-1" strike="noStrike">
                <a:solidFill>
                  <a:srgbClr val="000000"/>
                </a:solidFill>
                <a:latin typeface="Bookman Old Style"/>
              </a:rPr>
              <a:t>графік документооборот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Группа 3"/>
          <p:cNvGrpSpPr/>
          <p:nvPr/>
        </p:nvGrpSpPr>
        <p:grpSpPr>
          <a:xfrm>
            <a:off x="0" y="0"/>
            <a:ext cx="9144000" cy="6858000"/>
            <a:chOff x="0" y="0"/>
            <a:chExt cx="9144000" cy="6858000"/>
          </a:xfrm>
        </p:grpSpPr>
        <p:sp>
          <p:nvSpPr>
            <p:cNvPr id="15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9"/>
          <p:cNvSpPr/>
          <p:nvPr/>
        </p:nvSpPr>
        <p:spPr>
          <a:xfrm>
            <a:off x="285840" y="214200"/>
            <a:ext cx="8786880" cy="1038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 name="Объект 2"/>
          <p:cNvGraphicFramePr/>
          <p:nvPr/>
        </p:nvGraphicFramePr>
        <p:xfrm>
          <a:off x="468360" y="476280"/>
          <a:ext cx="8302680" cy="5473800"/>
        </p:xfrm>
        <a:graphic>
          <a:graphicData uri="http://schemas.openxmlformats.org/presentationml/2006/ole">
            <p:oleObj r:id="rId1" spid="">
              <p:embed/>
              <p:pic>
                <p:nvPicPr>
                  <p:cNvPr id="158" name="Объект 2" descr=""/>
                  <p:cNvPicPr/>
                  <p:nvPr/>
                </p:nvPicPr>
                <p:blipFill>
                  <a:blip r:embed="rId2"/>
                  <a:stretch/>
                </p:blipFill>
                <p:spPr>
                  <a:xfrm>
                    <a:off x="468360" y="476280"/>
                    <a:ext cx="8302680" cy="547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Группа 3"/>
          <p:cNvGrpSpPr/>
          <p:nvPr/>
        </p:nvGrpSpPr>
        <p:grpSpPr>
          <a:xfrm>
            <a:off x="0" y="0"/>
            <a:ext cx="9144000" cy="6858000"/>
            <a:chOff x="0" y="0"/>
            <a:chExt cx="9144000" cy="6858000"/>
          </a:xfrm>
        </p:grpSpPr>
        <p:sp>
          <p:nvSpPr>
            <p:cNvPr id="1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9"/>
          <p:cNvSpPr/>
          <p:nvPr/>
        </p:nvSpPr>
        <p:spPr>
          <a:xfrm>
            <a:off x="179280" y="115920"/>
            <a:ext cx="8964720" cy="6311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Bookman Old Style"/>
              </a:rPr>
              <a:t>Пояснення до схем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Акт приймання-передачі основних засобів після затвердження передається до бухгалтерської служби, де зберігається протягом терміну експлуатації і одного місяця після списання основних засобів за умови, якщо за цей термін проведено документальну ревізі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дин примірник акту ОЗ-1 передається до бухгалтерської служби, де на його підставі здійснюється запис в інвентарній картці та інвентарному списк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Заповнені інвентарні картки реєструються в описі ОЗ-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4) За даними інвентарних карток, а також за даними форм розрахунку амортизації в кінці місяця заповнюються картки обліку основних засоб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5) Інвентарні картки, а також картки обліку руху основних засобів звіряються з даними синтетичного облі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Группа 3"/>
          <p:cNvGrpSpPr/>
          <p:nvPr/>
        </p:nvGrpSpPr>
        <p:grpSpPr>
          <a:xfrm>
            <a:off x="0" y="0"/>
            <a:ext cx="9144000" cy="6858000"/>
            <a:chOff x="0" y="0"/>
            <a:chExt cx="9144000" cy="6858000"/>
          </a:xfrm>
        </p:grpSpPr>
        <p:sp>
          <p:nvSpPr>
            <p:cNvPr id="16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9"/>
          <p:cNvSpPr/>
          <p:nvPr/>
        </p:nvSpPr>
        <p:spPr>
          <a:xfrm>
            <a:off x="324000" y="285840"/>
            <a:ext cx="8712000" cy="4970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a:t>
            </a:r>
            <a:r>
              <a:rPr b="0" i="1" lang="uk-UA" sz="2400" spc="-1" strike="noStrike">
                <a:solidFill>
                  <a:srgbClr val="000000"/>
                </a:solidFill>
                <a:latin typeface="Bookman Old Style"/>
              </a:rPr>
              <a:t>6) У кінці звітного року за даними карток обліку руху основних засобів та за даними синтетичного обліку заповнюються дані звітності щодо основних засобі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7) Після ліквідації основних засобів і складання актів на їх списання перший примірник акту передається до бухгалтерської служби, де на його підставі робиться запис до інвентарного списку основних засобів, також вилучається відповідна інвентарна картка, що відображається в описі інвентарних карток з обліку основних засобів. Другий примірник акту залишається у матеріально відповідальної особи. Вилучена картка зберігається у бухгалтерській службі протягом встановленого періоду.</a:t>
            </a:r>
            <a:endParaRPr b="0" lang="en-US" sz="2400" spc="-1" strike="noStrike">
              <a:solidFill>
                <a:srgbClr val="000000"/>
              </a:solidFill>
              <a:latin typeface="Arial"/>
            </a:endParaRPr>
          </a:p>
        </p:txBody>
      </p:sp>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Группа 3"/>
          <p:cNvGrpSpPr/>
          <p:nvPr/>
        </p:nvGrpSpPr>
        <p:grpSpPr>
          <a:xfrm>
            <a:off x="0" y="0"/>
            <a:ext cx="9144000" cy="6858000"/>
            <a:chOff x="0" y="0"/>
            <a:chExt cx="9144000" cy="6858000"/>
          </a:xfrm>
        </p:grpSpPr>
        <p:sp>
          <p:nvSpPr>
            <p:cNvPr id="17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9"/>
          <p:cNvSpPr/>
          <p:nvPr/>
        </p:nvSpPr>
        <p:spPr>
          <a:xfrm>
            <a:off x="357120" y="285840"/>
            <a:ext cx="8643960" cy="478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8) Акт форми ОЗ-2, підписаний матеріально відповідальною особою, яка приймає основні засоби, та представником відділу чи підприємства, де здійснювався ремонт, передається до бухгалтерської служби. У бухгалтерській службі на підставі акту здійснюється запис до форми ОЗ-6 та вносяться зміни до форми ОЗ-14 (ОЗ-15, ОЗ-16) щодо збільшення балансової вартості основних засобів на суму витрат, пов’язаних із завершенням модернізації, реконструкції тощ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Группа 3"/>
          <p:cNvGrpSpPr/>
          <p:nvPr/>
        </p:nvGrpSpPr>
        <p:grpSpPr>
          <a:xfrm>
            <a:off x="0" y="0"/>
            <a:ext cx="9144000" cy="6858000"/>
            <a:chOff x="0" y="0"/>
            <a:chExt cx="9144000" cy="6858000"/>
          </a:xfrm>
        </p:grpSpPr>
        <p:sp>
          <p:nvSpPr>
            <p:cNvPr id="18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9"/>
          <p:cNvSpPr/>
          <p:nvPr/>
        </p:nvSpPr>
        <p:spPr>
          <a:xfrm>
            <a:off x="250920" y="260280"/>
            <a:ext cx="889308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обливою ознакою </a:t>
            </a:r>
            <a:r>
              <a:rPr b="0" lang="uk-UA" sz="3200" spc="-1" strike="noStrike" u="sng">
                <a:solidFill>
                  <a:srgbClr val="000000"/>
                </a:solidFill>
                <a:uFillTx/>
                <a:latin typeface="Bookman Old Style"/>
              </a:rPr>
              <a:t>нематеріальних активів</a:t>
            </a:r>
            <a:r>
              <a:rPr b="0" lang="uk-UA" sz="3200" spc="-1" strike="noStrike">
                <a:solidFill>
                  <a:srgbClr val="000000"/>
                </a:solidFill>
                <a:latin typeface="Bookman Old Style"/>
              </a:rPr>
              <a:t> є відсутність матеріальної форми, тому важливе значення мають документи, які ідентифікують нематеріальні активи, тобто підтверджують їх існуванн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приклад, право користування землею відображається у бухгалтерському обліку на підставі оформленого відповідно до чинного законодавства документу, який підтверджує право підприємства на земельну ділянк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Группа 3"/>
          <p:cNvGrpSpPr/>
          <p:nvPr/>
        </p:nvGrpSpPr>
        <p:grpSpPr>
          <a:xfrm>
            <a:off x="0" y="0"/>
            <a:ext cx="9144000" cy="6858000"/>
            <a:chOff x="0" y="0"/>
            <a:chExt cx="9144000" cy="6858000"/>
          </a:xfrm>
        </p:grpSpPr>
        <p:sp>
          <p:nvSpPr>
            <p:cNvPr id="19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9"/>
          <p:cNvSpPr/>
          <p:nvPr/>
        </p:nvSpPr>
        <p:spPr>
          <a:xfrm>
            <a:off x="285840" y="228600"/>
            <a:ext cx="8607240" cy="3748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раво на винахід, корисні моделі, промислові зразки підтверджується відповідними патентами та ліцензіями.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ідтвердженням права на товарний знак є свідоцтво.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Інформація про надра корисних копалин подається у вигляді геологічних звітів, карт та інших матеріалів.</a:t>
            </a:r>
            <a:endParaRPr b="0" lang="en-US" sz="3000" spc="-1" strike="noStrike">
              <a:solidFill>
                <a:srgbClr val="000000"/>
              </a:solidFill>
              <a:latin typeface="Arial"/>
            </a:endParaRPr>
          </a:p>
        </p:txBody>
      </p:sp>
      <p:sp>
        <p:nvSpPr>
          <p:cNvPr id="2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Группа 3"/>
          <p:cNvGrpSpPr/>
          <p:nvPr/>
        </p:nvGrpSpPr>
        <p:grpSpPr>
          <a:xfrm>
            <a:off x="0" y="0"/>
            <a:ext cx="9144000" cy="6858000"/>
            <a:chOff x="0" y="0"/>
            <a:chExt cx="9144000" cy="6858000"/>
          </a:xfrm>
        </p:grpSpPr>
        <p:sp>
          <p:nvSpPr>
            <p:cNvPr id="20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
          <p:cNvSpPr/>
          <p:nvPr/>
        </p:nvSpPr>
        <p:spPr>
          <a:xfrm>
            <a:off x="1764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9"/>
          <p:cNvSpPr/>
          <p:nvPr/>
        </p:nvSpPr>
        <p:spPr>
          <a:xfrm>
            <a:off x="179280" y="47772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09" name=""/>
          <p:cNvGraphicFramePr/>
          <p:nvPr/>
        </p:nvGraphicFramePr>
        <p:xfrm>
          <a:off x="250920" y="620640"/>
          <a:ext cx="8640720" cy="6134040"/>
        </p:xfrm>
        <a:graphic>
          <a:graphicData uri="http://schemas.openxmlformats.org/drawingml/2006/table">
            <a:tbl>
              <a:tblPr/>
              <a:tblGrid>
                <a:gridCol w="841320"/>
                <a:gridCol w="2327400"/>
                <a:gridCol w="5371920"/>
                <a:gridCol w="100080"/>
              </a:tblGrid>
              <a:tr h="73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Форма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зва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мітк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9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введення в господарський оборот об’єкта права інтелектуальної власності у складі нематеріальних актив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в одному примірнику на кожний окремий об’єкт приймальною комісією, призначеною наказом (розпорядженням) власника або уповноваженого органу (посадової особи), який здійснює керівництво підприємство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2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Інвентарна картка обліку об’єкта права інтелектуальної власності у складі нематеріальних актив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едеться в бухгалтерській службі на кожний об’єкт чи групу об’єктів права інтелектуальної власності, заповнюється в одному примірнику на підставі “Акту введення в господарський оборот об’єкта права інтелектуальної власності у складі нематеріальних активів” (типова форма № НА-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13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вибуття (ліквідації) об’єкта права інтелектуальної власності у складі нематеріальних актив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у двох примірниках комісією, призначеною наказом (розпорядженням) власника або уповноваженого органу (посадової особи), який здійснює керівництво підприємством, підписується головою та членами комісії, особою, що була відповідальною за використання об’єкта права інтелектуальної власності, затверджується керівником підприємства чи особою на те уповноваженою</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9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Інвентарний опис об’єктів права інтелектуальної власності у складі нематеріальних активів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в одному примірнику для оформлення даних інвентаризації окремо за кожним місцезнаходженням об’єктів права інтелектуальної власності та за кожною особою, відповідальною за використання об’єктів права інтелектуальної власності. В інвентарний опис включається кожний окремий об’єкт права інтелектуальної власності</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3"/>
          <p:cNvGrpSpPr/>
          <p:nvPr/>
        </p:nvGrpSpPr>
        <p:grpSpPr>
          <a:xfrm>
            <a:off x="0" y="0"/>
            <a:ext cx="9144000" cy="6858000"/>
            <a:chOff x="0" y="0"/>
            <a:chExt cx="9144000" cy="6858000"/>
          </a:xfrm>
        </p:grpSpPr>
        <p:sp>
          <p:nvSpPr>
            <p:cNvPr id="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1 будуть розглянуті наступні питання: </a:t>
            </a:r>
            <a:endParaRPr b="0" lang="en-US" sz="2800" spc="-1" strike="noStrike">
              <a:solidFill>
                <a:srgbClr val="000000"/>
              </a:solidFill>
              <a:latin typeface="Arial"/>
            </a:endParaRPr>
          </a:p>
        </p:txBody>
      </p:sp>
      <p:sp>
        <p:nvSpPr>
          <p:cNvPr id="54" name="TextBox 9"/>
          <p:cNvSpPr/>
          <p:nvPr/>
        </p:nvSpPr>
        <p:spPr>
          <a:xfrm>
            <a:off x="1476360" y="178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Організаційні засади бухгалтерського обліку активів</a:t>
            </a:r>
            <a:endParaRPr b="0" lang="en-US" sz="2400" spc="-1" strike="noStrike">
              <a:solidFill>
                <a:srgbClr val="000000"/>
              </a:solidFill>
              <a:latin typeface="Arial"/>
            </a:endParaRPr>
          </a:p>
        </p:txBody>
      </p:sp>
      <p:sp>
        <p:nvSpPr>
          <p:cNvPr id="55" name="TextBox 10"/>
          <p:cNvSpPr/>
          <p:nvPr/>
        </p:nvSpPr>
        <p:spPr>
          <a:xfrm>
            <a:off x="1476360" y="295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документування операцій з обліку активів</a:t>
            </a:r>
            <a:endParaRPr b="0" lang="en-US" sz="2400" spc="-1" strike="noStrike">
              <a:solidFill>
                <a:srgbClr val="000000"/>
              </a:solidFill>
              <a:latin typeface="Arial"/>
            </a:endParaRPr>
          </a:p>
        </p:txBody>
      </p:sp>
      <p:sp>
        <p:nvSpPr>
          <p:cNvPr id="56"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Стрелка вправо 14"/>
          <p:cNvSpPr/>
          <p:nvPr/>
        </p:nvSpPr>
        <p:spPr>
          <a:xfrm>
            <a:off x="395280" y="306720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1"/>
          <p:cNvSpPr/>
          <p:nvPr/>
        </p:nvSpPr>
        <p:spPr>
          <a:xfrm>
            <a:off x="1477800" y="4149720"/>
            <a:ext cx="7272360" cy="45972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Організація аналітичного обліку активів</a:t>
            </a:r>
            <a:endParaRPr b="0" lang="en-US" sz="2400" spc="-1" strike="noStrike">
              <a:solidFill>
                <a:srgbClr val="000000"/>
              </a:solidFill>
              <a:latin typeface="Arial"/>
            </a:endParaRPr>
          </a:p>
        </p:txBody>
      </p:sp>
      <p:sp>
        <p:nvSpPr>
          <p:cNvPr id="59" name="Стрелка вправо 16"/>
          <p:cNvSpPr/>
          <p:nvPr/>
        </p:nvSpPr>
        <p:spPr>
          <a:xfrm>
            <a:off x="399960" y="407664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Группа 3"/>
          <p:cNvGrpSpPr/>
          <p:nvPr/>
        </p:nvGrpSpPr>
        <p:grpSpPr>
          <a:xfrm>
            <a:off x="0" y="0"/>
            <a:ext cx="9144000" cy="6858000"/>
            <a:chOff x="0" y="0"/>
            <a:chExt cx="9144000" cy="6858000"/>
          </a:xfrm>
        </p:grpSpPr>
        <p:sp>
          <p:nvSpPr>
            <p:cNvPr id="21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9"/>
          <p:cNvSpPr/>
          <p:nvPr/>
        </p:nvSpPr>
        <p:spPr>
          <a:xfrm>
            <a:off x="285840" y="285840"/>
            <a:ext cx="871524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сі наведені документи, які використовуються для відображення в обліку нематеріальних активів, повинні обов’язково регламентуватися графіком документооборот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дбання, перепродаж цінних паперів за готівку або кошти з поточного рахунку оформлюються відповідними касовими або банківськими документ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Группа 3"/>
          <p:cNvGrpSpPr/>
          <p:nvPr/>
        </p:nvGrpSpPr>
        <p:grpSpPr>
          <a:xfrm>
            <a:off x="0" y="0"/>
            <a:ext cx="9144000" cy="6858000"/>
            <a:chOff x="0" y="0"/>
            <a:chExt cx="9144000" cy="6858000"/>
          </a:xfrm>
        </p:grpSpPr>
        <p:sp>
          <p:nvSpPr>
            <p:cNvPr id="21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9"/>
          <p:cNvSpPr/>
          <p:nvPr/>
        </p:nvSpPr>
        <p:spPr>
          <a:xfrm>
            <a:off x="285840" y="285840"/>
            <a:ext cx="8715240" cy="4344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Bookman Old Style"/>
              </a:rPr>
              <a:t>Необоротні активи, які не належать підприємству, проте тимчасово знаходяться на його зберіганні також вимагають документального засвідчення.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Bookman Old Style"/>
              </a:rPr>
              <a:t>Для документування операцій на позабалансових рахунках з необоротними активами передбачено первинні документи, наведені в таблиці.</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Группа 3"/>
          <p:cNvGrpSpPr/>
          <p:nvPr/>
        </p:nvGrpSpPr>
        <p:grpSpPr>
          <a:xfrm>
            <a:off x="0" y="0"/>
            <a:ext cx="9144000" cy="6858000"/>
            <a:chOff x="0" y="0"/>
            <a:chExt cx="9144000" cy="6858000"/>
          </a:xfrm>
        </p:grpSpPr>
        <p:sp>
          <p:nvSpPr>
            <p:cNvPr id="22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9"/>
          <p:cNvSpPr/>
          <p:nvPr/>
        </p:nvSpPr>
        <p:spPr>
          <a:xfrm>
            <a:off x="428760" y="285840"/>
            <a:ext cx="85723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34" name=""/>
          <p:cNvGraphicFramePr/>
          <p:nvPr/>
        </p:nvGraphicFramePr>
        <p:xfrm>
          <a:off x="539640" y="1484280"/>
          <a:ext cx="8280360" cy="4197240"/>
        </p:xfrm>
        <a:graphic>
          <a:graphicData uri="http://schemas.openxmlformats.org/drawingml/2006/table">
            <a:tbl>
              <a:tblPr/>
              <a:tblGrid>
                <a:gridCol w="2160720"/>
                <a:gridCol w="2952720"/>
                <a:gridCol w="3166920"/>
              </a:tblGrid>
              <a:tr h="493920">
                <a:tc>
                  <a:txBody>
                    <a:bodyPr lIns="62280" rIns="622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Рахунки</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Назва документу</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Призначення документу</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15480">
                <a:tc rowSpan="2">
                  <a:txBody>
                    <a:bodyPr lIns="62280" rIns="622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01 “Орендовані необоротні активи”</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Копія інвентарної картки об’єкту</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Повинні додаватися орендодавцем до акту приймання-передачі об’єктів, що орендуються. Зазначені документи зберігаються в бухгалтерії орендаря окремо. Об’єкти, прийняті в операційну оренду як необоротні активи, обліковуються в орендаря за інвентарними номерами орендодавця</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6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280" rIns="6228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Витяг з інвентарної книги</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40880">
                <a:tc>
                  <a:txBody>
                    <a:bodyPr lIns="62280" rIns="6228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09 “Амортизаційні відрахування”</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Розрахунок (довідка) бухгалтерії</a:t>
                      </a:r>
                      <a:endParaRPr b="0" lang="en-US" sz="1800" spc="-1" strike="noStrike">
                        <a:solidFill>
                          <a:srgbClr val="000000"/>
                        </a:solidFill>
                        <a:latin typeface="Arial"/>
                      </a:endParaRPr>
                    </a:p>
                  </a:txBody>
                  <a:tcPr anchor="ctr"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2280" rIns="622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Для оформлення запису суми амортизації на позабалансовому рахунку</a:t>
                      </a:r>
                      <a:endParaRPr b="0" lang="en-US" sz="1800" spc="-1" strike="noStrike">
                        <a:solidFill>
                          <a:srgbClr val="000000"/>
                        </a:solidFill>
                        <a:latin typeface="Arial"/>
                      </a:endParaRPr>
                    </a:p>
                  </a:txBody>
                  <a:tcPr anchor="t" marL="62280" marR="62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Группа 3"/>
          <p:cNvGrpSpPr/>
          <p:nvPr/>
        </p:nvGrpSpPr>
        <p:grpSpPr>
          <a:xfrm>
            <a:off x="0" y="0"/>
            <a:ext cx="9144000" cy="6858000"/>
            <a:chOff x="0" y="0"/>
            <a:chExt cx="9144000" cy="6858000"/>
          </a:xfrm>
        </p:grpSpPr>
        <p:sp>
          <p:nvSpPr>
            <p:cNvPr id="2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9"/>
          <p:cNvSpPr/>
          <p:nvPr/>
        </p:nvSpPr>
        <p:spPr>
          <a:xfrm>
            <a:off x="285840" y="285840"/>
            <a:ext cx="8715240" cy="606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Оборотні актив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ід правильно організованого документування виробничих ресурсів залежить правильність визначення вартості списаних на виробництво запасів, незавершеного виробництва, відображення у звітності.</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Для документування руху запасів передбачено типові первинні документи. Головний бухгалтер підприємства повинен визначитися, які документи доцільно використовувати з урахуванням розмірів підприємства та галуз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Группа 3"/>
          <p:cNvGrpSpPr/>
          <p:nvPr/>
        </p:nvGrpSpPr>
        <p:grpSpPr>
          <a:xfrm>
            <a:off x="0" y="0"/>
            <a:ext cx="9144000" cy="6858000"/>
            <a:chOff x="0" y="0"/>
            <a:chExt cx="9144000" cy="6858000"/>
          </a:xfrm>
        </p:grpSpPr>
        <p:sp>
          <p:nvSpPr>
            <p:cNvPr id="2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9"/>
          <p:cNvSpPr/>
          <p:nvPr/>
        </p:nvSpPr>
        <p:spPr>
          <a:xfrm>
            <a:off x="324000" y="260280"/>
            <a:ext cx="857232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 name=""/>
          <p:cNvGraphicFramePr/>
          <p:nvPr/>
        </p:nvGraphicFramePr>
        <p:xfrm>
          <a:off x="395280" y="260280"/>
          <a:ext cx="8501040" cy="6561360"/>
        </p:xfrm>
        <a:graphic>
          <a:graphicData uri="http://schemas.openxmlformats.org/drawingml/2006/table">
            <a:tbl>
              <a:tblPr/>
              <a:tblGrid>
                <a:gridCol w="976320"/>
                <a:gridCol w="2508120"/>
                <a:gridCol w="5016600"/>
              </a:tblGrid>
              <a:tr h="576360">
                <a:tc>
                  <a:txBody>
                    <a:bodyPr lIns="60480" rIns="604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Форма доку-менту</a:t>
                      </a:r>
                      <a:endParaRPr b="0" lang="en-US" sz="1400" spc="-1" strike="noStrike">
                        <a:solidFill>
                          <a:srgbClr val="000000"/>
                        </a:solidFill>
                        <a:latin typeface="Arial"/>
                      </a:endParaRPr>
                    </a:p>
                  </a:txBody>
                  <a:tcPr anchor="ctr"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зва документу</a:t>
                      </a:r>
                      <a:endParaRPr b="0" lang="en-US" sz="1400" spc="-1" strike="noStrike">
                        <a:solidFill>
                          <a:srgbClr val="000000"/>
                        </a:solidFill>
                        <a:latin typeface="Arial"/>
                      </a:endParaRPr>
                    </a:p>
                  </a:txBody>
                  <a:tcPr anchor="ctr"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ня документу</a:t>
                      </a:r>
                      <a:endParaRPr b="0" lang="en-US" sz="1400" spc="-1" strike="noStrike">
                        <a:solidFill>
                          <a:srgbClr val="000000"/>
                        </a:solidFill>
                        <a:latin typeface="Arial"/>
                      </a:endParaRPr>
                    </a:p>
                  </a:txBody>
                  <a:tcPr anchor="ctr"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24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2</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3</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00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Журнал обліку вантажів, що надійшли</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стосовується для реєстрації транспортних документів, пов’язаних з отриманням вантажів та оприбуткуванням їх на склад підприємства</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2</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віреність </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а для підтвердження права окремої посадової особи виступати довіреною особою підприємства при отриманні запасів</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12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2а</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списання бланків довіреностей</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ий для списання використаних бланків довіреностей</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456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2б</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віреність (бланк суворого обліку)</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а для підтвердження права окремої посадової особи виступати довіреною особою підприємства при отриманні запасів</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48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3</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Журнал реєстрації довіреностей</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ий для реєстрації виданих довіреностей та розписки в їх отриманні</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824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4</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бутковий ордер</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на складі, заповнюється в день надходження запасів при відсутності розбіжностей з документами постачальника, при оприбуткуванні запасів, отриманих з переробки</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524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7</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про приймання матеріалів</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стосовується при прийнятті запасів, якщо є розбіжності з документами постачальника, або коли виробничі запаси надійшли без документів. Використовується для обліку надходження запасів і для направлення листа-претензії постачальнику</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8740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8, 9, 28, 28а</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Лімітно-забірна картка</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систематичного відпуску у виробництво лімітованих матеріалів, а також для поточного контролю за дотриманням встановлених лімітів їх відпуску. Зазначається місячний ліміт відпуску певному цеху</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0480" rIns="6048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0</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вимога на заміну (додатковий відпуск) матеріалів</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480" rIns="6048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повнюється при разовому відпуску запасів для виробничих та господарських потреб</a:t>
                      </a:r>
                      <a:endParaRPr b="0" lang="en-US" sz="1400" spc="-1" strike="noStrike">
                        <a:solidFill>
                          <a:srgbClr val="000000"/>
                        </a:solidFill>
                        <a:latin typeface="Arial"/>
                      </a:endParaRPr>
                    </a:p>
                  </a:txBody>
                  <a:tcPr anchor="t" marL="60480" marR="60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Группа 3"/>
          <p:cNvGrpSpPr/>
          <p:nvPr/>
        </p:nvGrpSpPr>
        <p:grpSpPr>
          <a:xfrm>
            <a:off x="0" y="0"/>
            <a:ext cx="9144000" cy="6858000"/>
            <a:chOff x="0" y="0"/>
            <a:chExt cx="9144000" cy="6858000"/>
          </a:xfrm>
        </p:grpSpPr>
        <p:sp>
          <p:nvSpPr>
            <p:cNvPr id="25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9"/>
          <p:cNvSpPr/>
          <p:nvPr/>
        </p:nvSpPr>
        <p:spPr>
          <a:xfrm>
            <a:off x="324000" y="260280"/>
            <a:ext cx="85723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61" name=""/>
          <p:cNvGraphicFramePr/>
          <p:nvPr/>
        </p:nvGraphicFramePr>
        <p:xfrm>
          <a:off x="395280" y="333360"/>
          <a:ext cx="8424720" cy="6122880"/>
        </p:xfrm>
        <a:graphic>
          <a:graphicData uri="http://schemas.openxmlformats.org/drawingml/2006/table">
            <a:tbl>
              <a:tblPr/>
              <a:tblGrid>
                <a:gridCol w="968400"/>
                <a:gridCol w="2486160"/>
                <a:gridCol w="4970160"/>
              </a:tblGrid>
              <a:tr h="20304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2</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3</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136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1</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кладна-вимога на відпуск (внутрішнє переміщення) матеріалів</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разового відпуску запасів всередині підприємства</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352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2</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Картка №__ складського обліку матеріалів</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обліку виробничих запасів на складі</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464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4</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ідомість обліку залишків матеріалів на складі</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взаємозв’язку складського та бухгалтерського обліку</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712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6</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атеріальний ярлик</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для позначення одиниць запасів</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8920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8</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игнальна довідка про відхилення фактичного залишку матеріалів від встановлених норм запасу</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завскладом (комірником) у разі виявлення відхилень фактичного залишку виробничих запасів від встановлених норм</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316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19</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Матеріальний звіт</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кладається МВО і передається до бухгалтерської служби; відображає рух запасів на складі за певний період</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3352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63</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ахунок-фактура</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ються для розрахунків між постачальниками та покупцями за відвантажені (відпущені) товари</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280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1-ТН</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Товарно-транспортна накладна</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изначена для обліку поставок запасів та розрахунків за їх перевезення автомобільним транспортом. Використовується для якісного та кількісного приймання запасів</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44520">
                <a:tc>
                  <a:txBody>
                    <a:bodyPr lIns="60840" rIns="608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Акт закупівлі ТМЦ</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840" rIns="6084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користовується при закупівлі запасів підзвітними особами у фізичних осіб на ринку та в інших місцях торгівлі. Форма Акту повинна затверджуватися Положенням про облікову політику. При оформленні в ньому обов’язково зазначаються паспортні дані та ідентифікаційний код продавця</a:t>
                      </a:r>
                      <a:endParaRPr b="0" lang="en-US" sz="1400" spc="-1" strike="noStrike">
                        <a:solidFill>
                          <a:srgbClr val="000000"/>
                        </a:solidFill>
                        <a:latin typeface="Arial"/>
                      </a:endParaRPr>
                    </a:p>
                  </a:txBody>
                  <a:tcPr anchor="t" marL="60840" marR="608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Группа 3"/>
          <p:cNvGrpSpPr/>
          <p:nvPr/>
        </p:nvGrpSpPr>
        <p:grpSpPr>
          <a:xfrm>
            <a:off x="0" y="0"/>
            <a:ext cx="9144000" cy="6858000"/>
            <a:chOff x="0" y="0"/>
            <a:chExt cx="9144000" cy="6858000"/>
          </a:xfrm>
        </p:grpSpPr>
        <p:sp>
          <p:nvSpPr>
            <p:cNvPr id="26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Box 9"/>
          <p:cNvSpPr/>
          <p:nvPr/>
        </p:nvSpPr>
        <p:spPr>
          <a:xfrm>
            <a:off x="324000" y="260280"/>
            <a:ext cx="857232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Більшість наведених документів складаються працівниками інших структурних підрозділів підприємства або надходять від контрагентів. Тому, для забезпечення своєчасного відображення господарських операцій із запасами в бухгалтерському обліку, на підприємстві повинні чітко визначатися графіком документообороту терміни передачі первинних документів до бухгалтерської служби для відповідної оброб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Группа 3"/>
          <p:cNvGrpSpPr/>
          <p:nvPr/>
        </p:nvGrpSpPr>
        <p:grpSpPr>
          <a:xfrm>
            <a:off x="0" y="0"/>
            <a:ext cx="9144000" cy="6858000"/>
            <a:chOff x="0" y="0"/>
            <a:chExt cx="9144000" cy="6858000"/>
          </a:xfrm>
        </p:grpSpPr>
        <p:sp>
          <p:nvSpPr>
            <p:cNvPr id="27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9"/>
          <p:cNvSpPr/>
          <p:nvPr/>
        </p:nvSpPr>
        <p:spPr>
          <a:xfrm>
            <a:off x="428760" y="477720"/>
            <a:ext cx="857232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ймання виробничих запасів у постачальників або на залізничній станції чи в аеропорту здійснює експедитор підприємства, якому видається довіреність.</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паси оприбутковуються у відповідних одиницях виміру (вагових, об’ємних). Якщо виробничі запаси надходять в одних одиницях, а витрачаються в інших, то вони обліковуються в двох одиницях виміру.</a:t>
            </a:r>
            <a:endParaRPr b="0" lang="en-US" sz="3200" spc="-1" strike="noStrike">
              <a:solidFill>
                <a:srgbClr val="000000"/>
              </a:solidFill>
              <a:latin typeface="Arial"/>
            </a:endParaRPr>
          </a:p>
        </p:txBody>
      </p:sp>
      <p:sp>
        <p:nvSpPr>
          <p:cNvPr id="2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Группа 3"/>
          <p:cNvGrpSpPr/>
          <p:nvPr/>
        </p:nvGrpSpPr>
        <p:grpSpPr>
          <a:xfrm>
            <a:off x="0" y="0"/>
            <a:ext cx="9144000" cy="6858000"/>
            <a:chOff x="0" y="0"/>
            <a:chExt cx="9144000" cy="6858000"/>
          </a:xfrm>
        </p:grpSpPr>
        <p:sp>
          <p:nvSpPr>
            <p:cNvPr id="28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9"/>
          <p:cNvSpPr/>
          <p:nvPr/>
        </p:nvSpPr>
        <p:spPr>
          <a:xfrm>
            <a:off x="250920" y="260280"/>
            <a:ext cx="878508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87" name=""/>
          <p:cNvGraphicFramePr/>
          <p:nvPr/>
        </p:nvGraphicFramePr>
        <p:xfrm>
          <a:off x="324000" y="333360"/>
          <a:ext cx="8569080" cy="6491160"/>
        </p:xfrm>
        <a:graphic>
          <a:graphicData uri="http://schemas.openxmlformats.org/drawingml/2006/table">
            <a:tbl>
              <a:tblPr/>
              <a:tblGrid>
                <a:gridCol w="846000"/>
                <a:gridCol w="2249640"/>
                <a:gridCol w="5473440"/>
              </a:tblGrid>
              <a:tr h="246240">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Форма</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Назва документу</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Призначення документу</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54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1</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Відомість на поповнення (вилучення) постійного запасу інструментів (пристрої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бліку зміни запасу інструментів (пристроїв) у роздавальних коморах на підприємствах, де облік ведеться за принципом встановлення постійного оборотного (обмінного) фонду. На підставі даних відомості вносяться зміни до картки складського обліку запасів інструментально-роздавальної комори</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8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2</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Картка обліку малоцінних та швидкозношуваних предметі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бліку предметів, виданих під розписку робітнику чи бригадиру (для бригади) з роздавальної комори цеху для тривалого користування</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60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3</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мовлення на ремонт або заточування інструментів (пристрої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бліку інструментів (пристроїв), переданих на заточування або ремонт, що проводиться у централізованому порядку</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520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4</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Акт вибуття малоцінних та швидкозношуваних предметі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формлення псування та витрат інструментів (пристроїв) та інших малоцінних і швидкозношуваних предметі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800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5</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Акт на списання інструментів (пристроїв) та їх обмін на придатні</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формлення списання інструментів (пристроїв), що стали непридатними, та обміну їх на придатні на тих підприємствах, де облік проводиться за методом обмінного (оборотного) фонду</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276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6</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Особова картка обліку спецодягу, спецвзуття та запобіжних пристрої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спецодягу, спецвзуття та запобіжних засобів, які видаються робітникам підприємства в індивідуальне користування за встановленими нормами. Картка ведеться в одному примірнику і зберігається в цеху (дільниці)</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8568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7</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Відомість обліку видачі (повернення) спецодягу, спецвзуття та запобіжних пристрої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бліку видачі спецодягу, спецвзуття та запобіжних засобів робітникам підприємств в індивідуальне користування за встановленими нормами</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8496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МШ-8</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Акт на списання малоцінних та швидкозношуваних предметів</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Застосовується для оформлення списання морально застарілих, зношених і непридатних для подальшого використання інструментів (пристроїв), спецодягу, спецвзуття, запобіжних засобів після закінчення строку використання, інших МШП і здавання їх до комори для утилізації</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Группа 3"/>
          <p:cNvGrpSpPr/>
          <p:nvPr/>
        </p:nvGrpSpPr>
        <p:grpSpPr>
          <a:xfrm>
            <a:off x="0" y="0"/>
            <a:ext cx="9144000" cy="6858000"/>
            <a:chOff x="0" y="0"/>
            <a:chExt cx="9144000" cy="6858000"/>
          </a:xfrm>
        </p:grpSpPr>
        <p:sp>
          <p:nvSpPr>
            <p:cNvPr id="28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9"/>
          <p:cNvSpPr/>
          <p:nvPr/>
        </p:nvSpPr>
        <p:spPr>
          <a:xfrm>
            <a:off x="179280" y="189000"/>
            <a:ext cx="8964720" cy="667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На будь-якому підприємстві повинен бути налагоджений також контроль за надходженням, використанням і зберіганням бланків суворої звітності. Зокрема, до даної категорії документації відповідно до законодавства відносяться:</a:t>
            </a:r>
            <a:r>
              <a:rPr b="0" lang="ru-RU" sz="2400" spc="-1" strike="noStrike">
                <a:solidFill>
                  <a:srgbClr val="000000"/>
                </a:solidFill>
                <a:latin typeface="Bookman Old Style"/>
              </a:rPr>
              <a:t> </a:t>
            </a:r>
            <a:r>
              <a:rPr b="0" lang="uk-UA" sz="2400" spc="-1" strike="noStrike">
                <a:solidFill>
                  <a:srgbClr val="000000"/>
                </a:solidFill>
                <a:latin typeface="Bookman Old Style"/>
              </a:rPr>
              <a:t>документи, які засвідчують особу, подію, освіту, трудовий стаж (наприклад трудова книжка і вкладиш до неї; посвідчення особи; присвоєння звання; пенсійна книжка; пенсійні лист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проїзні документи (квитки на проїзд у різному транспорті; документи на перевезення вантажів; військові проїзні документ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знаки поштової оплати (поштові марки, конверти з марками, листівки з маркам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документи, які обслуговують грошовий оборот: книжки ощадні, чекові, депозитні; грошові та розрахункові чеки; довіреності на видачу коштів, пенсій, майна; сертифікати якості; поліси страхування; ліцензі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бланки білетів тиражних і миттєвих лотерей та 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Группа 3"/>
          <p:cNvGrpSpPr/>
          <p:nvPr/>
        </p:nvGrpSpPr>
        <p:grpSpPr>
          <a:xfrm>
            <a:off x="0" y="0"/>
            <a:ext cx="9144000" cy="6858000"/>
            <a:chOff x="0" y="0"/>
            <a:chExt cx="9144000" cy="6858000"/>
          </a:xfrm>
        </p:grpSpPr>
        <p:sp>
          <p:nvSpPr>
            <p:cNvPr id="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9"/>
          <p:cNvSpPr/>
          <p:nvPr/>
        </p:nvSpPr>
        <p:spPr>
          <a:xfrm>
            <a:off x="395280" y="1700280"/>
            <a:ext cx="8424720" cy="48488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Скругленный прямоугольник 8"/>
          <p:cNvSpPr/>
          <p:nvPr/>
        </p:nvSpPr>
        <p:spPr>
          <a:xfrm>
            <a:off x="324000" y="285840"/>
            <a:ext cx="8820000" cy="127152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Організаційні засади бухгалтерського обліку активів</a:t>
            </a:r>
            <a:endParaRPr b="0" lang="en-US" sz="3200" spc="-1" strike="noStrike">
              <a:solidFill>
                <a:srgbClr val="000000"/>
              </a:solidFill>
              <a:latin typeface="Arial"/>
            </a:endParaRPr>
          </a:p>
        </p:txBody>
      </p:sp>
      <p:sp>
        <p:nvSpPr>
          <p:cNvPr id="6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9" name="Объект 2"/>
          <p:cNvGraphicFramePr/>
          <p:nvPr/>
        </p:nvGraphicFramePr>
        <p:xfrm>
          <a:off x="826920" y="2133720"/>
          <a:ext cx="7645680" cy="3598920"/>
        </p:xfrm>
        <a:graphic>
          <a:graphicData uri="http://schemas.openxmlformats.org/presentationml/2006/ole">
            <p:oleObj r:id="rId1" spid="">
              <p:embed/>
              <p:pic>
                <p:nvPicPr>
                  <p:cNvPr id="70" name="Объект 2" descr=""/>
                  <p:cNvPicPr/>
                  <p:nvPr/>
                </p:nvPicPr>
                <p:blipFill>
                  <a:blip r:embed="rId2"/>
                  <a:stretch/>
                </p:blipFill>
                <p:spPr>
                  <a:xfrm>
                    <a:off x="826920" y="2133720"/>
                    <a:ext cx="7645680" cy="35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Группа 3"/>
          <p:cNvGrpSpPr/>
          <p:nvPr/>
        </p:nvGrpSpPr>
        <p:grpSpPr>
          <a:xfrm>
            <a:off x="0" y="0"/>
            <a:ext cx="9144000" cy="6858000"/>
            <a:chOff x="0" y="0"/>
            <a:chExt cx="9144000" cy="6858000"/>
          </a:xfrm>
        </p:grpSpPr>
        <p:sp>
          <p:nvSpPr>
            <p:cNvPr id="2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9"/>
          <p:cNvSpPr/>
          <p:nvPr/>
        </p:nvSpPr>
        <p:spPr>
          <a:xfrm>
            <a:off x="428760" y="477720"/>
            <a:ext cx="85723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Bookman Old Style"/>
              </a:rPr>
              <a:t>Довіреність</a:t>
            </a:r>
            <a:r>
              <a:rPr b="0" i="1" lang="uk-UA" sz="3200" spc="-1" strike="noStrike">
                <a:solidFill>
                  <a:srgbClr val="000000"/>
                </a:solidFill>
                <a:latin typeface="Bookman Old Style"/>
              </a:rPr>
              <a:t> </a:t>
            </a:r>
            <a:r>
              <a:rPr b="1" i="1" lang="uk-UA" sz="3200" spc="-1" strike="noStrike">
                <a:solidFill>
                  <a:srgbClr val="000000"/>
                </a:solidFill>
                <a:latin typeface="Bookman Old Style"/>
              </a:rPr>
              <a:t>– </a:t>
            </a:r>
            <a:r>
              <a:rPr b="0" lang="uk-UA" sz="3200" spc="-1" strike="noStrike">
                <a:solidFill>
                  <a:srgbClr val="000000"/>
                </a:solidFill>
                <a:latin typeface="Bookman Old Style"/>
              </a:rPr>
              <a:t>це письмовий документ, який одна особа видає іншій для представництва перед третіми особами. За допомогою даного документу керівник наділяє фізичну особу правом отримати цінності від імені підприємст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гальний порядок використання довіреностей регулюється Інструкцією про порядок реєстрації виданих, повернених і використаних довіреностей на одержання цінностей.</a:t>
            </a:r>
            <a:endParaRPr b="0" lang="en-US" sz="3200" spc="-1" strike="noStrike">
              <a:solidFill>
                <a:srgbClr val="000000"/>
              </a:solidFill>
              <a:latin typeface="Arial"/>
            </a:endParaRPr>
          </a:p>
        </p:txBody>
      </p:sp>
      <p:sp>
        <p:nvSpPr>
          <p:cNvPr id="3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Группа 3"/>
          <p:cNvGrpSpPr/>
          <p:nvPr/>
        </p:nvGrpSpPr>
        <p:grpSpPr>
          <a:xfrm>
            <a:off x="0" y="0"/>
            <a:ext cx="9144000" cy="6858000"/>
            <a:chOff x="0" y="0"/>
            <a:chExt cx="9144000" cy="6858000"/>
          </a:xfrm>
        </p:grpSpPr>
        <p:sp>
          <p:nvSpPr>
            <p:cNvPr id="3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9"/>
          <p:cNvSpPr/>
          <p:nvPr/>
        </p:nvSpPr>
        <p:spPr>
          <a:xfrm>
            <a:off x="179280" y="285840"/>
            <a:ext cx="867888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 name=""/>
          <p:cNvGraphicFramePr/>
          <p:nvPr/>
        </p:nvGraphicFramePr>
        <p:xfrm>
          <a:off x="611280" y="620640"/>
          <a:ext cx="7777080" cy="4930920"/>
        </p:xfrm>
        <a:graphic>
          <a:graphicData uri="http://schemas.openxmlformats.org/drawingml/2006/table">
            <a:tbl>
              <a:tblPr/>
              <a:tblGrid>
                <a:gridCol w="1876320"/>
                <a:gridCol w="1077840"/>
                <a:gridCol w="4822920"/>
              </a:tblGrid>
              <a:tr h="755640">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Назва документ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Номер типової форми</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Коротка характеристик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236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2720">
                <a:tc gridSpan="3">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Для довіреностей як ТМЦ (що обліковуються на рахунку 209 “Інші матеріал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12720">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Довіреність</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М-2, М-2б</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Застосовується для оформлення права працівника виступати в якості довіреної особи підприємства при отриманні матеріальних цінностей. Довіреність видається під розписку. За змістом № М-2 і № М-2б однакові, різниця полягає лише в кількості рядків для відображення ТМЦ</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5640">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Акт списання бланків довіреносте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М-2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Складається не рідше одного разу на квартал із зазначенням номерів і загальної кількості списаних бланків. Затверджується керівником підприємств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018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Журнал реєстрації довіреносте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М-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Застосовується для реєстрації виписаних довіреностей. В ньому обов’язково здійснюється відмітка про їх отримання довіреною особою та виконання повноважень за довіреністю (оприбуткування цінносте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Группа 3"/>
          <p:cNvGrpSpPr/>
          <p:nvPr/>
        </p:nvGrpSpPr>
        <p:grpSpPr>
          <a:xfrm>
            <a:off x="0" y="0"/>
            <a:ext cx="9144000" cy="6858000"/>
            <a:chOff x="0" y="0"/>
            <a:chExt cx="9144000" cy="6858000"/>
          </a:xfrm>
        </p:grpSpPr>
        <p:sp>
          <p:nvSpPr>
            <p:cNvPr id="31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9"/>
          <p:cNvSpPr/>
          <p:nvPr/>
        </p:nvSpPr>
        <p:spPr>
          <a:xfrm>
            <a:off x="179280" y="285840"/>
            <a:ext cx="867888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 name=""/>
          <p:cNvGraphicFramePr/>
          <p:nvPr/>
        </p:nvGraphicFramePr>
        <p:xfrm>
          <a:off x="324000" y="457200"/>
          <a:ext cx="8424720" cy="6240600"/>
        </p:xfrm>
        <a:graphic>
          <a:graphicData uri="http://schemas.openxmlformats.org/drawingml/2006/table">
            <a:tbl>
              <a:tblPr/>
              <a:tblGrid>
                <a:gridCol w="2031840"/>
                <a:gridCol w="1168560"/>
                <a:gridCol w="5224320"/>
              </a:tblGrid>
              <a:tr h="490680">
                <a:tc gridSpan="3">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Для довіреностей як бланків суворої звітності (обліковуються на рахунку 08 “Бланки суворого обліку”)</a:t>
                      </a:r>
                      <a:endParaRPr b="0" lang="en-US" sz="14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48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рибутково-видаткова накладна на бланки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1</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стосовується для оформлення надходження на склад і відпуску зі складу бланків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7312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рибутково-видаткова книга з обліку бланків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2</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Передбачена для ведення обліку бланків суворої звітності на складі і застосовується всіма підприємствами, організаціями та установами. Вона повинна бути пронумерована, прошнурована і скріплена сургучною печаткою та підписами керівника підприємства та головного бухгалтера. Для ведення обліку окремих видів бланків суворої звітності в книзі виділяється одна або кілька сторінок</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932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Акт на списання використаних бланків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3</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стосовується для списання використаних бланків суворої звітності з підзвіту матеріально відповідальних осіб. Акт складається та засвідчується спеціально створеною комісією</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89252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Акт перевірки наявності бланків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4</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стосовується для перевірки фактичної наявності бланків суворої звітності при їх надходженні на склад. Цей акт складається при виявленні недостачі бланків під час їх приймання на склад спеціально створеною комісією у двох примірниках. В документі вказується кількість відсутніх в наявності книжок (бланків, документів суворої звітності), їх серії та номери бланків. Один примірник акту направляється постачальнику для виявлення причин розходження і прийняття заходів</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52480">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Картка-довідка по виданих і використаних бланках суворої звітності</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СЗ-5</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8960" rIns="48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Bookman Old Style"/>
                        </a:rPr>
                        <a:t>Застосовується для ведення аналітичного обліку виданих і використаних бланків суворої звітності. Відкривається на кожну матеріально-підзвітну особу, яка здійснює облік бланків суворої звітності, на кожен вид бланків окремо</a:t>
                      </a:r>
                      <a:endParaRPr b="0" lang="en-US" sz="1200" spc="-1" strike="noStrike">
                        <a:solidFill>
                          <a:srgbClr val="000000"/>
                        </a:solidFill>
                        <a:latin typeface="Arial"/>
                      </a:endParaRPr>
                    </a:p>
                  </a:txBody>
                  <a:tcPr anchor="t" marL="48960" marR="48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25" name="Rectangle 1"/>
          <p:cNvSpPr/>
          <p:nvPr/>
        </p:nvSpPr>
        <p:spPr>
          <a:xfrm>
            <a:off x="7075440" y="132012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Группа 3"/>
          <p:cNvGrpSpPr/>
          <p:nvPr/>
        </p:nvGrpSpPr>
        <p:grpSpPr>
          <a:xfrm>
            <a:off x="0" y="0"/>
            <a:ext cx="9144000" cy="6858000"/>
            <a:chOff x="0" y="0"/>
            <a:chExt cx="9144000" cy="6858000"/>
          </a:xfrm>
        </p:grpSpPr>
        <p:sp>
          <p:nvSpPr>
            <p:cNvPr id="32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9"/>
          <p:cNvSpPr/>
          <p:nvPr/>
        </p:nvSpPr>
        <p:spPr>
          <a:xfrm>
            <a:off x="428760" y="477720"/>
            <a:ext cx="85723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 цьому для обліку довіреностей застосовуються два види документів. Типові форми документів з додатковим реквізитом “М” використовуються для відображення руху бланків довіреностей як ТМЦ (облік ведеться на рахунку 209 “Інші матеріал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Типові форми СЗ використовуються для відображення інформації про довіреність як бланк суворої звітності, а також інших бланків суворої звітності.</a:t>
            </a:r>
            <a:endParaRPr b="0" lang="en-US" sz="3200" spc="-1" strike="noStrike">
              <a:solidFill>
                <a:srgbClr val="000000"/>
              </a:solidFill>
              <a:latin typeface="Arial"/>
            </a:endParaRPr>
          </a:p>
        </p:txBody>
      </p:sp>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Группа 3"/>
          <p:cNvGrpSpPr/>
          <p:nvPr/>
        </p:nvGrpSpPr>
        <p:grpSpPr>
          <a:xfrm>
            <a:off x="0" y="0"/>
            <a:ext cx="9144000" cy="6858000"/>
            <a:chOff x="0" y="0"/>
            <a:chExt cx="9144000" cy="6858000"/>
          </a:xfrm>
        </p:grpSpPr>
        <p:sp>
          <p:nvSpPr>
            <p:cNvPr id="3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9"/>
          <p:cNvSpPr/>
          <p:nvPr/>
        </p:nvSpPr>
        <p:spPr>
          <a:xfrm>
            <a:off x="428760" y="477720"/>
            <a:ext cx="857232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Грошові кошт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асові операції оформлюються документами, типові форми яких затверджено Міністерством статистики України за згодою з Національним банком України і Міністерством фінансів України, і які повинні застосовуватися без змін на всіх підприємствах, незалежно від їх відомчої підпорядкованості та форми власності.</a:t>
            </a:r>
            <a:endParaRPr b="0" lang="en-US" sz="3200" spc="-1" strike="noStrike">
              <a:solidFill>
                <a:srgbClr val="000000"/>
              </a:solidFill>
              <a:latin typeface="Arial"/>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4" name="Группа 3"/>
          <p:cNvGrpSpPr/>
          <p:nvPr/>
        </p:nvGrpSpPr>
        <p:grpSpPr>
          <a:xfrm>
            <a:off x="0" y="0"/>
            <a:ext cx="9144000" cy="6858000"/>
            <a:chOff x="0" y="0"/>
            <a:chExt cx="9144000" cy="6858000"/>
          </a:xfrm>
        </p:grpSpPr>
        <p:sp>
          <p:nvSpPr>
            <p:cNvPr id="34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9"/>
          <p:cNvSpPr/>
          <p:nvPr/>
        </p:nvSpPr>
        <p:spPr>
          <a:xfrm>
            <a:off x="428760" y="477720"/>
            <a:ext cx="85723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3" name=""/>
          <p:cNvGraphicFramePr/>
          <p:nvPr/>
        </p:nvGraphicFramePr>
        <p:xfrm>
          <a:off x="563400" y="1413000"/>
          <a:ext cx="8015400" cy="3593880"/>
        </p:xfrm>
        <a:graphic>
          <a:graphicData uri="http://schemas.openxmlformats.org/drawingml/2006/table">
            <a:tbl>
              <a:tblPr/>
              <a:tblGrid>
                <a:gridCol w="1243080"/>
                <a:gridCol w="3063960"/>
                <a:gridCol w="3708360"/>
              </a:tblGrid>
              <a:tr h="65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Форма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ервинні документ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ризначення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1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Прибутковий касовий ордер</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Оформлення надходження готівки в кас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365040">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Видатковий касовий ордер</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Оформлення видачі готівки з каси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960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3, 3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Журнал реєстрації прибуткових та видаткових касових документ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ризначений для реєстрації в бухгалтерській службі касових документ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426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4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Касова книг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Відображення обліку операцій з готівкою касиро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8880">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О-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Книга обліку прийнятих та виданих касиром грошей</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gn="just">
                        <a:lnSpc>
                          <a:spcPct val="120000"/>
                        </a:lnSpc>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Відображення обліку коштів, які надходять в кас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Группа 3"/>
          <p:cNvGrpSpPr/>
          <p:nvPr/>
        </p:nvGrpSpPr>
        <p:grpSpPr>
          <a:xfrm>
            <a:off x="0" y="0"/>
            <a:ext cx="9144000" cy="6858000"/>
            <a:chOff x="0" y="0"/>
            <a:chExt cx="9144000" cy="6858000"/>
          </a:xfrm>
        </p:grpSpPr>
        <p:sp>
          <p:nvSpPr>
            <p:cNvPr id="35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9"/>
          <p:cNvSpPr/>
          <p:nvPr/>
        </p:nvSpPr>
        <p:spPr>
          <a:xfrm>
            <a:off x="428760" y="477720"/>
            <a:ext cx="857232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приємства, які здійснюють розрахункові операції у готівковій чи безготівковій формі (із застосуванням платіжних карток, платіжних чеків, жетонів тощо) при продажу товарів (наданні послуг) у сфері торгівлі, громадського харчування та послуг, повинні обов’язково видавати наступні документи.</a:t>
            </a:r>
            <a:endParaRPr b="0" lang="en-US" sz="3200" spc="-1" strike="noStrike">
              <a:solidFill>
                <a:srgbClr val="000000"/>
              </a:solidFill>
              <a:latin typeface="Arial"/>
            </a:endParaRPr>
          </a:p>
        </p:txBody>
      </p:sp>
      <p:sp>
        <p:nvSpPr>
          <p:cNvPr id="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3" name="Группа 3"/>
          <p:cNvGrpSpPr/>
          <p:nvPr/>
        </p:nvGrpSpPr>
        <p:grpSpPr>
          <a:xfrm>
            <a:off x="0" y="0"/>
            <a:ext cx="9144000" cy="6858000"/>
            <a:chOff x="0" y="0"/>
            <a:chExt cx="9144000" cy="6858000"/>
          </a:xfrm>
        </p:grpSpPr>
        <p:sp>
          <p:nvSpPr>
            <p:cNvPr id="36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9"/>
          <p:cNvSpPr/>
          <p:nvPr/>
        </p:nvSpPr>
        <p:spPr>
          <a:xfrm>
            <a:off x="428760" y="477720"/>
            <a:ext cx="85723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 name=""/>
          <p:cNvGraphicFramePr/>
          <p:nvPr/>
        </p:nvGraphicFramePr>
        <p:xfrm>
          <a:off x="826920" y="981000"/>
          <a:ext cx="7993080" cy="4675320"/>
        </p:xfrm>
        <a:graphic>
          <a:graphicData uri="http://schemas.openxmlformats.org/drawingml/2006/table">
            <a:tbl>
              <a:tblPr/>
              <a:tblGrid>
                <a:gridCol w="1114560"/>
                <a:gridCol w="1579680"/>
                <a:gridCol w="5298840"/>
              </a:tblGrid>
              <a:tr h="727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Форма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ервинні документ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Призначення документ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71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ФКЧ-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Фіскальний касовий чек на товари (послуг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ахунковий документ, надрукований реєстратором розрахункових операцій при проведенні розрахунків за продані товари (надані послуг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79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ФКЧ-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Фіскальний касовий чек видачі кошт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ахунковий документ, надрукований реєстратором розрахункових операцій при проведенні розрахунків у разі видачі коштів покупцеві при поверненні товару, рекомпенсації послуги, прийнятті цінностей під заставу, виплаті виграшів у державні лотереї та в інших випадках</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9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ff"/>
                          </a:solidFill>
                          <a:latin typeface="Bookman Old Style"/>
                        </a:rPr>
                        <a:t>РК-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ахункова квитанці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ахунковий документ, бланк якого виготовлено типографним способом, а окремі реквізити заповнюються від руки або шляхом проставлення штампів при реєстрації розрахунків за продані товари (надані послуги) або при видачі коштів покупцеві у випадку повернення товару, рекомпенсації послуги, прийняття цінностей під заставу та в інших випадках</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Группа 3"/>
          <p:cNvGrpSpPr/>
          <p:nvPr/>
        </p:nvGrpSpPr>
        <p:grpSpPr>
          <a:xfrm>
            <a:off x="0" y="0"/>
            <a:ext cx="9144000" cy="6858000"/>
            <a:chOff x="0" y="0"/>
            <a:chExt cx="9144000" cy="6858000"/>
          </a:xfrm>
        </p:grpSpPr>
        <p:sp>
          <p:nvSpPr>
            <p:cNvPr id="37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9"/>
          <p:cNvSpPr/>
          <p:nvPr/>
        </p:nvSpPr>
        <p:spPr>
          <a:xfrm>
            <a:off x="250920" y="189000"/>
            <a:ext cx="87501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ідставою для відображення у бухгалтерському обліку грошових коштів у дорозі є:</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упровідна відомість (готівка передається у банк через інкасатора);</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квитанція про приймання грошової суми (через відділення зв’язку);</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квитанція до прибуткового касового ордеру банка (безпосередньо касиром);</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тримані повідомлення (авізо) із зазначеними датою, номером платіжного доручення, сумою і назвою установи банку чи поштового відділення, яке прийняло перерахування (за сумами, переказаними вищими організаціями).</a:t>
            </a:r>
            <a:endParaRPr b="0" lang="en-US" sz="2800" spc="-1" strike="noStrike">
              <a:solidFill>
                <a:srgbClr val="000000"/>
              </a:solidFill>
              <a:latin typeface="Arial"/>
            </a:endParaRPr>
          </a:p>
        </p:txBody>
      </p:sp>
      <p:sp>
        <p:nvSpPr>
          <p:cNvPr id="3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Группа 3"/>
          <p:cNvGrpSpPr/>
          <p:nvPr/>
        </p:nvGrpSpPr>
        <p:grpSpPr>
          <a:xfrm>
            <a:off x="0" y="0"/>
            <a:ext cx="9144000" cy="6858000"/>
            <a:chOff x="0" y="0"/>
            <a:chExt cx="9144000" cy="6858000"/>
          </a:xfrm>
        </p:grpSpPr>
        <p:sp>
          <p:nvSpPr>
            <p:cNvPr id="38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9"/>
          <p:cNvSpPr/>
          <p:nvPr/>
        </p:nvSpPr>
        <p:spPr>
          <a:xfrm>
            <a:off x="250920" y="189000"/>
            <a:ext cx="87501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упровідна відомість, яка є підставою для списання коштів з касира та підтверджує здачу готівки до каси банку, складається в трьох примірниках через копіювальний папір: перший примірник (супровідну відомість) вкладають в інкасаторську сумку, другий (накладну) – віддають інкасатору при отриманні ним сумки, третій (копію супровідної відомості) – залишають у касі підприємства (інкасатор розписується на цьому примірнику і ставить відповідний штамп). На зворотному боці першого та другого примірників вказаних документів матеріально відповідальні особи заповнюють покупюрний опис грошей, які здаються.</a:t>
            </a:r>
            <a:endParaRPr b="0" lang="en-US" sz="2800" spc="-1" strike="noStrike">
              <a:solidFill>
                <a:srgbClr val="000000"/>
              </a:solidFill>
              <a:latin typeface="Arial"/>
            </a:endParaRPr>
          </a:p>
        </p:txBody>
      </p:sp>
      <p:sp>
        <p:nvSpPr>
          <p:cNvPr id="3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Группа 3"/>
          <p:cNvGrpSpPr/>
          <p:nvPr/>
        </p:nvGrpSpPr>
        <p:grpSpPr>
          <a:xfrm>
            <a:off x="0" y="0"/>
            <a:ext cx="9144000" cy="6858000"/>
            <a:chOff x="0" y="0"/>
            <a:chExt cx="9144000" cy="6858000"/>
          </a:xfrm>
        </p:grpSpPr>
        <p:sp>
          <p:nvSpPr>
            <p:cNvPr id="7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8"/>
          <p:cNvSpPr/>
          <p:nvPr/>
        </p:nvSpPr>
        <p:spPr>
          <a:xfrm>
            <a:off x="250920" y="289080"/>
            <a:ext cx="8858160" cy="6174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До </a:t>
            </a:r>
            <a:r>
              <a:rPr b="0" lang="uk-UA" sz="2100" spc="-1" strike="noStrike" u="sng">
                <a:solidFill>
                  <a:srgbClr val="000000"/>
                </a:solidFill>
                <a:uFillTx/>
                <a:latin typeface="Bookman Old Style"/>
              </a:rPr>
              <a:t>завдань організації обліку активів підприємства</a:t>
            </a:r>
            <a:r>
              <a:rPr b="0" lang="uk-UA" sz="2100" spc="-1" strike="noStrike">
                <a:solidFill>
                  <a:srgbClr val="000000"/>
                </a:solidFill>
                <a:latin typeface="Bookman Old Style"/>
              </a:rPr>
              <a:t> належать:</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вибір первинних документів, якими будуть оформлюватися операції з активами, із затверджених типових форм або розробка власних;</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забезпечення правильного та своєчасного документального оформлення операцій з надходження, переміщення і вибуття активів;</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правильне групування (класифікація) активів;</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вибір методики бухгалтерського обліку активів шляхом зазначення обраних методичних прийомів у Положенні про облікову політику;</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встановлення матеріально відповідальних осіб, які будуть відповідати за збереження певних видів активів;</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забезпечення проведення інвентаризації активів у строки, встановлені законодавством;</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Bookman Old Style"/>
              </a:rPr>
              <a:t>визначення обов’язків облікових працівників щодо відображення у бухгалтерському обліку операцій з певними видами активів, складання облікових регістрів і формування відповідних показників бухгалтерської звітності.</a:t>
            </a:r>
            <a:endParaRPr b="0" lang="en-US" sz="2100" spc="-1" strike="noStrike">
              <a:solidFill>
                <a:srgbClr val="000000"/>
              </a:solidFill>
              <a:latin typeface="Arial"/>
            </a:endParaRPr>
          </a:p>
        </p:txBody>
      </p:sp>
      <p:sp>
        <p:nvSpPr>
          <p:cNvPr id="7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Группа 3"/>
          <p:cNvGrpSpPr/>
          <p:nvPr/>
        </p:nvGrpSpPr>
        <p:grpSpPr>
          <a:xfrm>
            <a:off x="0" y="0"/>
            <a:ext cx="9144000" cy="6858000"/>
            <a:chOff x="0" y="0"/>
            <a:chExt cx="9144000" cy="6858000"/>
          </a:xfrm>
        </p:grpSpPr>
        <p:sp>
          <p:nvSpPr>
            <p:cNvPr id="39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9"/>
          <p:cNvSpPr/>
          <p:nvPr/>
        </p:nvSpPr>
        <p:spPr>
          <a:xfrm>
            <a:off x="250920" y="344520"/>
            <a:ext cx="8858160" cy="6266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Прибуткові та видаткові касові ордери чи документи, що їх замінюють, до передачі в касу реєструються у </a:t>
            </a:r>
            <a:r>
              <a:rPr b="0" i="1" lang="uk-UA" sz="2700" spc="-1" strike="noStrike">
                <a:solidFill>
                  <a:srgbClr val="000000"/>
                </a:solidFill>
                <a:latin typeface="Bookman Old Style"/>
              </a:rPr>
              <a:t>журналі реєстрації прибуткових та видаткових касових документів</a:t>
            </a:r>
            <a:r>
              <a:rPr b="0" lang="uk-UA" sz="2700" spc="-1" strike="noStrike">
                <a:solidFill>
                  <a:srgbClr val="000000"/>
                </a:solidFill>
                <a:latin typeface="Bookman Old Style"/>
              </a:rPr>
              <a:t> (форма № КО-3, КО-3а).</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Після реєстрації касові ордери передаються бухгалтером у касу підприємства для виконання.</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Всі факти надходження і вибуття готівки на підприємстві відображаються у </a:t>
            </a:r>
            <a:r>
              <a:rPr b="0" i="1" lang="uk-UA" sz="2700" spc="-1" strike="noStrike">
                <a:solidFill>
                  <a:srgbClr val="000000"/>
                </a:solidFill>
                <a:latin typeface="Bookman Old Style"/>
              </a:rPr>
              <a:t>касовій книзі</a:t>
            </a:r>
            <a:r>
              <a:rPr b="0" lang="uk-UA" sz="2700" spc="-1" strike="noStrike">
                <a:solidFill>
                  <a:srgbClr val="000000"/>
                </a:solidFill>
                <a:latin typeface="Bookman Old Style"/>
              </a:rPr>
              <a:t> – обліковому регістрі, призначеному для обліку касових операцій касиром підприємства. У ній в хронологічній послідовності відображається витрачання і надходження готівки, що дає можливість контролювати рух коштів підприємства.</a:t>
            </a:r>
            <a:endParaRPr b="0" lang="en-US" sz="2700" spc="-1" strike="noStrike">
              <a:solidFill>
                <a:srgbClr val="000000"/>
              </a:solidFill>
              <a:latin typeface="Arial"/>
            </a:endParaRPr>
          </a:p>
        </p:txBody>
      </p:sp>
      <p:sp>
        <p:nvSpPr>
          <p:cNvPr id="3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Группа 3"/>
          <p:cNvGrpSpPr/>
          <p:nvPr/>
        </p:nvGrpSpPr>
        <p:grpSpPr>
          <a:xfrm>
            <a:off x="0" y="0"/>
            <a:ext cx="9144000" cy="6858000"/>
            <a:chOff x="0" y="0"/>
            <a:chExt cx="9144000" cy="6858000"/>
          </a:xfrm>
        </p:grpSpPr>
        <p:sp>
          <p:nvSpPr>
            <p:cNvPr id="40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9"/>
          <p:cNvSpPr/>
          <p:nvPr/>
        </p:nvSpPr>
        <p:spPr>
          <a:xfrm>
            <a:off x="250920" y="344520"/>
            <a:ext cx="885816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ожне підприємство, яке має касу, повинно мати одну касову книгу в національній валюті та касові книги окремо на кожну іноземну валюту.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асова книга повинна бути пронумерованою, прошнурованою і опечатаною печаткою.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ількість аркушів у касовій книзі підтверджується підписами керівника та головного бухгалтера підприємства.</a:t>
            </a:r>
            <a:endParaRPr b="0" lang="en-US" sz="3200" spc="-1" strike="noStrike">
              <a:solidFill>
                <a:srgbClr val="000000"/>
              </a:solidFill>
              <a:latin typeface="Arial"/>
            </a:endParaRPr>
          </a:p>
        </p:txBody>
      </p:sp>
      <p:sp>
        <p:nvSpPr>
          <p:cNvPr id="4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Группа 3"/>
          <p:cNvGrpSpPr/>
          <p:nvPr/>
        </p:nvGrpSpPr>
        <p:grpSpPr>
          <a:xfrm>
            <a:off x="0" y="0"/>
            <a:ext cx="9144000" cy="6858000"/>
            <a:chOff x="0" y="0"/>
            <a:chExt cx="9144000" cy="6858000"/>
          </a:xfrm>
        </p:grpSpPr>
        <p:sp>
          <p:nvSpPr>
            <p:cNvPr id="41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9"/>
          <p:cNvSpPr/>
          <p:nvPr/>
        </p:nvSpPr>
        <p:spPr>
          <a:xfrm>
            <a:off x="250920" y="395280"/>
            <a:ext cx="871380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еріодично (щоденно чи у встановлені банком строки) підприємство отримує від банку спеціальну виписку з особового рахунку про всі здійснені операції з надходження та списання коштів з поточного рахунку з доданням виправдовуючих документі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Виписка банку</a:t>
            </a:r>
            <a:r>
              <a:rPr b="0" lang="uk-UA" sz="2800" spc="-1" strike="noStrike">
                <a:solidFill>
                  <a:srgbClr val="000000"/>
                </a:solidFill>
                <a:latin typeface="Bookman Old Style"/>
              </a:rPr>
              <a:t> – документ, який видається банком підприємству та відображає рух грошових коштів на поточному рахунку. </a:t>
            </a:r>
            <a:endParaRPr b="0" lang="en-US" sz="2800" spc="-1" strike="noStrike">
              <a:solidFill>
                <a:srgbClr val="000000"/>
              </a:solidFill>
              <a:latin typeface="Arial"/>
            </a:endParaRPr>
          </a:p>
        </p:txBody>
      </p:sp>
      <p:sp>
        <p:nvSpPr>
          <p:cNvPr id="4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8" name="Группа 3"/>
          <p:cNvGrpSpPr/>
          <p:nvPr/>
        </p:nvGrpSpPr>
        <p:grpSpPr>
          <a:xfrm>
            <a:off x="0" y="0"/>
            <a:ext cx="9144000" cy="6858000"/>
            <a:chOff x="0" y="0"/>
            <a:chExt cx="9144000" cy="6858000"/>
          </a:xfrm>
        </p:grpSpPr>
        <p:sp>
          <p:nvSpPr>
            <p:cNvPr id="41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Box 9"/>
          <p:cNvSpPr/>
          <p:nvPr/>
        </p:nvSpPr>
        <p:spPr>
          <a:xfrm>
            <a:off x="250920" y="395280"/>
            <a:ext cx="8713800" cy="3506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она замінює регістр аналітичного обліку по поточному рахунку і одночасно слугує підставою для здійснення бухгалтерських записі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різних банках форми виписок можуть бути різними, але в кожній обов’язково передбачаються дата, номери рахунків дебітора та кредитора, суми.</a:t>
            </a:r>
            <a:endParaRPr b="0" lang="en-US" sz="2800" spc="-1" strike="noStrike">
              <a:solidFill>
                <a:srgbClr val="000000"/>
              </a:solidFill>
              <a:latin typeface="Arial"/>
            </a:endParaRPr>
          </a:p>
        </p:txBody>
      </p:sp>
      <p:sp>
        <p:nvSpPr>
          <p:cNvPr id="4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Группа 3"/>
          <p:cNvGrpSpPr/>
          <p:nvPr/>
        </p:nvGrpSpPr>
        <p:grpSpPr>
          <a:xfrm>
            <a:off x="0" y="0"/>
            <a:ext cx="9144000" cy="6858000"/>
            <a:chOff x="0" y="0"/>
            <a:chExt cx="9144000" cy="6858000"/>
          </a:xfrm>
        </p:grpSpPr>
        <p:sp>
          <p:nvSpPr>
            <p:cNvPr id="42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9"/>
          <p:cNvSpPr/>
          <p:nvPr/>
        </p:nvSpPr>
        <p:spPr>
          <a:xfrm>
            <a:off x="250920" y="39528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7" name="Объект 2"/>
          <p:cNvGraphicFramePr/>
          <p:nvPr/>
        </p:nvGraphicFramePr>
        <p:xfrm>
          <a:off x="755640" y="549360"/>
          <a:ext cx="7561440" cy="5761080"/>
        </p:xfrm>
        <a:graphic>
          <a:graphicData uri="http://schemas.openxmlformats.org/presentationml/2006/ole">
            <p:oleObj r:id="rId1" spid="">
              <p:embed/>
              <p:pic>
                <p:nvPicPr>
                  <p:cNvPr id="438" name="Объект 2" descr=""/>
                  <p:cNvPicPr/>
                  <p:nvPr/>
                </p:nvPicPr>
                <p:blipFill>
                  <a:blip r:embed="rId2"/>
                  <a:stretch/>
                </p:blipFill>
                <p:spPr>
                  <a:xfrm>
                    <a:off x="755640" y="549360"/>
                    <a:ext cx="7561440" cy="57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Группа 3"/>
          <p:cNvGrpSpPr/>
          <p:nvPr/>
        </p:nvGrpSpPr>
        <p:grpSpPr>
          <a:xfrm>
            <a:off x="0" y="0"/>
            <a:ext cx="9144000" cy="6858000"/>
            <a:chOff x="0" y="0"/>
            <a:chExt cx="9144000" cy="6858000"/>
          </a:xfrm>
        </p:grpSpPr>
        <p:sp>
          <p:nvSpPr>
            <p:cNvPr id="44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Box 9"/>
          <p:cNvSpPr/>
          <p:nvPr/>
        </p:nvSpPr>
        <p:spPr>
          <a:xfrm>
            <a:off x="250920" y="395280"/>
            <a:ext cx="8713800" cy="3080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Дебіторська заборгованіст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ідображення у бухгалтерському обліку дебіторської заборгованості здійснюється на підставі господарських договорів і первинних документів, які засвідчують факт здійснення господарської операції.</a:t>
            </a:r>
            <a:endParaRPr b="0" lang="en-US" sz="2800" spc="-1" strike="noStrike">
              <a:solidFill>
                <a:srgbClr val="000000"/>
              </a:solidFill>
              <a:latin typeface="Arial"/>
            </a:endParaRPr>
          </a:p>
        </p:txBody>
      </p:sp>
      <p:sp>
        <p:nvSpPr>
          <p:cNvPr id="4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 name="Группа 3"/>
          <p:cNvGrpSpPr/>
          <p:nvPr/>
        </p:nvGrpSpPr>
        <p:grpSpPr>
          <a:xfrm>
            <a:off x="0" y="0"/>
            <a:ext cx="9144000" cy="6858000"/>
            <a:chOff x="0" y="0"/>
            <a:chExt cx="9144000" cy="6858000"/>
          </a:xfrm>
        </p:grpSpPr>
        <p:sp>
          <p:nvSpPr>
            <p:cNvPr id="4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9"/>
          <p:cNvSpPr/>
          <p:nvPr/>
        </p:nvSpPr>
        <p:spPr>
          <a:xfrm>
            <a:off x="250920" y="39528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8" name=""/>
          <p:cNvGraphicFramePr/>
          <p:nvPr/>
        </p:nvGraphicFramePr>
        <p:xfrm>
          <a:off x="250920" y="228600"/>
          <a:ext cx="8640720" cy="6426360"/>
        </p:xfrm>
        <a:graphic>
          <a:graphicData uri="http://schemas.openxmlformats.org/drawingml/2006/table">
            <a:tbl>
              <a:tblPr/>
              <a:tblGrid>
                <a:gridCol w="2263680"/>
                <a:gridCol w="6377040"/>
              </a:tblGrid>
              <a:tr h="415800">
                <a:tc>
                  <a:txBody>
                    <a:bodyPr lIns="54000" rIns="54000" tIns="0" bIns="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ид дебіторської заборгованості</a:t>
                      </a:r>
                      <a:endParaRPr b="0" lang="en-US" sz="1400" spc="-1" strike="noStrike">
                        <a:solidFill>
                          <a:srgbClr val="000000"/>
                        </a:solidFill>
                        <a:latin typeface="Arial"/>
                      </a:endParaRPr>
                    </a:p>
                  </a:txBody>
                  <a:tcPr anchor="ctr"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кументи</a:t>
                      </a:r>
                      <a:endParaRPr b="0" lang="en-US" sz="1400" spc="-1" strike="noStrike">
                        <a:solidFill>
                          <a:srgbClr val="000000"/>
                        </a:solidFill>
                        <a:latin typeface="Arial"/>
                      </a:endParaRPr>
                    </a:p>
                  </a:txBody>
                  <a:tcPr anchor="ctr"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54000" rIns="5400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 майно, передане у фінансову оренд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говір оренди, акт приймання-передачі основних засобів, довідки та розрахунки бухгалтерії</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7720">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екселі одержані</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ексель, акт приймання-передачі векселя, ПКО,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5680">
                <a:tc>
                  <a:txBody>
                    <a:bodyPr lIns="54000" rIns="5400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 вітчизняними покупця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Накладна, рахунок-фактура, рахунок, акт приймання-передачі виконаних робіт, довідка (розрахунок) бухгалтерії, податкова накладна, товарно-транспортна накладна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1600">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 іноземними покупця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Комерційні документи (рахунки-фактури – invoice), транспортні накладні (CMR – залізнична накладна, авіанакладна, коносамент, товарно-транспортна накладна, пакувальні листи), платіжні документи на перерахування сум митних платежів та інших податків, розрахунок бухгалтерії,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6160">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езерв сумнівних боргів</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відка, розрахунок бухгалтерії</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396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виданими аванса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латіжне доручення,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 підзвітними особа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віт про використання коштів наданих на відрядження або під звіт з доданими виправдовуючими документами, ПКО, ВКО</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нарахованими дохода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відка, розрахунок бухгалтерії, виписка банку, ПКО, ВКО</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396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претензія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етензія, акт приймання вантажу, рішення судових органів (арбітражу), письмова згода постачальника на пред’явлену претензію, виписка банк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388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відшкодуванням завданих збитків</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ротокол засідання інвентаризаційної комісії, наказ керівника, документи, які підтверджують внески з відшкодування матеріальної шкоди – накладна, ПКО тощо, заява працівника</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23880">
                <a:tc>
                  <a:txBody>
                    <a:bodyPr lIns="54000" rIns="54000" tIns="0" bIns="0" anchor="t">
                      <a:noAutofit/>
                    </a:bodyPr>
                    <a:p>
                      <a:pPr>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а позиками членам кредитних спілок</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Договір між членами кредитних спілок, ВКО, платіжне доручення, накладна, квитанція до прибуткового касового ордеру</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Розрахунки з іншими дебіторами</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4000" rIns="54000" tIns="0" bIns="0" anchor="t">
                      <a:noAutofit/>
                    </a:bodyPr>
                    <a:p>
                      <a:pPr algn="just">
                        <a:lnSpc>
                          <a:spcPct val="9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ПКО, ВКО, накладна, рахунок, виписка банку, довідка (розрахунок) бухгалтерії</a:t>
                      </a:r>
                      <a:endParaRPr b="0" lang="en-US" sz="14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 name="Группа 3"/>
          <p:cNvGrpSpPr/>
          <p:nvPr/>
        </p:nvGrpSpPr>
        <p:grpSpPr>
          <a:xfrm>
            <a:off x="0" y="0"/>
            <a:ext cx="9144000" cy="6858000"/>
            <a:chOff x="0" y="0"/>
            <a:chExt cx="9144000" cy="6858000"/>
          </a:xfrm>
        </p:grpSpPr>
        <p:sp>
          <p:nvSpPr>
            <p:cNvPr id="4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Box 9"/>
          <p:cNvSpPr/>
          <p:nvPr/>
        </p:nvSpPr>
        <p:spPr>
          <a:xfrm>
            <a:off x="250920" y="395280"/>
            <a:ext cx="871380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собливої уваги потребують розрахунки з підзвітними особам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правлення працівників підприємства у відрядження здійснюється керівником підприємства з оформленням наказу, в якому зазначаються: пункт призначення, назва підприємства, куди відправляється працівник, строк і мета відрядження. Наказ про направлення працівника у відрядження є підставою для видачі йому відповідного посвідчення про відрядження. Окрім наказу, складається кошторис витрат для розрахунку необхідної до видачі суми авансу.</a:t>
            </a:r>
            <a:endParaRPr b="0" lang="en-US" sz="2800" spc="-1" strike="noStrike">
              <a:solidFill>
                <a:srgbClr val="000000"/>
              </a:solidFill>
              <a:latin typeface="Arial"/>
            </a:endParaRPr>
          </a:p>
        </p:txBody>
      </p:sp>
      <p:sp>
        <p:nvSpPr>
          <p:cNvPr id="4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Группа 3"/>
          <p:cNvGrpSpPr/>
          <p:nvPr/>
        </p:nvGrpSpPr>
        <p:grpSpPr>
          <a:xfrm>
            <a:off x="0" y="0"/>
            <a:ext cx="9144000" cy="6858000"/>
            <a:chOff x="0" y="0"/>
            <a:chExt cx="9144000" cy="6858000"/>
          </a:xfrm>
        </p:grpSpPr>
        <p:sp>
          <p:nvSpPr>
            <p:cNvPr id="4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9"/>
          <p:cNvSpPr/>
          <p:nvPr/>
        </p:nvSpPr>
        <p:spPr>
          <a:xfrm>
            <a:off x="250920" y="395280"/>
            <a:ext cx="871380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000" spc="-1" strike="noStrike">
                <a:solidFill>
                  <a:srgbClr val="000000"/>
                </a:solidFill>
                <a:latin typeface="Arial"/>
              </a:rPr>
              <a:t>Посвідчення про відрядження</a:t>
            </a:r>
            <a:r>
              <a:rPr b="0" lang="uk-UA" sz="3000" spc="-1" strike="noStrike">
                <a:solidFill>
                  <a:srgbClr val="000000"/>
                </a:solidFill>
                <a:latin typeface="Arial"/>
              </a:rPr>
              <a:t> – це документ, який видається працівнику підприємства для виконання службового доручення поза постійним місцем роботи, тобто у відрядженні. Даний документ підлягає реєстрації у Журналі реєстрації посвідчень про відрядження.</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Важливими документами для оформлення відрядження є: запрошення приймаючої сторони, укладений договір, документи, які засвідчують участь відрядженої особи в переговорах, конференціях чи симпозіумах, тематика яких збігається з основною діяльністю підприємства.</a:t>
            </a:r>
            <a:endParaRPr b="0" lang="en-US" sz="3000" spc="-1" strike="noStrike">
              <a:solidFill>
                <a:srgbClr val="000000"/>
              </a:solidFill>
              <a:latin typeface="Arial"/>
            </a:endParaRPr>
          </a:p>
        </p:txBody>
      </p:sp>
      <p:sp>
        <p:nvSpPr>
          <p:cNvPr id="4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7" name="Группа 3"/>
          <p:cNvGrpSpPr/>
          <p:nvPr/>
        </p:nvGrpSpPr>
        <p:grpSpPr>
          <a:xfrm>
            <a:off x="0" y="0"/>
            <a:ext cx="9144000" cy="6858000"/>
            <a:chOff x="0" y="0"/>
            <a:chExt cx="9144000" cy="6858000"/>
          </a:xfrm>
        </p:grpSpPr>
        <p:sp>
          <p:nvSpPr>
            <p:cNvPr id="47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9"/>
          <p:cNvSpPr/>
          <p:nvPr/>
        </p:nvSpPr>
        <p:spPr>
          <a:xfrm>
            <a:off x="271440" y="20304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рацівники, які одержали готівку в підзвіт, після повернення з відрядження, у встановлені терміни, зобов’язані подати до бухгалтерської служби підприємства звіт про використання коштів наданих на відрядження або під звіт про витрачені суми, до якого повинні додаватися всі виправдовуючі документи: акт закупівлі, чеки, квитанції, авіаційні рахунки та інші проїзні квитки. Обов’язковим реквізитом звіту про використання грошових коштів, наданих на відрядження або під звіт, є резолюція керівника підприємства або уповноваженої ним особи про затвердження вказаної суми витрат та його підпис.</a:t>
            </a:r>
            <a:endParaRPr b="0" lang="en-US" sz="2800" spc="-1" strike="noStrike">
              <a:solidFill>
                <a:srgbClr val="000000"/>
              </a:solidFill>
              <a:latin typeface="Arial"/>
            </a:endParaRPr>
          </a:p>
        </p:txBody>
      </p:sp>
      <p:sp>
        <p:nvSpPr>
          <p:cNvPr id="4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Группа 3"/>
          <p:cNvGrpSpPr/>
          <p:nvPr/>
        </p:nvGrpSpPr>
        <p:grpSpPr>
          <a:xfrm>
            <a:off x="0" y="0"/>
            <a:ext cx="9144000" cy="6858000"/>
            <a:chOff x="0" y="0"/>
            <a:chExt cx="9144000" cy="6858000"/>
          </a:xfrm>
        </p:grpSpPr>
        <p:sp>
          <p:nvSpPr>
            <p:cNvPr id="8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8"/>
          <p:cNvSpPr/>
          <p:nvPr/>
        </p:nvSpPr>
        <p:spPr>
          <a:xfrm>
            <a:off x="428760" y="468360"/>
            <a:ext cx="84294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едення бухгалтерського обліку забезпечується Положенням про облікову політику, яке в обов’язковому порядку в розділі, який визначає методику бухгалтерського обліку підприємства, повинно передбачати положення щодо обліку необоротних і оборотних активів</a:t>
            </a:r>
            <a:r>
              <a:rPr b="0" lang="uk-U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6" name="Группа 3"/>
          <p:cNvGrpSpPr/>
          <p:nvPr/>
        </p:nvGrpSpPr>
        <p:grpSpPr>
          <a:xfrm>
            <a:off x="0" y="0"/>
            <a:ext cx="9144000" cy="6858000"/>
            <a:chOff x="0" y="0"/>
            <a:chExt cx="9144000" cy="6858000"/>
          </a:xfrm>
        </p:grpSpPr>
        <p:sp>
          <p:nvSpPr>
            <p:cNvPr id="4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Box 9"/>
          <p:cNvSpPr/>
          <p:nvPr/>
        </p:nvSpPr>
        <p:spPr>
          <a:xfrm>
            <a:off x="271440" y="203040"/>
            <a:ext cx="871380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Аналітичний облік основних засобів </a:t>
            </a:r>
            <a:r>
              <a:rPr b="0" lang="uk-UA" sz="2800" spc="-1" strike="noStrike">
                <a:solidFill>
                  <a:srgbClr val="000000"/>
                </a:solidFill>
                <a:latin typeface="Bookman Old Style"/>
              </a:rPr>
              <a:t>забезпечується у розрізі окремих об’єктів за допомогою інвентарних карток, які застосовуються для всіх основних засобів, а також для групового обліку однотипних об’єктів, які надійшли в експлуатацію в одному календарному місяці і які мають одне й те ж виробничо-господарське призначення, технічні характеристики й вартість.</a:t>
            </a:r>
            <a:endParaRPr b="0" lang="en-US" sz="2800" spc="-1" strike="noStrike">
              <a:solidFill>
                <a:srgbClr val="000000"/>
              </a:solidFill>
              <a:latin typeface="Arial"/>
            </a:endParaRPr>
          </a:p>
        </p:txBody>
      </p:sp>
      <p:sp>
        <p:nvSpPr>
          <p:cNvPr id="4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Скругленный прямоугольник 10"/>
          <p:cNvSpPr/>
          <p:nvPr/>
        </p:nvSpPr>
        <p:spPr>
          <a:xfrm>
            <a:off x="324000" y="228600"/>
            <a:ext cx="8820000" cy="1039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3. Організація аналітичного обліку акт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Группа 3"/>
          <p:cNvGrpSpPr/>
          <p:nvPr/>
        </p:nvGrpSpPr>
        <p:grpSpPr>
          <a:xfrm>
            <a:off x="0" y="0"/>
            <a:ext cx="9144000" cy="6858000"/>
            <a:chOff x="0" y="0"/>
            <a:chExt cx="9144000" cy="6858000"/>
          </a:xfrm>
        </p:grpSpPr>
        <p:sp>
          <p:nvSpPr>
            <p:cNvPr id="4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9"/>
          <p:cNvSpPr/>
          <p:nvPr/>
        </p:nvSpPr>
        <p:spPr>
          <a:xfrm>
            <a:off x="271440" y="203040"/>
            <a:ext cx="8713800" cy="478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ля організації бухгалтерського обліку та забезпечення контролю за збереженням основних засобів кожному об’єкту основних засобів (інвентарному об’єкту) незалежно від того, чи знаходиться він в експлуатації, в запасі або на консервації, при прийнятті їх до бухгалтерського обліку повинен присвоюватися відповідний інвентарний номер, який позначається на ньому шляхом прикріплення металевого жетону, нанесення фарбою, насічки або таврування.</a:t>
            </a:r>
            <a:endParaRPr b="0" lang="en-US" sz="2800" spc="-1" strike="noStrike">
              <a:solidFill>
                <a:srgbClr val="000000"/>
              </a:solidFill>
              <a:latin typeface="Arial"/>
            </a:endParaRPr>
          </a:p>
        </p:txBody>
      </p:sp>
      <p:sp>
        <p:nvSpPr>
          <p:cNvPr id="5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Группа 3"/>
          <p:cNvGrpSpPr/>
          <p:nvPr/>
        </p:nvGrpSpPr>
        <p:grpSpPr>
          <a:xfrm>
            <a:off x="0" y="0"/>
            <a:ext cx="9144000" cy="6858000"/>
            <a:chOff x="0" y="0"/>
            <a:chExt cx="9144000" cy="6858000"/>
          </a:xfrm>
        </p:grpSpPr>
        <p:sp>
          <p:nvSpPr>
            <p:cNvPr id="5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TextBox 9"/>
          <p:cNvSpPr/>
          <p:nvPr/>
        </p:nvSpPr>
        <p:spPr>
          <a:xfrm>
            <a:off x="271440" y="20304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Інвентарний номер об’єкта основних засобів зберігається за ним на весь період його знаходження на даному підприємстві та вказується в усіх первинних документах і облікових регістрах.</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випадку, якщо інвентарний об’єкт має декілька частин, які мають різний термін корисного використання і обліковуються як самостійні інвентарні об’єкти, кожній частині привласнюється окремий інвентарний номер. Якщо для об’єкта, складеного з декількох частин, встановлено загальний термін корисного використання, даний об’єкт обліковується за одним інвентарним номером.</a:t>
            </a:r>
            <a:endParaRPr b="0" lang="en-US" sz="2800" spc="-1" strike="noStrike">
              <a:solidFill>
                <a:srgbClr val="000000"/>
              </a:solidFill>
              <a:latin typeface="Arial"/>
            </a:endParaRPr>
          </a:p>
        </p:txBody>
      </p:sp>
      <p:sp>
        <p:nvSpPr>
          <p:cNvPr id="5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Группа 3"/>
          <p:cNvGrpSpPr/>
          <p:nvPr/>
        </p:nvGrpSpPr>
        <p:grpSpPr>
          <a:xfrm>
            <a:off x="0" y="0"/>
            <a:ext cx="9144000" cy="6858000"/>
            <a:chOff x="0" y="0"/>
            <a:chExt cx="9144000" cy="6858000"/>
          </a:xfrm>
        </p:grpSpPr>
        <p:sp>
          <p:nvSpPr>
            <p:cNvPr id="5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9"/>
          <p:cNvSpPr/>
          <p:nvPr/>
        </p:nvSpPr>
        <p:spPr>
          <a:xfrm>
            <a:off x="271440" y="203040"/>
            <a:ext cx="8713800" cy="3933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Інвентарні номери списаних об’єктів основних засобів не присвоюються новим об’єктам протягом п’яти років після списання.</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птимальною величиною інвентарного номеру може бути десять знаків (розрядів), кожен з яких містить певну інформацію. Наприклад, легковий автомобіль ВАЗ-2107 може мати наступний інвентарний номер – 1050100001. Це означає:</a:t>
            </a:r>
            <a:endParaRPr b="0" lang="en-US" sz="2800" spc="-1" strike="noStrike">
              <a:solidFill>
                <a:srgbClr val="000000"/>
              </a:solidFill>
              <a:latin typeface="Arial"/>
            </a:endParaRPr>
          </a:p>
        </p:txBody>
      </p:sp>
      <p:sp>
        <p:nvSpPr>
          <p:cNvPr id="5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3" name="Группа 3"/>
          <p:cNvGrpSpPr/>
          <p:nvPr/>
        </p:nvGrpSpPr>
        <p:grpSpPr>
          <a:xfrm>
            <a:off x="0" y="0"/>
            <a:ext cx="9144000" cy="6858000"/>
            <a:chOff x="0" y="0"/>
            <a:chExt cx="9144000" cy="6858000"/>
          </a:xfrm>
        </p:grpSpPr>
        <p:sp>
          <p:nvSpPr>
            <p:cNvPr id="52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3" name="Объект 2"/>
          <p:cNvGraphicFramePr/>
          <p:nvPr/>
        </p:nvGraphicFramePr>
        <p:xfrm>
          <a:off x="395280" y="1268280"/>
          <a:ext cx="8610480" cy="1873440"/>
        </p:xfrm>
        <a:graphic>
          <a:graphicData uri="http://schemas.openxmlformats.org/presentationml/2006/ole">
            <p:oleObj r:id="rId1" spid="">
              <p:embed/>
              <p:pic>
                <p:nvPicPr>
                  <p:cNvPr id="534" name="Объект 2" descr=""/>
                  <p:cNvPicPr/>
                  <p:nvPr/>
                </p:nvPicPr>
                <p:blipFill>
                  <a:blip r:embed="rId2"/>
                  <a:stretch/>
                </p:blipFill>
                <p:spPr>
                  <a:xfrm>
                    <a:off x="395280" y="1268280"/>
                    <a:ext cx="8610480" cy="18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Группа 3"/>
          <p:cNvGrpSpPr/>
          <p:nvPr/>
        </p:nvGrpSpPr>
        <p:grpSpPr>
          <a:xfrm>
            <a:off x="0" y="0"/>
            <a:ext cx="9144000" cy="6858000"/>
            <a:chOff x="0" y="0"/>
            <a:chExt cx="9144000" cy="6858000"/>
          </a:xfrm>
        </p:grpSpPr>
        <p:sp>
          <p:nvSpPr>
            <p:cNvPr id="5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Объект 2"/>
          <p:cNvGraphicFramePr/>
          <p:nvPr/>
        </p:nvGraphicFramePr>
        <p:xfrm>
          <a:off x="504720" y="380880"/>
          <a:ext cx="8028000" cy="5208840"/>
        </p:xfrm>
        <a:graphic>
          <a:graphicData uri="http://schemas.openxmlformats.org/presentationml/2006/ole">
            <p:oleObj r:id="rId1" spid="">
              <p:embed/>
              <p:pic>
                <p:nvPicPr>
                  <p:cNvPr id="546" name="Объект 2" descr=""/>
                  <p:cNvPicPr/>
                  <p:nvPr/>
                </p:nvPicPr>
                <p:blipFill>
                  <a:blip r:embed="rId2"/>
                  <a:stretch/>
                </p:blipFill>
                <p:spPr>
                  <a:xfrm>
                    <a:off x="504720" y="380880"/>
                    <a:ext cx="8028000" cy="520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7" name="Группа 3"/>
          <p:cNvGrpSpPr/>
          <p:nvPr/>
        </p:nvGrpSpPr>
        <p:grpSpPr>
          <a:xfrm>
            <a:off x="0" y="0"/>
            <a:ext cx="9144000" cy="6858000"/>
            <a:chOff x="0" y="0"/>
            <a:chExt cx="9144000" cy="6858000"/>
          </a:xfrm>
        </p:grpSpPr>
        <p:sp>
          <p:nvSpPr>
            <p:cNvPr id="54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Box 9"/>
          <p:cNvSpPr/>
          <p:nvPr/>
        </p:nvSpPr>
        <p:spPr>
          <a:xfrm>
            <a:off x="271440" y="203040"/>
            <a:ext cx="8713800" cy="5854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Об’єкти, прийняті в операційну оренду як необоротні активи, обліковуються в орендаря за інвентарними номерами орендодавця відповідно до інвентарної картки, яка повинна додаватися орендодавцем до акту приймання-передачі об’єктів, які орендуються</a:t>
            </a:r>
            <a:r>
              <a:rPr b="0" lang="uk-UA" sz="2700" spc="-1" strike="noStrike">
                <a:solidFill>
                  <a:srgbClr val="000000"/>
                </a:solidFill>
                <a:latin typeface="Arial"/>
              </a:rPr>
              <a:t>.</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Bookman Old Style"/>
              </a:rPr>
              <a:t>Аналітичний облік нематеріальних активів </a:t>
            </a:r>
            <a:r>
              <a:rPr b="0" lang="uk-UA" sz="2700" spc="-1" strike="noStrike">
                <a:solidFill>
                  <a:srgbClr val="000000"/>
                </a:solidFill>
                <a:latin typeface="Bookman Old Style"/>
              </a:rPr>
              <a:t>організовується за їх видами та інвентарними об’єктами, на кожен з яких відкривається картка обліку нематеріальних активів (НА-2). Підприємство може самостійно розробляти додаткові субрахунки та аналітичні рахунки, виходячи зі специфіки діяльності, конкретних потреб, завдань управління та контролю.</a:t>
            </a:r>
            <a:endParaRPr b="0" lang="en-US" sz="2700" spc="-1" strike="noStrike">
              <a:solidFill>
                <a:srgbClr val="000000"/>
              </a:solidFill>
              <a:latin typeface="Arial"/>
            </a:endParaRPr>
          </a:p>
        </p:txBody>
      </p:sp>
      <p:sp>
        <p:nvSpPr>
          <p:cNvPr id="5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6" name="Группа 3"/>
          <p:cNvGrpSpPr/>
          <p:nvPr/>
        </p:nvGrpSpPr>
        <p:grpSpPr>
          <a:xfrm>
            <a:off x="0" y="0"/>
            <a:ext cx="9144000" cy="6858000"/>
            <a:chOff x="0" y="0"/>
            <a:chExt cx="9144000" cy="6858000"/>
          </a:xfrm>
        </p:grpSpPr>
        <p:sp>
          <p:nvSpPr>
            <p:cNvPr id="55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
          <p:cNvGraphicFramePr/>
          <p:nvPr/>
        </p:nvGraphicFramePr>
        <p:xfrm>
          <a:off x="395280" y="620640"/>
          <a:ext cx="8454960" cy="3452760"/>
        </p:xfrm>
        <a:graphic>
          <a:graphicData uri="http://schemas.openxmlformats.org/drawingml/2006/table">
            <a:tbl>
              <a:tblPr/>
              <a:tblGrid>
                <a:gridCol w="2906640"/>
                <a:gridCol w="5548320"/>
              </a:tblGrid>
              <a:tr h="527040">
                <a:tc>
                  <a:txBody>
                    <a:bodyPr lIns="68760" rIns="68760" tIns="0" bIns="0" anchor="t">
                      <a:noAutofit/>
                    </a:bodyPr>
                    <a:p>
                      <a:pPr algn="ct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Субрахунки до рахунку 12 “Нематеріальні актив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Розрізи аналітичного облік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1 “Права користування природними ресурсами”</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видів природних ресурсів і матеріально відповідальних осіб</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2 “Права користування майном”</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об’єктів майна, місць зберігання і матеріально відповідальних осіб</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3 “Права на знаки для товарів і послуг”</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класифікації пра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88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4 “Права на об’єкти промислової власност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класифікації прав і матеріально відповідальних осіб</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5 “Авторські та суміжні з ними прав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класифікації пра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27 “Інші нематеріальні активи”</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класифікації пра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Группа 3"/>
          <p:cNvGrpSpPr/>
          <p:nvPr/>
        </p:nvGrpSpPr>
        <p:grpSpPr>
          <a:xfrm>
            <a:off x="0" y="0"/>
            <a:ext cx="9144000" cy="6858000"/>
            <a:chOff x="0" y="0"/>
            <a:chExt cx="9144000" cy="6858000"/>
          </a:xfrm>
        </p:grpSpPr>
        <p:sp>
          <p:nvSpPr>
            <p:cNvPr id="56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9"/>
          <p:cNvSpPr/>
          <p:nvPr/>
        </p:nvSpPr>
        <p:spPr>
          <a:xfrm>
            <a:off x="271440" y="203040"/>
            <a:ext cx="87138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Аналітичний облік фінансових інвестицій </a:t>
            </a:r>
            <a:r>
              <a:rPr b="0" lang="uk-UA" sz="3200" spc="-1" strike="noStrike">
                <a:solidFill>
                  <a:srgbClr val="000000"/>
                </a:solidFill>
                <a:latin typeface="Bookman Old Style"/>
              </a:rPr>
              <a:t>ведеться за їх видами та об’єктами інвестування. Побудова аналітичного обліку повинна забезпечити можливість отримання інформації про фінансові інвестиції в об’єкти як на території України, так і за кордоном.</a:t>
            </a:r>
            <a:endParaRPr b="0" lang="en-US" sz="3200" spc="-1" strike="noStrike">
              <a:solidFill>
                <a:srgbClr val="000000"/>
              </a:solidFill>
              <a:latin typeface="Arial"/>
            </a:endParaRPr>
          </a:p>
        </p:txBody>
      </p:sp>
      <p:sp>
        <p:nvSpPr>
          <p:cNvPr id="5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Группа 3"/>
          <p:cNvGrpSpPr/>
          <p:nvPr/>
        </p:nvGrpSpPr>
        <p:grpSpPr>
          <a:xfrm>
            <a:off x="0" y="0"/>
            <a:ext cx="9144000" cy="6858000"/>
            <a:chOff x="0" y="0"/>
            <a:chExt cx="9144000" cy="6858000"/>
          </a:xfrm>
        </p:grpSpPr>
        <p:sp>
          <p:nvSpPr>
            <p:cNvPr id="57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6" name=""/>
          <p:cNvGraphicFramePr/>
          <p:nvPr/>
        </p:nvGraphicFramePr>
        <p:xfrm>
          <a:off x="581040" y="765000"/>
          <a:ext cx="8094600" cy="4280040"/>
        </p:xfrm>
        <a:graphic>
          <a:graphicData uri="http://schemas.openxmlformats.org/drawingml/2006/table">
            <a:tbl>
              <a:tblPr/>
              <a:tblGrid>
                <a:gridCol w="422280"/>
                <a:gridCol w="1738440"/>
                <a:gridCol w="5933880"/>
              </a:tblGrid>
              <a:tr h="841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 </a:t>
                      </a:r>
                      <a:r>
                        <a:rPr b="0" lang="uk-UA" sz="1600" spc="-1" strike="noStrike">
                          <a:solidFill>
                            <a:srgbClr val="000000"/>
                          </a:solidFill>
                          <a:latin typeface="Bookman Old Style"/>
                        </a:rPr>
                        <a:t>з/п</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Вид цінного папер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Розрізи аналітичного обліку</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20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Акції вітчизняних акціонерних товарист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За акціонерними товариствами та видами акцій із зазначенням номінальної і фактичної вартості</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700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Акції іноземних акціонерних товарист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За акціонерними товариствами та видами акцій в гривнях та іноземній валюті, в якій вони випущені</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6368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Ощадні сертифікат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У розрізі установ банку і строків відшкодування грошових кошті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27000">
                <a:tc>
                  <a:txBody>
                    <a:bodyPr lIns="68760" rIns="6876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Облігації</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rPr>
                        <a:t>За строками, видами та емітентами із забезпеченням можливості одержання даних про фінансові інвестиції в Україні і за кордоном, а також у національній та іноземній валюті</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Группа 3"/>
          <p:cNvGrpSpPr/>
          <p:nvPr/>
        </p:nvGrpSpPr>
        <p:grpSpPr>
          <a:xfrm>
            <a:off x="0" y="0"/>
            <a:ext cx="9144000" cy="6858000"/>
            <a:chOff x="0" y="0"/>
            <a:chExt cx="9144000" cy="6858000"/>
          </a:xfrm>
        </p:grpSpPr>
        <p:sp>
          <p:nvSpPr>
            <p:cNvPr id="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8"/>
          <p:cNvSpPr/>
          <p:nvPr/>
        </p:nvSpPr>
        <p:spPr>
          <a:xfrm>
            <a:off x="285840" y="285840"/>
            <a:ext cx="871524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ложенням про облікову політику повинні врегульовуватися питання, які або не закріплено на законодавчому рівні, або щодо яких існують альтернативні варіанти.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е слід у Положенні про облікову політику повторювати питання щодо ведення бухгалтерського обліку активів, які чітко визначено відповідними П(С)БО, або іншими нормативними документами, що регулюють облік оборотних і необоротних акт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Группа 3"/>
          <p:cNvGrpSpPr/>
          <p:nvPr/>
        </p:nvGrpSpPr>
        <p:grpSpPr>
          <a:xfrm>
            <a:off x="0" y="0"/>
            <a:ext cx="9144000" cy="6858000"/>
            <a:chOff x="0" y="0"/>
            <a:chExt cx="9144000" cy="6858000"/>
          </a:xfrm>
        </p:grpSpPr>
        <p:sp>
          <p:nvSpPr>
            <p:cNvPr id="58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9"/>
          <p:cNvSpPr/>
          <p:nvPr/>
        </p:nvSpPr>
        <p:spPr>
          <a:xfrm>
            <a:off x="271440" y="203040"/>
            <a:ext cx="8713800" cy="3018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Запас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треба в організації аналітичного обліку виробничих запасів обумовлена, по-перше, наявністю великої кількості складів для їх зберігання; по-друге, значною їх номенклатурою.</a:t>
            </a:r>
            <a:endParaRPr b="0" lang="en-US" sz="3200" spc="-1" strike="noStrike">
              <a:solidFill>
                <a:srgbClr val="000000"/>
              </a:solidFill>
              <a:latin typeface="Arial"/>
            </a:endParaRPr>
          </a:p>
        </p:txBody>
      </p:sp>
      <p:sp>
        <p:nvSpPr>
          <p:cNvPr id="5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6" name="Группа 3"/>
          <p:cNvGrpSpPr/>
          <p:nvPr/>
        </p:nvGrpSpPr>
        <p:grpSpPr>
          <a:xfrm>
            <a:off x="0" y="0"/>
            <a:ext cx="9144000" cy="6858000"/>
            <a:chOff x="0" y="0"/>
            <a:chExt cx="9144000" cy="6858000"/>
          </a:xfrm>
        </p:grpSpPr>
        <p:sp>
          <p:nvSpPr>
            <p:cNvPr id="5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6" name=""/>
          <p:cNvGraphicFramePr/>
          <p:nvPr/>
        </p:nvGraphicFramePr>
        <p:xfrm>
          <a:off x="324000" y="549360"/>
          <a:ext cx="8569080" cy="4800600"/>
        </p:xfrm>
        <a:graphic>
          <a:graphicData uri="http://schemas.openxmlformats.org/drawingml/2006/table">
            <a:tbl>
              <a:tblPr/>
              <a:tblGrid>
                <a:gridCol w="2305080"/>
                <a:gridCol w="6264000"/>
              </a:tblGrid>
              <a:tr h="3841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Субрахунки рахунку 20 “Виробничі запас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ізи аналітик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12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1 “Сировина й матеріал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видів та груп сировини, місць зберігання та матеріально відповідальних осіб</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2 “Купівельні напівфабрикати та комплектуючі вироб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купівельних напівфабрикатів і комплектуючих виробів, місць зберігання та матеріально відповідальних осіб</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12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3 “Паливо”</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видів палива, місць зберігання та матеріально відповідальних осіб</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412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4 “Тара й тарні матеріал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видів тари й тарних матеріалів і матеріально відповідальних осіб</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3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5 “Будівельні матеріал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видами (групами) та окремими об’єктами будівельних матеріал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6 “Матеріали, передані в переробк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який забезпечує отримання даних про підприємство-переробника та контроль за операціями з переробки, за відповідними витратам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6012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7 “Запасні частин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місцями зберігання й однорідними групами (механічна група, електрична група тощо). Аналітичний облік машин, обладнання, двигунів, вузлів та агрегатів обмінного фонду також ведеться за групами: придатні до експлуатації (нові та відновлені); що підлягають відновленню (на складі); що знаходяться в ремонті</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8 “Матеріали сільськогосподарського призначення”</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групами та видами матеріалів сільськогосподарського призначення в розрізі їх номенклатур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188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209 “Інші матеріали”</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видами та групами інших матеріал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7" name="Группа 3"/>
          <p:cNvGrpSpPr/>
          <p:nvPr/>
        </p:nvGrpSpPr>
        <p:grpSpPr>
          <a:xfrm>
            <a:off x="0" y="0"/>
            <a:ext cx="9144000" cy="6858000"/>
            <a:chOff x="0" y="0"/>
            <a:chExt cx="9144000" cy="6858000"/>
          </a:xfrm>
        </p:grpSpPr>
        <p:sp>
          <p:nvSpPr>
            <p:cNvPr id="60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Box 9"/>
          <p:cNvSpPr/>
          <p:nvPr/>
        </p:nvSpPr>
        <p:spPr>
          <a:xfrm>
            <a:off x="271440" y="203040"/>
            <a:ext cx="8713800" cy="6266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Найбільш типовими розрізами аналітичного обліку можуть бути: склади, комори, матеріально відповідальні особи, групи запасів, види діяльності тощ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Аналітичний облік виробничих запасів ведеться за допомогою карток складського обліку, які розміщуються в картотеці за групами виробничих запасів. Кожна з груп виробничих запасів може поділятися за видами, сортами, марками, типами, розмірами, яким присвоюється коротке числове позначення (номенклатурний номер). Номенклатурний номер записується до спеціального реєстру – номенклатури-цінника, де також вказується одиниця виміру та облікова ціна запасу.</a:t>
            </a:r>
            <a:endParaRPr b="0" lang="en-US" sz="2700" spc="-1" strike="noStrike">
              <a:solidFill>
                <a:srgbClr val="000000"/>
              </a:solidFill>
              <a:latin typeface="Arial"/>
            </a:endParaRPr>
          </a:p>
        </p:txBody>
      </p:sp>
      <p:sp>
        <p:nvSpPr>
          <p:cNvPr id="6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Группа 3"/>
          <p:cNvGrpSpPr/>
          <p:nvPr/>
        </p:nvGrpSpPr>
        <p:grpSpPr>
          <a:xfrm>
            <a:off x="0" y="0"/>
            <a:ext cx="9144000" cy="6858000"/>
            <a:chOff x="0" y="0"/>
            <a:chExt cx="9144000" cy="6858000"/>
          </a:xfrm>
        </p:grpSpPr>
        <p:sp>
          <p:nvSpPr>
            <p:cNvPr id="61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Box 9"/>
          <p:cNvSpPr/>
          <p:nvPr/>
        </p:nvSpPr>
        <p:spPr>
          <a:xfrm>
            <a:off x="271440" y="17928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7" name="Объект 8"/>
          <p:cNvGraphicFramePr/>
          <p:nvPr/>
        </p:nvGraphicFramePr>
        <p:xfrm>
          <a:off x="755640" y="333360"/>
          <a:ext cx="8075520" cy="4608360"/>
        </p:xfrm>
        <a:graphic>
          <a:graphicData uri="http://schemas.openxmlformats.org/presentationml/2006/ole">
            <p:oleObj r:id="rId1" spid="">
              <p:embed/>
              <p:pic>
                <p:nvPicPr>
                  <p:cNvPr id="628" name="Объект 8" descr=""/>
                  <p:cNvPicPr/>
                  <p:nvPr/>
                </p:nvPicPr>
                <p:blipFill>
                  <a:blip r:embed="rId2"/>
                  <a:stretch/>
                </p:blipFill>
                <p:spPr>
                  <a:xfrm>
                    <a:off x="755640" y="333360"/>
                    <a:ext cx="807552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Группа 3"/>
          <p:cNvGrpSpPr/>
          <p:nvPr/>
        </p:nvGrpSpPr>
        <p:grpSpPr>
          <a:xfrm>
            <a:off x="0" y="0"/>
            <a:ext cx="9144000" cy="6858000"/>
            <a:chOff x="0" y="0"/>
            <a:chExt cx="9144000" cy="6858000"/>
          </a:xfrm>
        </p:grpSpPr>
        <p:sp>
          <p:nvSpPr>
            <p:cNvPr id="63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Box 9"/>
          <p:cNvSpPr/>
          <p:nvPr/>
        </p:nvSpPr>
        <p:spPr>
          <a:xfrm>
            <a:off x="271440" y="203040"/>
            <a:ext cx="8872560" cy="6266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Аналітичний облік МШП організовується за наступними розрізами:</a:t>
            </a:r>
            <a:endParaRPr b="0" lang="en-US" sz="27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за місцями зберігання і матеріально відповідальними особами;</a:t>
            </a:r>
            <a:endParaRPr b="0" lang="en-US" sz="27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за окремими предметами, які належать до складу кожної групи МШП (за номенклатурними номерами).</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Аналітичний облік напівфабрикатів ведеться за їх видами.</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Bookman Old Style"/>
              </a:rPr>
              <a:t>В оптовій торгівлі аналітичний облік товарів здійснюється лише у вартісному вираженні в розрізі матеріально відповідальних осіб і великих груп товарів. Аналітичний облік товарів у роздрібній торгівлі ведеться за місцями їх продажу: відділами, секціями, кіосками тощо.</a:t>
            </a:r>
            <a:endParaRPr b="0" lang="en-US" sz="2700" spc="-1" strike="noStrike">
              <a:solidFill>
                <a:srgbClr val="000000"/>
              </a:solidFill>
              <a:latin typeface="Arial"/>
            </a:endParaRPr>
          </a:p>
        </p:txBody>
      </p:sp>
      <p:sp>
        <p:nvSpPr>
          <p:cNvPr id="6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8" name="Группа 3"/>
          <p:cNvGrpSpPr/>
          <p:nvPr/>
        </p:nvGrpSpPr>
        <p:grpSpPr>
          <a:xfrm>
            <a:off x="0" y="0"/>
            <a:ext cx="9144000" cy="6858000"/>
            <a:chOff x="0" y="0"/>
            <a:chExt cx="9144000" cy="6858000"/>
          </a:xfrm>
        </p:grpSpPr>
        <p:sp>
          <p:nvSpPr>
            <p:cNvPr id="63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Box 9"/>
          <p:cNvSpPr/>
          <p:nvPr/>
        </p:nvSpPr>
        <p:spPr>
          <a:xfrm>
            <a:off x="271440" y="203040"/>
            <a:ext cx="887256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Аналітичний облік витрат виробництва ведеться за видами виробництв, статтями витрат і видами або групами продукції, що виробляється. На великих підприємствах аналітичний облік витрат може вестися за підрозділами підприємства та центрами витрат.</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крім основного виробництва, необхідно організовувати аналітичний облік витрат допоміжних виробництв: інструментального, ремонтного, енергосилового, транспортного.</a:t>
            </a:r>
            <a:endParaRPr b="0" lang="en-US" sz="2800" spc="-1" strike="noStrike">
              <a:solidFill>
                <a:srgbClr val="000000"/>
              </a:solidFill>
              <a:latin typeface="Arial"/>
            </a:endParaRPr>
          </a:p>
        </p:txBody>
      </p:sp>
      <p:sp>
        <p:nvSpPr>
          <p:cNvPr id="6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7" name="Группа 3"/>
          <p:cNvGrpSpPr/>
          <p:nvPr/>
        </p:nvGrpSpPr>
        <p:grpSpPr>
          <a:xfrm>
            <a:off x="0" y="0"/>
            <a:ext cx="9144000" cy="6858000"/>
            <a:chOff x="0" y="0"/>
            <a:chExt cx="9144000" cy="6858000"/>
          </a:xfrm>
        </p:grpSpPr>
        <p:sp>
          <p:nvSpPr>
            <p:cNvPr id="64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Box 9"/>
          <p:cNvSpPr/>
          <p:nvPr/>
        </p:nvSpPr>
        <p:spPr>
          <a:xfrm>
            <a:off x="271440" y="203040"/>
            <a:ext cx="887256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ля здійснення контролю за обсягом послуг допоміжних виробництв в цехах основного виробництва встановлюються лічильники, вимірювальні пристрої, деталізуються нормативи та норми для забезпечення контролю за споживанням послуг допоміжних виробницт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Аналітичний облік готової продукції повинен забезпечувати управління інформацією про стан запасів готової продукції на складі, наявність і рух готової продукції за місцями зберігання та матеріально відповідальними особами.</a:t>
            </a:r>
            <a:endParaRPr b="0" lang="en-US" sz="2800" spc="-1" strike="noStrike">
              <a:solidFill>
                <a:srgbClr val="000000"/>
              </a:solidFill>
              <a:latin typeface="Arial"/>
            </a:endParaRPr>
          </a:p>
        </p:txBody>
      </p:sp>
      <p:sp>
        <p:nvSpPr>
          <p:cNvPr id="6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Группа 3"/>
          <p:cNvGrpSpPr/>
          <p:nvPr/>
        </p:nvGrpSpPr>
        <p:grpSpPr>
          <a:xfrm>
            <a:off x="0" y="0"/>
            <a:ext cx="9144000" cy="6858000"/>
            <a:chOff x="0" y="0"/>
            <a:chExt cx="9144000" cy="6858000"/>
          </a:xfrm>
        </p:grpSpPr>
        <p:sp>
          <p:nvSpPr>
            <p:cNvPr id="65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Box 9"/>
          <p:cNvSpPr/>
          <p:nvPr/>
        </p:nvSpPr>
        <p:spPr>
          <a:xfrm>
            <a:off x="271440" y="203040"/>
            <a:ext cx="887256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Готова продукція обліковується на підприємствах за місцями її зберігання й окремими видами у встановлених одиницях виміру: натуральних (характеризують кількість, обсяг і вагу продукції відповідно до її фізичних властивостей; умовно-натуральних (показники, необхідні для одержання узагальнених показників з обліку однорідної продукції); вартісних.</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 складі в облікових регістрах (картках, відомостях, сальдових відомостях, оборотних відомостях або Книзі складського обліку) готова продукція обліковується у кількісному вираженні.</a:t>
            </a:r>
            <a:endParaRPr b="0" lang="en-US" sz="2800" spc="-1" strike="noStrike">
              <a:solidFill>
                <a:srgbClr val="000000"/>
              </a:solidFill>
              <a:latin typeface="Arial"/>
            </a:endParaRPr>
          </a:p>
        </p:txBody>
      </p:sp>
      <p:sp>
        <p:nvSpPr>
          <p:cNvPr id="6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Группа 3"/>
          <p:cNvGrpSpPr/>
          <p:nvPr/>
        </p:nvGrpSpPr>
        <p:grpSpPr>
          <a:xfrm>
            <a:off x="0" y="0"/>
            <a:ext cx="9144000" cy="6858000"/>
            <a:chOff x="0" y="0"/>
            <a:chExt cx="9144000" cy="6858000"/>
          </a:xfrm>
        </p:grpSpPr>
        <p:sp>
          <p:nvSpPr>
            <p:cNvPr id="66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4" name=""/>
          <p:cNvGraphicFramePr/>
          <p:nvPr/>
        </p:nvGraphicFramePr>
        <p:xfrm>
          <a:off x="539640" y="457200"/>
          <a:ext cx="8496360" cy="4998960"/>
        </p:xfrm>
        <a:graphic>
          <a:graphicData uri="http://schemas.openxmlformats.org/drawingml/2006/table">
            <a:tbl>
              <a:tblPr/>
              <a:tblGrid>
                <a:gridCol w="1733760"/>
                <a:gridCol w="6762600"/>
              </a:tblGrid>
              <a:tr h="525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Шифр та назва рахунк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Розрізи аналітичного обліку</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90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18 “Довгостроко-ва дебіторська заборгованість”</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кожним дебітором, за видами заборгованості, термінами її виникнення й погашенн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8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34 “Короткості-рокові векселі одержані”</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кожним одержаним векселем: векселі, строк сплати по яких ще не настав; векселі, дисконтовані (враховані) банком; векселі, не оплачені у встановлений термі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9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36 “Розрахунки з покупцями і замовникам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кожним покупцем і замовнико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16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37 “Розрахунки з різним дебіторами”</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За кожним дебітором, видами заборгованості, термінами її виникнення й погашення. Аналітичний облік розрахунків з підзвітними особами ведеться за кожною підзвітною особою; за позиками членам кредитних спілок – за кожним членом спілки; за розрахунками з працівниками – за кожним працівником</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8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38 “Резерв сумнівних борг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rPr>
                        <a:t>У розрізі боржників або за строками непогашення дебіторської заборгованості залежно від того, за яким методом здійснюється нарахування резерву сумнівних боргів</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Группа 3"/>
          <p:cNvGrpSpPr/>
          <p:nvPr/>
        </p:nvGrpSpPr>
        <p:grpSpPr>
          <a:xfrm>
            <a:off x="0" y="0"/>
            <a:ext cx="9144000" cy="6858000"/>
            <a:chOff x="0" y="0"/>
            <a:chExt cx="9144000" cy="6858000"/>
          </a:xfrm>
        </p:grpSpPr>
        <p:sp>
          <p:nvSpPr>
            <p:cNvPr id="9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8"/>
          <p:cNvSpPr/>
          <p:nvPr/>
        </p:nvSpPr>
        <p:spPr>
          <a:xfrm>
            <a:off x="395280" y="189000"/>
            <a:ext cx="76327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 name="Объект 2"/>
          <p:cNvGraphicFramePr/>
          <p:nvPr/>
        </p:nvGraphicFramePr>
        <p:xfrm>
          <a:off x="1389240" y="260280"/>
          <a:ext cx="5695920" cy="6408720"/>
        </p:xfrm>
        <a:graphic>
          <a:graphicData uri="http://schemas.openxmlformats.org/presentationml/2006/ole">
            <p:oleObj r:id="rId1" spid="">
              <p:embed/>
              <p:pic>
                <p:nvPicPr>
                  <p:cNvPr id="102" name="Объект 2" descr=""/>
                  <p:cNvPicPr/>
                  <p:nvPr/>
                </p:nvPicPr>
                <p:blipFill>
                  <a:blip r:embed="rId2"/>
                  <a:stretch/>
                </p:blipFill>
                <p:spPr>
                  <a:xfrm>
                    <a:off x="1389240" y="260280"/>
                    <a:ext cx="5695920" cy="64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Группа 3"/>
          <p:cNvGrpSpPr/>
          <p:nvPr/>
        </p:nvGrpSpPr>
        <p:grpSpPr>
          <a:xfrm>
            <a:off x="0" y="0"/>
            <a:ext cx="9144000" cy="6858000"/>
            <a:chOff x="0" y="0"/>
            <a:chExt cx="9144000" cy="6858000"/>
          </a:xfrm>
        </p:grpSpPr>
        <p:sp>
          <p:nvSpPr>
            <p:cNvPr id="10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8"/>
          <p:cNvSpPr/>
          <p:nvPr/>
        </p:nvSpPr>
        <p:spPr>
          <a:xfrm>
            <a:off x="324000" y="1413000"/>
            <a:ext cx="853272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дійснені господарські операції можуть відображатися у бухгалтерському обліку лише за умови їх належного документального оформленн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Необоротні актив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перації з руху основних засобів та інших необоротних матеріальних активів оформлюються типовими первинними документами, затвердженими для основних засобів. </a:t>
            </a:r>
            <a:endParaRPr b="0" lang="en-US" sz="3200" spc="-1" strike="noStrike">
              <a:solidFill>
                <a:srgbClr val="000000"/>
              </a:solidFill>
              <a:latin typeface="Arial"/>
            </a:endParaRPr>
          </a:p>
        </p:txBody>
      </p:sp>
      <p:sp>
        <p:nvSpPr>
          <p:cNvPr id="111" name="Скругленный прямоугольник 9"/>
          <p:cNvSpPr/>
          <p:nvPr/>
        </p:nvSpPr>
        <p:spPr>
          <a:xfrm>
            <a:off x="324000" y="228600"/>
            <a:ext cx="8820000" cy="1039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Організація документування операцій з обліку акт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Группа 3"/>
          <p:cNvGrpSpPr/>
          <p:nvPr/>
        </p:nvGrpSpPr>
        <p:grpSpPr>
          <a:xfrm>
            <a:off x="0" y="0"/>
            <a:ext cx="9144000" cy="6858000"/>
            <a:chOff x="0" y="0"/>
            <a:chExt cx="9144000" cy="6858000"/>
          </a:xfrm>
        </p:grpSpPr>
        <p:sp>
          <p:nvSpPr>
            <p:cNvPr id="11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9"/>
          <p:cNvSpPr/>
          <p:nvPr/>
        </p:nvSpPr>
        <p:spPr>
          <a:xfrm>
            <a:off x="324000" y="214200"/>
            <a:ext cx="864072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0" name=""/>
          <p:cNvGraphicFramePr/>
          <p:nvPr/>
        </p:nvGraphicFramePr>
        <p:xfrm>
          <a:off x="538200" y="488880"/>
          <a:ext cx="8015400" cy="4246560"/>
        </p:xfrm>
        <a:graphic>
          <a:graphicData uri="http://schemas.openxmlformats.org/drawingml/2006/table">
            <a:tbl>
              <a:tblPr/>
              <a:tblGrid>
                <a:gridCol w="842760"/>
                <a:gridCol w="2427480"/>
                <a:gridCol w="4745160"/>
              </a:tblGrid>
              <a:tr h="42084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Типова форма</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Назва документу</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Примітки</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3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приймання-передачі (внутрішнього переміщення)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Складається на кожен об’єкт окремо, а на декілька – лише коли об’єкти однотипні, мають однакову вартість і прийняті одночасно на відповідальне зберігання однією і тією ж особою</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приймання-здачі відремонтованих, реконструйованих та модернізованих об’єкт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азначаються технічна характеристика та первісна вартість об’єкту. Актом такої форми оформлюється приймання завершених робіт після добудови, реконструкції або модернізації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24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на списання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Після ліквідації основних засобів і складання актів на списання основних засобів перший примірник передається до бухгалтерської служби, де на його підставі робиться запис в інвентарному списк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на списання автотранспорт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Складається в двох примірниках, підписується членами комісії, затверджується керівником підприємства або уповноваженою особою</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224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5</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Акт про установку, пуск та демонтаж будівельної машини</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Складається при встановленні, запуску та демонтажу будівельної машини, взятої на прокат. Підписується представником машинопрокатної бази та механіком будівельної дільниці</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9056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6</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Інвентарна картка облік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дійснюються записи на підставі актів приймання-передачі основних засобів та акту на списання основних засобів для обліку окремих об’єктів основних засобів. Заповнюється в одному примірнику та зберігається у бухгалтерській службі</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7</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пис інвентарних карток з облік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астосовується для реєстрації інвентарних карток. Складається в одному примірнику в бухгалтерській службі</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121" name=""/>
          <p:cNvGraphicFramePr/>
          <p:nvPr/>
        </p:nvGraphicFramePr>
        <p:xfrm>
          <a:off x="563400" y="4724280"/>
          <a:ext cx="8015400" cy="1543320"/>
        </p:xfrm>
        <a:graphic>
          <a:graphicData uri="http://schemas.openxmlformats.org/drawingml/2006/table">
            <a:tbl>
              <a:tblPr/>
              <a:tblGrid>
                <a:gridCol w="843120"/>
                <a:gridCol w="2427120"/>
                <a:gridCol w="4745160"/>
              </a:tblGrid>
              <a:tr h="168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68760" rIns="6876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8</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Картка обліку рух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астосовується для обліку руху основних засобів за класифікаційними групами. Відкривається в бухгалтерській службі в одному примірнику</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69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9</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Інвентарний список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Застосовується в місцях експлуатації основних засобів для обліку кожного об’єкта за матеріально відповідальними особами. Дані, що містяться в цій формі, мають відповідати записам в інвентарних картках облік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ОЗ-14, ОЗ-15, ОЗ-16</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Розрахунок амортизації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Calibri"/>
                        </a:rPr>
                        <a:t>Використовується при нарахуванні зносу основних засобів</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2" name="Rectangle 10"/>
          <p:cNvSpPr/>
          <p:nvPr/>
        </p:nvSpPr>
        <p:spPr>
          <a:xfrm>
            <a:off x="5045040" y="27720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Фотиния</cp:lastModifiedBy>
  <dcterms:modified xsi:type="dcterms:W3CDTF">2015-03-20T12:07:53Z</dcterms:modified>
  <cp:revision>537</cp:revision>
  <dc:subject/>
  <dc:title>Слайд 1</dc:title>
</cp:coreProperties>
</file>