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C77-BBD6-4820-871A-0FEB766F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BB1-8714-41FF-8E3B-D4013A2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149-D7E6-43D3-854A-0660CEFC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691-AA6E-41E7-B2C5-7CF34946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B8D-5E3A-4073-B6E5-CAF57D8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65B0-4E87-40AC-878A-CF2EE42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A7C-4EC9-474D-B825-0B7D4F80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4B10-100E-4738-8792-23DDB967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B57-38B6-4847-BDCD-F13E1D4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B873-C2BF-40F1-B6A2-4585445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26EB-0A7A-43F0-93B5-C9CB9BF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0DF-8FBD-4D56-9306-98A7EF3F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812A-DA04-442F-A3E6-C762FC4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6131-CEB1-4F24-9B49-FF34BFA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248B-7815-4979-AFF3-10823D1C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949-2838-49D8-8654-2932D24B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D65-E618-4519-883D-0ECB1E58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B6E0-AC3F-4A1B-B982-304219B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1A00-CBE5-4AA1-8978-A60CA34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BB34-A76D-4999-94FF-760A298C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AEC9-E175-4997-8A9C-B083289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1A4E-E730-4BCD-9595-C5FE53B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D2A-A601-4EC8-ABC7-24736EB2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EB00-84F8-44E9-A17E-A4222D4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E445-3367-49BF-AD69-1EBB86C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1A0B-F6DF-4A5D-9D8D-83769B3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7A04-A316-40EA-B979-05B80D3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46DC-2652-4B7C-A6D7-3C3CDA1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E4DB-4291-4E5B-A5AC-B12BE10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2325-DAC9-4951-AFEB-888EFDDA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5658-45C6-4949-8F13-4E43AC7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37E5-F889-4012-939B-F29B4CD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7E24-F1D6-44D8-A304-9417C7B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676-B1A2-4E7C-9F2F-F770756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3699-1629-4871-8692-8D0CBA3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86F6-B98F-4823-83C3-BB51DFE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2A1B-192F-49C5-8AD5-2B7D9C31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4BBB-C31A-4FBF-8F59-C411B2D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7833-AF41-4A5B-A88A-F5FDDD7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7183-A7CF-4C5B-A782-C71F0B90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7248-A262-4428-AB91-940D2C6E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1D1C-8AC3-440F-B893-59D824B4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B1A42-9437-4078-9A9F-F9CEA5E2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09FB-F3B1-41C4-893B-788C8FE0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2E0-42B5-44D1-9D0B-34F39B77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C4EF-C005-4A70-8C56-6640F998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3866-3A18-4296-B7FE-3A13691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4148-FAAB-495D-B173-E869FDBB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3685-01B7-4946-B9FB-891FA41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4F19-0727-422A-BFF1-784C378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BD7D-CCAC-4E69-8DA1-9E586C0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F8C7-A748-45B4-A1A1-F871DB3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FC1A-DF4B-454C-A735-0E396B3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9B86-39CD-4D94-B7D4-2574D45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A99A-AC9F-4B73-AF93-DDBF1938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020-E2F6-4D84-B8BD-DB5A809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4056-5667-45A4-B610-31B3DBF5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A4AC-B35C-4EB5-8BB2-FC7B5A27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2712-9637-4CA3-80B0-7894D170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CF92B-457B-41FC-8720-62ED4EA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14E3-8F73-45A9-8E18-011C7F2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4AD0-3F1F-4C6E-BD86-1E97920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AC78-64BD-40CB-ADDA-BBE0863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C403-F686-4807-81F8-7ADB57E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4735-B1CE-4842-9D22-CF58319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34051-7635-45B0-A13A-5891986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891-EE4F-48D0-991F-61ECAA2F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4A67-820F-4FAE-8F7B-76493D62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40A1F-CDAC-4CE8-83C0-D5C9E6A4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02B32-BC65-4161-9512-C2ACB86C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4900-BEE5-479D-A85D-CEFEAC4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7A3B-E182-48C3-9E5E-84B6BB8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9871-C229-438E-956F-261A845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D9D36-3693-4832-BD47-9590AEF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CCA0-6EAB-42BF-9ECE-F9C084A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560F-A0EA-4E49-988E-E143F44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4B73-70CB-442B-8B9C-05F7513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830-C530-4A4C-98C0-B39FA45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8E0F-5F2D-420B-A016-342A047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41EC-605F-41C9-9150-B61CF5A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6140-D9E8-4920-9C1E-D7AF68FE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AADC-6C32-4CF3-8959-2B3BCF02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9713-6DD2-461F-B0B8-D74901F3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39C-9AF7-40E0-BAB0-4D5ECFB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3648-ED3A-4C15-89AC-79B0AC52756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8FC-B73D-4217-8C50-BA77663B837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AB3-2195-4E2C-A3D7-F03E6CFFE8C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FEA-E3F3-41C5-9E87-0C728BA05BF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F1A-5EC4-4046-9647-7163B4EC8C5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E32C-12F8-4DFB-B428-C99E164E1EC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360-3369-466D-B9A7-AFA84CE698C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676440"/>
            <a:ext cx="8205840" cy="16160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3103560"/>
            <a:ext cx="8058240" cy="175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хема 1" descr=""/>
          <p:cNvPicPr/>
          <p:nvPr/>
        </p:nvPicPr>
        <p:blipFill>
          <a:blip r:embed="rId1"/>
          <a:stretch/>
        </p:blipFill>
        <p:spPr>
          <a:xfrm>
            <a:off x="201600" y="622440"/>
            <a:ext cx="8813880" cy="6314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1" descr=""/>
          <p:cNvPicPr/>
          <p:nvPr/>
        </p:nvPicPr>
        <p:blipFill>
          <a:blip r:embed="rId1"/>
          <a:stretch/>
        </p:blipFill>
        <p:spPr>
          <a:xfrm>
            <a:off x="201600" y="2060640"/>
            <a:ext cx="8813880" cy="45892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308800" cy="1523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66" name="Rectangle 3"/>
          <p:cNvGrpSpPr/>
          <p:nvPr/>
        </p:nvGrpSpPr>
        <p:grpSpPr>
          <a:xfrm>
            <a:off x="291960" y="1328760"/>
            <a:ext cx="8669520" cy="4809960"/>
            <a:chOff x="291960" y="1328760"/>
            <a:chExt cx="8669520" cy="480996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328760"/>
              <a:ext cx="866952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71680" y="1500120"/>
              <a:ext cx="8143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ідприємство купує клапани у постачальника за ціною 40 грн. за од. Річна потреба у клапанах становить 50000 од. на рік. Витрати на одне замовлення становить 750 грн. витрати на зберігання одного клапана становлять 2 грн. Витрати на страхування 25 % від вартості одиниц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AutoShape 2" descr=""/>
          <p:cNvPicPr/>
          <p:nvPr/>
        </p:nvPicPr>
        <p:blipFill>
          <a:blip r:embed="rId1"/>
          <a:stretch/>
        </p:blipFill>
        <p:spPr>
          <a:xfrm>
            <a:off x="133200" y="76212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70" name="Rectangle 3"/>
          <p:cNvGrpSpPr/>
          <p:nvPr/>
        </p:nvGrpSpPr>
        <p:grpSpPr>
          <a:xfrm>
            <a:off x="291960" y="1474920"/>
            <a:ext cx="8669520" cy="3627360"/>
            <a:chOff x="291960" y="1474920"/>
            <a:chExt cx="8669520" cy="3627360"/>
          </a:xfrm>
        </p:grpSpPr>
        <p:pic>
          <p:nvPicPr>
            <p:cNvPr id="371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474920"/>
              <a:ext cx="866952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71680" y="1643040"/>
              <a:ext cx="81435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 на зберігання одиниці запасу (Н)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+40х0,25 = 12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Прямоугольник 4"/>
          <p:cNvSpPr/>
          <p:nvPr/>
        </p:nvSpPr>
        <p:spPr>
          <a:xfrm>
            <a:off x="642960" y="3357720"/>
            <a:ext cx="8001000" cy="164304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792000" y="3535200"/>
                <a:ext cx="77806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с двумя вырезанными противолежащими углами 4"/>
          <p:cNvSpPr/>
          <p:nvPr/>
        </p:nvSpPr>
        <p:spPr>
          <a:xfrm>
            <a:off x="2214720" y="1285920"/>
            <a:ext cx="6143400" cy="1428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стачальник приймає замовлення лише певними партія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9"/>
          <p:cNvSpPr/>
          <p:nvPr/>
        </p:nvSpPr>
        <p:spPr>
          <a:xfrm>
            <a:off x="714240" y="150012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8"/>
          <p:cNvSpPr/>
          <p:nvPr/>
        </p:nvSpPr>
        <p:spPr>
          <a:xfrm>
            <a:off x="2428920" y="2857680"/>
            <a:ext cx="6143760" cy="12855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Надають знижки при закупівлі великих парт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0"/>
          <p:cNvSpPr/>
          <p:nvPr/>
        </p:nvSpPr>
        <p:spPr>
          <a:xfrm>
            <a:off x="928800" y="292896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1"/>
          <p:cNvSpPr/>
          <p:nvPr/>
        </p:nvSpPr>
        <p:spPr>
          <a:xfrm>
            <a:off x="2714760" y="4286160"/>
            <a:ext cx="6143400" cy="19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У підприємства існують обмеження щодо розміщення економічного розміру замов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Штриховая стрелка вправо 12"/>
          <p:cNvSpPr/>
          <p:nvPr/>
        </p:nvSpPr>
        <p:spPr>
          <a:xfrm>
            <a:off x="1214280" y="4357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utoShape 2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3"/>
          <p:cNvGrpSpPr/>
          <p:nvPr/>
        </p:nvGrpSpPr>
        <p:grpSpPr>
          <a:xfrm>
            <a:off x="219240" y="1328760"/>
            <a:ext cx="8669160" cy="4809960"/>
            <a:chOff x="219240" y="1328760"/>
            <a:chExt cx="8669160" cy="4809960"/>
          </a:xfrm>
        </p:grpSpPr>
        <p:pic>
          <p:nvPicPr>
            <p:cNvPr id="384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328760"/>
              <a:ext cx="866916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00040" y="1500120"/>
              <a:ext cx="81439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клапанів приймає  замовлення на партії по 4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ходячи з оптимального розміру замовлення в 2500 од., то з умов постачання він знаходиться в межах 2400 та 2800 од. Розрахуємо витрати підприємства з метою визначення оптимального варіанта для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71680" y="1143000"/>
          <a:ext cx="8001000" cy="5243400"/>
        </p:xfrm>
        <a:graphic>
          <a:graphicData uri="http://schemas.openxmlformats.org/drawingml/2006/table">
            <a:tbl>
              <a:tblPr/>
              <a:tblGrid>
                <a:gridCol w="3429000"/>
                <a:gridCol w="2286000"/>
                <a:gridCol w="2286000"/>
              </a:tblGrid>
              <a:tr h="119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 замов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берігання запасів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4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амовлення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xP/Q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=156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=133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400+15625=300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+13393=301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33200" y="828720"/>
            <a:ext cx="4488120" cy="112860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219240" y="1616040"/>
            <a:ext cx="8955000" cy="3741840"/>
            <a:chOff x="219240" y="1616040"/>
            <a:chExt cx="8955000" cy="374184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616040"/>
              <a:ext cx="89550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0040" y="1785960"/>
              <a:ext cx="842976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кладські приміщення підприємства дозволяють зберігати 1500 од. запасів при оптимальному рівні замовлення в 2500 од. Оренда додаткового приміщення для розміщення 1000 од. запасів становитиме 60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4200" y="1714680"/>
          <a:ext cx="8786880" cy="492120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4200" y="1714680"/>
          <a:ext cx="8786880" cy="496548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9000=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15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=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25000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--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4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676440"/>
            <a:ext cx="8205840" cy="1616040"/>
          </a:xfrm>
          <a:prstGeom prst="rect">
            <a:avLst/>
          </a:prstGeom>
          <a:ln w="0">
            <a:noFill/>
          </a:ln>
        </p:spPr>
      </p:pic>
      <p:pic>
        <p:nvPicPr>
          <p:cNvPr id="304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3103560"/>
            <a:ext cx="80946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AutoShape 2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44877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396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39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, що становлять різницю між альтернативними рішенням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utoShape 2" descr=""/>
          <p:cNvPicPr/>
          <p:nvPr/>
        </p:nvPicPr>
        <p:blipFill>
          <a:blip r:embed="rId1"/>
          <a:stretch/>
        </p:blipFill>
        <p:spPr>
          <a:xfrm>
            <a:off x="133200" y="328680"/>
            <a:ext cx="448812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00" name="Rectangle 3"/>
          <p:cNvGrpSpPr/>
          <p:nvPr/>
        </p:nvGrpSpPr>
        <p:grpSpPr>
          <a:xfrm>
            <a:off x="219240" y="1116000"/>
            <a:ext cx="8955000" cy="1608120"/>
            <a:chOff x="219240" y="1116000"/>
            <a:chExt cx="8955000" cy="1608120"/>
          </a:xfrm>
        </p:grpSpPr>
        <p:pic>
          <p:nvPicPr>
            <p:cNvPr id="401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116000"/>
              <a:ext cx="89550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00040" y="128592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при збільшенні обсягу закупок пропонує знижк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500040" y="2857680"/>
          <a:ext cx="8215200" cy="353520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и замовлення, о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іна за од., гр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-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-4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-9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 і біль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14200" y="1714680"/>
          <a:ext cx="8786880" cy="410184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4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5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14200" y="1714680"/>
          <a:ext cx="8786880" cy="472752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5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2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125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7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0040" y="2106720"/>
          <a:ext cx="8143920" cy="3547800"/>
        </p:xfrm>
        <a:graphic>
          <a:graphicData uri="http://schemas.openxmlformats.org/drawingml/2006/table">
            <a:tbl>
              <a:tblPr/>
              <a:tblGrid>
                <a:gridCol w="3714840"/>
                <a:gridCol w="44290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, гр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31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906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2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9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4060800" cy="1487520"/>
          </a:xfrm>
          <a:prstGeom prst="rect">
            <a:avLst/>
          </a:prstGeom>
          <a:ln w="0">
            <a:noFill/>
          </a:ln>
        </p:spPr>
      </p:pic>
      <p:grpSp>
        <p:nvGrpSpPr>
          <p:cNvPr id="411" name="Rectangle 3"/>
          <p:cNvGrpSpPr/>
          <p:nvPr/>
        </p:nvGrpSpPr>
        <p:grpSpPr>
          <a:xfrm>
            <a:off x="2975040" y="1347840"/>
            <a:ext cx="6235560" cy="1859040"/>
            <a:chOff x="2975040" y="1347840"/>
            <a:chExt cx="6235560" cy="1859040"/>
          </a:xfrm>
        </p:grpSpPr>
        <p:pic>
          <p:nvPicPr>
            <p:cNvPr id="412" name="Rectangle 3" descr=""/>
            <p:cNvPicPr/>
            <p:nvPr/>
          </p:nvPicPr>
          <p:blipFill>
            <a:blip r:embed="rId2"/>
            <a:stretch/>
          </p:blipFill>
          <p:spPr>
            <a:xfrm>
              <a:off x="2975040" y="1347840"/>
              <a:ext cx="623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214800" y="1500120"/>
              <a:ext cx="57862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пас, що створюється на випадок збільшення попиту або часу виконання замовле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AutoShape 2" descr=""/>
          <p:cNvPicPr/>
          <p:nvPr/>
        </p:nvPicPr>
        <p:blipFill>
          <a:blip r:embed="rId3"/>
          <a:stretch/>
        </p:blipFill>
        <p:spPr>
          <a:xfrm>
            <a:off x="60480" y="2828880"/>
            <a:ext cx="4133520" cy="227340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3"/>
          <p:cNvGrpSpPr/>
          <p:nvPr/>
        </p:nvGrpSpPr>
        <p:grpSpPr>
          <a:xfrm>
            <a:off x="2975040" y="4565520"/>
            <a:ext cx="6235560" cy="1895760"/>
            <a:chOff x="2975040" y="4565520"/>
            <a:chExt cx="6235560" cy="1895760"/>
          </a:xfrm>
        </p:grpSpPr>
        <p:pic>
          <p:nvPicPr>
            <p:cNvPr id="416" name="Rectangle 3" descr=""/>
            <p:cNvPicPr/>
            <p:nvPr/>
          </p:nvPicPr>
          <p:blipFill>
            <a:blip r:embed="rId4"/>
            <a:stretch/>
          </p:blipFill>
          <p:spPr>
            <a:xfrm>
              <a:off x="2975040" y="4565520"/>
              <a:ext cx="623556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буток втрат від нестачі запасів та ймовірності виникнення такої ситу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2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381880" cy="180972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59568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4" descr=""/>
          <p:cNvPicPr/>
          <p:nvPr/>
        </p:nvPicPr>
        <p:blipFill>
          <a:blip r:embed="rId3"/>
          <a:stretch/>
        </p:blipFill>
        <p:spPr>
          <a:xfrm>
            <a:off x="3846600" y="20606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44877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міжок часу з моменту розміщення замовлення до моменту надходження запасів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60480" y="1974960"/>
            <a:ext cx="448776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26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42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ередбачає поділ запасів на три категорії залежно від їх вартості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86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30" name="Rectangle 3"/>
          <p:cNvGrpSpPr/>
          <p:nvPr/>
        </p:nvGrpSpPr>
        <p:grpSpPr>
          <a:xfrm>
            <a:off x="2614680" y="706320"/>
            <a:ext cx="6669000" cy="2775240"/>
            <a:chOff x="2614680" y="706320"/>
            <a:chExt cx="6669000" cy="2775240"/>
          </a:xfrm>
        </p:grpSpPr>
        <p:pic>
          <p:nvPicPr>
            <p:cNvPr id="431" name="Rectangle 3" descr=""/>
            <p:cNvPicPr/>
            <p:nvPr/>
          </p:nvPicPr>
          <p:blipFill>
            <a:blip r:embed="rId2"/>
            <a:stretch/>
          </p:blipFill>
          <p:spPr>
            <a:xfrm>
              <a:off x="2614680" y="706320"/>
              <a:ext cx="6669000" cy="27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57680" y="857160"/>
              <a:ext cx="621504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тельно визначають розміри і момент замовлення. Витрати на замовлення і зберігання переглядають кожного разу при розміщенні чергового замовл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AutoShape 2" descr=""/>
          <p:cNvPicPr/>
          <p:nvPr/>
        </p:nvPicPr>
        <p:blipFill>
          <a:blip r:embed="rId3"/>
          <a:stretch/>
        </p:blipFill>
        <p:spPr>
          <a:xfrm>
            <a:off x="-6480" y="3333600"/>
            <a:ext cx="4486320" cy="909720"/>
          </a:xfrm>
          <a:prstGeom prst="rect">
            <a:avLst/>
          </a:prstGeom>
          <a:ln w="0">
            <a:noFill/>
          </a:ln>
        </p:spPr>
      </p:pic>
      <p:grpSp>
        <p:nvGrpSpPr>
          <p:cNvPr id="434" name="Rectangle 3"/>
          <p:cNvGrpSpPr/>
          <p:nvPr/>
        </p:nvGrpSpPr>
        <p:grpSpPr>
          <a:xfrm>
            <a:off x="2687760" y="3919680"/>
            <a:ext cx="6664320" cy="1401480"/>
            <a:chOff x="2687760" y="3919680"/>
            <a:chExt cx="6664320" cy="1401480"/>
          </a:xfrm>
        </p:grpSpPr>
        <p:pic>
          <p:nvPicPr>
            <p:cNvPr id="435" name="Rectangle 3" descr=""/>
            <p:cNvPicPr/>
            <p:nvPr/>
          </p:nvPicPr>
          <p:blipFill>
            <a:blip r:embed="rId4"/>
            <a:stretch/>
          </p:blipFill>
          <p:spPr>
            <a:xfrm>
              <a:off x="2687760" y="3919680"/>
              <a:ext cx="666432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928960" y="4071960"/>
              <a:ext cx="6215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онтроль здійснюється раз на квартал або раз на піврок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AutoShape 2" descr=""/>
          <p:cNvPicPr/>
          <p:nvPr/>
        </p:nvPicPr>
        <p:blipFill>
          <a:blip r:embed="rId5"/>
          <a:stretch/>
        </p:blipFill>
        <p:spPr>
          <a:xfrm>
            <a:off x="-6480" y="5187960"/>
            <a:ext cx="4486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38" name="Rectangle 3"/>
          <p:cNvGrpSpPr/>
          <p:nvPr/>
        </p:nvGrpSpPr>
        <p:grpSpPr>
          <a:xfrm>
            <a:off x="2687760" y="5778360"/>
            <a:ext cx="6615000" cy="970200"/>
            <a:chOff x="2687760" y="5778360"/>
            <a:chExt cx="6615000" cy="970200"/>
          </a:xfrm>
        </p:grpSpPr>
        <p:pic>
          <p:nvPicPr>
            <p:cNvPr id="439" name="Rectangle 3" descr=""/>
            <p:cNvPicPr/>
            <p:nvPr/>
          </p:nvPicPr>
          <p:blipFill>
            <a:blip r:embed="rId6"/>
            <a:stretch/>
          </p:blipFill>
          <p:spPr>
            <a:xfrm>
              <a:off x="2687760" y="5778360"/>
              <a:ext cx="6615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928960" y="5929200"/>
              <a:ext cx="6215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рахунок здійснюється раз на рік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6522840" cy="8953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с двумя вырезанными противолежащими углами 4"/>
          <p:cNvSpPr/>
          <p:nvPr/>
        </p:nvSpPr>
        <p:spPr>
          <a:xfrm>
            <a:off x="1785960" y="121428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інформації про надходження та витрачання запасі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5"/>
          <p:cNvSpPr/>
          <p:nvPr/>
        </p:nvSpPr>
        <p:spPr>
          <a:xfrm>
            <a:off x="1785960" y="200016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контроль дотримання встановлених підприємством норм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с двумя вырезанными противолежащими углами 6"/>
          <p:cNvSpPr/>
          <p:nvPr/>
        </p:nvSpPr>
        <p:spPr>
          <a:xfrm>
            <a:off x="1785960" y="2786040"/>
            <a:ext cx="714384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безперервна оцінка реальності вартості запасів та аналіз ефективності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7"/>
          <p:cNvSpPr/>
          <p:nvPr/>
        </p:nvSpPr>
        <p:spPr>
          <a:xfrm>
            <a:off x="1857240" y="357192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оптимізація обсягів закупівлі запасів, виявлення резервів зниж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9"/>
          <p:cNvSpPr/>
          <p:nvPr/>
        </p:nvSpPr>
        <p:spPr>
          <a:xfrm>
            <a:off x="357120" y="128592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Штриховая стрелка вправо 10"/>
          <p:cNvSpPr/>
          <p:nvPr/>
        </p:nvSpPr>
        <p:spPr>
          <a:xfrm>
            <a:off x="357120" y="200016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11"/>
          <p:cNvSpPr/>
          <p:nvPr/>
        </p:nvSpPr>
        <p:spPr>
          <a:xfrm>
            <a:off x="428760" y="285768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триховая стрелка вправо 12"/>
          <p:cNvSpPr/>
          <p:nvPr/>
        </p:nvSpPr>
        <p:spPr>
          <a:xfrm>
            <a:off x="428760" y="364320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с двумя вырезанными противолежащими углами 14"/>
          <p:cNvSpPr/>
          <p:nvPr/>
        </p:nvSpPr>
        <p:spPr>
          <a:xfrm>
            <a:off x="1857240" y="435780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бір методу оцінки запасів при їх вибутті, найкращого для підприєм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Штриховая стрелка вправо 15"/>
          <p:cNvSpPr/>
          <p:nvPr/>
        </p:nvSpPr>
        <p:spPr>
          <a:xfrm>
            <a:off x="428760" y="442908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с двумя вырезанными противолежащими углами 16"/>
          <p:cNvSpPr/>
          <p:nvPr/>
        </p:nvSpPr>
        <p:spPr>
          <a:xfrm>
            <a:off x="1857240" y="514368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підвищення достовірності відображення на рахунках аналітичного обліку руху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Штриховая стрелка вправо 17"/>
          <p:cNvSpPr/>
          <p:nvPr/>
        </p:nvSpPr>
        <p:spPr>
          <a:xfrm>
            <a:off x="428760" y="521496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с двумя вырезанными противолежащими углами 18"/>
          <p:cNvSpPr/>
          <p:nvPr/>
        </p:nvSpPr>
        <p:spPr>
          <a:xfrm>
            <a:off x="1857240" y="5929200"/>
            <a:ext cx="707256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часне складання та подання звітності про рух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Штриховая стрелка вправо 19"/>
          <p:cNvSpPr/>
          <p:nvPr/>
        </p:nvSpPr>
        <p:spPr>
          <a:xfrm>
            <a:off x="428760" y="600084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60480" y="901800"/>
            <a:ext cx="5486400" cy="2201760"/>
          </a:xfrm>
          <a:prstGeom prst="rect">
            <a:avLst/>
          </a:prstGeom>
          <a:ln w="0">
            <a:noFill/>
          </a:ln>
        </p:spPr>
      </p:pic>
      <p:grpSp>
        <p:nvGrpSpPr>
          <p:cNvPr id="442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43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Один з підходів до управління запасами, що базується на купівлі ресурсів з такою умовою, що їх доставка безпосередньо передує попиту чи використанню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5986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446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4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цес спостереження, фіксації, відтворення та впливу на необоротні активи з метою найбільш ефективного їх використання в підприємницькій діяльност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6522840" cy="8953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с двумя вырезанными противолежащими углами 20"/>
          <p:cNvSpPr/>
          <p:nvPr/>
        </p:nvSpPr>
        <p:spPr>
          <a:xfrm>
            <a:off x="1357200" y="1428840"/>
            <a:ext cx="7500960" cy="9284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розміру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Штриховая стрелка вправо 21"/>
          <p:cNvSpPr/>
          <p:nvPr/>
        </p:nvSpPr>
        <p:spPr>
          <a:xfrm>
            <a:off x="357120" y="1500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с двумя вырезанными противолежащими углами 22"/>
          <p:cNvSpPr/>
          <p:nvPr/>
        </p:nvSpPr>
        <p:spPr>
          <a:xfrm>
            <a:off x="1357200" y="242892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форм задоволення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Штриховая стрелка вправо 23"/>
          <p:cNvSpPr/>
          <p:nvPr/>
        </p:nvSpPr>
        <p:spPr>
          <a:xfrm>
            <a:off x="357120" y="2500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с двумя вырезанными противолежащими углами 24"/>
          <p:cNvSpPr/>
          <p:nvPr/>
        </p:nvSpPr>
        <p:spPr>
          <a:xfrm>
            <a:off x="1357200" y="342900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підвищення ефективності використ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Штриховая стрелка вправо 25"/>
          <p:cNvSpPr/>
          <p:nvPr/>
        </p:nvSpPr>
        <p:spPr>
          <a:xfrm>
            <a:off x="357120" y="35002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с двумя вырезанными противолежащими углами 26"/>
          <p:cNvSpPr/>
          <p:nvPr/>
        </p:nvSpPr>
        <p:spPr>
          <a:xfrm>
            <a:off x="1357200" y="442908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оптимальної структури джерел фінансув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Штриховая стрелка вправо 27"/>
          <p:cNvSpPr/>
          <p:nvPr/>
        </p:nvSpPr>
        <p:spPr>
          <a:xfrm>
            <a:off x="357120" y="450072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с двумя вырезанными противолежащими углами 30"/>
          <p:cNvSpPr/>
          <p:nvPr/>
        </p:nvSpPr>
        <p:spPr>
          <a:xfrm>
            <a:off x="1357200" y="542916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вчасного оновлення та модернізації необоротних активів у процесі їх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Штриховая стрелка вправо 31"/>
          <p:cNvSpPr/>
          <p:nvPr/>
        </p:nvSpPr>
        <p:spPr>
          <a:xfrm>
            <a:off x="357120" y="55008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60480" y="689040"/>
            <a:ext cx="5986440" cy="24145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2651040" y="2548080"/>
            <a:ext cx="6450120" cy="3206520"/>
            <a:chOff x="2651040" y="2548080"/>
            <a:chExt cx="6450120" cy="320652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928960" y="2714760"/>
              <a:ext cx="59292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упове систематичне списання вартості основних засобів у процесі їх корисного використання, пов</a:t>
              </a:r>
              <a:r>
                <a:rPr b="0" lang="pl-PL" sz="35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язане з їх фізичним і моральним зносом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5986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465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66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лягає в оптимізації їх загального середнього поточного залишку з позиції забезпечення постійної платоспроможності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3"/>
          <p:cNvGrpSpPr/>
          <p:nvPr/>
        </p:nvGrpSpPr>
        <p:grpSpPr>
          <a:xfrm>
            <a:off x="1359000" y="1463760"/>
            <a:ext cx="6718320" cy="4449600"/>
            <a:chOff x="1359000" y="1463760"/>
            <a:chExt cx="6718320" cy="4449600"/>
          </a:xfrm>
        </p:grpSpPr>
        <p:pic>
          <p:nvPicPr>
            <p:cNvPr id="469" name="Rectangle 3" descr=""/>
            <p:cNvPicPr/>
            <p:nvPr/>
          </p:nvPicPr>
          <p:blipFill>
            <a:blip r:embed="rId1"/>
            <a:stretch/>
          </p:blipFill>
          <p:spPr>
            <a:xfrm>
              <a:off x="1359000" y="1463760"/>
              <a:ext cx="671832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500120" y="1571760"/>
              <a:ext cx="628668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Натхнення при підготовці до практичних занять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60480" y="42840"/>
            <a:ext cx="40608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Rectangle 3"/>
          <p:cNvGrpSpPr/>
          <p:nvPr/>
        </p:nvGrpSpPr>
        <p:grpSpPr>
          <a:xfrm>
            <a:off x="2975040" y="1347840"/>
            <a:ext cx="6235560" cy="2328840"/>
            <a:chOff x="2975040" y="1347840"/>
            <a:chExt cx="6235560" cy="2328840"/>
          </a:xfrm>
        </p:grpSpPr>
        <p:pic>
          <p:nvPicPr>
            <p:cNvPr id="322" name="Rectangle 3" descr=""/>
            <p:cNvPicPr/>
            <p:nvPr/>
          </p:nvPicPr>
          <p:blipFill>
            <a:blip r:embed="rId2"/>
            <a:stretch/>
          </p:blipFill>
          <p:spPr>
            <a:xfrm>
              <a:off x="2975040" y="1347840"/>
              <a:ext cx="623556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214800" y="1500120"/>
              <a:ext cx="57862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ількість замовлених запасів, що забезпечує оптимальну комбінацію витрат на придбання та їх зберіг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AutoShape 2" descr=""/>
          <p:cNvPicPr/>
          <p:nvPr/>
        </p:nvPicPr>
        <p:blipFill>
          <a:blip r:embed="rId3"/>
          <a:stretch/>
        </p:blipFill>
        <p:spPr>
          <a:xfrm>
            <a:off x="60480" y="3614760"/>
            <a:ext cx="4060800" cy="148752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2975040" y="4565520"/>
            <a:ext cx="6235560" cy="1895760"/>
            <a:chOff x="2975040" y="4565520"/>
            <a:chExt cx="6235560" cy="1895760"/>
          </a:xfrm>
        </p:grpSpPr>
        <p:pic>
          <p:nvPicPr>
            <p:cNvPr id="326" name="Rectangle 3" descr=""/>
            <p:cNvPicPr/>
            <p:nvPr/>
          </p:nvPicPr>
          <p:blipFill>
            <a:blip r:embed="rId4"/>
            <a:stretch/>
          </p:blipFill>
          <p:spPr>
            <a:xfrm>
              <a:off x="2975040" y="4565520"/>
              <a:ext cx="623556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, величина яких може змінюватися залежно від прийнятого ріш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куп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мовле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беріга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і втрати внаслідок нестачі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страхува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утримання складських приміщен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знеціне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а втрата прибутковості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с двумя вырезанными противолежащими углами 4"/>
          <p:cNvSpPr/>
          <p:nvPr/>
        </p:nvSpPr>
        <p:spPr>
          <a:xfrm>
            <a:off x="2214720" y="121428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чений дохід від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9"/>
          <p:cNvSpPr/>
          <p:nvPr/>
        </p:nvSpPr>
        <p:spPr>
          <a:xfrm>
            <a:off x="714240" y="128592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с двумя вырезанными противолежащими углами 8"/>
          <p:cNvSpPr/>
          <p:nvPr/>
        </p:nvSpPr>
        <p:spPr>
          <a:xfrm>
            <a:off x="2428920" y="264312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Штрафні санкції за несвоєчасну поставку продукції замовника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Штриховая стрелка вправо 10"/>
          <p:cNvSpPr/>
          <p:nvPr/>
        </p:nvSpPr>
        <p:spPr>
          <a:xfrm>
            <a:off x="928800" y="271476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с двумя вырезанными противолежащими углами 11"/>
          <p:cNvSpPr/>
          <p:nvPr/>
        </p:nvSpPr>
        <p:spPr>
          <a:xfrm>
            <a:off x="2714760" y="407196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надпланові витрати, внаслідок заміни матеріалів з вищою вартіст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Штриховая стрелка вправо 12"/>
          <p:cNvSpPr/>
          <p:nvPr/>
        </p:nvSpPr>
        <p:spPr>
          <a:xfrm>
            <a:off x="121428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с двумя вырезанными противолежащими углами 13"/>
          <p:cNvSpPr/>
          <p:nvPr/>
        </p:nvSpPr>
        <p:spPr>
          <a:xfrm>
            <a:off x="2928960" y="550080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простої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Штриховая стрелка вправо 18"/>
          <p:cNvSpPr/>
          <p:nvPr/>
        </p:nvSpPr>
        <p:spPr>
          <a:xfrm>
            <a:off x="1428840" y="557208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60480" y="476280"/>
            <a:ext cx="4487760" cy="2913120"/>
          </a:xfrm>
          <a:prstGeom prst="rect">
            <a:avLst/>
          </a:prstGeom>
          <a:ln w="0">
            <a:noFill/>
          </a:ln>
        </p:spPr>
      </p:pic>
      <p:grpSp>
        <p:nvGrpSpPr>
          <p:cNvPr id="356" name="Rectangle 3"/>
          <p:cNvGrpSpPr/>
          <p:nvPr/>
        </p:nvGrpSpPr>
        <p:grpSpPr>
          <a:xfrm>
            <a:off x="2938320" y="2614680"/>
            <a:ext cx="6309000" cy="2676600"/>
            <a:chOff x="2938320" y="2614680"/>
            <a:chExt cx="6309000" cy="2676600"/>
          </a:xfrm>
        </p:grpSpPr>
        <p:pic>
          <p:nvPicPr>
            <p:cNvPr id="357" name="Rectangle 3" descr=""/>
            <p:cNvPicPr/>
            <p:nvPr/>
          </p:nvPicPr>
          <p:blipFill>
            <a:blip r:embed="rId2"/>
            <a:stretch/>
          </p:blipFill>
          <p:spPr>
            <a:xfrm>
              <a:off x="2938320" y="2614680"/>
              <a:ext cx="630900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214800" y="2786040"/>
              <a:ext cx="57862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ть запасів, за якої загальні витрати на замовлення і зберігання запасів будуть мінімальними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15238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85840" y="1928880"/>
            <a:ext cx="8572320" cy="43578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285840" y="2786040"/>
                <a:ext cx="857232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А</m:t>
                            </m:r>
                            <m:r>
                              <m:t xml:space="preserve">×</m:t>
                            </m:r>
                            <m:r>
                              <m:t xml:space="preserve">Р</m:t>
                            </m:r>
                          </m:num>
                          <m:den>
                            <m:r>
                              <m:t xml:space="preserve">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аговська Олена Адамівна</cp:lastModifiedBy>
  <dcterms:modified xsi:type="dcterms:W3CDTF">2021-12-20T06:28:15Z</dcterms:modified>
  <cp:revision>97</cp:revision>
  <dc:subject/>
  <dc:title>Слайд 1</dc:title>
</cp:coreProperties>
</file>