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6FD-D880-4A1D-90E9-B57373F4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5DD-BB4B-4C3C-BEE5-EDA9EE3B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B5B-EB64-4E8B-BC98-53B5C002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BFE-1993-48F4-934A-690C249A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30FA-3D7E-4798-A75F-986233C3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361F-A5D3-4570-A254-27549559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8A06-DA85-4DA6-8014-3381D3F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8082-06F5-4F38-80CC-1DD06CD5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BEFC-A797-4D29-A5E1-B45747CC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CA2A-12A9-492D-AA81-5263D24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9B06-D7D6-453C-A015-6D0E245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048-D369-487F-ADF0-4240BC4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7E5-A49C-4E4E-A841-CD538BFC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54AA-A58D-4858-A5B0-0406DA0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D154-F319-48E6-B1EC-90F712C1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8950-FAB1-4D23-B565-64938D57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E67E-2D41-43F1-BB24-B9BCA5CC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DFF5-2C2C-42C5-9B7A-3F720C8C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1BBE-5E1F-4CD8-8761-53114EC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1357-53BA-43DC-96E9-97180F13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BBBF-4CE0-4B01-9599-07A5303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2760-607F-44C2-A22E-378786BD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F6D-3E21-49F5-BDE8-8569AFF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3021-6A76-4253-8FAF-26DD5A5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9028-80AA-437D-AD6D-D6E13C1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6A62-6BD4-4BD1-9609-B5ADAFD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750B-B317-4D4B-B1A3-9091813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E65A-8C83-4446-8A45-6FF9F113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1D6B-BA5B-44BD-9317-AD83DDF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83D4-5969-44B5-AA08-2FA19A6B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5A59-87A0-4E60-B01F-ED3ECA76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DA80-551C-4884-8737-2AD3DF52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7657-DEF4-4554-881C-2ECC87D2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B59-ACB1-4E41-BCCF-88BEB1A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7088-9814-4A35-B146-068CA3E0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575FC-D3DD-4398-98E7-ABC76B53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480F-2DF0-4367-9432-701BF5FF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E6A6-6275-420A-8E62-FBB9F22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7191-5AD3-4B9B-8EC1-78D38CF4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DE85-84CD-436F-AFE6-717DA10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B2EA-3F04-4893-A54E-5D3DDE53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2FD96-119D-4D08-BA73-A7CFB831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B6CFB-6E38-4855-8B16-0FFFC4AC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056B-5A9A-4ADA-9CD0-E4CFFC8B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0AF-AC87-4B76-83D0-76F69407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DF02-1007-41BE-9FDC-22EC728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FF7C9-FFBF-4F77-8194-0B1E0CE7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381FA-E691-42F3-9A7F-F0D58F0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4AE0-5EE4-4522-BF08-7228F26A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02B7-C6C1-4B41-8D59-A2A2349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301BD-2F6F-4495-9A3C-747D4DD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DF6ED-E817-45E3-ACE2-2066B06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191AC-F180-44D6-938A-B48AFC94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9EBD9-1E9D-4772-B711-B3D81989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C370-F4F0-4DA8-9AF4-7A2EFEB2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027-CA2C-49A8-AD77-7DA2E806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4CB8-4734-4AE4-98F4-5F144137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E60E-D03A-4AB7-87A0-8CBAF8E3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1A9D-7A78-4EAA-9E3E-99396A2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05596-4D08-492D-B7A8-114ECD6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2A4A-40A9-4642-BA3E-0DD62C3C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6B31-09FF-4370-98FA-31763DE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CA0B-4E6B-48D0-BA16-1666497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00D07-BD5A-4BDE-8123-44D50A8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F79E-FB11-42ED-89D7-0D949FA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563A-BE9F-487A-BE1B-D9414AD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1AF-6441-45FA-A05C-1A8D418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2FA4F-22B3-4C00-BBEE-4EC9B6F8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9020-0A2B-4A4B-A700-A49347C6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677DB-8F15-4110-A228-138581EB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B0050-DD2B-4230-A0B0-953EF0FD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CFBBA-5409-4564-83DA-A2523759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12C64-37BC-4483-AEAF-216F7158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F48C7-72F1-4FA6-A422-D7FF49F9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BA5E-CB42-4FBF-B53F-479836A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41DA-91AA-4AD2-8079-5F41CC9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C7AFC-C381-496E-B567-BB3B1B48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3B6-9B13-4A20-915A-1789C17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1DF57-E3D4-4049-9589-4B13F503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52323-662D-42B8-859C-671DC6D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C2B0D-99DF-44A5-AAEF-0E701F2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363AB-063B-4248-B030-D17E5706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43393-3012-4FEE-BB42-0C795C6B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861-0FC0-41E1-B10C-506D1AB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25F9-E2F9-4827-9439-79FFA4ADA3D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632-69B4-4FA4-B4DD-7F6BDC70770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39BE-4218-4114-B44D-EAB79A5BC20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AA79-DACD-411F-A141-A16FFEE0258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F25F-63D1-4275-B6B0-51F3B3D4967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BE9-A543-411F-A47C-B17EA07CCCD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EF4-1A0C-4AF6-9CCD-B4A391F7E8B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676440"/>
            <a:ext cx="8205840" cy="16160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3103560"/>
            <a:ext cx="8058240" cy="1754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Схема 1" descr=""/>
          <p:cNvPicPr/>
          <p:nvPr/>
        </p:nvPicPr>
        <p:blipFill>
          <a:blip r:embed="rId1"/>
          <a:stretch/>
        </p:blipFill>
        <p:spPr>
          <a:xfrm>
            <a:off x="201600" y="622440"/>
            <a:ext cx="8813880" cy="6314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хема 1" descr=""/>
          <p:cNvPicPr/>
          <p:nvPr/>
        </p:nvPicPr>
        <p:blipFill>
          <a:blip r:embed="rId1"/>
          <a:stretch/>
        </p:blipFill>
        <p:spPr>
          <a:xfrm>
            <a:off x="201600" y="2060640"/>
            <a:ext cx="8813880" cy="458928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2" descr=""/>
          <p:cNvPicPr/>
          <p:nvPr/>
        </p:nvPicPr>
        <p:blipFill>
          <a:blip r:embed="rId2"/>
          <a:stretch/>
        </p:blipFill>
        <p:spPr>
          <a:xfrm>
            <a:off x="347760" y="201600"/>
            <a:ext cx="8308800" cy="1523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AutoShape 2" descr=""/>
          <p:cNvPicPr/>
          <p:nvPr/>
        </p:nvPicPr>
        <p:blipFill>
          <a:blip r:embed="rId1"/>
          <a:stretch/>
        </p:blipFill>
        <p:spPr>
          <a:xfrm>
            <a:off x="133200" y="615960"/>
            <a:ext cx="448812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66" name="Rectangle 3"/>
          <p:cNvGrpSpPr/>
          <p:nvPr/>
        </p:nvGrpSpPr>
        <p:grpSpPr>
          <a:xfrm>
            <a:off x="291960" y="1328760"/>
            <a:ext cx="8669520" cy="4809960"/>
            <a:chOff x="291960" y="1328760"/>
            <a:chExt cx="8669520" cy="4809960"/>
          </a:xfrm>
        </p:grpSpPr>
        <p:pic>
          <p:nvPicPr>
            <p:cNvPr id="367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328760"/>
              <a:ext cx="866952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71680" y="1500120"/>
              <a:ext cx="8143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ідприємство купує клапани у постачальника за ціною 40 грн. за од. Річна потреба у клапанах становить 50000 од. на рік. Витрати на одне замовлення становить 750 грн. витрати на зберігання одного клапана становлять 2 грн. Витрати на страхування 25 % від вартості одиниц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AutoShape 2" descr=""/>
          <p:cNvPicPr/>
          <p:nvPr/>
        </p:nvPicPr>
        <p:blipFill>
          <a:blip r:embed="rId1"/>
          <a:stretch/>
        </p:blipFill>
        <p:spPr>
          <a:xfrm>
            <a:off x="133200" y="762120"/>
            <a:ext cx="448812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70" name="Rectangle 3"/>
          <p:cNvGrpSpPr/>
          <p:nvPr/>
        </p:nvGrpSpPr>
        <p:grpSpPr>
          <a:xfrm>
            <a:off x="291960" y="1474920"/>
            <a:ext cx="8669520" cy="3627360"/>
            <a:chOff x="291960" y="1474920"/>
            <a:chExt cx="8669520" cy="3627360"/>
          </a:xfrm>
        </p:grpSpPr>
        <p:pic>
          <p:nvPicPr>
            <p:cNvPr id="371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1474920"/>
              <a:ext cx="8669520" cy="36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71680" y="1643040"/>
              <a:ext cx="814356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 на зберігання одиниці запасу (Н)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+40х0,25 = 12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Прямоугольник 4"/>
          <p:cNvSpPr/>
          <p:nvPr/>
        </p:nvSpPr>
        <p:spPr>
          <a:xfrm>
            <a:off x="642960" y="3357720"/>
            <a:ext cx="8001000" cy="164304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792000" y="3535200"/>
                <a:ext cx="77806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с двумя вырезанными противолежащими углами 4"/>
          <p:cNvSpPr/>
          <p:nvPr/>
        </p:nvSpPr>
        <p:spPr>
          <a:xfrm>
            <a:off x="2214720" y="1285920"/>
            <a:ext cx="6143400" cy="14288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стачальник приймає замовлення лише певними партія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9"/>
          <p:cNvSpPr/>
          <p:nvPr/>
        </p:nvSpPr>
        <p:spPr>
          <a:xfrm>
            <a:off x="714240" y="150012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8"/>
          <p:cNvSpPr/>
          <p:nvPr/>
        </p:nvSpPr>
        <p:spPr>
          <a:xfrm>
            <a:off x="2428920" y="2857680"/>
            <a:ext cx="6143760" cy="12855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Надають знижки при закупівлі великих парт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0"/>
          <p:cNvSpPr/>
          <p:nvPr/>
        </p:nvSpPr>
        <p:spPr>
          <a:xfrm>
            <a:off x="928800" y="292896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Прямоугольник с двумя вырезанными противолежащими углами 11"/>
          <p:cNvSpPr/>
          <p:nvPr/>
        </p:nvSpPr>
        <p:spPr>
          <a:xfrm>
            <a:off x="2714760" y="4286160"/>
            <a:ext cx="6143400" cy="19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У підприємства існують обмеження щодо розміщення економічного розміру замовл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Штриховая стрелка вправо 12"/>
          <p:cNvSpPr/>
          <p:nvPr/>
        </p:nvSpPr>
        <p:spPr>
          <a:xfrm>
            <a:off x="1214280" y="435780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AutoShape 2" descr=""/>
          <p:cNvPicPr/>
          <p:nvPr/>
        </p:nvPicPr>
        <p:blipFill>
          <a:blip r:embed="rId1"/>
          <a:stretch/>
        </p:blipFill>
        <p:spPr>
          <a:xfrm>
            <a:off x="133200" y="615960"/>
            <a:ext cx="4488120" cy="1127160"/>
          </a:xfrm>
          <a:prstGeom prst="rect">
            <a:avLst/>
          </a:prstGeom>
          <a:ln w="0">
            <a:noFill/>
          </a:ln>
        </p:spPr>
      </p:pic>
      <p:grpSp>
        <p:nvGrpSpPr>
          <p:cNvPr id="383" name="Rectangle 3"/>
          <p:cNvGrpSpPr/>
          <p:nvPr/>
        </p:nvGrpSpPr>
        <p:grpSpPr>
          <a:xfrm>
            <a:off x="219240" y="1328760"/>
            <a:ext cx="8669160" cy="4809960"/>
            <a:chOff x="219240" y="1328760"/>
            <a:chExt cx="8669160" cy="4809960"/>
          </a:xfrm>
        </p:grpSpPr>
        <p:pic>
          <p:nvPicPr>
            <p:cNvPr id="384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328760"/>
              <a:ext cx="866916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00040" y="1500120"/>
              <a:ext cx="81439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клапанів приймає  замовлення на партії по 4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ходячи з оптимального розміру замовлення в 2500 од., то з умов постачання він знаходиться в межах 2400 та 2800 од. Розрахуємо витрати підприємства з метою визначення оптимального варіанта для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71680" y="1143000"/>
          <a:ext cx="8001000" cy="5243400"/>
        </p:xfrm>
        <a:graphic>
          <a:graphicData uri="http://schemas.openxmlformats.org/drawingml/2006/table">
            <a:tbl>
              <a:tblPr/>
              <a:tblGrid>
                <a:gridCol w="3429000"/>
                <a:gridCol w="2286000"/>
                <a:gridCol w="2286000"/>
              </a:tblGrid>
              <a:tr h="119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 замовл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3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берігання запасів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4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х12/2=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=168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левантні витрати на замовлення (</a:t>
                      </a:r>
                      <a:r>
                        <a:rPr b="0" lang="pl-PL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xP/Q</a:t>
                      </a: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00=156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00=133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400+15625=300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800+13393=3019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33200" y="828720"/>
            <a:ext cx="4488120" cy="1128600"/>
          </a:xfrm>
          <a:prstGeom prst="rect">
            <a:avLst/>
          </a:prstGeom>
          <a:ln w="0">
            <a:noFill/>
          </a:ln>
        </p:spPr>
      </p:pic>
      <p:grpSp>
        <p:nvGrpSpPr>
          <p:cNvPr id="388" name="Rectangle 3"/>
          <p:cNvGrpSpPr/>
          <p:nvPr/>
        </p:nvGrpSpPr>
        <p:grpSpPr>
          <a:xfrm>
            <a:off x="219240" y="1616040"/>
            <a:ext cx="8955000" cy="3741840"/>
            <a:chOff x="219240" y="1616040"/>
            <a:chExt cx="8955000" cy="3741840"/>
          </a:xfrm>
        </p:grpSpPr>
        <p:pic>
          <p:nvPicPr>
            <p:cNvPr id="389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616040"/>
              <a:ext cx="8955000" cy="37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00040" y="1785960"/>
              <a:ext cx="8429760" cy="33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кладські приміщення підприємства дозволяють зберігати 1500 од. запасів при оптимальному рівні замовлення в 2500 од. Оренда додаткового приміщення для розміщення 1000 од. запасів становитиме 6000 од.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14200" y="1714680"/>
          <a:ext cx="8786880" cy="492120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4200" y="1714680"/>
          <a:ext cx="8786880" cy="496548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09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 наявних складських приміщенн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 умови оренд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Диференціа-льні витра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176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xH/2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12/2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9000=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0" lang="pl-PL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</a:t>
                      </a: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15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=1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-25000=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10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рен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-------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азо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94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676440"/>
            <a:ext cx="8205840" cy="1616040"/>
          </a:xfrm>
          <a:prstGeom prst="rect">
            <a:avLst/>
          </a:prstGeom>
          <a:ln w="0">
            <a:noFill/>
          </a:ln>
        </p:spPr>
      </p:pic>
      <p:pic>
        <p:nvPicPr>
          <p:cNvPr id="304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3103560"/>
            <a:ext cx="8094600" cy="3048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AutoShape 2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44877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396" name="Rectangle 3"/>
          <p:cNvGrpSpPr/>
          <p:nvPr/>
        </p:nvGrpSpPr>
        <p:grpSpPr>
          <a:xfrm>
            <a:off x="2651040" y="2835360"/>
            <a:ext cx="6450120" cy="2138400"/>
            <a:chOff x="2651040" y="2835360"/>
            <a:chExt cx="6450120" cy="2138400"/>
          </a:xfrm>
        </p:grpSpPr>
        <p:pic>
          <p:nvPicPr>
            <p:cNvPr id="397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835360"/>
              <a:ext cx="64501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Витрати, що становлять різницю між альтернативними рішенням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AutoShape 2" descr=""/>
          <p:cNvPicPr/>
          <p:nvPr/>
        </p:nvPicPr>
        <p:blipFill>
          <a:blip r:embed="rId1"/>
          <a:stretch/>
        </p:blipFill>
        <p:spPr>
          <a:xfrm>
            <a:off x="133200" y="328680"/>
            <a:ext cx="4488120" cy="1128600"/>
          </a:xfrm>
          <a:prstGeom prst="rect">
            <a:avLst/>
          </a:prstGeom>
          <a:ln w="0">
            <a:noFill/>
          </a:ln>
        </p:spPr>
      </p:pic>
      <p:grpSp>
        <p:nvGrpSpPr>
          <p:cNvPr id="400" name="Rectangle 3"/>
          <p:cNvGrpSpPr/>
          <p:nvPr/>
        </p:nvGrpSpPr>
        <p:grpSpPr>
          <a:xfrm>
            <a:off x="219240" y="1116000"/>
            <a:ext cx="8955000" cy="1608120"/>
            <a:chOff x="219240" y="1116000"/>
            <a:chExt cx="8955000" cy="1608120"/>
          </a:xfrm>
        </p:grpSpPr>
        <p:pic>
          <p:nvPicPr>
            <p:cNvPr id="401" name="Rectangle 3" descr=""/>
            <p:cNvPicPr/>
            <p:nvPr/>
          </p:nvPicPr>
          <p:blipFill>
            <a:blip r:embed="rId2"/>
            <a:stretch/>
          </p:blipFill>
          <p:spPr>
            <a:xfrm>
              <a:off x="219240" y="1116000"/>
              <a:ext cx="895500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00040" y="1285920"/>
              <a:ext cx="84297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ачальник при збільшенні обсягу закупок пропонує знижк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03" name=""/>
          <p:cNvGraphicFramePr/>
          <p:nvPr/>
        </p:nvGraphicFramePr>
        <p:xfrm>
          <a:off x="500040" y="2857680"/>
          <a:ext cx="8215200" cy="353520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бсяги замовлення, о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Ціна за од., грн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-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-4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-9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 і більш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14200" y="1714680"/>
          <a:ext cx="8786880" cy="410184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43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5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214200" y="1714680"/>
          <a:ext cx="8786880" cy="4727520"/>
        </p:xfrm>
        <a:graphic>
          <a:graphicData uri="http://schemas.openxmlformats.org/drawingml/2006/table">
            <a:tbl>
              <a:tblPr/>
              <a:tblGrid>
                <a:gridCol w="1928880"/>
                <a:gridCol w="2463840"/>
                <a:gridCol w="2197080"/>
                <a:gridCol w="219708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берігання (крім оренди) (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xH/2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итрати на замовлення (АхР/</a:t>
                      </a:r>
                      <a:r>
                        <a:rPr b="1" lang="pl-PL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трачені можливості отримання знижки, грн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85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25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25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8,25-38)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=125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х(2+0,25х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8,5)/2=1162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0х750/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=187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7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0040" y="2106720"/>
          <a:ext cx="8143920" cy="3547800"/>
        </p:xfrm>
        <a:graphic>
          <a:graphicData uri="http://schemas.openxmlformats.org/drawingml/2006/table">
            <a:tbl>
              <a:tblPr/>
              <a:tblGrid>
                <a:gridCol w="3714840"/>
                <a:gridCol w="44290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озмір замовленн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Загальні витрати, грн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54061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spcAft>
                          <a:spcPts val="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531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906,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12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09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130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AutoShape 2" descr=""/>
          <p:cNvPicPr/>
          <p:nvPr/>
        </p:nvPicPr>
        <p:blipFill>
          <a:blip r:embed="rId1"/>
          <a:stretch/>
        </p:blipFill>
        <p:spPr>
          <a:xfrm>
            <a:off x="60480" y="401760"/>
            <a:ext cx="4060800" cy="1487520"/>
          </a:xfrm>
          <a:prstGeom prst="rect">
            <a:avLst/>
          </a:prstGeom>
          <a:ln w="0">
            <a:noFill/>
          </a:ln>
        </p:spPr>
      </p:pic>
      <p:grpSp>
        <p:nvGrpSpPr>
          <p:cNvPr id="411" name="Rectangle 3"/>
          <p:cNvGrpSpPr/>
          <p:nvPr/>
        </p:nvGrpSpPr>
        <p:grpSpPr>
          <a:xfrm>
            <a:off x="2975040" y="1347840"/>
            <a:ext cx="6235560" cy="1859040"/>
            <a:chOff x="2975040" y="1347840"/>
            <a:chExt cx="6235560" cy="1859040"/>
          </a:xfrm>
        </p:grpSpPr>
        <p:pic>
          <p:nvPicPr>
            <p:cNvPr id="412" name="Rectangle 3" descr=""/>
            <p:cNvPicPr/>
            <p:nvPr/>
          </p:nvPicPr>
          <p:blipFill>
            <a:blip r:embed="rId2"/>
            <a:stretch/>
          </p:blipFill>
          <p:spPr>
            <a:xfrm>
              <a:off x="2975040" y="1347840"/>
              <a:ext cx="623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214800" y="1500120"/>
              <a:ext cx="57862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пас, що створюється на випадок збільшення попиту або часу виконання замовле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AutoShape 2" descr=""/>
          <p:cNvPicPr/>
          <p:nvPr/>
        </p:nvPicPr>
        <p:blipFill>
          <a:blip r:embed="rId3"/>
          <a:stretch/>
        </p:blipFill>
        <p:spPr>
          <a:xfrm>
            <a:off x="60480" y="2828880"/>
            <a:ext cx="4133520" cy="2273400"/>
          </a:xfrm>
          <a:prstGeom prst="rect">
            <a:avLst/>
          </a:prstGeom>
          <a:ln w="0">
            <a:noFill/>
          </a:ln>
        </p:spPr>
      </p:pic>
      <p:grpSp>
        <p:nvGrpSpPr>
          <p:cNvPr id="415" name="Rectangle 3"/>
          <p:cNvGrpSpPr/>
          <p:nvPr/>
        </p:nvGrpSpPr>
        <p:grpSpPr>
          <a:xfrm>
            <a:off x="2975040" y="4565520"/>
            <a:ext cx="6235560" cy="1895760"/>
            <a:chOff x="2975040" y="4565520"/>
            <a:chExt cx="6235560" cy="1895760"/>
          </a:xfrm>
        </p:grpSpPr>
        <p:pic>
          <p:nvPicPr>
            <p:cNvPr id="416" name="Rectangle 3" descr=""/>
            <p:cNvPicPr/>
            <p:nvPr/>
          </p:nvPicPr>
          <p:blipFill>
            <a:blip r:embed="rId4"/>
            <a:stretch/>
          </p:blipFill>
          <p:spPr>
            <a:xfrm>
              <a:off x="2975040" y="4565520"/>
              <a:ext cx="623556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буток втрат від нестачі запасів та ймовірності виникнення такої ситу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Прямоугольник 2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381880" cy="180972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3" descr=""/>
          <p:cNvPicPr/>
          <p:nvPr/>
        </p:nvPicPr>
        <p:blipFill>
          <a:blip r:embed="rId2"/>
          <a:stretch/>
        </p:blipFill>
        <p:spPr>
          <a:xfrm>
            <a:off x="414360" y="2987640"/>
            <a:ext cx="8381880" cy="359568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4" descr=""/>
          <p:cNvPicPr/>
          <p:nvPr/>
        </p:nvPicPr>
        <p:blipFill>
          <a:blip r:embed="rId3"/>
          <a:stretch/>
        </p:blipFill>
        <p:spPr>
          <a:xfrm>
            <a:off x="3846600" y="2060640"/>
            <a:ext cx="1096920" cy="950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4487760" cy="1700280"/>
          </a:xfrm>
          <a:prstGeom prst="rect">
            <a:avLst/>
          </a:prstGeom>
          <a:ln w="0">
            <a:noFill/>
          </a:ln>
        </p:spPr>
      </p:pic>
      <p:grpSp>
        <p:nvGrpSpPr>
          <p:cNvPr id="422" name="Rectangle 3"/>
          <p:cNvGrpSpPr/>
          <p:nvPr/>
        </p:nvGrpSpPr>
        <p:grpSpPr>
          <a:xfrm>
            <a:off x="2651040" y="2835360"/>
            <a:ext cx="6450120" cy="2138400"/>
            <a:chOff x="2651040" y="2835360"/>
            <a:chExt cx="6450120" cy="2138400"/>
          </a:xfrm>
        </p:grpSpPr>
        <p:pic>
          <p:nvPicPr>
            <p:cNvPr id="423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835360"/>
              <a:ext cx="64501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міжок часу з моменту розміщення замовлення до моменту надходження запасів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60480" y="1974960"/>
            <a:ext cx="448776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26" name="Rectangle 3"/>
          <p:cNvGrpSpPr/>
          <p:nvPr/>
        </p:nvGrpSpPr>
        <p:grpSpPr>
          <a:xfrm>
            <a:off x="2651040" y="2835360"/>
            <a:ext cx="6450120" cy="2138400"/>
            <a:chOff x="2651040" y="2835360"/>
            <a:chExt cx="6450120" cy="2138400"/>
          </a:xfrm>
        </p:grpSpPr>
        <p:pic>
          <p:nvPicPr>
            <p:cNvPr id="427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835360"/>
              <a:ext cx="645012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928960" y="3000240"/>
              <a:ext cx="59292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ередбачає поділ запасів на три категорії залежно від їх вартості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86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30" name="Rectangle 3"/>
          <p:cNvGrpSpPr/>
          <p:nvPr/>
        </p:nvGrpSpPr>
        <p:grpSpPr>
          <a:xfrm>
            <a:off x="2614680" y="706320"/>
            <a:ext cx="6669000" cy="2775240"/>
            <a:chOff x="2614680" y="706320"/>
            <a:chExt cx="6669000" cy="2775240"/>
          </a:xfrm>
        </p:grpSpPr>
        <p:pic>
          <p:nvPicPr>
            <p:cNvPr id="431" name="Rectangle 3" descr=""/>
            <p:cNvPicPr/>
            <p:nvPr/>
          </p:nvPicPr>
          <p:blipFill>
            <a:blip r:embed="rId2"/>
            <a:stretch/>
          </p:blipFill>
          <p:spPr>
            <a:xfrm>
              <a:off x="2614680" y="706320"/>
              <a:ext cx="6669000" cy="27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57680" y="857160"/>
              <a:ext cx="621504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етельно визначають розміри і момент замовлення. Витрати на замовлення і зберігання переглядають кожного разу при розміщенні чергового замовл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3" name="AutoShape 2" descr=""/>
          <p:cNvPicPr/>
          <p:nvPr/>
        </p:nvPicPr>
        <p:blipFill>
          <a:blip r:embed="rId3"/>
          <a:stretch/>
        </p:blipFill>
        <p:spPr>
          <a:xfrm>
            <a:off x="-6480" y="3333600"/>
            <a:ext cx="4486320" cy="909720"/>
          </a:xfrm>
          <a:prstGeom prst="rect">
            <a:avLst/>
          </a:prstGeom>
          <a:ln w="0">
            <a:noFill/>
          </a:ln>
        </p:spPr>
      </p:pic>
      <p:grpSp>
        <p:nvGrpSpPr>
          <p:cNvPr id="434" name="Rectangle 3"/>
          <p:cNvGrpSpPr/>
          <p:nvPr/>
        </p:nvGrpSpPr>
        <p:grpSpPr>
          <a:xfrm>
            <a:off x="2687760" y="3919680"/>
            <a:ext cx="6664320" cy="1401480"/>
            <a:chOff x="2687760" y="3919680"/>
            <a:chExt cx="6664320" cy="1401480"/>
          </a:xfrm>
        </p:grpSpPr>
        <p:pic>
          <p:nvPicPr>
            <p:cNvPr id="435" name="Rectangle 3" descr=""/>
            <p:cNvPicPr/>
            <p:nvPr/>
          </p:nvPicPr>
          <p:blipFill>
            <a:blip r:embed="rId4"/>
            <a:stretch/>
          </p:blipFill>
          <p:spPr>
            <a:xfrm>
              <a:off x="2687760" y="3919680"/>
              <a:ext cx="666432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928960" y="4071960"/>
              <a:ext cx="6215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онтроль здійснюється раз на квартал або раз на піврок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7" name="AutoShape 2" descr=""/>
          <p:cNvPicPr/>
          <p:nvPr/>
        </p:nvPicPr>
        <p:blipFill>
          <a:blip r:embed="rId5"/>
          <a:stretch/>
        </p:blipFill>
        <p:spPr>
          <a:xfrm>
            <a:off x="-6480" y="5187960"/>
            <a:ext cx="44863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38" name="Rectangle 3"/>
          <p:cNvGrpSpPr/>
          <p:nvPr/>
        </p:nvGrpSpPr>
        <p:grpSpPr>
          <a:xfrm>
            <a:off x="2687760" y="5778360"/>
            <a:ext cx="6615000" cy="970200"/>
            <a:chOff x="2687760" y="5778360"/>
            <a:chExt cx="6615000" cy="970200"/>
          </a:xfrm>
        </p:grpSpPr>
        <p:pic>
          <p:nvPicPr>
            <p:cNvPr id="439" name="Rectangle 3" descr=""/>
            <p:cNvPicPr/>
            <p:nvPr/>
          </p:nvPicPr>
          <p:blipFill>
            <a:blip r:embed="rId6"/>
            <a:stretch/>
          </p:blipFill>
          <p:spPr>
            <a:xfrm>
              <a:off x="2687760" y="5778360"/>
              <a:ext cx="6615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2928960" y="5929200"/>
              <a:ext cx="6215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рахунок здійснюється раз на рік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201600"/>
            <a:ext cx="6522840" cy="8953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с двумя вырезанными противолежащими углами 4"/>
          <p:cNvSpPr/>
          <p:nvPr/>
        </p:nvSpPr>
        <p:spPr>
          <a:xfrm>
            <a:off x="1785960" y="121428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інформації про надходження та витрачання запасів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с двумя вырезанными противолежащими углами 5"/>
          <p:cNvSpPr/>
          <p:nvPr/>
        </p:nvSpPr>
        <p:spPr>
          <a:xfrm>
            <a:off x="1785960" y="2000160"/>
            <a:ext cx="714384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контроль дотримання встановлених підприємством норм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с двумя вырезанными противолежащими углами 6"/>
          <p:cNvSpPr/>
          <p:nvPr/>
        </p:nvSpPr>
        <p:spPr>
          <a:xfrm>
            <a:off x="1785960" y="2786040"/>
            <a:ext cx="714384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безперервна оцінка реальності вартості запасів та аналіз ефективності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с двумя вырезанными противолежащими углами 7"/>
          <p:cNvSpPr/>
          <p:nvPr/>
        </p:nvSpPr>
        <p:spPr>
          <a:xfrm>
            <a:off x="1857240" y="357192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оптимізація обсягів закупівлі запасів, виявлення резервів зниж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9"/>
          <p:cNvSpPr/>
          <p:nvPr/>
        </p:nvSpPr>
        <p:spPr>
          <a:xfrm>
            <a:off x="357120" y="128592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Штриховая стрелка вправо 10"/>
          <p:cNvSpPr/>
          <p:nvPr/>
        </p:nvSpPr>
        <p:spPr>
          <a:xfrm>
            <a:off x="357120" y="2000160"/>
            <a:ext cx="1285920" cy="57168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11"/>
          <p:cNvSpPr/>
          <p:nvPr/>
        </p:nvSpPr>
        <p:spPr>
          <a:xfrm>
            <a:off x="428760" y="285768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Штриховая стрелка вправо 12"/>
          <p:cNvSpPr/>
          <p:nvPr/>
        </p:nvSpPr>
        <p:spPr>
          <a:xfrm>
            <a:off x="428760" y="3643200"/>
            <a:ext cx="1285920" cy="57168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с двумя вырезанными противолежащими углами 14"/>
          <p:cNvSpPr/>
          <p:nvPr/>
        </p:nvSpPr>
        <p:spPr>
          <a:xfrm>
            <a:off x="1857240" y="435780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бір методу оцінки запасів при їх вибутті, найкращого для підприєм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Штриховая стрелка вправо 15"/>
          <p:cNvSpPr/>
          <p:nvPr/>
        </p:nvSpPr>
        <p:spPr>
          <a:xfrm>
            <a:off x="428760" y="4429080"/>
            <a:ext cx="1285920" cy="57168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с двумя вырезанными противолежащими углами 16"/>
          <p:cNvSpPr/>
          <p:nvPr/>
        </p:nvSpPr>
        <p:spPr>
          <a:xfrm>
            <a:off x="1857240" y="5143680"/>
            <a:ext cx="7072560" cy="7142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підвищення достовірності відображення на рахунках аналітичного обліку руху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Штриховая стрелка вправо 17"/>
          <p:cNvSpPr/>
          <p:nvPr/>
        </p:nvSpPr>
        <p:spPr>
          <a:xfrm>
            <a:off x="428760" y="521496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с двумя вырезанными противолежащими углами 18"/>
          <p:cNvSpPr/>
          <p:nvPr/>
        </p:nvSpPr>
        <p:spPr>
          <a:xfrm>
            <a:off x="1857240" y="5929200"/>
            <a:ext cx="7072560" cy="7146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часне складання та подання звітності про рух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Штриховая стрелка вправо 19"/>
          <p:cNvSpPr/>
          <p:nvPr/>
        </p:nvSpPr>
        <p:spPr>
          <a:xfrm>
            <a:off x="428760" y="6000840"/>
            <a:ext cx="1285920" cy="571320"/>
          </a:xfrm>
          <a:custGeom>
            <a:avLst/>
            <a:gdLst/>
            <a:ahLst/>
            <a:rect l="l" t="t" r="r" b="b"/>
            <a:pathLst>
              <a:path w="1285875" h="571500">
                <a:moveTo>
                  <a:pt x="0" y="142875"/>
                </a:moveTo>
                <a:lnTo>
                  <a:pt x="17859" y="142875"/>
                </a:lnTo>
                <a:lnTo>
                  <a:pt x="17859" y="428625"/>
                </a:lnTo>
                <a:lnTo>
                  <a:pt x="0" y="428625"/>
                </a:lnTo>
                <a:lnTo>
                  <a:pt x="0" y="142875"/>
                </a:lnTo>
                <a:close/>
                <a:moveTo>
                  <a:pt x="35719" y="142875"/>
                </a:moveTo>
                <a:lnTo>
                  <a:pt x="71438" y="142875"/>
                </a:lnTo>
                <a:lnTo>
                  <a:pt x="71438" y="428625"/>
                </a:lnTo>
                <a:lnTo>
                  <a:pt x="35719" y="428625"/>
                </a:lnTo>
                <a:lnTo>
                  <a:pt x="35719" y="142875"/>
                </a:lnTo>
                <a:close/>
                <a:moveTo>
                  <a:pt x="89297" y="142875"/>
                </a:moveTo>
                <a:lnTo>
                  <a:pt x="1000125" y="142875"/>
                </a:lnTo>
                <a:lnTo>
                  <a:pt x="1000125" y="0"/>
                </a:lnTo>
                <a:lnTo>
                  <a:pt x="1285875" y="285750"/>
                </a:lnTo>
                <a:lnTo>
                  <a:pt x="1000125" y="571500"/>
                </a:lnTo>
                <a:lnTo>
                  <a:pt x="1000125" y="428625"/>
                </a:lnTo>
                <a:lnTo>
                  <a:pt x="89297" y="428625"/>
                </a:lnTo>
                <a:lnTo>
                  <a:pt x="89297" y="14287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60480" y="901800"/>
            <a:ext cx="5486400" cy="2201760"/>
          </a:xfrm>
          <a:prstGeom prst="rect">
            <a:avLst/>
          </a:prstGeom>
          <a:ln w="0">
            <a:noFill/>
          </a:ln>
        </p:spPr>
      </p:pic>
      <p:grpSp>
        <p:nvGrpSpPr>
          <p:cNvPr id="442" name="Rectangle 3"/>
          <p:cNvGrpSpPr/>
          <p:nvPr/>
        </p:nvGrpSpPr>
        <p:grpSpPr>
          <a:xfrm>
            <a:off x="2651040" y="2548080"/>
            <a:ext cx="6450120" cy="3736800"/>
            <a:chOff x="2651040" y="2548080"/>
            <a:chExt cx="6450120" cy="3736800"/>
          </a:xfrm>
        </p:grpSpPr>
        <p:pic>
          <p:nvPicPr>
            <p:cNvPr id="443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Один з підходів до управління запасами, що базується на купівлі ресурсів з такою умовою, що їх доставка безпосередньо передує попиту чи використанню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60480" y="401760"/>
            <a:ext cx="5986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446" name="Rectangle 3"/>
          <p:cNvGrpSpPr/>
          <p:nvPr/>
        </p:nvGrpSpPr>
        <p:grpSpPr>
          <a:xfrm>
            <a:off x="2651040" y="2548080"/>
            <a:ext cx="6450120" cy="3736800"/>
            <a:chOff x="2651040" y="2548080"/>
            <a:chExt cx="6450120" cy="3736800"/>
          </a:xfrm>
        </p:grpSpPr>
        <p:pic>
          <p:nvPicPr>
            <p:cNvPr id="447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роцес спостереження, фіксації, відтворення та впливу на необоротні активи з метою найбільш ефективного їх використання в підприємницькій діяльності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201600"/>
            <a:ext cx="6522840" cy="8953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с двумя вырезанными противолежащими углами 20"/>
          <p:cNvSpPr/>
          <p:nvPr/>
        </p:nvSpPr>
        <p:spPr>
          <a:xfrm>
            <a:off x="1357200" y="1428840"/>
            <a:ext cx="7500960" cy="9284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розміру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Штриховая стрелка вправо 21"/>
          <p:cNvSpPr/>
          <p:nvPr/>
        </p:nvSpPr>
        <p:spPr>
          <a:xfrm>
            <a:off x="357120" y="1500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Прямоугольник с двумя вырезанными противолежащими углами 22"/>
          <p:cNvSpPr/>
          <p:nvPr/>
        </p:nvSpPr>
        <p:spPr>
          <a:xfrm>
            <a:off x="1357200" y="242892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Визначення форм задоволення потреб у прирості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Штриховая стрелка вправо 23"/>
          <p:cNvSpPr/>
          <p:nvPr/>
        </p:nvSpPr>
        <p:spPr>
          <a:xfrm>
            <a:off x="357120" y="2500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с двумя вырезанными противолежащими углами 24"/>
          <p:cNvSpPr/>
          <p:nvPr/>
        </p:nvSpPr>
        <p:spPr>
          <a:xfrm>
            <a:off x="1357200" y="342900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підвищення ефективності використ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Штриховая стрелка вправо 25"/>
          <p:cNvSpPr/>
          <p:nvPr/>
        </p:nvSpPr>
        <p:spPr>
          <a:xfrm>
            <a:off x="357120" y="35002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с двумя вырезанными противолежащими углами 26"/>
          <p:cNvSpPr/>
          <p:nvPr/>
        </p:nvSpPr>
        <p:spPr>
          <a:xfrm>
            <a:off x="1357200" y="442908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Формування оптимальної структури джерел фінансування необоротних актив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Штриховая стрелка вправо 27"/>
          <p:cNvSpPr/>
          <p:nvPr/>
        </p:nvSpPr>
        <p:spPr>
          <a:xfrm>
            <a:off x="357120" y="450072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с двумя вырезанными противолежащими углами 30"/>
          <p:cNvSpPr/>
          <p:nvPr/>
        </p:nvSpPr>
        <p:spPr>
          <a:xfrm>
            <a:off x="1357200" y="5429160"/>
            <a:ext cx="7500960" cy="9288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entury Gothic"/>
              </a:rPr>
              <a:t>Забезпечення вчасного оновлення та модернізації необоротних активів у процесі їх використ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Штриховая стрелка вправо 31"/>
          <p:cNvSpPr/>
          <p:nvPr/>
        </p:nvSpPr>
        <p:spPr>
          <a:xfrm>
            <a:off x="357120" y="55008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60480" y="689040"/>
            <a:ext cx="5986440" cy="24145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2651040" y="2548080"/>
            <a:ext cx="6450120" cy="3206520"/>
            <a:chOff x="2651040" y="2548080"/>
            <a:chExt cx="6450120" cy="320652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2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2928960" y="2714760"/>
              <a:ext cx="59292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ступове систематичне списання вартості основних засобів у процесі їх корисного використання, пов</a:t>
              </a:r>
              <a:r>
                <a:rPr b="0" lang="pl-PL" sz="3500" spc="-1" strike="noStrike">
                  <a:solidFill>
                    <a:srgbClr val="ffffff"/>
                  </a:solidFill>
                  <a:latin typeface="Times New Roman"/>
                </a:rPr>
                <a:t>’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язане з їх фізичним і моральним зносом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AutoShape 2" descr=""/>
          <p:cNvPicPr/>
          <p:nvPr/>
        </p:nvPicPr>
        <p:blipFill>
          <a:blip r:embed="rId1"/>
          <a:stretch/>
        </p:blipFill>
        <p:spPr>
          <a:xfrm>
            <a:off x="60480" y="401760"/>
            <a:ext cx="5986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465" name="Rectangle 3"/>
          <p:cNvGrpSpPr/>
          <p:nvPr/>
        </p:nvGrpSpPr>
        <p:grpSpPr>
          <a:xfrm>
            <a:off x="2651040" y="2548080"/>
            <a:ext cx="6450120" cy="3736800"/>
            <a:chOff x="2651040" y="2548080"/>
            <a:chExt cx="6450120" cy="3736800"/>
          </a:xfrm>
        </p:grpSpPr>
        <p:pic>
          <p:nvPicPr>
            <p:cNvPr id="466" name="Rectangle 3" descr=""/>
            <p:cNvPicPr/>
            <p:nvPr/>
          </p:nvPicPr>
          <p:blipFill>
            <a:blip r:embed="rId2"/>
            <a:stretch/>
          </p:blipFill>
          <p:spPr>
            <a:xfrm>
              <a:off x="2651040" y="2548080"/>
              <a:ext cx="645012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928960" y="2714760"/>
              <a:ext cx="592920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Полягає в оптимізації їх загального середнього поточного залишку з позиції забезпечення постійної платоспроможності підприємства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Rectangle 3"/>
          <p:cNvGrpSpPr/>
          <p:nvPr/>
        </p:nvGrpSpPr>
        <p:grpSpPr>
          <a:xfrm>
            <a:off x="1359000" y="1463760"/>
            <a:ext cx="6718320" cy="4449600"/>
            <a:chOff x="1359000" y="1463760"/>
            <a:chExt cx="6718320" cy="4449600"/>
          </a:xfrm>
        </p:grpSpPr>
        <p:pic>
          <p:nvPicPr>
            <p:cNvPr id="469" name="Rectangle 3" descr=""/>
            <p:cNvPicPr/>
            <p:nvPr/>
          </p:nvPicPr>
          <p:blipFill>
            <a:blip r:embed="rId1"/>
            <a:stretch/>
          </p:blipFill>
          <p:spPr>
            <a:xfrm>
              <a:off x="1359000" y="1463760"/>
              <a:ext cx="671832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500120" y="1571760"/>
              <a:ext cx="628668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Натхнення при підготовці до практичних занять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utoShape 2" descr=""/>
          <p:cNvPicPr/>
          <p:nvPr/>
        </p:nvPicPr>
        <p:blipFill>
          <a:blip r:embed="rId1"/>
          <a:stretch/>
        </p:blipFill>
        <p:spPr>
          <a:xfrm>
            <a:off x="60480" y="42840"/>
            <a:ext cx="40608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21" name="Rectangle 3"/>
          <p:cNvGrpSpPr/>
          <p:nvPr/>
        </p:nvGrpSpPr>
        <p:grpSpPr>
          <a:xfrm>
            <a:off x="2975040" y="1347840"/>
            <a:ext cx="6235560" cy="2328840"/>
            <a:chOff x="2975040" y="1347840"/>
            <a:chExt cx="6235560" cy="2328840"/>
          </a:xfrm>
        </p:grpSpPr>
        <p:pic>
          <p:nvPicPr>
            <p:cNvPr id="322" name="Rectangle 3" descr=""/>
            <p:cNvPicPr/>
            <p:nvPr/>
          </p:nvPicPr>
          <p:blipFill>
            <a:blip r:embed="rId2"/>
            <a:stretch/>
          </p:blipFill>
          <p:spPr>
            <a:xfrm>
              <a:off x="2975040" y="1347840"/>
              <a:ext cx="623556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214800" y="1500120"/>
              <a:ext cx="57862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Кількість замовлених запасів, що забезпечує оптимальну комбінацію витрат на придбання та їх зберіг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4" name="AutoShape 2" descr=""/>
          <p:cNvPicPr/>
          <p:nvPr/>
        </p:nvPicPr>
        <p:blipFill>
          <a:blip r:embed="rId3"/>
          <a:stretch/>
        </p:blipFill>
        <p:spPr>
          <a:xfrm>
            <a:off x="60480" y="3614760"/>
            <a:ext cx="4060800" cy="148752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2975040" y="4565520"/>
            <a:ext cx="6235560" cy="1895760"/>
            <a:chOff x="2975040" y="4565520"/>
            <a:chExt cx="6235560" cy="1895760"/>
          </a:xfrm>
        </p:grpSpPr>
        <p:pic>
          <p:nvPicPr>
            <p:cNvPr id="326" name="Rectangle 3" descr=""/>
            <p:cNvPicPr/>
            <p:nvPr/>
          </p:nvPicPr>
          <p:blipFill>
            <a:blip r:embed="rId4"/>
            <a:stretch/>
          </p:blipFill>
          <p:spPr>
            <a:xfrm>
              <a:off x="2975040" y="4565520"/>
              <a:ext cx="623556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214800" y="4714920"/>
              <a:ext cx="578628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трати, величина яких може змінюватися залежно від прийнятого ріше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куп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амовле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Century Gothic"/>
              </a:rPr>
              <a:t>Витрати на зберігання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і втрати внаслідок нестачі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с двумя вырезанными противолежащими углами 4"/>
          <p:cNvSpPr/>
          <p:nvPr/>
        </p:nvSpPr>
        <p:spPr>
          <a:xfrm>
            <a:off x="2428920" y="135720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страхува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Штриховая стрелка вправо 9"/>
          <p:cNvSpPr/>
          <p:nvPr/>
        </p:nvSpPr>
        <p:spPr>
          <a:xfrm>
            <a:off x="928800" y="14288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с двумя вырезанными противолежащими углами 8"/>
          <p:cNvSpPr/>
          <p:nvPr/>
        </p:nvSpPr>
        <p:spPr>
          <a:xfrm>
            <a:off x="2643120" y="27147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Додаткові витрати на утримання складських приміщен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Штриховая стрелка вправо 10"/>
          <p:cNvSpPr/>
          <p:nvPr/>
        </p:nvSpPr>
        <p:spPr>
          <a:xfrm>
            <a:off x="1143000" y="278604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с двумя вырезанными противолежащими углами 11"/>
          <p:cNvSpPr/>
          <p:nvPr/>
        </p:nvSpPr>
        <p:spPr>
          <a:xfrm>
            <a:off x="2928960" y="4071960"/>
            <a:ext cx="578628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знецінення запас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Штриховая стрелка вправо 12"/>
          <p:cNvSpPr/>
          <p:nvPr/>
        </p:nvSpPr>
        <p:spPr>
          <a:xfrm>
            <a:off x="1428840" y="4143240"/>
            <a:ext cx="1285920" cy="85752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с двумя вырезанными противолежащими углами 13"/>
          <p:cNvSpPr/>
          <p:nvPr/>
        </p:nvSpPr>
        <p:spPr>
          <a:xfrm>
            <a:off x="3143160" y="5429160"/>
            <a:ext cx="57866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Можлива втрата прибутковості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Штриховая стрелка вправо 18"/>
          <p:cNvSpPr/>
          <p:nvPr/>
        </p:nvSpPr>
        <p:spPr>
          <a:xfrm>
            <a:off x="1643040" y="550080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88416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с двумя вырезанными противолежащими углами 4"/>
          <p:cNvSpPr/>
          <p:nvPr/>
        </p:nvSpPr>
        <p:spPr>
          <a:xfrm>
            <a:off x="2214720" y="121428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чений дохід від продаж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9"/>
          <p:cNvSpPr/>
          <p:nvPr/>
        </p:nvSpPr>
        <p:spPr>
          <a:xfrm>
            <a:off x="714240" y="128592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с двумя вырезанными противолежащими углами 8"/>
          <p:cNvSpPr/>
          <p:nvPr/>
        </p:nvSpPr>
        <p:spPr>
          <a:xfrm>
            <a:off x="2428920" y="264312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Штрафні санкції за несвоєчасну поставку продукції замовника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Штриховая стрелка вправо 10"/>
          <p:cNvSpPr/>
          <p:nvPr/>
        </p:nvSpPr>
        <p:spPr>
          <a:xfrm>
            <a:off x="928800" y="271476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с двумя вырезанными противолежащими углами 11"/>
          <p:cNvSpPr/>
          <p:nvPr/>
        </p:nvSpPr>
        <p:spPr>
          <a:xfrm>
            <a:off x="2714760" y="4071960"/>
            <a:ext cx="614340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онадпланові витрати, внаслідок заміни матеріалів з вищою вартіст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Штриховая стрелка вправо 12"/>
          <p:cNvSpPr/>
          <p:nvPr/>
        </p:nvSpPr>
        <p:spPr>
          <a:xfrm>
            <a:off x="1214280" y="4143240"/>
            <a:ext cx="1285920" cy="85752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с двумя вырезанными противолежащими углами 13"/>
          <p:cNvSpPr/>
          <p:nvPr/>
        </p:nvSpPr>
        <p:spPr>
          <a:xfrm>
            <a:off x="2928960" y="5500800"/>
            <a:ext cx="614376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трати внаслідок простої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Штриховая стрелка вправо 18"/>
          <p:cNvSpPr/>
          <p:nvPr/>
        </p:nvSpPr>
        <p:spPr>
          <a:xfrm>
            <a:off x="1428840" y="5572080"/>
            <a:ext cx="1285920" cy="857160"/>
          </a:xfrm>
          <a:custGeom>
            <a:avLst/>
            <a:gdLst/>
            <a:ahLst/>
            <a:rect l="l" t="t" r="r" b="b"/>
            <a:pathLst>
              <a:path w="1285875" h="857250">
                <a:moveTo>
                  <a:pt x="0" y="214313"/>
                </a:moveTo>
                <a:lnTo>
                  <a:pt x="26789" y="214313"/>
                </a:lnTo>
                <a:lnTo>
                  <a:pt x="26789" y="642938"/>
                </a:lnTo>
                <a:lnTo>
                  <a:pt x="0" y="642938"/>
                </a:lnTo>
                <a:lnTo>
                  <a:pt x="0" y="214313"/>
                </a:lnTo>
                <a:close/>
                <a:moveTo>
                  <a:pt x="53578" y="214313"/>
                </a:moveTo>
                <a:lnTo>
                  <a:pt x="107156" y="214313"/>
                </a:lnTo>
                <a:lnTo>
                  <a:pt x="107156" y="642938"/>
                </a:lnTo>
                <a:lnTo>
                  <a:pt x="53578" y="642938"/>
                </a:lnTo>
                <a:lnTo>
                  <a:pt x="53578" y="214313"/>
                </a:lnTo>
                <a:close/>
                <a:moveTo>
                  <a:pt x="133945" y="214313"/>
                </a:moveTo>
                <a:lnTo>
                  <a:pt x="857250" y="214313"/>
                </a:lnTo>
                <a:lnTo>
                  <a:pt x="857250" y="0"/>
                </a:lnTo>
                <a:lnTo>
                  <a:pt x="1285875" y="428625"/>
                </a:lnTo>
                <a:lnTo>
                  <a:pt x="857250" y="857250"/>
                </a:lnTo>
                <a:lnTo>
                  <a:pt x="857250" y="642938"/>
                </a:lnTo>
                <a:lnTo>
                  <a:pt x="133945" y="642938"/>
                </a:lnTo>
                <a:lnTo>
                  <a:pt x="133945" y="214313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AutoShape 2" descr=""/>
          <p:cNvPicPr/>
          <p:nvPr/>
        </p:nvPicPr>
        <p:blipFill>
          <a:blip r:embed="rId1"/>
          <a:stretch/>
        </p:blipFill>
        <p:spPr>
          <a:xfrm>
            <a:off x="60480" y="476280"/>
            <a:ext cx="4487760" cy="2913120"/>
          </a:xfrm>
          <a:prstGeom prst="rect">
            <a:avLst/>
          </a:prstGeom>
          <a:ln w="0">
            <a:noFill/>
          </a:ln>
        </p:spPr>
      </p:pic>
      <p:grpSp>
        <p:nvGrpSpPr>
          <p:cNvPr id="356" name="Rectangle 3"/>
          <p:cNvGrpSpPr/>
          <p:nvPr/>
        </p:nvGrpSpPr>
        <p:grpSpPr>
          <a:xfrm>
            <a:off x="2938320" y="2614680"/>
            <a:ext cx="6309000" cy="2676600"/>
            <a:chOff x="2938320" y="2614680"/>
            <a:chExt cx="6309000" cy="2676600"/>
          </a:xfrm>
        </p:grpSpPr>
        <p:pic>
          <p:nvPicPr>
            <p:cNvPr id="357" name="Rectangle 3" descr=""/>
            <p:cNvPicPr/>
            <p:nvPr/>
          </p:nvPicPr>
          <p:blipFill>
            <a:blip r:embed="rId2"/>
            <a:stretch/>
          </p:blipFill>
          <p:spPr>
            <a:xfrm>
              <a:off x="2938320" y="2614680"/>
              <a:ext cx="630900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214800" y="2786040"/>
              <a:ext cx="57862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ть запасів, за якої загальні витрати на замовлення і зберігання запасів будуть мінімальними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Прямоугольник 1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08800" cy="15238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85840" y="1928880"/>
            <a:ext cx="8572320" cy="4357800"/>
          </a:xfrm>
          <a:prstGeom prst="rect">
            <a:avLst/>
          </a:prstGeom>
          <a:solidFill>
            <a:srgbClr val="dbeef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285840" y="2786040"/>
                <a:ext cx="8572320" cy="25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А</m:t>
                            </m:r>
                            <m:r>
                              <m:t xml:space="preserve">×</m:t>
                            </m:r>
                            <m:r>
                              <m:t xml:space="preserve">Р</m:t>
                            </m:r>
                          </m:num>
                          <m:den>
                            <m:r>
                              <m:t xml:space="preserve">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аговська Олена Адамівна</cp:lastModifiedBy>
  <dcterms:modified xsi:type="dcterms:W3CDTF">2021-12-20T06:28:15Z</dcterms:modified>
  <cp:revision>97</cp:revision>
  <dc:subject/>
  <dc:title>Слайд 1</dc:title>
</cp:coreProperties>
</file>