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B11-66E9-438A-A646-E22F8DED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D41-CF33-4BF8-A0EF-48D7CC9F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B72-056C-4A0B-8868-8AE73F98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58D-1694-4E22-8786-2646745D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8361-6069-45C1-B209-B5A6F3BF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887D-C08F-4051-98B4-AAE92410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374F-2C17-44B6-968C-FF12E483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5A23-3306-4A10-B48F-2A5C2CE9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562B-1D87-474F-851C-DB9B1201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84CE-E3D8-4AC0-8327-6DC09E2C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AEEF-A0EC-4739-BC4C-83B34E6C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454-FDBB-45AD-A672-9C8D43DB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032E-69C2-46C0-8165-320BC409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90CB-EB99-46B8-8D05-051D2AD0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66E0-F991-4799-B903-BFB72FDD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3CD-5CDA-4B53-AD20-1D603B1C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A544-DEF2-4754-AB4E-98748917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F25A-333B-4018-AA70-9AB991C9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25CC-ED82-41C4-8BD3-6CC9B7E6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8D30-D6FC-4B11-A5BC-46F962F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40CD3-C444-4C50-8EFD-A5FCEE53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AAB6-D84F-4996-9757-B61358A6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7BA-7BE0-44C5-B81E-C8574AE4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2AE1-44B6-418F-AD8F-319EDAAA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84AE-D99A-4F43-8421-9FD1A6A4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9770-66E1-4B60-8601-3FA8B6CD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E573-C538-4C12-9551-8F3F3D0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D183-C094-4C8E-B98C-D3FD94F8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B0A4-EDC8-4A54-9E37-B929C235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D841-19EB-4485-9405-33B9ABEC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526D-9AAF-4391-8310-F48A4AC7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8317C-85CE-4DB7-AF9E-4B982376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7D32-35D4-4DC0-B9AD-59701A2A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C46-E221-4335-968E-CEB9E93F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2676-9F25-4536-AD20-427B606F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E2C9-87CB-4561-82B2-29D94BBC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EB00-8EAE-459C-A829-FFA93E11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D4B8-C501-4228-A916-8DA7DA6A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D7EE-B565-438F-ABF8-0708710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8C17-591E-456C-BE4C-70E344E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E6EA-E29C-4243-9752-4B0B0819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8D1B-809E-4AE5-9117-4FBD7C2C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5FC5-4F28-45D2-A0F4-1A12A5D7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AED2-1102-4045-8583-2D3BA700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AAE-C73B-4035-B5CD-F35583A1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80D3-5FF7-4EDA-81D4-94AAC45E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F55A-C4B3-46FA-A9DC-FE036906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D6EBB-400F-4E55-AFA4-795111CE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2236-B94F-401E-AC19-44168686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37C8-C96D-4B00-BB77-0876F75A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9201A-B3E2-40D0-ADB1-C4D6C529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707A7-D8B4-4F0E-B5D1-A52FADEC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4CD16-5837-4EE4-8C45-68734607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3B37C-4905-44BC-991B-5A6886A7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0084C-6304-4D95-B637-109FBAAF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EC7-4123-413A-9353-0D92173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F1F5E-1AD0-42B5-B342-C75E2B32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800F1-BA4B-4DCA-867A-871ADCAF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5B0C9-8C11-4EA8-A37A-674560AE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5E5B8-0FC8-4E6B-9484-3E750F9E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F78C7-4627-4932-8DAD-D85FD0AB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1D123-96BA-4382-BFBE-5A0BBDF0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8CEB0-0FB5-4904-A03B-1FCE651A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E3E21-4807-4832-B7DE-6529C01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1AEA6-CB91-499D-8856-861F01B1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B13B-02B0-4679-9003-69DAA77D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01E-52E4-421B-A581-47B8E3EF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FE9D-895E-4B8E-96FA-CD8EF841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1FC3-EFE1-4252-A88E-CE1366BE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565AC-B5FC-46F4-AB51-BA8747EA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FC01E-C80E-4B20-993F-5B609835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79308-450F-471E-A677-74591640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7DD8D-FF57-42CE-A5D4-FA91AD0A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16F2-1B74-45FD-A94C-854B39CE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DD941-3553-4D47-AFCF-7677AD01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A08DF-1072-4895-A04E-79B4A5C8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98C78-A595-4627-8836-E15EDB0E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979-EB22-4134-9877-15B1DC35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F5F4A-7733-4F38-A054-9F781EA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4BDE2-972E-4363-9D9A-B39133E0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28F51-A8D2-4CBC-853F-603C943C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E16D2-5811-4653-87A9-BA69287F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82DC3-4F8D-4626-8D80-28E2A6E5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674-16F8-4870-9634-8E354EBB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631C-9B3F-4C6D-B6AD-B3E842FCC49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F223-4632-4942-A5DD-2DB07C26960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B5C-371F-4ABD-9312-5ED1143D957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429-173A-4350-A233-29AD24AED9D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59A0-40D2-47E8-88BC-2CF40A688D2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5935-183E-41AA-80C6-5709ADFE73B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E084-6A19-448A-8824-CC9897691D1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42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4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6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52" name="Прямая со стрелкой 15"/>
          <p:cNvCxnSpPr>
            <a:stCxn id="345" idx="2"/>
            <a:endCxn id="347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19"/>
          <p:cNvCxnSpPr>
            <a:stCxn id="345" idx="2"/>
            <a:endCxn id="348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4" name="Прямая со стрелкой 22"/>
          <p:cNvCxnSpPr>
            <a:stCxn id="345" idx="2"/>
            <a:endCxn id="349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Прямая со стрелкой 26"/>
          <p:cNvCxnSpPr>
            <a:stCxn id="348" idx="2"/>
            <a:endCxn id="350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6" name="Прямая со стрелкой 29"/>
          <p:cNvCxnSpPr>
            <a:stCxn id="349" idx="2"/>
            <a:endCxn id="350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7" name="Прямая со стрелкой 32"/>
          <p:cNvCxnSpPr>
            <a:stCxn id="347" idx="2"/>
            <a:endCxn id="350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8" name="Прямая со стрелкой 35"/>
          <p:cNvCxnSpPr>
            <a:stCxn id="350" idx="2"/>
            <a:endCxn id="351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9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70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15"/>
          <p:cNvCxnSpPr>
            <a:stCxn id="373" idx="2"/>
            <a:endCxn id="374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19"/>
          <p:cNvCxnSpPr>
            <a:stCxn id="373" idx="2"/>
            <a:endCxn id="375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Прямая со стрелкой 22"/>
          <p:cNvCxnSpPr>
            <a:stCxn id="373" idx="2"/>
            <a:endCxn id="376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Прямая со стрелкой 26"/>
          <p:cNvCxnSpPr>
            <a:stCxn id="375" idx="3"/>
            <a:endCxn id="376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Прямая со стрелкой 29"/>
          <p:cNvCxnSpPr>
            <a:stCxn id="376" idx="2"/>
            <a:endCxn id="377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32"/>
          <p:cNvCxnSpPr>
            <a:stCxn id="374" idx="3"/>
            <a:endCxn id="375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Прямая со стрелкой 35"/>
          <p:cNvCxnSpPr>
            <a:stCxn id="377" idx="2"/>
            <a:endCxn id="378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6" descr=""/>
          <p:cNvPicPr/>
          <p:nvPr/>
        </p:nvPicPr>
        <p:blipFill>
          <a:blip r:embed="rId2"/>
          <a:stretch/>
        </p:blipFill>
        <p:spPr>
          <a:xfrm>
            <a:off x="171360" y="1547640"/>
            <a:ext cx="4430880" cy="2475000"/>
          </a:xfrm>
          <a:prstGeom prst="rect">
            <a:avLst/>
          </a:prstGeom>
          <a:ln w="0">
            <a:noFill/>
          </a:ln>
        </p:spPr>
      </p:pic>
      <p:cxnSp>
        <p:nvCxnSpPr>
          <p:cNvPr id="388" name="Прямая со стрелкой 15"/>
          <p:cNvCxnSpPr>
            <a:stCxn id="386" idx="2"/>
          </p:cNvCxnSpPr>
          <p:nvPr/>
        </p:nvCxnSpPr>
        <p:spPr>
          <a:xfrm flipH="1">
            <a:off x="3202920" y="1071360"/>
            <a:ext cx="136908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9" name="Прямая со стрелкой 22"/>
          <p:cNvCxnSpPr>
            <a:stCxn id="386" idx="2"/>
          </p:cNvCxnSpPr>
          <p:nvPr/>
        </p:nvCxnSpPr>
        <p:spPr>
          <a:xfrm>
            <a:off x="4572000" y="1071360"/>
            <a:ext cx="129600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0" name="Прямоугольник 27" descr=""/>
          <p:cNvPicPr/>
          <p:nvPr/>
        </p:nvPicPr>
        <p:blipFill>
          <a:blip r:embed="rId3"/>
          <a:stretch/>
        </p:blipFill>
        <p:spPr>
          <a:xfrm>
            <a:off x="4730760" y="1566720"/>
            <a:ext cx="4468680" cy="2529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4"/>
          <a:stretch/>
        </p:blipFill>
        <p:spPr>
          <a:xfrm>
            <a:off x="1011240" y="4133880"/>
            <a:ext cx="718200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5"/>
          <a:stretch/>
        </p:blipFill>
        <p:spPr>
          <a:xfrm>
            <a:off x="334800" y="5211720"/>
            <a:ext cx="4419720" cy="1506600"/>
          </a:xfrm>
          <a:prstGeom prst="rect">
            <a:avLst/>
          </a:prstGeom>
          <a:ln w="0">
            <a:noFill/>
          </a:ln>
        </p:spPr>
      </p:pic>
      <p:cxnSp>
        <p:nvCxnSpPr>
          <p:cNvPr id="393" name="Прямая со стрелкой 11"/>
          <p:cNvCxnSpPr/>
          <p:nvPr/>
        </p:nvCxnSpPr>
        <p:spPr>
          <a:xfrm flipH="1">
            <a:off x="3355200" y="4743360"/>
            <a:ext cx="136908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4723920" y="4743360"/>
            <a:ext cx="129636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5" name="Прямоугольник 13" descr=""/>
          <p:cNvPicPr/>
          <p:nvPr/>
        </p:nvPicPr>
        <p:blipFill>
          <a:blip r:embed="rId6"/>
          <a:stretch/>
        </p:blipFill>
        <p:spPr>
          <a:xfrm>
            <a:off x="4925880" y="5237280"/>
            <a:ext cx="4449960" cy="130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55440" y="1109520"/>
            <a:ext cx="499284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97" name="Rectangle 3"/>
          <p:cNvGrpSpPr/>
          <p:nvPr/>
        </p:nvGrpSpPr>
        <p:grpSpPr>
          <a:xfrm>
            <a:off x="1328760" y="2773440"/>
            <a:ext cx="7736040" cy="1828800"/>
            <a:chOff x="1328760" y="2773440"/>
            <a:chExt cx="7736040" cy="1828800"/>
          </a:xfrm>
        </p:grpSpPr>
        <p:pic>
          <p:nvPicPr>
            <p:cNvPr id="398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773440"/>
              <a:ext cx="77360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571760" y="2928960"/>
              <a:ext cx="72864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укція визначена з врахуванням ступеня її готовності на кожному з її пере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ый прямоугольник 16"/>
          <p:cNvSpPr/>
          <p:nvPr/>
        </p:nvSpPr>
        <p:spPr>
          <a:xfrm>
            <a:off x="2197080" y="2289240"/>
            <a:ext cx="612000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Узагальнення даних про рух одиниць продукції за кількістю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трелка вправо с вырезом 10"/>
          <p:cNvSpPr/>
          <p:nvPr/>
        </p:nvSpPr>
        <p:spPr>
          <a:xfrm>
            <a:off x="214200" y="2503440"/>
            <a:ext cx="1765440" cy="1069920"/>
          </a:xfrm>
          <a:custGeom>
            <a:avLst/>
            <a:gdLst>
              <a:gd name="textAreaLeft" fmla="*/ 267480 w 1765440"/>
              <a:gd name="textAreaRight" fmla="*/ 1497960 w 176544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579600"/>
            <a:ext cx="8388000" cy="1498320"/>
          </a:xfrm>
          <a:prstGeom prst="rect">
            <a:avLst/>
          </a:prstGeom>
          <a:ln w="0">
            <a:noFill/>
          </a:ln>
        </p:spPr>
      </p:pic>
      <p:sp>
        <p:nvSpPr>
          <p:cNvPr id="404" name="Скругленный прямоугольник 11"/>
          <p:cNvSpPr/>
          <p:nvPr/>
        </p:nvSpPr>
        <p:spPr>
          <a:xfrm>
            <a:off x="2349360" y="234936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Обчислення еквівалентних одиниць готової продукції для кожної статті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трелка вправо с вырезом 12"/>
          <p:cNvSpPr/>
          <p:nvPr/>
        </p:nvSpPr>
        <p:spPr>
          <a:xfrm>
            <a:off x="366840" y="249228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4221000"/>
          <a:ext cx="8643960" cy="2468880"/>
        </p:xfrm>
        <a:graphic>
          <a:graphicData uri="http://schemas.openxmlformats.org/drawingml/2006/table">
            <a:tbl>
              <a:tblPr/>
              <a:tblGrid>
                <a:gridCol w="2714400"/>
                <a:gridCol w="2643120"/>
                <a:gridCol w="32864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числення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 НВк – ЕО у НВп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НВ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ласифікація методів обліку витрат і калькулюван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директ-костинг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стандарт-кост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нормативного метод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собливості застосування систем калькулювання зарубіжних краї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8" name="Скругленный прямоугольник 6"/>
          <p:cNvSpPr/>
          <p:nvPr/>
        </p:nvSpPr>
        <p:spPr>
          <a:xfrm>
            <a:off x="900000" y="3284640"/>
            <a:ext cx="7569360" cy="30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агальна сума витрат на виробництво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а на початок періо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поточного пері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трелка вправо с вырезом 11"/>
          <p:cNvSpPr/>
          <p:nvPr/>
        </p:nvSpPr>
        <p:spPr>
          <a:xfrm>
            <a:off x="366840" y="1844640"/>
            <a:ext cx="1765080" cy="1069920"/>
          </a:xfrm>
          <a:custGeom>
            <a:avLst/>
            <a:gdLst>
              <a:gd name="textAreaLeft" fmla="*/ 267480 w 1765080"/>
              <a:gd name="textAreaRight" fmla="*/ 1497600 w 176508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2"/>
          <p:cNvSpPr/>
          <p:nvPr/>
        </p:nvSpPr>
        <p:spPr>
          <a:xfrm>
            <a:off x="2124000" y="162864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Визначення загальної суми витрат на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3024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ый прямоугольник 16"/>
          <p:cNvSpPr/>
          <p:nvPr/>
        </p:nvSpPr>
        <p:spPr>
          <a:xfrm>
            <a:off x="2197080" y="126828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рахунок собівартості еквівалентної одиниці готов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трелка вправо с вырезом 10"/>
          <p:cNvSpPr/>
          <p:nvPr/>
        </p:nvSpPr>
        <p:spPr>
          <a:xfrm>
            <a:off x="214200" y="1484280"/>
            <a:ext cx="1765440" cy="1068480"/>
          </a:xfrm>
          <a:custGeom>
            <a:avLst/>
            <a:gdLst>
              <a:gd name="textAreaLeft" fmla="*/ 267120 w 1765440"/>
              <a:gd name="textAreaRight" fmla="*/ 1498320 w 176544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9280" y="3201840"/>
          <a:ext cx="8643960" cy="3611880"/>
        </p:xfrm>
        <a:graphic>
          <a:graphicData uri="http://schemas.openxmlformats.org/drawingml/2006/table">
            <a:tbl>
              <a:tblPr/>
              <a:tblGrid>
                <a:gridCol w="2714760"/>
                <a:gridCol w="2643120"/>
                <a:gridCol w="32860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ЕО готової продукції =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витрат поточного періоду на кількість ЕО поточного період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загальної суми витрат виробництва на загальну кількість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6" name="Скругленный прямоугольник 6"/>
          <p:cNvSpPr/>
          <p:nvPr/>
        </p:nvSpPr>
        <p:spPr>
          <a:xfrm>
            <a:off x="2349360" y="1989000"/>
            <a:ext cx="6120000" cy="1716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поділ виробничих витрат між готовою продукцією, браком та незавершеним виробництвом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трелка вправо с вырезом 7"/>
          <p:cNvSpPr/>
          <p:nvPr/>
        </p:nvSpPr>
        <p:spPr>
          <a:xfrm>
            <a:off x="366840" y="213192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468360" y="1197000"/>
          <a:ext cx="8351640" cy="5486400"/>
        </p:xfrm>
        <a:graphic>
          <a:graphicData uri="http://schemas.openxmlformats.org/drawingml/2006/table">
            <a:tbl>
              <a:tblPr/>
              <a:tblGrid>
                <a:gridCol w="1670040"/>
                <a:gridCol w="1670040"/>
                <a:gridCol w="1671480"/>
                <a:gridCol w="1670040"/>
                <a:gridCol w="1670040"/>
              </a:tblGrid>
              <a:tr h="274680"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,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(матеріали 100 %, обробка 6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уск у виробництво у квітн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кінець місяця (матеріали 100 %, обробка 4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51688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68360" y="1557360"/>
          <a:ext cx="8280360" cy="5181480"/>
        </p:xfrm>
        <a:graphic>
          <a:graphicData uri="http://schemas.openxmlformats.org/drawingml/2006/table">
            <a:tbl>
              <a:tblPr/>
              <a:tblGrid>
                <a:gridCol w="2590920"/>
                <a:gridCol w="1296720"/>
                <a:gridCol w="1584360"/>
                <a:gridCol w="1884600"/>
                <a:gridCol w="923760"/>
              </a:tblGrid>
              <a:tr h="610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лишок на кінець періоду, 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 = Кількість одиниць в незавершеному виробництві на кінець періоду х % оброб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\+ 20000 = 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539640" y="476280"/>
          <a:ext cx="8136000" cy="5911920"/>
        </p:xfrm>
        <a:graphic>
          <a:graphicData uri="http://schemas.openxmlformats.org/drawingml/2006/table">
            <a:tbl>
              <a:tblPr/>
              <a:tblGrid>
                <a:gridCol w="1962360"/>
                <a:gridCol w="1279440"/>
                <a:gridCol w="1617480"/>
                <a:gridCol w="2368800"/>
                <a:gridCol w="90792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обничі витрати, грн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+ 88000 = 9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+ 54000 = 57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+ 43200 = 46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100 / 85000 = 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Скругленный прямоугольник 2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обівартість готової продукції = 65000 од х 2,57 = 167050 гр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кінець періо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мат. витрати = 20000 х 100 % х 1,15 = 2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витрати на оплату праці = 20000 х 40 % х 0,79 = 63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ЗВВ = 20000 х 40 % х 0,63 = 50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Разов незавершене виробництво = 343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3880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268280"/>
          <a:ext cx="8353440" cy="540396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727280"/>
                <a:gridCol w="1804680"/>
                <a:gridCol w="932040"/>
              </a:tblGrid>
              <a:tr h="428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. витра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 К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100 % = (5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. виробництво на кінець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5000 + 20000 = 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 - 3000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3000 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. витрати, грн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/ 80000 = 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Скругленный прямоугольник 1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на завершення обробки 5000 од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Матеріали – оброблені повніст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ОП 5000 х (100%-60%)х 0,77 = 15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ВВ 5000 х (100%-60%)х 0,62 = 1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Разом витрат на завершення обробки  27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початок місяця = 10100 + 3720 + 2820 = 166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кругленный прямоугольник 1"/>
          <p:cNvSpPr/>
          <p:nvPr/>
        </p:nvSpPr>
        <p:spPr>
          <a:xfrm>
            <a:off x="324000" y="333360"/>
            <a:ext cx="8145360" cy="60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решти продукції, виготовленої в звітному періоді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65000 од. – 5000 од.) х 2,49 = 14940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 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итрати на завершення оброки незавершеного виробництва на початок періоду + Собівартість решти продукції, виготовленої в звітному періоді + Незавершене виробництво на початок місяц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780 + 149400 + 16640 = 16882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ершене виробництво на кінець періоду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 = 20000 х 100% х 1,1 = 220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 = 20000 х 40% х 0,77 = 61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В = 20000 х 40% х 0,62 = 4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м = 331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468440" y="2487600"/>
            <a:ext cx="7742160" cy="2754360"/>
            <a:chOff x="1468440" y="2487600"/>
            <a:chExt cx="7742160" cy="275436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714680" y="2643120"/>
              <a:ext cx="72864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ідображення витрат, що здійснюються на підприємстві протягом певного періоду, пов'язаних з процесом придбання, виробництва і реалізації в розрізах, що формують собівартість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29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4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2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33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434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214200" y="1071720"/>
          <a:ext cx="8643960" cy="521496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21000/30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21000/30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38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439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2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0" y="762120"/>
          <a:ext cx="8643960" cy="6095880"/>
        </p:xfrm>
        <a:graphic>
          <a:graphicData uri="http://schemas.openxmlformats.org/drawingml/2006/table">
            <a:tbl>
              <a:tblPr/>
              <a:tblGrid>
                <a:gridCol w="3852720"/>
                <a:gridCol w="1433520"/>
                <a:gridCol w="1643040"/>
                <a:gridCol w="171468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Запаси гот. прод . на поч.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Запаси гот. прод. На кінець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Зміна у запасах  (п.2-п.1))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остійні ЗВВ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Різниця у прибутку  (п.3хп.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. Фін. рез. (калькул. зм. в-т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Калькулювання повних витрат (п.5+п.6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6" name="Rectangle 3"/>
          <p:cNvGrpSpPr/>
          <p:nvPr/>
        </p:nvGrpSpPr>
        <p:grpSpPr>
          <a:xfrm>
            <a:off x="55440" y="-79200"/>
            <a:ext cx="8996400" cy="804600"/>
            <a:chOff x="55440" y="-79200"/>
            <a:chExt cx="8996400" cy="804600"/>
          </a:xfrm>
        </p:grpSpPr>
        <p:pic>
          <p:nvPicPr>
            <p:cNvPr id="447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2920" y="71280"/>
              <a:ext cx="88581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ЗГОДЖЕННЯ ФІНАНСОВОГО РЕЗУЛЬТАТ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5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55440" y="1895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70" name="Rectangle 3"/>
          <p:cNvGrpSpPr/>
          <p:nvPr/>
        </p:nvGrpSpPr>
        <p:grpSpPr>
          <a:xfrm>
            <a:off x="1292400" y="2548080"/>
            <a:ext cx="7808760" cy="1414440"/>
            <a:chOff x="1292400" y="2548080"/>
            <a:chExt cx="7808760" cy="1414440"/>
          </a:xfrm>
        </p:grpSpPr>
        <p:pic>
          <p:nvPicPr>
            <p:cNvPr id="471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2548080"/>
              <a:ext cx="7808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571760" y="271944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1401840"/>
          </a:xfrm>
          <a:prstGeom prst="rect">
            <a:avLst/>
          </a:prstGeom>
          <a:ln w="0">
            <a:noFill/>
          </a:ln>
        </p:spPr>
      </p:pic>
      <p:sp>
        <p:nvSpPr>
          <p:cNvPr id="474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імеччина, Австр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ilkostenrechnung 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(облік гранич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еликобрита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rginal costing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(облік маржиналь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с вырезом 17"/>
          <p:cNvSpPr/>
          <p:nvPr/>
        </p:nvSpPr>
        <p:spPr>
          <a:xfrm>
            <a:off x="3932280" y="487512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8"/>
          <p:cNvSpPr/>
          <p:nvPr/>
        </p:nvSpPr>
        <p:spPr>
          <a:xfrm>
            <a:off x="547560" y="480204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сійська Федерац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19"/>
          <p:cNvSpPr/>
          <p:nvPr/>
        </p:nvSpPr>
        <p:spPr>
          <a:xfrm>
            <a:off x="5445000" y="4443480"/>
            <a:ext cx="3311640" cy="1793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 обмеженої собівартості, облік пропорційної собівартості, облік обмеженої собіварт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484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16"/>
          <p:cNvSpPr/>
          <p:nvPr/>
        </p:nvSpPr>
        <p:spPr>
          <a:xfrm>
            <a:off x="2357280" y="276696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9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AutoShape 2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44244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89" name="Rectangle 3"/>
          <p:cNvGrpSpPr/>
          <p:nvPr/>
        </p:nvGrpSpPr>
        <p:grpSpPr>
          <a:xfrm>
            <a:off x="1328760" y="2273400"/>
            <a:ext cx="7736040" cy="1403280"/>
            <a:chOff x="1328760" y="2273400"/>
            <a:chExt cx="7736040" cy="1403280"/>
          </a:xfrm>
        </p:grpSpPr>
        <p:pic>
          <p:nvPicPr>
            <p:cNvPr id="490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273400"/>
              <a:ext cx="77360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571760" y="242892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ізниця між доходом від реалізації продукції та змінними витратами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3"/>
          <p:cNvGrpSpPr/>
          <p:nvPr/>
        </p:nvGrpSpPr>
        <p:grpSpPr>
          <a:xfrm>
            <a:off x="-19080" y="-60480"/>
            <a:ext cx="9259920" cy="6875640"/>
            <a:chOff x="-19080" y="-60480"/>
            <a:chExt cx="9259920" cy="6875640"/>
          </a:xfrm>
        </p:grpSpPr>
        <p:pic>
          <p:nvPicPr>
            <p:cNvPr id="493" name="Rectangle 3" descr=""/>
            <p:cNvPicPr/>
            <p:nvPr/>
          </p:nvPicPr>
          <p:blipFill>
            <a:blip r:embed="rId1"/>
            <a:stretch/>
          </p:blipFill>
          <p:spPr>
            <a:xfrm>
              <a:off x="-19080" y="-60480"/>
              <a:ext cx="925992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920" y="214200"/>
              <a:ext cx="885816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ff"/>
                  </a:solidFill>
                  <a:latin typeface="Times New Roman"/>
                </a:rPr>
                <a:t>Французька модель визначення фін. результат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Змінна собівартість продукції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Маржинальний дохід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Постійні витрати період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5. Результат (прибуток/збиток)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Правая фигурная скобка 2"/>
          <p:cNvSpPr/>
          <p:nvPr/>
        </p:nvSpPr>
        <p:spPr>
          <a:xfrm>
            <a:off x="7500960" y="2000160"/>
            <a:ext cx="642960" cy="2357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2357640"/>
              <a:gd name="textAreaBottom" fmla="*/ 234108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авая фигурная скобка 5"/>
          <p:cNvSpPr/>
          <p:nvPr/>
        </p:nvSpPr>
        <p:spPr>
          <a:xfrm>
            <a:off x="7500960" y="4500720"/>
            <a:ext cx="642960" cy="17143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714320"/>
              <a:gd name="textAreaBottom" fmla="*/ 169776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Восьмиугольник 7"/>
          <p:cNvSpPr/>
          <p:nvPr/>
        </p:nvSpPr>
        <p:spPr>
          <a:xfrm>
            <a:off x="8215200" y="2928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Восьмиугольник 8"/>
          <p:cNvSpPr/>
          <p:nvPr/>
        </p:nvSpPr>
        <p:spPr>
          <a:xfrm>
            <a:off x="8286840" y="500076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00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Американська модель визначення фін. р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Змінна  виробнича собівартість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аних вироб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3. Виробнича марж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4. Змінні витрати на реалізацію та управлі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5. Торговельна маржа (Заг. марж. дохід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6. Постійні витрат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7. Фінансовий результат (Результат-нетто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Правая фигурная скобка 2"/>
          <p:cNvSpPr/>
          <p:nvPr/>
        </p:nvSpPr>
        <p:spPr>
          <a:xfrm>
            <a:off x="7500960" y="1357200"/>
            <a:ext cx="642960" cy="15004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480"/>
              <a:gd name="textAreaBottom" fmla="*/ 148392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авая фигурная скобка 5"/>
          <p:cNvSpPr/>
          <p:nvPr/>
        </p:nvSpPr>
        <p:spPr>
          <a:xfrm>
            <a:off x="7500960" y="314316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Восьмиугольник 7"/>
          <p:cNvSpPr/>
          <p:nvPr/>
        </p:nvSpPr>
        <p:spPr>
          <a:xfrm>
            <a:off x="8215200" y="1785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Восьмиугольник 8"/>
          <p:cNvSpPr/>
          <p:nvPr/>
        </p:nvSpPr>
        <p:spPr>
          <a:xfrm>
            <a:off x="8286840" y="3643200"/>
            <a:ext cx="571320" cy="5716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авая фигурная скобка 9"/>
          <p:cNvSpPr/>
          <p:nvPr/>
        </p:nvSpPr>
        <p:spPr>
          <a:xfrm>
            <a:off x="7500960" y="4929120"/>
            <a:ext cx="642960" cy="16430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643040"/>
              <a:gd name="textAreaBottom" fmla="*/ 16264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2"/>
                  <a:pt x="10800" y="704"/>
                </a:cubicBezTo>
                <a:lnTo>
                  <a:pt x="10800" y="10096"/>
                </a:lnTo>
                <a:cubicBezTo>
                  <a:pt x="10800" y="10448"/>
                  <a:pt x="16200" y="10800"/>
                  <a:pt x="21600" y="10800"/>
                </a:cubicBezTo>
                <a:cubicBezTo>
                  <a:pt x="16200" y="10800"/>
                  <a:pt x="10800" y="11152"/>
                  <a:pt x="10800" y="11504"/>
                </a:cubicBezTo>
                <a:lnTo>
                  <a:pt x="10800" y="20896"/>
                </a:lnTo>
                <a:cubicBezTo>
                  <a:pt x="10800" y="212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Восьмиугольник 10"/>
          <p:cNvSpPr/>
          <p:nvPr/>
        </p:nvSpPr>
        <p:spPr>
          <a:xfrm>
            <a:off x="8286840" y="5429160"/>
            <a:ext cx="571320" cy="64296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-85680" y="444600"/>
            <a:ext cx="4419720" cy="199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Rectangle 3"/>
          <p:cNvGrpSpPr/>
          <p:nvPr/>
        </p:nvGrpSpPr>
        <p:grpSpPr>
          <a:xfrm>
            <a:off x="1359000" y="2255760"/>
            <a:ext cx="7815240" cy="4084560"/>
            <a:chOff x="1359000" y="2255760"/>
            <a:chExt cx="7815240" cy="4084560"/>
          </a:xfrm>
        </p:grpSpPr>
        <p:pic>
          <p:nvPicPr>
            <p:cNvPr id="510" name="Rectangle 3" descr=""/>
            <p:cNvPicPr/>
            <p:nvPr/>
          </p:nvPicPr>
          <p:blipFill>
            <a:blip r:embed="rId2"/>
            <a:stretch/>
          </p:blipFill>
          <p:spPr>
            <a:xfrm>
              <a:off x="1359000" y="2255760"/>
              <a:ext cx="78152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43040" y="2428920"/>
              <a:ext cx="728676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Частина постійних витрат відноситься прямо без умовного розподілу на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відповідні вироби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Групи виробів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центри відповідальності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сегменти діяльності 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13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Схема  визначення фін. </a:t>
              </a:r>
              <a:r>
                <a:rPr b="1" lang="ru-RU" sz="35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Дохід від реалізації виробу – Змінн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Собів-ть виробу = Напівмаржа за виробом (МД 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виріб = Напівмаржа групи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виробів (МД 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групи продукції =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Напівмаржа місця виникнення витрат (МД І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стійні витрати місця виникнення витрат = Напівмаржа по підрозділу(МД І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дрозділу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= Напівмаржа по підприємству (МД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ДПРИЄМТВА = ФІНАНСОВИЙ РЕЗУЛЬТ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авая фигурная скобка 2"/>
          <p:cNvSpPr/>
          <p:nvPr/>
        </p:nvSpPr>
        <p:spPr>
          <a:xfrm>
            <a:off x="7607160" y="620640"/>
            <a:ext cx="642960" cy="1079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79640"/>
              <a:gd name="textAreaBottom" fmla="*/ 10630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авая фигурная скобка 5"/>
          <p:cNvSpPr/>
          <p:nvPr/>
        </p:nvSpPr>
        <p:spPr>
          <a:xfrm>
            <a:off x="7674120" y="1700280"/>
            <a:ext cx="642960" cy="1081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81080"/>
              <a:gd name="textAreaBottom" fmla="*/ 10645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5"/>
                  <a:pt x="10800" y="1070"/>
                </a:cubicBezTo>
                <a:lnTo>
                  <a:pt x="10800" y="9730"/>
                </a:lnTo>
                <a:cubicBezTo>
                  <a:pt x="10800" y="10265"/>
                  <a:pt x="16200" y="10800"/>
                  <a:pt x="21600" y="10800"/>
                </a:cubicBezTo>
                <a:cubicBezTo>
                  <a:pt x="16200" y="10800"/>
                  <a:pt x="10800" y="11335"/>
                  <a:pt x="10800" y="11870"/>
                </a:cubicBezTo>
                <a:lnTo>
                  <a:pt x="10800" y="20530"/>
                </a:lnTo>
                <a:cubicBezTo>
                  <a:pt x="10800" y="210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Восьмиугольник 7"/>
          <p:cNvSpPr/>
          <p:nvPr/>
        </p:nvSpPr>
        <p:spPr>
          <a:xfrm>
            <a:off x="8321760" y="105264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Восьмиугольник 8"/>
          <p:cNvSpPr/>
          <p:nvPr/>
        </p:nvSpPr>
        <p:spPr>
          <a:xfrm>
            <a:off x="8286840" y="191628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авая фигурная скобка 9"/>
          <p:cNvSpPr/>
          <p:nvPr/>
        </p:nvSpPr>
        <p:spPr>
          <a:xfrm>
            <a:off x="7678800" y="2781360"/>
            <a:ext cx="642960" cy="11523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Восьмиугольник 10"/>
          <p:cNvSpPr/>
          <p:nvPr/>
        </p:nvSpPr>
        <p:spPr>
          <a:xfrm>
            <a:off x="8464680" y="3193920"/>
            <a:ext cx="571320" cy="4510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Восьмиугольник 11"/>
          <p:cNvSpPr/>
          <p:nvPr/>
        </p:nvSpPr>
        <p:spPr>
          <a:xfrm>
            <a:off x="8464680" y="4202280"/>
            <a:ext cx="57132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авая фигурная скобка 12"/>
          <p:cNvSpPr/>
          <p:nvPr/>
        </p:nvSpPr>
        <p:spPr>
          <a:xfrm>
            <a:off x="7812000" y="3933720"/>
            <a:ext cx="642960" cy="11509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0920"/>
              <a:gd name="textAreaBottom" fmla="*/ 113436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Восьмиугольник 13"/>
          <p:cNvSpPr/>
          <p:nvPr/>
        </p:nvSpPr>
        <p:spPr>
          <a:xfrm>
            <a:off x="8393040" y="5354640"/>
            <a:ext cx="57168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авая фигурная скобка 14"/>
          <p:cNvSpPr/>
          <p:nvPr/>
        </p:nvSpPr>
        <p:spPr>
          <a:xfrm>
            <a:off x="7740720" y="5084640"/>
            <a:ext cx="642960" cy="11527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720"/>
              <a:gd name="textAreaBottom" fmla="*/ 11361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26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11"/>
          <p:cNvSpPr/>
          <p:nvPr/>
        </p:nvSpPr>
        <p:spPr>
          <a:xfrm>
            <a:off x="468360" y="213372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операційний прибуток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15"/>
          <p:cNvSpPr/>
          <p:nvPr/>
        </p:nvSpPr>
        <p:spPr>
          <a:xfrm>
            <a:off x="5364000" y="235584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маржинальний дохі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трелка вправо с вырезом 17"/>
          <p:cNvSpPr/>
          <p:nvPr/>
        </p:nvSpPr>
        <p:spPr>
          <a:xfrm>
            <a:off x="3932280" y="33591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18"/>
          <p:cNvSpPr/>
          <p:nvPr/>
        </p:nvSpPr>
        <p:spPr>
          <a:xfrm>
            <a:off x="547560" y="32860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повну собіварті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19"/>
          <p:cNvSpPr/>
          <p:nvPr/>
        </p:nvSpPr>
        <p:spPr>
          <a:xfrm>
            <a:off x="5445000" y="328608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обчислити критичний обсяг реаліза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трелка вправо с вырезом 14"/>
          <p:cNvSpPr/>
          <p:nvPr/>
        </p:nvSpPr>
        <p:spPr>
          <a:xfrm>
            <a:off x="3924360" y="4587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16"/>
          <p:cNvSpPr/>
          <p:nvPr/>
        </p:nvSpPr>
        <p:spPr>
          <a:xfrm>
            <a:off x="539640" y="4514760"/>
            <a:ext cx="331308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довг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20"/>
          <p:cNvSpPr/>
          <p:nvPr/>
        </p:nvSpPr>
        <p:spPr>
          <a:xfrm>
            <a:off x="5437080" y="4514760"/>
            <a:ext cx="331164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коротк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38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1"/>
          <p:cNvSpPr/>
          <p:nvPr/>
        </p:nvSpPr>
        <p:spPr>
          <a:xfrm>
            <a:off x="468360" y="2133720"/>
            <a:ext cx="3311640" cy="18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рієнтує менеджмент на досягнення найкращих результатів в противагу оптимізації виробничого проце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5"/>
          <p:cNvSpPr/>
          <p:nvPr/>
        </p:nvSpPr>
        <p:spPr>
          <a:xfrm>
            <a:off x="5364000" y="2205000"/>
            <a:ext cx="3311640" cy="1720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 найбільш оптимальну програму випуску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трелка вправо с вырезом 17"/>
          <p:cNvSpPr/>
          <p:nvPr/>
        </p:nvSpPr>
        <p:spPr>
          <a:xfrm>
            <a:off x="3932280" y="41511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8"/>
          <p:cNvSpPr/>
          <p:nvPr/>
        </p:nvSpPr>
        <p:spPr>
          <a:xfrm>
            <a:off x="547560" y="407844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на застосовувати на будь-яких підприємств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9"/>
          <p:cNvSpPr/>
          <p:nvPr/>
        </p:nvSpPr>
        <p:spPr>
          <a:xfrm>
            <a:off x="5445000" y="407844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цільно застосовувати на підприємствах з невеликим рівнем постійних вит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трелка вправо с вырезом 14"/>
          <p:cNvSpPr/>
          <p:nvPr/>
        </p:nvSpPr>
        <p:spPr>
          <a:xfrm>
            <a:off x="3924360" y="5380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6"/>
          <p:cNvSpPr/>
          <p:nvPr/>
        </p:nvSpPr>
        <p:spPr>
          <a:xfrm>
            <a:off x="539640" y="5307120"/>
            <a:ext cx="331308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льші трудомістка система контро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20"/>
          <p:cNvSpPr/>
          <p:nvPr/>
        </p:nvSpPr>
        <p:spPr>
          <a:xfrm>
            <a:off x="5437080" y="5307120"/>
            <a:ext cx="331164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истема контролю більш операти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0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ідсутність складних процедур з розподілу постійних витрат за видами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явність аналітичних перев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ає можливість більш оперативно контролювати постійні витр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простити нормування, планування через зменшення статей витр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9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застосування демпінгового ціноутворен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кладність у розмежуванні витрат на постійні та змінн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відповідність вітчизняній системі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икривлення загальної величини прибут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трелка вправо с вырезом 18"/>
          <p:cNvSpPr/>
          <p:nvPr/>
        </p:nvSpPr>
        <p:spPr>
          <a:xfrm>
            <a:off x="1450800" y="566748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9"/>
          <p:cNvSpPr/>
          <p:nvPr/>
        </p:nvSpPr>
        <p:spPr>
          <a:xfrm>
            <a:off x="2879640" y="5738760"/>
            <a:ext cx="617400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 співпадання результатів фін. звітності із даними управлінського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570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57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3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574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575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6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7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578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579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582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9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3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34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14T10:40:04Z</dcterms:modified>
  <cp:revision>257</cp:revision>
  <dc:subject/>
  <dc:title>Слайд 1</dc:title>
</cp:coreProperties>
</file>