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56B9-2FE3-4136-97A5-559B0B614E9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5104-40CE-45E2-9450-CA6F0F6A00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5297-7878-4EDD-A440-549432F7B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B08BA-5B01-41C7-AFFA-A4AC6C91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13127-7CFA-4AAE-872F-CAAEF37DA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9D9F-7984-4B08-B38C-98B310B0F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3929E-2083-498A-8AE0-969F84A2B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8BA35-0BA3-4C4F-8132-A797DE801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C2B66-B6CB-49F8-8A17-8990902A6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3A30C-E391-4E80-A060-F40A60337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E549C-DF56-4FC8-BD47-6A18A1830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6F174-70F4-4167-857D-0CAFDCD59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FF226-715B-42A3-98D0-5EFA66A93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06C9D-D69B-419F-BB4F-E2F881252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D7D99-AFA0-4F26-B833-B4D5D316B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FE141-4DF7-43A3-9672-4B7A8F33D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D8083-A5AA-4D2F-8AF9-9807EED1C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48614-ABAE-4351-8EFB-FE925FC60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764FD-8D67-43EE-8230-6B99136C9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4274-AFF3-4E3E-B972-489B7ED8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1D6CA-9BBD-459E-A9B3-241FB73E1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4581F-7539-4894-957C-FC25765D2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1508-B8B4-44A6-9FB8-AE55871A3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D55E-6068-48E8-B2CB-A3E54C07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FA353-250E-4140-815A-4FA6BA775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9552E-A963-4175-B863-82F04EE9B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C301-A970-49CE-A905-0169C3A13DF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68C0-BC64-4C2E-B405-280BB66507A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8153280" cy="39463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ccecff"/>
                </a:solidFill>
                <a:latin typeface="Arial"/>
              </a:rPr>
              <a:t>Лекція 26-27. Облік дебіторської заборгованості</a:t>
            </a:r>
            <a:endParaRPr b="0" lang="en-US" sz="8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2. Облік розрахунків за нарахованими доходами</a:t>
            </a:r>
            <a:endParaRPr b="0" lang="en-US" sz="4400" spc="-1" strike="noStrike">
              <a:solidFill>
                <a:srgbClr val="ccecff"/>
              </a:solidFill>
              <a:latin typeface="Arial"/>
            </a:endParaRPr>
          </a:p>
        </p:txBody>
      </p:sp>
      <p:sp>
        <p:nvSpPr>
          <p:cNvPr id="234" name=""/>
          <p:cNvSpPr txBox="1"/>
          <p:nvPr/>
        </p:nvSpPr>
        <p:spPr>
          <a:xfrm>
            <a:off x="152280" y="1239840"/>
            <a:ext cx="8839440" cy="4525920"/>
          </a:xfrm>
          <a:prstGeom prst="rect">
            <a:avLst/>
          </a:prstGeom>
          <a:noFill/>
          <a:ln w="0">
            <a:noFill/>
          </a:ln>
        </p:spPr>
        <p:txBody>
          <a:bodyPr anchor="t">
            <a:normAutofit fontScale="8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ля відображення розрахунків підприємства за належними до отримання відсотками, дивідендами, роялті й іншими доходами від вкладень (інвестицій) в інші підприємства, а також доходів від передачі в оренду майна призначений рахунок </a:t>
            </a:r>
            <a:r>
              <a:rPr b="0" lang="uk-UA" sz="3200" spc="-1" strike="noStrike">
                <a:solidFill>
                  <a:srgbClr val="ffffff"/>
                </a:solidFill>
                <a:latin typeface="Calibri"/>
              </a:rPr>
              <a:t>373 “Розрахунки за нарахованими доходами”.</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13 операційна оренда</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32 % за фінансовою орендою</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32 % по депозиту</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Calibri"/>
              </a:rPr>
              <a:t>Дт 373 Кт 719 роялті по нематеріальних актива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304560"/>
            <a:ext cx="8610480" cy="5592600"/>
          </a:xfrm>
          <a:prstGeom prst="rect">
            <a:avLst/>
          </a:prstGeom>
          <a:noFill/>
          <a:ln w="0">
            <a:noFill/>
          </a:ln>
        </p:spPr>
        <p:txBody>
          <a:bodyPr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РОЯЛТІ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нематеріальних активів підприємства (патентів, торгових марок, авторського права, програмних продуктів тощо).</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ОЦЕНТИ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грошових коштів, їх еквівалентів або сум, які заборговані підприємству.</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600" y="914040"/>
            <a:ext cx="8763120" cy="472428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ебіторською заборгованістю за нарахованими відсотками визнається </a:t>
            </a:r>
            <a:r>
              <a:rPr b="0" lang="uk-UA" sz="3800" spc="-1" strike="noStrike" u="sng">
                <a:solidFill>
                  <a:srgbClr val="ffffff"/>
                </a:solidFill>
                <a:uFillTx/>
                <a:latin typeface="Arial"/>
              </a:rPr>
              <a:t>різниця між справедливою вартістю </a:t>
            </a:r>
            <a:r>
              <a:rPr b="0" lang="uk-UA" sz="3800" spc="-1" strike="noStrike">
                <a:solidFill>
                  <a:srgbClr val="ffffff"/>
                </a:solidFill>
                <a:latin typeface="Arial"/>
              </a:rPr>
              <a:t>дебіторської заборгованості та </a:t>
            </a:r>
            <a:r>
              <a:rPr b="0" lang="uk-UA" sz="3800" spc="-1" strike="noStrike" u="sng">
                <a:solidFill>
                  <a:srgbClr val="ffffff"/>
                </a:solidFill>
                <a:uFillTx/>
                <a:latin typeface="Arial"/>
              </a:rPr>
              <a:t>номінальною сумою </a:t>
            </a:r>
            <a:r>
              <a:rPr b="0" lang="uk-UA" sz="3800" spc="-1" strike="noStrike">
                <a:solidFill>
                  <a:srgbClr val="ffffff"/>
                </a:solidFill>
                <a:latin typeface="Arial"/>
              </a:rPr>
              <a:t>грошових коштів, яка виникла внаслідок відстрочення платежу за продукцію (товари, роботи, послуг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304560"/>
            <a:ext cx="8763120" cy="6172200"/>
          </a:xfrm>
          <a:prstGeom prst="rect">
            <a:avLst/>
          </a:prstGeom>
          <a:noFill/>
          <a:ln w="0">
            <a:noFill/>
          </a:ln>
        </p:spPr>
        <p:txBody>
          <a:bodyPr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До процентів включаються: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1. </a:t>
            </a:r>
            <a:r>
              <a:rPr b="0" lang="uk-UA" sz="3600" spc="-1" strike="noStrike">
                <a:solidFill>
                  <a:srgbClr val="ffffff"/>
                </a:solidFill>
                <a:latin typeface="Arial"/>
              </a:rPr>
              <a:t>платіж за використання коштів або товарів (робіт, послуг), отриманих у кред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2. </a:t>
            </a:r>
            <a:r>
              <a:rPr b="0" lang="uk-UA" sz="3600" spc="-1" strike="noStrike">
                <a:solidFill>
                  <a:srgbClr val="ffffff"/>
                </a:solidFill>
                <a:latin typeface="Arial"/>
              </a:rPr>
              <a:t>платіж за використання коштів, залучених у депоз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3. </a:t>
            </a:r>
            <a:r>
              <a:rPr b="0" lang="uk-UA" sz="3600" spc="-1" strike="noStrike">
                <a:solidFill>
                  <a:srgbClr val="ffffff"/>
                </a:solidFill>
                <a:latin typeface="Arial"/>
              </a:rPr>
              <a:t>платіж за придбання товарів у розстрочку; платіж за використання майна, отриманого в користування (орендні, у тому числі лізингові та рентні операції).</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28600" y="228600"/>
            <a:ext cx="8763120" cy="5897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ЯЛТІ – платежі будь-якого виду, одержані як винагорода за користування або за надання права на користування будь-яким авторським правом на літературні твори, твори мистецтва або науки, включаючи комп’ютерні програми, інші записи на носіях інформації, відео- або аудиокасети, кінематографічні фільми або плівки для радіо чи телевізійного мовлення.</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763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Не вважаються роялті:</a:t>
            </a:r>
            <a:endParaRPr b="0" lang="en-US" sz="4500" spc="-1" strike="noStrike">
              <a:solidFill>
                <a:srgbClr val="ccecff"/>
              </a:solidFill>
              <a:latin typeface="Arial"/>
            </a:endParaRPr>
          </a:p>
        </p:txBody>
      </p:sp>
      <p:sp>
        <p:nvSpPr>
          <p:cNvPr id="240" name=""/>
          <p:cNvSpPr txBox="1"/>
          <p:nvPr/>
        </p:nvSpPr>
        <p:spPr>
          <a:xfrm>
            <a:off x="152280" y="1143000"/>
            <a:ext cx="8839440" cy="54864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латежі за отримання об’єктів власності, визначених законодавством, у володіння або розпорядження чи власність особи або якщо умови користування такими об’єктами власності надають право користувачу продати або відчужити іншим способом такий об’єкт власності або оприлюднити (розголосити) секретні креслення, моделі, формули, процеси, права на інформацію щодо промислового, комерційного або наукового досвіду (ноу-ха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2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Відображення в обліку операцій за нарахованими доходами</a:t>
            </a:r>
            <a:endParaRPr b="0" lang="en-US" sz="4400" spc="-1" strike="noStrike">
              <a:solidFill>
                <a:srgbClr val="ccecff"/>
              </a:solidFill>
              <a:latin typeface="Arial"/>
            </a:endParaRPr>
          </a:p>
        </p:txBody>
      </p:sp>
      <p:graphicFrame>
        <p:nvGraphicFramePr>
          <p:cNvPr id="242" name=""/>
          <p:cNvGraphicFramePr/>
          <p:nvPr/>
        </p:nvGraphicFramePr>
        <p:xfrm>
          <a:off x="0" y="1371600"/>
          <a:ext cx="9144000" cy="5487840"/>
        </p:xfrm>
        <a:graphic>
          <a:graphicData uri="http://schemas.openxmlformats.org/drawingml/2006/table">
            <a:tbl>
              <a:tblPr/>
              <a:tblGrid>
                <a:gridCol w="533520"/>
                <a:gridCol w="5715000"/>
                <a:gridCol w="1447560"/>
                <a:gridCol w="1447920"/>
              </a:tblGrid>
              <a:tr h="262080">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r>
              <a:tr h="2620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288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частку інвестора в дивідендах, що підлягають отриманню від дочірніх, асоційованих і спільних підприємств</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4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доходи від передачі активів в операційну оренду</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1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Нараховано дивіденди, що підляга-ють отриманню від підприємств, що не є асоційованими, дочірніми або спільними відносно інвестора</a:t>
                      </a:r>
                      <a:endParaRPr b="0" lang="en-US" sz="22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0" y="0"/>
          <a:ext cx="9144000" cy="6858000"/>
        </p:xfrm>
        <a:graphic>
          <a:graphicData uri="http://schemas.openxmlformats.org/drawingml/2006/table">
            <a:tbl>
              <a:tblPr/>
              <a:tblGrid>
                <a:gridCol w="457200"/>
                <a:gridCol w="4800600"/>
                <a:gridCol w="2209680"/>
                <a:gridCol w="1676520"/>
              </a:tblGrid>
              <a:tr h="237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9018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вигляді виробничих запасів, МШП, товарів</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0, 22,</a:t>
                      </a:r>
                      <a:endParaRPr b="0" lang="en-US" sz="5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8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в без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66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Видано в забезпечення погашення заборгованості з виплати доходів дебіторами короткостроковий вексель</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880"/>
            <a:ext cx="91440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3. Облік розрахунків за претензіями</a:t>
            </a:r>
            <a:endParaRPr b="0" lang="en-US" sz="4500" spc="-1" strike="noStrike">
              <a:solidFill>
                <a:srgbClr val="ccecff"/>
              </a:solidFill>
              <a:latin typeface="Arial"/>
            </a:endParaRPr>
          </a:p>
        </p:txBody>
      </p:sp>
      <p:sp>
        <p:nvSpPr>
          <p:cNvPr id="245" name=""/>
          <p:cNvSpPr txBox="1"/>
          <p:nvPr/>
        </p:nvSpPr>
        <p:spPr>
          <a:xfrm>
            <a:off x="0" y="1523520"/>
            <a:ext cx="9144000" cy="16002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ерш ніж звернутись до суду, слід вжити заходів доарбітражного врегулювання суперечок</a:t>
            </a:r>
            <a:endParaRPr b="0" lang="en-US" sz="3200" spc="-1" strike="noStrike">
              <a:solidFill>
                <a:srgbClr val="ffffff"/>
              </a:solidFill>
              <a:latin typeface="Arial"/>
            </a:endParaRPr>
          </a:p>
        </p:txBody>
      </p:sp>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7" name="Object 1"/>
          <p:cNvGraphicFramePr/>
          <p:nvPr/>
        </p:nvGraphicFramePr>
        <p:xfrm>
          <a:off x="0" y="3048120"/>
          <a:ext cx="9086760" cy="3581280"/>
        </p:xfrm>
        <a:graphic>
          <a:graphicData uri="http://schemas.openxmlformats.org/presentationml/2006/ole">
            <p:oleObj r:id="rId1" spid="">
              <p:embed/>
              <p:pic>
                <p:nvPicPr>
                  <p:cNvPr id="248" name="Object 1" descr=""/>
                  <p:cNvPicPr/>
                  <p:nvPr/>
                </p:nvPicPr>
                <p:blipFill>
                  <a:blip r:embed="rId2"/>
                  <a:stretch/>
                </p:blipFill>
                <p:spPr>
                  <a:xfrm>
                    <a:off x="0" y="3048120"/>
                    <a:ext cx="90867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75960" y="151920"/>
            <a:ext cx="8915400" cy="66294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ТРОКО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є певний період в часі, який вимірюється роками, місяцями, неділями, днями, час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ТЕРМІНО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є певний період момент в часі, який визначається календарною датою або вказівкою на подію, яке неминуче повинно наступит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ОЗОВНА ДАВНІСТЬ –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це строк, в межах якого особа може звернутися в суд з вимогою про захист свого цивільного права або інтерес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лан лекції:</a:t>
            </a:r>
            <a:endParaRPr b="0" lang="en-US" sz="4400" spc="-1" strike="noStrike">
              <a:solidFill>
                <a:srgbClr val="ccecff"/>
              </a:solidFill>
              <a:latin typeface="Arial"/>
            </a:endParaRPr>
          </a:p>
        </p:txBody>
      </p:sp>
      <p:sp>
        <p:nvSpPr>
          <p:cNvPr id="220" name=""/>
          <p:cNvSpPr txBox="1"/>
          <p:nvPr/>
        </p:nvSpPr>
        <p:spPr>
          <a:xfrm>
            <a:off x="152280" y="884160"/>
            <a:ext cx="8763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1. </a:t>
            </a:r>
            <a:r>
              <a:rPr b="0" lang="uk-UA" sz="3200" spc="-1" strike="noStrike">
                <a:solidFill>
                  <a:srgbClr val="ffffff"/>
                </a:solidFill>
                <a:latin typeface="Arial"/>
              </a:rPr>
              <a:t>Облік розрахунків за виданими аванс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2. </a:t>
            </a:r>
            <a:r>
              <a:rPr b="0" lang="uk-UA" sz="3200" spc="-1" strike="noStrike">
                <a:solidFill>
                  <a:srgbClr val="ffffff"/>
                </a:solidFill>
                <a:latin typeface="Arial"/>
              </a:rPr>
              <a:t>Облік розрахунків за нарахованими доход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3. </a:t>
            </a:r>
            <a:r>
              <a:rPr b="0" lang="uk-UA" sz="3200" spc="-1" strike="noStrike">
                <a:solidFill>
                  <a:srgbClr val="ffffff"/>
                </a:solidFill>
                <a:latin typeface="Arial"/>
              </a:rPr>
              <a:t>Облік розрахунків за претензія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4. </a:t>
            </a:r>
            <a:r>
              <a:rPr b="0" lang="uk-UA" sz="3200" spc="-1" strike="noStrike">
                <a:solidFill>
                  <a:srgbClr val="ffffff"/>
                </a:solidFill>
                <a:latin typeface="Arial"/>
              </a:rPr>
              <a:t>Облік розрахунків з іншими дебітора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5. </a:t>
            </a:r>
            <a:r>
              <a:rPr b="0" lang="uk-UA" sz="3200" spc="-1" strike="noStrike">
                <a:solidFill>
                  <a:srgbClr val="ffffff"/>
                </a:solidFill>
                <a:latin typeface="Arial"/>
              </a:rPr>
              <a:t>Довгострокова дебіторська заборгованіст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52280" y="533160"/>
            <a:ext cx="8763120" cy="55926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ЕТЕНЗІЯ</a:t>
            </a:r>
            <a:r>
              <a:rPr b="1" lang="uk-UA" sz="4500" spc="-1" strike="noStrike">
                <a:solidFill>
                  <a:srgbClr val="ffffff"/>
                </a:solidFill>
                <a:latin typeface="Arial"/>
              </a:rPr>
              <a:t> </a:t>
            </a:r>
            <a:r>
              <a:rPr b="0" lang="uk-UA" sz="4500" spc="-1" strike="noStrike">
                <a:solidFill>
                  <a:srgbClr val="ffffff"/>
                </a:solidFill>
                <a:latin typeface="Arial"/>
              </a:rPr>
              <a:t>–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вимога кредитора до боржника про добровільну сплату боргу, відшкодування збитків, сплату штрафу, усунення недоліків поставленої продукції або виконаної робот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Претензія повинна містити:</a:t>
            </a:r>
            <a:endParaRPr b="0" lang="en-US" sz="5000" spc="-1" strike="noStrike">
              <a:solidFill>
                <a:srgbClr val="ccecff"/>
              </a:solidFill>
              <a:latin typeface="Arial"/>
            </a:endParaRPr>
          </a:p>
        </p:txBody>
      </p:sp>
      <p:sp>
        <p:nvSpPr>
          <p:cNvPr id="252" name=""/>
          <p:cNvSpPr txBox="1"/>
          <p:nvPr/>
        </p:nvSpPr>
        <p:spPr>
          <a:xfrm>
            <a:off x="228600" y="1341360"/>
            <a:ext cx="8763120" cy="4525920"/>
          </a:xfrm>
          <a:prstGeom prst="rect">
            <a:avLst/>
          </a:prstGeom>
          <a:noFill/>
          <a:ln w="0">
            <a:noFill/>
          </a:ln>
        </p:spPr>
        <p:txBody>
          <a:bodyPr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1. </a:t>
            </a:r>
            <a:r>
              <a:rPr b="0" lang="uk-UA" sz="3400" spc="-1" strike="noStrike">
                <a:solidFill>
                  <a:srgbClr val="ffffff"/>
                </a:solidFill>
                <a:latin typeface="Arial"/>
              </a:rPr>
              <a:t>повне найменування та поштові реквізити заявника претензії та юридичної особи, до якої вона пред’являється; дату пред’явлення та номер претензії;</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2. </a:t>
            </a:r>
            <a:r>
              <a:rPr b="0" lang="uk-UA" sz="3400" spc="-1" strike="noStrike">
                <a:solidFill>
                  <a:srgbClr val="ffffff"/>
                </a:solidFill>
                <a:latin typeface="Arial"/>
              </a:rPr>
              <a:t>обставини, на підставі яких пред’явлена претензія; докази, що їх підтверджують; посилання на відповідні нормативні акти;</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3. </a:t>
            </a:r>
            <a:r>
              <a:rPr b="0" lang="uk-UA" sz="3400" spc="-1" strike="noStrike">
                <a:solidFill>
                  <a:srgbClr val="ffffff"/>
                </a:solidFill>
                <a:latin typeface="Arial"/>
              </a:rPr>
              <a:t>вимоги заявник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52280" y="0"/>
            <a:ext cx="8839440" cy="68580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4. </a:t>
            </a:r>
            <a:r>
              <a:rPr b="0" lang="uk-UA" sz="3400" spc="-1" strike="noStrike">
                <a:solidFill>
                  <a:srgbClr val="ffffff"/>
                </a:solidFill>
                <a:latin typeface="Arial"/>
              </a:rPr>
              <a:t>суму претензії та її розрахунок; </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якої включаються: сума основного боргу (з врахуванням індексу інфляції); пеня за прострочення (якщо вона передбачена в договорі, але не більше подвійної ставки, встановленої НБУ); розраховані 3 % річних (якщо в договорі не передбачена пеня і якщо вимога грошова); сума штрафу; сума завданих збитків;</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5. </a:t>
            </a:r>
            <a:r>
              <a:rPr b="0" lang="uk-UA" sz="3400" spc="-1" strike="noStrike">
                <a:solidFill>
                  <a:srgbClr val="ffffff"/>
                </a:solidFill>
                <a:latin typeface="Arial"/>
              </a:rPr>
              <a:t>платіжні реквізити заявника;</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6. </a:t>
            </a:r>
            <a:r>
              <a:rPr b="0" lang="uk-UA" sz="3400" spc="-1" strike="noStrike">
                <a:solidFill>
                  <a:srgbClr val="ffffff"/>
                </a:solidFill>
                <a:latin typeface="Arial"/>
              </a:rPr>
              <a:t>перелік документів, які додаються до претензії, та інші докази.</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5" name="Object 1"/>
          <p:cNvGraphicFramePr/>
          <p:nvPr/>
        </p:nvGraphicFramePr>
        <p:xfrm>
          <a:off x="0" y="0"/>
          <a:ext cx="9144000" cy="6858000"/>
        </p:xfrm>
        <a:graphic>
          <a:graphicData uri="http://schemas.openxmlformats.org/presentationml/2006/ole">
            <p:oleObj r:id="rId1" spid="">
              <p:embed/>
              <p:pic>
                <p:nvPicPr>
                  <p:cNvPr id="256" name="Object 1"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Облік розрахунків за претензіями</a:t>
            </a:r>
            <a:endParaRPr b="0" lang="en-US" sz="4500" spc="-1" strike="noStrike">
              <a:solidFill>
                <a:srgbClr val="ccecff"/>
              </a:solidFill>
              <a:latin typeface="Arial"/>
            </a:endParaRPr>
          </a:p>
        </p:txBody>
      </p:sp>
      <p:sp>
        <p:nvSpPr>
          <p:cNvPr id="258"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претензіями, які пред’явлені постачальникам, підрядникам, транспортним та іншим організаціям, а також за пред’явленими їм і визнаними штрафами, пенею, неустойками ведеться на рахунку </a:t>
            </a:r>
            <a:r>
              <a:rPr b="0" lang="uk-UA" sz="4600" spc="-1" strike="noStrike">
                <a:solidFill>
                  <a:srgbClr val="ffffff"/>
                </a:solidFill>
                <a:latin typeface="Calibri"/>
              </a:rPr>
              <a:t>374 “Розрахунки за претензіями”.</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ідставою для запису операцій </a:t>
            </a:r>
            <a:endParaRPr b="0" lang="en-US" sz="4400" spc="-1" strike="noStrike">
              <a:solidFill>
                <a:srgbClr val="ccecff"/>
              </a:solidFill>
              <a:latin typeface="Arial"/>
            </a:endParaRPr>
          </a:p>
        </p:txBody>
      </p:sp>
      <p:sp>
        <p:nvSpPr>
          <p:cNvPr id="260" name=""/>
          <p:cNvSpPr txBox="1"/>
          <p:nvPr/>
        </p:nvSpPr>
        <p:spPr>
          <a:xfrm>
            <a:off x="228240" y="16002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 рахунку 374 “Розрахунки за претензіями” </a:t>
            </a:r>
            <a:r>
              <a:rPr b="0" i="1" lang="uk-UA" sz="3600" spc="-1" strike="noStrike" u="sng">
                <a:solidFill>
                  <a:srgbClr val="ffffff"/>
                </a:solidFill>
                <a:uFillTx/>
                <a:latin typeface="Arial"/>
              </a:rPr>
              <a:t>є акти приймання вантажу, рішення судових органів (арбітражу), письмова згода постачальників на пред’явлені претензії, виписки установ банку на суми, що надійшли в порядку задоволення претензій</a:t>
            </a:r>
            <a:r>
              <a:rPr b="0" lang="uk-UA"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За дебетом рахунку 374 обліковуються суми пред’явлених п-вом претензій:</a:t>
            </a:r>
            <a:endParaRPr b="0" lang="en-US" sz="4000" spc="-1" strike="noStrike">
              <a:solidFill>
                <a:srgbClr val="ccecff"/>
              </a:solidFill>
              <a:latin typeface="Arial"/>
            </a:endParaRPr>
          </a:p>
        </p:txBody>
      </p:sp>
      <p:sp>
        <p:nvSpPr>
          <p:cNvPr id="262" name=""/>
          <p:cNvSpPr txBox="1"/>
          <p:nvPr/>
        </p:nvSpPr>
        <p:spPr>
          <a:xfrm>
            <a:off x="304920" y="2438280"/>
            <a:ext cx="8534160" cy="3687840"/>
          </a:xfrm>
          <a:prstGeom prst="rect">
            <a:avLst/>
          </a:prstGeom>
          <a:noFill/>
          <a:ln w="0">
            <a:noFill/>
          </a:ln>
        </p:spPr>
        <p:txBody>
          <a:bodyPr anchor="t">
            <a:normAutofit/>
          </a:bodyPr>
          <a:p>
            <a:pPr marL="343080" indent="-343080" algn="just">
              <a:spcBef>
                <a:spcPts val="799"/>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и виявленні перевіркою в рахунках постачальників невідповідностей цін і тарифів, передбачених договорами, арифметичних помилках у кореспонденції з рахунком 63 “Розрахунки з постачальниками та підрядникам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txBox="1"/>
          <p:nvPr/>
        </p:nvSpPr>
        <p:spPr>
          <a:xfrm>
            <a:off x="228600" y="1600200"/>
            <a:ext cx="8610480" cy="4525920"/>
          </a:xfrm>
          <a:prstGeom prst="rect">
            <a:avLst/>
          </a:prstGeom>
          <a:noFill/>
          <a:ln w="0">
            <a:noFill/>
          </a:ln>
        </p:spPr>
        <p:txBody>
          <a:bodyPr anchor="t">
            <a:normAutofit/>
          </a:bodyPr>
          <a:p>
            <a:pPr marL="343080" indent="-343080" algn="just">
              <a:spcBef>
                <a:spcPts val="924"/>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при виявленій невідповідності якості ТМЦ постачальників технічним вимогам, зумовленим у договорах, в кореспонденції з кредитом рахунку 63 “Розрахунки з постачальниками та підрядникам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13716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недостачі вантажу постачальників у межах норм природного убутку, в кореспонденції з кредитом рахунку 63 “Розрахунки з постачальниками та підрядникам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52280" y="16002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за сумами, помилково списаними установами банків з рахунків платників, у кореспонденції з рахунками обліку грошових кошт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75960"/>
            <a:ext cx="9144000" cy="19047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ебіторської заборгованості регулюється </a:t>
            </a:r>
            <a:r>
              <a:rPr b="0" lang="uk-UA" sz="4500" spc="-1" strike="noStrike">
                <a:solidFill>
                  <a:srgbClr val="ccecff"/>
                </a:solidFill>
                <a:latin typeface="Calibri"/>
              </a:rPr>
              <a:t>П(С)БО 10 </a:t>
            </a:r>
            <a:r>
              <a:rPr b="0" lang="en-US" sz="4400" spc="-1" strike="noStrike">
                <a:solidFill>
                  <a:srgbClr val="ccecff"/>
                </a:solidFill>
                <a:latin typeface="Arial"/>
              </a:rPr>
              <a:t>“</a:t>
            </a:r>
            <a:r>
              <a:rPr b="0" lang="uk-UA" sz="4400" spc="-1" strike="noStrike">
                <a:solidFill>
                  <a:srgbClr val="ccecff"/>
                </a:solidFill>
                <a:latin typeface="Arial"/>
              </a:rPr>
              <a:t>Дебіторська заборгованість</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22" name=""/>
          <p:cNvSpPr txBox="1"/>
          <p:nvPr/>
        </p:nvSpPr>
        <p:spPr>
          <a:xfrm>
            <a:off x="228240" y="2361960"/>
            <a:ext cx="8915400" cy="376380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400" spc="-1" strike="noStrike">
                <a:solidFill>
                  <a:srgbClr val="ffffff"/>
                </a:solidFill>
                <a:latin typeface="Arial"/>
              </a:rPr>
              <a:t>Дебіторською заборгованістю визначається активом, якщо існує ймовірність отримання підприємством майбутніх економічних вигод і може бути достовірно визначена її сума одночасно з визнанням доходу від реалізації продукції, товарів, робіт і послуг.</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600" y="1600200"/>
            <a:ext cx="8686800" cy="4525920"/>
          </a:xfrm>
          <a:prstGeom prst="rect">
            <a:avLst/>
          </a:prstGeom>
          <a:noFill/>
          <a:ln w="0">
            <a:noFill/>
          </a:ln>
        </p:spPr>
        <p:txBody>
          <a:bodyPr anchor="t">
            <a:normAutofit/>
          </a:bodyPr>
          <a:p>
            <a:pPr marL="343080" indent="-343080" algn="just">
              <a:spcBef>
                <a:spcPts val="876"/>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сумами штрафів, пені, неустойки, що стягуються з постачальників, замовників за недотримання договірних обов’язків, у розмірах, визнаних платниками або присуджених арбітражем, у кореспонденції з рахунками фінансових результат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838224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Суми пред’явлених, але не визнаних платниками претензій, на рахунках бухгалтерського обліку не відображаються.</a:t>
            </a:r>
            <a:endParaRPr b="0" lang="en-US" sz="4000" spc="-1" strike="noStrike">
              <a:solidFill>
                <a:srgbClr val="ffffff"/>
              </a:solidFill>
              <a:latin typeface="Arial"/>
            </a:endParaRPr>
          </a:p>
        </p:txBody>
      </p:sp>
      <p:sp>
        <p:nvSpPr>
          <p:cNvPr id="268"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3520" y="1371600"/>
            <a:ext cx="8610480" cy="4525920"/>
          </a:xfrm>
          <a:prstGeom prst="rect">
            <a:avLst/>
          </a:prstGeom>
          <a:noFill/>
          <a:ln w="0">
            <a:noFill/>
          </a:ln>
        </p:spPr>
        <p:txBody>
          <a:bodyPr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У випадку, якщо пред’явлені претензії не визнані судовими органами та стягненню не підлягають, їх суми, як правило, відносять на ті рахунки, з яких вони були списані: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т 63 “Розрахунки з постачальниками та підрядниками”, 24 “Брак у виробництві”, 92 “Адміністративні витрати”, </a:t>
            </a:r>
            <a:br>
              <a:rPr sz="3400"/>
            </a:br>
            <a:r>
              <a:rPr b="0" lang="uk-UA" sz="3400" spc="-1" strike="noStrike">
                <a:solidFill>
                  <a:srgbClr val="ffffff"/>
                </a:solidFill>
                <a:latin typeface="Arial"/>
              </a:rPr>
              <a:t>К-т 37 “Розрахунки з іншими дебіторами”.</a:t>
            </a:r>
            <a:endParaRPr b="0" lang="en-US" sz="3400" spc="-1" strike="noStrike">
              <a:solidFill>
                <a:srgbClr val="ffffff"/>
              </a:solidFill>
              <a:latin typeface="Arial"/>
            </a:endParaRPr>
          </a:p>
        </p:txBody>
      </p:sp>
      <p:sp>
        <p:nvSpPr>
          <p:cNvPr id="270" name="WordArt 4"/>
          <p:cNvSpPr txBox="1"/>
          <p:nvPr/>
        </p:nvSpPr>
        <p:spPr>
          <a:xfrm>
            <a:off x="228600" y="7632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4. Облік розрахунків з іншими дебіторами</a:t>
            </a:r>
            <a:endParaRPr b="0" lang="en-US" sz="4400" spc="-1" strike="noStrike">
              <a:solidFill>
                <a:srgbClr val="ccecff"/>
              </a:solidFill>
              <a:latin typeface="Arial"/>
            </a:endParaRPr>
          </a:p>
        </p:txBody>
      </p:sp>
      <p:sp>
        <p:nvSpPr>
          <p:cNvPr id="272" name=""/>
          <p:cNvSpPr txBox="1"/>
          <p:nvPr/>
        </p:nvSpPr>
        <p:spPr>
          <a:xfrm>
            <a:off x="152280" y="1295280"/>
            <a:ext cx="8839440" cy="4525920"/>
          </a:xfrm>
          <a:prstGeom prst="rect">
            <a:avLst/>
          </a:prstGeom>
          <a:noFill/>
          <a:ln w="0">
            <a:noFill/>
          </a:ln>
        </p:spPr>
        <p:txBody>
          <a:bodyPr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розрахунки за операціями, пов’язаними із здійсненням спільної діяльності (без створення юридичної особи), усі види розрахунків з працівниками (крім розрахунків з оплати праці та з підзвітними особами), інші розрахунки, ведеться на субрахунку</a:t>
            </a:r>
            <a:endParaRPr b="0" lang="en-US" sz="3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377 “Розрахунки з іншими дебіторами”.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240" y="11430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На рахунку 377 “Розрахунки з іншими дебіторами” також обліковуються </a:t>
            </a:r>
            <a:r>
              <a:rPr b="0" i="1" lang="uk-UA" sz="4200" spc="-1" strike="noStrike">
                <a:solidFill>
                  <a:srgbClr val="ffffff"/>
                </a:solidFill>
                <a:latin typeface="Arial"/>
              </a:rPr>
              <a:t>розрахунки з працівниками підприємства </a:t>
            </a:r>
            <a:r>
              <a:rPr b="0" lang="uk-UA" sz="4200" spc="-1" strike="noStrike">
                <a:solidFill>
                  <a:srgbClr val="ffffff"/>
                </a:solidFill>
                <a:latin typeface="Arial"/>
              </a:rPr>
              <a:t>за товари, продані в кредит, за надані позики.</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914040"/>
            <a:ext cx="8229600" cy="5211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u="sng">
                <a:solidFill>
                  <a:srgbClr val="ffffff"/>
                </a:solidFill>
                <a:uFillTx/>
                <a:latin typeface="Arial"/>
              </a:rPr>
              <a:t>Позики</a:t>
            </a:r>
            <a:r>
              <a:rPr b="0" lang="uk-UA" sz="4500" spc="-1" strike="noStrike">
                <a:solidFill>
                  <a:srgbClr val="ffffff"/>
                </a:solidFill>
                <a:latin typeface="Arial"/>
              </a:rPr>
              <a:t> можуть надаватися на індивідуальне та кооперативне житлове будівництво, придбання або будівництво присадибних будинків і благоустрій присадибних ділянок тощо.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762120"/>
            <a:ext cx="845820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дача короткострокових позик працівникам проводиться, як правило, з каси підприємства й оформлюється бухгалтерською проводкою:</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uk-UA" sz="6000" spc="-1" strike="noStrike">
                <a:solidFill>
                  <a:srgbClr val="ffffff"/>
                </a:solidFill>
                <a:latin typeface="Calibri"/>
              </a:rPr>
              <a:t>Д-т 377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К-т 30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ccecff"/>
                </a:solidFill>
                <a:latin typeface="Arial"/>
              </a:rPr>
              <a:t>Способи погашення позики:</a:t>
            </a:r>
            <a:endParaRPr b="0" lang="en-US" sz="4600" spc="-1" strike="noStrike">
              <a:solidFill>
                <a:srgbClr val="ccecff"/>
              </a:solidFill>
              <a:latin typeface="Arial"/>
            </a:endParaRPr>
          </a:p>
        </p:txBody>
      </p:sp>
      <p:sp>
        <p:nvSpPr>
          <p:cNvPr id="277" name=""/>
          <p:cNvSpPr txBox="1"/>
          <p:nvPr/>
        </p:nvSpPr>
        <p:spPr>
          <a:xfrm>
            <a:off x="152280" y="1142640"/>
            <a:ext cx="8839440" cy="5334120"/>
          </a:xfrm>
          <a:prstGeom prst="rect">
            <a:avLst/>
          </a:prstGeom>
          <a:noFill/>
          <a:ln w="0">
            <a:noFill/>
          </a:ln>
        </p:spPr>
        <p:txBody>
          <a:bodyPr anchor="t">
            <a:normAutofit/>
          </a:bodyPr>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утриманням із заробітної плати: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т 66 “Розрахунки з оплати праці” </a:t>
            </a:r>
            <a:br>
              <a:rPr sz="3200"/>
            </a:b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несенням готівки в касу: Д-т 30 “Кас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триманням коштів на банківські рахунки: Д-т 31 “Рахунки в банках”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228240"/>
            <a:ext cx="8763120" cy="6248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точна дебіторська заборгованість, не пов’язана з розрахунками за реалізовані товари, роботи, послуги, списується бухгалтерською проводкою:</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500" spc="-1" strike="noStrike">
                <a:solidFill>
                  <a:srgbClr val="ffffff"/>
                </a:solidFill>
                <a:latin typeface="Calibri"/>
              </a:rPr>
              <a:t>Д-т 944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К-т 37 </a:t>
            </a:r>
            <a:endParaRPr b="0" lang="en-US" sz="5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дночасно: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0" lang="uk-UA" sz="5000" spc="-1" strike="noStrike">
                <a:solidFill>
                  <a:srgbClr val="ffffff"/>
                </a:solidFill>
                <a:latin typeface="Calibri"/>
              </a:rPr>
              <a:t>Д-т 071 “Списана дебіторська заборгованість”.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6320"/>
            <a:ext cx="91440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ecff"/>
                </a:solidFill>
                <a:latin typeface="Arial"/>
              </a:rPr>
              <a:t>5. Облік довгострокової дебіторської заборгованості </a:t>
            </a:r>
            <a:endParaRPr b="0" lang="en-US" sz="4400" spc="-1" strike="noStrike">
              <a:solidFill>
                <a:srgbClr val="ccecff"/>
              </a:solidFill>
              <a:latin typeface="Arial"/>
            </a:endParaRPr>
          </a:p>
        </p:txBody>
      </p:sp>
      <p:sp>
        <p:nvSpPr>
          <p:cNvPr id="280" name=""/>
          <p:cNvSpPr txBox="1"/>
          <p:nvPr/>
        </p:nvSpPr>
        <p:spPr>
          <a:xfrm>
            <a:off x="304920" y="2103120"/>
            <a:ext cx="8686800" cy="47545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ДОВГОСТРОКОВА ДЕБІТОРСЬКА ЗАБОРГОВАНІСТЬ –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ума дебіторської заборгованості, яка не виникає в ході нормального операційного циклу та буде погашена після дванадцяти місяців з дати баланс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685800"/>
            <a:ext cx="8763120" cy="54403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ffffff"/>
                </a:solidFill>
                <a:latin typeface="Arial"/>
              </a:rPr>
              <a:t>ДЕБІТОРИ</a:t>
            </a:r>
            <a:r>
              <a:rPr b="0" lang="uk-UA" sz="5000" spc="-1" strike="noStrike">
                <a:solidFill>
                  <a:srgbClr val="ffffff"/>
                </a:solidFill>
                <a:latin typeface="Arial"/>
              </a:rPr>
              <a:t> </a:t>
            </a:r>
            <a:r>
              <a:rPr b="1" lang="uk-UA" sz="5000" spc="-1" strike="noStrike">
                <a:solidFill>
                  <a:srgbClr val="ffffff"/>
                </a:solidFill>
                <a:latin typeface="Arial"/>
              </a:rPr>
              <a:t>–</a:t>
            </a:r>
            <a:r>
              <a:rPr b="0" lang="uk-UA" sz="5000" spc="-1" strike="noStrike">
                <a:solidFill>
                  <a:srgbClr val="ffffff"/>
                </a:solidFill>
                <a:latin typeface="Arial"/>
              </a:rPr>
              <a:t>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юридичні та фізичні особи, які внаслідок минулих подій заборгували підприємству певні суми грошових коштів, їх еквівалентів або інших активів.</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ccecff"/>
                </a:solidFill>
                <a:latin typeface="Arial"/>
              </a:rPr>
              <a:t>Зверніть увагу</a:t>
            </a:r>
            <a:endParaRPr b="0" lang="en-US" sz="6000" spc="-1" strike="noStrike">
              <a:solidFill>
                <a:srgbClr val="ccecff"/>
              </a:solidFill>
              <a:latin typeface="Arial"/>
            </a:endParaRPr>
          </a:p>
        </p:txBody>
      </p:sp>
      <p:sp>
        <p:nvSpPr>
          <p:cNvPr id="282"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віднесенні заборгованості до поточної або довгострокової до уваги береться </a:t>
            </a:r>
            <a:r>
              <a:rPr b="1" lang="uk-UA" sz="3800" spc="-1" strike="noStrike" u="sng">
                <a:solidFill>
                  <a:srgbClr val="ffffff"/>
                </a:solidFill>
                <a:uFillTx/>
                <a:latin typeface="Arial"/>
              </a:rPr>
              <a:t>не загальний очікуваний строк оплати згідно з договором, а очікуваний строк до погашення, який залишився з дати балансу</a:t>
            </a:r>
            <a:r>
              <a:rPr b="0" lang="uk-UA" sz="3800" spc="-1" strike="noStrike">
                <a:solidFill>
                  <a:srgbClr val="ffffff"/>
                </a:solidFill>
                <a:latin typeface="Arial"/>
              </a:rPr>
              <a: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о довгострокової дебіторської заборгованості відноситься:</a:t>
            </a:r>
            <a:endParaRPr b="0" lang="en-US" sz="4400" spc="-1" strike="noStrike">
              <a:solidFill>
                <a:srgbClr val="ccecff"/>
              </a:solidFill>
              <a:latin typeface="Arial"/>
            </a:endParaRPr>
          </a:p>
        </p:txBody>
      </p:sp>
      <p:sp>
        <p:nvSpPr>
          <p:cNvPr id="284" name=""/>
          <p:cNvSpPr txBox="1"/>
          <p:nvPr/>
        </p:nvSpPr>
        <p:spPr>
          <a:xfrm>
            <a:off x="228240" y="1600200"/>
            <a:ext cx="8915400" cy="452592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орендаря за фінансовою орендою, яка відображається в балансі орендодавця;</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за довгостроковими векселями;</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іншим підприємствам;</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фізичним особам.</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914400" y="838080"/>
            <a:ext cx="8229600" cy="5029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u="sng">
                <a:solidFill>
                  <a:srgbClr val="ffffff"/>
                </a:solidFill>
                <a:uFillTx/>
                <a:latin typeface="Arial"/>
              </a:rPr>
              <a:t>Частина довгострокової </a:t>
            </a:r>
            <a:r>
              <a:rPr b="0" lang="uk-UA" sz="3900" spc="-1" strike="noStrike">
                <a:solidFill>
                  <a:srgbClr val="ffffff"/>
                </a:solidFill>
                <a:latin typeface="Arial"/>
              </a:rPr>
              <a:t>дебіторської </a:t>
            </a:r>
            <a:r>
              <a:rPr b="1" lang="uk-UA" sz="3900" spc="-1" strike="noStrike" u="sng">
                <a:solidFill>
                  <a:srgbClr val="ffffff"/>
                </a:solidFill>
                <a:uFillTx/>
                <a:latin typeface="Arial"/>
              </a:rPr>
              <a:t>заборгованості</a:t>
            </a:r>
            <a:r>
              <a:rPr b="0" lang="uk-UA" sz="3900" spc="-1" strike="noStrike">
                <a:solidFill>
                  <a:srgbClr val="ffffff"/>
                </a:solidFill>
                <a:latin typeface="Arial"/>
              </a:rPr>
              <a:t>, яка підлягає погашенню протягом дванадцяти місяців з дати балансу, </a:t>
            </a:r>
            <a:r>
              <a:rPr b="1" lang="uk-UA" sz="3900" spc="-1" strike="noStrike" u="sng">
                <a:solidFill>
                  <a:srgbClr val="ffffff"/>
                </a:solidFill>
                <a:uFillTx/>
                <a:latin typeface="Arial"/>
              </a:rPr>
              <a:t>повинна визнаватись поточною</a:t>
            </a:r>
            <a:r>
              <a:rPr b="0" lang="uk-UA" sz="3900" spc="-1" strike="noStrike">
                <a:solidFill>
                  <a:srgbClr val="ffffff"/>
                </a:solidFill>
                <a:latin typeface="Arial"/>
              </a:rPr>
              <a:t> і відображатись на ту саму дату в складі поточної дебіторської заборгованості.</a:t>
            </a:r>
            <a:endParaRPr b="0" lang="en-US" sz="3900" spc="-1" strike="noStrike">
              <a:solidFill>
                <a:srgbClr val="ffffff"/>
              </a:solidFill>
              <a:latin typeface="Arial"/>
            </a:endParaRPr>
          </a:p>
        </p:txBody>
      </p:sp>
      <p:sp>
        <p:nvSpPr>
          <p:cNvPr id="286"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066680"/>
            <a:ext cx="876312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овгострокова дебіторська заборгованість, на яку нараховуються відсотки, відображається в балансі за її теперішньою вартістю. Визначення теперішньої вартості залежить від виду заборгованості та умов її погашення.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523520"/>
            <a:ext cx="8610480" cy="358164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ТЕПЕРІШНЯ ВАРТІСТЬ –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грошова вартість майбутніх доходів на теперішній ча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51920"/>
            <a:ext cx="899172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овгострокової дебіторської заборгованості</a:t>
            </a:r>
            <a:endParaRPr b="0" lang="en-US" sz="4400" spc="-1" strike="noStrike">
              <a:solidFill>
                <a:srgbClr val="ccecff"/>
              </a:solidFill>
              <a:latin typeface="Arial"/>
            </a:endParaRPr>
          </a:p>
        </p:txBody>
      </p:sp>
      <p:sp>
        <p:nvSpPr>
          <p:cNvPr id="290" name=""/>
          <p:cNvSpPr txBox="1"/>
          <p:nvPr/>
        </p:nvSpPr>
        <p:spPr>
          <a:xfrm>
            <a:off x="304920" y="1371600"/>
            <a:ext cx="8686800" cy="4525920"/>
          </a:xfrm>
          <a:prstGeom prst="rect">
            <a:avLst/>
          </a:prstGeom>
          <a:noFill/>
          <a:ln w="0">
            <a:noFill/>
          </a:ln>
        </p:spPr>
        <p:txBody>
          <a:bodyPr ancho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Для обліку довгострокової дебіторської заборгованості Планом рахунків передбачений рахунок 18 “Довгострокова дебіторська заборгованість та інші необоротні актив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6320"/>
            <a:ext cx="8991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аний рахунок має наступні субрахунки: </a:t>
            </a:r>
            <a:endParaRPr b="0" lang="en-US" sz="4400" spc="-1" strike="noStrike">
              <a:solidFill>
                <a:srgbClr val="ccecff"/>
              </a:solidFill>
              <a:latin typeface="Arial"/>
            </a:endParaRPr>
          </a:p>
        </p:txBody>
      </p:sp>
      <p:sp>
        <p:nvSpPr>
          <p:cNvPr id="292" name=""/>
          <p:cNvSpPr txBox="1"/>
          <p:nvPr/>
        </p:nvSpPr>
        <p:spPr>
          <a:xfrm>
            <a:off x="228600" y="1600200"/>
            <a:ext cx="87631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1 “Заборгованість за майно, що передано у фінансову оренду</a:t>
            </a:r>
            <a:r>
              <a:rPr b="0" lang="uk-UA" sz="3200" spc="-1" strike="noStrike">
                <a:solidFill>
                  <a:srgbClr val="ffffff"/>
                </a:solidFill>
                <a:latin typeface="Arial"/>
              </a:rPr>
              <a:t>” – </a:t>
            </a:r>
            <a:r>
              <a:rPr b="0" lang="uk-UA" sz="3500" spc="-1" strike="noStrike">
                <a:solidFill>
                  <a:srgbClr val="ffffff"/>
                </a:solidFill>
                <a:latin typeface="Arial"/>
              </a:rPr>
              <a:t>відображаються чисті інвестиції орендодавця у фінансову оренду, визначені згідно з Положенням (стандартом) бухгалтерського обліку 14 “Оренда</a:t>
            </a:r>
            <a:r>
              <a:rPr b="0" lang="uk-U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219320"/>
            <a:ext cx="822960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2 “Довгострокові векселі одержані”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векселів, одержаних у забезпечення довгострокової дебіторської заборгованості;</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52280" y="380520"/>
            <a:ext cx="8763120" cy="63248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3 “Інша дебіторська заборгованість” </a:t>
            </a:r>
            <a:r>
              <a:rPr b="0" lang="uk-UA" sz="3200" spc="-1" strike="noStrike">
                <a:solidFill>
                  <a:srgbClr val="ffffff"/>
                </a:solidFill>
                <a:latin typeface="Arial"/>
              </a:rPr>
              <a:t>– </a:t>
            </a:r>
            <a:r>
              <a:rPr b="0" lang="uk-UA" sz="3500" spc="-1" strike="noStrike">
                <a:solidFill>
                  <a:srgbClr val="ffffff"/>
                </a:solidFill>
                <a:latin typeface="Arial"/>
              </a:rPr>
              <a:t>призначений для</a:t>
            </a:r>
            <a:r>
              <a:rPr b="1" i="1" lang="uk-UA" sz="3500" spc="-1" strike="noStrike">
                <a:solidFill>
                  <a:srgbClr val="ffffff"/>
                </a:solidFill>
                <a:latin typeface="Arial"/>
              </a:rPr>
              <a:t> </a:t>
            </a:r>
            <a:r>
              <a:rPr b="0" lang="uk-UA" sz="3500" spc="-1" strike="noStrike">
                <a:solidFill>
                  <a:srgbClr val="ffffff"/>
                </a:solidFill>
                <a:latin typeface="Arial"/>
              </a:rPr>
              <a:t>обліку довгострокової дебіторської заборгованості, яка не відображається на інших субрахунках рахунку 18 “Довгострокова дебіторська заборгованість та інші необоротні активи”, зокрема розрахунки з працівниками за виданими довгостроковими позиками, інші види розрахунк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762120"/>
            <a:ext cx="83059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Calibri"/>
              </a:rPr>
              <a:t>184 “Інші необоротні активи”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активів, використання яких, як очікується, неможливо протягом дванадцяти місяців з дати балансу, зокрема грошових коштів, а також інших активів, які безпосередньо не можуть бути відображені на інших рахунках.</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7884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1. Облік розрахунків за авансами виданими</a:t>
            </a:r>
            <a:endParaRPr b="0" lang="en-US" sz="4400" spc="-1" strike="noStrike">
              <a:solidFill>
                <a:srgbClr val="ccecff"/>
              </a:solidFill>
              <a:latin typeface="Arial"/>
            </a:endParaRPr>
          </a:p>
        </p:txBody>
      </p:sp>
      <p:sp>
        <p:nvSpPr>
          <p:cNvPr id="225" name=""/>
          <p:cNvSpPr txBox="1"/>
          <p:nvPr/>
        </p:nvSpPr>
        <p:spPr>
          <a:xfrm>
            <a:off x="457200" y="1798560"/>
            <a:ext cx="82296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 ряді випадків підприємства під поставку матеріальних цінностей або під виконання робіт (послуг), а також при оплаті продукції і робіт, прийнятих від замовників за частковою готовністю, можуть видавати аванси.</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762120"/>
            <a:ext cx="861048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Аналітичний облік довгострокової дебіторської заборгованості ведеться за </a:t>
            </a:r>
            <a:r>
              <a:rPr b="0" lang="uk-UA" sz="3800" spc="-1" strike="noStrike" u="sng">
                <a:solidFill>
                  <a:srgbClr val="ffffff"/>
                </a:solidFill>
                <a:uFillTx/>
                <a:latin typeface="Arial"/>
              </a:rPr>
              <a:t>кожним дебітором</a:t>
            </a:r>
            <a:r>
              <a:rPr b="0" lang="uk-UA" sz="3800" spc="-1" strike="noStrike">
                <a:solidFill>
                  <a:srgbClr val="ffffff"/>
                </a:solidFill>
                <a:latin typeface="Arial"/>
              </a:rPr>
              <a:t>, за видами заборгованості, термінами її виникнення й погашення.</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егістром аналітичного обліку розрахунків з дебіторами є реєстр дебітор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заборгованості за майно, що передано у фінансову оренду</a:t>
            </a:r>
            <a:endParaRPr b="0" lang="en-US" sz="4400" spc="-1" strike="noStrike">
              <a:solidFill>
                <a:srgbClr val="ccecff"/>
              </a:solidFill>
              <a:latin typeface="Arial"/>
            </a:endParaRPr>
          </a:p>
        </p:txBody>
      </p:sp>
      <p:sp>
        <p:nvSpPr>
          <p:cNvPr id="298" name=""/>
          <p:cNvSpPr txBox="1"/>
          <p:nvPr/>
        </p:nvSpPr>
        <p:spPr>
          <a:xfrm>
            <a:off x="456840" y="1600200"/>
            <a:ext cx="8534520" cy="452592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рядок передачі майна в оренду та його облік визначений Положенням (стандартом) бухгалтерського обліку 14 “Оренда”.</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Чисті інвестиції орендодавця у фінансову оренду відображаються на </a:t>
            </a:r>
            <a:r>
              <a:rPr b="0" lang="uk-UA" sz="4400" spc="-1" strike="noStrike">
                <a:solidFill>
                  <a:srgbClr val="ffffff"/>
                </a:solidFill>
                <a:latin typeface="Calibri"/>
              </a:rPr>
              <a:t>субрахунку 181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04920" y="837720"/>
            <a:ext cx="8610480" cy="52880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Нарахування заборгованості з фінансової оренди здійснюється на підставі </a:t>
            </a:r>
            <a:r>
              <a:rPr b="0" i="1" lang="uk-UA" sz="3800" spc="-1" strike="noStrike">
                <a:solidFill>
                  <a:srgbClr val="ffffff"/>
                </a:solidFill>
                <a:latin typeface="Arial"/>
              </a:rPr>
              <a:t>договору оренди</a:t>
            </a:r>
            <a:r>
              <a:rPr b="0" lang="uk-UA" sz="3800" spc="-1" strike="noStrike">
                <a:solidFill>
                  <a:srgbClr val="ffffff"/>
                </a:solidFill>
                <a:latin typeface="Arial"/>
              </a:rPr>
              <a:t>, </a:t>
            </a:r>
            <a:r>
              <a:rPr b="0" i="1" lang="uk-UA" sz="3800" spc="-1" strike="noStrike">
                <a:solidFill>
                  <a:srgbClr val="ffffff"/>
                </a:solidFill>
                <a:latin typeface="Arial"/>
              </a:rPr>
              <a:t>акту приймання-передачі</a:t>
            </a:r>
            <a:r>
              <a:rPr b="0" lang="uk-UA" sz="3800" spc="-1" strike="noStrike">
                <a:solidFill>
                  <a:srgbClr val="ffffff"/>
                </a:solidFill>
                <a:latin typeface="Arial"/>
              </a:rPr>
              <a:t> основних засобів, переведення заборгованості до складу поточної – </a:t>
            </a:r>
            <a:r>
              <a:rPr b="0" i="1" lang="uk-UA" sz="3800" spc="-1" strike="noStrike">
                <a:solidFill>
                  <a:srgbClr val="ffffff"/>
                </a:solidFill>
                <a:latin typeface="Arial"/>
              </a:rPr>
              <a:t>довідок бухгалтерії.</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ccecff"/>
                </a:solidFill>
                <a:latin typeface="Arial"/>
              </a:rPr>
              <a:t>Облік дебіторської заборгованості з фінансової оренди в орендодавця</a:t>
            </a:r>
            <a:endParaRPr b="0" lang="en-US" sz="4200" spc="-1" strike="noStrike">
              <a:solidFill>
                <a:srgbClr val="ccecff"/>
              </a:solidFill>
              <a:latin typeface="Arial"/>
            </a:endParaRPr>
          </a:p>
        </p:txBody>
      </p:sp>
      <p:graphicFrame>
        <p:nvGraphicFramePr>
          <p:cNvPr id="301" name=""/>
          <p:cNvGraphicFramePr/>
          <p:nvPr/>
        </p:nvGraphicFramePr>
        <p:xfrm>
          <a:off x="0" y="1447920"/>
          <a:ext cx="9144000" cy="5422680"/>
        </p:xfrm>
        <a:graphic>
          <a:graphicData uri="http://schemas.openxmlformats.org/drawingml/2006/table">
            <a:tbl>
              <a:tblPr/>
              <a:tblGrid>
                <a:gridCol w="457200"/>
                <a:gridCol w="4114800"/>
                <a:gridCol w="2514600"/>
                <a:gridCol w="2057400"/>
              </a:tblGrid>
              <a:tr h="217080">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оп.</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Зміст господарської операції</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5880" rIns="6588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респондуючі рахунки</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ебе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реди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r>
              <a:tr h="228456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дохід від передачі основних засобів у фінансову оренду строком на 5 років </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2</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r h="230724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ключено до складу поточної заборгованості суму заборгова-ності орендаря за І-й рік оренди</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7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одержаних довгострокових векселів</a:t>
            </a:r>
            <a:endParaRPr b="0" lang="en-US" sz="4400" spc="-1" strike="noStrike">
              <a:solidFill>
                <a:srgbClr val="ccecff"/>
              </a:solidFill>
              <a:latin typeface="Arial"/>
            </a:endParaRPr>
          </a:p>
        </p:txBody>
      </p:sp>
      <p:sp>
        <p:nvSpPr>
          <p:cNvPr id="303" name=""/>
          <p:cNvSpPr txBox="1"/>
          <p:nvPr/>
        </p:nvSpPr>
        <p:spPr>
          <a:xfrm>
            <a:off x="228600" y="1828440"/>
            <a:ext cx="8763120" cy="42973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і, одержані у забезпечення довгострокової дебіторської заборгованості, обліковуються на рахунку </a:t>
            </a:r>
            <a:r>
              <a:rPr b="0" lang="uk-UA" sz="5000" spc="-1" strike="noStrike">
                <a:solidFill>
                  <a:srgbClr val="ffffff"/>
                </a:solidFill>
                <a:latin typeface="Calibri"/>
              </a:rPr>
              <a:t>182 “Довгострокові векселі одержані”</a:t>
            </a:r>
            <a:r>
              <a:rPr b="0" lang="uk-UA"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686800" cy="6477120"/>
          </a:xfrm>
          <a:prstGeom prst="rect">
            <a:avLst/>
          </a:prstGeom>
          <a:noFill/>
          <a:ln w="0">
            <a:noFill/>
          </a:ln>
        </p:spPr>
        <p:txBody>
          <a:bodyPr anchor="t">
            <a:normAutofit/>
          </a:bodyPr>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цінка векселя здійснюється в розмірі вексельної суми, зазначеної на ньому прописом і цифрами.</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ьна сума може включати відсоток як додаткову плату за час обігу векселя.</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Аналітичний облік вексельних операцій ведеться за кожним одержаним векселе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1036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Облік векселів одержаних</a:t>
            </a:r>
            <a:endParaRPr b="0" lang="en-US" sz="5000" spc="-1" strike="noStrike">
              <a:solidFill>
                <a:srgbClr val="ccecff"/>
              </a:solidFill>
              <a:latin typeface="Arial"/>
            </a:endParaRPr>
          </a:p>
        </p:txBody>
      </p:sp>
      <p:graphicFrame>
        <p:nvGraphicFramePr>
          <p:cNvPr id="306" name=""/>
          <p:cNvGraphicFramePr/>
          <p:nvPr/>
        </p:nvGraphicFramePr>
        <p:xfrm>
          <a:off x="152280" y="990720"/>
          <a:ext cx="8991720" cy="5871960"/>
        </p:xfrm>
        <a:graphic>
          <a:graphicData uri="http://schemas.openxmlformats.org/drawingml/2006/table">
            <a:tbl>
              <a:tblPr/>
              <a:tblGrid>
                <a:gridCol w="381240"/>
                <a:gridCol w="4572000"/>
                <a:gridCol w="2057400"/>
                <a:gridCol w="1981080"/>
              </a:tblGrid>
              <a:tr h="217080">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44720">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22220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держано довгостроковий вексель від покупця </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6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140148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ідображено різницю між номінальною та реальною вартістю отриманого довгострокового векс</a:t>
                      </a:r>
                      <a:r>
                        <a:rPr b="0" lang="en-US" sz="2500" spc="-1" strike="noStrike">
                          <a:solidFill>
                            <a:srgbClr val="000000"/>
                          </a:solidFill>
                          <a:latin typeface="Arial"/>
                          <a:ea typeface="Times New Roman"/>
                        </a:rPr>
                        <a:t>z</a:t>
                      </a:r>
                      <a:r>
                        <a:rPr b="0" lang="uk-UA" sz="2500" spc="-1" strike="noStrike">
                          <a:solidFill>
                            <a:srgbClr val="000000"/>
                          </a:solidFill>
                          <a:latin typeface="Arial"/>
                          <a:ea typeface="Times New Roman"/>
                        </a:rPr>
                        <a:t>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9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2235960">
                <a:tc>
                  <a:txBody>
                    <a:bodyPr lIns="12240" rIns="12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різницю між номінальною та реальною вартістю отриманого довгострокового векс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 ,71, 74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
          <p:cNvGraphicFramePr/>
          <p:nvPr/>
        </p:nvGraphicFramePr>
        <p:xfrm>
          <a:off x="0" y="500040"/>
          <a:ext cx="9144000" cy="6359400"/>
        </p:xfrm>
        <a:graphic>
          <a:graphicData uri="http://schemas.openxmlformats.org/drawingml/2006/table">
            <a:tbl>
              <a:tblPr/>
              <a:tblGrid>
                <a:gridCol w="577800"/>
                <a:gridCol w="4299120"/>
                <a:gridCol w="1904760"/>
                <a:gridCol w="2362320"/>
              </a:tblGrid>
              <a:tr h="23508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1</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2</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3</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4</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74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огашено довгостроковий вексель покупцем достроково</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255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дано довгостроковий вексель за індосаментом </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724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ведено довгостроковий вексель, термін погашення якого менше 12-ти місяців, до складу короткострокових</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sp>
        <p:nvSpPr>
          <p:cNvPr id="309" name=""/>
          <p:cNvSpPr txBox="1"/>
          <p:nvPr/>
        </p:nvSpPr>
        <p:spPr>
          <a:xfrm>
            <a:off x="152280" y="1600200"/>
            <a:ext cx="8839440" cy="49528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іншої дебіторської заборгованості відноситься </a:t>
            </a:r>
            <a:r>
              <a:rPr b="0" i="1" lang="uk-UA" sz="3400" spc="-1" strike="noStrike">
                <a:solidFill>
                  <a:srgbClr val="ffffff"/>
                </a:solidFill>
                <a:latin typeface="Arial"/>
              </a:rPr>
              <a:t>видача довгострокових позик </a:t>
            </a:r>
            <a:r>
              <a:rPr b="0" lang="uk-UA" sz="3400" spc="-1" strike="noStrike">
                <a:solidFill>
                  <a:srgbClr val="ffffff"/>
                </a:solidFill>
                <a:latin typeface="Arial"/>
              </a:rPr>
              <a:t>працівникам підприємства та інші види розрахунків.</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Видача позик підприємством може проводитись, якщо вона </a:t>
            </a:r>
            <a:r>
              <a:rPr b="0" lang="uk-UA" sz="3400" spc="-1" strike="noStrike" u="sng">
                <a:solidFill>
                  <a:srgbClr val="ffffff"/>
                </a:solidFill>
                <a:uFillTx/>
                <a:latin typeface="Arial"/>
              </a:rPr>
              <a:t>передбачена статутом</a:t>
            </a:r>
            <a:r>
              <a:rPr b="0" lang="uk-UA" sz="3400" spc="-1" strike="noStrike">
                <a:solidFill>
                  <a:srgbClr val="ffffff"/>
                </a:solidFill>
                <a:latin typeface="Arial"/>
              </a:rPr>
              <a:t> або іншим аналогічним документом підприємства та за наявності оформлених належним чином документів.</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609120" y="1722600"/>
            <a:ext cx="84582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идача позики повинна бути оформлена </a:t>
            </a:r>
            <a:r>
              <a:rPr b="0" lang="uk-UA" sz="3200" spc="-1" strike="noStrike" u="sng">
                <a:solidFill>
                  <a:srgbClr val="ffffff"/>
                </a:solidFill>
                <a:uFillTx/>
                <a:latin typeface="Arial"/>
              </a:rPr>
              <a:t>договором у письмовій формі</a:t>
            </a:r>
            <a:r>
              <a:rPr b="0" lang="uk-UA" sz="3200" spc="-1" strike="noStrike">
                <a:solidFill>
                  <a:srgbClr val="ffffff"/>
                </a:solidFill>
                <a:latin typeface="Arial"/>
              </a:rPr>
              <a:t>, обов’язковими елементами якого є: предмет договору, розмір і порядок видачі позики, термін, на який вона видається, порядок погашення, відповідальність сторін та юридичні реквізити сторін.</a:t>
            </a:r>
            <a:endParaRPr b="0" lang="en-US" sz="3200" spc="-1" strike="noStrike">
              <a:solidFill>
                <a:srgbClr val="ffffff"/>
              </a:solidFill>
              <a:latin typeface="Arial"/>
            </a:endParaRPr>
          </a:p>
        </p:txBody>
      </p:sp>
      <p:sp>
        <p:nvSpPr>
          <p:cNvPr id="311"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143000"/>
            <a:ext cx="8229600" cy="45259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АВАНС –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грошова сума або інша майнова цінність, яка передається в рахунок виконання договірного зобов’язання (наприклад, у рахунок наступних поставо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380520"/>
            <a:ext cx="8610480" cy="57452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Позика може видаватись на будь-який термін, але вона повинна бути безпроцентною та поворотно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Якщо </a:t>
            </a:r>
            <a:r>
              <a:rPr b="0" lang="uk-UA" sz="3600" spc="-1" strike="noStrike" u="sng">
                <a:solidFill>
                  <a:srgbClr val="ffffff"/>
                </a:solidFill>
                <a:uFillTx/>
                <a:latin typeface="Arial"/>
              </a:rPr>
              <a:t>термін</a:t>
            </a:r>
            <a:r>
              <a:rPr b="0" lang="uk-UA" sz="3600" spc="-1" strike="noStrike">
                <a:solidFill>
                  <a:srgbClr val="ffffff"/>
                </a:solidFill>
                <a:latin typeface="Arial"/>
              </a:rPr>
              <a:t> повернення </a:t>
            </a:r>
            <a:r>
              <a:rPr b="0" lang="uk-UA" sz="3600" spc="-1" strike="noStrike" u="sng">
                <a:solidFill>
                  <a:srgbClr val="ffffff"/>
                </a:solidFill>
                <a:uFillTx/>
                <a:latin typeface="Arial"/>
              </a:rPr>
              <a:t>не встановлюється</a:t>
            </a:r>
            <a:r>
              <a:rPr b="0" lang="uk-UA" sz="3600" spc="-1" strike="noStrike">
                <a:solidFill>
                  <a:srgbClr val="ffffff"/>
                </a:solidFill>
                <a:latin typeface="Arial"/>
              </a:rPr>
              <a:t> або визначається моментом вимоги, то в цьому випадку працівник повинен повернути гроші в 7-денний термін з дня пред’явлення вимог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151920"/>
            <a:ext cx="88394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graphicFrame>
        <p:nvGraphicFramePr>
          <p:cNvPr id="314" name=""/>
          <p:cNvGraphicFramePr/>
          <p:nvPr/>
        </p:nvGraphicFramePr>
        <p:xfrm>
          <a:off x="0" y="1523880"/>
          <a:ext cx="9144000" cy="5715000"/>
        </p:xfrm>
        <a:graphic>
          <a:graphicData uri="http://schemas.openxmlformats.org/drawingml/2006/table">
            <a:tbl>
              <a:tblPr/>
              <a:tblGrid>
                <a:gridCol w="565200"/>
                <a:gridCol w="4184640"/>
                <a:gridCol w="2286000"/>
                <a:gridCol w="2108160"/>
              </a:tblGrid>
              <a:tr h="15242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идано довгострокову позику працівнику підприємства</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28600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Переведено раніше перерахований аванс до довгострокової дебіторської заборгованості у зв’язку з продовженням договору</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90476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кошти від працівника підприємства як дострокове погашення виданої йому раніше довгострокової позики </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76320" y="457200"/>
          <a:ext cx="8991360" cy="3365640"/>
        </p:xfrm>
        <a:graphic>
          <a:graphicData uri="http://schemas.openxmlformats.org/drawingml/2006/table">
            <a:tbl>
              <a:tblPr/>
              <a:tblGrid>
                <a:gridCol w="555480"/>
                <a:gridCol w="4114800"/>
                <a:gridCol w="2247840"/>
                <a:gridCol w="2073240"/>
              </a:tblGrid>
              <a:tr h="33656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ea typeface="Times New Roman"/>
                        </a:rPr>
                        <a:t>Переведено довгострокову дебіторську заборгованість до складу поточної, коли до її погашення залишається менше року з дати балансу</a:t>
                      </a:r>
                      <a:endParaRPr b="0" lang="en-US" sz="3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6840" y="1066680"/>
            <a:ext cx="8534520" cy="50594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обліку розрахунків </a:t>
            </a:r>
            <a:r>
              <a:rPr b="0" i="1" lang="uk-UA" sz="3500" spc="-1" strike="noStrike">
                <a:solidFill>
                  <a:srgbClr val="ffffff"/>
                </a:solidFill>
                <a:latin typeface="Arial"/>
              </a:rPr>
              <a:t>за виданими авансами </a:t>
            </a:r>
            <a:r>
              <a:rPr b="0" lang="uk-UA" sz="3500" spc="-1" strike="noStrike">
                <a:solidFill>
                  <a:srgbClr val="ffffff"/>
                </a:solidFill>
                <a:latin typeface="Arial"/>
              </a:rPr>
              <a:t>під поставку матеріальних цінностей (виконання робіт, надання послуг), а також з оплати продукції та робіт, прийнятих замовником за частковою готовністю, передбачено рахунок </a:t>
            </a:r>
            <a:r>
              <a:rPr b="0" lang="uk-UA" sz="5000" spc="-1" strike="noStrike">
                <a:solidFill>
                  <a:srgbClr val="ffffff"/>
                </a:solidFill>
                <a:latin typeface="Calibri"/>
              </a:rPr>
              <a:t>371 “Розрахунки за авансами виданим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орядок обліку розрахунків за авансами виданими</a:t>
            </a:r>
            <a:endParaRPr b="0" lang="en-US" sz="4400" spc="-1" strike="noStrike">
              <a:solidFill>
                <a:srgbClr val="ccecff"/>
              </a:solidFill>
              <a:latin typeface="Arial"/>
            </a:endParaRPr>
          </a:p>
        </p:txBody>
      </p:sp>
      <p:sp>
        <p:nvSpPr>
          <p:cNvPr id="2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Object 1"/>
          <p:cNvGraphicFramePr/>
          <p:nvPr/>
        </p:nvGraphicFramePr>
        <p:xfrm>
          <a:off x="0" y="1658880"/>
          <a:ext cx="9144000" cy="4818240"/>
        </p:xfrm>
        <a:graphic>
          <a:graphicData uri="http://schemas.openxmlformats.org/presentationml/2006/ole">
            <p:oleObj r:id="rId1" spid="">
              <p:embed/>
              <p:pic>
                <p:nvPicPr>
                  <p:cNvPr id="231" name="Object 1" descr=""/>
                  <p:cNvPicPr/>
                  <p:nvPr/>
                </p:nvPicPr>
                <p:blipFill>
                  <a:blip r:embed="rId2"/>
                  <a:stretch/>
                </p:blipFill>
                <p:spPr>
                  <a:xfrm>
                    <a:off x="0" y="1658880"/>
                    <a:ext cx="9144000" cy="48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28600" y="304920"/>
            <a:ext cx="8763120" cy="5821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Раніше </a:t>
            </a:r>
            <a:r>
              <a:rPr b="0" lang="uk-UA" sz="2400" spc="-1" strike="noStrike" u="sng">
                <a:solidFill>
                  <a:srgbClr val="ffffff"/>
                </a:solidFill>
                <a:uFillTx/>
                <a:latin typeface="Arial"/>
              </a:rPr>
              <a:t>видані</a:t>
            </a:r>
            <a:r>
              <a:rPr b="0" lang="uk-UA" sz="2400" spc="-1" strike="noStrike">
                <a:solidFill>
                  <a:srgbClr val="ffffff"/>
                </a:solidFill>
                <a:latin typeface="Arial"/>
              </a:rPr>
              <a:t>, але </a:t>
            </a:r>
            <a:r>
              <a:rPr b="0" lang="uk-UA" sz="2400" spc="-1" strike="noStrike" u="sng">
                <a:solidFill>
                  <a:srgbClr val="ffffff"/>
                </a:solidFill>
                <a:uFillTx/>
                <a:latin typeface="Arial"/>
              </a:rPr>
              <a:t>не повернуті </a:t>
            </a:r>
            <a:r>
              <a:rPr b="0" lang="uk-UA" sz="2400" spc="-1" strike="noStrike">
                <a:solidFill>
                  <a:srgbClr val="ffffff"/>
                </a:solidFill>
                <a:latin typeface="Arial"/>
              </a:rPr>
              <a:t>аванси, після закінчення терміну позовної давності списують як безнадійні борг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a:t>
            </a:r>
            <a:r>
              <a:rPr b="0" lang="uk-UA" sz="2400" spc="-1" strike="noStrike">
                <a:solidFill>
                  <a:srgbClr val="ffffff"/>
                </a:solidFill>
                <a:latin typeface="Calibri"/>
              </a:rPr>
              <a:t>944 “Сумнівні та безнадійні борги”</a:t>
            </a:r>
            <a:r>
              <a:rPr b="0" lang="uk-UA"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К-т 371 </a:t>
            </a:r>
            <a:r>
              <a:rPr b="0" lang="uk-UA" sz="2400" spc="-1" strike="noStrike">
                <a:solidFill>
                  <a:srgbClr val="ffffff"/>
                </a:solidFill>
                <a:latin typeface="Calibri"/>
              </a:rPr>
              <a:t>“Розрахунки за виданими авансами”</a:t>
            </a:r>
            <a:r>
              <a:rPr b="0" lang="uk-UA" sz="2400" spc="-1" strike="noStrike">
                <a:solidFill>
                  <a:srgbClr val="ffffff"/>
                </a:solidFill>
                <a:latin typeface="Arial"/>
              </a:rPr>
              <a:t>, одночасно списання дебіторської заборгованості відображається поза балансом: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a:t>
            </a:r>
            <a:r>
              <a:rPr b="0" lang="uk-UA" sz="2400" spc="-1" strike="noStrike">
                <a:solidFill>
                  <a:srgbClr val="ffffff"/>
                </a:solidFill>
                <a:latin typeface="Calibri"/>
              </a:rPr>
              <a:t>071 “Списана дебіторська заборгованість”</a:t>
            </a:r>
            <a:r>
              <a:rPr b="0" lang="uk-UA"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311 Кт 685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 Кт 071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371 Кт 716 5000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Arial"/>
              </a:rPr>
              <a:t>Дт 685 Кт 371 5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MSI</cp:lastModifiedBy>
  <dcterms:modified xsi:type="dcterms:W3CDTF">2021-12-12T18:15:20Z</dcterms:modified>
  <cp:revision>2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