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7.wmf" ContentType="image/x-wmf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38.wmf" ContentType="image/x-wmf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B794-7831-46BD-B7CA-6389E450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CDC3-F24E-4C34-A651-290C5528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5FEF-58C1-43D5-AFB6-AA73D8B8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93AD-A1DD-48AE-A3A2-AB7F1736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DEB6-A72D-4E23-A480-7A665178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6729-9A08-425E-A316-1F78A687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938B-EE83-4A0E-AD77-4117F905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F90B-0011-4359-8322-8EDC7A7A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059F-47E4-414E-914C-AA711C38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5B5C-5B7A-48AE-83D5-82D83D91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3D11-D609-4769-A894-C614E7B3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8F79-B130-417E-A255-2183DE1C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082E-7F47-4FF6-9673-DBB113F3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3FEA-7033-4682-8524-D504027F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2CC6-6550-4FFD-8D68-72FA6CBB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E7E7-57A9-4A55-B1F4-428CB537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F935-FD6E-4899-BF2E-6AE29BC89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EEB52-8247-40FC-A2FD-313C1B67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8168F-74D4-4DA3-926A-DF410105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63FD5-1896-4213-99F2-B6821E4D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E05E7-F2A8-4D7C-87EE-95A43B9D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19990-DB0B-4AC1-A7F1-9F13EF3B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8A8C-5B36-40EF-AAA6-1811E7AE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1C05C-3FF6-4BB9-8E8C-DF5DEEFF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3E1AC-404B-433E-97EC-6224F813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DD13E-B486-44FB-B4C4-6D40BE4F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3A973-AA77-4DFB-9A8E-261A8C69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2E49E-290A-45C2-9CDE-18B9BFE3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ADA64-152B-47AF-B838-35DB40CB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925A1-EFAE-4776-A9ED-5AA57CFC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BF86C-0F1F-4C33-A328-F74AE7A5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A3B14-1405-4B09-BD5F-B674843E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423A1-5C09-4692-AFBD-E3598137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8715-1430-442A-AC5A-B2A76EB9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8328E-7115-4575-A672-55E5DF2F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3EF33-1619-42BB-A8F1-F70AA2CA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F3B25-5E70-485D-9887-64847364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367C7-173B-4C59-9D60-D305C353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223BF-9760-48A0-972C-589AFD39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DB5A7-ADEC-4843-9210-9C33FA98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3F068-EDE0-4E9F-AF0E-E7225587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3ECF0-370D-472E-8D5B-74F61872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1521E-049F-4CBC-BD0F-D86E9837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917D6-E252-4E2D-A3E4-7DA64803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FF23-72C2-4CB8-B8FB-49C8396E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CA577-88FC-44BA-BC21-3E7AE0AB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EF436-124C-4DDC-B971-1D685E69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5A3C2-B98A-41F3-8288-E92618C1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CE481-FACA-4F34-8714-45A31115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5DD63-CE1C-4E0F-AB96-8EE3D510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9D48F-6DFC-49BB-A4F4-0BDB716C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BC527-E5C6-48E2-8039-F7F14EF1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A54A3-8F7E-419D-90EB-403E7CA5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30071-22A7-4904-A8EA-3CE89541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D32E2-AD04-423C-AE05-0C8DEA17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FBE2-4972-4082-A8FF-C336EBD4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2B378-8A82-4C10-860B-1BE1143A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76A70-EE21-43FE-86AF-F8A9445B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79D3C-0651-4FF6-AEB4-7801E747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00560-227E-47E8-965C-95DA9B0B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DCE33-89BA-4671-9A81-C6B3BBCC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B462B-2D1B-48C9-9756-8FA6306F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BA115-63EA-419A-BA74-AEB34655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BEFAD-639A-425A-BBAC-97F7EE2D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BB143-F2FC-4EFC-87C3-599642C8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D20A1-135D-4C74-8B1E-C490CC3E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6545-4F63-4050-9AFE-119B54C4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52874-0601-43B6-A0BA-9C035DD4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9037A-DCDB-4E4E-9AC8-939AD4A5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9ACCA-F727-4D1F-AFCF-702B1305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F998B-1153-4B20-8F20-1A8D56C0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F3B8C-6C75-404E-AA64-F9D6CC4B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63377-F6AC-45CB-A3C2-FF931ED3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32580-71A9-4B04-A7E5-365AEFB4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A7CD3-3DD6-4675-88B3-EB3849AD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F834E-A5C1-4BD6-820B-837AE77B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5E611-6D08-4E7D-A84C-64F6FDD7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CFD4-CC4E-468E-B91E-DA3A7321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16449-F8D1-4A1D-9A4C-6151586D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8420E-4E30-45E4-88F2-9F1132A0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84ED6-E35B-4994-8B5E-7810E7D3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7E846-A60D-45CB-BE6C-4D318925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0B966-381C-4CD6-9532-DEEAFD38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E040-C1E4-406F-B143-19232059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98B3-95CC-406D-BC18-1A9361CF2E5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77A7-F76E-49C1-BFC3-2812B5C24BD6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47AF-C929-4113-A9D4-8BDA1216A86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3685-5CAB-45C5-92D0-097836778552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EE90-872D-4EF2-8554-162415F53B1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5E2C-24BF-4DC1-AF79-F17B0496259C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50DC-A65B-4A2B-9302-4C27D7FC4D78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69800" y="669960"/>
            <a:ext cx="8515440" cy="162864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566640" y="3097080"/>
            <a:ext cx="8401320" cy="2481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Скругленный прямоугольник 16"/>
          <p:cNvSpPr/>
          <p:nvPr/>
        </p:nvSpPr>
        <p:spPr>
          <a:xfrm>
            <a:off x="1116000" y="1341360"/>
            <a:ext cx="6912000" cy="4248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РОЗПОДІЛ ВИТРАТ ОБСЛУГОВУЮЧИХ ПІДРОЗДІЛІ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МІЖ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ВИРОБНИЧИМИ ПІДРОЗДІЛАМ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304920"/>
            <a:ext cx="6534360" cy="1163520"/>
          </a:xfrm>
          <a:prstGeom prst="rect">
            <a:avLst/>
          </a:prstGeom>
          <a:ln w="0">
            <a:noFill/>
          </a:ln>
        </p:spPr>
      </p:pic>
      <p:sp>
        <p:nvSpPr>
          <p:cNvPr id="332" name="Стрелка вправо с вырезом 20"/>
          <p:cNvSpPr/>
          <p:nvPr/>
        </p:nvSpPr>
        <p:spPr>
          <a:xfrm>
            <a:off x="714240" y="1857240"/>
            <a:ext cx="1285920" cy="65412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Скругленный прямоугольник 16"/>
          <p:cNvSpPr/>
          <p:nvPr/>
        </p:nvSpPr>
        <p:spPr>
          <a:xfrm>
            <a:off x="2357280" y="1785960"/>
            <a:ext cx="51436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рямого розподіл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Стрелка вправо с вырезом 4"/>
          <p:cNvSpPr/>
          <p:nvPr/>
        </p:nvSpPr>
        <p:spPr>
          <a:xfrm>
            <a:off x="866880" y="2857680"/>
            <a:ext cx="1285920" cy="65376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3760"/>
              <a:gd name="textAreaBottom" fmla="*/ 490320 h 653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Скругленный прямоугольник 5"/>
          <p:cNvSpPr/>
          <p:nvPr/>
        </p:nvSpPr>
        <p:spPr>
          <a:xfrm>
            <a:off x="2509920" y="2786040"/>
            <a:ext cx="514332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слідовного розподілу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Стрелка вправо с вырезом 6"/>
          <p:cNvSpPr/>
          <p:nvPr/>
        </p:nvSpPr>
        <p:spPr>
          <a:xfrm>
            <a:off x="1019160" y="3857760"/>
            <a:ext cx="1285920" cy="65376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3760"/>
              <a:gd name="textAreaBottom" fmla="*/ 490320 h 653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Скругленный прямоугольник 7"/>
          <p:cNvSpPr/>
          <p:nvPr/>
        </p:nvSpPr>
        <p:spPr>
          <a:xfrm>
            <a:off x="2662200" y="3786120"/>
            <a:ext cx="51436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поділу  взаємних послу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Стрелка вправо с вырезом 8"/>
          <p:cNvSpPr/>
          <p:nvPr/>
        </p:nvSpPr>
        <p:spPr>
          <a:xfrm>
            <a:off x="1171440" y="4857840"/>
            <a:ext cx="1285920" cy="65412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Скругленный прямоугольник 9"/>
          <p:cNvSpPr/>
          <p:nvPr/>
        </p:nvSpPr>
        <p:spPr>
          <a:xfrm>
            <a:off x="2814480" y="4786200"/>
            <a:ext cx="51436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Одночасного розподіл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AutoShape 2" descr=""/>
          <p:cNvPicPr/>
          <p:nvPr/>
        </p:nvPicPr>
        <p:blipFill>
          <a:blip r:embed="rId1"/>
          <a:stretch/>
        </p:blipFill>
        <p:spPr>
          <a:xfrm>
            <a:off x="55440" y="822240"/>
            <a:ext cx="4424400" cy="1629000"/>
          </a:xfrm>
          <a:prstGeom prst="rect">
            <a:avLst/>
          </a:prstGeom>
          <a:ln w="0">
            <a:noFill/>
          </a:ln>
        </p:spPr>
      </p:pic>
      <p:grpSp>
        <p:nvGrpSpPr>
          <p:cNvPr id="341" name="Rectangle 3"/>
          <p:cNvGrpSpPr/>
          <p:nvPr/>
        </p:nvGrpSpPr>
        <p:grpSpPr>
          <a:xfrm>
            <a:off x="1036800" y="2030400"/>
            <a:ext cx="8173800" cy="4552920"/>
            <a:chOff x="1036800" y="2030400"/>
            <a:chExt cx="8173800" cy="4552920"/>
          </a:xfrm>
        </p:grpSpPr>
        <p:pic>
          <p:nvPicPr>
            <p:cNvPr id="342" name="Rectangle 3" descr=""/>
            <p:cNvPicPr/>
            <p:nvPr/>
          </p:nvPicPr>
          <p:blipFill>
            <a:blip r:embed="rId2"/>
            <a:stretch/>
          </p:blipFill>
          <p:spPr>
            <a:xfrm>
              <a:off x="1036800" y="2030400"/>
              <a:ext cx="8173800" cy="45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1357200" y="2214720"/>
              <a:ext cx="7572600" cy="43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Метод розподілу витрат обслуговуючих підрозділів за якого їхні витрати списують на витрати виробничих підрозділів, при цьому методі взаємні послуги обслуговуючих підрозділів не беруть до уваги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AutoShape 2" descr=""/>
          <p:cNvPicPr/>
          <p:nvPr/>
        </p:nvPicPr>
        <p:blipFill>
          <a:blip r:embed="rId1"/>
          <a:stretch/>
        </p:blipFill>
        <p:spPr>
          <a:xfrm>
            <a:off x="-12600" y="396720"/>
            <a:ext cx="4419360" cy="1127160"/>
          </a:xfrm>
          <a:prstGeom prst="rect">
            <a:avLst/>
          </a:prstGeom>
          <a:ln w="0">
            <a:noFill/>
          </a:ln>
        </p:spPr>
      </p:pic>
      <p:grpSp>
        <p:nvGrpSpPr>
          <p:cNvPr id="345" name="Rectangle 3"/>
          <p:cNvGrpSpPr/>
          <p:nvPr/>
        </p:nvGrpSpPr>
        <p:grpSpPr>
          <a:xfrm>
            <a:off x="1042920" y="1133640"/>
            <a:ext cx="8021880" cy="5395680"/>
            <a:chOff x="1042920" y="1133640"/>
            <a:chExt cx="8021880" cy="5395680"/>
          </a:xfrm>
        </p:grpSpPr>
        <p:pic>
          <p:nvPicPr>
            <p:cNvPr id="346" name="Rectangle 3" descr=""/>
            <p:cNvPicPr/>
            <p:nvPr/>
          </p:nvPicPr>
          <p:blipFill>
            <a:blip r:embed="rId2"/>
            <a:stretch/>
          </p:blipFill>
          <p:spPr>
            <a:xfrm>
              <a:off x="1042920" y="1133640"/>
              <a:ext cx="8021880" cy="53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1285920" y="1285920"/>
              <a:ext cx="757224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ідприємство займається виготовленням велотренажерів та має два основні цехи (механічний та складальний) і три обслуговуючих підрозділи (ремонтний цех, склад матеріалів та їдальня).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озподіл послуг обслуговуючих підрозділів здійснюється на основі: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Чисельності працюючих – для послуг їдальні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артості матеріалів – для послуг склад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Обсягу ремонтних робіт – для ремонтного цех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"/>
          <p:cNvGraphicFramePr/>
          <p:nvPr/>
        </p:nvGraphicFramePr>
        <p:xfrm>
          <a:off x="285840" y="142920"/>
          <a:ext cx="8643960" cy="5799240"/>
        </p:xfrm>
        <a:graphic>
          <a:graphicData uri="http://schemas.openxmlformats.org/drawingml/2006/table">
            <a:tbl>
              <a:tblPr/>
              <a:tblGrid>
                <a:gridCol w="1357200"/>
                <a:gridCol w="1128600"/>
                <a:gridCol w="1295640"/>
                <a:gridCol w="1152360"/>
                <a:gridCol w="1297080"/>
                <a:gridCol w="1150920"/>
                <a:gridCol w="1262160"/>
              </a:tblGrid>
              <a:tr h="915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кладні витрати, гр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ЧП, чо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ртість замовле-них матеріалів, гр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----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сяг ремонт-них робіт, го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-----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----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-----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603360"/>
            <a:ext cx="6534360" cy="1701720"/>
          </a:xfrm>
          <a:prstGeom prst="rect">
            <a:avLst/>
          </a:prstGeom>
          <a:ln w="0">
            <a:noFill/>
          </a:ln>
        </p:spPr>
      </p:pic>
      <p:sp>
        <p:nvSpPr>
          <p:cNvPr id="350" name="Скругленный прямоугольник 16"/>
          <p:cNvSpPr/>
          <p:nvPr/>
        </p:nvSpPr>
        <p:spPr>
          <a:xfrm>
            <a:off x="1403280" y="2871720"/>
            <a:ext cx="6391440" cy="170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 u="sng">
                <a:solidFill>
                  <a:srgbClr val="ffffff"/>
                </a:solidFill>
                <a:uFillTx/>
                <a:latin typeface="Arial"/>
              </a:rPr>
              <a:t>Обсяг послуги, що споживається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агальний обсяг послуги, що надаєтьс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Стрелка вниз 6"/>
          <p:cNvSpPr/>
          <p:nvPr/>
        </p:nvSpPr>
        <p:spPr>
          <a:xfrm>
            <a:off x="3708360" y="2421000"/>
            <a:ext cx="180036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Скругленный прямоугольник 7"/>
          <p:cNvSpPr/>
          <p:nvPr/>
        </p:nvSpPr>
        <p:spPr>
          <a:xfrm>
            <a:off x="1494000" y="4888080"/>
            <a:ext cx="6391080" cy="170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e46c0a"/>
                </a:solidFill>
                <a:latin typeface="Arial"/>
              </a:rPr>
              <a:t>При визначенні цифрового значення знаменника не слід враховувати споживання власного послуги підрозділом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244440"/>
            <a:ext cx="7424640" cy="1693800"/>
          </a:xfrm>
          <a:prstGeom prst="rect">
            <a:avLst/>
          </a:prstGeom>
          <a:ln w="0">
            <a:noFill/>
          </a:ln>
        </p:spPr>
      </p:pic>
      <p:sp>
        <p:nvSpPr>
          <p:cNvPr id="354" name="Скругленный прямоугольник 16"/>
          <p:cNvSpPr/>
          <p:nvPr/>
        </p:nvSpPr>
        <p:spPr>
          <a:xfrm>
            <a:off x="395280" y="2511360"/>
            <a:ext cx="8353440" cy="170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 u="sng">
                <a:solidFill>
                  <a:srgbClr val="ffffff"/>
                </a:solidFill>
                <a:uFillTx/>
                <a:latin typeface="Arial"/>
              </a:rPr>
              <a:t>Вартість замовлених матеріалів механічним цехо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Загальна вартість замовлених матеріалів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Стрелка вниз 6"/>
          <p:cNvSpPr/>
          <p:nvPr/>
        </p:nvSpPr>
        <p:spPr>
          <a:xfrm>
            <a:off x="3708360" y="2060640"/>
            <a:ext cx="180036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Скругленный прямоугольник 4"/>
          <p:cNvSpPr/>
          <p:nvPr/>
        </p:nvSpPr>
        <p:spPr>
          <a:xfrm>
            <a:off x="324000" y="4743360"/>
            <a:ext cx="8351640" cy="171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(300000 / 1000000) х 100 = 30 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Стрелка вниз 5"/>
          <p:cNvSpPr/>
          <p:nvPr/>
        </p:nvSpPr>
        <p:spPr>
          <a:xfrm>
            <a:off x="3635280" y="4292640"/>
            <a:ext cx="180036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357120" y="860400"/>
          <a:ext cx="8501040" cy="4514760"/>
        </p:xfrm>
        <a:graphic>
          <a:graphicData uri="http://schemas.openxmlformats.org/drawingml/2006/table">
            <a:tbl>
              <a:tblPr/>
              <a:tblGrid>
                <a:gridCol w="2374920"/>
                <a:gridCol w="2251080"/>
                <a:gridCol w="2125800"/>
                <a:gridCol w="1749240"/>
              </a:tblGrid>
              <a:tr h="46116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 споживач послуг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, що надає послу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10 – 1 0= 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359" name="AutoShape 2" descr=""/>
          <p:cNvPicPr/>
          <p:nvPr/>
        </p:nvPicPr>
        <p:blipFill>
          <a:blip r:embed="rId1"/>
          <a:stretch/>
        </p:blipFill>
        <p:spPr>
          <a:xfrm>
            <a:off x="701640" y="-109440"/>
            <a:ext cx="7418520" cy="1066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357120" y="860400"/>
          <a:ext cx="8501040" cy="5926320"/>
        </p:xfrm>
        <a:graphic>
          <a:graphicData uri="http://schemas.openxmlformats.org/drawingml/2006/table">
            <a:tbl>
              <a:tblPr/>
              <a:tblGrid>
                <a:gridCol w="2374920"/>
                <a:gridCol w="2251080"/>
                <a:gridCol w="2125800"/>
                <a:gridCol w="1749240"/>
              </a:tblGrid>
              <a:tr h="30528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 споживач послуг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, що надає послу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10 – 1 0= 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 000/1000000 (заг. вартість замовлених матеріалів)  х 100% = 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 000/100000 (обсяг ремонтних робіт)   х 100% = 7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0/3000 (чисельність  працюючих)  х 100% = 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0 000/1000000 х 100% = 4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 000/100000 х 100% = 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/3000 х 100% = 5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---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/3000 х 100% = 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 000/1000000 х 100% = 2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/3000 х 100% = 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 000/1000000 х 100% = 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---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361" name="AutoShape 2" descr=""/>
          <p:cNvPicPr/>
          <p:nvPr/>
        </p:nvPicPr>
        <p:blipFill>
          <a:blip r:embed="rId1"/>
          <a:stretch/>
        </p:blipFill>
        <p:spPr>
          <a:xfrm>
            <a:off x="701640" y="-109440"/>
            <a:ext cx="7418520" cy="1066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0" y="1303200"/>
          <a:ext cx="9172440" cy="4007160"/>
        </p:xfrm>
        <a:graphic>
          <a:graphicData uri="http://schemas.openxmlformats.org/drawingml/2006/table">
            <a:tbl>
              <a:tblPr/>
              <a:tblGrid>
                <a:gridCol w="1643040"/>
                <a:gridCol w="1046160"/>
                <a:gridCol w="1255680"/>
                <a:gridCol w="920880"/>
                <a:gridCol w="1230120"/>
                <a:gridCol w="833400"/>
                <a:gridCol w="1000440"/>
                <a:gridCol w="1242720"/>
              </a:tblGrid>
              <a:tr h="61020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 споживач послуг  (лише виробничі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Загальні витра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2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с двумя вырезанными противолежащими углами 4"/>
          <p:cNvSpPr/>
          <p:nvPr/>
        </p:nvSpPr>
        <p:spPr>
          <a:xfrm>
            <a:off x="285840" y="1214280"/>
            <a:ext cx="8643960" cy="4714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Поняття та види собівартості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Організація та здійснення калькулюванн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Облік і розподіл непрямих вит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0" y="1303200"/>
          <a:ext cx="9172440" cy="4054680"/>
        </p:xfrm>
        <a:graphic>
          <a:graphicData uri="http://schemas.openxmlformats.org/drawingml/2006/table">
            <a:tbl>
              <a:tblPr/>
              <a:tblGrid>
                <a:gridCol w="1643040"/>
                <a:gridCol w="1046160"/>
                <a:gridCol w="1255680"/>
                <a:gridCol w="920880"/>
                <a:gridCol w="1230120"/>
                <a:gridCol w="833400"/>
                <a:gridCol w="1000440"/>
                <a:gridCol w="1242720"/>
              </a:tblGrid>
              <a:tr h="61020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 споживач послуг  (лише виробничі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Загальні витра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2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/30+4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8571,4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/70+3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8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/30+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11571,43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/30+4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1428,5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/70+3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2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/30+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5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88428,57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AutoShape 2" descr=""/>
          <p:cNvPicPr/>
          <p:nvPr/>
        </p:nvPicPr>
        <p:blipFill>
          <a:blip r:embed="rId1"/>
          <a:stretch/>
        </p:blipFill>
        <p:spPr>
          <a:xfrm>
            <a:off x="55440" y="298440"/>
            <a:ext cx="47055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65" name="Rectangle 3"/>
          <p:cNvGrpSpPr/>
          <p:nvPr/>
        </p:nvGrpSpPr>
        <p:grpSpPr>
          <a:xfrm>
            <a:off x="1036800" y="1865160"/>
            <a:ext cx="8173800" cy="4638960"/>
            <a:chOff x="1036800" y="1865160"/>
            <a:chExt cx="8173800" cy="4638960"/>
          </a:xfrm>
        </p:grpSpPr>
        <p:pic>
          <p:nvPicPr>
            <p:cNvPr id="366" name="Rectangle 3" descr=""/>
            <p:cNvPicPr/>
            <p:nvPr/>
          </p:nvPicPr>
          <p:blipFill>
            <a:blip r:embed="rId2"/>
            <a:stretch/>
          </p:blipFill>
          <p:spPr>
            <a:xfrm>
              <a:off x="1036800" y="1865160"/>
              <a:ext cx="8173800" cy="463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357200" y="2048040"/>
              <a:ext cx="7572600" cy="44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Метод розподілу витрат обслуговуючих підрозділів, за якого витрати кожного обслуговуючого підрозділу розподіляються послідовно щодо виробничих підрозділів та інших обслуговуючих підрозділів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Прямоугольник 1" descr=""/>
          <p:cNvPicPr/>
          <p:nvPr/>
        </p:nvPicPr>
        <p:blipFill>
          <a:blip r:embed="rId1"/>
          <a:stretch/>
        </p:blipFill>
        <p:spPr>
          <a:xfrm>
            <a:off x="1292400" y="603360"/>
            <a:ext cx="6724440" cy="1701720"/>
          </a:xfrm>
          <a:prstGeom prst="rect">
            <a:avLst/>
          </a:prstGeom>
          <a:ln w="0">
            <a:noFill/>
          </a:ln>
        </p:spPr>
      </p:pic>
      <p:sp>
        <p:nvSpPr>
          <p:cNvPr id="369" name="Стрелка вправо с вырезом 20"/>
          <p:cNvSpPr/>
          <p:nvPr/>
        </p:nvSpPr>
        <p:spPr>
          <a:xfrm>
            <a:off x="714240" y="2943360"/>
            <a:ext cx="1285920" cy="65376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3760"/>
              <a:gd name="textAreaBottom" fmla="*/ 490320 h 653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Скругленный прямоугольник 16"/>
          <p:cNvSpPr/>
          <p:nvPr/>
        </p:nvSpPr>
        <p:spPr>
          <a:xfrm>
            <a:off x="2357280" y="2871720"/>
            <a:ext cx="5143680" cy="924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ідрозділ, що найменше обслуговуються іншим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Стрелка вправо с вырезом 4"/>
          <p:cNvSpPr/>
          <p:nvPr/>
        </p:nvSpPr>
        <p:spPr>
          <a:xfrm>
            <a:off x="866880" y="4514760"/>
            <a:ext cx="1285920" cy="65412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Скругленный прямоугольник 5"/>
          <p:cNvSpPr/>
          <p:nvPr/>
        </p:nvSpPr>
        <p:spPr>
          <a:xfrm>
            <a:off x="2509920" y="4365720"/>
            <a:ext cx="5143320" cy="1008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ніс більшу величину витра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603360"/>
            <a:ext cx="6534360" cy="969840"/>
          </a:xfrm>
          <a:prstGeom prst="rect">
            <a:avLst/>
          </a:prstGeom>
          <a:ln w="0">
            <a:noFill/>
          </a:ln>
        </p:spPr>
      </p:pic>
      <p:sp>
        <p:nvSpPr>
          <p:cNvPr id="374" name="Стрелка вправо с вырезом 20"/>
          <p:cNvSpPr/>
          <p:nvPr/>
        </p:nvSpPr>
        <p:spPr>
          <a:xfrm>
            <a:off x="714240" y="1844640"/>
            <a:ext cx="1285920" cy="65412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Скругленный прямоугольник 16"/>
          <p:cNvSpPr/>
          <p:nvPr/>
        </p:nvSpPr>
        <p:spPr>
          <a:xfrm>
            <a:off x="2357280" y="1773360"/>
            <a:ext cx="5143680" cy="9237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ідрозділ, що найменше обслуговуються іншим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Стрелка вправо с вырезом 4"/>
          <p:cNvSpPr/>
          <p:nvPr/>
        </p:nvSpPr>
        <p:spPr>
          <a:xfrm>
            <a:off x="684360" y="4226040"/>
            <a:ext cx="1285560" cy="653760"/>
          </a:xfrm>
          <a:custGeom>
            <a:avLst/>
            <a:gdLst>
              <a:gd name="textAreaLeft" fmla="*/ 163440 w 1285560"/>
              <a:gd name="textAreaRight" fmla="*/ 1122120 w 1285560"/>
              <a:gd name="textAreaTop" fmla="*/ 163440 h 653760"/>
              <a:gd name="textAreaBottom" fmla="*/ 490320 h 653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Скругленный прямоугольник 5"/>
          <p:cNvSpPr/>
          <p:nvPr/>
        </p:nvSpPr>
        <p:spPr>
          <a:xfrm>
            <a:off x="2327400" y="4076640"/>
            <a:ext cx="5143320" cy="1008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ніс більшу величину витра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Скругленный прямоугольник 6"/>
          <p:cNvSpPr/>
          <p:nvPr/>
        </p:nvSpPr>
        <p:spPr>
          <a:xfrm>
            <a:off x="3316320" y="2833560"/>
            <a:ext cx="5143320" cy="100836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Склад та Їдальн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Скругленный прямоугольник 7"/>
          <p:cNvSpPr/>
          <p:nvPr/>
        </p:nvSpPr>
        <p:spPr>
          <a:xfrm>
            <a:off x="3419640" y="5373720"/>
            <a:ext cx="5143320" cy="100800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Їдальн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506520"/>
            <a:ext cx="6534360" cy="1066680"/>
          </a:xfrm>
          <a:prstGeom prst="rect">
            <a:avLst/>
          </a:prstGeom>
          <a:ln w="0">
            <a:noFill/>
          </a:ln>
        </p:spPr>
      </p:pic>
      <p:sp>
        <p:nvSpPr>
          <p:cNvPr id="381" name="Стрелка вправо с вырезом 20"/>
          <p:cNvSpPr/>
          <p:nvPr/>
        </p:nvSpPr>
        <p:spPr>
          <a:xfrm>
            <a:off x="714240" y="1844640"/>
            <a:ext cx="1285920" cy="65412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Скругленный прямоугольник 16"/>
          <p:cNvSpPr/>
          <p:nvPr/>
        </p:nvSpPr>
        <p:spPr>
          <a:xfrm>
            <a:off x="2357280" y="1773360"/>
            <a:ext cx="5143680" cy="9237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Їдальн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Стрелка вправо с вырезом 4"/>
          <p:cNvSpPr/>
          <p:nvPr/>
        </p:nvSpPr>
        <p:spPr>
          <a:xfrm>
            <a:off x="684360" y="3073320"/>
            <a:ext cx="1285560" cy="654120"/>
          </a:xfrm>
          <a:custGeom>
            <a:avLst/>
            <a:gdLst>
              <a:gd name="textAreaLeft" fmla="*/ 163440 w 1285560"/>
              <a:gd name="textAreaRight" fmla="*/ 1122120 w 128556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Скругленный прямоугольник 5"/>
          <p:cNvSpPr/>
          <p:nvPr/>
        </p:nvSpPr>
        <p:spPr>
          <a:xfrm>
            <a:off x="2327400" y="2924280"/>
            <a:ext cx="5143320" cy="1008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Склад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Стрелка вправо с вырезом 8"/>
          <p:cNvSpPr/>
          <p:nvPr/>
        </p:nvSpPr>
        <p:spPr>
          <a:xfrm>
            <a:off x="611280" y="4441680"/>
            <a:ext cx="1285920" cy="65412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Скругленный прямоугольник 9"/>
          <p:cNvSpPr/>
          <p:nvPr/>
        </p:nvSpPr>
        <p:spPr>
          <a:xfrm>
            <a:off x="2254320" y="4292640"/>
            <a:ext cx="5143320" cy="1008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емонтний це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357120" y="214200"/>
          <a:ext cx="8501040" cy="5450040"/>
        </p:xfrm>
        <a:graphic>
          <a:graphicData uri="http://schemas.openxmlformats.org/drawingml/2006/table">
            <a:tbl>
              <a:tblPr/>
              <a:tblGrid>
                <a:gridCol w="1785960"/>
                <a:gridCol w="714600"/>
                <a:gridCol w="1143000"/>
                <a:gridCol w="191880"/>
                <a:gridCol w="522360"/>
                <a:gridCol w="142920"/>
                <a:gridCol w="928440"/>
                <a:gridCol w="571680"/>
                <a:gridCol w="142920"/>
                <a:gridCol w="906480"/>
                <a:gridCol w="1450800"/>
              </a:tblGrid>
              <a:tr h="61020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 споживач послуг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Їдальн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кла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357120" y="214200"/>
          <a:ext cx="8501040" cy="6351840"/>
        </p:xfrm>
        <a:graphic>
          <a:graphicData uri="http://schemas.openxmlformats.org/drawingml/2006/table">
            <a:tbl>
              <a:tblPr/>
              <a:tblGrid>
                <a:gridCol w="1785960"/>
                <a:gridCol w="714600"/>
                <a:gridCol w="1143000"/>
                <a:gridCol w="191880"/>
                <a:gridCol w="522360"/>
                <a:gridCol w="142920"/>
                <a:gridCol w="928440"/>
                <a:gridCol w="571680"/>
                <a:gridCol w="142920"/>
                <a:gridCol w="906480"/>
                <a:gridCol w="1450800"/>
              </a:tblGrid>
              <a:tr h="61020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 споживач послуг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Їдальн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кла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/30+40+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/9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7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ключено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/9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ключено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0+20000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0000+20000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000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AutoShape 2" descr=""/>
          <p:cNvPicPr/>
          <p:nvPr/>
        </p:nvPicPr>
        <p:blipFill>
          <a:blip r:embed="rId1"/>
          <a:stretch/>
        </p:blipFill>
        <p:spPr>
          <a:xfrm>
            <a:off x="55440" y="682560"/>
            <a:ext cx="4705560" cy="1841400"/>
          </a:xfrm>
          <a:prstGeom prst="rect">
            <a:avLst/>
          </a:prstGeom>
          <a:ln w="0">
            <a:noFill/>
          </a:ln>
        </p:spPr>
      </p:pic>
      <p:grpSp>
        <p:nvGrpSpPr>
          <p:cNvPr id="390" name="Rectangle 3"/>
          <p:cNvGrpSpPr/>
          <p:nvPr/>
        </p:nvGrpSpPr>
        <p:grpSpPr>
          <a:xfrm>
            <a:off x="1036800" y="2243160"/>
            <a:ext cx="8173800" cy="4024440"/>
            <a:chOff x="1036800" y="2243160"/>
            <a:chExt cx="8173800" cy="4024440"/>
          </a:xfrm>
        </p:grpSpPr>
        <p:pic>
          <p:nvPicPr>
            <p:cNvPr id="391" name="Rectangle 3" descr=""/>
            <p:cNvPicPr/>
            <p:nvPr/>
          </p:nvPicPr>
          <p:blipFill>
            <a:blip r:embed="rId2"/>
            <a:stretch/>
          </p:blipFill>
          <p:spPr>
            <a:xfrm>
              <a:off x="1036800" y="2243160"/>
              <a:ext cx="8173800" cy="40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1357200" y="2428920"/>
              <a:ext cx="7572600" cy="38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Метод розподілу витрат обслуговуючих підрозділів, за якого витрати кожного обслуговуючого підрозділу розподіляються послідовно з урахуванням взаємних послуг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Rectangle 3"/>
          <p:cNvGrpSpPr/>
          <p:nvPr/>
        </p:nvGrpSpPr>
        <p:grpSpPr>
          <a:xfrm>
            <a:off x="255600" y="560520"/>
            <a:ext cx="8669160" cy="5827680"/>
            <a:chOff x="255600" y="560520"/>
            <a:chExt cx="8669160" cy="5827680"/>
          </a:xfrm>
        </p:grpSpPr>
        <p:pic>
          <p:nvPicPr>
            <p:cNvPr id="394" name="Rectangle 3" descr=""/>
            <p:cNvPicPr/>
            <p:nvPr/>
          </p:nvPicPr>
          <p:blipFill>
            <a:blip r:embed="rId1"/>
            <a:stretch/>
          </p:blipFill>
          <p:spPr>
            <a:xfrm>
              <a:off x="255600" y="560520"/>
              <a:ext cx="8669160" cy="582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500040" y="714240"/>
              <a:ext cx="8215200" cy="56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Розподіляємо взаємні послуги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Їдальні на витрати складу та ремонтного цеху (10%, 10%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клад: 200000 х 10% = 200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емонтний цех : 200000 х 10% = 200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Їдальня: -400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2. Складу на витрати ремонтного цеху та їдальні (20%, 10%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емонтний цех: 160000 х 20% = 320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Їдальня: 160000 х 10% = 160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клад: -480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"/>
          <p:cNvGraphicFramePr/>
          <p:nvPr/>
        </p:nvGraphicFramePr>
        <p:xfrm>
          <a:off x="0" y="1303200"/>
          <a:ext cx="9172440" cy="4480200"/>
        </p:xfrm>
        <a:graphic>
          <a:graphicData uri="http://schemas.openxmlformats.org/drawingml/2006/table">
            <a:tbl>
              <a:tblPr/>
              <a:tblGrid>
                <a:gridCol w="1643040"/>
                <a:gridCol w="1046160"/>
                <a:gridCol w="1255680"/>
                <a:gridCol w="920880"/>
                <a:gridCol w="1230120"/>
                <a:gridCol w="619200"/>
                <a:gridCol w="1214640"/>
                <a:gridCol w="1242720"/>
              </a:tblGrid>
              <a:tr h="61020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 споживач послуг  (лише виробничі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кла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Загальні витра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2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/8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6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/7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6571,4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44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26971,43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/8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/7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428,5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76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73028,57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0 +16000-40000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6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0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-48000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0000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2000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9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Прямоугольник 1" descr=""/>
          <p:cNvPicPr/>
          <p:nvPr/>
        </p:nvPicPr>
        <p:blipFill>
          <a:blip r:embed="rId1"/>
          <a:stretch/>
        </p:blipFill>
        <p:spPr>
          <a:xfrm>
            <a:off x="554040" y="646200"/>
            <a:ext cx="6535800" cy="890640"/>
          </a:xfrm>
          <a:prstGeom prst="rect">
            <a:avLst/>
          </a:prstGeom>
          <a:ln w="0">
            <a:noFill/>
          </a:ln>
        </p:spPr>
      </p:pic>
      <p:sp>
        <p:nvSpPr>
          <p:cNvPr id="305" name="Прямоугольник с двумя вырезанными противолежащими углами 20"/>
          <p:cNvSpPr/>
          <p:nvPr/>
        </p:nvSpPr>
        <p:spPr>
          <a:xfrm>
            <a:off x="1357200" y="1555920"/>
            <a:ext cx="7500960" cy="115236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агальні витрат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Штриховая стрелка вправо 21"/>
          <p:cNvSpPr/>
          <p:nvPr/>
        </p:nvSpPr>
        <p:spPr>
          <a:xfrm>
            <a:off x="357120" y="1852560"/>
            <a:ext cx="785880" cy="495360"/>
          </a:xfrm>
          <a:custGeom>
            <a:avLst/>
            <a:gdLst>
              <a:gd name="textAreaLeft" fmla="*/ 77400 w 785880"/>
              <a:gd name="textAreaRight" fmla="*/ 662040 w 785880"/>
              <a:gd name="textAreaTop" fmla="*/ 123840 h 495360"/>
              <a:gd name="textAreaBottom" fmla="*/ 371520 h 495360"/>
            </a:gdLst>
            <a:ahLst/>
            <a:rect l="textAreaLeft" t="textAreaTop" r="textAreaRight" b="textAreaBottom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с двумя вырезанными противолежащими углами 22"/>
          <p:cNvSpPr/>
          <p:nvPr/>
        </p:nvSpPr>
        <p:spPr>
          <a:xfrm>
            <a:off x="1357200" y="2917800"/>
            <a:ext cx="7500960" cy="13748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Спільні витрат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Штриховая стрелка вправо 23"/>
          <p:cNvSpPr/>
          <p:nvPr/>
        </p:nvSpPr>
        <p:spPr>
          <a:xfrm>
            <a:off x="357120" y="3365640"/>
            <a:ext cx="785880" cy="495000"/>
          </a:xfrm>
          <a:custGeom>
            <a:avLst/>
            <a:gdLst>
              <a:gd name="textAreaLeft" fmla="*/ 77400 w 785880"/>
              <a:gd name="textAreaRight" fmla="*/ 662040 w 785880"/>
              <a:gd name="textAreaTop" fmla="*/ 123840 h 495000"/>
              <a:gd name="textAreaBottom" fmla="*/ 371520 h 495000"/>
            </a:gdLst>
            <a:ahLst/>
            <a:rect l="textAreaLeft" t="textAreaTop" r="textAreaRight" b="textAreaBottom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с двумя вырезанными противолежащими углами 24"/>
          <p:cNvSpPr/>
          <p:nvPr/>
        </p:nvSpPr>
        <p:spPr>
          <a:xfrm>
            <a:off x="1357200" y="4422600"/>
            <a:ext cx="7500960" cy="13100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Накладні витрат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Штриховая стрелка вправо 25"/>
          <p:cNvSpPr/>
          <p:nvPr/>
        </p:nvSpPr>
        <p:spPr>
          <a:xfrm>
            <a:off x="357120" y="4797360"/>
            <a:ext cx="785880" cy="495360"/>
          </a:xfrm>
          <a:custGeom>
            <a:avLst/>
            <a:gdLst>
              <a:gd name="textAreaLeft" fmla="*/ 77400 w 785880"/>
              <a:gd name="textAreaRight" fmla="*/ 662040 w 785880"/>
              <a:gd name="textAreaTop" fmla="*/ 123840 h 495360"/>
              <a:gd name="textAreaBottom" fmla="*/ 371520 h 495360"/>
            </a:gdLst>
            <a:ahLst/>
            <a:rect l="textAreaLeft" t="textAreaTop" r="textAreaRight" b="textAreaBottom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AutoShape 2" descr=""/>
          <p:cNvPicPr/>
          <p:nvPr/>
        </p:nvPicPr>
        <p:blipFill>
          <a:blip r:embed="rId1"/>
          <a:stretch/>
        </p:blipFill>
        <p:spPr>
          <a:xfrm>
            <a:off x="55440" y="682560"/>
            <a:ext cx="4705560" cy="1841400"/>
          </a:xfrm>
          <a:prstGeom prst="rect">
            <a:avLst/>
          </a:prstGeom>
          <a:ln w="0">
            <a:noFill/>
          </a:ln>
        </p:spPr>
      </p:pic>
      <p:grpSp>
        <p:nvGrpSpPr>
          <p:cNvPr id="398" name="Rectangle 3"/>
          <p:cNvGrpSpPr/>
          <p:nvPr/>
        </p:nvGrpSpPr>
        <p:grpSpPr>
          <a:xfrm>
            <a:off x="1036800" y="2243160"/>
            <a:ext cx="8173800" cy="3451320"/>
            <a:chOff x="1036800" y="2243160"/>
            <a:chExt cx="8173800" cy="3451320"/>
          </a:xfrm>
        </p:grpSpPr>
        <p:pic>
          <p:nvPicPr>
            <p:cNvPr id="399" name="Rectangle 3" descr=""/>
            <p:cNvPicPr/>
            <p:nvPr/>
          </p:nvPicPr>
          <p:blipFill>
            <a:blip r:embed="rId2"/>
            <a:stretch/>
          </p:blipFill>
          <p:spPr>
            <a:xfrm>
              <a:off x="1036800" y="2243160"/>
              <a:ext cx="8173800" cy="34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357200" y="2428920"/>
              <a:ext cx="7572600" cy="32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Метод розподілу витрат обслуговуючих підрозділів, що передбачає розподіл взаємних послуг шляхом розв'язання системи рівнянь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Rectangle 3"/>
          <p:cNvGrpSpPr/>
          <p:nvPr/>
        </p:nvGrpSpPr>
        <p:grpSpPr>
          <a:xfrm>
            <a:off x="255600" y="133200"/>
            <a:ext cx="8669160" cy="6328080"/>
            <a:chOff x="255600" y="133200"/>
            <a:chExt cx="8669160" cy="6328080"/>
          </a:xfrm>
        </p:grpSpPr>
        <p:pic>
          <p:nvPicPr>
            <p:cNvPr id="402" name="Rectangle 3" descr=""/>
            <p:cNvPicPr/>
            <p:nvPr/>
          </p:nvPicPr>
          <p:blipFill>
            <a:blip r:embed="rId1"/>
            <a:stretch/>
          </p:blipFill>
          <p:spPr>
            <a:xfrm>
              <a:off x="255600" y="133200"/>
              <a:ext cx="8669160" cy="632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500040" y="285840"/>
              <a:ext cx="8215200" cy="61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трати ремонтного цеху = 240000 + 0,2 витрати складу + 0,1 витрати їдальні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трати складу = 160000 + 0,1 витрат їдальні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трати їдальні = 200000 + 0,1 витрат склад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Шляхом заміщення у другому рівнянні маємо: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трати складу = 160000 + 0,1 (200000 + 0,1 витрат складу) = 160000 + 20000 + 0,01 витрат склад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трати складу = 181818,18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трати їдальні = 200000 + 0,1х 181818,18 = 218181,81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трати ремонтного цеху = 298181,81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357120" y="214200"/>
          <a:ext cx="8690040" cy="5668920"/>
        </p:xfrm>
        <a:graphic>
          <a:graphicData uri="http://schemas.openxmlformats.org/drawingml/2006/table">
            <a:tbl>
              <a:tblPr/>
              <a:tblGrid>
                <a:gridCol w="1643040"/>
                <a:gridCol w="714600"/>
                <a:gridCol w="1143000"/>
                <a:gridCol w="785520"/>
                <a:gridCol w="1143000"/>
                <a:gridCol w="117720"/>
                <a:gridCol w="525240"/>
                <a:gridCol w="1165320"/>
                <a:gridCol w="1452600"/>
              </a:tblGrid>
              <a:tr h="61020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 споживач послуг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кла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емонтний цех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454,5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4545,4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8727,26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28727,2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9090,9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2727,2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9454,5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00-328727,26=271272,7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181,8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818,1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6363,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818,1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8181,8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1818,1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98181,8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Прямоугольник 1" descr=""/>
          <p:cNvPicPr/>
          <p:nvPr/>
        </p:nvPicPr>
        <p:blipFill>
          <a:blip r:embed="rId1"/>
          <a:stretch/>
        </p:blipFill>
        <p:spPr>
          <a:xfrm>
            <a:off x="450720" y="579600"/>
            <a:ext cx="7425000" cy="2577960"/>
          </a:xfrm>
          <a:prstGeom prst="rect">
            <a:avLst/>
          </a:prstGeom>
          <a:ln w="0">
            <a:noFill/>
          </a:ln>
        </p:spPr>
      </p:pic>
      <p:sp>
        <p:nvSpPr>
          <p:cNvPr id="406" name="Скругленный прямоугольник 11"/>
          <p:cNvSpPr/>
          <p:nvPr/>
        </p:nvSpPr>
        <p:spPr>
          <a:xfrm>
            <a:off x="1357200" y="3429000"/>
            <a:ext cx="6572520" cy="3071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Вибір бази розподілу залежить від характеру діяльності та технології виробництв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Години праці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Машино-годин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Оплата праці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рямі матеріальні витра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ількість виробленої продукції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AutoShape 2" descr=""/>
          <p:cNvPicPr/>
          <p:nvPr/>
        </p:nvPicPr>
        <p:blipFill>
          <a:blip r:embed="rId1"/>
          <a:stretch/>
        </p:blipFill>
        <p:spPr>
          <a:xfrm>
            <a:off x="-12600" y="109440"/>
            <a:ext cx="44193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408" name="Rectangle 3"/>
          <p:cNvGrpSpPr/>
          <p:nvPr/>
        </p:nvGrpSpPr>
        <p:grpSpPr>
          <a:xfrm>
            <a:off x="1579680" y="1255680"/>
            <a:ext cx="7588080" cy="2494080"/>
            <a:chOff x="1579680" y="1255680"/>
            <a:chExt cx="7588080" cy="2494080"/>
          </a:xfrm>
        </p:grpSpPr>
        <p:pic>
          <p:nvPicPr>
            <p:cNvPr id="409" name="Rectangle 3" descr=""/>
            <p:cNvPicPr/>
            <p:nvPr/>
          </p:nvPicPr>
          <p:blipFill>
            <a:blip r:embed="rId2"/>
            <a:stretch/>
          </p:blipFill>
          <p:spPr>
            <a:xfrm>
              <a:off x="1579680" y="1255680"/>
              <a:ext cx="7588080" cy="249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1857240" y="1428840"/>
              <a:ext cx="707256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родукти, що мають відносно високу вартість продажу та не можуть бути окремо ідентифіковані до точки розділення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1" name="AutoShape 2" descr=""/>
          <p:cNvPicPr/>
          <p:nvPr/>
        </p:nvPicPr>
        <p:blipFill>
          <a:blip r:embed="rId3"/>
          <a:stretch/>
        </p:blipFill>
        <p:spPr>
          <a:xfrm>
            <a:off x="-12600" y="3749760"/>
            <a:ext cx="4419360" cy="1846080"/>
          </a:xfrm>
          <a:prstGeom prst="rect">
            <a:avLst/>
          </a:prstGeom>
          <a:ln w="0">
            <a:noFill/>
          </a:ln>
        </p:spPr>
      </p:pic>
      <p:grpSp>
        <p:nvGrpSpPr>
          <p:cNvPr id="412" name="Rectangle 3"/>
          <p:cNvGrpSpPr/>
          <p:nvPr/>
        </p:nvGrpSpPr>
        <p:grpSpPr>
          <a:xfrm>
            <a:off x="1579680" y="4919760"/>
            <a:ext cx="7588080" cy="1968480"/>
            <a:chOff x="1579680" y="4919760"/>
            <a:chExt cx="7588080" cy="1968480"/>
          </a:xfrm>
        </p:grpSpPr>
        <p:pic>
          <p:nvPicPr>
            <p:cNvPr id="413" name="Rectangle 3" descr=""/>
            <p:cNvPicPr/>
            <p:nvPr/>
          </p:nvPicPr>
          <p:blipFill>
            <a:blip r:embed="rId4"/>
            <a:stretch/>
          </p:blipFill>
          <p:spPr>
            <a:xfrm>
              <a:off x="1579680" y="4919760"/>
              <a:ext cx="758808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1857240" y="5094360"/>
              <a:ext cx="7072560" cy="17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Точка технологічного процесу, в якій є можливість відокремити спільні продукти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AutoShape 2" descr=""/>
          <p:cNvPicPr/>
          <p:nvPr/>
        </p:nvPicPr>
        <p:blipFill>
          <a:blip r:embed="rId1"/>
          <a:stretch/>
        </p:blipFill>
        <p:spPr>
          <a:xfrm>
            <a:off x="55440" y="1468440"/>
            <a:ext cx="44244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416" name="Rectangle 3"/>
          <p:cNvGrpSpPr/>
          <p:nvPr/>
        </p:nvGrpSpPr>
        <p:grpSpPr>
          <a:xfrm>
            <a:off x="1609560" y="2603520"/>
            <a:ext cx="7667640" cy="3449520"/>
            <a:chOff x="1609560" y="2603520"/>
            <a:chExt cx="7667640" cy="3449520"/>
          </a:xfrm>
        </p:grpSpPr>
        <p:pic>
          <p:nvPicPr>
            <p:cNvPr id="417" name="Rectangle 3" descr=""/>
            <p:cNvPicPr/>
            <p:nvPr/>
          </p:nvPicPr>
          <p:blipFill>
            <a:blip r:embed="rId2"/>
            <a:stretch/>
          </p:blipFill>
          <p:spPr>
            <a:xfrm>
              <a:off x="1609560" y="2603520"/>
              <a:ext cx="7667640" cy="34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1928880" y="2786040"/>
              <a:ext cx="7072200" cy="32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Витрати одного процесу, в результаті якого одночасно виробляється кілька продуктів, т.то витрати до точки розділення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Скругленный прямоугольник 16"/>
          <p:cNvSpPr/>
          <p:nvPr/>
        </p:nvSpPr>
        <p:spPr>
          <a:xfrm>
            <a:off x="2050920" y="476280"/>
            <a:ext cx="5008680" cy="135720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ffff"/>
                </a:solidFill>
                <a:latin typeface="Arial"/>
              </a:rPr>
              <a:t>МОЛОКО ПАСТЕРИЗОВАНЕ </a:t>
            </a: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(основний продукт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Скругленный прямоугольник 8"/>
          <p:cNvSpPr/>
          <p:nvPr/>
        </p:nvSpPr>
        <p:spPr>
          <a:xfrm>
            <a:off x="2084400" y="2060640"/>
            <a:ext cx="5008680" cy="10810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МАСЛО СЕЛЯНСЬКЕ </a:t>
            </a: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(основний продукт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Скругленный прямоугольник 6"/>
          <p:cNvSpPr/>
          <p:nvPr/>
        </p:nvSpPr>
        <p:spPr>
          <a:xfrm>
            <a:off x="2155680" y="4653000"/>
            <a:ext cx="5008680" cy="10810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АХТ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(побічний продукт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Скругленный прямоугольник 7"/>
          <p:cNvSpPr/>
          <p:nvPr/>
        </p:nvSpPr>
        <p:spPr>
          <a:xfrm>
            <a:off x="2124000" y="3357720"/>
            <a:ext cx="5008680" cy="10792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АЗЕЇН ТЕХНІЧНИЙ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(побічний продукт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Прямоугольник 11" descr=""/>
          <p:cNvPicPr/>
          <p:nvPr/>
        </p:nvPicPr>
        <p:blipFill>
          <a:blip r:embed="rId1"/>
          <a:stretch/>
        </p:blipFill>
        <p:spPr>
          <a:xfrm>
            <a:off x="244440" y="743040"/>
            <a:ext cx="1103400" cy="4865760"/>
          </a:xfrm>
          <a:prstGeom prst="rect">
            <a:avLst/>
          </a:prstGeom>
          <a:ln w="0">
            <a:noFill/>
          </a:ln>
        </p:spPr>
      </p:pic>
      <p:sp>
        <p:nvSpPr>
          <p:cNvPr id="424" name="Прямоугольник 13"/>
          <p:cNvSpPr/>
          <p:nvPr/>
        </p:nvSpPr>
        <p:spPr>
          <a:xfrm>
            <a:off x="7740720" y="765000"/>
            <a:ext cx="1008000" cy="482472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Загальновиробничі  витрат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Стрелка вправо 14"/>
          <p:cNvSpPr/>
          <p:nvPr/>
        </p:nvSpPr>
        <p:spPr>
          <a:xfrm>
            <a:off x="1476360" y="981000"/>
            <a:ext cx="431640" cy="64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Стрелка вправо 15"/>
          <p:cNvSpPr/>
          <p:nvPr/>
        </p:nvSpPr>
        <p:spPr>
          <a:xfrm>
            <a:off x="1476360" y="2276640"/>
            <a:ext cx="431640" cy="64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Стрелка вправо 17"/>
          <p:cNvSpPr/>
          <p:nvPr/>
        </p:nvSpPr>
        <p:spPr>
          <a:xfrm>
            <a:off x="1547640" y="3573360"/>
            <a:ext cx="432000" cy="64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Стрелка вправо 18"/>
          <p:cNvSpPr/>
          <p:nvPr/>
        </p:nvSpPr>
        <p:spPr>
          <a:xfrm>
            <a:off x="1547640" y="4797360"/>
            <a:ext cx="432000" cy="64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Стрелка влево 23"/>
          <p:cNvSpPr/>
          <p:nvPr/>
        </p:nvSpPr>
        <p:spPr>
          <a:xfrm>
            <a:off x="7164360" y="1052640"/>
            <a:ext cx="432000" cy="5760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Стрелка влево 24"/>
          <p:cNvSpPr/>
          <p:nvPr/>
        </p:nvSpPr>
        <p:spPr>
          <a:xfrm>
            <a:off x="7164360" y="2349360"/>
            <a:ext cx="432000" cy="574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Стрелка влево 25"/>
          <p:cNvSpPr/>
          <p:nvPr/>
        </p:nvSpPr>
        <p:spPr>
          <a:xfrm>
            <a:off x="7236000" y="3573360"/>
            <a:ext cx="431640" cy="5763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Стрелка влево 26"/>
          <p:cNvSpPr/>
          <p:nvPr/>
        </p:nvSpPr>
        <p:spPr>
          <a:xfrm>
            <a:off x="7236000" y="4869000"/>
            <a:ext cx="431640" cy="5760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27"/>
          <p:cNvSpPr/>
          <p:nvPr/>
        </p:nvSpPr>
        <p:spPr>
          <a:xfrm>
            <a:off x="468360" y="5950080"/>
            <a:ext cx="8207280" cy="907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entury Gothic"/>
              </a:rPr>
              <a:t>Схема списання комплексних та загальновиробничих витра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5" name="Object 1"/>
          <p:cNvGraphicFramePr/>
          <p:nvPr/>
        </p:nvGraphicFramePr>
        <p:xfrm>
          <a:off x="216000" y="71280"/>
          <a:ext cx="8677080" cy="602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71280"/>
                    <a:ext cx="8677080" cy="602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Скругленный прямоугольник 3"/>
          <p:cNvSpPr/>
          <p:nvPr/>
        </p:nvSpPr>
        <p:spPr>
          <a:xfrm>
            <a:off x="395280" y="6165720"/>
            <a:ext cx="8497800" cy="79236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Century Gothic"/>
              </a:rPr>
              <a:t>Схема виникнення витрат на продукцію ВАТ “Маслозавод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9" name="Object 1"/>
          <p:cNvGraphicFramePr/>
          <p:nvPr/>
        </p:nvGraphicFramePr>
        <p:xfrm>
          <a:off x="0" y="504720"/>
          <a:ext cx="8820000" cy="501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4720"/>
                    <a:ext cx="8820000" cy="50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Скругленный прямоугольник 3"/>
          <p:cNvSpPr/>
          <p:nvPr/>
        </p:nvSpPr>
        <p:spPr>
          <a:xfrm>
            <a:off x="395280" y="6165720"/>
            <a:ext cx="8497800" cy="79236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Century Gothic"/>
              </a:rPr>
              <a:t>Схема віднесення витрат на продукти ВАТ “Маслозавод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Прямоугольник 1" descr=""/>
          <p:cNvPicPr/>
          <p:nvPr/>
        </p:nvPicPr>
        <p:blipFill>
          <a:blip r:embed="rId1"/>
          <a:stretch/>
        </p:blipFill>
        <p:spPr>
          <a:xfrm>
            <a:off x="738360" y="438120"/>
            <a:ext cx="7905600" cy="1079640"/>
          </a:xfrm>
          <a:prstGeom prst="rect">
            <a:avLst/>
          </a:prstGeom>
          <a:ln w="0">
            <a:noFill/>
          </a:ln>
        </p:spPr>
      </p:pic>
      <p:sp>
        <p:nvSpPr>
          <p:cNvPr id="443" name="Скругленный прямоугольник 16"/>
          <p:cNvSpPr/>
          <p:nvPr/>
        </p:nvSpPr>
        <p:spPr>
          <a:xfrm>
            <a:off x="3492360" y="2214720"/>
            <a:ext cx="5008680" cy="3375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ивчення технології виробництва та побудова схеми виробничого процесу виникнення витрат на продукцію підприємств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Стрелка вправо с вырезом 10"/>
          <p:cNvSpPr/>
          <p:nvPr/>
        </p:nvSpPr>
        <p:spPr>
          <a:xfrm>
            <a:off x="571680" y="3068640"/>
            <a:ext cx="2857320" cy="1857240"/>
          </a:xfrm>
          <a:custGeom>
            <a:avLst/>
            <a:gdLst>
              <a:gd name="textAreaLeft" fmla="*/ 464040 w 2857320"/>
              <a:gd name="textAreaRight" fmla="*/ 2393280 w 285732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80" y="5400"/>
                </a:lnTo>
                <a:lnTo>
                  <a:pt x="14580" y="0"/>
                </a:lnTo>
                <a:lnTo>
                  <a:pt x="21600" y="10800"/>
                </a:lnTo>
                <a:lnTo>
                  <a:pt x="14580" y="21600"/>
                </a:lnTo>
                <a:lnTo>
                  <a:pt x="14580" y="16200"/>
                </a:lnTo>
                <a:lnTo>
                  <a:pt x="0" y="16200"/>
                </a:lnTo>
                <a:lnTo>
                  <a:pt x="35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1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AutoShape 2" descr=""/>
          <p:cNvPicPr/>
          <p:nvPr/>
        </p:nvPicPr>
        <p:blipFill>
          <a:blip r:embed="rId1"/>
          <a:stretch/>
        </p:blipFill>
        <p:spPr>
          <a:xfrm>
            <a:off x="55440" y="1468440"/>
            <a:ext cx="4424400" cy="1635120"/>
          </a:xfrm>
          <a:prstGeom prst="rect">
            <a:avLst/>
          </a:prstGeom>
          <a:ln w="0">
            <a:noFill/>
          </a:ln>
        </p:spPr>
      </p:pic>
      <p:grpSp>
        <p:nvGrpSpPr>
          <p:cNvPr id="312" name="Rectangle 3"/>
          <p:cNvGrpSpPr/>
          <p:nvPr/>
        </p:nvGrpSpPr>
        <p:grpSpPr>
          <a:xfrm>
            <a:off x="1395360" y="2457360"/>
            <a:ext cx="7888320" cy="2943360"/>
            <a:chOff x="1395360" y="2457360"/>
            <a:chExt cx="7888320" cy="2943360"/>
          </a:xfrm>
        </p:grpSpPr>
        <p:pic>
          <p:nvPicPr>
            <p:cNvPr id="313" name="Rectangle 3" descr=""/>
            <p:cNvPicPr/>
            <p:nvPr/>
          </p:nvPicPr>
          <p:blipFill>
            <a:blip r:embed="rId2"/>
            <a:stretch/>
          </p:blipFill>
          <p:spPr>
            <a:xfrm>
              <a:off x="1395360" y="2457360"/>
              <a:ext cx="7888320" cy="29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714680" y="2643120"/>
              <a:ext cx="7286400" cy="27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витрати на здійснення діяльності, що споживається кількома виробничими або обслуговуючими підрозділами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Прямоугольник 1" descr=""/>
          <p:cNvPicPr/>
          <p:nvPr/>
        </p:nvPicPr>
        <p:blipFill>
          <a:blip r:embed="rId1"/>
          <a:stretch/>
        </p:blipFill>
        <p:spPr>
          <a:xfrm>
            <a:off x="738360" y="438120"/>
            <a:ext cx="7905600" cy="1079640"/>
          </a:xfrm>
          <a:prstGeom prst="rect">
            <a:avLst/>
          </a:prstGeom>
          <a:ln w="0">
            <a:noFill/>
          </a:ln>
        </p:spPr>
      </p:pic>
      <p:sp>
        <p:nvSpPr>
          <p:cNvPr id="446" name="Скругленный прямоугольник 16"/>
          <p:cNvSpPr/>
          <p:nvPr/>
        </p:nvSpPr>
        <p:spPr>
          <a:xfrm>
            <a:off x="3492360" y="2214720"/>
            <a:ext cx="5008680" cy="13572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изначення точок розділенн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Стрелка вправо с вырезом 10"/>
          <p:cNvSpPr/>
          <p:nvPr/>
        </p:nvSpPr>
        <p:spPr>
          <a:xfrm>
            <a:off x="571680" y="1928880"/>
            <a:ext cx="2857320" cy="1857240"/>
          </a:xfrm>
          <a:custGeom>
            <a:avLst/>
            <a:gdLst>
              <a:gd name="textAreaLeft" fmla="*/ 464040 w 2857320"/>
              <a:gd name="textAreaRight" fmla="*/ 2393280 w 285732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80" y="5400"/>
                </a:lnTo>
                <a:lnTo>
                  <a:pt x="14580" y="0"/>
                </a:lnTo>
                <a:lnTo>
                  <a:pt x="21600" y="10800"/>
                </a:lnTo>
                <a:lnTo>
                  <a:pt x="14580" y="21600"/>
                </a:lnTo>
                <a:lnTo>
                  <a:pt x="14580" y="16200"/>
                </a:lnTo>
                <a:lnTo>
                  <a:pt x="0" y="16200"/>
                </a:lnTo>
                <a:lnTo>
                  <a:pt x="35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2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Скругленный прямоугольник 8"/>
          <p:cNvSpPr/>
          <p:nvPr/>
        </p:nvSpPr>
        <p:spPr>
          <a:xfrm>
            <a:off x="3492360" y="3860640"/>
            <a:ext cx="5008680" cy="2305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изначення величини спільних витра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Стрелка вправо с вырезом 9"/>
          <p:cNvSpPr/>
          <p:nvPr/>
        </p:nvSpPr>
        <p:spPr>
          <a:xfrm>
            <a:off x="571680" y="3857760"/>
            <a:ext cx="2857320" cy="1857240"/>
          </a:xfrm>
          <a:custGeom>
            <a:avLst/>
            <a:gdLst>
              <a:gd name="textAreaLeft" fmla="*/ 464040 w 2857320"/>
              <a:gd name="textAreaRight" fmla="*/ 2393280 w 285732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80" y="5400"/>
                </a:lnTo>
                <a:lnTo>
                  <a:pt x="14580" y="0"/>
                </a:lnTo>
                <a:lnTo>
                  <a:pt x="21600" y="10800"/>
                </a:lnTo>
                <a:lnTo>
                  <a:pt x="14580" y="21600"/>
                </a:lnTo>
                <a:lnTo>
                  <a:pt x="14580" y="16200"/>
                </a:lnTo>
                <a:lnTo>
                  <a:pt x="0" y="16200"/>
                </a:lnTo>
                <a:lnTo>
                  <a:pt x="35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3 етап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Прямоугольник 1" descr=""/>
          <p:cNvPicPr/>
          <p:nvPr/>
        </p:nvPicPr>
        <p:blipFill>
          <a:blip r:embed="rId1"/>
          <a:stretch/>
        </p:blipFill>
        <p:spPr>
          <a:xfrm>
            <a:off x="738360" y="152280"/>
            <a:ext cx="7905600" cy="1079640"/>
          </a:xfrm>
          <a:prstGeom prst="rect">
            <a:avLst/>
          </a:prstGeom>
          <a:ln w="0">
            <a:noFill/>
          </a:ln>
        </p:spPr>
      </p:pic>
      <p:sp>
        <p:nvSpPr>
          <p:cNvPr id="451" name="Скругленный прямоугольник 16"/>
          <p:cNvSpPr/>
          <p:nvPr/>
        </p:nvSpPr>
        <p:spPr>
          <a:xfrm>
            <a:off x="3492360" y="1482840"/>
            <a:ext cx="5040360" cy="13572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ибір методу розподілу спільних (комплексних) витра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Стрелка вправо с вырезом 10"/>
          <p:cNvSpPr/>
          <p:nvPr/>
        </p:nvSpPr>
        <p:spPr>
          <a:xfrm>
            <a:off x="571680" y="1197000"/>
            <a:ext cx="2857320" cy="1857240"/>
          </a:xfrm>
          <a:custGeom>
            <a:avLst/>
            <a:gdLst>
              <a:gd name="textAreaLeft" fmla="*/ 464040 w 2857320"/>
              <a:gd name="textAreaRight" fmla="*/ 2393280 w 285732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80" y="5400"/>
                </a:lnTo>
                <a:lnTo>
                  <a:pt x="14580" y="0"/>
                </a:lnTo>
                <a:lnTo>
                  <a:pt x="21600" y="10800"/>
                </a:lnTo>
                <a:lnTo>
                  <a:pt x="14580" y="21600"/>
                </a:lnTo>
                <a:lnTo>
                  <a:pt x="14580" y="16200"/>
                </a:lnTo>
                <a:lnTo>
                  <a:pt x="0" y="16200"/>
                </a:lnTo>
                <a:lnTo>
                  <a:pt x="35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4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Скругленный прямоугольник 8"/>
          <p:cNvSpPr/>
          <p:nvPr/>
        </p:nvSpPr>
        <p:spPr>
          <a:xfrm>
            <a:off x="3492360" y="2924280"/>
            <a:ext cx="5008680" cy="2305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изначення витрат на виробництво кожного спільного продукту після точки розділенн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Стрелка вправо с вырезом 9"/>
          <p:cNvSpPr/>
          <p:nvPr/>
        </p:nvSpPr>
        <p:spPr>
          <a:xfrm>
            <a:off x="571680" y="3213000"/>
            <a:ext cx="2857320" cy="1656000"/>
          </a:xfrm>
          <a:custGeom>
            <a:avLst/>
            <a:gdLst>
              <a:gd name="textAreaLeft" fmla="*/ 413640 w 2857320"/>
              <a:gd name="textAreaRight" fmla="*/ 2443680 w 2857320"/>
              <a:gd name="textAreaTop" fmla="*/ 414000 h 1656000"/>
              <a:gd name="textAreaBottom" fmla="*/ 124200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342" y="5400"/>
                </a:lnTo>
                <a:lnTo>
                  <a:pt x="15342" y="0"/>
                </a:lnTo>
                <a:lnTo>
                  <a:pt x="21600" y="10800"/>
                </a:lnTo>
                <a:lnTo>
                  <a:pt x="15342" y="21600"/>
                </a:lnTo>
                <a:lnTo>
                  <a:pt x="15342" y="16200"/>
                </a:lnTo>
                <a:lnTo>
                  <a:pt x="0" y="16200"/>
                </a:lnTo>
                <a:lnTo>
                  <a:pt x="312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5 етап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Скругленный прямоугольник 6"/>
          <p:cNvSpPr/>
          <p:nvPr/>
        </p:nvSpPr>
        <p:spPr>
          <a:xfrm>
            <a:off x="3524400" y="5370480"/>
            <a:ext cx="5008320" cy="13572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поділ загальновиробничих витра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Стрелка вправо с вырезом 7"/>
          <p:cNvSpPr/>
          <p:nvPr/>
        </p:nvSpPr>
        <p:spPr>
          <a:xfrm>
            <a:off x="603360" y="4941720"/>
            <a:ext cx="2857320" cy="1857600"/>
          </a:xfrm>
          <a:custGeom>
            <a:avLst/>
            <a:gdLst>
              <a:gd name="textAreaLeft" fmla="*/ 464040 w 2857320"/>
              <a:gd name="textAreaRight" fmla="*/ 2393280 w 2857320"/>
              <a:gd name="textAreaTop" fmla="*/ 464400 h 1857600"/>
              <a:gd name="textAreaBottom" fmla="*/ 1393200 h 1857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80" y="5400"/>
                </a:lnTo>
                <a:lnTo>
                  <a:pt x="14580" y="0"/>
                </a:lnTo>
                <a:lnTo>
                  <a:pt x="21600" y="10800"/>
                </a:lnTo>
                <a:lnTo>
                  <a:pt x="14580" y="21600"/>
                </a:lnTo>
                <a:lnTo>
                  <a:pt x="14580" y="16200"/>
                </a:lnTo>
                <a:lnTo>
                  <a:pt x="0" y="16200"/>
                </a:lnTo>
                <a:lnTo>
                  <a:pt x="35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6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Прямоугольник 1" descr=""/>
          <p:cNvPicPr/>
          <p:nvPr/>
        </p:nvPicPr>
        <p:blipFill>
          <a:blip r:embed="rId1"/>
          <a:stretch/>
        </p:blipFill>
        <p:spPr>
          <a:xfrm>
            <a:off x="841320" y="792000"/>
            <a:ext cx="7607520" cy="725760"/>
          </a:xfrm>
          <a:prstGeom prst="rect">
            <a:avLst/>
          </a:prstGeom>
          <a:ln w="0">
            <a:noFill/>
          </a:ln>
        </p:spPr>
      </p:pic>
      <p:sp>
        <p:nvSpPr>
          <p:cNvPr id="458" name="Скругленный прямоугольник 16"/>
          <p:cNvSpPr/>
          <p:nvPr/>
        </p:nvSpPr>
        <p:spPr>
          <a:xfrm>
            <a:off x="3492360" y="2214720"/>
            <a:ext cx="5008680" cy="135720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Метод натуральних одиниць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Стрелка вправо с вырезом 10"/>
          <p:cNvSpPr/>
          <p:nvPr/>
        </p:nvSpPr>
        <p:spPr>
          <a:xfrm>
            <a:off x="571680" y="1928880"/>
            <a:ext cx="2857320" cy="1857240"/>
          </a:xfrm>
          <a:custGeom>
            <a:avLst/>
            <a:gdLst>
              <a:gd name="textAreaLeft" fmla="*/ 464040 w 2857320"/>
              <a:gd name="textAreaRight" fmla="*/ 2393280 w 285732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80" y="5400"/>
                </a:lnTo>
                <a:lnTo>
                  <a:pt x="14580" y="0"/>
                </a:lnTo>
                <a:lnTo>
                  <a:pt x="21600" y="10800"/>
                </a:lnTo>
                <a:lnTo>
                  <a:pt x="14580" y="21600"/>
                </a:lnTo>
                <a:lnTo>
                  <a:pt x="14580" y="16200"/>
                </a:lnTo>
                <a:lnTo>
                  <a:pt x="0" y="16200"/>
                </a:lnTo>
                <a:lnTo>
                  <a:pt x="35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На основі фізичного обсяг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Скругленный прямоугольник 8"/>
          <p:cNvSpPr/>
          <p:nvPr/>
        </p:nvSpPr>
        <p:spPr>
          <a:xfrm>
            <a:off x="3492360" y="3860640"/>
            <a:ext cx="5008680" cy="23050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Метод вартості продаж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Метод чистої вартості реалізації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Метод валового прибутк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Стрелка вправо с вырезом 9"/>
          <p:cNvSpPr/>
          <p:nvPr/>
        </p:nvSpPr>
        <p:spPr>
          <a:xfrm>
            <a:off x="571680" y="3857760"/>
            <a:ext cx="2857320" cy="1857240"/>
          </a:xfrm>
          <a:custGeom>
            <a:avLst/>
            <a:gdLst>
              <a:gd name="textAreaLeft" fmla="*/ 464040 w 2857320"/>
              <a:gd name="textAreaRight" fmla="*/ 2393280 w 285732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80" y="5400"/>
                </a:lnTo>
                <a:lnTo>
                  <a:pt x="14580" y="0"/>
                </a:lnTo>
                <a:lnTo>
                  <a:pt x="21600" y="10800"/>
                </a:lnTo>
                <a:lnTo>
                  <a:pt x="14580" y="21600"/>
                </a:lnTo>
                <a:lnTo>
                  <a:pt x="14580" y="16200"/>
                </a:lnTo>
                <a:lnTo>
                  <a:pt x="0" y="16200"/>
                </a:lnTo>
                <a:lnTo>
                  <a:pt x="35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На основі ціни продаж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AutoShape 2" descr=""/>
          <p:cNvPicPr/>
          <p:nvPr/>
        </p:nvPicPr>
        <p:blipFill>
          <a:blip r:embed="rId1"/>
          <a:stretch/>
        </p:blipFill>
        <p:spPr>
          <a:xfrm>
            <a:off x="55440" y="682560"/>
            <a:ext cx="4705560" cy="1841400"/>
          </a:xfrm>
          <a:prstGeom prst="rect">
            <a:avLst/>
          </a:prstGeom>
          <a:ln w="0">
            <a:noFill/>
          </a:ln>
        </p:spPr>
      </p:pic>
      <p:grpSp>
        <p:nvGrpSpPr>
          <p:cNvPr id="463" name="Rectangle 3"/>
          <p:cNvGrpSpPr/>
          <p:nvPr/>
        </p:nvGrpSpPr>
        <p:grpSpPr>
          <a:xfrm>
            <a:off x="1036800" y="2243160"/>
            <a:ext cx="8173800" cy="3451320"/>
            <a:chOff x="1036800" y="2243160"/>
            <a:chExt cx="8173800" cy="3451320"/>
          </a:xfrm>
        </p:grpSpPr>
        <p:pic>
          <p:nvPicPr>
            <p:cNvPr id="464" name="Rectangle 3" descr=""/>
            <p:cNvPicPr/>
            <p:nvPr/>
          </p:nvPicPr>
          <p:blipFill>
            <a:blip r:embed="rId2"/>
            <a:stretch/>
          </p:blipFill>
          <p:spPr>
            <a:xfrm>
              <a:off x="1036800" y="2243160"/>
              <a:ext cx="8173800" cy="34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1357200" y="2428920"/>
              <a:ext cx="7572600" cy="32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Метод розподілу спільних витрат пропорційно фізичному обсягу спільних продуктів у точці розділення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AutoShape 2" descr=""/>
          <p:cNvPicPr/>
          <p:nvPr/>
        </p:nvPicPr>
        <p:blipFill>
          <a:blip r:embed="rId1"/>
          <a:stretch/>
        </p:blipFill>
        <p:spPr>
          <a:xfrm>
            <a:off x="-12600" y="139680"/>
            <a:ext cx="4419360" cy="1006560"/>
          </a:xfrm>
          <a:prstGeom prst="rect">
            <a:avLst/>
          </a:prstGeom>
          <a:ln w="0">
            <a:noFill/>
          </a:ln>
        </p:spPr>
      </p:pic>
      <p:grpSp>
        <p:nvGrpSpPr>
          <p:cNvPr id="467" name="Rectangle 3"/>
          <p:cNvGrpSpPr/>
          <p:nvPr/>
        </p:nvGrpSpPr>
        <p:grpSpPr>
          <a:xfrm>
            <a:off x="195120" y="933480"/>
            <a:ext cx="8826480" cy="5192640"/>
            <a:chOff x="195120" y="933480"/>
            <a:chExt cx="8826480" cy="5192640"/>
          </a:xfrm>
        </p:grpSpPr>
        <p:pic>
          <p:nvPicPr>
            <p:cNvPr id="468" name="Rectangle 3" descr=""/>
            <p:cNvPicPr/>
            <p:nvPr/>
          </p:nvPicPr>
          <p:blipFill>
            <a:blip r:embed="rId2"/>
            <a:stretch/>
          </p:blipFill>
          <p:spPr>
            <a:xfrm>
              <a:off x="195120" y="933480"/>
              <a:ext cx="8826480" cy="51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395280" y="1052640"/>
              <a:ext cx="846288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АТ “Житомирські ласощі” </a:t>
              </a:r>
              <a:r>
                <a:rPr b="0" lang="uk-UA" sz="2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иготовляє шоколадні вироби. Підприємство зерна какао переробляє на два проміжні продукти: рідку основу шоколадної пудри та рідку основу молочного шоколаду (одна точка розділення).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З 250 кг зерен какао виготовляють 80 л рідкої основи шоколадної пудри та 120 л. рідкої основи молочного шоколаду.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ідку основу шоколадної пудри далі переробляють на шоколадну пудру. З кожних 80 літрів основи шоколадної пудри виробляють 100 кг шоколадної пудри. Рідку основу молочного шоколаду переробляють на молочний шоколад. З кожних 120 л рідкої основи виробляють 170 кг молочного шоколаду.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AutoShape 2" descr=""/>
          <p:cNvPicPr/>
          <p:nvPr/>
        </p:nvPicPr>
        <p:blipFill>
          <a:blip r:embed="rId1"/>
          <a:stretch/>
        </p:blipFill>
        <p:spPr>
          <a:xfrm>
            <a:off x="-12600" y="139680"/>
            <a:ext cx="4419360" cy="1006560"/>
          </a:xfrm>
          <a:prstGeom prst="rect">
            <a:avLst/>
          </a:prstGeom>
          <a:ln w="0">
            <a:noFill/>
          </a:ln>
        </p:spPr>
      </p:pic>
      <p:grpSp>
        <p:nvGrpSpPr>
          <p:cNvPr id="471" name="Rectangle 3"/>
          <p:cNvGrpSpPr/>
          <p:nvPr/>
        </p:nvGrpSpPr>
        <p:grpSpPr>
          <a:xfrm>
            <a:off x="195120" y="785880"/>
            <a:ext cx="8826480" cy="3657600"/>
            <a:chOff x="195120" y="785880"/>
            <a:chExt cx="8826480" cy="3657600"/>
          </a:xfrm>
        </p:grpSpPr>
        <p:pic>
          <p:nvPicPr>
            <p:cNvPr id="472" name="Rectangle 3" descr=""/>
            <p:cNvPicPr/>
            <p:nvPr/>
          </p:nvPicPr>
          <p:blipFill>
            <a:blip r:embed="rId2"/>
            <a:stretch/>
          </p:blipFill>
          <p:spPr>
            <a:xfrm>
              <a:off x="195120" y="785880"/>
              <a:ext cx="882648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395280" y="907920"/>
              <a:ext cx="8462880" cy="34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а виробництво продукції було витрачено 2500 кг зерен какао. Спільні витрати на виробництво становили 50000 грн.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альші витрати на переробку рідкої основи шоколадної пудри становили 11250 грн., а на переробку рідкої основи молочного шоколаду – 23750 грн.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Для проміжного продукту (рідкої основи) є активний ринок, на якому ціна рідкої основи шоколадної пудри дорівнює 21 грн. за л., а ціна рідкої основи молочного шоколаду – 26 грн. за л. Дані  по виробництву та реалізації за грудень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74" name=""/>
          <p:cNvGraphicFramePr/>
          <p:nvPr/>
        </p:nvGraphicFramePr>
        <p:xfrm>
          <a:off x="468360" y="4619520"/>
          <a:ext cx="8280360" cy="1905120"/>
        </p:xfrm>
        <a:graphic>
          <a:graphicData uri="http://schemas.openxmlformats.org/drawingml/2006/table">
            <a:tbl>
              <a:tblPr/>
              <a:tblGrid>
                <a:gridCol w="2735280"/>
                <a:gridCol w="1403280"/>
                <a:gridCol w="1765440"/>
                <a:gridCol w="2376360"/>
              </a:tblGrid>
              <a:tr h="76212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-во, кг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сяг реалізації, кг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іна продажу за одиницю, грн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околадна пудр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лочний шокола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"/>
          <p:cNvGraphicFramePr/>
          <p:nvPr/>
        </p:nvGraphicFramePr>
        <p:xfrm>
          <a:off x="468360" y="1700280"/>
          <a:ext cx="8280360" cy="4572000"/>
        </p:xfrm>
        <a:graphic>
          <a:graphicData uri="http://schemas.openxmlformats.org/drawingml/2006/table">
            <a:tbl>
              <a:tblPr/>
              <a:tblGrid>
                <a:gridCol w="2068560"/>
                <a:gridCol w="2070000"/>
                <a:gridCol w="2070000"/>
                <a:gridCol w="2071800"/>
              </a:tblGrid>
              <a:tr h="19047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міжні продукти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сяг виробництва в точці розділення, л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итома вага спільних продуктів у точці розділення, %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ільні витрат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ідка основа шоколадної пудр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500/250)х80=8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/2000х100 = 40%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0х40%=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2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ідка основа молочного шоколаду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uk-UA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00/250)х120=12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/2000х100=60%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6" name="Прямоугольник 2"/>
          <p:cNvSpPr/>
          <p:nvPr/>
        </p:nvSpPr>
        <p:spPr>
          <a:xfrm>
            <a:off x="900000" y="476280"/>
            <a:ext cx="7417080" cy="720720"/>
          </a:xfrm>
          <a:prstGeom prst="rec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entury Gothic"/>
              </a:rPr>
              <a:t>МЕТОД НАТУРАЛЬНИХ ОДИНИЦЬ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AutoShape 2" descr=""/>
          <p:cNvPicPr/>
          <p:nvPr/>
        </p:nvPicPr>
        <p:blipFill>
          <a:blip r:embed="rId1"/>
          <a:stretch/>
        </p:blipFill>
        <p:spPr>
          <a:xfrm>
            <a:off x="55440" y="682560"/>
            <a:ext cx="47055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478" name="Rectangle 3"/>
          <p:cNvGrpSpPr/>
          <p:nvPr/>
        </p:nvGrpSpPr>
        <p:grpSpPr>
          <a:xfrm>
            <a:off x="1036800" y="2243160"/>
            <a:ext cx="8173800" cy="3451320"/>
            <a:chOff x="1036800" y="2243160"/>
            <a:chExt cx="8173800" cy="3451320"/>
          </a:xfrm>
        </p:grpSpPr>
        <p:pic>
          <p:nvPicPr>
            <p:cNvPr id="479" name="Rectangle 3" descr=""/>
            <p:cNvPicPr/>
            <p:nvPr/>
          </p:nvPicPr>
          <p:blipFill>
            <a:blip r:embed="rId2"/>
            <a:stretch/>
          </p:blipFill>
          <p:spPr>
            <a:xfrm>
              <a:off x="1036800" y="2243160"/>
              <a:ext cx="8173800" cy="34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1357200" y="2428920"/>
              <a:ext cx="7572600" cy="32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Century Gothic"/>
                </a:rPr>
                <a:t>метод розподілу спільних витрат пропорційно доходу від продажу кожного спільного продукту у точці розділення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395280" y="1413000"/>
          <a:ext cx="8280360" cy="4952880"/>
        </p:xfrm>
        <a:graphic>
          <a:graphicData uri="http://schemas.openxmlformats.org/drawingml/2006/table">
            <a:tbl>
              <a:tblPr/>
              <a:tblGrid>
                <a:gridCol w="2070000"/>
                <a:gridCol w="2070360"/>
                <a:gridCol w="2070000"/>
                <a:gridCol w="2070000"/>
              </a:tblGrid>
              <a:tr h="22860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міжні продукти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ід від реалізації спільних продуктів у точці розділення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итома вага доходу від реалізації кожного продукту, %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ільні витрат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ідка основа шоколадної пудр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х21= 168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6800/48000)х100= 3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0х0,35=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17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ідка основа молочного шоколаду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х26= 312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1200/48000)х100=6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8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" name="Прямоугольник 2"/>
          <p:cNvSpPr/>
          <p:nvPr/>
        </p:nvSpPr>
        <p:spPr>
          <a:xfrm>
            <a:off x="900000" y="476280"/>
            <a:ext cx="7417080" cy="720720"/>
          </a:xfrm>
          <a:prstGeom prst="rec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entury Gothic"/>
              </a:rPr>
              <a:t>МЕТОД ВАРТОСТІ ПРОДАЖУ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AutoShape 2" descr=""/>
          <p:cNvPicPr/>
          <p:nvPr/>
        </p:nvPicPr>
        <p:blipFill>
          <a:blip r:embed="rId1"/>
          <a:stretch/>
        </p:blipFill>
        <p:spPr>
          <a:xfrm>
            <a:off x="55440" y="590400"/>
            <a:ext cx="4705560" cy="1933560"/>
          </a:xfrm>
          <a:prstGeom prst="rect">
            <a:avLst/>
          </a:prstGeom>
          <a:ln w="0">
            <a:noFill/>
          </a:ln>
        </p:spPr>
      </p:pic>
      <p:grpSp>
        <p:nvGrpSpPr>
          <p:cNvPr id="484" name="Rectangle 3"/>
          <p:cNvGrpSpPr/>
          <p:nvPr/>
        </p:nvGrpSpPr>
        <p:grpSpPr>
          <a:xfrm>
            <a:off x="1109520" y="2273400"/>
            <a:ext cx="8028000" cy="3919320"/>
            <a:chOff x="1109520" y="2273400"/>
            <a:chExt cx="8028000" cy="3919320"/>
          </a:xfrm>
        </p:grpSpPr>
        <p:pic>
          <p:nvPicPr>
            <p:cNvPr id="485" name="Rectangle 3" descr=""/>
            <p:cNvPicPr/>
            <p:nvPr/>
          </p:nvPicPr>
          <p:blipFill>
            <a:blip r:embed="rId2"/>
            <a:stretch/>
          </p:blipFill>
          <p:spPr>
            <a:xfrm>
              <a:off x="1109520" y="2273400"/>
              <a:ext cx="8028000" cy="39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1357200" y="2428920"/>
              <a:ext cx="7572600" cy="37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Century Gothic"/>
                </a:rPr>
                <a:t>метод розподілу спільних витрат пропорційно чистій вартості реалізації спільних продуктів у точці розділення. Для обчислення очікуваної чистої вартості реалізації з вартості продажу готової продукції слід відняти відокремлені витрати й очікувані витрати на збут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285840" y="285840"/>
          <a:ext cx="8643960" cy="6370560"/>
        </p:xfrm>
        <a:graphic>
          <a:graphicData uri="http://schemas.openxmlformats.org/drawingml/2006/table">
            <a:tbl>
              <a:tblPr/>
              <a:tblGrid>
                <a:gridCol w="2832120"/>
                <a:gridCol w="2830320"/>
                <a:gridCol w="298152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знак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клад загальних витрат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ожлива база розподілу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користання засобів прац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мортизація устаткування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рахування устаткування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тримання устаткування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ількість необоротних активів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ількість  машино-годин роботи обладнання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37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користання спільної площ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ренда будинку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рахування будівл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алення та освітлення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оща, яку займає підрозділ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"/>
          <p:cNvGraphicFramePr/>
          <p:nvPr/>
        </p:nvGraphicFramePr>
        <p:xfrm>
          <a:off x="539640" y="1454040"/>
          <a:ext cx="8136000" cy="5112000"/>
        </p:xfrm>
        <a:graphic>
          <a:graphicData uri="http://schemas.openxmlformats.org/drawingml/2006/table">
            <a:tbl>
              <a:tblPr/>
              <a:tblGrid>
                <a:gridCol w="1440000"/>
                <a:gridCol w="1469880"/>
                <a:gridCol w="978120"/>
                <a:gridCol w="1152360"/>
                <a:gridCol w="1440000"/>
                <a:gridCol w="1655640"/>
              </a:tblGrid>
              <a:tr h="17589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міжні продукти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чікуваний дохід від продажу кінцевих продуктів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ідокремлені витра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ВР у точці розділен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итома вага ЧВР спільного продукту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ільні витрат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= 2-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ідка основа шок. пудр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х30= 3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250 (з умови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00-11250= 187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8750/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000) х 100 = 29.7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0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976= 1488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ідка основа мол. шоколаду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00 х 40 = 68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7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000-23750= 442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44250/ 63000) х 100 = 70,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1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8" name="Прямоугольник 2"/>
          <p:cNvSpPr/>
          <p:nvPr/>
        </p:nvSpPr>
        <p:spPr>
          <a:xfrm>
            <a:off x="900000" y="476280"/>
            <a:ext cx="7417080" cy="720720"/>
          </a:xfrm>
          <a:prstGeom prst="rec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entury Gothic"/>
              </a:rPr>
              <a:t>МЕТОД ЧИСТОЇ ВАРТОСТІ РЕАЛІЗА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AutoShape 2" descr=""/>
          <p:cNvPicPr/>
          <p:nvPr/>
        </p:nvPicPr>
        <p:blipFill>
          <a:blip r:embed="rId1"/>
          <a:stretch/>
        </p:blipFill>
        <p:spPr>
          <a:xfrm>
            <a:off x="55440" y="590400"/>
            <a:ext cx="4705560" cy="1933560"/>
          </a:xfrm>
          <a:prstGeom prst="rect">
            <a:avLst/>
          </a:prstGeom>
          <a:ln w="0">
            <a:noFill/>
          </a:ln>
        </p:spPr>
      </p:pic>
      <p:grpSp>
        <p:nvGrpSpPr>
          <p:cNvPr id="490" name="Rectangle 3"/>
          <p:cNvGrpSpPr/>
          <p:nvPr/>
        </p:nvGrpSpPr>
        <p:grpSpPr>
          <a:xfrm>
            <a:off x="1096920" y="2273400"/>
            <a:ext cx="8053560" cy="2841480"/>
            <a:chOff x="1096920" y="2273400"/>
            <a:chExt cx="8053560" cy="2841480"/>
          </a:xfrm>
        </p:grpSpPr>
        <p:pic>
          <p:nvPicPr>
            <p:cNvPr id="491" name="Rectangle 3" descr=""/>
            <p:cNvPicPr/>
            <p:nvPr/>
          </p:nvPicPr>
          <p:blipFill>
            <a:blip r:embed="rId2"/>
            <a:stretch/>
          </p:blipFill>
          <p:spPr>
            <a:xfrm>
              <a:off x="1096920" y="2273400"/>
              <a:ext cx="8053560" cy="28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1357200" y="2428920"/>
              <a:ext cx="7572600" cy="26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entury Gothic"/>
                </a:rPr>
                <a:t>метод розподілу спільних витрат з використання сталого відсотку валового прибутку, що застосовується для кожного спільного продукту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"/>
          <p:cNvGraphicFramePr/>
          <p:nvPr/>
        </p:nvGraphicFramePr>
        <p:xfrm>
          <a:off x="395280" y="1413000"/>
          <a:ext cx="8353440" cy="4876560"/>
        </p:xfrm>
        <a:graphic>
          <a:graphicData uri="http://schemas.openxmlformats.org/drawingml/2006/table">
            <a:tbl>
              <a:tblPr/>
              <a:tblGrid>
                <a:gridCol w="1463760"/>
                <a:gridCol w="1253880"/>
                <a:gridCol w="1311480"/>
                <a:gridCol w="1587600"/>
                <a:gridCol w="1439640"/>
                <a:gridCol w="1297080"/>
              </a:tblGrid>
              <a:tr h="182988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міжні продук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чікуваний дохід від продажу готового продукту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ловий прибуток на основі відсотка валового прибутк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івартість реалізаці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ідокремлені витрати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ільні витра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=п2х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=2-3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=4-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ідка основа шоколадної пудр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х30= 3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00х13,27% =39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00-3981 = 260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25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019 – 11250 = 147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ідка основа молочного шоколаду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00 х 40 = 68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000-9019= 589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981-23750 = 352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4" name="Прямоугольник 2"/>
          <p:cNvSpPr/>
          <p:nvPr/>
        </p:nvSpPr>
        <p:spPr>
          <a:xfrm>
            <a:off x="611280" y="333360"/>
            <a:ext cx="7416720" cy="719280"/>
          </a:xfrm>
          <a:prstGeom prst="rec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entury Gothic"/>
              </a:rPr>
              <a:t>МЕТОД ВАЛОВОГО ПРИБУТК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Rectangle 3"/>
          <p:cNvGrpSpPr/>
          <p:nvPr/>
        </p:nvGrpSpPr>
        <p:grpSpPr>
          <a:xfrm>
            <a:off x="244440" y="317520"/>
            <a:ext cx="8753400" cy="6308640"/>
            <a:chOff x="244440" y="317520"/>
            <a:chExt cx="8753400" cy="6308640"/>
          </a:xfrm>
        </p:grpSpPr>
        <p:pic>
          <p:nvPicPr>
            <p:cNvPr id="496" name="Rectangle 3" descr=""/>
            <p:cNvPicPr/>
            <p:nvPr/>
          </p:nvPicPr>
          <p:blipFill>
            <a:blip r:embed="rId1"/>
            <a:stretch/>
          </p:blipFill>
          <p:spPr>
            <a:xfrm>
              <a:off x="244440" y="317520"/>
              <a:ext cx="8753400" cy="63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500040" y="476280"/>
              <a:ext cx="8215200" cy="612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ИЗНАЧЕННЯ ЗАГАЛЬНОГО ВІДСОТКА ВАЛОВОГО ПРИБУТКУ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чікуваний валовий прибуток дорівнює різниці між ЧД- собівартість (загальні витрати на виробництво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1000х30 + 1700х40) – 50000 – 11250 – 23750 = 1300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ідсоток  валового прибутку розраховується як співвідношення валового прибутку до загального доходу від реалізації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000/98000 (очікувана вартість продажу кінцевого продукту) = 0,1327=13,27%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Rectangle 3"/>
          <p:cNvGrpSpPr/>
          <p:nvPr/>
        </p:nvGrpSpPr>
        <p:grpSpPr>
          <a:xfrm>
            <a:off x="291960" y="609480"/>
            <a:ext cx="8882280" cy="5645160"/>
            <a:chOff x="291960" y="609480"/>
            <a:chExt cx="8882280" cy="5645160"/>
          </a:xfrm>
        </p:grpSpPr>
        <p:pic>
          <p:nvPicPr>
            <p:cNvPr id="499" name="Rectangle 3" descr=""/>
            <p:cNvPicPr/>
            <p:nvPr/>
          </p:nvPicPr>
          <p:blipFill>
            <a:blip r:embed="rId1"/>
            <a:stretch/>
          </p:blipFill>
          <p:spPr>
            <a:xfrm>
              <a:off x="291960" y="609480"/>
              <a:ext cx="8882280" cy="56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642960" y="857160"/>
              <a:ext cx="800100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Minion Pro SmBd"/>
                </a:rPr>
                <a:t>Даремне навчання без думки, небезпечна думка без навчання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0" lang="uk-UA" sz="5400" spc="-1" strike="noStrike">
                  <a:solidFill>
                    <a:srgbClr val="ffffff"/>
                  </a:solidFill>
                  <a:latin typeface="Monotype Corsiva"/>
                </a:rPr>
                <a:t>Конфуцій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Impact"/>
                </a:rPr>
                <a:t> 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317520"/>
            <a:ext cx="6534360" cy="1150920"/>
          </a:xfrm>
          <a:prstGeom prst="rect">
            <a:avLst/>
          </a:prstGeom>
          <a:ln w="0">
            <a:noFill/>
          </a:ln>
        </p:spPr>
      </p:pic>
      <p:sp>
        <p:nvSpPr>
          <p:cNvPr id="317" name="Стрелка вправо с вырезом 20"/>
          <p:cNvSpPr/>
          <p:nvPr/>
        </p:nvSpPr>
        <p:spPr>
          <a:xfrm>
            <a:off x="714240" y="2138400"/>
            <a:ext cx="1285920" cy="65412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Скругленный прямоугольник 16"/>
          <p:cNvSpPr/>
          <p:nvPr/>
        </p:nvSpPr>
        <p:spPr>
          <a:xfrm>
            <a:off x="2357280" y="2066760"/>
            <a:ext cx="51436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поділ загальних витрат між підрозділам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Стрелка вправо с вырезом 4"/>
          <p:cNvSpPr/>
          <p:nvPr/>
        </p:nvSpPr>
        <p:spPr>
          <a:xfrm>
            <a:off x="1241280" y="4070520"/>
            <a:ext cx="1285920" cy="65376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3760"/>
              <a:gd name="textAreaBottom" fmla="*/ 490320 h 653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Скругленный прямоугольник 5"/>
          <p:cNvSpPr/>
          <p:nvPr/>
        </p:nvSpPr>
        <p:spPr>
          <a:xfrm>
            <a:off x="2884320" y="3578400"/>
            <a:ext cx="5143680" cy="1795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поділ витрат обслуговуючих підрозділів між виробничими підрозділами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Стрелка вправо с вырезом 13"/>
          <p:cNvSpPr/>
          <p:nvPr/>
        </p:nvSpPr>
        <p:spPr>
          <a:xfrm>
            <a:off x="1692360" y="5732640"/>
            <a:ext cx="1285920" cy="65376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3760"/>
              <a:gd name="textAreaBottom" fmla="*/ 490320 h 653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Скругленный прямоугольник 14"/>
          <p:cNvSpPr/>
          <p:nvPr/>
        </p:nvSpPr>
        <p:spPr>
          <a:xfrm>
            <a:off x="3348000" y="5738760"/>
            <a:ext cx="51436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поділ витрат між продукціє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Скругленный прямоугольник 16"/>
          <p:cNvSpPr/>
          <p:nvPr/>
        </p:nvSpPr>
        <p:spPr>
          <a:xfrm>
            <a:off x="1116000" y="1341360"/>
            <a:ext cx="6384960" cy="3095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РОЗПОДІЛ ЗАГАЛЬНИХ ВИТРАТ МІЖ ПІДРОЗДІЛАМ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AutoShape 2" descr=""/>
          <p:cNvPicPr/>
          <p:nvPr/>
        </p:nvPicPr>
        <p:blipFill>
          <a:blip r:embed="rId1"/>
          <a:stretch/>
        </p:blipFill>
        <p:spPr>
          <a:xfrm>
            <a:off x="-12600" y="139680"/>
            <a:ext cx="4419360" cy="1006560"/>
          </a:xfrm>
          <a:prstGeom prst="rect">
            <a:avLst/>
          </a:prstGeom>
          <a:ln w="0">
            <a:noFill/>
          </a:ln>
        </p:spPr>
      </p:pic>
      <p:grpSp>
        <p:nvGrpSpPr>
          <p:cNvPr id="325" name="Rectangle 3"/>
          <p:cNvGrpSpPr/>
          <p:nvPr/>
        </p:nvGrpSpPr>
        <p:grpSpPr>
          <a:xfrm>
            <a:off x="969840" y="871560"/>
            <a:ext cx="8167680" cy="5254560"/>
            <a:chOff x="969840" y="871560"/>
            <a:chExt cx="8167680" cy="5254560"/>
          </a:xfrm>
        </p:grpSpPr>
        <p:pic>
          <p:nvPicPr>
            <p:cNvPr id="326" name="Rectangle 3" descr=""/>
            <p:cNvPicPr/>
            <p:nvPr/>
          </p:nvPicPr>
          <p:blipFill>
            <a:blip r:embed="rId2"/>
            <a:stretch/>
          </p:blipFill>
          <p:spPr>
            <a:xfrm>
              <a:off x="969840" y="871560"/>
              <a:ext cx="81676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285920" y="1052640"/>
              <a:ext cx="757224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Дизайнерський відділ та цех пошиття розташовані в одній будівлі загальною площею – 24000 кв.м. Загальна площа приміщень дизайнерського відділу – 18000 кв.м. Загальні витрати на утримання будівлі становлять 300 000 грн.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AutoShape 2" descr=""/>
          <p:cNvPicPr/>
          <p:nvPr/>
        </p:nvPicPr>
        <p:blipFill>
          <a:blip r:embed="rId1"/>
          <a:stretch/>
        </p:blipFill>
        <p:spPr>
          <a:xfrm>
            <a:off x="-12600" y="407880"/>
            <a:ext cx="4419360" cy="100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9" name=""/>
          <p:cNvGraphicFramePr/>
          <p:nvPr/>
        </p:nvGraphicFramePr>
        <p:xfrm>
          <a:off x="285840" y="1519200"/>
          <a:ext cx="8643960" cy="4345200"/>
        </p:xfrm>
        <a:graphic>
          <a:graphicData uri="http://schemas.openxmlformats.org/drawingml/2006/table">
            <a:tbl>
              <a:tblPr/>
              <a:tblGrid>
                <a:gridCol w="2428920"/>
                <a:gridCol w="1500120"/>
                <a:gridCol w="2498760"/>
                <a:gridCol w="2216160"/>
              </a:tblGrid>
              <a:tr h="192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лоща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Коефіцієнт розподілу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итрати на утримання будівлі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из. відділ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 0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 000 /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 000 = 12,5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25 0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4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Цех пошиття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 0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 0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 0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 0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38:36Z</dcterms:created>
  <dc:creator>Таня</dc:creator>
  <dc:description/>
  <dc:language>en-US</dc:language>
  <cp:lastModifiedBy>Лена</cp:lastModifiedBy>
  <dcterms:modified xsi:type="dcterms:W3CDTF">2013-04-04T07:33:32Z</dcterms:modified>
  <cp:revision>251</cp:revision>
  <dc:subject/>
  <dc:title>Слайд 1</dc:title>
</cp:coreProperties>
</file>