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1BB3-F4D1-4092-9533-2B082FB37F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96D-51AC-4912-BC98-FD4A6C4B9B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1A64-2127-4CF0-BD7D-C5212D200A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BF2-479F-47F8-85BA-E42367E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E3C-91A7-4021-A941-57F39D59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F78-E73D-4FD7-9E31-9F172747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89C-A2D8-4183-9366-8A622214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FC1F-FC0A-4D68-BC58-77DFF80B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84B-6D71-4C17-AC4D-C4BF2F52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386D-0106-45AD-99DE-BEC7868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42F5-EB53-4CEC-AC5E-F9B0BC12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C69F-1E78-42E8-BE41-FD1E3C4C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0F8-BBEC-4396-808B-7339425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215-003F-4DF4-BEF4-B43DA45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D37-FDC2-4D5F-A088-6E3C4AA8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6099-5589-430C-88AE-10470CB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A447-603A-4EE3-BBD2-2F451472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631-671C-431D-A9B0-5950313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6170-74FE-41DA-9102-5BE54BA3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057C-DC5E-473E-9375-794746EC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C7D4-9C88-435A-99A1-BB52D44E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ABDF-4742-41B7-891B-8FD71098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163E-8503-488F-8F4E-B28E368E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164B-FA2C-4CA8-8D41-2C6C9E6F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17A7-7D9D-44E6-BBED-C10B6F42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887-9465-4CC5-B7C2-01007C12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4DC2-F605-4DFE-9134-04712B4F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C1BE-A4C2-4083-A13E-1C99ED5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5725-3ACE-49D3-BD10-99EA664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100E-C648-43C9-A779-4DCE936E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9FBB-BF31-4C55-99DF-9575C10A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9490-B43C-40AB-A2F5-CE744BF8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19B8-8691-4239-9C7F-ED460F7A7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065B-8A4A-4E0B-970F-7B156E6E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1C60-2438-40A7-AE9F-4B13E22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CD9B-768C-4AAA-B75B-26A0D49B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DCE-9FF5-46E9-8C63-E5A00130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048E-0721-43D2-8E8F-57042396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097F-6425-40CA-8507-EBEC7D73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E454-7671-45CD-885D-F7E79A7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DF1E-5AEA-4C3B-8742-B989F2D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0E83-1E3E-4621-9F91-95CE272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9202-F699-485F-BB3F-C29BC27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EB64-98F4-43BD-B37E-E665644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D828-2710-47A9-A390-8CDFECA1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070A-B431-49F6-9D9A-2D7514E3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FC7F-E326-47CF-A8B6-61CD5C9B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1CE-B91D-474B-A838-1627BAB2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E58C4-8FC6-4CF6-BD12-A93CB9B7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4396-F852-4E56-BE63-FC936B1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596B0-54D1-46D3-98A3-8D946620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D895-DB75-487A-971C-A37EDD2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9E42-6DA5-418A-A533-F4AD9C83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3344-25BB-4720-85B2-03DF8CE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2427-55B6-4342-8DCA-93A1E80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3221-6CEE-4339-8612-2BD35DB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90B5-0629-4910-A603-1FD99B7B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604C-B21D-44C3-BED0-CC95EE7C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173-DF4D-4053-BB0C-7743BDC6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15BAD-8B97-4B38-9AAD-D4490E3C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24FD-6979-4C55-9EBE-9C6AB8FD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1EC4-0A69-4158-A986-11A3FBC7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6AAD-8A3F-4B8B-A94D-B3151DE9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89F73-3309-4832-95EB-F1F22204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FD499-593D-4FA2-9362-5D8CB6E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7133-2F39-49FF-851E-16F815A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1F9F8-7A77-498D-A46D-B7412461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26AE-A75C-4E36-A079-672B38C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DA2E-6B34-4DF1-B039-18D18EA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528-CEE3-4EA8-892B-6FB77A1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762AA-978F-4893-BB5C-620547BD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9028C-18C7-4871-B17A-A219FF38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EBB3-7D30-4286-B94C-B7BCED83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0E395-0BD4-476B-8EC1-1687D852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31D0C-61DC-4093-B65B-5A47E7E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6FB7C-9635-4A5B-BD07-BD5AC29D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C787B-F91D-4C4F-9805-DE87057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CEA0E-CEE0-4F9F-BB0D-6E85F037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C8D2-4072-4636-ADA8-968851AD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BD687-C33C-46A0-95FB-B497715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88F-15DD-4DE4-A24B-6E86627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1E8BB-10B2-40DB-A501-717A2F04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F671-D596-4EF0-9301-3893DEA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145F-A297-4DF0-8B3B-2ABFA5D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8C03-74C3-4320-9522-2E27C5A3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15F52-A58A-4044-85DE-767773BE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37B-A892-4D57-9AA0-EE87AB5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451-5DE0-4C85-87EA-EEB7217D04C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C2C8-3AA9-4282-BECE-C31192B71C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FFC-5C74-41F3-8D11-EF0BF12D7F9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65A-D0BA-4D8B-B6DF-300A1E9A1BB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9EB-DC44-478B-9BC6-B75001DD314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A199-A03D-4FBB-A01F-3AE364D626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44A0-0E13-40F6-B53D-9FBFFA388A6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FB5-6BB8-4240-A2FF-C467082A4A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0B9-01BB-432D-884A-3FA2F113146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24E7-F489-4025-A9E8-B7AEE28E92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1338-DE5C-484B-995C-1F156D3DE5C1}" type="datetime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6ED-0C41-4536-AFA1-05633AD75D1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67da"/>
            </a:gs>
            <a:gs pos="100000">
              <a:srgbClr val="feb4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C5E-046C-4068-8348-28A7436D57D1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1D0-029D-423D-BBE2-80A4A81BFFF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president.gov.ua/documents/4182019-27613" TargetMode="External"/><Relationship Id="rId2" Type="http://schemas.openxmlformats.org/officeDocument/2006/relationships/hyperlink" Target="https://zakon.rada.gov.ua/laws/show/436/95" TargetMode="External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66600" y="719280"/>
            <a:ext cx="9259920" cy="15667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Object 1"/>
          <p:cNvGraphicFramePr/>
          <p:nvPr/>
        </p:nvGraphicFramePr>
        <p:xfrm>
          <a:off x="919080" y="2284560"/>
          <a:ext cx="7948800" cy="39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284560"/>
                    <a:ext cx="79488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97EB-4856-42F9-B6C3-61FE13F9A576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-73080" y="19080"/>
            <a:ext cx="1060560" cy="5619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257184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3 “Інші кошти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1 “Грошові документи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2 “Грошові документи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3 “Грошові кошти в дорозі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4 “Грошові кошти в дорозі в іноземній валюті”.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35 "Електронні гроші, номіновані в національній валюті"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1143000" y="40006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ошових коштів у дорозі може вестися в розрізі відділень зв’язку та інших установ (організацій), які прийняли перекази за кожним первинним документом, який підтверджує здавання грошових с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857160" y="1429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документів (у національній та іноземній валюті) та про кошти в дороз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6"/>
          <p:cNvSpPr/>
          <p:nvPr/>
        </p:nvSpPr>
        <p:spPr>
          <a:xfrm>
            <a:off x="285840" y="55008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 дебетом рахунку 33 “Інші кошти” відображається надходження грошових документів до каси підприємства та коштів у дорозі, за кредитом – вибуття грошових документів і списання коштів у дорозі після їх зарахування на відповідні рах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930C-190E-4A6F-82EE-4AEFCB1E48C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"ІНШІ КОШТИ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ься узагальнення інформац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явність та рух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их документ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національній 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й валюті), які знаходяться в касі підприємств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штови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ок, марок гербового збору, сплачених проїзних документів, сплачених путівок до санаторіїв, пансіонатів, будинків відпочи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що)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их грош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и в дороз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бто грошові суми, внесені в каси банків, ощадні каси або поштові відділен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льшого їх зарахування на розрахункові або інші раху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08E-2C93-47CF-B859-9CFE834489F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 "ЕЛЕКТРОННІ ГРОШІ, НОМІНОВАНІ В НАЦІОНАЛЬНІЙ ВАЛЮТІ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бражаються операції з електронними грошима, які здійснюються комерційними агентами та користувачами, відповідно до нормативно-правових актів Національного банку України та правил використання електронних грошей, узгоджених з Національним банком Україн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2C2-3AB6-4112-BDB6-004A5BDD70BA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і грош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иниці вартості, які зберігаються на електронному пристрої, приймаються як засіб платежу інши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ми, ніж особа, яка їх випускає, і є грошовим зобов'язанням цієї особи, що виконується в готівковій або безготівковій формі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з метою бухгалтерського обліку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знаються електронними грош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д оплачені картки одноцільового використанн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онтні картки торговців, картки автозаправних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цій, квитки для проїзду в міському транспорті тощо, які приймаються як засіб платежу виключно їх еміт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542880" y="73080"/>
            <a:ext cx="8319960" cy="1407960"/>
          </a:xfrm>
          <a:prstGeom prst="rect">
            <a:avLst/>
          </a:prstGeom>
          <a:ln w="0">
            <a:noFill/>
          </a:ln>
        </p:spPr>
      </p:pic>
      <p:pic>
        <p:nvPicPr>
          <p:cNvPr id="362" name="Подзаголовок 2" descr=""/>
          <p:cNvPicPr/>
          <p:nvPr/>
        </p:nvPicPr>
        <p:blipFill>
          <a:blip r:embed="rId2"/>
          <a:stretch/>
        </p:blipFill>
        <p:spPr>
          <a:xfrm>
            <a:off x="433440" y="1444680"/>
            <a:ext cx="8240760" cy="1884240"/>
          </a:xfrm>
          <a:prstGeom prst="rect">
            <a:avLst/>
          </a:prstGeom>
          <a:ln w="0">
            <a:noFill/>
          </a:ln>
        </p:spPr>
      </p:pic>
      <p:grpSp>
        <p:nvGrpSpPr>
          <p:cNvPr id="363" name="Прямоугольник 3"/>
          <p:cNvGrpSpPr/>
          <p:nvPr/>
        </p:nvGrpSpPr>
        <p:grpSpPr>
          <a:xfrm>
            <a:off x="-96840" y="3797280"/>
            <a:ext cx="9112320" cy="2481120"/>
            <a:chOff x="-96840" y="3797280"/>
            <a:chExt cx="9112320" cy="2481120"/>
          </a:xfrm>
        </p:grpSpPr>
        <p:pic>
          <p:nvPicPr>
            <p:cNvPr id="36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96840" y="3797280"/>
              <a:ext cx="91123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0" y="3835440"/>
              <a:ext cx="8929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У касі підприємства може зберігатися готівка, цінні папери, придбані у інших підприємств (акції, облігації тощо), грошові документи, які є бланками суворого обліку (трудові книжки та вкладні листки до них, квитанції подорожніх листів автотранспорту, бланки довіреностей тощо)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Грошовими документами</a:t>
              </a:r>
              <a:r>
                <a:rPr b="1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важаються документи, які знаходяться в касі підприємства: оплачені путівки в санаторії, пансіонати та будинки відпочинку; поштові марки; проїзні квитки тощ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570800" cy="15112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80880" y="1990440"/>
            <a:ext cx="8120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Посадова матеріально відповідальна особа, яка завідує касою, видачею та прийманням грошей і цінних паперів на підприємстві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7F4-D0B2-44C7-9CA6-E12DEDD120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-165240" y="-42840"/>
            <a:ext cx="9455400" cy="17492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142920" y="1752120"/>
            <a:ext cx="8858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ранична сума готівкового розрахунку одного підприємства (підприємця) з іншим підприємством (підприємцем) протягом одного дня за одним або кількома платіжними документами встановлюється відповідною постановою Правління Національного банку України. Платежі понад зазначену граничну суму проводяться виключно в безготівковій формі. Кількість підприємств (підприємців), з якими здійснюються розрахунки, протягом дня не обмежується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F00B-E764-4CD9-B31D-A7D26979A0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значені обмеження не поширюються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розрахунків суб'єктів господарювання з бюджетами та державними цільовими фонд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добровільних пожертвувань та благодійної допомог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використання готівки, виданої на відрядженн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виплат, пов'язаних з оплатою прац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використання готівкових коштів з фонду оперативно-розшукових (негласних слідчих) дій, створеного на виконання ч. 3 статті 24 Закону України "Про Національне антикорупційне бюро України"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 господарювання мають право здійснювати розрахунки готівкою протягом одного дня за одним або кількома платіжними документам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іж собою - у розмірі до 10000 (десяти тисяч) гривень включно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 фізичними особами - у розмірі до 50000 (п'ятдесяти тисяч) гривень в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EB30-4604-4714-AC33-FE64F980C1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259920"/>
            <a:ext cx="829152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мають право здійснювати розрахунки готівко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суб'єктами господарювання протягом одного дня за одним або кількома платіжними документами -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іж собою за договорами купівлі-продажу, які підлягають нотаріальному посвідченню,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і на суму, яка перевищує 50 000 гривень, здійснюються шляхом переказу коштів з поточного рахунку на поточний рахунок або внесення та/або переказу коштів на поточні рахунки (у тому числі на депозит нотаріуса на окремий поточний рахунок у національній валюті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46DA-987D-4F85-A06B-DF28B098C5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97AB-4645-477A-9B92-B32448520AD8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214200" y="642960"/>
            <a:ext cx="850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СТАНОВА ПРАВЛІННЯ НАЦІОНАЛЬНОГО БАНКУ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 29 грудня 2017 р. № 1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 затвердження 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оження про ведення касових операцій у національній  валюті в Україн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 визначає порядок ведення касових операцій у національній валюті України підприємствами (підприємцями), а також окремі питання організації банками роботи з готівко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івка видається під звіт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закупівлю сільськогосподарської продукції та заготівлю вторинної сировини на строк не більше 10 робочих дн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 закупівлю брухту чорних металів і брухту кольорових металів - на строк не більше 30 робочих днів від дня видачі готівки під звіт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 всі інші виробничі (господарські) потреби - на строк не більше двох робочих днів, уключаючи день отримання готівки під зві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4A37-0DDD-4933-9E66-20D0907DAD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мання і видача готівки за касовими ордерами проводиться тільки в день їх складан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лення в касових ордерах та видаткових відомостях забороняю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9D3E-83A4-425E-89BC-B6094C6F83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83" name="Подзаголовок 2" descr=""/>
          <p:cNvPicPr/>
          <p:nvPr/>
        </p:nvPicPr>
        <p:blipFill>
          <a:blip r:embed="rId2"/>
          <a:stretch/>
        </p:blipFill>
        <p:spPr>
          <a:xfrm>
            <a:off x="426960" y="420840"/>
            <a:ext cx="8309160" cy="183492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3" descr=""/>
          <p:cNvPicPr/>
          <p:nvPr/>
        </p:nvPicPr>
        <p:blipFill>
          <a:blip r:embed="rId3"/>
          <a:stretch/>
        </p:blipFill>
        <p:spPr>
          <a:xfrm>
            <a:off x="225360" y="3932280"/>
            <a:ext cx="84805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DFAD-C62C-42BE-A1F2-7D18D3F60A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139680" y="0"/>
            <a:ext cx="89917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BDB9-E715-4151-8482-EDAA7AFD69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916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міт каси вважається нульови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установою/підприємством його не встановлено (незалежно від причин такого невстановлення)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я готівка, що перебуває в касі установи/підприємства на кінець робочого дня і не здана нею/ним відповідно до вимог Положення № 148, уважається понадлімітною, якщо установою/підприємством ліміт каси не встановлено (незалежно від причин такого невстановлення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1297-59D7-4C18-9946-35F968122F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AE62-7ED4-484B-BEC4-446DF6442D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Схема 7" descr=""/>
          <p:cNvPicPr/>
          <p:nvPr/>
        </p:nvPicPr>
        <p:blipFill>
          <a:blip r:embed="rId1"/>
          <a:stretch/>
        </p:blipFill>
        <p:spPr>
          <a:xfrm>
            <a:off x="122400" y="1968480"/>
            <a:ext cx="9551880" cy="5164200"/>
          </a:xfrm>
          <a:prstGeom prst="rect">
            <a:avLst/>
          </a:prstGeom>
          <a:ln w="0">
            <a:noFill/>
          </a:ln>
        </p:spPr>
      </p:pic>
      <p:pic>
        <p:nvPicPr>
          <p:cNvPr id="394" name="Заголовок 4" descr=""/>
          <p:cNvPicPr/>
          <p:nvPr/>
        </p:nvPicPr>
        <p:blipFill>
          <a:blip r:embed="rId2"/>
          <a:stretch/>
        </p:blipFill>
        <p:spPr>
          <a:xfrm>
            <a:off x="73080" y="0"/>
            <a:ext cx="90644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FBC-A57B-4223-B4E2-C7089A24E2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31840" y="396720"/>
            <a:ext cx="898524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354B-A1F1-4196-890C-2F1C9AA43B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4200" y="14256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ідприємства мають право зберігати у своїй касі готівку, одержану в банку для виплат, що належать до фонду оплати праці, а також пенсій, стипендій, дивідендів (доходу),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ад установлений ліміт каси протягом трьох робочих днів, уключаючи день одержання готівки в банку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Для проведення цих виплат працівникам віддалених відокремлених підрозділів підприємств залізничного транспорту та морських портів готівка може зберігатися в їх касах понад установлений ліміт каси протягом п’яти робочих днів, уключаючи день одержання готівки в банку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Готівка, що одержана в банку на інші виплати, має видаватися підприємством своїм працівникам у той самий день. Суми готівки, що одержані в банку і не використані за призначенням протягом установлених вище строків, повертаються підприємством до банку не пізніше наступного робочого дня банку або можуть залишатися в його касі (у межах установленого ліміту)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DCF7-FC14-41E6-9052-15C6884699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Заголовок 2" descr=""/>
          <p:cNvPicPr/>
          <p:nvPr/>
        </p:nvPicPr>
        <p:blipFill>
          <a:blip r:embed="rId1"/>
          <a:stretch/>
        </p:blipFill>
        <p:spPr>
          <a:xfrm>
            <a:off x="0" y="-182520"/>
            <a:ext cx="9156600" cy="20667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0" y="1428840"/>
          <a:ext cx="9144000" cy="3103560"/>
        </p:xfrm>
        <a:graphic>
          <a:graphicData uri="http://schemas.openxmlformats.org/drawingml/2006/table">
            <a:tbl>
              <a:tblPr/>
              <a:tblGrid>
                <a:gridCol w="388800"/>
                <a:gridCol w="5764320"/>
                <a:gridCol w="2990880"/>
              </a:tblGrid>
              <a:tr h="8175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15416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ктично за три будь-які місяці поспіль з останніх дванадцяти, що передують строку встановлення (перегляду) ліміту ка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тівкова виручка (надходження до кас, крім сум, що одержані з банк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і надходження (рядок 1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866960"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чено готівкою на різні потреби, а/також на відрядження (крім виплат, пов'язаних з оплатою праці, пенсій, стипендій, дивіденд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а видача готівки (рядок 3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0" y="4572000"/>
          <a:ext cx="9144000" cy="64296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268200">
                <a:tc>
                  <a:txBody>
                    <a:bodyPr lIns="25200" rIns="25200" tIns="0" bIns="0" anchor="t">
                      <a:noAutofit/>
                    </a:bodyPr>
                    <a:p>
                      <a:pPr marL="828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о підприємство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Ліміт залишку готівки в кас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0" y="5270400"/>
          <a:ext cx="9144000" cy="144468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834480">
                <a:tc>
                  <a:txBody>
                    <a:bodyPr lIns="25200" rIns="25200" tIns="0" bIns="0" anchor="ctr">
                      <a:noAutofit/>
                    </a:bodyPr>
                    <a:p>
                      <a:pPr marL="819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60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значається строк здавання готівкової виручки (готівки) та зазначаються реквізити договорів банківських рахун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Строки здавання готівкової виручки (готі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27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70120"/>
            <a:ext cx="83091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7F8-B1E7-43E4-81B0-D610EA65AC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50920" y="62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06.2019 року набрав чинності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Указ Президента України від 20.06.2019 р. № 418/2019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скасовано низку попередніх Указів, зокрема </a:t>
            </a: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Указ від 12.06.1995 р. № 436 «Про застосування штрафних санкцій за порушення норм з регулювання обігу готівк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Фінансова відповідальність за порушення норм використання готівки скасован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лишилась АДМ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ІСТРАТИВНА відповідальні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омер слайда 5"/>
          <p:cNvSpPr/>
          <p:nvPr/>
        </p:nvSpPr>
        <p:spPr>
          <a:xfrm>
            <a:off x="8450280" y="809640"/>
            <a:ext cx="503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629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ивна відповідальні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у від 100 до 200 неоподатковуваних мінімумів доходів громадян, тобто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700 до 3400 гр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за порушення порядку проведення готівкових розрахунків за товари (послуги), у т.ч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вищення граничних сум розрахунків готівкою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дотримання установлених законодавством вимог щодо забезпечення можливості розрахунків за товари (послуги) з використанням електронних платіжних засобі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вторне порушення протягом ро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штраф від 500 до 1000 неоподатковуваних мінімумів доходів громадя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8500 до 17000 грн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оформляютьс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ими ордерами, видатковими відомостями, розрахунковими документами, документами за операціями із застосуванням електронних платіжних засобів, іншими касовими документами, які згідно із законодавством України підтверджували б факт продажу (повернення) товарів, надання послуг, отримання (повернення) готівки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докумен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бу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еровими або електронним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лектронні касові документи повинні бути оформлені відповідно до вимог законодавства України у сфері електронного документообігу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 установи/підприємства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писання електронного касового докумен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бов’язаний використовуват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ий електронний підпи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6B44-826E-4C1A-AF9E-78F13CC1DC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м, що свідчить про здавання виручки до банку та є підтвердженням оприбуткування готівки в касі суб'єктів господарюванн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витанція до прибуткового документа банку на внесення готівки, підписана відповідальними особами банку та засвідчена відбитком печатки банку (за потреби)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витанція/чек банкомата чи програмно-технічного комплексу самообслуговування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ретій примірник "Копія супровідної відомості до сумки з готівкою", засвідчений підписом та відбитком печатки інкасатора-збирач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ек платіжного термінала в разі проведення інкасації коштів у режимі реального часу з використанням платіжних терміналів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46E9-5006-43D8-B76A-C46390B0D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3D31-15EE-4D66-BF53-B12C66FD4AFE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92160" y="-139680"/>
            <a:ext cx="1157040" cy="669276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1428840" y="357120"/>
            <a:ext cx="7572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сові операції оформлюються документами, типові міжвідомчі форми яких затверджені Міністерством статистики України за згодою Національного банку України та Міністерства фінансів України, і які повинні застосовуватися без змін на всіх підприємствах, незалежно від їх відомчої підпорядкованості та форми власност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Rectangle 1" descr=""/>
          <p:cNvPicPr/>
          <p:nvPr/>
        </p:nvPicPr>
        <p:blipFill>
          <a:blip r:embed="rId2"/>
          <a:stretch/>
        </p:blipFill>
        <p:spPr>
          <a:xfrm>
            <a:off x="1755720" y="2932200"/>
            <a:ext cx="691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3D6-E48A-41E1-88D9-95943E60A564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E2D0-40C4-45C6-9D99-31E77FACE815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58680" y="644400"/>
            <a:ext cx="89870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151-77E9-4A03-91D2-1D2A706AE50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8999640" cy="5016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57240" y="3857760"/>
            <a:ext cx="9015480" cy="28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E8C-D262-446B-8E05-D8FA782B348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31760" y="258840"/>
            <a:ext cx="88693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30B-0FDC-47AD-BDDB-4F8C32870B8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114560" y="31680"/>
            <a:ext cx="6243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29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70120"/>
            <a:ext cx="83091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732-D90D-45A3-A279-33342C201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Заголовок 7" descr=""/>
          <p:cNvPicPr/>
          <p:nvPr/>
        </p:nvPicPr>
        <p:blipFill>
          <a:blip r:embed="rId1"/>
          <a:stretch/>
        </p:blipFill>
        <p:spPr>
          <a:xfrm>
            <a:off x="0" y="-182520"/>
            <a:ext cx="9339120" cy="1835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214280" y="3427200"/>
            <a:ext cx="68580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ВИТРАЧ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з каси оформлює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датковим касовим ордером (ВКО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. Він підписується керівником і головним бухгалтером підприємства або особами, ними уповноваженим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5810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К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00080" y="1647720"/>
            <a:ext cx="68580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ОПРИБУТКУВ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в касу здійснюється на підставі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ибуткового касового ордера (ПКО)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підписаного головним бухгалтером, або уповноваженими на це особами письмовим розпорядженням керівника підприємства, і касир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58104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К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Прямоугольник 6"/>
          <p:cNvSpPr/>
          <p:nvPr/>
        </p:nvSpPr>
        <p:spPr>
          <a:xfrm>
            <a:off x="142920" y="5000760"/>
            <a:ext cx="8858160" cy="1830600"/>
          </a:xfrm>
          <a:prstGeom prst="rect">
            <a:avLst/>
          </a:prstGeom>
          <a:solidFill>
            <a:srgbClr val="000000">
              <a:alpha val="17000"/>
            </a:srgbClr>
          </a:solidFill>
          <a:ln w="9360">
            <a:solidFill>
              <a:srgbClr val="ffffff"/>
            </a:solidFill>
            <a:prstDash val="sysDash"/>
            <a:miter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Arial"/>
              </a:rPr>
              <a:t>У прибуткових і видаткових касових ордерах, які оформлюються на загальну суму проведених підприємством касових операцій (видача готівки за платіжними (розрахунково-платіжними) відомостями, за платіжними картками, здавання готівки до банку, отримання готівки з банку за чеком та оприбуткування її в касі тощо), реквізит “Отримувач” або “Від кого” не заповнюєть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76D-A3A0-4038-B513-21743B0036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ймання готівки в каси проводиться за прибутковими касовими ордерами, підписаними головним бухгалтером або особою, уповноваженою керівником підприєм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приймання підприємствами готівки в касу за прибутковими касовими ордерами видається засвідчена відбитком печатки цього підприємства квитанція (що є відривною частиною прибуткового касового ордера) за підписами головного бухгалтера або працівника підприємства, який на це уповноважений керівник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C019-04F7-48AB-9A8B-EA48DF65E9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окремим фізичним особам готівки (у тому числі працівникам підприємства) за видатковим касовим ордером або видатковою відомістю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сир вимагає пред’явити паспорт чи документ, що його замінює, записує його найменування і номер, ким і коли він видан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Фізична особа розписується у видатковому касовому ордері або видатковій відомості про одержання готівки із зазначенням одержаної суми (гривень — словами, копійок — цифрами), використовуючи чорнильну або кулькову ручку з чорнилом темного кольору. Якщо видаткова відомість складена на видачу готівки кільком особам, то одержувачі також пред’являють паспорти чи документи, що їх замінюють, і розписуються у відповідній графі документа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99EF-CBE8-44FD-BFB6-013E377A80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видача готівки проводиться за довіреністю, оформленою у встановленому порядку згідно із законодавством України, у тому числі й особи, що не має змоги у зв’язку з хворобою або з інших поважних причин поставити підпис власноручно, то в тексті ордера після прізвища, імені та по батькові одержувача готівки бухгалтер зазначає прізвище, ім’я та по батькові особи, якій довірено одержати готівк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готівки за видатковою відомістю перед підписом про одержання грошей касир робить у ній напис “За довіреністю”. Видача готівки за довіреністю проводиться відповідно до вимог, передбачених у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ункті 3.5 цієї глав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Довіреність залишається в касира і додається до видаткового касового ордера або видаткової відомості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C47-A761-4924-A3BB-2F2AEF060E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ісля закінчення встановлених строків виплат, пов’язаних з оплатою праці за видатковими відомостями, касир зобов’язаний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видатковій відомості проти прізвища осіб, яким не здійснено виплату, поставити відбиток штампа або зробити напис “Депоновано"; скласти реєстр депонованих сум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кінці видаткової відомості зазначити фактично виплачену суму та недоодержану суму виплат, яка підлягає депонуванню, звірити ці суми із загальним підсумком за видатковою відомістю і засвідчити напис своїм підписом. Якщо готівкові кошти видавалися не касиром, а іншою особою, то на відомості додатково робиться напис “Готівку за відомістю видав (підпис)"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здійснити відповідний запис у касовій книзі згідно з виписаним бухгалтерією видатковим касовим ордером на фактично видану суму за видатковою відомістю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25C-EF7A-437B-A8C1-F321C6367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14200" y="1371600"/>
            <a:ext cx="8715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 касових ордерах, які оформляються на загальну суму проведених підприємством касових операцій (видача готівки за видатковими відомостями, платіжними картками, здавання готівки до банку, отримання готівки з банку за чеком та оприбуткування її в касі тощо), реквізит “Одержав” або “Прийнято від” не заповнює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5D4-1C96-4A0E-A8E4-E750A608A9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30268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142920" y="2000160"/>
          <a:ext cx="8858160" cy="4632480"/>
        </p:xfrm>
        <a:graphic>
          <a:graphicData uri="http://schemas.openxmlformats.org/drawingml/2006/table">
            <a:tbl>
              <a:tblPr/>
              <a:tblGrid>
                <a:gridCol w="733320"/>
                <a:gridCol w="3537000"/>
                <a:gridCol w="3059280"/>
                <a:gridCol w="1528560"/>
              </a:tblGrid>
              <a:tr h="61596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подарська операці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ідста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бет рахун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row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вання готівкової виручки до банку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ява на внесення готі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ій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ляхом інкасаці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провідна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господарські потреб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 керівника підприєм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 керівника підприємства, посвідчення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та заробітної плати, допомоги, матеріальної допом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іжна (розрахунково-платіжна)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Прямоугольник 3"/>
          <p:cNvSpPr/>
          <p:nvPr/>
        </p:nvSpPr>
        <p:spPr>
          <a:xfrm>
            <a:off x="285840" y="1139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аблиця 1. Документи, які є підставою для оформлення видаткових касових ордер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2869-67B2-48CD-AFD0-C708CE5874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1920" y="142560"/>
            <a:ext cx="89917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денно в кінці робочого дня касир підсумовує операції за день, виводить залишок готівки в касі на початок наступного дня і передає до бухгалтерії я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віт касира другі примірник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 є відривною частиною аркуша касової книги (копію записів у касовій книзі за день), з прибутковими і видатковими касовими ордерами під підпис у касовій книзі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жне підприємство (юридична особа), що має касу, ве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у касову книгу для обліку операцій з готівкою в національній валют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без урахування кас відокремлених підрозділів)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4919-A74B-4AD3-8D4F-7EAA2404D4B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500040" y="356760"/>
            <a:ext cx="8215200" cy="68580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Century Gothic"/>
              </a:rPr>
              <a:t>Таблиця 2. Документи, які підтверджують рух готівки підприємств у сфері торгівлі, громадського харчування та послуг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14200" y="1357200"/>
          <a:ext cx="8786880" cy="5000760"/>
        </p:xfrm>
        <a:graphic>
          <a:graphicData uri="http://schemas.openxmlformats.org/drawingml/2006/table">
            <a:tbl>
              <a:tblPr/>
              <a:tblGrid>
                <a:gridCol w="411120"/>
                <a:gridCol w="1435320"/>
                <a:gridCol w="2406600"/>
                <a:gridCol w="453384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нні докуме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чення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на товари (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за продані товари (надані 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видачі кош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у випадку видачі коштів покупцеві при поверненні товару, рекомпенсації послуги, прийнятті цінностей під заставу, виплаті виграшів у державні лотереї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а квитан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бланк якого виготовлено друкарським способом, а окремі реквізити заповнюються від руки або шляхом проштампування при реєстрації розрахунків за продані товари (надані послуги) або при видачі коштів покупцеві у випадку повернення товару, рекомпенсації послуги, прийняття цінностей під заставу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8B34-E537-4BA8-83E0-D7BF571D5E7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731880" y="347760"/>
            <a:ext cx="7862760" cy="20476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3"/>
          <p:cNvSpPr/>
          <p:nvPr/>
        </p:nvSpPr>
        <p:spPr>
          <a:xfrm>
            <a:off x="714240" y="3286080"/>
            <a:ext cx="8286840" cy="1144800"/>
          </a:xfrm>
          <a:prstGeom prst="rect">
            <a:avLst/>
          </a:prstGeom>
          <a:gradFill rotWithShape="0">
            <a:gsLst>
              <a:gs pos="0">
                <a:srgbClr val="e9e9e9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У кінці кожного робочого дня касир підбиває підсумки операцій за день, виводить залишок грошей в касі на наступне число та передає до бухгалтерії звіт каси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4"/>
          <p:cNvSpPr/>
          <p:nvPr/>
        </p:nvSpPr>
        <p:spPr>
          <a:xfrm>
            <a:off x="214200" y="5143680"/>
            <a:ext cx="8643960" cy="151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віт каси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це документ, який передається касиром підприємства в бухгалтерію, і є відривним листком Касової книги з додатком прибуткових і видаткових касових документі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424640" cy="1596960"/>
          </a:xfrm>
          <a:prstGeom prst="rect">
            <a:avLst/>
          </a:prstGeom>
          <a:ln w="0">
            <a:noFill/>
          </a:ln>
        </p:spPr>
      </p:pic>
      <p:pic>
        <p:nvPicPr>
          <p:cNvPr id="331" name="Текст 2" descr=""/>
          <p:cNvPicPr/>
          <p:nvPr/>
        </p:nvPicPr>
        <p:blipFill>
          <a:blip r:embed="rId2"/>
          <a:stretch/>
        </p:blipFill>
        <p:spPr>
          <a:xfrm>
            <a:off x="579600" y="1920960"/>
            <a:ext cx="76006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0DAA-6C7C-4A6F-BA3C-B7729685A3E0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оугольник 4"/>
          <p:cNvSpPr/>
          <p:nvPr/>
        </p:nvSpPr>
        <p:spPr>
          <a:xfrm>
            <a:off x="785880" y="2413080"/>
            <a:ext cx="7929360" cy="2653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 кінці місяця бухгалтер збирає всі касові звіти з підшитими до них первинними документами за датами в зростаючому порядку та зшиває в окрему папку. Контроль за правильним веденням Касової книги здійснює головний бухгалтер підприєм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33" name="Подзаголовок 2" descr=""/>
          <p:cNvPicPr/>
          <p:nvPr/>
        </p:nvPicPr>
        <p:blipFill>
          <a:blip r:embed="rId2"/>
          <a:stretch/>
        </p:blipFill>
        <p:spPr>
          <a:xfrm>
            <a:off x="414360" y="2603520"/>
            <a:ext cx="82724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7570800" cy="1730160"/>
          </a:xfrm>
          <a:prstGeom prst="rect">
            <a:avLst/>
          </a:prstGeom>
          <a:ln w="0">
            <a:noFill/>
          </a:ln>
        </p:spPr>
      </p:pic>
      <p:pic>
        <p:nvPicPr>
          <p:cNvPr id="335" name="Текст 2" descr=""/>
          <p:cNvPicPr/>
          <p:nvPr/>
        </p:nvPicPr>
        <p:blipFill>
          <a:blip r:embed="rId2"/>
          <a:stretch/>
        </p:blipFill>
        <p:spPr>
          <a:xfrm>
            <a:off x="255600" y="1847880"/>
            <a:ext cx="83343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ції суб'єктів господарювання між собою та з фізичними особами, пов'язані з прийманням і видачею готівки під час проведення розрахунків через касу з відображенням цих операцій у відповідних книгах облік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720C-7B6A-4658-A308-01CBB7A2AC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F76-8D06-4EA0-85EB-ED90BA6C80E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0" y="665280"/>
            <a:ext cx="1060560" cy="4833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142416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0 “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тівка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1 “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Готівка в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2 “Готівка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1116000" y="3429000"/>
            <a:ext cx="7572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вестися за кожною операційною касою або касиром, що забезпечує реалізацію функції збереження майна власника, а також за видами вал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5"/>
          <p:cNvSpPr/>
          <p:nvPr/>
        </p:nvSpPr>
        <p:spPr>
          <a:xfrm>
            <a:off x="12142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коштів у касі підприєм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7"/>
          <p:cNvSpPr/>
          <p:nvPr/>
        </p:nvSpPr>
        <p:spPr>
          <a:xfrm>
            <a:off x="214200" y="54450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дебетом рахунку 30 “Готівка” відображається надходження грошових коштів до каси підприємства, за кредитом – виплата (витрачання) готі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04:05Z</dcterms:created>
  <dc:creator>Александра</dc:creator>
  <dc:description/>
  <dc:language>en-US</dc:language>
  <cp:lastModifiedBy>MSI</cp:lastModifiedBy>
  <cp:lastPrinted>2014-02-20T05:51:03Z</cp:lastPrinted>
  <dcterms:modified xsi:type="dcterms:W3CDTF">2021-11-27T19:04:01Z</dcterms:modified>
  <cp:revision>144</cp:revision>
  <dc:subject/>
  <dc:title>Курс лекцій</dc:title>
</cp:coreProperties>
</file>