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A753-02D7-4BA4-B6E6-552D26F70F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56D4-3FBC-4981-A416-51791F8758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5B43-08CE-4F72-A6BD-7F817130C7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D18-0189-40BA-8B6F-9AC98109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D82-253C-4D98-8DBC-BDE30B20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7BF-3D52-4684-A083-140A98EC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4F3-1F74-4744-9066-12AADB07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8C5E-C3E7-4E69-B437-66F1AE62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ED51-9033-4660-B5B4-B98945CC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4515-3D88-4FDE-8833-38BAA977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3F87-AB9D-4314-AAF0-47736EF5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995F-82B9-4C97-9BF9-997E32A7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D01F-292D-4C2C-B665-FC839D87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1C18-5BD9-4125-B46B-E8223E96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539-12E6-45E2-BA95-09BB0BED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ADC1-B511-4003-BE2A-7C8F7A3A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097A-BBEC-4BF0-AAB7-F9989F3C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3CDB-7566-4E15-A263-3DAD7247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F167-659E-42D3-9D67-26C4987C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A4DF-C7CD-464E-9C7C-EFA4D6EC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2E84-75EB-4AFB-B876-E66DB18D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81472-995D-44DD-8E7B-86532D66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49DB-6748-4737-8AF7-37E3E7A6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79A3-D440-4DBB-BBE3-5AD9553D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CB7A-7400-4744-9D7D-46B62E87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E56-82F4-4FC7-B916-6D77B55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CBE5-9CD3-4649-B3E0-2460FE33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05D9-CAEE-4019-8F8B-893108E6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32F1-CBA7-4FF5-B3CA-2A1D6896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3328-CBB8-4C38-BB4D-76FABE09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1633-A5B5-42BD-818E-08587C14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8533-668A-43F5-BB73-EC3DEB6C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B1689-AD72-4538-A7BB-48A225D4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803F6-A0CF-4CC1-B796-293AA937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2FC4F-F28A-4237-97DD-D3482965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D07F-AAB0-40D2-8D35-BBC7C418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620-B88B-4EDB-97EF-6E5FC00C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1CD1-11FD-419C-831A-BDAAC5DE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743DE-2FAE-423F-8BA0-997E8B3B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C8DE-4CD4-4FB6-937D-FA88844C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C9069-F652-4ED6-B632-64996D8F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AFD5D-8463-4BEA-AE60-CE643754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78F1-0871-4E2B-8B23-BB7FB44D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19C7-1A53-41DD-8B25-35F0EF54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6C73-81FF-4035-BB83-10E24C53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A8F4-A55A-4095-B317-CC23B152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8CB3D-6924-4C0F-A601-C528F9D0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FEB-D553-4182-881B-D660A43A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E7593-CC88-4824-9E84-CBD9A47A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FA459-9CE0-4103-88B9-8D1C6855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4C080-6197-46DE-ABE9-58FBFB5F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37598-356C-41CD-95F1-1E42CCB7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3E904-A85C-4C11-A591-0EA829AD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346B2-DB0C-4827-8622-8D27858D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754C0-F7CC-41BB-AA21-9A3C5119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F50ED-FE89-4707-85CC-C4F4A2FC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B9210-2C17-43D7-AA58-C629C69D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3253D-5059-4E60-91CF-D48D8561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7DA-3723-4A53-9B7F-496F53F3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99121-16CC-4569-8E38-47411D97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EA2EF-DAB8-4E1B-BFF9-6F61242C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8D420-3BCB-457A-AD66-C65D6D3A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FF74C-5889-47EB-B2EF-7AF41FCB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CCA3F-298F-48CC-BCCD-D80894B5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F1791-5597-419B-B323-91F87472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6C527-63F4-4616-B2FD-0D3DC31D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55E26-05E4-43CA-93DD-6F22EAB6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63668-C67B-42DD-BB84-9F428B44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C5D0B-4C13-44F6-9FD5-8DB93F77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15A-7CEA-4610-8A9B-AB706DA4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F942C-2623-45FC-A193-EFAD68B6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65A41-4831-40FD-9C30-440FDD0B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CC48B-1E63-43FF-8956-3685E4C6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22ED4-1CB7-4E37-99E9-F4AE6AD2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F9B9B-B661-46F4-8A9E-B71F5064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57CD7-86C8-44A3-94D4-45107AF7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68AD5-E8EC-454D-B2C1-00923D4C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9BF7C-1E14-4E03-926E-99FF34EE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E64EF-C92E-49B8-93E6-D4C754FF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678F5-9FC4-488E-BB7F-5AB640CA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69E-03AE-4EBD-B5B2-62BCD29C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CCFE5-2E64-48C3-9546-93E4A68E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92147-F529-4D70-87C1-EA17D428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B81AC-5EFA-4932-9B1E-4B5507C6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42075-4ADC-47FC-AAD4-055EB0C9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83D99-123D-4DF2-BE90-58B5D70E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784-4EF6-438A-BDB7-2449B599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4D80-063E-4ACD-9BB8-12347B8768B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EA08-74CB-4416-A47A-C6C35A0519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8489-FF07-4654-9B0B-E246D546C2E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B5D5-4F19-4911-BFB1-10BBF6E20B43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7A61-3E90-48E2-B453-094250D00C6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90E8-74E0-4262-AF30-9E457460CA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0CC6-14C0-4F1B-8246-5BC8BD82532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06F4-2317-464C-89C6-344125B579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AB22-AB72-45F7-818D-DE77B20B53B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7F29-B84C-45FB-8805-F65D595CF7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2D96-A5EA-47BF-9E94-1036D043FFFB}" type="datetime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C7C1-49EC-4DD3-B5B2-67ED9A44F055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3760-9A39-4EFA-9163-56109B89FCD5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76F5-8825-4F75-BACB-27161B164AC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www.president.gov.ua/documents/4182019-27613" TargetMode="External"/><Relationship Id="rId2" Type="http://schemas.openxmlformats.org/officeDocument/2006/relationships/hyperlink" Target="https://zakon.rada.gov.ua/laws/show/436/95" TargetMode="Externa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66600" y="719280"/>
            <a:ext cx="9259920" cy="15667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Object 1"/>
          <p:cNvGraphicFramePr/>
          <p:nvPr/>
        </p:nvGraphicFramePr>
        <p:xfrm>
          <a:off x="919080" y="2284560"/>
          <a:ext cx="7948800" cy="397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9080" y="2284560"/>
                    <a:ext cx="7948800" cy="39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C9EF-69D6-4E34-B317-1A010B70DE35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-73080" y="19080"/>
            <a:ext cx="1060560" cy="5619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571400" y="1357200"/>
            <a:ext cx="6715080" cy="257184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Рахунок 33 “Інші кошти” має такі </a:t>
            </a:r>
            <a:r>
              <a:rPr b="0" i="1" lang="uk-UA" sz="2000" spc="-1" strike="noStrike">
                <a:solidFill>
                  <a:srgbClr val="000000"/>
                </a:solidFill>
                <a:latin typeface="Century Gothic"/>
              </a:rPr>
              <a:t>субрахунки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1 “Грошові документи в національ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2 “Грошові документи в інозем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3 “Грошові кошти в дорозі в національ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4 “Грошові кошти в дорозі в іноземній валюті”.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335 "Електронні гроші, номіновані в національній валюті"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1143000" y="4000680"/>
            <a:ext cx="7643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алітичний облік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рошових коштів у дорозі може вестися в розрізі відділень зв’язку та інших установ (організацій), які прийняли перекази за кожним первинним документом, який підтверджує здавання грошових с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5"/>
          <p:cNvSpPr/>
          <p:nvPr/>
        </p:nvSpPr>
        <p:spPr>
          <a:xfrm>
            <a:off x="857160" y="14292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значений для узагальнення інформації про наявність і рух грошових документів (у національній та іноземній валюті) та про кошти в дороз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6"/>
          <p:cNvSpPr/>
          <p:nvPr/>
        </p:nvSpPr>
        <p:spPr>
          <a:xfrm>
            <a:off x="285840" y="55008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а дебетом рахунку 33 “Інші кошти” відображається надходження грошових документів до каси підприємства та коштів у дорозі, за кредитом – вибуття грошових документів і списання коштів у дорозі після їх зарахування на відповідні раху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A036-C462-4D37-B2B4-37DC92B011DF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хунк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"ІНШІ КОШТИ"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ться узагальнення інформації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наявність та рух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шових документі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національній 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оземній валюті), які знаходяться в касі підприємства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штови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ок, марок гербового збору, сплачених проїзних документів, сплачених путівок до санаторіїв, пансіонатів, будинків відпочин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що)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их грош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и в дороз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бто грошові суми, внесені в каси банків, ощадні каси або поштові відділенн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альшого їх зарахування на розрахункові або інші рахун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64BC-1B1C-47B0-B449-18F4A7D49588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хунк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5 "ЕЛЕКТРОННІ ГРОШІ, НОМІНОВАНІ В НАЦІОНАЛЬНІЙ ВАЛЮТІ"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ображаються операції з електронними грошима, які здійснюються комерційними агентами та користувачами, відповідно до нормативно-правових актів Національного банку України та правил використання електронних грошей, узгоджених з Національним банком України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B6DA-2BF8-4D30-B0BE-E35301A43FFC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і грош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диниці вартості, які зберігаються на електронному пристрої, приймаються як засіб платежу інши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ми, ніж особа, яка їх випускає, і є грошовим зобов'язанням цієї особи, що виконується в готівковій або безготівковій формі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цьому з метою бухгалтерського обліку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знаються електронними гроши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ред оплачені картки одноцільового використання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контні картки торговців, картки автозаправних 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нцій, квитки для проїзду в міському транспорті тощо, які приймаються як засіб платежу виключно їх емітент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28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542880" y="73080"/>
            <a:ext cx="8319960" cy="1407960"/>
          </a:xfrm>
          <a:prstGeom prst="rect">
            <a:avLst/>
          </a:prstGeom>
          <a:ln w="0">
            <a:noFill/>
          </a:ln>
        </p:spPr>
      </p:pic>
      <p:pic>
        <p:nvPicPr>
          <p:cNvPr id="362" name="Подзаголовок 2" descr=""/>
          <p:cNvPicPr/>
          <p:nvPr/>
        </p:nvPicPr>
        <p:blipFill>
          <a:blip r:embed="rId2"/>
          <a:stretch/>
        </p:blipFill>
        <p:spPr>
          <a:xfrm>
            <a:off x="433440" y="1444680"/>
            <a:ext cx="8240760" cy="1884240"/>
          </a:xfrm>
          <a:prstGeom prst="rect">
            <a:avLst/>
          </a:prstGeom>
          <a:ln w="0">
            <a:noFill/>
          </a:ln>
        </p:spPr>
      </p:pic>
      <p:grpSp>
        <p:nvGrpSpPr>
          <p:cNvPr id="363" name="Прямоугольник 3"/>
          <p:cNvGrpSpPr/>
          <p:nvPr/>
        </p:nvGrpSpPr>
        <p:grpSpPr>
          <a:xfrm>
            <a:off x="-96840" y="3797280"/>
            <a:ext cx="9112320" cy="2481120"/>
            <a:chOff x="-96840" y="3797280"/>
            <a:chExt cx="9112320" cy="2481120"/>
          </a:xfrm>
        </p:grpSpPr>
        <p:pic>
          <p:nvPicPr>
            <p:cNvPr id="36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-96840" y="3797280"/>
              <a:ext cx="911232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0" y="3835440"/>
              <a:ext cx="89298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У касі підприємства може зберігатися готівка, цінні папери, придбані у інших підприємств (акції, облігації тощо), грошові документи, які є бланками суворого обліку (трудові книжки та вкладні листки до них, квитанції подорожніх листів автотранспорту, бланки довіреностей тощо)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Грошовими документами</a:t>
              </a:r>
              <a:r>
                <a:rPr b="1" i="1" lang="uk-UA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вважаються документи, які знаходяться в касі підприємства: оплачені путівки в санаторії, пансіонати та будинки відпочинку; поштові марки; проїзні квитки тощ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7570800" cy="151128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80880" y="1990440"/>
            <a:ext cx="8120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Gothic"/>
              </a:rPr>
              <a:t>Посадова матеріально відповідальна особа, яка завідує касою, видачею та прийманням грошей і цінних паперів на підприємстві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2146-0298-4A80-A800-FE064EF7F1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-165240" y="-42840"/>
            <a:ext cx="9455400" cy="17492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42920" y="1752120"/>
            <a:ext cx="8858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Гранична сума готівкового розрахунку одного підприємства (підприємця) з іншим підприємством (підприємцем) протягом одного дня за одним або кількома платіжними документами встановлюється відповідною постановою Правління Національного банку України. Платежі понад зазначену граничну суму проводяться виключно в безготівковій формі. Кількість підприємств (підприємців), з якими здійснюються розрахунки, протягом дня не обмежується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0C1-629B-40B2-B508-28E6302E05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азначені обмеження не поширюються 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1) розрахунків суб'єктів господарювання з бюджетами та державними цільовими фондами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2) добровільних пожертвувань та благодійної допомоги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3) використання готівки, виданої на відрядження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4) виплат, пов'язаних з оплатою прац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5) використання готівкових коштів з фонду оперативно-розшукових (негласних слідчих) дій, створеного на виконання ч. 3 статті 24 Закону України "Про Національне антикорупційне бюро України"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'єкти господарювання мають право здійснювати розрахунки готівкою протягом одного дня за одним або кількома платіжними документами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іж собою - у розмірі до 10000 (десяти тисяч) гривень включно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 фізичними особами - у розмірі до 50000 (п'ятдесяти тисяч) гривень включ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20BB-7505-4D57-B1AD-FF3DCAAF98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95280" y="259920"/>
            <a:ext cx="829152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7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і особи мають право здійснювати розрахунки готівкою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76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 суб'єктами господарювання протягом одного дня за одним або кількома платіжними документами - у розмірі до 50 000 (п'ятдесяти тисяч) гривень уключ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6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іж собою за договорами купівлі-продажу, які підлягають нотаріальному посвідченню, у розмірі до 50 000 (п'ятдесяти тисяч) гривень уключ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ежі на суму, яка перевищує 50 000 гривень, здійснюються шляхом переказу коштів з поточного рахунку на поточний рахунок або внесення та/або переказу коштів на поточні рахунки (у тому числі на депозит нотаріуса на окремий поточний рахунок у національній валюті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7600" algn="just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FA8A-7E1E-4209-8420-14EAD95167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FFC8-320F-40B1-81CD-1E82081BC79B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214200" y="642960"/>
            <a:ext cx="8501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СТАНОВА ПРАВЛІННЯ НАЦІОНАЛЬНОГО БАНКУ УКРАЇН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ід 29 грудня 2017 р. № 14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о затвердження 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ложення про ведення касових операцій у національній  валюті в Україн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що визначає порядок ведення касових операцій у національній валюті України підприємствами (підприємцями), а також окремі питання організації банками роботи з готівко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івка видається під звіт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 закупівлю сільськогосподарської продукції та заготівлю вторинної сировини на строк не більше 10 робочих днів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 закупівлю брухту чорних металів і брухту кольорових металів - на строк не більше 30 робочих днів від дня видачі готівки під звіт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 всі інші виробничі (господарські) потреби - на строк не більше двох робочих днів, уключаючи день отримання готівки під звіт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A7E1-6551-4DFD-A903-51EF3845B4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ймання і видача готівки за касовими ордерами проводиться тільки в день їх складанн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равлення в касових ордерах та видаткових відомостях забороняютьс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2A09-748E-4AA7-9D9F-B192F4099A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Номер слайда 28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83" name="Подзаголовок 2" descr=""/>
          <p:cNvPicPr/>
          <p:nvPr/>
        </p:nvPicPr>
        <p:blipFill>
          <a:blip r:embed="rId2"/>
          <a:stretch/>
        </p:blipFill>
        <p:spPr>
          <a:xfrm>
            <a:off x="426960" y="420840"/>
            <a:ext cx="8309160" cy="183492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3" descr=""/>
          <p:cNvPicPr/>
          <p:nvPr/>
        </p:nvPicPr>
        <p:blipFill>
          <a:blip r:embed="rId3"/>
          <a:stretch/>
        </p:blipFill>
        <p:spPr>
          <a:xfrm>
            <a:off x="225360" y="3932280"/>
            <a:ext cx="84805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8669-9098-47A9-9DC9-FDCBA5BC4C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39680" y="0"/>
            <a:ext cx="89917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C667-109A-47D3-8338-F15D0B5818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0916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міт каси вважається нульови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установою/підприємством його не встановлено (незалежно від причин такого невстановлення)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я готівка, що перебуває в касі установи/підприємства на кінець робочого дня і не здана нею/ним відповідно до вимог Положення № 148, уважається понадлімітною, якщо установою/підприємством ліміт каси не встановлено (незалежно від причин такого невстановлення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4A87-4EFD-4ECE-A46B-59A9C667F8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2D53-D181-4964-B8EA-E98619A3DB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Схема 7" descr=""/>
          <p:cNvPicPr/>
          <p:nvPr/>
        </p:nvPicPr>
        <p:blipFill>
          <a:blip r:embed="rId1"/>
          <a:stretch/>
        </p:blipFill>
        <p:spPr>
          <a:xfrm>
            <a:off x="122400" y="1968480"/>
            <a:ext cx="9551880" cy="5164200"/>
          </a:xfrm>
          <a:prstGeom prst="rect">
            <a:avLst/>
          </a:prstGeom>
          <a:ln w="0">
            <a:noFill/>
          </a:ln>
        </p:spPr>
      </p:pic>
      <p:pic>
        <p:nvPicPr>
          <p:cNvPr id="394" name="Заголовок 4" descr=""/>
          <p:cNvPicPr/>
          <p:nvPr/>
        </p:nvPicPr>
        <p:blipFill>
          <a:blip r:embed="rId2"/>
          <a:stretch/>
        </p:blipFill>
        <p:spPr>
          <a:xfrm>
            <a:off x="73080" y="0"/>
            <a:ext cx="9064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6F81-3933-4CD7-A1C3-CDEE78BE53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31840" y="396720"/>
            <a:ext cx="898524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AF99-3CBB-4E1E-AF10-68FF3BFA46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14200" y="14256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ідприємства мають право зберігати у своїй касі готівку, одержану в банку для виплат, що належать до фонду оплати праці, а також пенсій, стипендій, дивідендів (доходу),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над установлений ліміт каси протягом трьох робочих днів, уключаючи день одержання готівки в банку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 Для проведення цих виплат працівникам віддалених відокремлених підрозділів підприємств залізничного транспорту та морських портів готівка може зберігатися в їх касах понад установлений ліміт каси протягом п’яти робочих днів, уключаючи день одержання готівки в банку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Готівка, що одержана в банку на інші виплати, має видаватися підприємством своїм працівникам у той самий день. Суми готівки, що одержані в банку і не використані за призначенням протягом установлених вище строків, повертаються підприємством до банку не пізніше наступного робочого дня банку або можуть залишатися в його касі (у межах установленого ліміту)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156A-CAEE-4E78-9EE2-81E02A64C2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0" y="-182520"/>
            <a:ext cx="9156600" cy="206676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0" y="1428840"/>
          <a:ext cx="9144000" cy="3103560"/>
        </p:xfrm>
        <a:graphic>
          <a:graphicData uri="http://schemas.openxmlformats.org/drawingml/2006/table">
            <a:tbl>
              <a:tblPr/>
              <a:tblGrid>
                <a:gridCol w="388800"/>
                <a:gridCol w="5764320"/>
                <a:gridCol w="2990880"/>
              </a:tblGrid>
              <a:tr h="8175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/п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115416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менування показникі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ктично за три будь-які місяці поспіль з останніх дванадцяти, що передують строку встановлення (перегляду) ліміту кас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тівкова виручка (надходження до кас, крім сум, що одержані з банк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ьоденні надходження (рядок 1 розділити на кількість робочих днів підприємства за три місяці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1866960"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плачено готівкою на різні потреби, а/також на відрядження (крім виплат, пов'язаних з оплатою праці, пенсій, стипендій, дивіденд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ьоденна видача готівки (рядок 3 розділити на кількість робочих днів підприємства за три місяці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0" y="4572000"/>
          <a:ext cx="9144000" cy="642960"/>
        </p:xfrm>
        <a:graphic>
          <a:graphicData uri="http://schemas.openxmlformats.org/drawingml/2006/table">
            <a:tbl>
              <a:tblPr/>
              <a:tblGrid>
                <a:gridCol w="4429080"/>
                <a:gridCol w="4714920"/>
              </a:tblGrid>
              <a:tr h="268200">
                <a:tc>
                  <a:txBody>
                    <a:bodyPr lIns="25200" rIns="25200" tIns="0" bIns="0" anchor="t">
                      <a:noAutofit/>
                    </a:bodyPr>
                    <a:p>
                      <a:pPr marL="8287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менування показник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609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ановлено підприємство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Ліміт залишку готівки в кас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0" y="5270400"/>
          <a:ext cx="9144000" cy="1444680"/>
        </p:xfrm>
        <a:graphic>
          <a:graphicData uri="http://schemas.openxmlformats.org/drawingml/2006/table">
            <a:tbl>
              <a:tblPr/>
              <a:tblGrid>
                <a:gridCol w="4429080"/>
                <a:gridCol w="4714920"/>
              </a:tblGrid>
              <a:tr h="834480">
                <a:tc>
                  <a:txBody>
                    <a:bodyPr lIns="25200" rIns="25200" tIns="0" bIns="0" anchor="ctr">
                      <a:noAutofit/>
                    </a:bodyPr>
                    <a:p>
                      <a:pPr marL="819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менування показник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60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значається строк здавання готівкової виручки (готівки) та зазначаються реквізити договорів банківських рахункі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Строки здавання готівкової виручки (готівк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27" name="Подзаголовок 2" descr=""/>
          <p:cNvPicPr/>
          <p:nvPr/>
        </p:nvPicPr>
        <p:blipFill>
          <a:blip r:embed="rId2"/>
          <a:stretch/>
        </p:blipFill>
        <p:spPr>
          <a:xfrm>
            <a:off x="396720" y="2670120"/>
            <a:ext cx="830916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410C-8527-48DC-A247-2A459A2DE1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50920" y="620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06.2019 року набрав чинності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1"/>
              </a:rPr>
              <a:t>Указ Президента України від 20.06.2019 р. № 418/2019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им скасовано низку попередніх Указів, зокрема </a:t>
            </a:r>
            <a:r>
              <a:rPr b="0" lang="ru-RU" sz="30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2"/>
              </a:rPr>
              <a:t>Указ від 12.06.1995 р. № 436 «Про застосування штрафних санкцій за порушення норм з регулювання обігу готівки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Фінансова відповідальність за порушення норм використання готівки скасован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лишилась АДМ</a:t>
            </a: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НІСТРАТИВНА відповідальність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Номер слайда 5"/>
          <p:cNvSpPr/>
          <p:nvPr/>
        </p:nvSpPr>
        <p:spPr>
          <a:xfrm>
            <a:off x="8450280" y="809640"/>
            <a:ext cx="503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6295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іністративна відповідальні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гляді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у від 100 до 200 неоподатковуваних мінімумів доходів громадян, тобто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1700 до 3400 гр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за порушення порядку проведення готівкових розрахунків за товари (послуги), у т.ч.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евищення граничних сум розрахунків готівкою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дотримання установлених законодавством вимог щодо забезпечення можливості розрахунків за товари (послуги) з використанням електронних платіжних засобів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вторне порушення протягом рок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штраф від 500 до 1000 неоподатковуваних мінімумів доходів громадян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ід 8500 до 17000 грн.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і операції оформляютьс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ими ордерами, видатковими відомостями, розрахунковими документами, документами за операціями із застосуванням електронних платіжних засобів, іншими касовими документами, які згідно із законодавством України підтверджували б факт продажу (повернення) товарів, надання послуг, отримання (повернення) готівки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і докумен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уть бут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еровими або електронним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лектронні касові документи повинні бути оформлені відповідно до вимог законодавства України у сфері електронного документообігу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 установи/підприємства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ідписання електронного касового документ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обов’язаний використовувати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ований електронний підпис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3C93-969C-40C3-83D1-7F41B94E99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м, що свідчить про здавання виручки до банку та є підтвердженням оприбуткування готівки в касі суб'єктів господарюванн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є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витанція до прибуткового документа банку на внесення готівки, підписана відповідальними особами банку та засвідчена відбитком печатки банку (за потреби)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витанція/чек банкомата чи програмно-технічного комплексу самообслуговування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ретій примірник "Копія супровідної відомості до сумки з готівкою", засвідчений підписом та відбитком печатки інкасатора-збирач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чек платіжного термінала в разі проведення інкасації коштів у режимі реального часу з використанням платіжних терміналів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1E03-F671-4E79-B89C-741005CB17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BBC5-3238-44BB-A2ED-FCD0DF316386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92160" y="-139680"/>
            <a:ext cx="1157040" cy="669276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1428840" y="357120"/>
            <a:ext cx="75722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сові операції оформлюються документами, типові міжвідомчі форми яких затверджені Міністерством статистики України за згодою Національного банку України та Міністерства фінансів України, і які повинні застосовуватися без змін на всіх підприємствах, незалежно від їх відомчої підпорядкованості та форми власност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Rectangle 1" descr=""/>
          <p:cNvPicPr/>
          <p:nvPr/>
        </p:nvPicPr>
        <p:blipFill>
          <a:blip r:embed="rId2"/>
          <a:stretch/>
        </p:blipFill>
        <p:spPr>
          <a:xfrm>
            <a:off x="1755720" y="2932200"/>
            <a:ext cx="69184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8913-03BA-4F3E-BDB2-5184DE2FEDC8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39A1-F445-4C34-B6BD-47C887B4FC20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58680" y="644400"/>
            <a:ext cx="898704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0996-2FFE-4991-80B8-20670EA5882A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73080" y="71280"/>
            <a:ext cx="8999640" cy="5016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57240" y="3857760"/>
            <a:ext cx="9015480" cy="28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E32D-2ABF-4DDA-B736-CC47802FFE1C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31760" y="258840"/>
            <a:ext cx="886932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B46D-8896-44CD-9FFC-1D68A1F11B72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114560" y="31680"/>
            <a:ext cx="62434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29" name="Подзаголовок 2" descr=""/>
          <p:cNvPicPr/>
          <p:nvPr/>
        </p:nvPicPr>
        <p:blipFill>
          <a:blip r:embed="rId2"/>
          <a:stretch/>
        </p:blipFill>
        <p:spPr>
          <a:xfrm>
            <a:off x="396720" y="2670120"/>
            <a:ext cx="830916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9308-92B0-40F7-BF7F-E4DB653742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Заголовок 7" descr=""/>
          <p:cNvPicPr/>
          <p:nvPr/>
        </p:nvPicPr>
        <p:blipFill>
          <a:blip r:embed="rId1"/>
          <a:stretch/>
        </p:blipFill>
        <p:spPr>
          <a:xfrm>
            <a:off x="0" y="-182520"/>
            <a:ext cx="9339120" cy="1835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214280" y="3427200"/>
            <a:ext cx="685800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9a003b"/>
                </a:solidFill>
                <a:uFillTx/>
                <a:latin typeface="Arial"/>
                <a:ea typeface="Arial"/>
              </a:rPr>
              <a:t>ВИТРАЧАННЯ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тівки з каси оформлюється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видатковим касовим ордером (ВКО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. Він підписується керівником і головним бухгалтером підприємства або особами, ними уповноваженим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58104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КО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00080" y="1647720"/>
            <a:ext cx="6858000" cy="18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100000"/>
              </a:lnSpc>
              <a:spcBef>
                <a:spcPts val="4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9a003b"/>
                </a:solidFill>
                <a:uFillTx/>
                <a:latin typeface="Arial"/>
                <a:ea typeface="Arial"/>
              </a:rPr>
              <a:t>ОПРИБУТКУВАННЯ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тівки в касу здійснюється на підставі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рибуткового касового ордера (ПКО)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підписаного головним бухгалтером, або уповноваженими на це особами письмовим розпорядженням керівника підприємства, і касиром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39560"/>
            <a:ext cx="58104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ПКО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Прямоугольник 6"/>
          <p:cNvSpPr/>
          <p:nvPr/>
        </p:nvSpPr>
        <p:spPr>
          <a:xfrm>
            <a:off x="142920" y="5000760"/>
            <a:ext cx="8858160" cy="1830600"/>
          </a:xfrm>
          <a:prstGeom prst="rect">
            <a:avLst/>
          </a:prstGeom>
          <a:solidFill>
            <a:srgbClr val="000000">
              <a:alpha val="17000"/>
            </a:srgbClr>
          </a:solidFill>
          <a:ln w="9360">
            <a:solidFill>
              <a:srgbClr val="ffffff"/>
            </a:solidFill>
            <a:prstDash val="sysDash"/>
            <a:miter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Arial"/>
              </a:rPr>
              <a:t>У прибуткових і видаткових касових ордерах, які оформлюються на загальну суму проведених підприємством касових операцій (видача готівки за платіжними (розрахунково-платіжними) відомостями, за платіжними картками, здавання готівки до банку, отримання готівки з банку за чеком та оприбуткування її в касі тощо), реквізит “Отримувач” або “Від кого” не заповнюєтьс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C688-1335-4A3F-A8C5-9527BB0ED3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ймання готівки в каси проводиться за прибутковими касовими ордерами, підписаними головним бухгалтером або особою, уповноваженою керівником підприємства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 приймання підприємствами готівки в касу за прибутковими касовими ордерами видається засвідчена відбитком печатки цього підприємства квитанція (що є відривною частиною прибуткового касового ордера) за підписами головного бухгалтера або працівника підприємства, який на це уповноважений керівником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FF9B-5A12-4216-930F-DDE978332F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2920" y="21420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У разі видачі окремим фізичним особам готівки (у тому числі працівникам підприємства) за видатковим касовим ордером або видатковою відомістю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сир вимагає пред’явити паспорт чи документ, що його замінює, записує його найменування і номер, ким і коли він виданий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. Фізична особа розписується у видатковому касовому ордері або видатковій відомості про одержання готівки із зазначенням одержаної суми (гривень — словами, копійок — цифрами), використовуючи чорнильну або кулькову ручку з чорнилом темного кольору. Якщо видаткова відомість складена на видачу готівки кільком особам, то одержувачі також пред’являють паспорти чи документи, що їх замінюють, і розписуються у відповідній графі документа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9564-EA1E-4856-9220-8DA2B5340A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 algn="just">
              <a:lnSpc>
                <a:spcPct val="80000"/>
              </a:lnSpc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видача готівки проводиться за довіреністю, оформленою у встановленому порядку згідно із законодавством України, у тому числі й особи, що не має змоги у зв’язку з хворобою або з інших поважних причин поставити підпис власноручно, то в тексті ордера після прізвища, імені та по батькові одержувача готівки бухгалтер зазначає прізвище, ім’я та по батькові особи, якій довірено одержати готівк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358920" algn="just">
              <a:lnSpc>
                <a:spcPct val="80000"/>
              </a:lnSpc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разі видачі готівки за видатковою відомістю перед підписом про одержання грошей касир робить у ній напис “За довіреністю”. Видача готівки за довіреністю проводиться відповідно до вимог, передбачених у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ункті 3.5 цієї глав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Довіреність залишається в касира і додається до видаткового касового ордера або видаткової відомості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1540-91EF-434A-93B5-DCB6C12486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85480" y="14292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ісля закінчення встановлених строків виплат, пов’язаних з оплатою праці за видатковими відомостями, касир зобов’язаний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у видатковій відомості проти прізвища осіб, яким не здійснено виплату, поставити відбиток штампа або зробити напис “Депоновано"; скласти реєстр депонованих сум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у кінці видаткової відомості зазначити фактично виплачену суму та недоодержану суму виплат, яка підлягає депонуванню, звірити ці суми із загальним підсумком за видатковою відомістю і засвідчити напис своїм підписом. Якщо готівкові кошти видавалися не касиром, а іншою особою, то на відомості додатково робиться напис “Готівку за відомістю видав (підпис)"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здійснити відповідний запис у касовій книзі згідно з виписаним бухгалтерією видатковим касовим ордером на фактично видану суму за видатковою відомістю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1C2B-AA38-4CC4-BD77-67B861972B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14200" y="1371600"/>
            <a:ext cx="8715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У касових ордерах, які оформляються на загальну суму проведених підприємством касових операцій (видача готівки за видатковими відомостями, платіжними картками, здавання готівки до банку, отримання готівки з банку за чеком та оприбуткування її в касі тощо), реквізит “Одержав” або “Прийнято від” не заповнюєтьс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E3D6-B094-45C2-9686-9F1D73509C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302680" cy="13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142920" y="2000160"/>
          <a:ext cx="8858160" cy="4632480"/>
        </p:xfrm>
        <a:graphic>
          <a:graphicData uri="http://schemas.openxmlformats.org/drawingml/2006/table">
            <a:tbl>
              <a:tblPr/>
              <a:tblGrid>
                <a:gridCol w="733320"/>
                <a:gridCol w="3537000"/>
                <a:gridCol w="3059280"/>
                <a:gridCol w="1528560"/>
              </a:tblGrid>
              <a:tr h="61596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сподарська операці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ідста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бет рахун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 rowSpan="3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давання готівкової виручки до банку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320" rIns="67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’ява на внесення готі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0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0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 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стій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 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ляхом інкасації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провідна відомі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ача під звіт на господарські потреб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аз керівника підприєм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ача під звіт на відрядж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аз керівника підприємства, посвідчення на відрядж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плата заробітної плати, допомоги, матеріальної допомо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іжна (розрахунково-платіжна) відомі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Прямоугольник 3"/>
          <p:cNvSpPr/>
          <p:nvPr/>
        </p:nvSpPr>
        <p:spPr>
          <a:xfrm>
            <a:off x="285840" y="113976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Таблиця 1. Документи, які є підставою для оформлення видаткових касових ордер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E002-3D36-44C5-B19D-5E728DDA8C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1920" y="142560"/>
            <a:ext cx="89917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Щоденно в кінці робочого дня касир підсумовує операції за день, виводить залишок готівки в касі на початок наступного дня і передає до бухгалтерії я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віт касира другі примірники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що є відривною частиною аркуша касової книги (копію записів у касовій книзі за день), з прибутковими і видатковими касовими ордерами під підпис у касовій книзі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жне підприємство (юридична особа), що має касу, вед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дну касову книгу для обліку операцій з готівкою в національній валют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без урахування кас відокремлених підрозділів)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3870-32C6-44E3-93F1-2B3905E4D46D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500040" y="356760"/>
            <a:ext cx="8215200" cy="68580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Century Gothic"/>
              </a:rPr>
              <a:t>Таблиця 2. Документи, які підтверджують рух готівки підприємств у сфері торгівлі, громадського харчування та послуг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14200" y="1357200"/>
          <a:ext cx="8786880" cy="5000760"/>
        </p:xfrm>
        <a:graphic>
          <a:graphicData uri="http://schemas.openxmlformats.org/drawingml/2006/table">
            <a:tbl>
              <a:tblPr/>
              <a:tblGrid>
                <a:gridCol w="411120"/>
                <a:gridCol w="1435320"/>
                <a:gridCol w="2406600"/>
                <a:gridCol w="453384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докумен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инні докумен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начення докумен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КЧ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іскальний касовий чек на товари (послуг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ий документ, надрукований реєстратором розрахункових операцій при проведенні розрахунків за продані товари (надані послуг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КЧ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іскальний касовий чек видачі кошт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ий документ, надрукований реєстратором розрахункових операцій при проведенні розрахунків у випадку видачі коштів покупцеві при поверненні товару, рекомпенсації послуги, прийнятті цінностей під заставу, виплаті виграшів у державні лотереї та в інших випад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К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а квитан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ий документ, бланк якого виготовлено друкарським способом, а окремі реквізити заповнюються від руки або шляхом проштампування при реєстрації розрахунків за продані товари (надані послуги) або при видачі коштів покупцеві у випадку повернення товару, рекомпенсації послуги, прийняття цінностей під заставу та в інших випад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Номер слайда 28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E5E4-C798-4044-85CE-B32DAD9F8F88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731880" y="347760"/>
            <a:ext cx="7862760" cy="204768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3"/>
          <p:cNvSpPr/>
          <p:nvPr/>
        </p:nvSpPr>
        <p:spPr>
          <a:xfrm>
            <a:off x="714240" y="3286080"/>
            <a:ext cx="8286840" cy="1144800"/>
          </a:xfrm>
          <a:prstGeom prst="rect">
            <a:avLst/>
          </a:prstGeom>
          <a:gradFill rotWithShape="0">
            <a:gsLst>
              <a:gs pos="0">
                <a:srgbClr val="e9e9e9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У кінці кожного робочого дня касир підбиває підсумки операцій за день, виводить залишок грошей в касі на наступне число та передає до бухгалтерії звіт касир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214200" y="5143680"/>
            <a:ext cx="8643960" cy="151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віт касир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це документ, який передається касиром підприємства в бухгалтерію, і є відривним листком Касової книги з додатком прибуткових і видаткових касових документів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7424640" cy="1596960"/>
          </a:xfrm>
          <a:prstGeom prst="rect">
            <a:avLst/>
          </a:prstGeom>
          <a:ln w="0">
            <a:noFill/>
          </a:ln>
        </p:spPr>
      </p:pic>
      <p:pic>
        <p:nvPicPr>
          <p:cNvPr id="331" name="Текст 2" descr=""/>
          <p:cNvPicPr/>
          <p:nvPr/>
        </p:nvPicPr>
        <p:blipFill>
          <a:blip r:embed="rId2"/>
          <a:stretch/>
        </p:blipFill>
        <p:spPr>
          <a:xfrm>
            <a:off x="579600" y="1920960"/>
            <a:ext cx="760068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B4D5-F519-45E6-9703-4DBDA330623D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оугольник 4"/>
          <p:cNvSpPr/>
          <p:nvPr/>
        </p:nvSpPr>
        <p:spPr>
          <a:xfrm>
            <a:off x="785880" y="2413080"/>
            <a:ext cx="7929360" cy="265356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У кінці місяця бухгалтер збирає всі касові звіти з підшитими до них первинними документами за датами в зростаючому порядку та зшиває в окрему папку. Контроль за правильним веденням Касової книги здійснює головний бухгалтер підприєм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33" name="Подзаголовок 2" descr=""/>
          <p:cNvPicPr/>
          <p:nvPr/>
        </p:nvPicPr>
        <p:blipFill>
          <a:blip r:embed="rId2"/>
          <a:stretch/>
        </p:blipFill>
        <p:spPr>
          <a:xfrm>
            <a:off x="414360" y="2603520"/>
            <a:ext cx="82724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7570800" cy="1730160"/>
          </a:xfrm>
          <a:prstGeom prst="rect">
            <a:avLst/>
          </a:prstGeom>
          <a:ln w="0">
            <a:noFill/>
          </a:ln>
        </p:spPr>
      </p:pic>
      <p:pic>
        <p:nvPicPr>
          <p:cNvPr id="335" name="Текст 2" descr=""/>
          <p:cNvPicPr/>
          <p:nvPr/>
        </p:nvPicPr>
        <p:blipFill>
          <a:blip r:embed="rId2"/>
          <a:stretch/>
        </p:blipFill>
        <p:spPr>
          <a:xfrm>
            <a:off x="255600" y="1847880"/>
            <a:ext cx="83343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І ОПЕРАЦІЇ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ерації суб'єктів господарювання між собою та з фізичними особами, пов'язані з прийманням і видачею готівки під час проведення розрахунків через касу з відображенням цих операцій у відповідних книгах облік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1112-B6D0-4D60-8D4B-68277C0F8E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55F1-394C-4999-B402-A2A3D6CBCBAB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0" y="665280"/>
            <a:ext cx="1060560" cy="48337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571400" y="1357200"/>
            <a:ext cx="6715080" cy="142416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Рахунок 30 “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Го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тівка” має такі </a:t>
            </a:r>
            <a:r>
              <a:rPr b="0" i="1" lang="uk-UA" sz="2000" spc="-1" strike="noStrike">
                <a:solidFill>
                  <a:srgbClr val="000000"/>
                </a:solidFill>
                <a:latin typeface="Century Gothic"/>
              </a:rPr>
              <a:t>субрахунки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301 “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Готівка в</a:t>
            </a: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 національ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302 “Готівка в інозем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Прямоугольник 4"/>
          <p:cNvSpPr/>
          <p:nvPr/>
        </p:nvSpPr>
        <p:spPr>
          <a:xfrm>
            <a:off x="1116000" y="3429000"/>
            <a:ext cx="7572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алітичний облік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же вестися за кожною операційною касою або касиром, що забезпечує реалізацію функції збереження майна власника, а також за видами вал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5"/>
          <p:cNvSpPr/>
          <p:nvPr/>
        </p:nvSpPr>
        <p:spPr>
          <a:xfrm>
            <a:off x="1214280" y="35712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значений для узагальнення інформації про наявність і рух грошових коштів у касі підприєм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7"/>
          <p:cNvSpPr/>
          <p:nvPr/>
        </p:nvSpPr>
        <p:spPr>
          <a:xfrm>
            <a:off x="214200" y="54450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дебетом рахунку 30 “Готівка” відображається надходження грошових коштів до каси підприємства, за кредитом – виплата (витрачання) готі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04:05Z</dcterms:created>
  <dc:creator>Александра</dc:creator>
  <dc:description/>
  <dc:language>en-US</dc:language>
  <cp:lastModifiedBy>MSI</cp:lastModifiedBy>
  <cp:lastPrinted>2014-02-20T05:51:03Z</cp:lastPrinted>
  <dcterms:modified xsi:type="dcterms:W3CDTF">2021-11-27T19:04:01Z</dcterms:modified>
  <cp:revision>144</cp:revision>
  <dc:subject/>
  <dc:title>Курс лекцій</dc:title>
</cp:coreProperties>
</file>