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28.wmf" ContentType="image/x-wmf"/>
  <Override PartName="/ppt/media/image35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ABF-11AF-449C-A3CD-109A9047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336-FFBF-4BFB-98BB-E48136E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454-D954-4FA6-B3AB-BC594C6D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8A7-0D89-40AB-A97E-BC4BA7E7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FAB1-FA01-4627-B45F-5A4E8F56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38AC-42E2-4796-B33A-F5430EE2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7A74-8AE8-468D-8D95-A5DB320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6A2-D033-4500-B5C9-AB0B3193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F1B2-614B-41AD-A4A7-D39C0F9D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36E-C222-4341-8435-B8D93FC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0DD-8061-4197-90D9-26FDDE8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01E-D28B-4C76-A0EC-5F212FB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D84-A432-41DD-824F-14A7CE4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D0E3-99CD-4059-9D75-5D8F38D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FB1-2C01-4148-8FBE-5F56503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010-E601-49E2-A9C2-A57AB336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DB9-21D9-48D5-AAF8-4EE20154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FE7E-B8D0-455B-BC9A-0157F97B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B1C5-2DAB-4F29-BE9A-A9F97EE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B98A-A583-46E5-ACDB-5D70D44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2693-2CF6-44E5-849F-B8F4535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C400-9BDC-49B7-A2A1-E5805B3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921-5804-471C-B640-AD126A3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5C13-18DA-49C5-B3D0-1677777C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A097-1C4D-47DE-AB4A-7E7B34A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2D5E-EE28-4712-BED4-223F489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BA6A-E1CB-4439-9EF9-2FDB990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2644-11B8-4C82-B6BF-EDA7272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01CE-182B-460F-8A52-399E12C5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91D8-58F1-4DCE-88C6-79679F1F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16A7-F661-4629-ADA2-DC3D2FC4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85C3-9C7B-4F0C-9EE6-3BD255D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E5E3-2B13-4429-B191-A6D660FC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145-3846-46BF-BCEE-E150061D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6A62-4742-4EEF-BAFC-010760D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6578-FBDA-4010-BFDC-7F73B17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E53E-6F6B-4A14-956C-E912732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EE67-8BF6-4B4A-9A45-D3FBD2D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3D6B-4811-471F-9874-4395A55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EFB1-6C10-4B9E-AC84-831DD04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1F45-C74E-4D12-B01A-952794C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BC50-C6CA-4031-8BD6-34715584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EE8A-6A8E-427A-8D92-238E96D6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56B0-983E-41AD-B275-1CD4B389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62D-7AF7-4E35-8E7F-DC78844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3820-9D9F-4F2E-BEEE-364254A2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F23D-0BCC-4108-86E3-8F09ADF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E32C-B419-4D86-B273-A7CBF01C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7E10-C668-4ED8-8861-9667FF9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95F6-BE45-4998-AAC4-0FA1753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D113-1518-4C8B-92CD-D05CB12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EF0A-E36A-44E3-8E43-4E7D014A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76A1-CCE2-4AEE-80AB-53B4028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8E3B-7BD0-4697-B1B1-AE9B90E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73FD-D2DA-47FA-9C3A-87981A1D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67C-1639-473D-95BF-6B72398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876E-D5A7-434C-B2BF-00EB469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1FF-FA11-4001-A4AC-641AFCF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E4D-1024-405D-8DEF-88FF0615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7FC-AAFC-4081-9E1E-3A710EF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FA7-2448-461E-A180-1AD03D79627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938-15F1-485F-825F-D824061334C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C10-97BB-4318-821A-13C08E7A8F6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942E-F213-46DF-8150-F77133BEAE6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967-FE0C-4B35-87C2-2D28F7DBBD1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earch.ligazakon.ua/l_flib1.nsf/LookupFiles/reg5559_img_015.gif/$file/reg5559_img_015.gif" TargetMode="External"/><Relationship Id="rId2" Type="http://schemas.openxmlformats.org/officeDocument/2006/relationships/hyperlink" Target="http://zakon0.rada.gov.ua/laws/show/z0377-04/page5" TargetMode="External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152280" y="-79200"/>
            <a:ext cx="9577440" cy="71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4" descr=""/>
          <p:cNvPicPr/>
          <p:nvPr/>
        </p:nvPicPr>
        <p:blipFill>
          <a:blip r:embed="rId1"/>
          <a:stretch/>
        </p:blipFill>
        <p:spPr>
          <a:xfrm>
            <a:off x="-334800" y="79200"/>
            <a:ext cx="9478800" cy="1414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5228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ласник рахунку (чекодавець) дає письмове розпорядження платнику (банку, який видав грошові чеки) сплатити певну суму, зазначену в чеку, утримувачу коштів (чекодержателю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цього підприємство в установі банку придбає чекові книжки, строк дії яких один рік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WordArt 2"/>
          <p:cNvSpPr txBox="1"/>
          <p:nvPr/>
        </p:nvSpPr>
        <p:spPr>
          <a:xfrm>
            <a:off x="457200" y="106668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ош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евна сума коштів вноситься на особливий рахунок – рахунок лімітованої чекової книжки. У межах цього ліміту підприємства виписують розрахункові чеки постачальник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РОЗРАХУНКОВИЙ ЧЕК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– це розрахунковий документ, що містить письмове розпорядження власника рахунка (чекодавця) установі банку (банку-емітенту), в якому він має відкритий рахунок, сплатити чекодержателю вказану в чеку суму коштів з його рахун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WordArt 2"/>
          <p:cNvSpPr txBox="1"/>
          <p:nvPr/>
        </p:nvSpPr>
        <p:spPr>
          <a:xfrm>
            <a:off x="380880" y="763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озрахунк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60840"/>
            <a:ext cx="9001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ля </a:t>
            </a:r>
            <a:r>
              <a:rPr b="0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криття акредитиву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підприємство подає до банку заяву на акредитив (зразок 3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разок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1" lang="uk-UA" sz="25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ЯВА НА АКРЕДИТ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 11 вересня 20хх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ржано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500800" y="500040"/>
            <a:ext cx="11430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50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921360" y="30636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11  вересня 20хх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1397160"/>
          <a:ext cx="7696440" cy="4951080"/>
        </p:xfrm>
        <a:graphic>
          <a:graphicData uri="http://schemas.openxmlformats.org/drawingml/2006/table">
            <a:tbl>
              <a:tblPr/>
              <a:tblGrid>
                <a:gridCol w="3405240"/>
                <a:gridCol w="4291200"/>
              </a:tblGrid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явник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 “Вере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12578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енефіці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ро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814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-емітент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Укрсі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стень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бенефіціар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Західінко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Житомир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8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крийте нам акредит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критий відзив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вид акредити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ок дії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21 вересня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сімдесят тисяч гривень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цифрами і літерам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редитив у іншому (виконуючо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викона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за рахунок коштів платника, депонованих у виконуючому банку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інкасацією документів до банку-емітен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) через кореспондуючий рахунок банку-емітен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уповноваженого покупця </a:t>
                      </a: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Борейко Б.І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зайве закресли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 акцептом (чиїм), без акцеп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мови акредитива до виконуюч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направи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спецзв’язко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коротким повідомлення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електронною поштою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летайп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Інші лінії зв’язку, вказати які. Зайве закреслити)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 (чи акцепт) здійснити про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рахунок-фактура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перелік документів, які додаються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еєстру документів за акредитиво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говір № 32 від 17.02.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товарів, виконаних робіт, наданих послу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аливо 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кількість, ціна, сум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даткові умови: ‑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5"/>
          <p:cNvSpPr/>
          <p:nvPr/>
        </p:nvSpPr>
        <p:spPr>
          <a:xfrm>
            <a:off x="1785960" y="6445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дписи заявників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ереденко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.О. Серед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кредитиву            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тюк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К.С. Костю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52320" y="762120"/>
            <a:ext cx="7882200" cy="16095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75438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латіжний документи, за яким кредитна установа (банк, страхова компанія, фонд тощо) дає розпорядження іншій кредитній установі за рахунок спеціально заброньованих коштів оплатити товарно-транспортні документи на відвантажений товар чи виплатити пред’явникові акредитиву зазначену суму грошей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22400" y="1146240"/>
            <a:ext cx="8697600" cy="1523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2895480"/>
            <a:ext cx="761976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) грошовий акредитив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) товарний (документарний) акредитив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92160" y="1146240"/>
            <a:ext cx="8807400" cy="1322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0872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іменний грошовий документ, в якому зазначено розпорядження банку про виплату власнику вказаної суми повністю або частинами.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92160" y="781200"/>
            <a:ext cx="8727840" cy="1839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8504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 документ, в якому імпортер дає доручення банку, який його обслуговує, здійснити оплату документів третій особі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30240"/>
            <a:ext cx="8575560" cy="2517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85040" cy="40388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назва та адреса експортера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сума акредитиву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термін його дії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рід товарів, які потрібно оплатити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документи, які повинні бути пред’явлені експортером для отримання платежу (транспортні документи, страхові поліси, сертифікати якості товарів тощо)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165240" y="1146240"/>
            <a:ext cx="8654760" cy="1170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361360" cy="29941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окрит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Непокрит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кличн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Безвідкличний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2600" y="549360"/>
            <a:ext cx="8807400" cy="1846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361360" cy="30700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акредитив, для здійснення платежів за яким завчасно бронюються кошти платника в повній сумі на окремому рахунку в банку-емітенті або у виконуючому банку. Кошти заявника акредитива бронюються на аналітичному рахунку «Розрахунки за акредитивами» відповідних балансових рахунків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-244440" y="139680"/>
            <a:ext cx="100584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165240" y="549360"/>
            <a:ext cx="8654760" cy="184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85040" cy="30700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кредитив, оплата за яким (якщо тимчасово немає коштів на рахунку платника) гарантується банком-емітентом за рахунок банківського кредиту. 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92160" y="396720"/>
            <a:ext cx="8727840" cy="1846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61360" cy="3222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Акредитив, який може бути змінений або анульований банком-емітентом у будь-який час без попереднього повідомлення бенефіціара (наприклад, у разі недотримання умов, передбачених договором, дострокової відмови банком-емітентом від гарантування платежів за акредитивом). 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65240" y="476280"/>
            <a:ext cx="8654760" cy="18399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85040" cy="31464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 акредитив, який може бути анульований або умови якого можуть бути змінені лише за згодою на це бенефіціара, на користь якого він був відкритий. 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61360" cy="3679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відкриття акредитива клієнт подає до банку-емітента 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Arial Black"/>
                <a:hlinkClick r:id="rId1"/>
              </a:rPr>
              <a:t>заяву про відкриття акредитива 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 не менше ніж у трьох примірниках, заповнену згідно з 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Arial Black"/>
                <a:hlinkClick r:id="rId2"/>
              </a:rPr>
              <a:t>вимогами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та в разі відкриття покритого акредитива — відповідні платіжні доручення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s://finpdotme.files.wordpress.com/2014/11/d0b7d0b0d18fd0b2d0b0-d0bdd0b0-d0b0d0bad180.png"/>
          <p:cNvPicPr/>
          <p:nvPr/>
        </p:nvPicPr>
        <p:blipFill>
          <a:blip r:embed="rId1"/>
          <a:stretch/>
        </p:blipFill>
        <p:spPr>
          <a:xfrm>
            <a:off x="1712880" y="274680"/>
            <a:ext cx="44388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123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000000"/>
                </a:solidFill>
                <a:latin typeface="Arial Black"/>
              </a:rPr>
              <a:t>ОВЕРДРАФТ</a:t>
            </a: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це надання позичальникові (юрособі) коштів шляхом кредитування банком його розрахункового рахунка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ростіше кажучи, овердрафт дає клієнтові право оплачувати платіжні доручення у розмірах, що перевищують залишок на поточному рахунк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334800" y="-115920"/>
            <a:ext cx="9405720" cy="1335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стандартний овердрафт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овердрафт авансом – </a:t>
            </a: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надається клієнтові, який відповідає вимогам банку, з метою залучення (повернення) його на розрахунково-касове обслуговування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овердрафт під інкасацію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– надається клієнтам, які відповідають вимогам банку і неменше 75% оборотів за кредитом розрахункового рахунка яких становить грошова виручка, що інкасується (у т. ч. здана на розрахунковий рахунок самим клієнто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технічний овердрафт –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надається клієнтові без урахування його фінансового становища, під оформлені на рахунок позичальника платежі (продаж/купівля валюти на біржі, до повернення термінового депозиту або інші гарантовані надходження на рахунок клієнт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-298440" y="-19080"/>
            <a:ext cx="9442440" cy="1201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1. отримання овердрафту – більш швидка процедура, адже не потребує надання техніко-економічного обґрунтування і багатьох додаткових документі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2. овердрафт може надаватися без наявності будь-якого забезпечення (так званий бланковий овердрафт). При наданні стандартного овердрафту як забезпечення можуть виступати рухоме і нерухоме майно позичальника, гарантії банків, фінансове (майнове) поручительство третіх осіб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вердрафт не має цільового характеру, тобто передбачається, що позичальник сам визначає розподіл та призначення використання позикових засобів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Кредит за допомогою овердрафту може бути виданий тривалістю від декади, місяця і до року залежно від потреб позичальника та від виду овердрафт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WordArt 2"/>
          <p:cNvSpPr txBox="1"/>
          <p:nvPr/>
        </p:nvSpPr>
        <p:spPr>
          <a:xfrm>
            <a:off x="152280" y="4419720"/>
            <a:ext cx="38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48dd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548dd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30240" y="133200"/>
            <a:ext cx="7729560" cy="1860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та документування операцій з грошовими коштами на поточному рахунк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розрахунків чеками та акредитив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овердрафті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зарахування на рахунки банків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22400" y="768240"/>
            <a:ext cx="8564400" cy="1517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20271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максимально допустима сума фактичної заборгованості на кожен момент часу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91680" cy="944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Кожен банк обирає методику індивідуаль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  <a:ea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– розрахунковий л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імі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мінімальний усічений місячний кредитовий оборот за розрахунковим рахунком клієн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304920" y="1219320"/>
            <a:ext cx="8229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13f9a"/>
                </a:solidFill>
                <a:latin typeface="Arial Black"/>
              </a:rPr>
              <a:t>При стандартному</a:t>
            </a:r>
            <a:r>
              <a:rPr b="0" lang="en-US" sz="4400" spc="-1" strike="noStrike">
                <a:solidFill>
                  <a:srgbClr val="b13f9a"/>
                </a:solidFill>
                <a:latin typeface="Arial Black"/>
              </a:rPr>
              <a:t> </a:t>
            </a:r>
            <a:r>
              <a:rPr b="0" lang="uk-UA" sz="4400" spc="-1" strike="noStrike">
                <a:solidFill>
                  <a:srgbClr val="b13f9a"/>
                </a:solidFill>
                <a:latin typeface="Arial Black"/>
              </a:rPr>
              <a:t>овердрафт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5"/>
          <p:cNvGraphicFramePr/>
          <p:nvPr/>
        </p:nvGraphicFramePr>
        <p:xfrm>
          <a:off x="2971800" y="2438280"/>
          <a:ext cx="243828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24382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620200" cy="142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228600" y="34290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  <a:ea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– розрахунковий л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імі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 (а) –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мінімальний усічений місячний кредитовий оборот за розрахунковим рахунком клієнта зі мінусом майбутніх платежів з погашення заборгованості за кредита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2286000" y="1143000"/>
          <a:ext cx="3733920" cy="196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143000"/>
                    <a:ext cx="373392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1425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банком за рахунок усіх надходжень на поточний рахунок підприєм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банком у межах сум залишку коштів на поточному рахунку підприємства на кінець операційного дня банк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позичальником у терміни і в сумах, визначених ним самим, але не пізніше за день закінчення дії договору про надання овердрафт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За відкриття овердрафту банк стягує фіксовану одноразову плату, яку слід сплатити при укладенні договору;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Умови процентної ставки або плати за користування овердрафтом найбільш суб'єктивні і залежать від кредитної політики банку.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-298440" y="79200"/>
            <a:ext cx="9442440" cy="1408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один раз на місяць на суму фактичної заборгованості і за фактичний термін використання кредиту за методом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факт/365 днів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і підлягають сплаті у тому місяці, в якому вони нарахова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щодня на суму дебетового сальдо за поточним рахунком клієнта, яка була закрита за рахунок овердрафт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користувач овердрафтом захоче внести до кредитного договору які-небудь зміни, наприклад про збільшення ліміту, то за це також треба буде сплатити встановлену сум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 невчасне повернення наданого кредиту за овердрафтом банк стягає пеню і підвищені відсот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114480" y="3048120"/>
            <a:ext cx="64764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1444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ображення овердрафту в обліку залежатиме від того, на який термін він над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термін овердрафту в межах місяця – в обліку доцільно відображат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“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червон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лишок за рахунком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311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такий же облік у разі, коли термін овердрафту – у межах кварталу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якщо термін перевищує один квартал – використовують рахунок</a:t>
            </a: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60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WordArt 2"/>
          <p:cNvSpPr txBox="1"/>
          <p:nvPr/>
        </p:nvSpPr>
        <p:spPr>
          <a:xfrm>
            <a:off x="76320" y="1219320"/>
            <a:ext cx="380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використання овердрафту відносять до витрат звітного періоду і відображають на рахунку 951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кредит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Штрафні санкції, що можуть виникати у разі не невиконання умов кредитного договору, відображаються на 948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изнаних пеня, штрафи, неустойк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-66600" y="1079640"/>
            <a:ext cx="9472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7" descr=""/>
          <p:cNvPicPr/>
          <p:nvPr/>
        </p:nvPicPr>
        <p:blipFill>
          <a:blip r:embed="rId1"/>
          <a:stretch/>
        </p:blipFill>
        <p:spPr>
          <a:xfrm>
            <a:off x="-334800" y="0"/>
            <a:ext cx="9478800" cy="142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51920" y="2057400"/>
            <a:ext cx="40417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2057040"/>
            <a:ext cx="525780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, грошові чеки, платіжні доручення, розрахункові чеки, акредит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228600" y="914400"/>
            <a:ext cx="3924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надходже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4800600" y="990720"/>
            <a:ext cx="384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витрача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одержимое 7"/>
          <p:cNvSpPr/>
          <p:nvPr/>
        </p:nvSpPr>
        <p:spPr>
          <a:xfrm>
            <a:off x="0" y="4191120"/>
            <a:ext cx="9067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 Black"/>
              </a:rPr>
              <a:t>Відображення в облікових регістрах і звітн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 облікових регістрах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Журнал 1, Відомість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У фінансовій звітності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ф. №1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«Звіт про фінансовий стан»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, ф. №3 “Звіт про рух грошових коштів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-334800" y="0"/>
            <a:ext cx="9478800" cy="1517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2824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Банк уклав з підприємством-позичальником договір овердрафту строком на місяць – з 01.08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до 01.09.20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3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р. Згідно з угодою, за відкриття кредитної лінії з овердрафту підприємство сплатило 150грн, при цьому сума кредиту з овердрафту становила 120000 грн. Сума відсотків, нарахована банком за місяць, – 350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грн. Підприємство затримало повернення суми овердрафту в зазначений у договорі термін, за що банк утримав належні йому штраф, пеню і відсотки на загальну суму 42 грн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0" y="-12600"/>
          <a:ext cx="9144000" cy="6878520"/>
        </p:xfrm>
        <a:graphic>
          <a:graphicData uri="http://schemas.openxmlformats.org/drawingml/2006/table">
            <a:tbl>
              <a:tblPr/>
              <a:tblGrid>
                <a:gridCol w="304920"/>
                <a:gridCol w="1751040"/>
                <a:gridCol w="2135160"/>
                <a:gridCol w="925560"/>
                <a:gridCol w="903240"/>
                <a:gridCol w="1600200"/>
                <a:gridCol w="761760"/>
                <a:gridCol w="762120"/>
              </a:tblGrid>
              <a:tr h="549000">
                <a:tc gridSpan="2"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№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міст опер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хгалтерський обл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датковий обл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gridSpan="3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1.0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за відкриття кредитної лінії за овердраф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витрати, пов'язані з відкриттям кредитної лінії за овердраф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7760">
                <a:tc row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кошти постачальникові за матеріали з використанням овердраф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15.08.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“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вони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267080" y="609588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60960" y="609588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095880" y="6116760"/>
          <a:ext cx="1447920" cy="5331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3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1196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drawingml/2006/table">
            <a:tbl>
              <a:tblPr/>
              <a:tblGrid>
                <a:gridCol w="457200"/>
                <a:gridCol w="3652920"/>
                <a:gridCol w="1006560"/>
                <a:gridCol w="1008000"/>
                <a:gridCol w="1724040"/>
                <a:gridCol w="685800"/>
                <a:gridCol w="609480"/>
              </a:tblGrid>
              <a:tr h="311040"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 row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31 .08.20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“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вони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3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26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и відсотків, нарахованих банком за використа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164120" y="1835280"/>
          <a:ext cx="914400" cy="6094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257800" y="189216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324480" y="1828800"/>
          <a:ext cx="1371600" cy="6858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696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drawingml/2006/table">
            <a:tbl>
              <a:tblPr/>
              <a:tblGrid>
                <a:gridCol w="304920"/>
                <a:gridCol w="3047760"/>
                <a:gridCol w="1219320"/>
                <a:gridCol w="1371600"/>
                <a:gridCol w="1371600"/>
                <a:gridCol w="762120"/>
                <a:gridCol w="1066680"/>
              </a:tblGrid>
              <a:tr h="3938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3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наприкінці місяця належні йому відс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у штрафу, нараховану й утриману банком у зв'язку з порушенням умов договору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-66600" y="1079640"/>
            <a:ext cx="94662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0"/>
          <a:ext cx="9144000" cy="6797520"/>
        </p:xfrm>
        <a:graphic>
          <a:graphicData uri="http://schemas.openxmlformats.org/drawingml/2006/table">
            <a:tbl>
              <a:tblPr/>
              <a:tblGrid>
                <a:gridCol w="304920"/>
                <a:gridCol w="4495680"/>
                <a:gridCol w="1054080"/>
                <a:gridCol w="1003320"/>
                <a:gridCol w="990720"/>
                <a:gridCol w="503280"/>
                <a:gridCol w="792000"/>
              </a:tblGrid>
              <a:tr h="610200"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міст опер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хгалтерськ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ума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датков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-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gridSpan="2"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1.08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за відкриття кредитної лінії за овердраф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витрати, пов'язані з відкриттям кредитної лінії за овердраф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кошти постачальникові за матеріали з використанням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1 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 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9600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drawingml/2006/table">
            <a:tbl>
              <a:tblPr/>
              <a:tblGrid>
                <a:gridCol w="304920"/>
                <a:gridCol w="4448160"/>
                <a:gridCol w="958680"/>
                <a:gridCol w="974880"/>
                <a:gridCol w="1162080"/>
                <a:gridCol w="609480"/>
                <a:gridCol w="685800"/>
              </a:tblGrid>
              <a:tr h="305280"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дночасне погашення банком суми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 02.09.20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и відсотків, нарахованих банком за використа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тримано банком наприкінці місяця належні йому відс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поверне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у штрафу, нараховану й утриману банком у зв'язку з порушенням умов договору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48 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 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52280" y="45720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.Облік зарахування на рахунки в банках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ісля закінчення операційного дня працівники каси підприємства підраховують цінності, звіряють їх відповідність з даними звітних документів і складають супровідні відомості до кожної інкасаторської сумки з цінностями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Вкладання цінностей в інкасаторську сумку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здійснюється </a:t>
            </a:r>
            <a:r>
              <a:rPr b="0" i="1" lang="uk-UA" sz="3100" spc="-1" strike="noStrike">
                <a:solidFill>
                  <a:srgbClr val="000000"/>
                </a:solidFill>
                <a:latin typeface="Arial Black"/>
              </a:rPr>
              <a:t>з одночасною звіркою їх фактичної наявності з даними супровідної відомості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Перший екземпляр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супровідної відомості вкладається в спеціальну кишеню інкасаторської сумки, після чого сумка </a:t>
            </a: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опломбовується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Видача сумок з цінностями інкасаторам здійснюється </a:t>
            </a:r>
            <a:r>
              <a:rPr b="1" i="1" lang="uk-UA" sz="3100" spc="-1" strike="noStrike">
                <a:solidFill>
                  <a:srgbClr val="000000"/>
                </a:solidFill>
                <a:latin typeface="Arial Black"/>
              </a:rPr>
              <a:t>під розписку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на третьому примірнику супровідної відомості, завірену відбитком печатки інкасації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9766440" cy="2170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28600" y="156996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вимагати від інкасаторів службові посвідчення, доручення на право одержання сумок з валютними та іншими цінностями, явочну картку, завірену печаткою установи банку, а також порожні сумки при їх наявності. Одночасно той, що здає цінності, пред'являє інкасаторам зразки відбитків пломбірів, завірених установою банку, який здійснює перерахунок (підготовку) цінносте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520" y="10666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 Black"/>
              </a:rPr>
              <a:t>ПЛАТІЖНЕ ДОРУЧЕННЯ </a:t>
            </a:r>
            <a:r>
              <a:rPr b="0" lang="uk-UA" sz="46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порядження обслуговуючому банку про перерахування визначеної суми на рахунок іншого підприємства, оформлене на спеціальному бланку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записати в явочній картці точний час прибуття інкасаторів, літерами кількість сумок з цінностями, загальну суму вкладення в сумки валютних цінностей в гривневому еквіваленті, кількість порожніх сумок, прийнятих від інкасаторів, і розписатися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92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півставити підписи інкасатора на копії супровідної відомості із зразком його підпису на службовому посвідченні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вернути інкасатору документи, які той пред'явив, і передати сумки з цінностями разом з другими примірниками супровідних відомосте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82760"/>
                <a:gridCol w="5045040"/>
                <a:gridCol w="2036520"/>
                <a:gridCol w="1579680"/>
              </a:tblGrid>
              <a:tr h="806400">
                <a:tc gridSpan="4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ображення руху грошових коштів на рахунках в банк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міст господарської операції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еспондуючі рахунк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ctr" pos="3075120"/>
                          <a:tab algn="r" pos="615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дебітором довгострокову заборговані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каси в бан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в погашення вексе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покупцями раніше одержані товари, роботи, послуги, продукці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80880"/>
                <a:gridCol w="4876920"/>
                <a:gridCol w="1905120"/>
                <a:gridCol w="1981080"/>
              </a:tblGrid>
              <a:tr h="39996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продані акції власної еміс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цільового фінансування на будівництво з зовнішніх джерел (бюджет, різні позабюджетні та міжгалузеві фонд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вгострокову позику банку на поточний рахун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фінансову допомогу на зворотній основ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роткострокову позику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09480"/>
                <a:gridCol w="6259680"/>
                <a:gridCol w="1098360"/>
                <a:gridCol w="1100160"/>
              </a:tblGrid>
              <a:tr h="384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з бюджету на рахунок підприємства грошові кош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кошти з фондів соціального страхування на рахунок підприєм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ходи майбутніх періо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 rowSpan="4"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раховано на рахунок у банку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ручку від реалізації продукції, товарів, робіт, по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реалізації виробничих запасів, МШ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спільної діяль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и отриманих дивіден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0" y="1440"/>
          <a:ext cx="9144000" cy="687888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3747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відсотки за зберігання грошових коштів в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2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суми страхового відшкодування від страхової організац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дбано довгострокові інвестиції (акції, облігації інших підприємств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банку в кас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поновано грошові кошти на пластикову картку, на лімітовану чекову книж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49360"/>
                <a:gridCol w="6448320"/>
                <a:gridCol w="1073160"/>
                <a:gridCol w="1073160"/>
              </a:tblGrid>
              <a:tr h="5554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ставлений акредитив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національній валюті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іноземній валю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кошти для придбання іноземної валю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оплату покупц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передоплату постачальник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уплено акції власної емісії у акціонер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12880"/>
                <a:gridCol w="6183360"/>
                <a:gridCol w="1049040"/>
                <a:gridCol w="1098720"/>
              </a:tblGrid>
              <a:tr h="260280"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ористано кошти цільового фінансув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банку довгострокову пози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 рахунок коштів банку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за раніше виданим вексел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2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по зобов’язаннях за облігація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у заборгованість перед орендодавцем з орен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і зобов’язання перед різними кредитор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ткострокову позику бан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4334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боргованість перед бюджето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збори до фондів соціального страхування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98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суми заробітної плати на особисті рахунки працівників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6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дивіденди учасника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7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6760"/>
                <a:gridCol w="2232000"/>
                <a:gridCol w="2282760"/>
              </a:tblGrid>
              <a:tr h="493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відсотки банку за обслуговування поточного рахунку підприємства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2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6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витрати грошовими коштами з поточного рахунку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1, 92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3, 94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5, 97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284560"/>
                <a:gridCol w="285480"/>
                <a:gridCol w="1413000"/>
                <a:gridCol w="495360"/>
                <a:gridCol w="287280"/>
                <a:gridCol w="285840"/>
                <a:gridCol w="285480"/>
                <a:gridCol w="287640"/>
                <a:gridCol w="285480"/>
                <a:gridCol w="285840"/>
                <a:gridCol w="287280"/>
                <a:gridCol w="285840"/>
                <a:gridCol w="285840"/>
                <a:gridCol w="287280"/>
                <a:gridCol w="285840"/>
                <a:gridCol w="285480"/>
                <a:gridCol w="1230480"/>
              </a:tblGrid>
              <a:tr h="247680">
                <a:tc gridSpan="12" rowSpan="2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не доручення 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“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8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” 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листопад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41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ба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ник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АТ “Омега”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 Жито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”________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460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пла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 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 “Гарант” у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0098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увач 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 “Традиція”  м.Киї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62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 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одержув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ctr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25921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мінвестбанк в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словами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Шість тисяч грн. 00 к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значення платежу: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та за дошку обрізну згідно з накладною № 346 від 2 жовтня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 т.ч. ПДВ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1000,00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1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ідпис             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Загри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                          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Кудряш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 algn="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ба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” _______ 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ВИПИСКА БАНКУ </a:t>
            </a:r>
            <a:r>
              <a:rPr b="0" lang="uk-UA" sz="6000" spc="-1" strike="noStrike">
                <a:solidFill>
                  <a:srgbClr val="000000"/>
                </a:solidFill>
                <a:latin typeface="Arial Black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документ, який видається банком підприємству та відображає рух грошових коштів на поточному рахунку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0" cy="6851520"/>
        </p:xfrm>
        <a:graphic>
          <a:graphicData uri="http://schemas.openxmlformats.org/drawingml/2006/table">
            <a:tbl>
              <a:tblPr/>
              <a:tblGrid>
                <a:gridCol w="1312920"/>
                <a:gridCol w="1465200"/>
                <a:gridCol w="1544760"/>
                <a:gridCol w="1084320"/>
                <a:gridCol w="614160"/>
                <a:gridCol w="1697040"/>
                <a:gridCol w="1425600"/>
              </a:tblGrid>
              <a:tr h="914400"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влас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 номер 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останнього дня проведення роз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попереднього дня проведених розрахун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орона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320125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95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операц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 докумен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ху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 деб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 за креди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14080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0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308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138656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256386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5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ом обороті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6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4"/>
          <p:cNvSpPr/>
          <p:nvPr/>
        </p:nvSpPr>
        <p:spPr>
          <a:xfrm>
            <a:off x="152280" y="990720"/>
            <a:ext cx="88394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блік розрахунків чеками та акредитив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500" spc="-1" strike="noStrike">
                <a:solidFill>
                  <a:srgbClr val="000000"/>
                </a:solidFill>
                <a:latin typeface="Arial Black"/>
              </a:rPr>
              <a:t>Чеком</a:t>
            </a:r>
            <a:r>
              <a:rPr b="0" lang="en-US" sz="7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Arial Black"/>
              </a:rPr>
              <a:t>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цінний папір, який містить нічим не обумовлене розпорядження чекодавця банку провести платіж зазначеної у ньому суми чекоутримувачу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SI</cp:lastModifiedBy>
  <dcterms:modified xsi:type="dcterms:W3CDTF">2021-11-23T14:19:21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