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4.png" ContentType="image/png"/>
  <Override PartName="/ppt/media/image10.png" ContentType="image/png"/>
  <Override PartName="/ppt/media/image28.wmf" ContentType="image/x-wmf"/>
  <Override PartName="/ppt/media/image35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33BD-B852-4A7F-A2F3-C43B6208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0AD-EC37-4EF4-851E-E460F9A3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3487-F698-43FB-82A4-D6BA8980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297-AC0B-4D78-8816-B49E8C7D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0436-ECA5-44C6-BCEB-CC2894D9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150B-C583-49D6-9E4F-AD3E3DDD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B0BF-47C6-47C1-B42E-17DF2452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1F7D-F0FB-4763-90A6-63FA2882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81C3-760C-4FCB-ACB2-21DD385E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6C6A-E72F-43C3-B8B8-3DC72E73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6B6B-21E0-4362-94C0-55B09F74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8BA-E636-4346-8A22-0269AF15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959B-4566-4118-A172-559AE5FB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4FB6-655E-4A8C-8FDE-EAB73CDB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DFBE-1003-4D6F-8117-44E691C3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8E61-44F2-4CCC-9FCC-1633D7C0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FA61-DBE6-4AB9-8F28-8A64F10E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3CACA-F664-41C5-B9E7-71EC30D3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29D95-9662-4ECB-8791-803A0019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CDF8A-E618-4229-8F6F-E333A1B8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64E36-63E0-4728-ABE8-3D68A97C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39189-1F3D-4A92-AB79-12A08656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FEA-6AA9-43CC-AF89-EC610E45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BD98A-8644-45EF-ABC5-6AA6B8AB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79B88-00EF-49DD-899B-D6C77CA1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8E59E-A5C6-4B35-BB35-B50BCB48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60262-DAD3-4DD1-9197-2F8A0BF1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DE5D8-64B3-4774-82A3-ADDBDB70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6DE5C-E82F-421E-8F84-B92370D1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FD86B-F9EC-4DB5-AF92-C591FDEF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C506D-5A80-4534-82D3-09473886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C3536-D24A-4E8F-93A0-889F0769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8E29C-4E1A-4223-8EDC-57D80A1B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7A3-B7B7-467B-A856-33A4AD88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AD2C9-3E87-41BC-9C03-192392CC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CE9DD-359C-4B2F-B9D7-1E201073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0459D-F1D1-44C6-AB54-0B8FE52D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6A5CB-0ADF-4460-83C9-891A8159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56B32-3CD9-495C-B89F-2F373566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A4FE1-32E2-496B-A384-514240E3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E8629-4F85-4471-836B-7EA5DE23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A7060-DC1A-4CCC-97EB-1A71D872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F004D-5843-451A-8812-6EB26D99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E4944-92EF-497F-910D-CE816B77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904-78E3-4A3C-A682-38E4F149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7E859-2BD8-4FA4-84E5-4F2420B0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3FA70-A633-44A3-9D78-18873B85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DC0B0-AE7D-44F7-9FA4-AB7F55FA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E05B2-8301-45EB-8F2C-ACBB1FCA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EBE36-0F73-46F3-A07C-2FB2718E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FDDC9-6984-4A4D-B6CC-838885AD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79BAC-D204-401F-9D33-27FCBAC5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7DD08-DAC9-4660-8584-E5BCFCB3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4FC3C-6F93-4DCE-ACF8-AF6D2262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A6AFC-5777-46BE-B60A-02271FBA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B2F-1366-4EF3-99CA-B427CB81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0FB4D-9E46-4CA4-B22F-C58A01A3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687-3312-49ED-B278-37185857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D08-DD9A-4FE8-9FF0-6D67411D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CB7-3186-4640-8AE5-7C67CD2C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DDA0-AF9D-47AC-A6DF-A2BD09572AE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B6ED-5D5A-4739-83F8-19ED4651991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8427-FFE2-4054-BA12-62E71A3DAD8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9AAA-D8FF-471F-B139-265D21EDB81B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AF4A-7737-4427-9D59-90AEC02B792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earch.ligazakon.ua/l_flib1.nsf/LookupFiles/reg5559_img_015.gif/$file/reg5559_img_015.gif" TargetMode="External"/><Relationship Id="rId2" Type="http://schemas.openxmlformats.org/officeDocument/2006/relationships/hyperlink" Target="http://zakon0.rada.gov.ua/laws/show/z0377-04/page5" TargetMode="External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152280" y="-79200"/>
            <a:ext cx="9577440" cy="71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4" descr=""/>
          <p:cNvPicPr/>
          <p:nvPr/>
        </p:nvPicPr>
        <p:blipFill>
          <a:blip r:embed="rId1"/>
          <a:stretch/>
        </p:blipFill>
        <p:spPr>
          <a:xfrm>
            <a:off x="-334800" y="79200"/>
            <a:ext cx="9478800" cy="1414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152280" y="22096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ласник рахунку (чекодавець) дає письмове розпорядження платнику (банку, який видав грошові чеки) сплатити певну суму, зазначену в чеку, утримувачу коштів (чекодержателю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ля цього підприємство в установі банку придбає чекові книжки, строк дії яких один рік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WordArt 2"/>
          <p:cNvSpPr txBox="1"/>
          <p:nvPr/>
        </p:nvSpPr>
        <p:spPr>
          <a:xfrm>
            <a:off x="457200" y="1066680"/>
            <a:ext cx="2971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грошов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певна сума коштів вноситься на особливий рахунок – рахунок лімітованої чекової книжки. У межах цього ліміту підприємства виписують розрахункові чеки постачальника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РОЗРАХУНКОВИЙ ЧЕК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– це розрахунковий документ, що містить письмове розпорядження власника рахунка (чекодавця) установі банку (банку-емітенту), в якому він має відкритий рахунок, сплатити чекодержателю вказану в чеку суму коштів з його рахунк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WordArt 2"/>
          <p:cNvSpPr txBox="1"/>
          <p:nvPr/>
        </p:nvSpPr>
        <p:spPr>
          <a:xfrm>
            <a:off x="380880" y="7632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озрахунков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0" y="60840"/>
            <a:ext cx="900108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Для </a:t>
            </a:r>
            <a:r>
              <a:rPr b="0" i="1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ідкриття акредитиву</a:t>
            </a: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підприємство подає до банку заяву на акредитив (зразок 3.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разок 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r>
              <a:rPr b="1" lang="uk-UA" sz="25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ЯВА НА АКРЕДИТИ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ід 11 вересня 20хх 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ержано ба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5500800" y="500040"/>
            <a:ext cx="114300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50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6921360" y="306360"/>
            <a:ext cx="22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11  вересня 20хх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09480" y="1397160"/>
          <a:ext cx="7696440" cy="4951080"/>
        </p:xfrm>
        <a:graphic>
          <a:graphicData uri="http://schemas.openxmlformats.org/drawingml/2006/table">
            <a:tbl>
              <a:tblPr/>
              <a:tblGrid>
                <a:gridCol w="3405240"/>
                <a:gridCol w="4291200"/>
              </a:tblGrid>
              <a:tr h="477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явник акредити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П “Верес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125784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енефіціа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зОВ “Кро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58146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-емітент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КБ “Укрсімбан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м.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ростень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МФО №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5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 бенефіціара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КБ “Західінкомбан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м.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Житомир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ФО №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8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крийте нам акредити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критий відзив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вид акредитив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трок дії акредити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21 вересня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20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хх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ума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0000 грн. 00 ко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сімдесят тисяч гривень 00 ко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цифрами і літерам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кредитив у іншому (виконуючо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у виконати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) за рахунок коштів платника, депонованих у виконуючому банку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) інкасацією документів до банку-емітента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) через кореспондуючий рахунок банку-емітент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 уповноваженого покупця </a:t>
                      </a:r>
                      <a:r>
                        <a:rPr b="0" i="1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Борейко Б.І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зайве закреслит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 акцептом (чиїм), без акцеп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Умови акредитива до виконуючо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у направити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) спецзв’язком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) коротким повідомленням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Clr>
                          <a:srgbClr val="000000"/>
                        </a:buClr>
                        <a:buFont typeface="SymbolPS" charset="2"/>
                        <a:buChar char=""/>
                        <a:tabLst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електронною поштою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Clr>
                          <a:srgbClr val="000000"/>
                        </a:buClr>
                        <a:buFont typeface="SymbolPS" charset="2"/>
                        <a:buChar char=""/>
                        <a:tabLst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елетайп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Інші лінії зв’язку, вказати які. Зайве закреслити)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латіж (чи акцепт) здійснити проти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рахунок-фактура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перелік документів, які додаються 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реєстру документів за акредитиво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говір № 32 від 17.02.20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хх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азва товарів, виконаних робіт, наданих послу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аливо 80000 грн. 00 ко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кількість, ціна, сум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даткові умови: ‑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5" name="Rectangle 5"/>
          <p:cNvSpPr/>
          <p:nvPr/>
        </p:nvSpPr>
        <p:spPr>
          <a:xfrm>
            <a:off x="1785960" y="644508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964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дписи заявників                            </a:t>
            </a:r>
            <a:r>
              <a:rPr b="0" i="1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ереденко                              </a:t>
            </a:r>
            <a:r>
              <a:rPr b="0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.О. Середенк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кредитиву                                        </a:t>
            </a:r>
            <a:r>
              <a:rPr b="0" i="1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стюк          </a:t>
            </a:r>
            <a:r>
              <a:rPr b="0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   К.С. Костю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652320" y="762120"/>
            <a:ext cx="7882200" cy="16095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61760" y="2514600"/>
            <a:ext cx="75438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латіжний документи, за яким кредитна установа (банк, страхова компанія, фонд тощо) дає розпорядження іншій кредитній установі за рахунок спеціально заброньованих коштів оплатити товарно-транспортні документи на відвантажений товар чи виплатити пред’явникові акредитиву зазначену суму грошей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122400" y="1146240"/>
            <a:ext cx="8697600" cy="15238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33520" y="2895480"/>
            <a:ext cx="761976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1) грошовий акредитив;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2) товарний (документарний) акредитив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92160" y="1146240"/>
            <a:ext cx="8807400" cy="13222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33520" y="2666880"/>
            <a:ext cx="820872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іменний грошовий документ, в якому зазначено розпорядження банку про виплату власнику вказаної суми повністю або частинами. 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92160" y="781200"/>
            <a:ext cx="8727840" cy="1839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533520" y="2666880"/>
            <a:ext cx="828504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це документ, в якому імпортер дає доручення банку, який його обслуговує, здійснити оплату документів третій особі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244440" y="30240"/>
            <a:ext cx="8575560" cy="2517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8285040" cy="403884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- назва та адреса експортера;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- сума акредитиву;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- термін його дії;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- рід товарів, які потрібно оплатити;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- документи, які повинні бути пред’явлені експортером для отримання платежу (транспортні документи, страхові поліси, сертифікати якості товарів тощо)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165240" y="1146240"/>
            <a:ext cx="8654760" cy="1170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361360" cy="29941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Покритий;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Непокритий;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Відкличний;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Безвідкличний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12600" y="549360"/>
            <a:ext cx="8807400" cy="18460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361360" cy="307008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акредитив, для здійснення платежів за яким завчасно бронюються кошти платника в повній сумі на окремому рахунку в банку-емітенті або у виконуючому банку. Кошти заявника акредитива бронюються на аналітичному рахунку «Розрахунки за акредитивами» відповідних балансових рахунків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-244440" y="139680"/>
            <a:ext cx="1005840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165240" y="549360"/>
            <a:ext cx="8654760" cy="18460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85040" cy="307008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кредитив, оплата за яким (якщо тимчасово немає коштів на рахунку платника) гарантується банком-емітентом за рахунок банківського кредиту. 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92160" y="396720"/>
            <a:ext cx="8727840" cy="184644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361360" cy="32227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Акредитив, який може бути змінений або анульований банком-емітентом у будь-який час без попереднього повідомлення бенефіціара (наприклад, у разі недотримання умов, передбачених договором, дострокової відмови банком-емітентом від гарантування платежів за акредитивом). 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165240" y="476280"/>
            <a:ext cx="8654760" cy="18399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8285040" cy="314640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це акредитив, який може бути анульований або умови якого можуть бути змінені лише за згодою на це бенефіціара, на користь якого він був відкритий. 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361360" cy="36799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ля відкриття акредитива клієнт подає до банку-емітента </a:t>
            </a:r>
            <a:r>
              <a:rPr b="0" lang="ru-RU" sz="3200" spc="-1" strike="noStrike" u="sng">
                <a:solidFill>
                  <a:srgbClr val="ffde66"/>
                </a:solidFill>
                <a:uFillTx/>
                <a:latin typeface="Arial Black"/>
                <a:hlinkClick r:id="rId1"/>
              </a:rPr>
              <a:t>заяву про відкриття акредитива 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 не менше ніж у трьох примірниках, заповнену згідно з </a:t>
            </a:r>
            <a:r>
              <a:rPr b="0" lang="ru-RU" sz="3200" spc="-1" strike="noStrike" u="sng">
                <a:solidFill>
                  <a:srgbClr val="ffde66"/>
                </a:solidFill>
                <a:uFillTx/>
                <a:latin typeface="Arial Black"/>
                <a:hlinkClick r:id="rId2"/>
              </a:rPr>
              <a:t>вимогами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, та в разі відкриття покритого акредитива — відповідні платіжні доручення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https://finpdotme.files.wordpress.com/2014/11/d0b7d0b0d18fd0b2d0b0-d0bdd0b0-d0b0d0bad180.png"/>
          <p:cNvPicPr/>
          <p:nvPr/>
        </p:nvPicPr>
        <p:blipFill>
          <a:blip r:embed="rId1"/>
          <a:stretch/>
        </p:blipFill>
        <p:spPr>
          <a:xfrm>
            <a:off x="1712880" y="274680"/>
            <a:ext cx="443880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1230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000000"/>
                </a:solidFill>
                <a:latin typeface="Arial Black"/>
              </a:rPr>
              <a:t>ОВЕРДРАФТ</a:t>
            </a:r>
            <a:r>
              <a:rPr b="0" lang="uk-UA" sz="33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це надання позичальникові (юрособі) коштів шляхом кредитування банком його розрахункового рахунка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Простіше кажучи, овердрафт дає клієнтові право оплачувати платіжні доручення у розмірах, що перевищують залишок на поточному рахунк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-334800" y="-115920"/>
            <a:ext cx="9405720" cy="13352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-36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1" lang="uk-UA" sz="4000" spc="-1" strike="noStrike">
                <a:solidFill>
                  <a:srgbClr val="000000"/>
                </a:solidFill>
                <a:latin typeface="Arial Black"/>
              </a:rPr>
              <a:t>стандартний овердрафт;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1" lang="uk-UA" sz="4000" spc="-1" strike="noStrike">
                <a:solidFill>
                  <a:srgbClr val="000000"/>
                </a:solidFill>
                <a:latin typeface="Arial Black"/>
              </a:rPr>
              <a:t>овердрафт авансом – </a:t>
            </a:r>
            <a:r>
              <a:rPr b="0" lang="uk-UA" sz="4000" spc="-1" strike="noStrike">
                <a:solidFill>
                  <a:srgbClr val="000000"/>
                </a:solidFill>
                <a:latin typeface="Arial Black"/>
              </a:rPr>
              <a:t>надається клієнтові, який відповідає вимогам банку, з метою залучення (повернення) його на розрахунково-касове обслуговування;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овердрафт під інкасацію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 – надається клієнтам, які відповідають вимогам банку і неменше 75% оборотів за кредитом розрахункового рахунка яких становить грошова виручка, що інкасується (у т. ч. здана на розрахунковий рахунок самим клієнтом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4. </a:t>
            </a: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технічний овердрафт –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надається клієнтові без урахування його фінансового становища, під оформлені на рахунок позичальника платежі (продаж/купівля валюти на біржі, до повернення термінового депозиту або інші гарантовані надходження на рахунок клієнта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-298440" y="-19080"/>
            <a:ext cx="9442440" cy="12016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52280" y="837720"/>
            <a:ext cx="88394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 Black"/>
              </a:rPr>
              <a:t>1. отримання овердрафту – більш швидка процедура, адже не потребує надання техніко-економічного обґрунтування і багатьох додаткових документів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 Black"/>
              </a:rPr>
              <a:t>2. овердрафт може надаватися без наявності будь-якого забезпечення (так званий бланковий овердрафт). При наданні стандартного овердрафту як забезпечення можуть виступати рухоме і нерухоме майно позичальника, гарантії банків, фінансове (майнове) поручительство третіх осіб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овердрафт не має цільового характеру, тобто передбачається, що позичальник сам визначає розподіл та призначення використання позикових засобів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Кредит за допомогою овердрафту може бути виданий тривалістю від декади, місяця і до року залежно від потреб позичальника та від виду овердрафту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WordArt 2"/>
          <p:cNvSpPr txBox="1"/>
          <p:nvPr/>
        </p:nvSpPr>
        <p:spPr>
          <a:xfrm>
            <a:off x="152280" y="4419720"/>
            <a:ext cx="381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548dd4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!</a:t>
            </a:r>
            <a:endParaRPr b="0" lang="en-US" sz="1800" spc="1" strike="noStrike">
              <a:ln w="0">
                <a:noFill/>
              </a:ln>
              <a:solidFill>
                <a:srgbClr val="548dd4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-30240" y="133200"/>
            <a:ext cx="7729560" cy="18608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Облік та документування операцій з грошовими коштами на поточному рахунку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Облік розрахунків чеками та акредитивам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Облік овердрафтів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Облік зарахування на рахунки банків грошових коштів в дорозі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122400" y="768240"/>
            <a:ext cx="8564400" cy="15177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202716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Arial Black"/>
              </a:rPr>
              <a:t>максимально допустима сума фактичної заборгованості на кожен момент часу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491680" cy="9446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151920" y="7617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 Black"/>
              </a:rPr>
              <a:t>Кожен банк обирає методику індивідуальн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  <a:ea typeface="Arial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</a:rPr>
              <a:t>– розрахунковий л</a:t>
            </a:r>
            <a:r>
              <a:rPr b="1" lang="uk-UA" sz="2600" spc="-1" strike="noStrike">
                <a:solidFill>
                  <a:srgbClr val="000000"/>
                </a:solidFill>
                <a:latin typeface="Arial Black"/>
              </a:rPr>
              <a:t>імі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000000"/>
                </a:solidFill>
                <a:latin typeface="Arial Black"/>
              </a:rPr>
              <a:t>Т</a:t>
            </a:r>
            <a:r>
              <a:rPr b="1" lang="uk-UA" sz="26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</a:rPr>
              <a:t>мінімальний усічений місячний кредитовий оборот за розрахунковим рахунком клієнт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Заголовок 1"/>
          <p:cNvSpPr/>
          <p:nvPr/>
        </p:nvSpPr>
        <p:spPr>
          <a:xfrm>
            <a:off x="304920" y="1219320"/>
            <a:ext cx="82296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13f9a"/>
                </a:solidFill>
                <a:latin typeface="Arial Black"/>
              </a:rPr>
              <a:t>При стандартному</a:t>
            </a:r>
            <a:r>
              <a:rPr b="0" lang="en-US" sz="4400" spc="-1" strike="noStrike">
                <a:solidFill>
                  <a:srgbClr val="b13f9a"/>
                </a:solidFill>
                <a:latin typeface="Arial Black"/>
              </a:rPr>
              <a:t> </a:t>
            </a:r>
            <a:r>
              <a:rPr b="0" lang="uk-UA" sz="4400" spc="-1" strike="noStrike">
                <a:solidFill>
                  <a:srgbClr val="b13f9a"/>
                </a:solidFill>
                <a:latin typeface="Arial Black"/>
              </a:rPr>
              <a:t>овердрафті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5"/>
          <p:cNvGraphicFramePr/>
          <p:nvPr/>
        </p:nvGraphicFramePr>
        <p:xfrm>
          <a:off x="2971800" y="2438280"/>
          <a:ext cx="2438280" cy="21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438280"/>
                    <a:ext cx="243828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8620200" cy="14270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228600" y="342900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  <a:ea typeface="Arial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</a:rPr>
              <a:t>– розрахунковий л</a:t>
            </a:r>
            <a:r>
              <a:rPr b="1" lang="uk-UA" sz="2600" spc="-1" strike="noStrike">
                <a:solidFill>
                  <a:srgbClr val="000000"/>
                </a:solidFill>
                <a:latin typeface="Arial Black"/>
              </a:rPr>
              <a:t>імі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000000"/>
                </a:solidFill>
                <a:latin typeface="Arial Black"/>
              </a:rPr>
              <a:t>Т</a:t>
            </a:r>
            <a:r>
              <a:rPr b="1" lang="uk-UA" sz="2600" spc="-1" strike="noStrike">
                <a:solidFill>
                  <a:srgbClr val="000000"/>
                </a:solidFill>
                <a:latin typeface="Arial Black"/>
              </a:rPr>
              <a:t> (а) – 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</a:rPr>
              <a:t>мінімальний усічений місячний кредитовий оборот за розрахунковим рахунком клієнта зі мінусом майбутніх платежів з погашення заборгованості за кредитам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1"/>
          <p:cNvGraphicFramePr/>
          <p:nvPr/>
        </p:nvGraphicFramePr>
        <p:xfrm>
          <a:off x="2286000" y="1143000"/>
          <a:ext cx="3733920" cy="196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143000"/>
                    <a:ext cx="373392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1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14256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Повернення овердрафту самостійно банком за рахунок усіх надходжень на поточний рахунок підприємств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Повернення овердрафту самостійно банком у межах сум залишку коштів на поточному рахунку підприємства на кінець операційного дня банк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Повернення овердрафту самостійно позичальником у терміни і в сумах, визначених ним самим, але не пізніше за день закінчення дії договору про надання овердрафт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20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15228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852f7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3500" spc="-1" strike="noStrike">
                <a:solidFill>
                  <a:srgbClr val="000000"/>
                </a:solidFill>
                <a:latin typeface="Arial Black"/>
              </a:rPr>
              <a:t>За відкриття овердрафту банк стягує фіксовану одноразову плату, яку слід сплатити при укладенні договору;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852f7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3500" spc="-1" strike="noStrike">
                <a:solidFill>
                  <a:srgbClr val="000000"/>
                </a:solidFill>
                <a:latin typeface="Arial Black"/>
              </a:rPr>
              <a:t>Умови процентної ставки або плати за користування овердрафтом найбільш суб'єктивні і залежать від кредитної політики банку.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-298440" y="79200"/>
            <a:ext cx="9442440" cy="14083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152280" y="12193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91f4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відсотки за користування овердрафтом нараховуються один раз на місяць на суму фактичної заборгованості і за фактичний термін використання кредиту за методом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факт/365 днів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”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 і підлягають сплаті у тому місяці, в якому вони нараховані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1f4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відсотки за користування овердрафтом нараховуються щодня на суму дебетового сальдо за поточним рахунком клієнта, яка була закрита за рахунок овердрафт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6212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Якщо користувач овердрафтом захоче внести до кредитного договору які-небудь зміни, наприклад про збільшення ліміту, то за це також треба буде сплатити встановлену сум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За невчасне повернення наданого кредиту за овердрафтом банк стягає пеню і підвищені відсотк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WordArt 4"/>
          <p:cNvSpPr txBox="1"/>
          <p:nvPr/>
        </p:nvSpPr>
        <p:spPr>
          <a:xfrm>
            <a:off x="114480" y="3048120"/>
            <a:ext cx="64764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0" y="79200"/>
            <a:ext cx="9144000" cy="14446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4568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Відображення овердрафту в обліку залежатиме від того, на який термін він надани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buClr>
                <a:srgbClr val="591f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якщо термін овердрафту в межах місяця – в обліку доцільно відображат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“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 Black"/>
              </a:rPr>
              <a:t>червоний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”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залишок за рахунком </a:t>
            </a:r>
            <a:r>
              <a:rPr b="1" lang="uk-UA" sz="3700" spc="-1" strike="noStrike">
                <a:solidFill>
                  <a:srgbClr val="000000"/>
                </a:solidFill>
                <a:latin typeface="Arial Black"/>
              </a:rPr>
              <a:t>311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buClr>
                <a:srgbClr val="591f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такий же облік у разі, коли термін овердрафту – у межах кварталу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buClr>
                <a:srgbClr val="591f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Arial Black"/>
              </a:rPr>
              <a:t>якщо термін перевищує один квартал – використовують рахунок</a:t>
            </a: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uk-UA" sz="3700" spc="-1" strike="noStrike">
                <a:solidFill>
                  <a:srgbClr val="000000"/>
                </a:solidFill>
                <a:latin typeface="Arial Black"/>
              </a:rPr>
              <a:t>60.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WordArt 2"/>
          <p:cNvSpPr txBox="1"/>
          <p:nvPr/>
        </p:nvSpPr>
        <p:spPr>
          <a:xfrm>
            <a:off x="76320" y="1219320"/>
            <a:ext cx="380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228600" y="7621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591f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Відсотки за використання овердрафту відносять до витрат звітного періоду і відображають на рахунку 951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Відсотки за кредит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”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591f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Штрафні санкції, що можуть виникати у разі не невиконання умов кредитного договору, відображаються на 948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Визнаних пеня, штрафи, неустойки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”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-66600" y="1079640"/>
            <a:ext cx="947268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7" descr=""/>
          <p:cNvPicPr/>
          <p:nvPr/>
        </p:nvPicPr>
        <p:blipFill>
          <a:blip r:embed="rId1"/>
          <a:stretch/>
        </p:blipFill>
        <p:spPr>
          <a:xfrm>
            <a:off x="-334800" y="0"/>
            <a:ext cx="9478800" cy="142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151920" y="2057400"/>
            <a:ext cx="404172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591f4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  <a:ea typeface="Arial"/>
              </a:rPr>
              <a:t>Виписка банку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5840" y="2057040"/>
            <a:ext cx="5257800" cy="17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91f4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Виписка банку, грошові чеки, платіжні доручення, розрахункові чеки, акредитив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228600" y="914400"/>
            <a:ext cx="3924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500" spc="-1" strike="noStrike">
                <a:solidFill>
                  <a:srgbClr val="000000"/>
                </a:solidFill>
                <a:latin typeface="Arial Black"/>
              </a:rPr>
              <a:t>При надходженні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4800600" y="990720"/>
            <a:ext cx="3840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500" spc="-1" strike="noStrike">
                <a:solidFill>
                  <a:srgbClr val="000000"/>
                </a:solidFill>
                <a:latin typeface="Arial Black"/>
              </a:rPr>
              <a:t>При витрачанні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одержимое 7"/>
          <p:cNvSpPr/>
          <p:nvPr/>
        </p:nvSpPr>
        <p:spPr>
          <a:xfrm>
            <a:off x="0" y="4191120"/>
            <a:ext cx="9067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000000"/>
                </a:solidFill>
                <a:uFillTx/>
                <a:latin typeface="Arial Black"/>
              </a:rPr>
              <a:t>Відображення в облікових регістрах і звітності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В облікових регістрах: 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Журнал 1, Відомість 1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У фінансовій звітності: 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ф. №1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Arial"/>
              </a:rPr>
              <a:t>«Звіт про фінансовий стан»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, ф. №3 “Звіт про рух грошових коштів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-334800" y="0"/>
            <a:ext cx="9478800" cy="15177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228240" y="10666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Банк уклав з підприємством-позичальником договір овердрафту строком на місяць – з 01.08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до 01.09.20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3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р. Згідно з угодою, за відкриття кредитної лінії з овердрафту підприємство сплатило 150грн, при цьому сума кредиту з овердрафту становила 120000 грн. Сума відсотків, нарахована банком за місяць, – 350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грн. Підприємство затримало повернення суми овердрафту в зазначений у договорі термін, за що банк утримав належні йому штраф, пеню і відсотки на загальну суму 42 грн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0" y="-12600"/>
          <a:ext cx="9144000" cy="6878520"/>
        </p:xfrm>
        <a:graphic>
          <a:graphicData uri="http://schemas.openxmlformats.org/drawingml/2006/table">
            <a:tbl>
              <a:tblPr/>
              <a:tblGrid>
                <a:gridCol w="304920"/>
                <a:gridCol w="1751040"/>
                <a:gridCol w="2135160"/>
                <a:gridCol w="925560"/>
                <a:gridCol w="903240"/>
                <a:gridCol w="1600200"/>
                <a:gridCol w="761760"/>
                <a:gridCol w="762120"/>
              </a:tblGrid>
              <a:tr h="549000">
                <a:tc gridSpan="2" rowSpan="2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№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міст операц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хгалтерський облі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ума, гр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одатковий облі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-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-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 gridSpan="3"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лишок коштів на р/р на 01.08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ерераховано банку за відкриття кредитної лінії за овердраф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8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288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витрати, пов'язані з відкриттям кредитної лінії за овердраф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8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7760">
                <a:tc rowSpan="2"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ерераховано кошти постачальникові за матеріали з використанням овердраф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лишок коштів на р/р на 15.08.201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 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“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червони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4267080" y="6095880"/>
          <a:ext cx="800280" cy="533520"/>
        </p:xfrm>
        <a:graphic>
          <a:graphicData uri="http://schemas.openxmlformats.org/drawingml/2006/table">
            <a:tbl>
              <a:tblPr/>
              <a:tblGrid>
                <a:gridCol w="800280"/>
              </a:tblGrid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160960" y="6095880"/>
          <a:ext cx="800280" cy="533520"/>
        </p:xfrm>
        <a:graphic>
          <a:graphicData uri="http://schemas.openxmlformats.org/drawingml/2006/table">
            <a:tbl>
              <a:tblPr/>
              <a:tblGrid>
                <a:gridCol w="800280"/>
              </a:tblGrid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6095880" y="6116760"/>
          <a:ext cx="1447920" cy="5331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3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1196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0" y="0"/>
          <a:ext cx="9144000" cy="6859440"/>
        </p:xfrm>
        <a:graphic>
          <a:graphicData uri="http://schemas.openxmlformats.org/drawingml/2006/table">
            <a:tbl>
              <a:tblPr/>
              <a:tblGrid>
                <a:gridCol w="457200"/>
                <a:gridCol w="3652920"/>
                <a:gridCol w="1006560"/>
                <a:gridCol w="1008000"/>
                <a:gridCol w="1724040"/>
                <a:gridCol w="685800"/>
                <a:gridCol w="609480"/>
              </a:tblGrid>
              <a:tr h="311040"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 rowSpan="2"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надходження коштів від покупця за това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лишок коштів на р/р на 31 .08.201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 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“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червони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36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надходження коштів від покупця за товари 02.09.2013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2680"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суми відсотків, нарахованих банком за використання овердраф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164120" y="1835280"/>
          <a:ext cx="914400" cy="6094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60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257800" y="1892160"/>
          <a:ext cx="800280" cy="533520"/>
        </p:xfrm>
        <a:graphic>
          <a:graphicData uri="http://schemas.openxmlformats.org/drawingml/2006/table">
            <a:tbl>
              <a:tblPr/>
              <a:tblGrid>
                <a:gridCol w="800280"/>
              </a:tblGrid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6324480" y="1828800"/>
          <a:ext cx="1371600" cy="68580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696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0" y="0"/>
          <a:ext cx="9144000" cy="6870600"/>
        </p:xfrm>
        <a:graphic>
          <a:graphicData uri="http://schemas.openxmlformats.org/drawingml/2006/table">
            <a:tbl>
              <a:tblPr/>
              <a:tblGrid>
                <a:gridCol w="304920"/>
                <a:gridCol w="3047760"/>
                <a:gridCol w="1219320"/>
                <a:gridCol w="1371600"/>
                <a:gridCol w="1371600"/>
                <a:gridCol w="762120"/>
                <a:gridCol w="1066680"/>
              </a:tblGrid>
              <a:tr h="39384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83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ерераховано банку наприкінці місяця належні йому відсо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суму штрафу, нараховану й утриману банком у зв'язку з порушенням умов договору овердраф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240">
                <a:tc grid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лишок коштів на р/р на 02.09.2013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-66600" y="1079640"/>
            <a:ext cx="94662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0" y="0"/>
          <a:ext cx="9144000" cy="6797520"/>
        </p:xfrm>
        <a:graphic>
          <a:graphicData uri="http://schemas.openxmlformats.org/drawingml/2006/table">
            <a:tbl>
              <a:tblPr/>
              <a:tblGrid>
                <a:gridCol w="304920"/>
                <a:gridCol w="4495680"/>
                <a:gridCol w="1054080"/>
                <a:gridCol w="1003320"/>
                <a:gridCol w="990720"/>
                <a:gridCol w="503280"/>
                <a:gridCol w="792000"/>
              </a:tblGrid>
              <a:tr h="610200">
                <a:tc rowSpan="3"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міст опера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хгалтерський облі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ума, г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одатковий облі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-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-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gridSpan="2"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лишок коштів на р/р на 01.08.2013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ерераховано банку за відкриття кредитної лінії за овердраф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8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витрати, пов'язані з відкриттям кредитної лінії за овердраф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8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ерераховано кошти постачальникові за матеріали з використанням овердраф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31 6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01 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19600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надходження коштів від покупця за това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3760" rIns="23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0" y="0"/>
          <a:ext cx="9144000" cy="6867360"/>
        </p:xfrm>
        <a:graphic>
          <a:graphicData uri="http://schemas.openxmlformats.org/drawingml/2006/table">
            <a:tbl>
              <a:tblPr/>
              <a:tblGrid>
                <a:gridCol w="304920"/>
                <a:gridCol w="4448160"/>
                <a:gridCol w="958680"/>
                <a:gridCol w="974880"/>
                <a:gridCol w="1162080"/>
                <a:gridCol w="609480"/>
                <a:gridCol w="685800"/>
              </a:tblGrid>
              <a:tr h="305280">
                <a:tc grid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дночасне погашення банком суми овердраф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00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надходження коштів від покупця за товари 02.09.20013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суми відсотків, нарахованих банком за використання овердраф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тримано банком наприкінці місяця належні йому відсо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повернення овердраф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9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3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42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ідображено суму штрафу, нараховану й утриману банком у зв'язку з порушенням умов договору овердраф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48 6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85 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2 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grid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лишок коштів на р/р на 02.09.2013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52280" y="457200"/>
            <a:ext cx="87631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4.Облік зарахування на рахунки в банках грошових коштів в дорозі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Після закінчення операційного дня працівники каси підприємства підраховують цінності, звіряють їх відповідність з даними звітних документів і складають супровідні відомості до кожної інкасаторської сумки з цінностями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52280" y="15192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100" spc="-1" strike="noStrike" u="sng">
                <a:solidFill>
                  <a:srgbClr val="000000"/>
                </a:solidFill>
                <a:uFillTx/>
                <a:latin typeface="Arial Black"/>
              </a:rPr>
              <a:t>Вкладання цінностей в інкасаторську сумку</a:t>
            </a:r>
            <a:r>
              <a:rPr b="0" lang="uk-UA" sz="31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здійснюється </a:t>
            </a:r>
            <a:r>
              <a:rPr b="0" i="1" lang="uk-UA" sz="3100" spc="-1" strike="noStrike">
                <a:solidFill>
                  <a:srgbClr val="000000"/>
                </a:solidFill>
                <a:latin typeface="Arial Black"/>
              </a:rPr>
              <a:t>з одночасною звіркою їх фактичної наявності з даними супровідної відомості</a:t>
            </a: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 u="sng">
                <a:solidFill>
                  <a:srgbClr val="000000"/>
                </a:solidFill>
                <a:uFillTx/>
                <a:latin typeface="Arial Black"/>
              </a:rPr>
              <a:t>Перший екземпляр </a:t>
            </a: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супровідної відомості вкладається в спеціальну кишеню інкасаторської сумки, після чого сумка </a:t>
            </a:r>
            <a:r>
              <a:rPr b="0" lang="uk-UA" sz="4200" spc="-1" strike="noStrike">
                <a:solidFill>
                  <a:srgbClr val="000000"/>
                </a:solidFill>
                <a:latin typeface="Arial Black"/>
              </a:rPr>
              <a:t>опломбовується</a:t>
            </a: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Видача сумок з цінностями інкасаторам здійснюється </a:t>
            </a:r>
            <a:r>
              <a:rPr b="1" i="1" lang="uk-UA" sz="3100" spc="-1" strike="noStrike">
                <a:solidFill>
                  <a:srgbClr val="000000"/>
                </a:solidFill>
                <a:latin typeface="Arial Black"/>
              </a:rPr>
              <a:t>під розписку </a:t>
            </a: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на третьому примірнику супровідної відомості, завірену відбитком печатки інкасації.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-244440" y="-128520"/>
            <a:ext cx="9766440" cy="2170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228600" y="156996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вимагати від інкасаторів службові посвідчення, доручення на право одержання сумок з валютними та іншими цінностями, явочну картку, завірену печаткою установи банку, а також порожні сумки при їх наявності. Одночасно той, що здає цінності, пред'являє інкасаторам зразки відбитків пломбірів, завірених установою банку, який здійснює перерахунок (підготовку) цінностей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0520" y="10666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Arial Black"/>
              </a:rPr>
              <a:t>ПЛАТІЖНЕ ДОРУЧЕННЯ </a:t>
            </a:r>
            <a:r>
              <a:rPr b="0" lang="uk-UA" sz="4600" spc="-1" strike="noStrike">
                <a:solidFill>
                  <a:srgbClr val="000000"/>
                </a:solidFill>
                <a:latin typeface="Arial Black"/>
              </a:rPr>
              <a:t>–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розпорядження обслуговуючому банку про перерахування визначеної суми на рахунок іншого підприємства, оформлене на спеціальному бланку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записати в явочній картці точний час прибуття інкасаторів, літерами кількість сумок з цінностями, загальну суму вкладення в сумки валютних цінностей в гривневому еквіваленті, кількість порожніх сумок, прийнятих від інкасаторів, і розписатися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920" y="45684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співставити підписи інкасатора на копії супровідної відомості із зразком його підпису на службовому посвідченні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 Black"/>
              </a:rPr>
              <a:t>4. </a:t>
            </a: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повернути інкасатору документи, які той пред'явив, і передати сумки з цінностями разом з другими примірниками супровідних відомостей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82760"/>
                <a:gridCol w="5045040"/>
                <a:gridCol w="2036520"/>
                <a:gridCol w="1579680"/>
              </a:tblGrid>
              <a:tr h="806400">
                <a:tc gridSpan="4"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ображення руху грошових коштів на рахунках в банка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rowSpan="2"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№ </a:t>
                      </a: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п.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міст господарської операції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респондуючі рахунки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ебет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редит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ctr" pos="3075120"/>
                          <a:tab algn="r" pos="61516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гашено дебітором довгострокову заборговані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дано готівку з каси в бан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кошти в погашення вексе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4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560"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плачено покупцями раніше одержані товари, роботи, послуги, продукці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80880"/>
                <a:gridCol w="4876920"/>
                <a:gridCol w="1905120"/>
                <a:gridCol w="1981080"/>
              </a:tblGrid>
              <a:tr h="39996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продані акції власної емісії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92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кошти цільового фінансування на будівництво з зовнішніх джерел (бюджет, різні позабюджетні та міжгалузеві фонди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довгострокову позику банку на поточний рахуно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фінансову допомогу на зворотній основ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короткострокову позику банк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drawingml/2006/table">
            <a:tbl>
              <a:tblPr/>
              <a:tblGrid>
                <a:gridCol w="609480"/>
                <a:gridCol w="6259680"/>
                <a:gridCol w="1098360"/>
                <a:gridCol w="1100160"/>
              </a:tblGrid>
              <a:tr h="384120"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вернуто з бюджету на рахунок підприємства грошові кош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вернуто кошти з фондів соціального страхування на рахунок підприємст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доходи майбутніх періоді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 rowSpan="4"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раховано на рахунок у банку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иручку від реалізації продукції, товарів, робіт, послу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хід від реалізації виробничих запасів, МШ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1680" rIns="31680" tIns="468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хід від спільної діяльност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уми отриманих дивіденді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0" y="1440"/>
          <a:ext cx="9144000" cy="6878880"/>
        </p:xfrm>
        <a:graphic>
          <a:graphicData uri="http://schemas.openxmlformats.org/drawingml/2006/table">
            <a:tbl>
              <a:tblPr/>
              <a:tblGrid>
                <a:gridCol w="582480"/>
                <a:gridCol w="4044960"/>
                <a:gridCol w="2233800"/>
                <a:gridCol w="2282760"/>
              </a:tblGrid>
              <a:tr h="37476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56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тримано відсотки за зберігання грошових коштів в банк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32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тримано суми страхового відшкодування від страхової організації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004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идбано довгострокові інвестиції (акції, облігації інших підприємств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дано готівку з банку в кас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епоновано грошові кошти на пластикову картку, на лімітовану чекову книжку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549360"/>
                <a:gridCol w="6448320"/>
                <a:gridCol w="1073160"/>
                <a:gridCol w="1073160"/>
              </a:tblGrid>
              <a:tr h="555480"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 rowSpan="2"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иставлений акредитив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 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національній валюті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 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іноземній валют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раховано кошти для придбання іноземної валют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0"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вернуто оплату покупці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оведено передоплату постачальника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7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икуплено акції власної емісії у акціонері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812880"/>
                <a:gridCol w="6183360"/>
                <a:gridCol w="1049040"/>
                <a:gridCol w="1098720"/>
              </a:tblGrid>
              <a:tr h="260280">
                <a:tc>
                  <a:txBody>
                    <a:bodyPr lIns="17280" rIns="17280" tIns="2520" bIns="0" anchor="t">
                      <a:noAutofit/>
                    </a:bodyPr>
                    <a:p>
                      <a:pPr algn="ctr">
                        <a:lnSpc>
                          <a:spcPts val="16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 algn="ctr">
                        <a:lnSpc>
                          <a:spcPts val="16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 algn="ctr">
                        <a:lnSpc>
                          <a:spcPts val="16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 algn="ctr">
                        <a:lnSpc>
                          <a:spcPts val="16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икористано кошти цільового фінансуванн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вернуто банку довгострокову позик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0880">
                <a:tc rowSpan="5"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гашено за рахунок коштів банку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боргованість за раніше виданим векселе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2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боргованість по зобов’язаннях за облігаціям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вгострокову заборгованість перед орендодавцем з оренд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вгострокові зобов’язання перед різними кредиторам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роткострокову позику банк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0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582480"/>
                <a:gridCol w="4044960"/>
                <a:gridCol w="2233800"/>
                <a:gridCol w="2282760"/>
              </a:tblGrid>
              <a:tr h="43344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гашено заборгованість перед бюджетом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4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плачено збори до фондів соціального страхування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5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984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раховано суми заробітної плати на особисті рахунки працівників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6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раховано дивіденди учасникам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7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582480"/>
                <a:gridCol w="4046760"/>
                <a:gridCol w="2232000"/>
                <a:gridCol w="2282760"/>
              </a:tblGrid>
              <a:tr h="49356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56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плачено відсотки банку за обслуговування поточного рахунку підприємства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2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688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плачено витрати грошовими коштами з поточного рахунку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1, 92 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3, 94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5, 97 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0" y="0"/>
          <a:ext cx="9144000" cy="6934320"/>
        </p:xfrm>
        <a:graphic>
          <a:graphicData uri="http://schemas.openxmlformats.org/drawingml/2006/table">
            <a:tbl>
              <a:tblPr/>
              <a:tblGrid>
                <a:gridCol w="2284560"/>
                <a:gridCol w="285480"/>
                <a:gridCol w="1413000"/>
                <a:gridCol w="495360"/>
                <a:gridCol w="287280"/>
                <a:gridCol w="285840"/>
                <a:gridCol w="285480"/>
                <a:gridCol w="287640"/>
                <a:gridCol w="285480"/>
                <a:gridCol w="285840"/>
                <a:gridCol w="287280"/>
                <a:gridCol w="285840"/>
                <a:gridCol w="285840"/>
                <a:gridCol w="287280"/>
                <a:gridCol w="285840"/>
                <a:gridCol w="285480"/>
                <a:gridCol w="1230480"/>
              </a:tblGrid>
              <a:tr h="247680">
                <a:tc gridSpan="12" rowSpan="2">
                  <a:txBody>
                    <a:bodyPr lIns="52200" rIns="52200" tIns="0" bIns="0" anchor="t">
                      <a:noAutofit/>
                    </a:bodyPr>
                    <a:p>
                      <a:pPr marL="228600" indent="44928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латіжне доручення № </a:t>
                      </a: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44928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 “</a:t>
                      </a:r>
                      <a:r>
                        <a:rPr b="0" i="1" lang="uk-UA" sz="20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8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” </a:t>
                      </a:r>
                      <a:r>
                        <a:rPr b="0" i="1" lang="uk-UA" sz="20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листопада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20</a:t>
                      </a: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хх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 indent="44928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41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 indent="44928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бан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латник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АТ “Омега”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. Жито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“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_”________ 20хх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94604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 плат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 бан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ЕБЕТ рах. 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У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КБ “Гарант” у м. Києв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22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0000982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2200" rIns="52200" tIns="0" bIns="0" anchor="t">
                      <a:noAutofit/>
                    </a:bodyPr>
                    <a:p>
                      <a:pPr marL="228600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увач 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зОВ “Традиція”  м.Киї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16217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2200" rIns="52200" tIns="0" bIns="0" anchor="t">
                      <a:noAutofit/>
                    </a:bodyPr>
                    <a:p>
                      <a:pPr marL="22860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РЕДИТ рах. 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 одержува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 бан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2200" rIns="52200" tIns="0" bIns="0" anchor="ctr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00259217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омінвестбанк в м. Києв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2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 gridSpan="1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ума словами 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Шість тисяч грн. 00 ко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 gridSpan="1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.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gridSpan="1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изначення платежу: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плата за дошку обрізну згідно з накладною № 346 від 2 жовтня 20хх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у т.ч. ПДВ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1000,00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гр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1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ідпис              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0" i="1" lang="uk-UA" sz="16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Загри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2200" rIns="52200" tIns="0" bIns="0" anchor="t">
                      <a:noAutofit/>
                    </a:bodyPr>
                    <a:p>
                      <a:pPr marL="228600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                           </a:t>
                      </a:r>
                      <a:r>
                        <a:rPr b="0" i="1" lang="uk-UA" sz="16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Кудряш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2200" rIns="52200" tIns="0" bIns="0" anchor="t">
                      <a:noAutofit/>
                    </a:bodyPr>
                    <a:p>
                      <a:pPr marL="228600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2200" rIns="52200" tIns="0" bIns="0" anchor="t">
                      <a:noAutofit/>
                    </a:bodyPr>
                    <a:p>
                      <a:pPr marL="228600" algn="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оведено бан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00"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2200" rIns="52200" tIns="0" bIns="0" anchor="t">
                      <a:noAutofit/>
                    </a:bodyPr>
                    <a:p>
                      <a:pPr marL="228600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“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___” _______ 20хх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6840" y="685800"/>
            <a:ext cx="83818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ВИПИСКА БАНКУ </a:t>
            </a:r>
            <a:r>
              <a:rPr b="0" lang="uk-UA" sz="6000" spc="-1" strike="noStrike">
                <a:solidFill>
                  <a:srgbClr val="000000"/>
                </a:solidFill>
                <a:latin typeface="Arial Black"/>
              </a:rPr>
              <a:t>–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 Black"/>
              </a:rPr>
              <a:t>документ, який видається банком підприємству та відображає рух грошових коштів на поточному рахунку 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0" y="0"/>
          <a:ext cx="9144000" cy="6851520"/>
        </p:xfrm>
        <a:graphic>
          <a:graphicData uri="http://schemas.openxmlformats.org/drawingml/2006/table">
            <a:tbl>
              <a:tblPr/>
              <a:tblGrid>
                <a:gridCol w="1312920"/>
                <a:gridCol w="1465200"/>
                <a:gridCol w="1544760"/>
                <a:gridCol w="1084320"/>
                <a:gridCol w="614160"/>
                <a:gridCol w="1697040"/>
                <a:gridCol w="1425600"/>
              </a:tblGrid>
              <a:tr h="914400">
                <a:tc gridSpan="2"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азва влас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а номер рахун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ата останнього дня проведення розрахун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ата попереднього дня проведених розрахунк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0680"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зОВ “Корона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3201257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4.12.20хх 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3.12.20хх 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 gridSpan="4"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хідне сальдо паси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500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956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 операції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омер документ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оме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рахунк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боро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 дебет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борот за кредит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511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0140808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8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0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00308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0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5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5117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138656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00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5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0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2563863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0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 gridSpan="5"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Разом обороті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80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8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 gridSpan="4"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ихідне сальдо паси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68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4"/>
          <p:cNvSpPr/>
          <p:nvPr/>
        </p:nvSpPr>
        <p:spPr>
          <a:xfrm>
            <a:off x="152280" y="990720"/>
            <a:ext cx="8839440" cy="57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r>
              <a:rPr b="1" lang="uk-UA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блік розрахунків чеками та акредитива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500" spc="-1" strike="noStrike">
                <a:solidFill>
                  <a:srgbClr val="000000"/>
                </a:solidFill>
                <a:latin typeface="Arial Black"/>
              </a:rPr>
              <a:t>Чеком</a:t>
            </a:r>
            <a:r>
              <a:rPr b="0" lang="en-US" sz="7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5000" spc="-1" strike="noStrike">
                <a:solidFill>
                  <a:srgbClr val="000000"/>
                </a:solidFill>
                <a:latin typeface="Arial Black"/>
              </a:rPr>
              <a:t>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Arial Black"/>
              </a:rPr>
              <a:t>цінний папір, який містить нічим не обумовлене розпорядження чекодавця банку провести платіж зазначеної у ньому суми чекоутримувачу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MSI</cp:lastModifiedBy>
  <dcterms:modified xsi:type="dcterms:W3CDTF">2021-11-23T14:19:21Z</dcterms:modified>
  <cp:revision>1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