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30.png" ContentType="image/png"/>
  <Override PartName="/ppt/media/image28.wmf" ContentType="image/x-wmf"/>
  <Override PartName="/ppt/media/image29.png" ContentType="image/png"/>
  <Override PartName="/ppt/media/image5.png" ContentType="image/png"/>
  <Override PartName="/ppt/media/image35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4.jpeg" ContentType="image/jpeg"/>
  <Override PartName="/ppt/media/image8.png" ContentType="image/png"/>
  <Override PartName="/ppt/media/image7.png" ContentType="image/png"/>
  <Override PartName="/ppt/media/image37.png" ContentType="image/png"/>
  <Override PartName="/ppt/media/image9.png" ContentType="image/png"/>
  <Override PartName="/ppt/media/image13.jpeg" ContentType="image/jpeg"/>
  <Override PartName="/ppt/media/image23.png" ContentType="image/png"/>
  <Override PartName="/ppt/media/image34.png" ContentType="image/png"/>
  <Override PartName="/ppt/media/image12.jpeg" ContentType="image/jpe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  <p:sldId id="291" r:id="rId44"/>
    <p:sldId id="292" r:id="rId45"/>
    <p:sldId id="293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slide" Target="slides/slide36.xml"/><Relationship Id="rId45" Type="http://schemas.openxmlformats.org/officeDocument/2006/relationships/slide" Target="slides/slide37.xml"/><Relationship Id="rId46" Type="http://schemas.openxmlformats.org/officeDocument/2006/relationships/slide" Target="slides/slide38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DCA47-8222-4407-89A6-AFFF1BCF0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DA8EF-E322-4289-8066-FC4603BDF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EE146-EF3B-4DC5-9423-C2A23DDE2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43C9A-C481-4F08-AE75-EE561210C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048C0-D656-4FB2-A2A2-5FEE7FEE4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E7CE0-EA47-498C-8078-D0C9C8786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B904D-53D1-4E81-9DDF-00D59A083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B02C5-4CB4-429C-B5D7-6BCDF7B35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0B122-0842-4717-B4FD-F5A1B7E1D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D14F1-353B-4530-AE20-AB1956383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6BA47-3D42-4030-8126-2E074CA39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55984-9B72-4A8D-8007-67A4EAA35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879B5-DEBB-4AF8-A716-B1EDC1C9C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E4218-3E16-4FAD-BE40-D2C83DF13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9C2E7-83E3-4107-B596-755398315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D90F7-BD74-4DDA-9573-626E14155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77A4D-B0F7-4869-8EC0-0470FF024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441A6B-B7C4-4054-A75C-E6B9043B5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2E1B11-963A-481B-8634-066967E6F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6AD6AB-C85B-45C9-B905-A33025252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BC8E7F-2928-4530-B70C-67630F6D8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F1112C-4C9B-44E7-8C6A-B6D657499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AFD43-BA07-499F-8589-FC6DD9564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CA7458-C716-4088-A6EB-181D3AC53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96AB75-ADF6-4F76-B349-40DD6F169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9B9A55-6186-44FC-84A6-EDD8A84C7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E5ACC9-77C8-4FDD-A858-8DC897668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04E4D4-5905-428F-8C2A-0CA8ED438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602F21-7430-4CCC-AF38-AECFFE075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F5C634-6307-47A2-B52E-F057FAE9B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644D21-DEDE-4622-A7FB-B99A6501A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20F6C7-16EE-43AD-9C21-08AE871DB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2A5974-64BC-4450-8CDF-80C0DAAB8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7CE4A-CC5E-4C78-BD9B-FEE836239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744780-0E20-41C2-88B5-744E5F284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5868BD-AF6E-4E95-B4D7-E7D8487B5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8F9B1A-6758-4900-B21F-C5B0A9866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6F8147-140F-42CE-8834-E86A99949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E9A434-1B67-40F6-8A11-B307DAD03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4153CE-F2A3-43F9-A5E2-7C44E99FC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9B66BE-F03B-41D4-AA7B-D0EB9CE8F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01F8D2-E7DE-42DD-9408-435CB010C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E81C0C-35DC-4691-9E15-59B053CD8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B50FC0-99F5-4CBB-97A4-F4E09304B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D0A1F-A8DB-492E-BFBD-E0FB313FA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D8A8E2-E78A-4892-9355-E7648F8EF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AE7A55-8902-43B1-99C0-DD44B1759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ACD5F5-D715-42B4-867C-39C93D7CD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6F9393-4701-4DC8-BDCF-DD56B0DFE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FA3822-5C23-4263-B994-24462DB59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271D3E-50B2-4D09-B6C7-11D0DEAAD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E8072F-6511-41E6-9B40-1370961E0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06B855-6C19-44B6-A1F1-875EBCD17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48D146-2B5F-4226-AA66-781D5F51D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2EA9CD-B372-4ADF-B233-8D46C6FD9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DCF3E-1FF1-432C-A8BE-1CFF86418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0423F4-C828-4878-994E-5E0409A35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658D0A-1B1A-4B9A-A758-6BC6B44BB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D0D81B-5B36-42AB-8B2A-55DC07CB7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067B25-4C1C-4501-8D96-59DD88D6B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B7BB00-AAD8-47E0-93BA-EAC9A332E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58C778-C6F7-4DC0-8970-6C3610CCE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29DF69-55C6-474C-9075-B91EB286E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87FCEC-2F9A-4026-AC00-E5A7AACCA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C4C791-DA8B-4E82-9766-91E5ED366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0A33E7-DF4D-423A-830D-8C9822AC2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D861E-BC29-432E-966E-A4BF51204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F4438D-8DAD-4614-8D4F-02DD0F8F4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DBDFED-462E-49AA-80D1-5B603D3B5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EF3901-81F7-4694-A2AC-4A81E2F17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47F5DC-4360-43B8-BADE-545E9D719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67568A-E406-4C63-B335-0493CFBFC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109F73-6323-443A-ACAD-6483F394A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835AD4-C5F4-48B2-BD1C-109A34AB7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F6689A-E9F2-4358-855A-82DE7EB59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BCCDB8-8D37-425F-9BA8-9DBA5E97C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F0A9CC-834B-4906-B430-CA461F3BD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5A14E-9187-4CE5-937F-4D54200BE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74FC00-864F-4950-BD00-C511A353F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057179-D9BA-4995-9AF2-40D2F57C3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E1278B-48E2-44C9-872A-172758E93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FA2AFD-1386-4DA3-B6B0-F6522BFF3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75E509-22A9-44AC-8E90-11595FC26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C6248-DBF0-4B76-996C-C0FC42F98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d85"/>
            </a:gs>
            <a:gs pos="100000">
              <a:srgbClr val="3067d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eeece1">
                  <a:alpha val="1176"/>
                </a:srgbClr>
              </a:gs>
              <a:gs pos="100000">
                <a:srgbClr val="eeece1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abb6c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5bed3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49cd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97acd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2F85E-877C-4939-832D-80E68C8BB9D5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d85"/>
            </a:gs>
            <a:gs pos="100000">
              <a:srgbClr val="3067d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eeece1">
                  <a:alpha val="1176"/>
                </a:srgbClr>
              </a:gs>
              <a:gs pos="100000">
                <a:srgbClr val="eeece1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abb6c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5bed3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Равнобедренный треугольник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18477f"/>
              </a:gs>
              <a:gs pos="100000">
                <a:srgbClr val="87aded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49cd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97acd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F3BEB-6EED-479B-87F4-CC78A0A6CFE9}" type="slidenum">
              <a:rPr b="0" lang="ru-RU" sz="13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d85"/>
            </a:gs>
            <a:gs pos="100000">
              <a:srgbClr val="3067d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eeece1">
                  <a:alpha val="1176"/>
                </a:srgbClr>
              </a:gs>
              <a:gs pos="100000">
                <a:srgbClr val="eeece1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abb6c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5bed3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49cd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97acd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3BB5A-E4A4-422F-A4B5-238C23279F28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ый треугольник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eeece1">
                  <a:alpha val="1176"/>
                </a:srgbClr>
              </a:gs>
              <a:gs pos="100000">
                <a:srgbClr val="eeece1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Равнобедренный треугольник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18477f"/>
              </a:gs>
              <a:gs pos="100000">
                <a:srgbClr val="87aded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Прямая соединительная линия 12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b5bed3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Прямая соединительная линия 14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abb6c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49cd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97acd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41608-9603-4B78-9E2B-1166D2F1C70C}" type="slidenum">
              <a:rPr b="0" lang="ru-RU" sz="1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d85"/>
            </a:gs>
            <a:gs pos="100000">
              <a:srgbClr val="3067d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49cd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97acd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C0533-BE90-401A-AFEA-00938CA7BA0D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d85"/>
            </a:gs>
            <a:gs pos="100000">
              <a:srgbClr val="3067d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49cd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97acd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8A73E-3F11-4435-AC4B-4DD1FB55471C}" type="slidenum">
              <a:rPr b="0" lang="ru-RU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49cd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97acd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0E5C3-2FB9-46EA-AAC6-B36F40F01FEC}" type="slidenum">
              <a:rPr b="0" lang="ru-RU" sz="9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8.wmf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Заголовок 1" descr=""/>
          <p:cNvPicPr/>
          <p:nvPr/>
        </p:nvPicPr>
        <p:blipFill>
          <a:blip r:embed="rId1"/>
          <a:stretch/>
        </p:blipFill>
        <p:spPr>
          <a:xfrm>
            <a:off x="476280" y="676440"/>
            <a:ext cx="8502480" cy="1950840"/>
          </a:xfrm>
          <a:prstGeom prst="rect">
            <a:avLst/>
          </a:prstGeom>
          <a:ln w="0">
            <a:noFill/>
          </a:ln>
        </p:spPr>
      </p:pic>
      <p:pic>
        <p:nvPicPr>
          <p:cNvPr id="302" name="Подзаголовок 2" descr=""/>
          <p:cNvPicPr/>
          <p:nvPr/>
        </p:nvPicPr>
        <p:blipFill>
          <a:blip r:embed="rId2"/>
          <a:stretch/>
        </p:blipFill>
        <p:spPr>
          <a:xfrm>
            <a:off x="573120" y="2951280"/>
            <a:ext cx="8448480" cy="285912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Прямоугольник 1" descr=""/>
          <p:cNvPicPr/>
          <p:nvPr/>
        </p:nvPicPr>
        <p:blipFill>
          <a:blip r:embed="rId1"/>
          <a:stretch/>
        </p:blipFill>
        <p:spPr>
          <a:xfrm>
            <a:off x="560520" y="506520"/>
            <a:ext cx="6522840" cy="901440"/>
          </a:xfrm>
          <a:prstGeom prst="rect">
            <a:avLst/>
          </a:prstGeom>
          <a:ln w="0">
            <a:noFill/>
          </a:ln>
        </p:spPr>
      </p:pic>
      <p:sp>
        <p:nvSpPr>
          <p:cNvPr id="339" name="Прямоугольник с двумя вырезанными противолежащими углами 20"/>
          <p:cNvSpPr/>
          <p:nvPr/>
        </p:nvSpPr>
        <p:spPr>
          <a:xfrm>
            <a:off x="1357200" y="1609560"/>
            <a:ext cx="4438800" cy="785880"/>
          </a:xfrm>
          <a:prstGeom prst="pie">
            <a:avLst/>
          </a:prstGeom>
          <a:solidFill>
            <a:srgbClr val="558e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Підприємство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Штриховая стрелка вправо 21"/>
          <p:cNvSpPr/>
          <p:nvPr/>
        </p:nvSpPr>
        <p:spPr>
          <a:xfrm>
            <a:off x="357120" y="1681200"/>
            <a:ext cx="785880" cy="495360"/>
          </a:xfrm>
          <a:custGeom>
            <a:avLst/>
            <a:gdLst/>
            <a:ahLst/>
            <a:rect l="l" t="t" r="r" b="b"/>
            <a:pathLst>
              <a:path w="785812" h="495300">
                <a:moveTo>
                  <a:pt x="0" y="123825"/>
                </a:moveTo>
                <a:lnTo>
                  <a:pt x="15478" y="123825"/>
                </a:lnTo>
                <a:lnTo>
                  <a:pt x="15478" y="371475"/>
                </a:lnTo>
                <a:lnTo>
                  <a:pt x="0" y="371475"/>
                </a:lnTo>
                <a:lnTo>
                  <a:pt x="0" y="123825"/>
                </a:lnTo>
                <a:close/>
                <a:moveTo>
                  <a:pt x="30956" y="123825"/>
                </a:moveTo>
                <a:lnTo>
                  <a:pt x="61913" y="123825"/>
                </a:lnTo>
                <a:lnTo>
                  <a:pt x="61913" y="371475"/>
                </a:lnTo>
                <a:lnTo>
                  <a:pt x="30956" y="371475"/>
                </a:lnTo>
                <a:lnTo>
                  <a:pt x="30956" y="123825"/>
                </a:lnTo>
                <a:close/>
                <a:moveTo>
                  <a:pt x="77391" y="123825"/>
                </a:moveTo>
                <a:lnTo>
                  <a:pt x="538162" y="123825"/>
                </a:lnTo>
                <a:lnTo>
                  <a:pt x="538162" y="0"/>
                </a:lnTo>
                <a:lnTo>
                  <a:pt x="785812" y="247650"/>
                </a:lnTo>
                <a:lnTo>
                  <a:pt x="538162" y="495300"/>
                </a:lnTo>
                <a:lnTo>
                  <a:pt x="538162" y="371475"/>
                </a:lnTo>
                <a:lnTo>
                  <a:pt x="77391" y="371475"/>
                </a:lnTo>
                <a:lnTo>
                  <a:pt x="77391" y="123825"/>
                </a:lnTo>
                <a:close/>
              </a:path>
            </a:pathLst>
          </a:custGeom>
          <a:solidFill>
            <a:srgbClr val="1e1c11"/>
          </a:solidFill>
          <a:ln w="25560">
            <a:solidFill>
              <a:srgbClr val="9848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Прямоугольник с двумя вырезанными противолежащими углами 22"/>
          <p:cNvSpPr/>
          <p:nvPr/>
        </p:nvSpPr>
        <p:spPr>
          <a:xfrm>
            <a:off x="2220840" y="2467080"/>
            <a:ext cx="4438800" cy="785880"/>
          </a:xfrm>
          <a:prstGeom prst="pie">
            <a:avLst/>
          </a:prstGeom>
          <a:solidFill>
            <a:srgbClr val="604a7b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Види бізнесу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Штриховая стрелка вправо 23"/>
          <p:cNvSpPr/>
          <p:nvPr/>
        </p:nvSpPr>
        <p:spPr>
          <a:xfrm>
            <a:off x="1220760" y="2538360"/>
            <a:ext cx="785880" cy="495360"/>
          </a:xfrm>
          <a:custGeom>
            <a:avLst/>
            <a:gdLst/>
            <a:ahLst/>
            <a:rect l="l" t="t" r="r" b="b"/>
            <a:pathLst>
              <a:path w="785812" h="495300">
                <a:moveTo>
                  <a:pt x="0" y="123825"/>
                </a:moveTo>
                <a:lnTo>
                  <a:pt x="15478" y="123825"/>
                </a:lnTo>
                <a:lnTo>
                  <a:pt x="15478" y="371475"/>
                </a:lnTo>
                <a:lnTo>
                  <a:pt x="0" y="371475"/>
                </a:lnTo>
                <a:lnTo>
                  <a:pt x="0" y="123825"/>
                </a:lnTo>
                <a:close/>
                <a:moveTo>
                  <a:pt x="30956" y="123825"/>
                </a:moveTo>
                <a:lnTo>
                  <a:pt x="61913" y="123825"/>
                </a:lnTo>
                <a:lnTo>
                  <a:pt x="61913" y="371475"/>
                </a:lnTo>
                <a:lnTo>
                  <a:pt x="30956" y="371475"/>
                </a:lnTo>
                <a:lnTo>
                  <a:pt x="30956" y="123825"/>
                </a:lnTo>
                <a:close/>
                <a:moveTo>
                  <a:pt x="77391" y="123825"/>
                </a:moveTo>
                <a:lnTo>
                  <a:pt x="538162" y="123825"/>
                </a:lnTo>
                <a:lnTo>
                  <a:pt x="538162" y="0"/>
                </a:lnTo>
                <a:lnTo>
                  <a:pt x="785812" y="247650"/>
                </a:lnTo>
                <a:lnTo>
                  <a:pt x="538162" y="495300"/>
                </a:lnTo>
                <a:lnTo>
                  <a:pt x="538162" y="371475"/>
                </a:lnTo>
                <a:lnTo>
                  <a:pt x="77391" y="371475"/>
                </a:lnTo>
                <a:lnTo>
                  <a:pt x="77391" y="123825"/>
                </a:lnTo>
                <a:close/>
              </a:path>
            </a:pathLst>
          </a:custGeom>
          <a:solidFill>
            <a:srgbClr val="1e1c11"/>
          </a:solidFill>
          <a:ln w="25560">
            <a:solidFill>
              <a:srgbClr val="9848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Прямоугольник с двумя вырезанными противолежащими углами 24"/>
          <p:cNvSpPr/>
          <p:nvPr/>
        </p:nvSpPr>
        <p:spPr>
          <a:xfrm>
            <a:off x="2941560" y="3324240"/>
            <a:ext cx="4438800" cy="785880"/>
          </a:xfrm>
          <a:prstGeom prst="pie">
            <a:avLst/>
          </a:prstGeom>
          <a:solidFill>
            <a:srgbClr val="558e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Грошові потоки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Штриховая стрелка вправо 25"/>
          <p:cNvSpPr/>
          <p:nvPr/>
        </p:nvSpPr>
        <p:spPr>
          <a:xfrm>
            <a:off x="1941480" y="3395520"/>
            <a:ext cx="785880" cy="495360"/>
          </a:xfrm>
          <a:custGeom>
            <a:avLst/>
            <a:gdLst/>
            <a:ahLst/>
            <a:rect l="l" t="t" r="r" b="b"/>
            <a:pathLst>
              <a:path w="785812" h="495300">
                <a:moveTo>
                  <a:pt x="0" y="123825"/>
                </a:moveTo>
                <a:lnTo>
                  <a:pt x="15478" y="123825"/>
                </a:lnTo>
                <a:lnTo>
                  <a:pt x="15478" y="371475"/>
                </a:lnTo>
                <a:lnTo>
                  <a:pt x="0" y="371475"/>
                </a:lnTo>
                <a:lnTo>
                  <a:pt x="0" y="123825"/>
                </a:lnTo>
                <a:close/>
                <a:moveTo>
                  <a:pt x="30956" y="123825"/>
                </a:moveTo>
                <a:lnTo>
                  <a:pt x="61913" y="123825"/>
                </a:lnTo>
                <a:lnTo>
                  <a:pt x="61913" y="371475"/>
                </a:lnTo>
                <a:lnTo>
                  <a:pt x="30956" y="371475"/>
                </a:lnTo>
                <a:lnTo>
                  <a:pt x="30956" y="123825"/>
                </a:lnTo>
                <a:close/>
                <a:moveTo>
                  <a:pt x="77391" y="123825"/>
                </a:moveTo>
                <a:lnTo>
                  <a:pt x="538162" y="123825"/>
                </a:lnTo>
                <a:lnTo>
                  <a:pt x="538162" y="0"/>
                </a:lnTo>
                <a:lnTo>
                  <a:pt x="785812" y="247650"/>
                </a:lnTo>
                <a:lnTo>
                  <a:pt x="538162" y="495300"/>
                </a:lnTo>
                <a:lnTo>
                  <a:pt x="538162" y="371475"/>
                </a:lnTo>
                <a:lnTo>
                  <a:pt x="77391" y="371475"/>
                </a:lnTo>
                <a:lnTo>
                  <a:pt x="77391" y="123825"/>
                </a:lnTo>
                <a:close/>
              </a:path>
            </a:pathLst>
          </a:custGeom>
          <a:solidFill>
            <a:srgbClr val="1e1c11"/>
          </a:solidFill>
          <a:ln w="25560">
            <a:solidFill>
              <a:srgbClr val="9848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Прямоугольник с двумя вырезанными противолежащими углами 26"/>
          <p:cNvSpPr/>
          <p:nvPr/>
        </p:nvSpPr>
        <p:spPr>
          <a:xfrm>
            <a:off x="3700440" y="4181400"/>
            <a:ext cx="4438800" cy="903240"/>
          </a:xfrm>
          <a:prstGeom prst="pie">
            <a:avLst/>
          </a:prstGeom>
          <a:solidFill>
            <a:srgbClr val="604a7b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Виробництво</a:t>
            </a:r>
            <a:r>
              <a:rPr b="0" lang="uk-UA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та збут продукції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Штриховая стрелка вправо 27"/>
          <p:cNvSpPr/>
          <p:nvPr/>
        </p:nvSpPr>
        <p:spPr>
          <a:xfrm>
            <a:off x="2700360" y="4373640"/>
            <a:ext cx="785880" cy="495360"/>
          </a:xfrm>
          <a:custGeom>
            <a:avLst/>
            <a:gdLst/>
            <a:ahLst/>
            <a:rect l="l" t="t" r="r" b="b"/>
            <a:pathLst>
              <a:path w="785812" h="495300">
                <a:moveTo>
                  <a:pt x="0" y="123825"/>
                </a:moveTo>
                <a:lnTo>
                  <a:pt x="15478" y="123825"/>
                </a:lnTo>
                <a:lnTo>
                  <a:pt x="15478" y="371475"/>
                </a:lnTo>
                <a:lnTo>
                  <a:pt x="0" y="371475"/>
                </a:lnTo>
                <a:lnTo>
                  <a:pt x="0" y="123825"/>
                </a:lnTo>
                <a:close/>
                <a:moveTo>
                  <a:pt x="30956" y="123825"/>
                </a:moveTo>
                <a:lnTo>
                  <a:pt x="61913" y="123825"/>
                </a:lnTo>
                <a:lnTo>
                  <a:pt x="61913" y="371475"/>
                </a:lnTo>
                <a:lnTo>
                  <a:pt x="30956" y="371475"/>
                </a:lnTo>
                <a:lnTo>
                  <a:pt x="30956" y="123825"/>
                </a:lnTo>
                <a:close/>
                <a:moveTo>
                  <a:pt x="77391" y="123825"/>
                </a:moveTo>
                <a:lnTo>
                  <a:pt x="538162" y="123825"/>
                </a:lnTo>
                <a:lnTo>
                  <a:pt x="538162" y="0"/>
                </a:lnTo>
                <a:lnTo>
                  <a:pt x="785812" y="247650"/>
                </a:lnTo>
                <a:lnTo>
                  <a:pt x="538162" y="495300"/>
                </a:lnTo>
                <a:lnTo>
                  <a:pt x="538162" y="371475"/>
                </a:lnTo>
                <a:lnTo>
                  <a:pt x="77391" y="371475"/>
                </a:lnTo>
                <a:lnTo>
                  <a:pt x="77391" y="123825"/>
                </a:lnTo>
                <a:close/>
              </a:path>
            </a:pathLst>
          </a:custGeom>
          <a:solidFill>
            <a:srgbClr val="1e1c11"/>
          </a:solidFill>
          <a:ln w="25560">
            <a:solidFill>
              <a:srgbClr val="9848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Прямоугольник с двумя вырезанными противолежащими углами 10"/>
          <p:cNvSpPr/>
          <p:nvPr/>
        </p:nvSpPr>
        <p:spPr>
          <a:xfrm>
            <a:off x="4165560" y="5164200"/>
            <a:ext cx="4438800" cy="785880"/>
          </a:xfrm>
          <a:prstGeom prst="pie">
            <a:avLst/>
          </a:prstGeom>
          <a:solidFill>
            <a:srgbClr val="558e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та інші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Штриховая стрелка вправо 11"/>
          <p:cNvSpPr/>
          <p:nvPr/>
        </p:nvSpPr>
        <p:spPr>
          <a:xfrm>
            <a:off x="3335400" y="5241960"/>
            <a:ext cx="785880" cy="495360"/>
          </a:xfrm>
          <a:custGeom>
            <a:avLst/>
            <a:gdLst/>
            <a:ahLst/>
            <a:rect l="l" t="t" r="r" b="b"/>
            <a:pathLst>
              <a:path w="785812" h="495300">
                <a:moveTo>
                  <a:pt x="0" y="123825"/>
                </a:moveTo>
                <a:lnTo>
                  <a:pt x="15478" y="123825"/>
                </a:lnTo>
                <a:lnTo>
                  <a:pt x="15478" y="371475"/>
                </a:lnTo>
                <a:lnTo>
                  <a:pt x="0" y="371475"/>
                </a:lnTo>
                <a:lnTo>
                  <a:pt x="0" y="123825"/>
                </a:lnTo>
                <a:close/>
                <a:moveTo>
                  <a:pt x="30956" y="123825"/>
                </a:moveTo>
                <a:lnTo>
                  <a:pt x="61913" y="123825"/>
                </a:lnTo>
                <a:lnTo>
                  <a:pt x="61913" y="371475"/>
                </a:lnTo>
                <a:lnTo>
                  <a:pt x="30956" y="371475"/>
                </a:lnTo>
                <a:lnTo>
                  <a:pt x="30956" y="123825"/>
                </a:lnTo>
                <a:close/>
                <a:moveTo>
                  <a:pt x="77391" y="123825"/>
                </a:moveTo>
                <a:lnTo>
                  <a:pt x="538162" y="123825"/>
                </a:lnTo>
                <a:lnTo>
                  <a:pt x="538162" y="0"/>
                </a:lnTo>
                <a:lnTo>
                  <a:pt x="785812" y="247650"/>
                </a:lnTo>
                <a:lnTo>
                  <a:pt x="538162" y="495300"/>
                </a:lnTo>
                <a:lnTo>
                  <a:pt x="538162" y="371475"/>
                </a:lnTo>
                <a:lnTo>
                  <a:pt x="77391" y="371475"/>
                </a:lnTo>
                <a:lnTo>
                  <a:pt x="77391" y="123825"/>
                </a:lnTo>
                <a:close/>
              </a:path>
            </a:pathLst>
          </a:custGeom>
          <a:solidFill>
            <a:srgbClr val="1e1c11"/>
          </a:solidFill>
          <a:ln w="25560">
            <a:solidFill>
              <a:srgbClr val="9848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Прямоугольник 1" descr=""/>
          <p:cNvPicPr/>
          <p:nvPr/>
        </p:nvPicPr>
        <p:blipFill>
          <a:blip r:embed="rId1"/>
          <a:stretch/>
        </p:blipFill>
        <p:spPr>
          <a:xfrm>
            <a:off x="560520" y="506520"/>
            <a:ext cx="6522840" cy="901440"/>
          </a:xfrm>
          <a:prstGeom prst="rect">
            <a:avLst/>
          </a:prstGeom>
          <a:ln w="0">
            <a:noFill/>
          </a:ln>
        </p:spPr>
      </p:pic>
      <p:sp>
        <p:nvSpPr>
          <p:cNvPr id="350" name="Прямоугольник с двумя вырезанными противолежащими углами 20"/>
          <p:cNvSpPr/>
          <p:nvPr/>
        </p:nvSpPr>
        <p:spPr>
          <a:xfrm>
            <a:off x="1357200" y="1609560"/>
            <a:ext cx="4438800" cy="785880"/>
          </a:xfrm>
          <a:prstGeom prst="pie">
            <a:avLst/>
          </a:prstGeom>
          <a:solidFill>
            <a:srgbClr val="558e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Бюджетна комісія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Штриховая стрелка вправо 21"/>
          <p:cNvSpPr/>
          <p:nvPr/>
        </p:nvSpPr>
        <p:spPr>
          <a:xfrm>
            <a:off x="357120" y="1681200"/>
            <a:ext cx="785880" cy="495360"/>
          </a:xfrm>
          <a:custGeom>
            <a:avLst/>
            <a:gdLst/>
            <a:ahLst/>
            <a:rect l="l" t="t" r="r" b="b"/>
            <a:pathLst>
              <a:path w="785812" h="495300">
                <a:moveTo>
                  <a:pt x="0" y="123825"/>
                </a:moveTo>
                <a:lnTo>
                  <a:pt x="15478" y="123825"/>
                </a:lnTo>
                <a:lnTo>
                  <a:pt x="15478" y="371475"/>
                </a:lnTo>
                <a:lnTo>
                  <a:pt x="0" y="371475"/>
                </a:lnTo>
                <a:lnTo>
                  <a:pt x="0" y="123825"/>
                </a:lnTo>
                <a:close/>
                <a:moveTo>
                  <a:pt x="30956" y="123825"/>
                </a:moveTo>
                <a:lnTo>
                  <a:pt x="61913" y="123825"/>
                </a:lnTo>
                <a:lnTo>
                  <a:pt x="61913" y="371475"/>
                </a:lnTo>
                <a:lnTo>
                  <a:pt x="30956" y="371475"/>
                </a:lnTo>
                <a:lnTo>
                  <a:pt x="30956" y="123825"/>
                </a:lnTo>
                <a:close/>
                <a:moveTo>
                  <a:pt x="77391" y="123825"/>
                </a:moveTo>
                <a:lnTo>
                  <a:pt x="538162" y="123825"/>
                </a:lnTo>
                <a:lnTo>
                  <a:pt x="538162" y="0"/>
                </a:lnTo>
                <a:lnTo>
                  <a:pt x="785812" y="247650"/>
                </a:lnTo>
                <a:lnTo>
                  <a:pt x="538162" y="495300"/>
                </a:lnTo>
                <a:lnTo>
                  <a:pt x="538162" y="371475"/>
                </a:lnTo>
                <a:lnTo>
                  <a:pt x="77391" y="371475"/>
                </a:lnTo>
                <a:lnTo>
                  <a:pt x="77391" y="123825"/>
                </a:lnTo>
                <a:close/>
              </a:path>
            </a:pathLst>
          </a:custGeom>
          <a:solidFill>
            <a:srgbClr val="1e1c11"/>
          </a:solidFill>
          <a:ln w="25560">
            <a:solidFill>
              <a:srgbClr val="9848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Прямоугольник с двумя вырезанными противолежащими углами 22"/>
          <p:cNvSpPr/>
          <p:nvPr/>
        </p:nvSpPr>
        <p:spPr>
          <a:xfrm>
            <a:off x="2220840" y="2643120"/>
            <a:ext cx="4438800" cy="785880"/>
          </a:xfrm>
          <a:prstGeom prst="pie">
            <a:avLst/>
          </a:prstGeom>
          <a:solidFill>
            <a:srgbClr val="604a7b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Центри відповідальності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Штриховая стрелка вправо 23"/>
          <p:cNvSpPr/>
          <p:nvPr/>
        </p:nvSpPr>
        <p:spPr>
          <a:xfrm>
            <a:off x="1220760" y="2714760"/>
            <a:ext cx="785880" cy="495000"/>
          </a:xfrm>
          <a:custGeom>
            <a:avLst/>
            <a:gdLst/>
            <a:ahLst/>
            <a:rect l="l" t="t" r="r" b="b"/>
            <a:pathLst>
              <a:path w="785812" h="495300">
                <a:moveTo>
                  <a:pt x="0" y="123825"/>
                </a:moveTo>
                <a:lnTo>
                  <a:pt x="15478" y="123825"/>
                </a:lnTo>
                <a:lnTo>
                  <a:pt x="15478" y="371475"/>
                </a:lnTo>
                <a:lnTo>
                  <a:pt x="0" y="371475"/>
                </a:lnTo>
                <a:lnTo>
                  <a:pt x="0" y="123825"/>
                </a:lnTo>
                <a:close/>
                <a:moveTo>
                  <a:pt x="30956" y="123825"/>
                </a:moveTo>
                <a:lnTo>
                  <a:pt x="61913" y="123825"/>
                </a:lnTo>
                <a:lnTo>
                  <a:pt x="61913" y="371475"/>
                </a:lnTo>
                <a:lnTo>
                  <a:pt x="30956" y="371475"/>
                </a:lnTo>
                <a:lnTo>
                  <a:pt x="30956" y="123825"/>
                </a:lnTo>
                <a:close/>
                <a:moveTo>
                  <a:pt x="77391" y="123825"/>
                </a:moveTo>
                <a:lnTo>
                  <a:pt x="538162" y="123825"/>
                </a:lnTo>
                <a:lnTo>
                  <a:pt x="538162" y="0"/>
                </a:lnTo>
                <a:lnTo>
                  <a:pt x="785812" y="247650"/>
                </a:lnTo>
                <a:lnTo>
                  <a:pt x="538162" y="495300"/>
                </a:lnTo>
                <a:lnTo>
                  <a:pt x="538162" y="371475"/>
                </a:lnTo>
                <a:lnTo>
                  <a:pt x="77391" y="371475"/>
                </a:lnTo>
                <a:lnTo>
                  <a:pt x="77391" y="123825"/>
                </a:lnTo>
                <a:close/>
              </a:path>
            </a:pathLst>
          </a:custGeom>
          <a:solidFill>
            <a:srgbClr val="1e1c11"/>
          </a:solidFill>
          <a:ln w="25560">
            <a:solidFill>
              <a:srgbClr val="9848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Прямоугольник с двумя вырезанными противолежащими углами 24"/>
          <p:cNvSpPr/>
          <p:nvPr/>
        </p:nvSpPr>
        <p:spPr>
          <a:xfrm>
            <a:off x="2941560" y="3651120"/>
            <a:ext cx="4438800" cy="785880"/>
          </a:xfrm>
          <a:prstGeom prst="pie">
            <a:avLst/>
          </a:prstGeom>
          <a:solidFill>
            <a:srgbClr val="558e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Функціональні служби та відділи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Штриховая стрелка вправо 25"/>
          <p:cNvSpPr/>
          <p:nvPr/>
        </p:nvSpPr>
        <p:spPr>
          <a:xfrm>
            <a:off x="1941480" y="3722760"/>
            <a:ext cx="785880" cy="495360"/>
          </a:xfrm>
          <a:custGeom>
            <a:avLst/>
            <a:gdLst/>
            <a:ahLst/>
            <a:rect l="l" t="t" r="r" b="b"/>
            <a:pathLst>
              <a:path w="785812" h="495300">
                <a:moveTo>
                  <a:pt x="0" y="123825"/>
                </a:moveTo>
                <a:lnTo>
                  <a:pt x="15478" y="123825"/>
                </a:lnTo>
                <a:lnTo>
                  <a:pt x="15478" y="371475"/>
                </a:lnTo>
                <a:lnTo>
                  <a:pt x="0" y="371475"/>
                </a:lnTo>
                <a:lnTo>
                  <a:pt x="0" y="123825"/>
                </a:lnTo>
                <a:close/>
                <a:moveTo>
                  <a:pt x="30956" y="123825"/>
                </a:moveTo>
                <a:lnTo>
                  <a:pt x="61913" y="123825"/>
                </a:lnTo>
                <a:lnTo>
                  <a:pt x="61913" y="371475"/>
                </a:lnTo>
                <a:lnTo>
                  <a:pt x="30956" y="371475"/>
                </a:lnTo>
                <a:lnTo>
                  <a:pt x="30956" y="123825"/>
                </a:lnTo>
                <a:close/>
                <a:moveTo>
                  <a:pt x="77391" y="123825"/>
                </a:moveTo>
                <a:lnTo>
                  <a:pt x="538162" y="123825"/>
                </a:lnTo>
                <a:lnTo>
                  <a:pt x="538162" y="0"/>
                </a:lnTo>
                <a:lnTo>
                  <a:pt x="785812" y="247650"/>
                </a:lnTo>
                <a:lnTo>
                  <a:pt x="538162" y="495300"/>
                </a:lnTo>
                <a:lnTo>
                  <a:pt x="538162" y="371475"/>
                </a:lnTo>
                <a:lnTo>
                  <a:pt x="77391" y="371475"/>
                </a:lnTo>
                <a:lnTo>
                  <a:pt x="77391" y="123825"/>
                </a:lnTo>
                <a:close/>
              </a:path>
            </a:pathLst>
          </a:custGeom>
          <a:solidFill>
            <a:srgbClr val="1e1c11"/>
          </a:solidFill>
          <a:ln w="25560">
            <a:solidFill>
              <a:srgbClr val="9848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2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Прямоугольник 1" descr=""/>
          <p:cNvPicPr/>
          <p:nvPr/>
        </p:nvPicPr>
        <p:blipFill>
          <a:blip r:embed="rId1"/>
          <a:stretch/>
        </p:blipFill>
        <p:spPr>
          <a:xfrm>
            <a:off x="560520" y="506520"/>
            <a:ext cx="6522840" cy="901440"/>
          </a:xfrm>
          <a:prstGeom prst="rect">
            <a:avLst/>
          </a:prstGeom>
          <a:ln w="0">
            <a:noFill/>
          </a:ln>
        </p:spPr>
      </p:pic>
      <p:sp>
        <p:nvSpPr>
          <p:cNvPr id="357" name="Прямоугольник с двумя вырезанными противолежащими углами 20"/>
          <p:cNvSpPr/>
          <p:nvPr/>
        </p:nvSpPr>
        <p:spPr>
          <a:xfrm>
            <a:off x="1357200" y="1609560"/>
            <a:ext cx="5230800" cy="785880"/>
          </a:xfrm>
          <a:prstGeom prst="pie">
            <a:avLst/>
          </a:prstGeom>
          <a:solidFill>
            <a:srgbClr val="558e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Єдність бюджетної системи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Штриховая стрелка вправо 21"/>
          <p:cNvSpPr/>
          <p:nvPr/>
        </p:nvSpPr>
        <p:spPr>
          <a:xfrm>
            <a:off x="357120" y="1681200"/>
            <a:ext cx="785880" cy="495360"/>
          </a:xfrm>
          <a:custGeom>
            <a:avLst/>
            <a:gdLst/>
            <a:ahLst/>
            <a:rect l="l" t="t" r="r" b="b"/>
            <a:pathLst>
              <a:path w="785812" h="495300">
                <a:moveTo>
                  <a:pt x="0" y="123825"/>
                </a:moveTo>
                <a:lnTo>
                  <a:pt x="15478" y="123825"/>
                </a:lnTo>
                <a:lnTo>
                  <a:pt x="15478" y="371475"/>
                </a:lnTo>
                <a:lnTo>
                  <a:pt x="0" y="371475"/>
                </a:lnTo>
                <a:lnTo>
                  <a:pt x="0" y="123825"/>
                </a:lnTo>
                <a:close/>
                <a:moveTo>
                  <a:pt x="30956" y="123825"/>
                </a:moveTo>
                <a:lnTo>
                  <a:pt x="61913" y="123825"/>
                </a:lnTo>
                <a:lnTo>
                  <a:pt x="61913" y="371475"/>
                </a:lnTo>
                <a:lnTo>
                  <a:pt x="30956" y="371475"/>
                </a:lnTo>
                <a:lnTo>
                  <a:pt x="30956" y="123825"/>
                </a:lnTo>
                <a:close/>
                <a:moveTo>
                  <a:pt x="77391" y="123825"/>
                </a:moveTo>
                <a:lnTo>
                  <a:pt x="538162" y="123825"/>
                </a:lnTo>
                <a:lnTo>
                  <a:pt x="538162" y="0"/>
                </a:lnTo>
                <a:lnTo>
                  <a:pt x="785812" y="247650"/>
                </a:lnTo>
                <a:lnTo>
                  <a:pt x="538162" y="495300"/>
                </a:lnTo>
                <a:lnTo>
                  <a:pt x="538162" y="371475"/>
                </a:lnTo>
                <a:lnTo>
                  <a:pt x="77391" y="371475"/>
                </a:lnTo>
                <a:lnTo>
                  <a:pt x="77391" y="123825"/>
                </a:lnTo>
                <a:close/>
              </a:path>
            </a:pathLst>
          </a:custGeom>
          <a:solidFill>
            <a:srgbClr val="1e1c11"/>
          </a:solidFill>
          <a:ln w="25560">
            <a:solidFill>
              <a:srgbClr val="9848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Прямоугольник с двумя вырезанными противолежащими углами 22"/>
          <p:cNvSpPr/>
          <p:nvPr/>
        </p:nvSpPr>
        <p:spPr>
          <a:xfrm>
            <a:off x="2220840" y="2467080"/>
            <a:ext cx="6023160" cy="785880"/>
          </a:xfrm>
          <a:prstGeom prst="pie">
            <a:avLst/>
          </a:prstGeom>
          <a:solidFill>
            <a:srgbClr val="604a7b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Розмежування доходів і витрат між рівнями бюджетної системи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Штриховая стрелка вправо 23"/>
          <p:cNvSpPr/>
          <p:nvPr/>
        </p:nvSpPr>
        <p:spPr>
          <a:xfrm>
            <a:off x="1220760" y="2538360"/>
            <a:ext cx="785880" cy="495360"/>
          </a:xfrm>
          <a:custGeom>
            <a:avLst/>
            <a:gdLst/>
            <a:ahLst/>
            <a:rect l="l" t="t" r="r" b="b"/>
            <a:pathLst>
              <a:path w="785812" h="495300">
                <a:moveTo>
                  <a:pt x="0" y="123825"/>
                </a:moveTo>
                <a:lnTo>
                  <a:pt x="15478" y="123825"/>
                </a:lnTo>
                <a:lnTo>
                  <a:pt x="15478" y="371475"/>
                </a:lnTo>
                <a:lnTo>
                  <a:pt x="0" y="371475"/>
                </a:lnTo>
                <a:lnTo>
                  <a:pt x="0" y="123825"/>
                </a:lnTo>
                <a:close/>
                <a:moveTo>
                  <a:pt x="30956" y="123825"/>
                </a:moveTo>
                <a:lnTo>
                  <a:pt x="61913" y="123825"/>
                </a:lnTo>
                <a:lnTo>
                  <a:pt x="61913" y="371475"/>
                </a:lnTo>
                <a:lnTo>
                  <a:pt x="30956" y="371475"/>
                </a:lnTo>
                <a:lnTo>
                  <a:pt x="30956" y="123825"/>
                </a:lnTo>
                <a:close/>
                <a:moveTo>
                  <a:pt x="77391" y="123825"/>
                </a:moveTo>
                <a:lnTo>
                  <a:pt x="538162" y="123825"/>
                </a:lnTo>
                <a:lnTo>
                  <a:pt x="538162" y="0"/>
                </a:lnTo>
                <a:lnTo>
                  <a:pt x="785812" y="247650"/>
                </a:lnTo>
                <a:lnTo>
                  <a:pt x="538162" y="495300"/>
                </a:lnTo>
                <a:lnTo>
                  <a:pt x="538162" y="371475"/>
                </a:lnTo>
                <a:lnTo>
                  <a:pt x="77391" y="371475"/>
                </a:lnTo>
                <a:lnTo>
                  <a:pt x="77391" y="123825"/>
                </a:lnTo>
                <a:close/>
              </a:path>
            </a:pathLst>
          </a:custGeom>
          <a:solidFill>
            <a:srgbClr val="1e1c11"/>
          </a:solidFill>
          <a:ln w="25560">
            <a:solidFill>
              <a:srgbClr val="9848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Прямоугольник с двумя вырезанными противолежащими углами 24"/>
          <p:cNvSpPr/>
          <p:nvPr/>
        </p:nvSpPr>
        <p:spPr>
          <a:xfrm>
            <a:off x="2941560" y="3324240"/>
            <a:ext cx="4870440" cy="785880"/>
          </a:xfrm>
          <a:prstGeom prst="pie">
            <a:avLst/>
          </a:prstGeom>
          <a:solidFill>
            <a:srgbClr val="558e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Самостійність бюджетів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Штриховая стрелка вправо 25"/>
          <p:cNvSpPr/>
          <p:nvPr/>
        </p:nvSpPr>
        <p:spPr>
          <a:xfrm>
            <a:off x="1941480" y="3395520"/>
            <a:ext cx="785880" cy="495360"/>
          </a:xfrm>
          <a:custGeom>
            <a:avLst/>
            <a:gdLst/>
            <a:ahLst/>
            <a:rect l="l" t="t" r="r" b="b"/>
            <a:pathLst>
              <a:path w="785812" h="495300">
                <a:moveTo>
                  <a:pt x="0" y="123825"/>
                </a:moveTo>
                <a:lnTo>
                  <a:pt x="15478" y="123825"/>
                </a:lnTo>
                <a:lnTo>
                  <a:pt x="15478" y="371475"/>
                </a:lnTo>
                <a:lnTo>
                  <a:pt x="0" y="371475"/>
                </a:lnTo>
                <a:lnTo>
                  <a:pt x="0" y="123825"/>
                </a:lnTo>
                <a:close/>
                <a:moveTo>
                  <a:pt x="30956" y="123825"/>
                </a:moveTo>
                <a:lnTo>
                  <a:pt x="61913" y="123825"/>
                </a:lnTo>
                <a:lnTo>
                  <a:pt x="61913" y="371475"/>
                </a:lnTo>
                <a:lnTo>
                  <a:pt x="30956" y="371475"/>
                </a:lnTo>
                <a:lnTo>
                  <a:pt x="30956" y="123825"/>
                </a:lnTo>
                <a:close/>
                <a:moveTo>
                  <a:pt x="77391" y="123825"/>
                </a:moveTo>
                <a:lnTo>
                  <a:pt x="538162" y="123825"/>
                </a:lnTo>
                <a:lnTo>
                  <a:pt x="538162" y="0"/>
                </a:lnTo>
                <a:lnTo>
                  <a:pt x="785812" y="247650"/>
                </a:lnTo>
                <a:lnTo>
                  <a:pt x="538162" y="495300"/>
                </a:lnTo>
                <a:lnTo>
                  <a:pt x="538162" y="371475"/>
                </a:lnTo>
                <a:lnTo>
                  <a:pt x="77391" y="371475"/>
                </a:lnTo>
                <a:lnTo>
                  <a:pt x="77391" y="123825"/>
                </a:lnTo>
                <a:close/>
              </a:path>
            </a:pathLst>
          </a:custGeom>
          <a:solidFill>
            <a:srgbClr val="1e1c11"/>
          </a:solidFill>
          <a:ln w="25560">
            <a:solidFill>
              <a:srgbClr val="9848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Прямоугольник с двумя вырезанными противолежащими углами 26"/>
          <p:cNvSpPr/>
          <p:nvPr/>
        </p:nvSpPr>
        <p:spPr>
          <a:xfrm>
            <a:off x="3700440" y="4181400"/>
            <a:ext cx="5119560" cy="785880"/>
          </a:xfrm>
          <a:prstGeom prst="pie">
            <a:avLst/>
          </a:prstGeom>
          <a:solidFill>
            <a:srgbClr val="604a7b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Збалансованість бюджетів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Штриховая стрелка вправо 27"/>
          <p:cNvSpPr/>
          <p:nvPr/>
        </p:nvSpPr>
        <p:spPr>
          <a:xfrm>
            <a:off x="2700360" y="4253040"/>
            <a:ext cx="785880" cy="495000"/>
          </a:xfrm>
          <a:custGeom>
            <a:avLst/>
            <a:gdLst/>
            <a:ahLst/>
            <a:rect l="l" t="t" r="r" b="b"/>
            <a:pathLst>
              <a:path w="785812" h="495300">
                <a:moveTo>
                  <a:pt x="0" y="123825"/>
                </a:moveTo>
                <a:lnTo>
                  <a:pt x="15478" y="123825"/>
                </a:lnTo>
                <a:lnTo>
                  <a:pt x="15478" y="371475"/>
                </a:lnTo>
                <a:lnTo>
                  <a:pt x="0" y="371475"/>
                </a:lnTo>
                <a:lnTo>
                  <a:pt x="0" y="123825"/>
                </a:lnTo>
                <a:close/>
                <a:moveTo>
                  <a:pt x="30956" y="123825"/>
                </a:moveTo>
                <a:lnTo>
                  <a:pt x="61913" y="123825"/>
                </a:lnTo>
                <a:lnTo>
                  <a:pt x="61913" y="371475"/>
                </a:lnTo>
                <a:lnTo>
                  <a:pt x="30956" y="371475"/>
                </a:lnTo>
                <a:lnTo>
                  <a:pt x="30956" y="123825"/>
                </a:lnTo>
                <a:close/>
                <a:moveTo>
                  <a:pt x="77391" y="123825"/>
                </a:moveTo>
                <a:lnTo>
                  <a:pt x="538162" y="123825"/>
                </a:lnTo>
                <a:lnTo>
                  <a:pt x="538162" y="0"/>
                </a:lnTo>
                <a:lnTo>
                  <a:pt x="785812" y="247650"/>
                </a:lnTo>
                <a:lnTo>
                  <a:pt x="538162" y="495300"/>
                </a:lnTo>
                <a:lnTo>
                  <a:pt x="538162" y="371475"/>
                </a:lnTo>
                <a:lnTo>
                  <a:pt x="77391" y="371475"/>
                </a:lnTo>
                <a:lnTo>
                  <a:pt x="77391" y="123825"/>
                </a:lnTo>
                <a:close/>
              </a:path>
            </a:pathLst>
          </a:custGeom>
          <a:solidFill>
            <a:srgbClr val="1e1c11"/>
          </a:solidFill>
          <a:ln w="25560">
            <a:solidFill>
              <a:srgbClr val="9848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Прямоугольник с двумя вырезанными противолежащими углами 10"/>
          <p:cNvSpPr/>
          <p:nvPr/>
        </p:nvSpPr>
        <p:spPr>
          <a:xfrm>
            <a:off x="4525920" y="5019840"/>
            <a:ext cx="4438800" cy="785520"/>
          </a:xfrm>
          <a:prstGeom prst="pie">
            <a:avLst/>
          </a:prstGeom>
          <a:solidFill>
            <a:srgbClr val="558e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Гласність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Штриховая стрелка вправо 11"/>
          <p:cNvSpPr/>
          <p:nvPr/>
        </p:nvSpPr>
        <p:spPr>
          <a:xfrm>
            <a:off x="3525840" y="5091120"/>
            <a:ext cx="785880" cy="495360"/>
          </a:xfrm>
          <a:custGeom>
            <a:avLst/>
            <a:gdLst/>
            <a:ahLst/>
            <a:rect l="l" t="t" r="r" b="b"/>
            <a:pathLst>
              <a:path w="785812" h="495300">
                <a:moveTo>
                  <a:pt x="0" y="123825"/>
                </a:moveTo>
                <a:lnTo>
                  <a:pt x="15478" y="123825"/>
                </a:lnTo>
                <a:lnTo>
                  <a:pt x="15478" y="371475"/>
                </a:lnTo>
                <a:lnTo>
                  <a:pt x="0" y="371475"/>
                </a:lnTo>
                <a:lnTo>
                  <a:pt x="0" y="123825"/>
                </a:lnTo>
                <a:close/>
                <a:moveTo>
                  <a:pt x="30956" y="123825"/>
                </a:moveTo>
                <a:lnTo>
                  <a:pt x="61913" y="123825"/>
                </a:lnTo>
                <a:lnTo>
                  <a:pt x="61913" y="371475"/>
                </a:lnTo>
                <a:lnTo>
                  <a:pt x="30956" y="371475"/>
                </a:lnTo>
                <a:lnTo>
                  <a:pt x="30956" y="123825"/>
                </a:lnTo>
                <a:close/>
                <a:moveTo>
                  <a:pt x="77391" y="123825"/>
                </a:moveTo>
                <a:lnTo>
                  <a:pt x="538162" y="123825"/>
                </a:lnTo>
                <a:lnTo>
                  <a:pt x="538162" y="0"/>
                </a:lnTo>
                <a:lnTo>
                  <a:pt x="785812" y="247650"/>
                </a:lnTo>
                <a:lnTo>
                  <a:pt x="538162" y="495300"/>
                </a:lnTo>
                <a:lnTo>
                  <a:pt x="538162" y="371475"/>
                </a:lnTo>
                <a:lnTo>
                  <a:pt x="77391" y="371475"/>
                </a:lnTo>
                <a:lnTo>
                  <a:pt x="77391" y="123825"/>
                </a:lnTo>
                <a:close/>
              </a:path>
            </a:pathLst>
          </a:custGeom>
          <a:solidFill>
            <a:srgbClr val="1e1c11"/>
          </a:solidFill>
          <a:ln w="25560">
            <a:solidFill>
              <a:srgbClr val="9848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Штриховая стрелка вправо 12"/>
          <p:cNvSpPr/>
          <p:nvPr/>
        </p:nvSpPr>
        <p:spPr>
          <a:xfrm>
            <a:off x="3930480" y="5958000"/>
            <a:ext cx="785880" cy="495360"/>
          </a:xfrm>
          <a:custGeom>
            <a:avLst/>
            <a:gdLst/>
            <a:ahLst/>
            <a:rect l="l" t="t" r="r" b="b"/>
            <a:pathLst>
              <a:path w="785813" h="495300">
                <a:moveTo>
                  <a:pt x="0" y="123825"/>
                </a:moveTo>
                <a:lnTo>
                  <a:pt x="15478" y="123825"/>
                </a:lnTo>
                <a:lnTo>
                  <a:pt x="15478" y="371475"/>
                </a:lnTo>
                <a:lnTo>
                  <a:pt x="0" y="371475"/>
                </a:lnTo>
                <a:lnTo>
                  <a:pt x="0" y="123825"/>
                </a:lnTo>
                <a:close/>
                <a:moveTo>
                  <a:pt x="30956" y="123825"/>
                </a:moveTo>
                <a:lnTo>
                  <a:pt x="61913" y="123825"/>
                </a:lnTo>
                <a:lnTo>
                  <a:pt x="61913" y="371475"/>
                </a:lnTo>
                <a:lnTo>
                  <a:pt x="30956" y="371475"/>
                </a:lnTo>
                <a:lnTo>
                  <a:pt x="30956" y="123825"/>
                </a:lnTo>
                <a:close/>
                <a:moveTo>
                  <a:pt x="77391" y="123825"/>
                </a:moveTo>
                <a:lnTo>
                  <a:pt x="538163" y="123825"/>
                </a:lnTo>
                <a:lnTo>
                  <a:pt x="538163" y="0"/>
                </a:lnTo>
                <a:lnTo>
                  <a:pt x="785813" y="247650"/>
                </a:lnTo>
                <a:lnTo>
                  <a:pt x="538163" y="495300"/>
                </a:lnTo>
                <a:lnTo>
                  <a:pt x="538163" y="371475"/>
                </a:lnTo>
                <a:lnTo>
                  <a:pt x="77391" y="371475"/>
                </a:lnTo>
                <a:lnTo>
                  <a:pt x="77391" y="123825"/>
                </a:lnTo>
                <a:close/>
              </a:path>
            </a:pathLst>
          </a:custGeom>
          <a:solidFill>
            <a:srgbClr val="1e1c11"/>
          </a:solidFill>
          <a:ln w="25560">
            <a:solidFill>
              <a:srgbClr val="9848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Прямоугольник с двумя вырезанными противолежащими углами 13"/>
          <p:cNvSpPr/>
          <p:nvPr/>
        </p:nvSpPr>
        <p:spPr>
          <a:xfrm>
            <a:off x="4932360" y="5883120"/>
            <a:ext cx="4103640" cy="785880"/>
          </a:xfrm>
          <a:prstGeom prst="pie">
            <a:avLst/>
          </a:prstGeom>
          <a:solidFill>
            <a:srgbClr val="604a7b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Достовірність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2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2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2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2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2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2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2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Прямоугольник 1" descr=""/>
          <p:cNvPicPr/>
          <p:nvPr/>
        </p:nvPicPr>
        <p:blipFill>
          <a:blip r:embed="rId1"/>
          <a:stretch/>
        </p:blipFill>
        <p:spPr>
          <a:xfrm>
            <a:off x="560520" y="506520"/>
            <a:ext cx="6522840" cy="901440"/>
          </a:xfrm>
          <a:prstGeom prst="rect">
            <a:avLst/>
          </a:prstGeom>
          <a:ln w="0">
            <a:noFill/>
          </a:ln>
        </p:spPr>
      </p:pic>
      <p:sp>
        <p:nvSpPr>
          <p:cNvPr id="370" name="Прямоугольник с двумя вырезанными противолежащими углами 20"/>
          <p:cNvSpPr/>
          <p:nvPr/>
        </p:nvSpPr>
        <p:spPr>
          <a:xfrm>
            <a:off x="1357200" y="1609560"/>
            <a:ext cx="4438800" cy="785880"/>
          </a:xfrm>
          <a:prstGeom prst="pie">
            <a:avLst/>
          </a:prstGeom>
          <a:solidFill>
            <a:srgbClr val="558e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Інформаційн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Штриховая стрелка вправо 21"/>
          <p:cNvSpPr/>
          <p:nvPr/>
        </p:nvSpPr>
        <p:spPr>
          <a:xfrm>
            <a:off x="357120" y="1681200"/>
            <a:ext cx="785880" cy="495360"/>
          </a:xfrm>
          <a:custGeom>
            <a:avLst/>
            <a:gdLst/>
            <a:ahLst/>
            <a:rect l="l" t="t" r="r" b="b"/>
            <a:pathLst>
              <a:path w="785812" h="495300">
                <a:moveTo>
                  <a:pt x="0" y="123825"/>
                </a:moveTo>
                <a:lnTo>
                  <a:pt x="15478" y="123825"/>
                </a:lnTo>
                <a:lnTo>
                  <a:pt x="15478" y="371475"/>
                </a:lnTo>
                <a:lnTo>
                  <a:pt x="0" y="371475"/>
                </a:lnTo>
                <a:lnTo>
                  <a:pt x="0" y="123825"/>
                </a:lnTo>
                <a:close/>
                <a:moveTo>
                  <a:pt x="30956" y="123825"/>
                </a:moveTo>
                <a:lnTo>
                  <a:pt x="61913" y="123825"/>
                </a:lnTo>
                <a:lnTo>
                  <a:pt x="61913" y="371475"/>
                </a:lnTo>
                <a:lnTo>
                  <a:pt x="30956" y="371475"/>
                </a:lnTo>
                <a:lnTo>
                  <a:pt x="30956" y="123825"/>
                </a:lnTo>
                <a:close/>
                <a:moveTo>
                  <a:pt x="77391" y="123825"/>
                </a:moveTo>
                <a:lnTo>
                  <a:pt x="538162" y="123825"/>
                </a:lnTo>
                <a:lnTo>
                  <a:pt x="538162" y="0"/>
                </a:lnTo>
                <a:lnTo>
                  <a:pt x="785812" y="247650"/>
                </a:lnTo>
                <a:lnTo>
                  <a:pt x="538162" y="495300"/>
                </a:lnTo>
                <a:lnTo>
                  <a:pt x="538162" y="371475"/>
                </a:lnTo>
                <a:lnTo>
                  <a:pt x="77391" y="371475"/>
                </a:lnTo>
                <a:lnTo>
                  <a:pt x="77391" y="123825"/>
                </a:lnTo>
                <a:close/>
              </a:path>
            </a:pathLst>
          </a:custGeom>
          <a:solidFill>
            <a:srgbClr val="1e1c11"/>
          </a:solidFill>
          <a:ln w="25560">
            <a:solidFill>
              <a:srgbClr val="9848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Прямоугольник с двумя вырезанными противолежащими углами 22"/>
          <p:cNvSpPr/>
          <p:nvPr/>
        </p:nvSpPr>
        <p:spPr>
          <a:xfrm>
            <a:off x="2220840" y="2467080"/>
            <a:ext cx="4438800" cy="785880"/>
          </a:xfrm>
          <a:prstGeom prst="pie">
            <a:avLst/>
          </a:prstGeom>
          <a:solidFill>
            <a:srgbClr val="604a7b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Превентивна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Штриховая стрелка вправо 23"/>
          <p:cNvSpPr/>
          <p:nvPr/>
        </p:nvSpPr>
        <p:spPr>
          <a:xfrm>
            <a:off x="1220760" y="2538360"/>
            <a:ext cx="785880" cy="495360"/>
          </a:xfrm>
          <a:custGeom>
            <a:avLst/>
            <a:gdLst/>
            <a:ahLst/>
            <a:rect l="l" t="t" r="r" b="b"/>
            <a:pathLst>
              <a:path w="785812" h="495300">
                <a:moveTo>
                  <a:pt x="0" y="123825"/>
                </a:moveTo>
                <a:lnTo>
                  <a:pt x="15478" y="123825"/>
                </a:lnTo>
                <a:lnTo>
                  <a:pt x="15478" y="371475"/>
                </a:lnTo>
                <a:lnTo>
                  <a:pt x="0" y="371475"/>
                </a:lnTo>
                <a:lnTo>
                  <a:pt x="0" y="123825"/>
                </a:lnTo>
                <a:close/>
                <a:moveTo>
                  <a:pt x="30956" y="123825"/>
                </a:moveTo>
                <a:lnTo>
                  <a:pt x="61913" y="123825"/>
                </a:lnTo>
                <a:lnTo>
                  <a:pt x="61913" y="371475"/>
                </a:lnTo>
                <a:lnTo>
                  <a:pt x="30956" y="371475"/>
                </a:lnTo>
                <a:lnTo>
                  <a:pt x="30956" y="123825"/>
                </a:lnTo>
                <a:close/>
                <a:moveTo>
                  <a:pt x="77391" y="123825"/>
                </a:moveTo>
                <a:lnTo>
                  <a:pt x="538162" y="123825"/>
                </a:lnTo>
                <a:lnTo>
                  <a:pt x="538162" y="0"/>
                </a:lnTo>
                <a:lnTo>
                  <a:pt x="785812" y="247650"/>
                </a:lnTo>
                <a:lnTo>
                  <a:pt x="538162" y="495300"/>
                </a:lnTo>
                <a:lnTo>
                  <a:pt x="538162" y="371475"/>
                </a:lnTo>
                <a:lnTo>
                  <a:pt x="77391" y="371475"/>
                </a:lnTo>
                <a:lnTo>
                  <a:pt x="77391" y="123825"/>
                </a:lnTo>
                <a:close/>
              </a:path>
            </a:pathLst>
          </a:custGeom>
          <a:solidFill>
            <a:srgbClr val="1e1c11"/>
          </a:solidFill>
          <a:ln w="25560">
            <a:solidFill>
              <a:srgbClr val="9848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Прямоугольник с двумя вырезанными противолежащими углами 24"/>
          <p:cNvSpPr/>
          <p:nvPr/>
        </p:nvSpPr>
        <p:spPr>
          <a:xfrm>
            <a:off x="2941560" y="3324240"/>
            <a:ext cx="4438800" cy="785880"/>
          </a:xfrm>
          <a:prstGeom prst="pie">
            <a:avLst/>
          </a:prstGeom>
          <a:solidFill>
            <a:srgbClr val="558e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Координаційна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Штриховая стрелка вправо 25"/>
          <p:cNvSpPr/>
          <p:nvPr/>
        </p:nvSpPr>
        <p:spPr>
          <a:xfrm>
            <a:off x="1941480" y="3395520"/>
            <a:ext cx="785880" cy="495360"/>
          </a:xfrm>
          <a:custGeom>
            <a:avLst/>
            <a:gdLst/>
            <a:ahLst/>
            <a:rect l="l" t="t" r="r" b="b"/>
            <a:pathLst>
              <a:path w="785812" h="495300">
                <a:moveTo>
                  <a:pt x="0" y="123825"/>
                </a:moveTo>
                <a:lnTo>
                  <a:pt x="15478" y="123825"/>
                </a:lnTo>
                <a:lnTo>
                  <a:pt x="15478" y="371475"/>
                </a:lnTo>
                <a:lnTo>
                  <a:pt x="0" y="371475"/>
                </a:lnTo>
                <a:lnTo>
                  <a:pt x="0" y="123825"/>
                </a:lnTo>
                <a:close/>
                <a:moveTo>
                  <a:pt x="30956" y="123825"/>
                </a:moveTo>
                <a:lnTo>
                  <a:pt x="61913" y="123825"/>
                </a:lnTo>
                <a:lnTo>
                  <a:pt x="61913" y="371475"/>
                </a:lnTo>
                <a:lnTo>
                  <a:pt x="30956" y="371475"/>
                </a:lnTo>
                <a:lnTo>
                  <a:pt x="30956" y="123825"/>
                </a:lnTo>
                <a:close/>
                <a:moveTo>
                  <a:pt x="77391" y="123825"/>
                </a:moveTo>
                <a:lnTo>
                  <a:pt x="538162" y="123825"/>
                </a:lnTo>
                <a:lnTo>
                  <a:pt x="538162" y="0"/>
                </a:lnTo>
                <a:lnTo>
                  <a:pt x="785812" y="247650"/>
                </a:lnTo>
                <a:lnTo>
                  <a:pt x="538162" y="495300"/>
                </a:lnTo>
                <a:lnTo>
                  <a:pt x="538162" y="371475"/>
                </a:lnTo>
                <a:lnTo>
                  <a:pt x="77391" y="371475"/>
                </a:lnTo>
                <a:lnTo>
                  <a:pt x="77391" y="123825"/>
                </a:lnTo>
                <a:close/>
              </a:path>
            </a:pathLst>
          </a:custGeom>
          <a:solidFill>
            <a:srgbClr val="1e1c11"/>
          </a:solidFill>
          <a:ln w="25560">
            <a:solidFill>
              <a:srgbClr val="9848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Прямоугольник с двумя вырезанными противолежащими углами 26"/>
          <p:cNvSpPr/>
          <p:nvPr/>
        </p:nvSpPr>
        <p:spPr>
          <a:xfrm>
            <a:off x="3700440" y="4181400"/>
            <a:ext cx="4438800" cy="785880"/>
          </a:xfrm>
          <a:prstGeom prst="pie">
            <a:avLst/>
          </a:prstGeom>
          <a:solidFill>
            <a:srgbClr val="604a7b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Оціночна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Штриховая стрелка вправо 27"/>
          <p:cNvSpPr/>
          <p:nvPr/>
        </p:nvSpPr>
        <p:spPr>
          <a:xfrm>
            <a:off x="2700360" y="4253040"/>
            <a:ext cx="785880" cy="495000"/>
          </a:xfrm>
          <a:custGeom>
            <a:avLst/>
            <a:gdLst/>
            <a:ahLst/>
            <a:rect l="l" t="t" r="r" b="b"/>
            <a:pathLst>
              <a:path w="785812" h="495300">
                <a:moveTo>
                  <a:pt x="0" y="123825"/>
                </a:moveTo>
                <a:lnTo>
                  <a:pt x="15478" y="123825"/>
                </a:lnTo>
                <a:lnTo>
                  <a:pt x="15478" y="371475"/>
                </a:lnTo>
                <a:lnTo>
                  <a:pt x="0" y="371475"/>
                </a:lnTo>
                <a:lnTo>
                  <a:pt x="0" y="123825"/>
                </a:lnTo>
                <a:close/>
                <a:moveTo>
                  <a:pt x="30956" y="123825"/>
                </a:moveTo>
                <a:lnTo>
                  <a:pt x="61913" y="123825"/>
                </a:lnTo>
                <a:lnTo>
                  <a:pt x="61913" y="371475"/>
                </a:lnTo>
                <a:lnTo>
                  <a:pt x="30956" y="371475"/>
                </a:lnTo>
                <a:lnTo>
                  <a:pt x="30956" y="123825"/>
                </a:lnTo>
                <a:close/>
                <a:moveTo>
                  <a:pt x="77391" y="123825"/>
                </a:moveTo>
                <a:lnTo>
                  <a:pt x="538162" y="123825"/>
                </a:lnTo>
                <a:lnTo>
                  <a:pt x="538162" y="0"/>
                </a:lnTo>
                <a:lnTo>
                  <a:pt x="785812" y="247650"/>
                </a:lnTo>
                <a:lnTo>
                  <a:pt x="538162" y="495300"/>
                </a:lnTo>
                <a:lnTo>
                  <a:pt x="538162" y="371475"/>
                </a:lnTo>
                <a:lnTo>
                  <a:pt x="77391" y="371475"/>
                </a:lnTo>
                <a:lnTo>
                  <a:pt x="77391" y="123825"/>
                </a:lnTo>
                <a:close/>
              </a:path>
            </a:pathLst>
          </a:custGeom>
          <a:solidFill>
            <a:srgbClr val="1e1c11"/>
          </a:solidFill>
          <a:ln w="25560">
            <a:solidFill>
              <a:srgbClr val="9848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Прямоугольник с двумя вырезанными противолежащими углами 10"/>
          <p:cNvSpPr/>
          <p:nvPr/>
        </p:nvSpPr>
        <p:spPr>
          <a:xfrm>
            <a:off x="4525920" y="5019840"/>
            <a:ext cx="4438800" cy="785520"/>
          </a:xfrm>
          <a:prstGeom prst="pie">
            <a:avLst/>
          </a:prstGeom>
          <a:solidFill>
            <a:srgbClr val="558e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Контрольна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Штриховая стрелка вправо 11"/>
          <p:cNvSpPr/>
          <p:nvPr/>
        </p:nvSpPr>
        <p:spPr>
          <a:xfrm>
            <a:off x="3525840" y="5091120"/>
            <a:ext cx="785880" cy="495360"/>
          </a:xfrm>
          <a:custGeom>
            <a:avLst/>
            <a:gdLst/>
            <a:ahLst/>
            <a:rect l="l" t="t" r="r" b="b"/>
            <a:pathLst>
              <a:path w="785812" h="495300">
                <a:moveTo>
                  <a:pt x="0" y="123825"/>
                </a:moveTo>
                <a:lnTo>
                  <a:pt x="15478" y="123825"/>
                </a:lnTo>
                <a:lnTo>
                  <a:pt x="15478" y="371475"/>
                </a:lnTo>
                <a:lnTo>
                  <a:pt x="0" y="371475"/>
                </a:lnTo>
                <a:lnTo>
                  <a:pt x="0" y="123825"/>
                </a:lnTo>
                <a:close/>
                <a:moveTo>
                  <a:pt x="30956" y="123825"/>
                </a:moveTo>
                <a:lnTo>
                  <a:pt x="61913" y="123825"/>
                </a:lnTo>
                <a:lnTo>
                  <a:pt x="61913" y="371475"/>
                </a:lnTo>
                <a:lnTo>
                  <a:pt x="30956" y="371475"/>
                </a:lnTo>
                <a:lnTo>
                  <a:pt x="30956" y="123825"/>
                </a:lnTo>
                <a:close/>
                <a:moveTo>
                  <a:pt x="77391" y="123825"/>
                </a:moveTo>
                <a:lnTo>
                  <a:pt x="538162" y="123825"/>
                </a:lnTo>
                <a:lnTo>
                  <a:pt x="538162" y="0"/>
                </a:lnTo>
                <a:lnTo>
                  <a:pt x="785812" y="247650"/>
                </a:lnTo>
                <a:lnTo>
                  <a:pt x="538162" y="495300"/>
                </a:lnTo>
                <a:lnTo>
                  <a:pt x="538162" y="371475"/>
                </a:lnTo>
                <a:lnTo>
                  <a:pt x="77391" y="371475"/>
                </a:lnTo>
                <a:lnTo>
                  <a:pt x="77391" y="123825"/>
                </a:lnTo>
                <a:close/>
              </a:path>
            </a:pathLst>
          </a:custGeom>
          <a:solidFill>
            <a:srgbClr val="1e1c11"/>
          </a:solidFill>
          <a:ln w="25560">
            <a:solidFill>
              <a:srgbClr val="9848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2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2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2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2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2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2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2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2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Прямоугольник 1" descr=""/>
          <p:cNvPicPr/>
          <p:nvPr/>
        </p:nvPicPr>
        <p:blipFill>
          <a:blip r:embed="rId1"/>
          <a:stretch/>
        </p:blipFill>
        <p:spPr>
          <a:xfrm>
            <a:off x="560520" y="365040"/>
            <a:ext cx="6522840" cy="1274760"/>
          </a:xfrm>
          <a:prstGeom prst="rect">
            <a:avLst/>
          </a:prstGeom>
          <a:ln w="0">
            <a:noFill/>
          </a:ln>
        </p:spPr>
      </p:pic>
      <p:sp>
        <p:nvSpPr>
          <p:cNvPr id="381" name="Прямоугольник с двумя вырезанными противолежащими углами 20"/>
          <p:cNvSpPr/>
          <p:nvPr/>
        </p:nvSpPr>
        <p:spPr>
          <a:xfrm>
            <a:off x="1357200" y="1609560"/>
            <a:ext cx="4438800" cy="785880"/>
          </a:xfrm>
          <a:prstGeom prst="pie">
            <a:avLst/>
          </a:prstGeom>
          <a:solidFill>
            <a:srgbClr val="558e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Згори вниз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Штриховая стрелка вправо 21"/>
          <p:cNvSpPr/>
          <p:nvPr/>
        </p:nvSpPr>
        <p:spPr>
          <a:xfrm>
            <a:off x="357120" y="1681200"/>
            <a:ext cx="785880" cy="495360"/>
          </a:xfrm>
          <a:custGeom>
            <a:avLst/>
            <a:gdLst/>
            <a:ahLst/>
            <a:rect l="l" t="t" r="r" b="b"/>
            <a:pathLst>
              <a:path w="785812" h="495300">
                <a:moveTo>
                  <a:pt x="0" y="123825"/>
                </a:moveTo>
                <a:lnTo>
                  <a:pt x="15478" y="123825"/>
                </a:lnTo>
                <a:lnTo>
                  <a:pt x="15478" y="371475"/>
                </a:lnTo>
                <a:lnTo>
                  <a:pt x="0" y="371475"/>
                </a:lnTo>
                <a:lnTo>
                  <a:pt x="0" y="123825"/>
                </a:lnTo>
                <a:close/>
                <a:moveTo>
                  <a:pt x="30956" y="123825"/>
                </a:moveTo>
                <a:lnTo>
                  <a:pt x="61913" y="123825"/>
                </a:lnTo>
                <a:lnTo>
                  <a:pt x="61913" y="371475"/>
                </a:lnTo>
                <a:lnTo>
                  <a:pt x="30956" y="371475"/>
                </a:lnTo>
                <a:lnTo>
                  <a:pt x="30956" y="123825"/>
                </a:lnTo>
                <a:close/>
                <a:moveTo>
                  <a:pt x="77391" y="123825"/>
                </a:moveTo>
                <a:lnTo>
                  <a:pt x="538162" y="123825"/>
                </a:lnTo>
                <a:lnTo>
                  <a:pt x="538162" y="0"/>
                </a:lnTo>
                <a:lnTo>
                  <a:pt x="785812" y="247650"/>
                </a:lnTo>
                <a:lnTo>
                  <a:pt x="538162" y="495300"/>
                </a:lnTo>
                <a:lnTo>
                  <a:pt x="538162" y="371475"/>
                </a:lnTo>
                <a:lnTo>
                  <a:pt x="77391" y="371475"/>
                </a:lnTo>
                <a:lnTo>
                  <a:pt x="77391" y="123825"/>
                </a:lnTo>
                <a:close/>
              </a:path>
            </a:pathLst>
          </a:custGeom>
          <a:solidFill>
            <a:srgbClr val="1e1c11"/>
          </a:solidFill>
          <a:ln w="25560">
            <a:solidFill>
              <a:srgbClr val="9848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Прямоугольник с двумя вырезанными противолежащими углами 5"/>
          <p:cNvSpPr/>
          <p:nvPr/>
        </p:nvSpPr>
        <p:spPr>
          <a:xfrm>
            <a:off x="2293920" y="2859120"/>
            <a:ext cx="4438800" cy="785880"/>
          </a:xfrm>
          <a:prstGeom prst="pie">
            <a:avLst/>
          </a:prstGeom>
          <a:solidFill>
            <a:srgbClr val="604a7b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Знизу вгору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Штриховая стрелка вправо 6"/>
          <p:cNvSpPr/>
          <p:nvPr/>
        </p:nvSpPr>
        <p:spPr>
          <a:xfrm>
            <a:off x="1122480" y="2924280"/>
            <a:ext cx="785520" cy="495360"/>
          </a:xfrm>
          <a:custGeom>
            <a:avLst/>
            <a:gdLst/>
            <a:ahLst/>
            <a:rect l="l" t="t" r="r" b="b"/>
            <a:pathLst>
              <a:path w="785812" h="495300">
                <a:moveTo>
                  <a:pt x="0" y="123825"/>
                </a:moveTo>
                <a:lnTo>
                  <a:pt x="15478" y="123825"/>
                </a:lnTo>
                <a:lnTo>
                  <a:pt x="15478" y="371475"/>
                </a:lnTo>
                <a:lnTo>
                  <a:pt x="0" y="371475"/>
                </a:lnTo>
                <a:lnTo>
                  <a:pt x="0" y="123825"/>
                </a:lnTo>
                <a:close/>
                <a:moveTo>
                  <a:pt x="30956" y="123825"/>
                </a:moveTo>
                <a:lnTo>
                  <a:pt x="61913" y="123825"/>
                </a:lnTo>
                <a:lnTo>
                  <a:pt x="61913" y="371475"/>
                </a:lnTo>
                <a:lnTo>
                  <a:pt x="30956" y="371475"/>
                </a:lnTo>
                <a:lnTo>
                  <a:pt x="30956" y="123825"/>
                </a:lnTo>
                <a:close/>
                <a:moveTo>
                  <a:pt x="77391" y="123825"/>
                </a:moveTo>
                <a:lnTo>
                  <a:pt x="538162" y="123825"/>
                </a:lnTo>
                <a:lnTo>
                  <a:pt x="538162" y="0"/>
                </a:lnTo>
                <a:lnTo>
                  <a:pt x="785812" y="247650"/>
                </a:lnTo>
                <a:lnTo>
                  <a:pt x="538162" y="495300"/>
                </a:lnTo>
                <a:lnTo>
                  <a:pt x="538162" y="371475"/>
                </a:lnTo>
                <a:lnTo>
                  <a:pt x="77391" y="371475"/>
                </a:lnTo>
                <a:lnTo>
                  <a:pt x="77391" y="123825"/>
                </a:lnTo>
                <a:close/>
              </a:path>
            </a:pathLst>
          </a:custGeom>
          <a:solidFill>
            <a:srgbClr val="1e1c11"/>
          </a:solidFill>
          <a:ln w="25560">
            <a:solidFill>
              <a:srgbClr val="9848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Штриховая стрелка вправо 7"/>
          <p:cNvSpPr/>
          <p:nvPr/>
        </p:nvSpPr>
        <p:spPr>
          <a:xfrm>
            <a:off x="1698480" y="4302000"/>
            <a:ext cx="785880" cy="495360"/>
          </a:xfrm>
          <a:custGeom>
            <a:avLst/>
            <a:gdLst/>
            <a:ahLst/>
            <a:rect l="l" t="t" r="r" b="b"/>
            <a:pathLst>
              <a:path w="785813" h="495300">
                <a:moveTo>
                  <a:pt x="0" y="123825"/>
                </a:moveTo>
                <a:lnTo>
                  <a:pt x="15478" y="123825"/>
                </a:lnTo>
                <a:lnTo>
                  <a:pt x="15478" y="371475"/>
                </a:lnTo>
                <a:lnTo>
                  <a:pt x="0" y="371475"/>
                </a:lnTo>
                <a:lnTo>
                  <a:pt x="0" y="123825"/>
                </a:lnTo>
                <a:close/>
                <a:moveTo>
                  <a:pt x="30956" y="123825"/>
                </a:moveTo>
                <a:lnTo>
                  <a:pt x="61913" y="123825"/>
                </a:lnTo>
                <a:lnTo>
                  <a:pt x="61913" y="371475"/>
                </a:lnTo>
                <a:lnTo>
                  <a:pt x="30956" y="371475"/>
                </a:lnTo>
                <a:lnTo>
                  <a:pt x="30956" y="123825"/>
                </a:lnTo>
                <a:close/>
                <a:moveTo>
                  <a:pt x="77391" y="123825"/>
                </a:moveTo>
                <a:lnTo>
                  <a:pt x="538163" y="123825"/>
                </a:lnTo>
                <a:lnTo>
                  <a:pt x="538163" y="0"/>
                </a:lnTo>
                <a:lnTo>
                  <a:pt x="785813" y="247650"/>
                </a:lnTo>
                <a:lnTo>
                  <a:pt x="538163" y="495300"/>
                </a:lnTo>
                <a:lnTo>
                  <a:pt x="538163" y="371475"/>
                </a:lnTo>
                <a:lnTo>
                  <a:pt x="77391" y="371475"/>
                </a:lnTo>
                <a:lnTo>
                  <a:pt x="77391" y="123825"/>
                </a:lnTo>
                <a:close/>
              </a:path>
            </a:pathLst>
          </a:custGeom>
          <a:solidFill>
            <a:srgbClr val="1e1c11"/>
          </a:solidFill>
          <a:ln w="25560">
            <a:solidFill>
              <a:srgbClr val="9848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Прямоугольник с двумя вырезанными противолежащими углами 8"/>
          <p:cNvSpPr/>
          <p:nvPr/>
        </p:nvSpPr>
        <p:spPr>
          <a:xfrm>
            <a:off x="2654280" y="4156200"/>
            <a:ext cx="4438800" cy="785520"/>
          </a:xfrm>
          <a:prstGeom prst="pie">
            <a:avLst/>
          </a:prstGeom>
          <a:solidFill>
            <a:srgbClr val="558e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Комбінований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2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2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2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2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2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2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Прямоугольник 1" descr=""/>
          <p:cNvPicPr/>
          <p:nvPr/>
        </p:nvPicPr>
        <p:blipFill>
          <a:blip r:embed="rId1"/>
          <a:stretch/>
        </p:blipFill>
        <p:spPr>
          <a:xfrm>
            <a:off x="500040" y="195120"/>
            <a:ext cx="8186760" cy="816120"/>
          </a:xfrm>
          <a:prstGeom prst="rect">
            <a:avLst/>
          </a:prstGeom>
          <a:ln w="0">
            <a:noFill/>
          </a:ln>
        </p:spPr>
      </p:pic>
      <p:sp>
        <p:nvSpPr>
          <p:cNvPr id="388" name="Прямоугольник с двумя вырезанными противолежащими углами 20"/>
          <p:cNvSpPr/>
          <p:nvPr/>
        </p:nvSpPr>
        <p:spPr>
          <a:xfrm>
            <a:off x="1258920" y="981000"/>
            <a:ext cx="7885080" cy="1289160"/>
          </a:xfrm>
          <a:prstGeom prst="pie">
            <a:avLst/>
          </a:prstGeom>
          <a:solidFill>
            <a:srgbClr val="558e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Доведення основних напрямів політики підприємства до осіб, відповідальних за підготовку бюджетів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Штриховая стрелка вправо 21"/>
          <p:cNvSpPr/>
          <p:nvPr/>
        </p:nvSpPr>
        <p:spPr>
          <a:xfrm>
            <a:off x="357120" y="1341360"/>
            <a:ext cx="785880" cy="495360"/>
          </a:xfrm>
          <a:custGeom>
            <a:avLst/>
            <a:gdLst/>
            <a:ahLst/>
            <a:rect l="l" t="t" r="r" b="b"/>
            <a:pathLst>
              <a:path w="785812" h="495300">
                <a:moveTo>
                  <a:pt x="0" y="123825"/>
                </a:moveTo>
                <a:lnTo>
                  <a:pt x="15478" y="123825"/>
                </a:lnTo>
                <a:lnTo>
                  <a:pt x="15478" y="371475"/>
                </a:lnTo>
                <a:lnTo>
                  <a:pt x="0" y="371475"/>
                </a:lnTo>
                <a:lnTo>
                  <a:pt x="0" y="123825"/>
                </a:lnTo>
                <a:close/>
                <a:moveTo>
                  <a:pt x="30956" y="123825"/>
                </a:moveTo>
                <a:lnTo>
                  <a:pt x="61913" y="123825"/>
                </a:lnTo>
                <a:lnTo>
                  <a:pt x="61913" y="371475"/>
                </a:lnTo>
                <a:lnTo>
                  <a:pt x="30956" y="371475"/>
                </a:lnTo>
                <a:lnTo>
                  <a:pt x="30956" y="123825"/>
                </a:lnTo>
                <a:close/>
                <a:moveTo>
                  <a:pt x="77391" y="123825"/>
                </a:moveTo>
                <a:lnTo>
                  <a:pt x="538162" y="123825"/>
                </a:lnTo>
                <a:lnTo>
                  <a:pt x="538162" y="0"/>
                </a:lnTo>
                <a:lnTo>
                  <a:pt x="785812" y="247650"/>
                </a:lnTo>
                <a:lnTo>
                  <a:pt x="538162" y="495300"/>
                </a:lnTo>
                <a:lnTo>
                  <a:pt x="538162" y="371475"/>
                </a:lnTo>
                <a:lnTo>
                  <a:pt x="77391" y="371475"/>
                </a:lnTo>
                <a:lnTo>
                  <a:pt x="77391" y="123825"/>
                </a:lnTo>
                <a:close/>
              </a:path>
            </a:pathLst>
          </a:custGeom>
          <a:solidFill>
            <a:srgbClr val="1e1c11"/>
          </a:solidFill>
          <a:ln w="25560">
            <a:solidFill>
              <a:srgbClr val="9848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Прямоугольник с двумя вырезанными противолежащими углами 20"/>
          <p:cNvSpPr/>
          <p:nvPr/>
        </p:nvSpPr>
        <p:spPr>
          <a:xfrm>
            <a:off x="1395360" y="2440080"/>
            <a:ext cx="7462800" cy="785880"/>
          </a:xfrm>
          <a:prstGeom prst="pie">
            <a:avLst/>
          </a:prstGeom>
          <a:solidFill>
            <a:srgbClr val="604a7b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Визначення обмежувальних чинників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Штриховая стрелка вправо 21"/>
          <p:cNvSpPr/>
          <p:nvPr/>
        </p:nvSpPr>
        <p:spPr>
          <a:xfrm>
            <a:off x="395280" y="2511360"/>
            <a:ext cx="785880" cy="495360"/>
          </a:xfrm>
          <a:custGeom>
            <a:avLst/>
            <a:gdLst/>
            <a:ahLst/>
            <a:rect l="l" t="t" r="r" b="b"/>
            <a:pathLst>
              <a:path w="785812" h="495300">
                <a:moveTo>
                  <a:pt x="0" y="123825"/>
                </a:moveTo>
                <a:lnTo>
                  <a:pt x="15478" y="123825"/>
                </a:lnTo>
                <a:lnTo>
                  <a:pt x="15478" y="371475"/>
                </a:lnTo>
                <a:lnTo>
                  <a:pt x="0" y="371475"/>
                </a:lnTo>
                <a:lnTo>
                  <a:pt x="0" y="123825"/>
                </a:lnTo>
                <a:close/>
                <a:moveTo>
                  <a:pt x="30956" y="123825"/>
                </a:moveTo>
                <a:lnTo>
                  <a:pt x="61913" y="123825"/>
                </a:lnTo>
                <a:lnTo>
                  <a:pt x="61913" y="371475"/>
                </a:lnTo>
                <a:lnTo>
                  <a:pt x="30956" y="371475"/>
                </a:lnTo>
                <a:lnTo>
                  <a:pt x="30956" y="123825"/>
                </a:lnTo>
                <a:close/>
                <a:moveTo>
                  <a:pt x="77391" y="123825"/>
                </a:moveTo>
                <a:lnTo>
                  <a:pt x="538162" y="123825"/>
                </a:lnTo>
                <a:lnTo>
                  <a:pt x="538162" y="0"/>
                </a:lnTo>
                <a:lnTo>
                  <a:pt x="785812" y="247650"/>
                </a:lnTo>
                <a:lnTo>
                  <a:pt x="538162" y="495300"/>
                </a:lnTo>
                <a:lnTo>
                  <a:pt x="538162" y="371475"/>
                </a:lnTo>
                <a:lnTo>
                  <a:pt x="77391" y="371475"/>
                </a:lnTo>
                <a:lnTo>
                  <a:pt x="77391" y="123825"/>
                </a:lnTo>
                <a:close/>
              </a:path>
            </a:pathLst>
          </a:custGeom>
          <a:solidFill>
            <a:srgbClr val="1e1c11"/>
          </a:solidFill>
          <a:ln w="25560">
            <a:solidFill>
              <a:srgbClr val="9848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Прямоугольник с двумя вырезанными противолежащими углами 20"/>
          <p:cNvSpPr/>
          <p:nvPr/>
        </p:nvSpPr>
        <p:spPr>
          <a:xfrm>
            <a:off x="1395360" y="3375000"/>
            <a:ext cx="7462800" cy="785880"/>
          </a:xfrm>
          <a:prstGeom prst="pie">
            <a:avLst/>
          </a:prstGeom>
          <a:solidFill>
            <a:srgbClr val="558e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Попереднє складання бюджетів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Штриховая стрелка вправо 21"/>
          <p:cNvSpPr/>
          <p:nvPr/>
        </p:nvSpPr>
        <p:spPr>
          <a:xfrm>
            <a:off x="395280" y="3446640"/>
            <a:ext cx="785880" cy="495000"/>
          </a:xfrm>
          <a:custGeom>
            <a:avLst/>
            <a:gdLst/>
            <a:ahLst/>
            <a:rect l="l" t="t" r="r" b="b"/>
            <a:pathLst>
              <a:path w="785812" h="495300">
                <a:moveTo>
                  <a:pt x="0" y="123825"/>
                </a:moveTo>
                <a:lnTo>
                  <a:pt x="15478" y="123825"/>
                </a:lnTo>
                <a:lnTo>
                  <a:pt x="15478" y="371475"/>
                </a:lnTo>
                <a:lnTo>
                  <a:pt x="0" y="371475"/>
                </a:lnTo>
                <a:lnTo>
                  <a:pt x="0" y="123825"/>
                </a:lnTo>
                <a:close/>
                <a:moveTo>
                  <a:pt x="30956" y="123825"/>
                </a:moveTo>
                <a:lnTo>
                  <a:pt x="61913" y="123825"/>
                </a:lnTo>
                <a:lnTo>
                  <a:pt x="61913" y="371475"/>
                </a:lnTo>
                <a:lnTo>
                  <a:pt x="30956" y="371475"/>
                </a:lnTo>
                <a:lnTo>
                  <a:pt x="30956" y="123825"/>
                </a:lnTo>
                <a:close/>
                <a:moveTo>
                  <a:pt x="77391" y="123825"/>
                </a:moveTo>
                <a:lnTo>
                  <a:pt x="538162" y="123825"/>
                </a:lnTo>
                <a:lnTo>
                  <a:pt x="538162" y="0"/>
                </a:lnTo>
                <a:lnTo>
                  <a:pt x="785812" y="247650"/>
                </a:lnTo>
                <a:lnTo>
                  <a:pt x="538162" y="495300"/>
                </a:lnTo>
                <a:lnTo>
                  <a:pt x="538162" y="371475"/>
                </a:lnTo>
                <a:lnTo>
                  <a:pt x="77391" y="371475"/>
                </a:lnTo>
                <a:lnTo>
                  <a:pt x="77391" y="123825"/>
                </a:lnTo>
                <a:close/>
              </a:path>
            </a:pathLst>
          </a:custGeom>
          <a:solidFill>
            <a:srgbClr val="1e1c11"/>
          </a:solidFill>
          <a:ln w="25560">
            <a:solidFill>
              <a:srgbClr val="9848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Прямоугольник с двумя вырезанными противолежащими углами 20"/>
          <p:cNvSpPr/>
          <p:nvPr/>
        </p:nvSpPr>
        <p:spPr>
          <a:xfrm>
            <a:off x="1395360" y="4221000"/>
            <a:ext cx="7462800" cy="785880"/>
          </a:xfrm>
          <a:prstGeom prst="pie">
            <a:avLst/>
          </a:prstGeom>
          <a:solidFill>
            <a:srgbClr val="604a7b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Обговорення бюджетів із вищим керівництвом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Штриховая стрелка вправо 21"/>
          <p:cNvSpPr/>
          <p:nvPr/>
        </p:nvSpPr>
        <p:spPr>
          <a:xfrm>
            <a:off x="395280" y="4292640"/>
            <a:ext cx="785880" cy="495360"/>
          </a:xfrm>
          <a:custGeom>
            <a:avLst/>
            <a:gdLst/>
            <a:ahLst/>
            <a:rect l="l" t="t" r="r" b="b"/>
            <a:pathLst>
              <a:path w="785812" h="495300">
                <a:moveTo>
                  <a:pt x="0" y="123825"/>
                </a:moveTo>
                <a:lnTo>
                  <a:pt x="15478" y="123825"/>
                </a:lnTo>
                <a:lnTo>
                  <a:pt x="15478" y="371475"/>
                </a:lnTo>
                <a:lnTo>
                  <a:pt x="0" y="371475"/>
                </a:lnTo>
                <a:lnTo>
                  <a:pt x="0" y="123825"/>
                </a:lnTo>
                <a:close/>
                <a:moveTo>
                  <a:pt x="30956" y="123825"/>
                </a:moveTo>
                <a:lnTo>
                  <a:pt x="61913" y="123825"/>
                </a:lnTo>
                <a:lnTo>
                  <a:pt x="61913" y="371475"/>
                </a:lnTo>
                <a:lnTo>
                  <a:pt x="30956" y="371475"/>
                </a:lnTo>
                <a:lnTo>
                  <a:pt x="30956" y="123825"/>
                </a:lnTo>
                <a:close/>
                <a:moveTo>
                  <a:pt x="77391" y="123825"/>
                </a:moveTo>
                <a:lnTo>
                  <a:pt x="538162" y="123825"/>
                </a:lnTo>
                <a:lnTo>
                  <a:pt x="538162" y="0"/>
                </a:lnTo>
                <a:lnTo>
                  <a:pt x="785812" y="247650"/>
                </a:lnTo>
                <a:lnTo>
                  <a:pt x="538162" y="495300"/>
                </a:lnTo>
                <a:lnTo>
                  <a:pt x="538162" y="371475"/>
                </a:lnTo>
                <a:lnTo>
                  <a:pt x="77391" y="371475"/>
                </a:lnTo>
                <a:lnTo>
                  <a:pt x="77391" y="123825"/>
                </a:lnTo>
                <a:close/>
              </a:path>
            </a:pathLst>
          </a:custGeom>
          <a:solidFill>
            <a:srgbClr val="1e1c11"/>
          </a:solidFill>
          <a:ln w="25560">
            <a:solidFill>
              <a:srgbClr val="9848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Прямоугольник с двумя вырезанными противолежащими углами 20"/>
          <p:cNvSpPr/>
          <p:nvPr/>
        </p:nvSpPr>
        <p:spPr>
          <a:xfrm>
            <a:off x="1476360" y="5067360"/>
            <a:ext cx="7462800" cy="785880"/>
          </a:xfrm>
          <a:prstGeom prst="pie">
            <a:avLst/>
          </a:prstGeom>
          <a:solidFill>
            <a:srgbClr val="558e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Координація і аналіз обговорених бюджетів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Штриховая стрелка вправо 21"/>
          <p:cNvSpPr/>
          <p:nvPr/>
        </p:nvSpPr>
        <p:spPr>
          <a:xfrm>
            <a:off x="476280" y="5138640"/>
            <a:ext cx="785880" cy="495360"/>
          </a:xfrm>
          <a:custGeom>
            <a:avLst/>
            <a:gdLst/>
            <a:ahLst/>
            <a:rect l="l" t="t" r="r" b="b"/>
            <a:pathLst>
              <a:path w="785813" h="495300">
                <a:moveTo>
                  <a:pt x="0" y="123825"/>
                </a:moveTo>
                <a:lnTo>
                  <a:pt x="15478" y="123825"/>
                </a:lnTo>
                <a:lnTo>
                  <a:pt x="15478" y="371475"/>
                </a:lnTo>
                <a:lnTo>
                  <a:pt x="0" y="371475"/>
                </a:lnTo>
                <a:lnTo>
                  <a:pt x="0" y="123825"/>
                </a:lnTo>
                <a:close/>
                <a:moveTo>
                  <a:pt x="30956" y="123825"/>
                </a:moveTo>
                <a:lnTo>
                  <a:pt x="61913" y="123825"/>
                </a:lnTo>
                <a:lnTo>
                  <a:pt x="61913" y="371475"/>
                </a:lnTo>
                <a:lnTo>
                  <a:pt x="30956" y="371475"/>
                </a:lnTo>
                <a:lnTo>
                  <a:pt x="30956" y="123825"/>
                </a:lnTo>
                <a:close/>
                <a:moveTo>
                  <a:pt x="77391" y="123825"/>
                </a:moveTo>
                <a:lnTo>
                  <a:pt x="538163" y="123825"/>
                </a:lnTo>
                <a:lnTo>
                  <a:pt x="538163" y="0"/>
                </a:lnTo>
                <a:lnTo>
                  <a:pt x="785813" y="247650"/>
                </a:lnTo>
                <a:lnTo>
                  <a:pt x="538163" y="495300"/>
                </a:lnTo>
                <a:lnTo>
                  <a:pt x="538163" y="371475"/>
                </a:lnTo>
                <a:lnTo>
                  <a:pt x="77391" y="371475"/>
                </a:lnTo>
                <a:lnTo>
                  <a:pt x="77391" y="123825"/>
                </a:lnTo>
                <a:close/>
              </a:path>
            </a:pathLst>
          </a:custGeom>
          <a:solidFill>
            <a:srgbClr val="1e1c11"/>
          </a:solidFill>
          <a:ln w="25560">
            <a:solidFill>
              <a:srgbClr val="9848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Прямоугольник с двумя вырезанными противолежащими углами 20"/>
          <p:cNvSpPr/>
          <p:nvPr/>
        </p:nvSpPr>
        <p:spPr>
          <a:xfrm>
            <a:off x="1468440" y="5937120"/>
            <a:ext cx="7462800" cy="785880"/>
          </a:xfrm>
          <a:prstGeom prst="pie">
            <a:avLst/>
          </a:prstGeom>
          <a:solidFill>
            <a:srgbClr val="604a7b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Затвердження бюджетів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Штриховая стрелка вправо 21"/>
          <p:cNvSpPr/>
          <p:nvPr/>
        </p:nvSpPr>
        <p:spPr>
          <a:xfrm>
            <a:off x="468360" y="6008760"/>
            <a:ext cx="785880" cy="495360"/>
          </a:xfrm>
          <a:custGeom>
            <a:avLst/>
            <a:gdLst/>
            <a:ahLst/>
            <a:rect l="l" t="t" r="r" b="b"/>
            <a:pathLst>
              <a:path w="785812" h="495300">
                <a:moveTo>
                  <a:pt x="0" y="123825"/>
                </a:moveTo>
                <a:lnTo>
                  <a:pt x="15478" y="123825"/>
                </a:lnTo>
                <a:lnTo>
                  <a:pt x="15478" y="371475"/>
                </a:lnTo>
                <a:lnTo>
                  <a:pt x="0" y="371475"/>
                </a:lnTo>
                <a:lnTo>
                  <a:pt x="0" y="123825"/>
                </a:lnTo>
                <a:close/>
                <a:moveTo>
                  <a:pt x="30956" y="123825"/>
                </a:moveTo>
                <a:lnTo>
                  <a:pt x="61913" y="123825"/>
                </a:lnTo>
                <a:lnTo>
                  <a:pt x="61913" y="371475"/>
                </a:lnTo>
                <a:lnTo>
                  <a:pt x="30956" y="371475"/>
                </a:lnTo>
                <a:lnTo>
                  <a:pt x="30956" y="123825"/>
                </a:lnTo>
                <a:close/>
                <a:moveTo>
                  <a:pt x="77391" y="123825"/>
                </a:moveTo>
                <a:lnTo>
                  <a:pt x="538162" y="123825"/>
                </a:lnTo>
                <a:lnTo>
                  <a:pt x="538162" y="0"/>
                </a:lnTo>
                <a:lnTo>
                  <a:pt x="785812" y="247650"/>
                </a:lnTo>
                <a:lnTo>
                  <a:pt x="538162" y="495300"/>
                </a:lnTo>
                <a:lnTo>
                  <a:pt x="538162" y="371475"/>
                </a:lnTo>
                <a:lnTo>
                  <a:pt x="77391" y="371475"/>
                </a:lnTo>
                <a:lnTo>
                  <a:pt x="77391" y="123825"/>
                </a:lnTo>
                <a:close/>
              </a:path>
            </a:pathLst>
          </a:custGeom>
          <a:solidFill>
            <a:srgbClr val="1e1c11"/>
          </a:solidFill>
          <a:ln w="25560">
            <a:solidFill>
              <a:srgbClr val="9848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2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2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2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2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2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2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2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2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2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2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2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Прямоугольник 1" descr=""/>
          <p:cNvPicPr/>
          <p:nvPr/>
        </p:nvPicPr>
        <p:blipFill>
          <a:blip r:embed="rId1"/>
          <a:stretch/>
        </p:blipFill>
        <p:spPr>
          <a:xfrm>
            <a:off x="560520" y="506520"/>
            <a:ext cx="6522840" cy="901440"/>
          </a:xfrm>
          <a:prstGeom prst="rect">
            <a:avLst/>
          </a:prstGeom>
          <a:ln w="0">
            <a:noFill/>
          </a:ln>
        </p:spPr>
      </p:pic>
      <p:sp>
        <p:nvSpPr>
          <p:cNvPr id="401" name="Прямоугольник с двумя вырезанными противолежащими углами 20"/>
          <p:cNvSpPr/>
          <p:nvPr/>
        </p:nvSpPr>
        <p:spPr>
          <a:xfrm>
            <a:off x="1258920" y="2114640"/>
            <a:ext cx="6121440" cy="1028520"/>
          </a:xfrm>
          <a:prstGeom prst="pie">
            <a:avLst/>
          </a:prstGeom>
          <a:solidFill>
            <a:srgbClr val="558e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ffffff"/>
                </a:solidFill>
                <a:latin typeface="Arial"/>
              </a:rPr>
              <a:t>Бюджетування з нуля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Штриховая стрелка вправо 21"/>
          <p:cNvSpPr/>
          <p:nvPr/>
        </p:nvSpPr>
        <p:spPr>
          <a:xfrm>
            <a:off x="357120" y="2286000"/>
            <a:ext cx="785880" cy="495360"/>
          </a:xfrm>
          <a:custGeom>
            <a:avLst/>
            <a:gdLst/>
            <a:ahLst/>
            <a:rect l="l" t="t" r="r" b="b"/>
            <a:pathLst>
              <a:path w="785812" h="495300">
                <a:moveTo>
                  <a:pt x="0" y="123825"/>
                </a:moveTo>
                <a:lnTo>
                  <a:pt x="15478" y="123825"/>
                </a:lnTo>
                <a:lnTo>
                  <a:pt x="15478" y="371475"/>
                </a:lnTo>
                <a:lnTo>
                  <a:pt x="0" y="371475"/>
                </a:lnTo>
                <a:lnTo>
                  <a:pt x="0" y="123825"/>
                </a:lnTo>
                <a:close/>
                <a:moveTo>
                  <a:pt x="30956" y="123825"/>
                </a:moveTo>
                <a:lnTo>
                  <a:pt x="61913" y="123825"/>
                </a:lnTo>
                <a:lnTo>
                  <a:pt x="61913" y="371475"/>
                </a:lnTo>
                <a:lnTo>
                  <a:pt x="30956" y="371475"/>
                </a:lnTo>
                <a:lnTo>
                  <a:pt x="30956" y="123825"/>
                </a:lnTo>
                <a:close/>
                <a:moveTo>
                  <a:pt x="77391" y="123825"/>
                </a:moveTo>
                <a:lnTo>
                  <a:pt x="538162" y="123825"/>
                </a:lnTo>
                <a:lnTo>
                  <a:pt x="538162" y="0"/>
                </a:lnTo>
                <a:lnTo>
                  <a:pt x="785812" y="247650"/>
                </a:lnTo>
                <a:lnTo>
                  <a:pt x="538162" y="495300"/>
                </a:lnTo>
                <a:lnTo>
                  <a:pt x="538162" y="371475"/>
                </a:lnTo>
                <a:lnTo>
                  <a:pt x="77391" y="371475"/>
                </a:lnTo>
                <a:lnTo>
                  <a:pt x="77391" y="123825"/>
                </a:lnTo>
                <a:close/>
              </a:path>
            </a:pathLst>
          </a:custGeom>
          <a:solidFill>
            <a:srgbClr val="1e1c11"/>
          </a:solidFill>
          <a:ln w="25560">
            <a:solidFill>
              <a:srgbClr val="9848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Прямоугольник с двумя вырезанными противолежащими углами 9"/>
          <p:cNvSpPr/>
          <p:nvPr/>
        </p:nvSpPr>
        <p:spPr>
          <a:xfrm>
            <a:off x="2357280" y="3786120"/>
            <a:ext cx="6121440" cy="1028880"/>
          </a:xfrm>
          <a:prstGeom prst="pie">
            <a:avLst/>
          </a:prstGeom>
          <a:solidFill>
            <a:srgbClr val="558e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ffffff"/>
                </a:solidFill>
                <a:latin typeface="Arial"/>
              </a:rPr>
              <a:t>Бюджетування через прирощення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Штриховая стрелка вправо 10"/>
          <p:cNvSpPr/>
          <p:nvPr/>
        </p:nvSpPr>
        <p:spPr>
          <a:xfrm>
            <a:off x="1455840" y="3957480"/>
            <a:ext cx="785880" cy="495360"/>
          </a:xfrm>
          <a:custGeom>
            <a:avLst/>
            <a:gdLst/>
            <a:ahLst/>
            <a:rect l="l" t="t" r="r" b="b"/>
            <a:pathLst>
              <a:path w="785812" h="495300">
                <a:moveTo>
                  <a:pt x="0" y="123825"/>
                </a:moveTo>
                <a:lnTo>
                  <a:pt x="15478" y="123825"/>
                </a:lnTo>
                <a:lnTo>
                  <a:pt x="15478" y="371475"/>
                </a:lnTo>
                <a:lnTo>
                  <a:pt x="0" y="371475"/>
                </a:lnTo>
                <a:lnTo>
                  <a:pt x="0" y="123825"/>
                </a:lnTo>
                <a:close/>
                <a:moveTo>
                  <a:pt x="30956" y="123825"/>
                </a:moveTo>
                <a:lnTo>
                  <a:pt x="61913" y="123825"/>
                </a:lnTo>
                <a:lnTo>
                  <a:pt x="61913" y="371475"/>
                </a:lnTo>
                <a:lnTo>
                  <a:pt x="30956" y="371475"/>
                </a:lnTo>
                <a:lnTo>
                  <a:pt x="30956" y="123825"/>
                </a:lnTo>
                <a:close/>
                <a:moveTo>
                  <a:pt x="77391" y="123825"/>
                </a:moveTo>
                <a:lnTo>
                  <a:pt x="538162" y="123825"/>
                </a:lnTo>
                <a:lnTo>
                  <a:pt x="538162" y="0"/>
                </a:lnTo>
                <a:lnTo>
                  <a:pt x="785812" y="247650"/>
                </a:lnTo>
                <a:lnTo>
                  <a:pt x="538162" y="495300"/>
                </a:lnTo>
                <a:lnTo>
                  <a:pt x="538162" y="371475"/>
                </a:lnTo>
                <a:lnTo>
                  <a:pt x="77391" y="371475"/>
                </a:lnTo>
                <a:lnTo>
                  <a:pt x="77391" y="123825"/>
                </a:lnTo>
                <a:close/>
              </a:path>
            </a:pathLst>
          </a:custGeom>
          <a:solidFill>
            <a:srgbClr val="1e1c11"/>
          </a:solidFill>
          <a:ln w="25560">
            <a:solidFill>
              <a:srgbClr val="9848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1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2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2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2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2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Прямоугольник 1" descr=""/>
          <p:cNvPicPr/>
          <p:nvPr/>
        </p:nvPicPr>
        <p:blipFill>
          <a:blip r:embed="rId1"/>
          <a:stretch/>
        </p:blipFill>
        <p:spPr>
          <a:xfrm>
            <a:off x="560520" y="176040"/>
            <a:ext cx="6522840" cy="903600"/>
          </a:xfrm>
          <a:prstGeom prst="rect">
            <a:avLst/>
          </a:prstGeom>
          <a:ln w="0">
            <a:noFill/>
          </a:ln>
        </p:spPr>
      </p:pic>
      <p:sp>
        <p:nvSpPr>
          <p:cNvPr id="406" name="Прямоугольник с двумя вырезанными противолежащими углами 20"/>
          <p:cNvSpPr/>
          <p:nvPr/>
        </p:nvSpPr>
        <p:spPr>
          <a:xfrm>
            <a:off x="1357200" y="1279440"/>
            <a:ext cx="5662800" cy="785880"/>
          </a:xfrm>
          <a:prstGeom prst="pie">
            <a:avLst/>
          </a:prstGeom>
          <a:solidFill>
            <a:srgbClr val="558e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За ступенем ієрархії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Штриховая стрелка вправо 21"/>
          <p:cNvSpPr/>
          <p:nvPr/>
        </p:nvSpPr>
        <p:spPr>
          <a:xfrm>
            <a:off x="357120" y="1351080"/>
            <a:ext cx="785880" cy="495360"/>
          </a:xfrm>
          <a:custGeom>
            <a:avLst/>
            <a:gdLst/>
            <a:ahLst/>
            <a:rect l="l" t="t" r="r" b="b"/>
            <a:pathLst>
              <a:path w="785812" h="495300">
                <a:moveTo>
                  <a:pt x="0" y="123825"/>
                </a:moveTo>
                <a:lnTo>
                  <a:pt x="15478" y="123825"/>
                </a:lnTo>
                <a:lnTo>
                  <a:pt x="15478" y="371475"/>
                </a:lnTo>
                <a:lnTo>
                  <a:pt x="0" y="371475"/>
                </a:lnTo>
                <a:lnTo>
                  <a:pt x="0" y="123825"/>
                </a:lnTo>
                <a:close/>
                <a:moveTo>
                  <a:pt x="30956" y="123825"/>
                </a:moveTo>
                <a:lnTo>
                  <a:pt x="61913" y="123825"/>
                </a:lnTo>
                <a:lnTo>
                  <a:pt x="61913" y="371475"/>
                </a:lnTo>
                <a:lnTo>
                  <a:pt x="30956" y="371475"/>
                </a:lnTo>
                <a:lnTo>
                  <a:pt x="30956" y="123825"/>
                </a:lnTo>
                <a:close/>
                <a:moveTo>
                  <a:pt x="77391" y="123825"/>
                </a:moveTo>
                <a:lnTo>
                  <a:pt x="538162" y="123825"/>
                </a:lnTo>
                <a:lnTo>
                  <a:pt x="538162" y="0"/>
                </a:lnTo>
                <a:lnTo>
                  <a:pt x="785812" y="247650"/>
                </a:lnTo>
                <a:lnTo>
                  <a:pt x="538162" y="495300"/>
                </a:lnTo>
                <a:lnTo>
                  <a:pt x="538162" y="371475"/>
                </a:lnTo>
                <a:lnTo>
                  <a:pt x="77391" y="371475"/>
                </a:lnTo>
                <a:lnTo>
                  <a:pt x="77391" y="123825"/>
                </a:lnTo>
                <a:close/>
              </a:path>
            </a:pathLst>
          </a:custGeom>
          <a:solidFill>
            <a:srgbClr val="1e1c11"/>
          </a:solidFill>
          <a:ln w="25560">
            <a:solidFill>
              <a:srgbClr val="9848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Прямоугольник с двумя вырезанными противолежащими углами 20"/>
          <p:cNvSpPr/>
          <p:nvPr/>
        </p:nvSpPr>
        <p:spPr>
          <a:xfrm>
            <a:off x="2268360" y="2306520"/>
            <a:ext cx="6480360" cy="1656000"/>
          </a:xfrm>
          <a:prstGeom prst="pie">
            <a:avLst/>
          </a:prstGeom>
          <a:solidFill>
            <a:srgbClr val="604a7b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Генеральний (зведений) бюджет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Фінансові бюджети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Операційні бюджети 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Прямоугольник с двумя вырезанными противолежащими углами 5"/>
          <p:cNvSpPr/>
          <p:nvPr/>
        </p:nvSpPr>
        <p:spPr>
          <a:xfrm>
            <a:off x="1509840" y="4005360"/>
            <a:ext cx="5726160" cy="785880"/>
          </a:xfrm>
          <a:prstGeom prst="pie">
            <a:avLst/>
          </a:prstGeom>
          <a:solidFill>
            <a:srgbClr val="558e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Залежно від цілей порівняння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Штриховая стрелка вправо 6"/>
          <p:cNvSpPr/>
          <p:nvPr/>
        </p:nvSpPr>
        <p:spPr>
          <a:xfrm>
            <a:off x="509760" y="4076640"/>
            <a:ext cx="785520" cy="495360"/>
          </a:xfrm>
          <a:custGeom>
            <a:avLst/>
            <a:gdLst/>
            <a:ahLst/>
            <a:rect l="l" t="t" r="r" b="b"/>
            <a:pathLst>
              <a:path w="785812" h="495300">
                <a:moveTo>
                  <a:pt x="0" y="123825"/>
                </a:moveTo>
                <a:lnTo>
                  <a:pt x="15478" y="123825"/>
                </a:lnTo>
                <a:lnTo>
                  <a:pt x="15478" y="371475"/>
                </a:lnTo>
                <a:lnTo>
                  <a:pt x="0" y="371475"/>
                </a:lnTo>
                <a:lnTo>
                  <a:pt x="0" y="123825"/>
                </a:lnTo>
                <a:close/>
                <a:moveTo>
                  <a:pt x="30956" y="123825"/>
                </a:moveTo>
                <a:lnTo>
                  <a:pt x="61913" y="123825"/>
                </a:lnTo>
                <a:lnTo>
                  <a:pt x="61913" y="371475"/>
                </a:lnTo>
                <a:lnTo>
                  <a:pt x="30956" y="371475"/>
                </a:lnTo>
                <a:lnTo>
                  <a:pt x="30956" y="123825"/>
                </a:lnTo>
                <a:close/>
                <a:moveTo>
                  <a:pt x="77391" y="123825"/>
                </a:moveTo>
                <a:lnTo>
                  <a:pt x="538162" y="123825"/>
                </a:lnTo>
                <a:lnTo>
                  <a:pt x="538162" y="0"/>
                </a:lnTo>
                <a:lnTo>
                  <a:pt x="785812" y="247650"/>
                </a:lnTo>
                <a:lnTo>
                  <a:pt x="538162" y="495300"/>
                </a:lnTo>
                <a:lnTo>
                  <a:pt x="538162" y="371475"/>
                </a:lnTo>
                <a:lnTo>
                  <a:pt x="77391" y="371475"/>
                </a:lnTo>
                <a:lnTo>
                  <a:pt x="77391" y="123825"/>
                </a:lnTo>
                <a:close/>
              </a:path>
            </a:pathLst>
          </a:custGeom>
          <a:solidFill>
            <a:srgbClr val="1e1c11"/>
          </a:solidFill>
          <a:ln w="25560">
            <a:solidFill>
              <a:srgbClr val="9848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Прямоугольник с двумя вырезанными противолежащими углами 20"/>
          <p:cNvSpPr/>
          <p:nvPr/>
        </p:nvSpPr>
        <p:spPr>
          <a:xfrm>
            <a:off x="2421000" y="4862520"/>
            <a:ext cx="6480000" cy="1657440"/>
          </a:xfrm>
          <a:prstGeom prst="pie">
            <a:avLst/>
          </a:prstGeom>
          <a:solidFill>
            <a:srgbClr val="604a7b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Статичний бюджет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Гнучкий бюджет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2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2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2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2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2" dur="2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2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Text Box 3"/>
          <p:cNvSpPr/>
          <p:nvPr/>
        </p:nvSpPr>
        <p:spPr>
          <a:xfrm>
            <a:off x="0" y="1764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ФОРМУВАННЯ БЮДЖЕТІВ ПІДПРИЄМСТВ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3" name="Group 37"/>
          <p:cNvGrpSpPr/>
          <p:nvPr/>
        </p:nvGrpSpPr>
        <p:grpSpPr>
          <a:xfrm>
            <a:off x="131760" y="825480"/>
            <a:ext cx="8910720" cy="5791320"/>
            <a:chOff x="131760" y="825480"/>
            <a:chExt cx="8910720" cy="5791320"/>
          </a:xfrm>
        </p:grpSpPr>
        <p:sp>
          <p:nvSpPr>
            <p:cNvPr id="414" name="Rectangle 4"/>
            <p:cNvSpPr/>
            <p:nvPr/>
          </p:nvSpPr>
          <p:spPr>
            <a:xfrm>
              <a:off x="3916440" y="5943600"/>
              <a:ext cx="2490840" cy="673200"/>
            </a:xfrm>
            <a:prstGeom prst="rect">
              <a:avLst/>
            </a:prstGeom>
            <a:gradFill rotWithShape="0">
              <a:gsLst>
                <a:gs pos="0">
                  <a:srgbClr val="d20028"/>
                </a:gs>
                <a:gs pos="50000">
                  <a:srgbClr val="ffe9f4"/>
                </a:gs>
                <a:gs pos="100000">
                  <a:srgbClr val="d20028"/>
                </a:gs>
              </a:gsLst>
              <a:lin ang="5400000"/>
            </a:gradFill>
            <a:ln w="38160">
              <a:solidFill>
                <a:srgbClr val="66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58002c"/>
                  </a:solidFill>
                  <a:latin typeface="Arial"/>
                  <a:ea typeface="Arial"/>
                </a:rPr>
                <a:t>Бюджетний баланс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Rectangle 5"/>
            <p:cNvSpPr/>
            <p:nvPr/>
          </p:nvSpPr>
          <p:spPr>
            <a:xfrm>
              <a:off x="1792440" y="5005440"/>
              <a:ext cx="2020680" cy="673200"/>
            </a:xfrm>
            <a:prstGeom prst="rect">
              <a:avLst/>
            </a:prstGeom>
            <a:gradFill rotWithShape="0">
              <a:gsLst>
                <a:gs pos="0">
                  <a:srgbClr val="d20028"/>
                </a:gs>
                <a:gs pos="50000">
                  <a:srgbClr val="ffe9f4"/>
                </a:gs>
                <a:gs pos="100000">
                  <a:srgbClr val="d20028"/>
                </a:gs>
              </a:gsLst>
              <a:lin ang="5400000"/>
            </a:gradFill>
            <a:ln w="38160">
              <a:solidFill>
                <a:srgbClr val="66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58002c"/>
                  </a:solidFill>
                  <a:latin typeface="Arial"/>
                  <a:ea typeface="Arial"/>
                </a:rPr>
                <a:t>Бюджет доходів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58002c"/>
                  </a:solidFill>
                  <a:latin typeface="Arial"/>
                  <a:ea typeface="Arial"/>
                </a:rPr>
                <a:t>та витрат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Rectangle 6"/>
            <p:cNvSpPr/>
            <p:nvPr/>
          </p:nvSpPr>
          <p:spPr>
            <a:xfrm>
              <a:off x="6477120" y="4869000"/>
              <a:ext cx="2344680" cy="936360"/>
            </a:xfrm>
            <a:prstGeom prst="rect">
              <a:avLst/>
            </a:prstGeom>
            <a:gradFill rotWithShape="0">
              <a:gsLst>
                <a:gs pos="0">
                  <a:srgbClr val="d20028"/>
                </a:gs>
                <a:gs pos="50000">
                  <a:srgbClr val="ffe9f4"/>
                </a:gs>
                <a:gs pos="100000">
                  <a:srgbClr val="d20028"/>
                </a:gs>
              </a:gsLst>
              <a:lin ang="5400000"/>
            </a:gradFill>
            <a:ln w="38160">
              <a:solidFill>
                <a:srgbClr val="66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58002c"/>
                  </a:solidFill>
                  <a:latin typeface="Arial"/>
                  <a:ea typeface="Arial"/>
                </a:rPr>
                <a:t>Бюджет руху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58002c"/>
                  </a:solidFill>
                  <a:latin typeface="Arial"/>
                  <a:ea typeface="Arial"/>
                </a:rPr>
                <a:t>грошових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58002c"/>
                  </a:solidFill>
                  <a:latin typeface="Arial"/>
                  <a:ea typeface="Arial"/>
                </a:rPr>
                <a:t>коштів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Rectangle 7"/>
            <p:cNvSpPr/>
            <p:nvPr/>
          </p:nvSpPr>
          <p:spPr>
            <a:xfrm>
              <a:off x="4286160" y="4869000"/>
              <a:ext cx="1744920" cy="809640"/>
            </a:xfrm>
            <a:prstGeom prst="rect">
              <a:avLst/>
            </a:prstGeom>
            <a:solidFill>
              <a:srgbClr val="c3ffef"/>
            </a:solidFill>
            <a:ln w="28440">
              <a:solidFill>
                <a:srgbClr val="00363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3635"/>
                  </a:solidFill>
                  <a:latin typeface="Arial"/>
                  <a:ea typeface="Arial"/>
                </a:rPr>
                <a:t>Бюджет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3635"/>
                  </a:solidFill>
                  <a:latin typeface="Arial"/>
                  <a:ea typeface="Arial"/>
                </a:rPr>
                <a:t>Капітальних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3635"/>
                  </a:solidFill>
                  <a:latin typeface="Arial"/>
                  <a:ea typeface="Arial"/>
                </a:rPr>
                <a:t> </a:t>
              </a:r>
              <a:r>
                <a:rPr b="1" lang="ru-RU" sz="1500" spc="-1" strike="noStrike">
                  <a:solidFill>
                    <a:srgbClr val="003635"/>
                  </a:solidFill>
                  <a:latin typeface="Arial"/>
                  <a:ea typeface="Arial"/>
                </a:rPr>
                <a:t>інвестицій 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Rectangle 8"/>
            <p:cNvSpPr/>
            <p:nvPr/>
          </p:nvSpPr>
          <p:spPr>
            <a:xfrm>
              <a:off x="4465800" y="3863880"/>
              <a:ext cx="2263680" cy="505080"/>
            </a:xfrm>
            <a:prstGeom prst="rect">
              <a:avLst/>
            </a:prstGeom>
            <a:solidFill>
              <a:srgbClr val="c3ffef"/>
            </a:solidFill>
            <a:ln w="28440">
              <a:solidFill>
                <a:srgbClr val="00363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3635"/>
                  </a:solidFill>
                  <a:latin typeface="Arial"/>
                  <a:ea typeface="Arial"/>
                </a:rPr>
                <a:t>Бюджет грошових 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3635"/>
                  </a:solidFill>
                  <a:latin typeface="Arial"/>
                  <a:ea typeface="Arial"/>
                </a:rPr>
                <a:t>коштів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Rectangle 9"/>
            <p:cNvSpPr/>
            <p:nvPr/>
          </p:nvSpPr>
          <p:spPr>
            <a:xfrm>
              <a:off x="2052720" y="825480"/>
              <a:ext cx="2154240" cy="409680"/>
            </a:xfrm>
            <a:prstGeom prst="rect">
              <a:avLst/>
            </a:prstGeom>
            <a:solidFill>
              <a:srgbClr val="c3ffef"/>
            </a:solidFill>
            <a:ln w="28440">
              <a:solidFill>
                <a:srgbClr val="00363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3635"/>
                  </a:solidFill>
                  <a:latin typeface="Arial"/>
                  <a:ea typeface="Arial"/>
                </a:rPr>
                <a:t>Бюджет реалізації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Rectangle 10"/>
            <p:cNvSpPr/>
            <p:nvPr/>
          </p:nvSpPr>
          <p:spPr>
            <a:xfrm>
              <a:off x="6862680" y="3863880"/>
              <a:ext cx="2179800" cy="505080"/>
            </a:xfrm>
            <a:prstGeom prst="rect">
              <a:avLst/>
            </a:prstGeom>
            <a:solidFill>
              <a:srgbClr val="c3ffef"/>
            </a:solidFill>
            <a:ln w="28440">
              <a:solidFill>
                <a:srgbClr val="00363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3635"/>
                  </a:solidFill>
                  <a:latin typeface="Arial"/>
                  <a:ea typeface="Arial"/>
                </a:rPr>
                <a:t>Бюджет надходження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3635"/>
                  </a:solidFill>
                  <a:latin typeface="Arial"/>
                  <a:ea typeface="Arial"/>
                </a:rPr>
                <a:t>грошових коштів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Rectangle 11"/>
            <p:cNvSpPr/>
            <p:nvPr/>
          </p:nvSpPr>
          <p:spPr>
            <a:xfrm>
              <a:off x="262080" y="1484280"/>
              <a:ext cx="1962000" cy="698400"/>
            </a:xfrm>
            <a:prstGeom prst="rect">
              <a:avLst/>
            </a:prstGeom>
            <a:solidFill>
              <a:srgbClr val="c3ffef"/>
            </a:solidFill>
            <a:ln w="28440">
              <a:solidFill>
                <a:srgbClr val="00363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3635"/>
                  </a:solidFill>
                  <a:latin typeface="Arial"/>
                  <a:ea typeface="Arial"/>
                </a:rPr>
                <a:t>Бюджет 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3635"/>
                  </a:solidFill>
                  <a:latin typeface="Arial"/>
                  <a:ea typeface="Arial"/>
                </a:rPr>
                <a:t>управлінських 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3635"/>
                  </a:solidFill>
                  <a:latin typeface="Arial"/>
                  <a:ea typeface="Arial"/>
                </a:rPr>
                <a:t>витрат 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Rectangle 12"/>
            <p:cNvSpPr/>
            <p:nvPr/>
          </p:nvSpPr>
          <p:spPr>
            <a:xfrm>
              <a:off x="2292480" y="1677960"/>
              <a:ext cx="1890720" cy="504720"/>
            </a:xfrm>
            <a:prstGeom prst="rect">
              <a:avLst/>
            </a:prstGeom>
            <a:solidFill>
              <a:srgbClr val="c3ffef"/>
            </a:solidFill>
            <a:ln w="28440">
              <a:solidFill>
                <a:srgbClr val="00363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3635"/>
                  </a:solidFill>
                  <a:latin typeface="Arial"/>
                  <a:ea typeface="Arial"/>
                </a:rPr>
                <a:t>Бюджет</a:t>
              </a:r>
              <a:br>
                <a:rPr sz="1500"/>
              </a:br>
              <a:r>
                <a:rPr b="1" lang="ru-RU" sz="1500" spc="-1" strike="noStrike">
                  <a:solidFill>
                    <a:srgbClr val="003635"/>
                  </a:solidFill>
                  <a:latin typeface="Arial"/>
                  <a:ea typeface="Arial"/>
                </a:rPr>
                <a:t>виробнитцва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Rectangle 13"/>
            <p:cNvSpPr/>
            <p:nvPr/>
          </p:nvSpPr>
          <p:spPr>
            <a:xfrm>
              <a:off x="4251240" y="1484280"/>
              <a:ext cx="1962360" cy="698400"/>
            </a:xfrm>
            <a:prstGeom prst="rect">
              <a:avLst/>
            </a:prstGeom>
            <a:solidFill>
              <a:srgbClr val="c3ffef"/>
            </a:solidFill>
            <a:ln w="28440">
              <a:solidFill>
                <a:srgbClr val="00363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3635"/>
                  </a:solidFill>
                  <a:latin typeface="Arial"/>
                  <a:ea typeface="Arial"/>
                </a:rPr>
                <a:t>Бюджет 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3635"/>
                  </a:solidFill>
                  <a:latin typeface="Arial"/>
                  <a:ea typeface="Arial"/>
                </a:rPr>
                <a:t>комекрційних 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3635"/>
                  </a:solidFill>
                  <a:latin typeface="Arial"/>
                  <a:ea typeface="Arial"/>
                </a:rPr>
                <a:t>витрат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Rectangle 14"/>
            <p:cNvSpPr/>
            <p:nvPr/>
          </p:nvSpPr>
          <p:spPr>
            <a:xfrm>
              <a:off x="6283440" y="1677960"/>
              <a:ext cx="1877760" cy="504720"/>
            </a:xfrm>
            <a:prstGeom prst="rect">
              <a:avLst/>
            </a:prstGeom>
            <a:solidFill>
              <a:srgbClr val="c3ffef"/>
            </a:solidFill>
            <a:ln w="28440">
              <a:solidFill>
                <a:srgbClr val="00363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3635"/>
                  </a:solidFill>
                  <a:latin typeface="Arial"/>
                  <a:ea typeface="Arial"/>
                </a:rPr>
                <a:t>Бюджет</a:t>
              </a:r>
              <a:br>
                <a:rPr sz="1500"/>
              </a:br>
              <a:r>
                <a:rPr b="1" lang="ru-RU" sz="1500" spc="-1" strike="noStrike">
                  <a:solidFill>
                    <a:srgbClr val="003635"/>
                  </a:solidFill>
                  <a:latin typeface="Arial"/>
                  <a:ea typeface="Arial"/>
                </a:rPr>
                <a:t>інших ЦВ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Rectangle 15"/>
            <p:cNvSpPr/>
            <p:nvPr/>
          </p:nvSpPr>
          <p:spPr>
            <a:xfrm>
              <a:off x="487440" y="2747880"/>
              <a:ext cx="1888920" cy="505080"/>
            </a:xfrm>
            <a:prstGeom prst="rect">
              <a:avLst/>
            </a:prstGeom>
            <a:solidFill>
              <a:srgbClr val="c3ffef"/>
            </a:solidFill>
            <a:ln w="28440">
              <a:solidFill>
                <a:srgbClr val="00363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3635"/>
                  </a:solidFill>
                  <a:latin typeface="Arial"/>
                  <a:ea typeface="Arial"/>
                </a:rPr>
                <a:t>Бюджет</a:t>
              </a:r>
              <a:br>
                <a:rPr sz="1500"/>
              </a:br>
              <a:r>
                <a:rPr b="1" lang="ru-RU" sz="1500" spc="-1" strike="noStrike">
                  <a:solidFill>
                    <a:srgbClr val="003635"/>
                  </a:solidFill>
                  <a:latin typeface="Arial"/>
                  <a:ea typeface="Arial"/>
                </a:rPr>
                <a:t>запасів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Rectangle 16"/>
            <p:cNvSpPr/>
            <p:nvPr/>
          </p:nvSpPr>
          <p:spPr>
            <a:xfrm>
              <a:off x="2577960" y="2747880"/>
              <a:ext cx="1889280" cy="505080"/>
            </a:xfrm>
            <a:prstGeom prst="rect">
              <a:avLst/>
            </a:prstGeom>
            <a:solidFill>
              <a:srgbClr val="c3ffef"/>
            </a:solidFill>
            <a:ln w="28440">
              <a:solidFill>
                <a:srgbClr val="00363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3635"/>
                  </a:solidFill>
                  <a:latin typeface="Arial"/>
                  <a:ea typeface="Arial"/>
                </a:rPr>
                <a:t>Бюджет</a:t>
              </a:r>
              <a:br>
                <a:rPr sz="1500"/>
              </a:br>
              <a:r>
                <a:rPr b="1" lang="ru-RU" sz="1500" spc="-1" strike="noStrike">
                  <a:solidFill>
                    <a:srgbClr val="003635"/>
                  </a:solidFill>
                  <a:latin typeface="Arial"/>
                  <a:ea typeface="Arial"/>
                </a:rPr>
                <a:t>оплати праці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Rectangle 17"/>
            <p:cNvSpPr/>
            <p:nvPr/>
          </p:nvSpPr>
          <p:spPr>
            <a:xfrm>
              <a:off x="4670280" y="2747880"/>
              <a:ext cx="1889280" cy="505080"/>
            </a:xfrm>
            <a:prstGeom prst="rect">
              <a:avLst/>
            </a:prstGeom>
            <a:solidFill>
              <a:srgbClr val="c3ffef"/>
            </a:solidFill>
            <a:ln w="28440">
              <a:solidFill>
                <a:srgbClr val="00363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3635"/>
                  </a:solidFill>
                  <a:latin typeface="Arial"/>
                  <a:ea typeface="Arial"/>
                </a:rPr>
                <a:t>Бюджет</a:t>
              </a:r>
              <a:br>
                <a:rPr sz="1500"/>
              </a:br>
              <a:r>
                <a:rPr b="1" lang="ru-RU" sz="1500" spc="-1" strike="noStrike">
                  <a:solidFill>
                    <a:srgbClr val="003635"/>
                  </a:solidFill>
                  <a:latin typeface="Arial"/>
                  <a:ea typeface="Arial"/>
                </a:rPr>
                <a:t>інших витрат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Freeform 18"/>
            <p:cNvSpPr/>
            <p:nvPr/>
          </p:nvSpPr>
          <p:spPr>
            <a:xfrm>
              <a:off x="4208400" y="1027080"/>
              <a:ext cx="4407120" cy="2822760"/>
            </a:xfrm>
            <a:custGeom>
              <a:avLst/>
              <a:gdLst>
                <a:gd name="textAreaLeft" fmla="*/ 0 w 4407120"/>
                <a:gd name="textAreaRight" fmla="*/ 4407120 w 4407120"/>
                <a:gd name="textAreaTop" fmla="*/ 0 h 2822760"/>
                <a:gd name="textAreaBottom" fmla="*/ 2823120 h 2822760"/>
              </a:gdLst>
              <a:ahLst/>
              <a:rect l="textAreaLeft" t="textAreaTop" r="textAreaRight" b="textAreaBottom"/>
              <a:pathLst>
                <a:path w="2782" h="1781">
                  <a:moveTo>
                    <a:pt x="0" y="0"/>
                  </a:moveTo>
                  <a:lnTo>
                    <a:pt x="2782" y="0"/>
                  </a:lnTo>
                  <a:lnTo>
                    <a:pt x="2782" y="1781"/>
                  </a:lnTo>
                </a:path>
              </a:pathLst>
            </a:custGeom>
            <a:noFill/>
            <a:ln w="28440">
              <a:solidFill>
                <a:srgbClr val="003635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Freeform 19"/>
            <p:cNvSpPr/>
            <p:nvPr/>
          </p:nvSpPr>
          <p:spPr>
            <a:xfrm>
              <a:off x="131760" y="1046160"/>
              <a:ext cx="1913040" cy="4282920"/>
            </a:xfrm>
            <a:custGeom>
              <a:avLst/>
              <a:gdLst>
                <a:gd name="textAreaLeft" fmla="*/ 0 w 1913040"/>
                <a:gd name="textAreaRight" fmla="*/ 1913400 w 1913040"/>
                <a:gd name="textAreaTop" fmla="*/ 0 h 4282920"/>
                <a:gd name="textAreaBottom" fmla="*/ 4283280 h 4282920"/>
              </a:gdLst>
              <a:ahLst/>
              <a:rect l="textAreaLeft" t="textAreaTop" r="textAreaRight" b="textAreaBottom"/>
              <a:pathLst>
                <a:path w="1205" h="2698">
                  <a:moveTo>
                    <a:pt x="1205" y="0"/>
                  </a:moveTo>
                  <a:lnTo>
                    <a:pt x="0" y="0"/>
                  </a:lnTo>
                  <a:lnTo>
                    <a:pt x="0" y="2698"/>
                  </a:lnTo>
                  <a:lnTo>
                    <a:pt x="1029" y="2697"/>
                  </a:lnTo>
                </a:path>
              </a:pathLst>
            </a:custGeom>
            <a:noFill/>
            <a:ln w="28440">
              <a:solidFill>
                <a:srgbClr val="003635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Freeform 20"/>
            <p:cNvSpPr/>
            <p:nvPr/>
          </p:nvSpPr>
          <p:spPr>
            <a:xfrm>
              <a:off x="2762280" y="5688000"/>
              <a:ext cx="1163520" cy="593640"/>
            </a:xfrm>
            <a:custGeom>
              <a:avLst/>
              <a:gdLst>
                <a:gd name="textAreaLeft" fmla="*/ 0 w 1163520"/>
                <a:gd name="textAreaRight" fmla="*/ 1163880 w 116352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74" h="374">
                  <a:moveTo>
                    <a:pt x="0" y="0"/>
                  </a:moveTo>
                  <a:lnTo>
                    <a:pt x="0" y="372"/>
                  </a:lnTo>
                  <a:lnTo>
                    <a:pt x="1074" y="374"/>
                  </a:lnTo>
                </a:path>
              </a:pathLst>
            </a:custGeom>
            <a:noFill/>
            <a:ln w="28440">
              <a:solidFill>
                <a:srgbClr val="8a0045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Freeform 21"/>
            <p:cNvSpPr/>
            <p:nvPr/>
          </p:nvSpPr>
          <p:spPr>
            <a:xfrm flipH="1">
              <a:off x="6429240" y="5692680"/>
              <a:ext cx="1236960" cy="594000"/>
            </a:xfrm>
            <a:custGeom>
              <a:avLst/>
              <a:gdLst>
                <a:gd name="textAreaLeft" fmla="*/ 360 w 1236960"/>
                <a:gd name="textAreaRight" fmla="*/ 1237680 w 1236960"/>
                <a:gd name="textAreaTop" fmla="*/ 0 h 594000"/>
                <a:gd name="textAreaBottom" fmla="*/ 594000 h 594000"/>
              </a:gdLst>
              <a:ahLst/>
              <a:rect l="textAreaLeft" t="textAreaTop" r="textAreaRight" b="textAreaBottom"/>
              <a:pathLst>
                <a:path w="1074" h="374">
                  <a:moveTo>
                    <a:pt x="0" y="0"/>
                  </a:moveTo>
                  <a:lnTo>
                    <a:pt x="0" y="372"/>
                  </a:lnTo>
                  <a:lnTo>
                    <a:pt x="1074" y="374"/>
                  </a:lnTo>
                </a:path>
              </a:pathLst>
            </a:custGeom>
            <a:noFill/>
            <a:ln w="28440">
              <a:solidFill>
                <a:srgbClr val="8a0045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Line 22"/>
            <p:cNvSpPr/>
            <p:nvPr/>
          </p:nvSpPr>
          <p:spPr>
            <a:xfrm flipH="1">
              <a:off x="3817440" y="5324400"/>
              <a:ext cx="468360" cy="4680"/>
            </a:xfrm>
            <a:prstGeom prst="line">
              <a:avLst/>
            </a:prstGeom>
            <a:ln w="28440">
              <a:solidFill>
                <a:srgbClr val="003635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Line 23"/>
            <p:cNvSpPr/>
            <p:nvPr/>
          </p:nvSpPr>
          <p:spPr>
            <a:xfrm flipH="1">
              <a:off x="6041520" y="5329080"/>
              <a:ext cx="420840" cy="0"/>
            </a:xfrm>
            <a:prstGeom prst="line">
              <a:avLst/>
            </a:prstGeom>
            <a:ln w="28440">
              <a:solidFill>
                <a:srgbClr val="003635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Freeform 24"/>
            <p:cNvSpPr/>
            <p:nvPr/>
          </p:nvSpPr>
          <p:spPr>
            <a:xfrm>
              <a:off x="1224000" y="2178000"/>
              <a:ext cx="5994360" cy="216000"/>
            </a:xfrm>
            <a:custGeom>
              <a:avLst/>
              <a:gdLst>
                <a:gd name="textAreaLeft" fmla="*/ 0 w 5994360"/>
                <a:gd name="textAreaRight" fmla="*/ 5994720 w 5994360"/>
                <a:gd name="textAreaTop" fmla="*/ 0 h 216000"/>
                <a:gd name="textAreaBottom" fmla="*/ 216360 h 216000"/>
              </a:gdLst>
              <a:ahLst/>
              <a:rect l="textAreaLeft" t="textAreaTop" r="textAreaRight" b="textAreaBottom"/>
              <a:pathLst>
                <a:path w="3827" h="136">
                  <a:moveTo>
                    <a:pt x="0" y="0"/>
                  </a:moveTo>
                  <a:lnTo>
                    <a:pt x="0" y="136"/>
                  </a:lnTo>
                  <a:lnTo>
                    <a:pt x="3827" y="136"/>
                  </a:lnTo>
                  <a:lnTo>
                    <a:pt x="3827" y="0"/>
                  </a:lnTo>
                </a:path>
              </a:pathLst>
            </a:custGeom>
            <a:noFill/>
            <a:ln w="28440">
              <a:solidFill>
                <a:srgbClr val="00363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Line 25"/>
            <p:cNvSpPr/>
            <p:nvPr/>
          </p:nvSpPr>
          <p:spPr>
            <a:xfrm>
              <a:off x="3236760" y="2181240"/>
              <a:ext cx="0" cy="212760"/>
            </a:xfrm>
            <a:prstGeom prst="line">
              <a:avLst/>
            </a:prstGeom>
            <a:ln w="28440">
              <a:solidFill>
                <a:srgbClr val="00363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Line 26"/>
            <p:cNvSpPr/>
            <p:nvPr/>
          </p:nvSpPr>
          <p:spPr>
            <a:xfrm>
              <a:off x="5232240" y="2190600"/>
              <a:ext cx="0" cy="212760"/>
            </a:xfrm>
            <a:prstGeom prst="line">
              <a:avLst/>
            </a:prstGeom>
            <a:ln w="28440">
              <a:solidFill>
                <a:srgbClr val="00363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Line 27"/>
            <p:cNvSpPr/>
            <p:nvPr/>
          </p:nvSpPr>
          <p:spPr>
            <a:xfrm>
              <a:off x="3129120" y="1238400"/>
              <a:ext cx="0" cy="428400"/>
            </a:xfrm>
            <a:prstGeom prst="line">
              <a:avLst/>
            </a:prstGeom>
            <a:ln w="28440">
              <a:solidFill>
                <a:srgbClr val="003635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Line 28"/>
            <p:cNvSpPr/>
            <p:nvPr/>
          </p:nvSpPr>
          <p:spPr>
            <a:xfrm>
              <a:off x="1432080" y="2390760"/>
              <a:ext cx="0" cy="339840"/>
            </a:xfrm>
            <a:prstGeom prst="line">
              <a:avLst/>
            </a:prstGeom>
            <a:ln w="28440">
              <a:solidFill>
                <a:srgbClr val="003635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Line 29"/>
            <p:cNvSpPr/>
            <p:nvPr/>
          </p:nvSpPr>
          <p:spPr>
            <a:xfrm>
              <a:off x="3522600" y="2390760"/>
              <a:ext cx="0" cy="339840"/>
            </a:xfrm>
            <a:prstGeom prst="line">
              <a:avLst/>
            </a:prstGeom>
            <a:ln w="28440">
              <a:solidFill>
                <a:srgbClr val="003635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Line 30"/>
            <p:cNvSpPr/>
            <p:nvPr/>
          </p:nvSpPr>
          <p:spPr>
            <a:xfrm>
              <a:off x="5614920" y="2397240"/>
              <a:ext cx="0" cy="339480"/>
            </a:xfrm>
            <a:prstGeom prst="line">
              <a:avLst/>
            </a:prstGeom>
            <a:ln w="28440">
              <a:solidFill>
                <a:srgbClr val="003635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Freeform 31"/>
            <p:cNvSpPr/>
            <p:nvPr/>
          </p:nvSpPr>
          <p:spPr>
            <a:xfrm>
              <a:off x="1401840" y="3263760"/>
              <a:ext cx="4241880" cy="196920"/>
            </a:xfrm>
            <a:custGeom>
              <a:avLst/>
              <a:gdLst>
                <a:gd name="textAreaLeft" fmla="*/ 0 w 4241880"/>
                <a:gd name="textAreaRight" fmla="*/ 4242240 w 4241880"/>
                <a:gd name="textAreaTop" fmla="*/ 0 h 196920"/>
                <a:gd name="textAreaBottom" fmla="*/ 197280 h 196920"/>
              </a:gdLst>
              <a:ahLst/>
              <a:rect l="textAreaLeft" t="textAreaTop" r="textAreaRight" b="textAreaBottom"/>
              <a:pathLst>
                <a:path w="3827" h="136">
                  <a:moveTo>
                    <a:pt x="0" y="0"/>
                  </a:moveTo>
                  <a:lnTo>
                    <a:pt x="0" y="136"/>
                  </a:lnTo>
                  <a:lnTo>
                    <a:pt x="3827" y="136"/>
                  </a:lnTo>
                  <a:lnTo>
                    <a:pt x="3827" y="0"/>
                  </a:lnTo>
                </a:path>
              </a:pathLst>
            </a:custGeom>
            <a:noFill/>
            <a:ln w="28440">
              <a:solidFill>
                <a:srgbClr val="00363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Line 32"/>
            <p:cNvSpPr/>
            <p:nvPr/>
          </p:nvSpPr>
          <p:spPr>
            <a:xfrm>
              <a:off x="3522600" y="3247920"/>
              <a:ext cx="0" cy="212760"/>
            </a:xfrm>
            <a:prstGeom prst="line">
              <a:avLst/>
            </a:prstGeom>
            <a:ln w="28440">
              <a:solidFill>
                <a:srgbClr val="00363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Line 33"/>
            <p:cNvSpPr/>
            <p:nvPr/>
          </p:nvSpPr>
          <p:spPr>
            <a:xfrm>
              <a:off x="3522600" y="3468600"/>
              <a:ext cx="0" cy="1519200"/>
            </a:xfrm>
            <a:prstGeom prst="line">
              <a:avLst/>
            </a:prstGeom>
            <a:ln w="28440">
              <a:solidFill>
                <a:srgbClr val="003635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Line 34"/>
            <p:cNvSpPr/>
            <p:nvPr/>
          </p:nvSpPr>
          <p:spPr>
            <a:xfrm flipH="1">
              <a:off x="3532320" y="4110120"/>
              <a:ext cx="914400" cy="0"/>
            </a:xfrm>
            <a:prstGeom prst="line">
              <a:avLst/>
            </a:prstGeom>
            <a:ln w="28440">
              <a:solidFill>
                <a:srgbClr val="003635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Freeform 35"/>
            <p:cNvSpPr/>
            <p:nvPr/>
          </p:nvSpPr>
          <p:spPr>
            <a:xfrm>
              <a:off x="5584680" y="4378320"/>
              <a:ext cx="2376720" cy="196920"/>
            </a:xfrm>
            <a:custGeom>
              <a:avLst/>
              <a:gdLst>
                <a:gd name="textAreaLeft" fmla="*/ 0 w 2376720"/>
                <a:gd name="textAreaRight" fmla="*/ 2377080 w 2376720"/>
                <a:gd name="textAreaTop" fmla="*/ 0 h 196920"/>
                <a:gd name="textAreaBottom" fmla="*/ 197280 h 196920"/>
              </a:gdLst>
              <a:ahLst/>
              <a:rect l="textAreaLeft" t="textAreaTop" r="textAreaRight" b="textAreaBottom"/>
              <a:pathLst>
                <a:path w="3827" h="136">
                  <a:moveTo>
                    <a:pt x="0" y="0"/>
                  </a:moveTo>
                  <a:lnTo>
                    <a:pt x="0" y="136"/>
                  </a:lnTo>
                  <a:lnTo>
                    <a:pt x="3827" y="136"/>
                  </a:lnTo>
                  <a:lnTo>
                    <a:pt x="3827" y="0"/>
                  </a:lnTo>
                </a:path>
              </a:pathLst>
            </a:custGeom>
            <a:noFill/>
            <a:ln w="28440">
              <a:solidFill>
                <a:srgbClr val="00363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Line 36"/>
            <p:cNvSpPr/>
            <p:nvPr/>
          </p:nvSpPr>
          <p:spPr>
            <a:xfrm>
              <a:off x="7659720" y="4578480"/>
              <a:ext cx="3240" cy="403200"/>
            </a:xfrm>
            <a:prstGeom prst="line">
              <a:avLst/>
            </a:prstGeom>
            <a:ln w="28440">
              <a:solidFill>
                <a:srgbClr val="003635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strips dir="ru"/>
  </p:transition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nodeType="clickEffect" fill="hold">
                      <p:stCondLst>
                        <p:cond delay="0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4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Text Box 2"/>
          <p:cNvSpPr/>
          <p:nvPr/>
        </p:nvSpPr>
        <p:spPr>
          <a:xfrm>
            <a:off x="298080" y="61920"/>
            <a:ext cx="89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УЧЕТНО-АНАЛИТИЧЕСКОЕ ОБЕСПЕЧЕНИЕ БЮДЖЕТНОГО ПЛАНИРОВА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48" name="Object 3"/>
          <p:cNvGraphicFramePr/>
          <p:nvPr/>
        </p:nvGraphicFramePr>
        <p:xfrm>
          <a:off x="127080" y="449280"/>
          <a:ext cx="8983440" cy="6308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7080" y="449280"/>
                    <a:ext cx="8983440" cy="630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trips dir="ru"/>
  </p:transition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nodeType="clickEffect" fill="hold">
                      <p:stCondLst>
                        <p:cond delay="0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1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оугольник с двумя вырезанными противолежащими углами 4"/>
          <p:cNvSpPr/>
          <p:nvPr/>
        </p:nvSpPr>
        <p:spPr>
          <a:xfrm>
            <a:off x="285840" y="1214280"/>
            <a:ext cx="8643960" cy="4714920"/>
          </a:xfrm>
          <a:prstGeom prst="pie">
            <a:avLst/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 algn="just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ff"/>
                </a:solidFill>
                <a:latin typeface="Arial"/>
              </a:rPr>
              <a:t>Сутність бюджетування та його організаці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just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ff"/>
                </a:solidFill>
                <a:latin typeface="Arial"/>
              </a:rPr>
              <a:t>Порядок складання та взаємоузгодження бюджетів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just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ff"/>
                </a:solidFill>
                <a:latin typeface="Arial"/>
              </a:rPr>
              <a:t>Контроль виконання бюджетів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Прямоугольник 1" descr=""/>
          <p:cNvPicPr/>
          <p:nvPr/>
        </p:nvPicPr>
        <p:blipFill>
          <a:blip r:embed="rId1"/>
          <a:stretch/>
        </p:blipFill>
        <p:spPr>
          <a:xfrm>
            <a:off x="517680" y="506520"/>
            <a:ext cx="6602400" cy="901440"/>
          </a:xfrm>
          <a:prstGeom prst="rect">
            <a:avLst/>
          </a:prstGeom>
          <a:ln w="0">
            <a:noFill/>
          </a:ln>
        </p:spPr>
      </p:pic>
      <p:sp>
        <p:nvSpPr>
          <p:cNvPr id="451" name="Прямоугольник с двумя вырезанными противолежащими углами 20"/>
          <p:cNvSpPr/>
          <p:nvPr/>
        </p:nvSpPr>
        <p:spPr>
          <a:xfrm>
            <a:off x="1258920" y="2114640"/>
            <a:ext cx="6121440" cy="1028520"/>
          </a:xfrm>
          <a:prstGeom prst="pie">
            <a:avLst/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ffffff"/>
                </a:solidFill>
                <a:latin typeface="Arial"/>
              </a:rPr>
              <a:t>Крок 1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Складання бюджету продаж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Штриховая стрелка вправо 21"/>
          <p:cNvSpPr/>
          <p:nvPr/>
        </p:nvSpPr>
        <p:spPr>
          <a:xfrm>
            <a:off x="357120" y="2286000"/>
            <a:ext cx="785880" cy="495360"/>
          </a:xfrm>
          <a:custGeom>
            <a:avLst/>
            <a:gdLst/>
            <a:ahLst/>
            <a:rect l="l" t="t" r="r" b="b"/>
            <a:pathLst>
              <a:path w="785812" h="495300">
                <a:moveTo>
                  <a:pt x="0" y="123825"/>
                </a:moveTo>
                <a:lnTo>
                  <a:pt x="15478" y="123825"/>
                </a:lnTo>
                <a:lnTo>
                  <a:pt x="15478" y="371475"/>
                </a:lnTo>
                <a:lnTo>
                  <a:pt x="0" y="371475"/>
                </a:lnTo>
                <a:lnTo>
                  <a:pt x="0" y="123825"/>
                </a:lnTo>
                <a:close/>
                <a:moveTo>
                  <a:pt x="30956" y="123825"/>
                </a:moveTo>
                <a:lnTo>
                  <a:pt x="61913" y="123825"/>
                </a:lnTo>
                <a:lnTo>
                  <a:pt x="61913" y="371475"/>
                </a:lnTo>
                <a:lnTo>
                  <a:pt x="30956" y="371475"/>
                </a:lnTo>
                <a:lnTo>
                  <a:pt x="30956" y="123825"/>
                </a:lnTo>
                <a:close/>
                <a:moveTo>
                  <a:pt x="77391" y="123825"/>
                </a:moveTo>
                <a:lnTo>
                  <a:pt x="538162" y="123825"/>
                </a:lnTo>
                <a:lnTo>
                  <a:pt x="538162" y="0"/>
                </a:lnTo>
                <a:lnTo>
                  <a:pt x="785812" y="247650"/>
                </a:lnTo>
                <a:lnTo>
                  <a:pt x="538162" y="495300"/>
                </a:lnTo>
                <a:lnTo>
                  <a:pt x="538162" y="371475"/>
                </a:lnTo>
                <a:lnTo>
                  <a:pt x="77391" y="371475"/>
                </a:lnTo>
                <a:lnTo>
                  <a:pt x="77391" y="123825"/>
                </a:lnTo>
                <a:close/>
              </a:path>
            </a:pathLst>
          </a:custGeom>
          <a:solidFill>
            <a:srgbClr val="1e1c11"/>
          </a:solidFill>
          <a:ln w="25560">
            <a:solidFill>
              <a:srgbClr val="9848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Прямоугольник с двумя вырезанными противолежащими углами 9"/>
          <p:cNvSpPr/>
          <p:nvPr/>
        </p:nvSpPr>
        <p:spPr>
          <a:xfrm>
            <a:off x="2357280" y="3786120"/>
            <a:ext cx="6121440" cy="1028880"/>
          </a:xfrm>
          <a:prstGeom prst="pie">
            <a:avLst/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ffffff"/>
                </a:solidFill>
                <a:latin typeface="Arial"/>
              </a:rPr>
              <a:t>Крок 2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Розробка бюджету виробництв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Штриховая стрелка вправо 10"/>
          <p:cNvSpPr/>
          <p:nvPr/>
        </p:nvSpPr>
        <p:spPr>
          <a:xfrm>
            <a:off x="1455840" y="3957480"/>
            <a:ext cx="785880" cy="495360"/>
          </a:xfrm>
          <a:custGeom>
            <a:avLst/>
            <a:gdLst/>
            <a:ahLst/>
            <a:rect l="l" t="t" r="r" b="b"/>
            <a:pathLst>
              <a:path w="785812" h="495300">
                <a:moveTo>
                  <a:pt x="0" y="123825"/>
                </a:moveTo>
                <a:lnTo>
                  <a:pt x="15478" y="123825"/>
                </a:lnTo>
                <a:lnTo>
                  <a:pt x="15478" y="371475"/>
                </a:lnTo>
                <a:lnTo>
                  <a:pt x="0" y="371475"/>
                </a:lnTo>
                <a:lnTo>
                  <a:pt x="0" y="123825"/>
                </a:lnTo>
                <a:close/>
                <a:moveTo>
                  <a:pt x="30956" y="123825"/>
                </a:moveTo>
                <a:lnTo>
                  <a:pt x="61913" y="123825"/>
                </a:lnTo>
                <a:lnTo>
                  <a:pt x="61913" y="371475"/>
                </a:lnTo>
                <a:lnTo>
                  <a:pt x="30956" y="371475"/>
                </a:lnTo>
                <a:lnTo>
                  <a:pt x="30956" y="123825"/>
                </a:lnTo>
                <a:close/>
                <a:moveTo>
                  <a:pt x="77391" y="123825"/>
                </a:moveTo>
                <a:lnTo>
                  <a:pt x="538162" y="123825"/>
                </a:lnTo>
                <a:lnTo>
                  <a:pt x="538162" y="0"/>
                </a:lnTo>
                <a:lnTo>
                  <a:pt x="785812" y="247650"/>
                </a:lnTo>
                <a:lnTo>
                  <a:pt x="538162" y="495300"/>
                </a:lnTo>
                <a:lnTo>
                  <a:pt x="538162" y="371475"/>
                </a:lnTo>
                <a:lnTo>
                  <a:pt x="77391" y="371475"/>
                </a:lnTo>
                <a:lnTo>
                  <a:pt x="77391" y="123825"/>
                </a:lnTo>
                <a:close/>
              </a:path>
            </a:pathLst>
          </a:custGeom>
          <a:solidFill>
            <a:srgbClr val="1e1c11"/>
          </a:solidFill>
          <a:ln w="25560">
            <a:solidFill>
              <a:srgbClr val="9848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10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2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6" dur="2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2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4" dur="2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Прямоугольник 2"/>
          <p:cNvSpPr/>
          <p:nvPr/>
        </p:nvSpPr>
        <p:spPr>
          <a:xfrm>
            <a:off x="428760" y="1643040"/>
            <a:ext cx="8358120" cy="714240"/>
          </a:xfrm>
          <a:prstGeom prst="rect">
            <a:avLst/>
          </a:prstGeom>
          <a:solidFill>
            <a:srgbClr val="17375e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ffffff"/>
                </a:solidFill>
                <a:latin typeface="Century Gothic"/>
              </a:rPr>
              <a:t>Необхідний обсяг виробництва продукції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Прямоугольник 3"/>
          <p:cNvSpPr/>
          <p:nvPr/>
        </p:nvSpPr>
        <p:spPr>
          <a:xfrm>
            <a:off x="428760" y="3000240"/>
            <a:ext cx="8358120" cy="785880"/>
          </a:xfrm>
          <a:prstGeom prst="rect">
            <a:avLst/>
          </a:prstGeom>
          <a:solidFill>
            <a:srgbClr val="17375e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ffffff"/>
                </a:solidFill>
                <a:latin typeface="Century Gothic"/>
              </a:rPr>
              <a:t>Запланований обсяг продажу за період в одиницях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Прямоугольник 4"/>
          <p:cNvSpPr/>
          <p:nvPr/>
        </p:nvSpPr>
        <p:spPr>
          <a:xfrm>
            <a:off x="4143240" y="2376360"/>
            <a:ext cx="785880" cy="571680"/>
          </a:xfrm>
          <a:prstGeom prst="rect">
            <a:avLst/>
          </a:prstGeom>
          <a:solidFill>
            <a:srgbClr val="17375e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ffffff"/>
                </a:solidFill>
                <a:latin typeface="Century Gothic"/>
              </a:rPr>
              <a:t>=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Прямоугольник 5"/>
          <p:cNvSpPr/>
          <p:nvPr/>
        </p:nvSpPr>
        <p:spPr>
          <a:xfrm>
            <a:off x="357120" y="285840"/>
            <a:ext cx="8358120" cy="1143000"/>
          </a:xfrm>
          <a:prstGeom prst="rect">
            <a:avLst/>
          </a:prstGeom>
          <a:solidFill>
            <a:srgbClr val="17375e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ffffff"/>
                </a:solidFill>
                <a:latin typeface="Century Gothic"/>
              </a:rPr>
              <a:t>Бюджет виробництва формується на підставі даних бюджету продажу з урахуванням зміни залишків готової продукції за формулою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Прямоугольник 6"/>
          <p:cNvSpPr/>
          <p:nvPr/>
        </p:nvSpPr>
        <p:spPr>
          <a:xfrm>
            <a:off x="500040" y="4429080"/>
            <a:ext cx="8358120" cy="785880"/>
          </a:xfrm>
          <a:prstGeom prst="rect">
            <a:avLst/>
          </a:prstGeom>
          <a:solidFill>
            <a:srgbClr val="17375e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ffffff"/>
                </a:solidFill>
                <a:latin typeface="Century Gothic"/>
              </a:rPr>
              <a:t>Залишки готової продукції на кінець періоду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Прямоугольник 7"/>
          <p:cNvSpPr/>
          <p:nvPr/>
        </p:nvSpPr>
        <p:spPr>
          <a:xfrm>
            <a:off x="4214880" y="3805200"/>
            <a:ext cx="785880" cy="571680"/>
          </a:xfrm>
          <a:prstGeom prst="rect">
            <a:avLst/>
          </a:prstGeom>
          <a:solidFill>
            <a:srgbClr val="17375e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ffffff"/>
                </a:solidFill>
                <a:latin typeface="Century Gothic"/>
              </a:rPr>
              <a:t>+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Прямоугольник 8"/>
          <p:cNvSpPr/>
          <p:nvPr/>
        </p:nvSpPr>
        <p:spPr>
          <a:xfrm>
            <a:off x="571680" y="5857920"/>
            <a:ext cx="8358120" cy="785880"/>
          </a:xfrm>
          <a:prstGeom prst="rect">
            <a:avLst/>
          </a:prstGeom>
          <a:solidFill>
            <a:srgbClr val="17375e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ffffff"/>
                </a:solidFill>
                <a:latin typeface="Century Gothic"/>
              </a:rPr>
              <a:t>Залишки готової продукції на початок періоду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Прямоугольник 9"/>
          <p:cNvSpPr/>
          <p:nvPr/>
        </p:nvSpPr>
        <p:spPr>
          <a:xfrm>
            <a:off x="4286160" y="5234040"/>
            <a:ext cx="785880" cy="571320"/>
          </a:xfrm>
          <a:prstGeom prst="rect">
            <a:avLst/>
          </a:prstGeom>
          <a:solidFill>
            <a:srgbClr val="17375e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ffffff"/>
                </a:solidFill>
                <a:latin typeface="Century Gothic"/>
              </a:rPr>
              <a:t>-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3" dur="2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2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1" dur="2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Прямоугольник 1" descr=""/>
          <p:cNvPicPr/>
          <p:nvPr/>
        </p:nvPicPr>
        <p:blipFill>
          <a:blip r:embed="rId1"/>
          <a:stretch/>
        </p:blipFill>
        <p:spPr>
          <a:xfrm>
            <a:off x="517680" y="506520"/>
            <a:ext cx="6602400" cy="901440"/>
          </a:xfrm>
          <a:prstGeom prst="rect">
            <a:avLst/>
          </a:prstGeom>
          <a:ln w="0">
            <a:noFill/>
          </a:ln>
        </p:spPr>
      </p:pic>
      <p:sp>
        <p:nvSpPr>
          <p:cNvPr id="464" name="Прямоугольник с двумя вырезанными противолежащими углами 20"/>
          <p:cNvSpPr/>
          <p:nvPr/>
        </p:nvSpPr>
        <p:spPr>
          <a:xfrm>
            <a:off x="1379520" y="2614680"/>
            <a:ext cx="6121440" cy="1314360"/>
          </a:xfrm>
          <a:prstGeom prst="pie">
            <a:avLst/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ffffff"/>
                </a:solidFill>
                <a:latin typeface="Arial"/>
              </a:rPr>
              <a:t>Крок 3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Бюджет прямих матеріальних витрат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Штриховая стрелка вправо 21"/>
          <p:cNvSpPr/>
          <p:nvPr/>
        </p:nvSpPr>
        <p:spPr>
          <a:xfrm>
            <a:off x="477720" y="2862360"/>
            <a:ext cx="785880" cy="495360"/>
          </a:xfrm>
          <a:custGeom>
            <a:avLst/>
            <a:gdLst/>
            <a:ahLst/>
            <a:rect l="l" t="t" r="r" b="b"/>
            <a:pathLst>
              <a:path w="785812" h="495300">
                <a:moveTo>
                  <a:pt x="0" y="123825"/>
                </a:moveTo>
                <a:lnTo>
                  <a:pt x="15478" y="123825"/>
                </a:lnTo>
                <a:lnTo>
                  <a:pt x="15478" y="371475"/>
                </a:lnTo>
                <a:lnTo>
                  <a:pt x="0" y="371475"/>
                </a:lnTo>
                <a:lnTo>
                  <a:pt x="0" y="123825"/>
                </a:lnTo>
                <a:close/>
                <a:moveTo>
                  <a:pt x="30956" y="123825"/>
                </a:moveTo>
                <a:lnTo>
                  <a:pt x="61913" y="123825"/>
                </a:lnTo>
                <a:lnTo>
                  <a:pt x="61913" y="371475"/>
                </a:lnTo>
                <a:lnTo>
                  <a:pt x="30956" y="371475"/>
                </a:lnTo>
                <a:lnTo>
                  <a:pt x="30956" y="123825"/>
                </a:lnTo>
                <a:close/>
                <a:moveTo>
                  <a:pt x="77391" y="123825"/>
                </a:moveTo>
                <a:lnTo>
                  <a:pt x="538162" y="123825"/>
                </a:lnTo>
                <a:lnTo>
                  <a:pt x="538162" y="0"/>
                </a:lnTo>
                <a:lnTo>
                  <a:pt x="785812" y="247650"/>
                </a:lnTo>
                <a:lnTo>
                  <a:pt x="538162" y="495300"/>
                </a:lnTo>
                <a:lnTo>
                  <a:pt x="538162" y="371475"/>
                </a:lnTo>
                <a:lnTo>
                  <a:pt x="77391" y="371475"/>
                </a:lnTo>
                <a:lnTo>
                  <a:pt x="77391" y="123825"/>
                </a:lnTo>
                <a:close/>
              </a:path>
            </a:pathLst>
          </a:custGeom>
          <a:solidFill>
            <a:srgbClr val="1e1c11"/>
          </a:solidFill>
          <a:ln w="25560">
            <a:solidFill>
              <a:srgbClr val="9848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512" dur="indefinite" restart="never" nodeType="tmRoot">
          <p:childTnLst>
            <p:seq>
              <p:cTn id="513" dur="indefinite" nodeType="mainSeq">
                <p:childTnLst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1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3" dur="2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6" dur="2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Прямоугольник 2"/>
          <p:cNvSpPr/>
          <p:nvPr/>
        </p:nvSpPr>
        <p:spPr>
          <a:xfrm>
            <a:off x="428760" y="1643040"/>
            <a:ext cx="8358120" cy="714240"/>
          </a:xfrm>
          <a:prstGeom prst="rect">
            <a:avLst/>
          </a:prstGeom>
          <a:solidFill>
            <a:srgbClr val="17375e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ffffff"/>
                </a:solidFill>
                <a:latin typeface="Century Gothic"/>
              </a:rPr>
              <a:t>Необхідний кількість придбання виробничих запасів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Прямоугольник 3"/>
          <p:cNvSpPr/>
          <p:nvPr/>
        </p:nvSpPr>
        <p:spPr>
          <a:xfrm>
            <a:off x="428760" y="3000240"/>
            <a:ext cx="8358120" cy="785880"/>
          </a:xfrm>
          <a:prstGeom prst="rect">
            <a:avLst/>
          </a:prstGeom>
          <a:solidFill>
            <a:srgbClr val="17375e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ffffff"/>
                </a:solidFill>
                <a:latin typeface="Century Gothic"/>
              </a:rPr>
              <a:t>Кількість виробничих запасів, необхідна для виготовлення продукції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Прямоугольник 4"/>
          <p:cNvSpPr/>
          <p:nvPr/>
        </p:nvSpPr>
        <p:spPr>
          <a:xfrm>
            <a:off x="4143240" y="2376360"/>
            <a:ext cx="785880" cy="571680"/>
          </a:xfrm>
          <a:prstGeom prst="rect">
            <a:avLst/>
          </a:prstGeom>
          <a:solidFill>
            <a:srgbClr val="17375e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ffffff"/>
                </a:solidFill>
                <a:latin typeface="Century Gothic"/>
              </a:rPr>
              <a:t>=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Прямоугольник 5"/>
          <p:cNvSpPr/>
          <p:nvPr/>
        </p:nvSpPr>
        <p:spPr>
          <a:xfrm>
            <a:off x="357120" y="285840"/>
            <a:ext cx="8358120" cy="1143000"/>
          </a:xfrm>
          <a:prstGeom prst="rect">
            <a:avLst/>
          </a:prstGeom>
          <a:solidFill>
            <a:srgbClr val="17375e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ffffff"/>
                </a:solidFill>
                <a:latin typeface="Century Gothic"/>
              </a:rPr>
              <a:t>Для визначення кількості матеріалів, що необхідно придбати за період, користуються формулою: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Прямоугольник 6"/>
          <p:cNvSpPr/>
          <p:nvPr/>
        </p:nvSpPr>
        <p:spPr>
          <a:xfrm>
            <a:off x="500040" y="4429080"/>
            <a:ext cx="8358120" cy="785880"/>
          </a:xfrm>
          <a:prstGeom prst="rect">
            <a:avLst/>
          </a:prstGeom>
          <a:solidFill>
            <a:srgbClr val="17375e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ffffff"/>
                </a:solidFill>
                <a:latin typeface="Century Gothic"/>
              </a:rPr>
              <a:t>Кількість виробничих запасів у залишку на кінець періоду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Прямоугольник 7"/>
          <p:cNvSpPr/>
          <p:nvPr/>
        </p:nvSpPr>
        <p:spPr>
          <a:xfrm>
            <a:off x="4214880" y="3805200"/>
            <a:ext cx="785880" cy="571680"/>
          </a:xfrm>
          <a:prstGeom prst="rect">
            <a:avLst/>
          </a:prstGeom>
          <a:solidFill>
            <a:srgbClr val="17375e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ffffff"/>
                </a:solidFill>
                <a:latin typeface="Century Gothic"/>
              </a:rPr>
              <a:t>+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Прямоугольник 8"/>
          <p:cNvSpPr/>
          <p:nvPr/>
        </p:nvSpPr>
        <p:spPr>
          <a:xfrm>
            <a:off x="571680" y="5857920"/>
            <a:ext cx="8358120" cy="785880"/>
          </a:xfrm>
          <a:prstGeom prst="rect">
            <a:avLst/>
          </a:prstGeom>
          <a:solidFill>
            <a:srgbClr val="17375e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ffffff"/>
                </a:solidFill>
                <a:latin typeface="Century Gothic"/>
              </a:rPr>
              <a:t>Кількість виробничих запасів у залишку на початок періоду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Прямоугольник 9"/>
          <p:cNvSpPr/>
          <p:nvPr/>
        </p:nvSpPr>
        <p:spPr>
          <a:xfrm>
            <a:off x="4286160" y="5234040"/>
            <a:ext cx="785880" cy="571320"/>
          </a:xfrm>
          <a:prstGeom prst="rect">
            <a:avLst/>
          </a:prstGeom>
          <a:solidFill>
            <a:srgbClr val="17375e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ffffff"/>
                </a:solidFill>
                <a:latin typeface="Century Gothic"/>
              </a:rPr>
              <a:t>-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20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2" dur="2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2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4" name="Прямоугольник 1" descr=""/>
          <p:cNvPicPr/>
          <p:nvPr/>
        </p:nvPicPr>
        <p:blipFill>
          <a:blip r:embed="rId1"/>
          <a:stretch/>
        </p:blipFill>
        <p:spPr>
          <a:xfrm>
            <a:off x="517680" y="506520"/>
            <a:ext cx="6602400" cy="901440"/>
          </a:xfrm>
          <a:prstGeom prst="rect">
            <a:avLst/>
          </a:prstGeom>
          <a:ln w="0">
            <a:noFill/>
          </a:ln>
        </p:spPr>
      </p:pic>
      <p:sp>
        <p:nvSpPr>
          <p:cNvPr id="475" name="Прямоугольник с двумя вырезанными противолежащими углами 20"/>
          <p:cNvSpPr/>
          <p:nvPr/>
        </p:nvSpPr>
        <p:spPr>
          <a:xfrm>
            <a:off x="1258920" y="2114640"/>
            <a:ext cx="6121440" cy="1385640"/>
          </a:xfrm>
          <a:prstGeom prst="pie">
            <a:avLst/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ffffff"/>
                </a:solidFill>
                <a:latin typeface="Arial"/>
              </a:rPr>
              <a:t>Крок 4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Бюджет прямих витрат на оплату праці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Штриховая стрелка вправо 21"/>
          <p:cNvSpPr/>
          <p:nvPr/>
        </p:nvSpPr>
        <p:spPr>
          <a:xfrm>
            <a:off x="357120" y="2505240"/>
            <a:ext cx="785880" cy="495000"/>
          </a:xfrm>
          <a:custGeom>
            <a:avLst/>
            <a:gdLst/>
            <a:ahLst/>
            <a:rect l="l" t="t" r="r" b="b"/>
            <a:pathLst>
              <a:path w="785812" h="495300">
                <a:moveTo>
                  <a:pt x="0" y="123825"/>
                </a:moveTo>
                <a:lnTo>
                  <a:pt x="15478" y="123825"/>
                </a:lnTo>
                <a:lnTo>
                  <a:pt x="15478" y="371475"/>
                </a:lnTo>
                <a:lnTo>
                  <a:pt x="0" y="371475"/>
                </a:lnTo>
                <a:lnTo>
                  <a:pt x="0" y="123825"/>
                </a:lnTo>
                <a:close/>
                <a:moveTo>
                  <a:pt x="30956" y="123825"/>
                </a:moveTo>
                <a:lnTo>
                  <a:pt x="61913" y="123825"/>
                </a:lnTo>
                <a:lnTo>
                  <a:pt x="61913" y="371475"/>
                </a:lnTo>
                <a:lnTo>
                  <a:pt x="30956" y="371475"/>
                </a:lnTo>
                <a:lnTo>
                  <a:pt x="30956" y="123825"/>
                </a:lnTo>
                <a:close/>
                <a:moveTo>
                  <a:pt x="77391" y="123825"/>
                </a:moveTo>
                <a:lnTo>
                  <a:pt x="538162" y="123825"/>
                </a:lnTo>
                <a:lnTo>
                  <a:pt x="538162" y="0"/>
                </a:lnTo>
                <a:lnTo>
                  <a:pt x="785812" y="247650"/>
                </a:lnTo>
                <a:lnTo>
                  <a:pt x="538162" y="495300"/>
                </a:lnTo>
                <a:lnTo>
                  <a:pt x="538162" y="371475"/>
                </a:lnTo>
                <a:lnTo>
                  <a:pt x="77391" y="371475"/>
                </a:lnTo>
                <a:lnTo>
                  <a:pt x="77391" y="123825"/>
                </a:lnTo>
                <a:close/>
              </a:path>
            </a:pathLst>
          </a:custGeom>
          <a:solidFill>
            <a:srgbClr val="1e1c11"/>
          </a:solidFill>
          <a:ln w="25560">
            <a:solidFill>
              <a:srgbClr val="9848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Прямоугольник с двумя вырезанными противолежащими углами 6"/>
          <p:cNvSpPr/>
          <p:nvPr/>
        </p:nvSpPr>
        <p:spPr>
          <a:xfrm>
            <a:off x="2500200" y="3857760"/>
            <a:ext cx="6121440" cy="1385640"/>
          </a:xfrm>
          <a:prstGeom prst="pie">
            <a:avLst/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ffffff"/>
                </a:solidFill>
                <a:latin typeface="Arial"/>
              </a:rPr>
              <a:t>Крок 5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Розробка бюджету накладних витрат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Штриховая стрелка вправо 7"/>
          <p:cNvSpPr/>
          <p:nvPr/>
        </p:nvSpPr>
        <p:spPr>
          <a:xfrm>
            <a:off x="1598760" y="4248000"/>
            <a:ext cx="785520" cy="495360"/>
          </a:xfrm>
          <a:custGeom>
            <a:avLst/>
            <a:gdLst/>
            <a:ahLst/>
            <a:rect l="l" t="t" r="r" b="b"/>
            <a:pathLst>
              <a:path w="785812" h="495300">
                <a:moveTo>
                  <a:pt x="0" y="123825"/>
                </a:moveTo>
                <a:lnTo>
                  <a:pt x="15478" y="123825"/>
                </a:lnTo>
                <a:lnTo>
                  <a:pt x="15478" y="371475"/>
                </a:lnTo>
                <a:lnTo>
                  <a:pt x="0" y="371475"/>
                </a:lnTo>
                <a:lnTo>
                  <a:pt x="0" y="123825"/>
                </a:lnTo>
                <a:close/>
                <a:moveTo>
                  <a:pt x="30956" y="123825"/>
                </a:moveTo>
                <a:lnTo>
                  <a:pt x="61913" y="123825"/>
                </a:lnTo>
                <a:lnTo>
                  <a:pt x="61913" y="371475"/>
                </a:lnTo>
                <a:lnTo>
                  <a:pt x="30956" y="371475"/>
                </a:lnTo>
                <a:lnTo>
                  <a:pt x="30956" y="123825"/>
                </a:lnTo>
                <a:close/>
                <a:moveTo>
                  <a:pt x="77391" y="123825"/>
                </a:moveTo>
                <a:lnTo>
                  <a:pt x="538162" y="123825"/>
                </a:lnTo>
                <a:lnTo>
                  <a:pt x="538162" y="0"/>
                </a:lnTo>
                <a:lnTo>
                  <a:pt x="785812" y="247650"/>
                </a:lnTo>
                <a:lnTo>
                  <a:pt x="538162" y="495300"/>
                </a:lnTo>
                <a:lnTo>
                  <a:pt x="538162" y="371475"/>
                </a:lnTo>
                <a:lnTo>
                  <a:pt x="77391" y="371475"/>
                </a:lnTo>
                <a:lnTo>
                  <a:pt x="77391" y="123825"/>
                </a:lnTo>
                <a:close/>
              </a:path>
            </a:pathLst>
          </a:custGeom>
          <a:solidFill>
            <a:srgbClr val="1e1c11"/>
          </a:solidFill>
          <a:ln w="25560">
            <a:solidFill>
              <a:srgbClr val="9848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574" dur="indefinite" restart="never" nodeType="tmRoot">
          <p:childTnLst>
            <p:seq>
              <p:cTn id="575" dur="indefinite" nodeType="mainSeq">
                <p:childTnLst>
                  <p:par>
                    <p:cTn id="576" nodeType="clickEffect" fill="hold">
                      <p:stCondLst>
                        <p:cond delay="indefinite"/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1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2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2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20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6" dur="20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9" name="Прямоугольник 1" descr=""/>
          <p:cNvPicPr/>
          <p:nvPr/>
        </p:nvPicPr>
        <p:blipFill>
          <a:blip r:embed="rId1"/>
          <a:stretch/>
        </p:blipFill>
        <p:spPr>
          <a:xfrm>
            <a:off x="517680" y="506520"/>
            <a:ext cx="6602400" cy="901440"/>
          </a:xfrm>
          <a:prstGeom prst="rect">
            <a:avLst/>
          </a:prstGeom>
          <a:ln w="0">
            <a:noFill/>
          </a:ln>
        </p:spPr>
      </p:pic>
      <p:sp>
        <p:nvSpPr>
          <p:cNvPr id="480" name="Прямоугольник с двумя вырезанными противолежащими углами 20"/>
          <p:cNvSpPr/>
          <p:nvPr/>
        </p:nvSpPr>
        <p:spPr>
          <a:xfrm>
            <a:off x="1379520" y="2614680"/>
            <a:ext cx="6121440" cy="1886040"/>
          </a:xfrm>
          <a:prstGeom prst="pie">
            <a:avLst/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ffffff"/>
                </a:solidFill>
                <a:latin typeface="Arial"/>
              </a:rPr>
              <a:t>Крок 6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Розробка бюджету собівартості готової та реалізованої продукції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Штриховая стрелка вправо 21"/>
          <p:cNvSpPr/>
          <p:nvPr/>
        </p:nvSpPr>
        <p:spPr>
          <a:xfrm>
            <a:off x="477720" y="3219480"/>
            <a:ext cx="785880" cy="495360"/>
          </a:xfrm>
          <a:custGeom>
            <a:avLst/>
            <a:gdLst/>
            <a:ahLst/>
            <a:rect l="l" t="t" r="r" b="b"/>
            <a:pathLst>
              <a:path w="785812" h="495300">
                <a:moveTo>
                  <a:pt x="0" y="123825"/>
                </a:moveTo>
                <a:lnTo>
                  <a:pt x="15478" y="123825"/>
                </a:lnTo>
                <a:lnTo>
                  <a:pt x="15478" y="371475"/>
                </a:lnTo>
                <a:lnTo>
                  <a:pt x="0" y="371475"/>
                </a:lnTo>
                <a:lnTo>
                  <a:pt x="0" y="123825"/>
                </a:lnTo>
                <a:close/>
                <a:moveTo>
                  <a:pt x="30956" y="123825"/>
                </a:moveTo>
                <a:lnTo>
                  <a:pt x="61913" y="123825"/>
                </a:lnTo>
                <a:lnTo>
                  <a:pt x="61913" y="371475"/>
                </a:lnTo>
                <a:lnTo>
                  <a:pt x="30956" y="371475"/>
                </a:lnTo>
                <a:lnTo>
                  <a:pt x="30956" y="123825"/>
                </a:lnTo>
                <a:close/>
                <a:moveTo>
                  <a:pt x="77391" y="123825"/>
                </a:moveTo>
                <a:lnTo>
                  <a:pt x="538162" y="123825"/>
                </a:lnTo>
                <a:lnTo>
                  <a:pt x="538162" y="0"/>
                </a:lnTo>
                <a:lnTo>
                  <a:pt x="785812" y="247650"/>
                </a:lnTo>
                <a:lnTo>
                  <a:pt x="538162" y="495300"/>
                </a:lnTo>
                <a:lnTo>
                  <a:pt x="538162" y="371475"/>
                </a:lnTo>
                <a:lnTo>
                  <a:pt x="77391" y="371475"/>
                </a:lnTo>
                <a:lnTo>
                  <a:pt x="77391" y="123825"/>
                </a:lnTo>
                <a:close/>
              </a:path>
            </a:pathLst>
          </a:custGeom>
          <a:solidFill>
            <a:srgbClr val="1e1c11"/>
          </a:solidFill>
          <a:ln w="25560">
            <a:solidFill>
              <a:srgbClr val="9848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10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nodeType="clickEffect" fill="hold">
                      <p:stCondLst>
                        <p:cond delay="indefinite"/>
                      </p:stCondLst>
                      <p:childTnLst>
                        <p:par>
                          <p:cTn id="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20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1" dur="20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Прямоугольник 2"/>
          <p:cNvSpPr/>
          <p:nvPr/>
        </p:nvSpPr>
        <p:spPr>
          <a:xfrm>
            <a:off x="428760" y="1643040"/>
            <a:ext cx="8358120" cy="714240"/>
          </a:xfrm>
          <a:prstGeom prst="rect">
            <a:avLst/>
          </a:prstGeom>
          <a:solidFill>
            <a:srgbClr val="17375e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ffffff"/>
                </a:solidFill>
                <a:latin typeface="Century Gothic"/>
              </a:rPr>
              <a:t>Собівартість виготовленої продукції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Прямоугольник 3"/>
          <p:cNvSpPr/>
          <p:nvPr/>
        </p:nvSpPr>
        <p:spPr>
          <a:xfrm>
            <a:off x="428760" y="3000240"/>
            <a:ext cx="8358120" cy="785880"/>
          </a:xfrm>
          <a:prstGeom prst="rect">
            <a:avLst/>
          </a:prstGeom>
          <a:solidFill>
            <a:srgbClr val="17375e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ffffff"/>
                </a:solidFill>
                <a:latin typeface="Century Gothic"/>
              </a:rPr>
              <a:t>Залишок незавершеного виробництва на початок періоду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Прямоугольник 4"/>
          <p:cNvSpPr/>
          <p:nvPr/>
        </p:nvSpPr>
        <p:spPr>
          <a:xfrm>
            <a:off x="4143240" y="2376360"/>
            <a:ext cx="785880" cy="571680"/>
          </a:xfrm>
          <a:prstGeom prst="rect">
            <a:avLst/>
          </a:prstGeom>
          <a:solidFill>
            <a:srgbClr val="17375e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ffffff"/>
                </a:solidFill>
                <a:latin typeface="Century Gothic"/>
              </a:rPr>
              <a:t>=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Прямоугольник 5"/>
          <p:cNvSpPr/>
          <p:nvPr/>
        </p:nvSpPr>
        <p:spPr>
          <a:xfrm>
            <a:off x="357120" y="285840"/>
            <a:ext cx="8358120" cy="1143000"/>
          </a:xfrm>
          <a:prstGeom prst="rect">
            <a:avLst/>
          </a:prstGeom>
          <a:solidFill>
            <a:srgbClr val="17375e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ffffff"/>
                </a:solidFill>
                <a:latin typeface="Century Gothic"/>
              </a:rPr>
              <a:t>Бюджет собівартості готової продукції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Прямоугольник 6"/>
          <p:cNvSpPr/>
          <p:nvPr/>
        </p:nvSpPr>
        <p:spPr>
          <a:xfrm>
            <a:off x="500040" y="4429080"/>
            <a:ext cx="8358120" cy="785880"/>
          </a:xfrm>
          <a:prstGeom prst="rect">
            <a:avLst/>
          </a:prstGeom>
          <a:solidFill>
            <a:srgbClr val="17375e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ffffff"/>
                </a:solidFill>
                <a:latin typeface="Century Gothic"/>
              </a:rPr>
              <a:t>Витрати на виробництво продукції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Прямоугольник 7"/>
          <p:cNvSpPr/>
          <p:nvPr/>
        </p:nvSpPr>
        <p:spPr>
          <a:xfrm>
            <a:off x="4214880" y="3805200"/>
            <a:ext cx="785880" cy="571680"/>
          </a:xfrm>
          <a:prstGeom prst="rect">
            <a:avLst/>
          </a:prstGeom>
          <a:solidFill>
            <a:srgbClr val="17375e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ffffff"/>
                </a:solidFill>
                <a:latin typeface="Century Gothic"/>
              </a:rPr>
              <a:t>+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Прямоугольник 8"/>
          <p:cNvSpPr/>
          <p:nvPr/>
        </p:nvSpPr>
        <p:spPr>
          <a:xfrm>
            <a:off x="571680" y="5857920"/>
            <a:ext cx="8358120" cy="785880"/>
          </a:xfrm>
          <a:prstGeom prst="rect">
            <a:avLst/>
          </a:prstGeom>
          <a:solidFill>
            <a:srgbClr val="17375e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ffffff"/>
                </a:solidFill>
                <a:latin typeface="Century Gothic"/>
              </a:rPr>
              <a:t>Залишок незавершеного виробництва на кінець періоду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Прямоугольник 9"/>
          <p:cNvSpPr/>
          <p:nvPr/>
        </p:nvSpPr>
        <p:spPr>
          <a:xfrm>
            <a:off x="4286160" y="5234040"/>
            <a:ext cx="785880" cy="571320"/>
          </a:xfrm>
          <a:prstGeom prst="rect">
            <a:avLst/>
          </a:prstGeom>
          <a:solidFill>
            <a:srgbClr val="17375e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ffffff"/>
                </a:solidFill>
                <a:latin typeface="Century Gothic"/>
              </a:rPr>
              <a:t>-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612" dur="indefinite" restart="never" nodeType="tmRoot">
          <p:childTnLst>
            <p:seq>
              <p:cTn id="613" dur="indefinite" nodeType="mainSeq">
                <p:childTnLst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nodeType="clickEffect" fill="hold">
                      <p:stCondLst>
                        <p:cond delay="indefinite"/>
                      </p:stCondLst>
                      <p:childTnLst>
                        <p:par>
                          <p:cTn id="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nodeType="clickEffect" fill="hold">
                      <p:stCondLst>
                        <p:cond delay="indefinite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2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7" dur="20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nodeType="clickEffect" fill="hold">
                      <p:stCondLst>
                        <p:cond delay="indefinite"/>
                      </p:stCondLst>
                      <p:childTnLst>
                        <p:par>
                          <p:cTn id="6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nodeType="clickEffect" fill="hold">
                      <p:stCondLst>
                        <p:cond delay="indefinite"/>
                      </p:stCondLst>
                      <p:childTnLst>
                        <p:par>
                          <p:cTn id="6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8" dur="20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Прямоугольник 2"/>
          <p:cNvSpPr/>
          <p:nvPr/>
        </p:nvSpPr>
        <p:spPr>
          <a:xfrm>
            <a:off x="428760" y="1643040"/>
            <a:ext cx="8358120" cy="714240"/>
          </a:xfrm>
          <a:prstGeom prst="rect">
            <a:avLst/>
          </a:prstGeom>
          <a:solidFill>
            <a:srgbClr val="17375e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ffffff"/>
                </a:solidFill>
                <a:latin typeface="Century Gothic"/>
              </a:rPr>
              <a:t>Собівартість реалізованої продукції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Прямоугольник 3"/>
          <p:cNvSpPr/>
          <p:nvPr/>
        </p:nvSpPr>
        <p:spPr>
          <a:xfrm>
            <a:off x="428760" y="3000240"/>
            <a:ext cx="8358120" cy="785880"/>
          </a:xfrm>
          <a:prstGeom prst="rect">
            <a:avLst/>
          </a:prstGeom>
          <a:solidFill>
            <a:srgbClr val="17375e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ffffff"/>
                </a:solidFill>
                <a:latin typeface="Century Gothic"/>
              </a:rPr>
              <a:t>Залишок готової продукції на початок періоду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Прямоугольник 4"/>
          <p:cNvSpPr/>
          <p:nvPr/>
        </p:nvSpPr>
        <p:spPr>
          <a:xfrm>
            <a:off x="4143240" y="2376360"/>
            <a:ext cx="785880" cy="571680"/>
          </a:xfrm>
          <a:prstGeom prst="rect">
            <a:avLst/>
          </a:prstGeom>
          <a:solidFill>
            <a:srgbClr val="17375e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ffffff"/>
                </a:solidFill>
                <a:latin typeface="Century Gothic"/>
              </a:rPr>
              <a:t>=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Прямоугольник 5"/>
          <p:cNvSpPr/>
          <p:nvPr/>
        </p:nvSpPr>
        <p:spPr>
          <a:xfrm>
            <a:off x="357120" y="285840"/>
            <a:ext cx="8358120" cy="1143000"/>
          </a:xfrm>
          <a:prstGeom prst="rect">
            <a:avLst/>
          </a:prstGeom>
          <a:solidFill>
            <a:srgbClr val="17375e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ffffff"/>
                </a:solidFill>
                <a:latin typeface="Century Gothic"/>
              </a:rPr>
              <a:t>Бюджет собівартості реалізованої продукції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Прямоугольник 6"/>
          <p:cNvSpPr/>
          <p:nvPr/>
        </p:nvSpPr>
        <p:spPr>
          <a:xfrm>
            <a:off x="500040" y="4429080"/>
            <a:ext cx="8358120" cy="785880"/>
          </a:xfrm>
          <a:prstGeom prst="rect">
            <a:avLst/>
          </a:prstGeom>
          <a:solidFill>
            <a:srgbClr val="17375e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ffffff"/>
                </a:solidFill>
                <a:latin typeface="Century Gothic"/>
              </a:rPr>
              <a:t>Собівартість виготовленої за період продукції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Прямоугольник 7"/>
          <p:cNvSpPr/>
          <p:nvPr/>
        </p:nvSpPr>
        <p:spPr>
          <a:xfrm>
            <a:off x="4214880" y="3805200"/>
            <a:ext cx="785880" cy="571680"/>
          </a:xfrm>
          <a:prstGeom prst="rect">
            <a:avLst/>
          </a:prstGeom>
          <a:solidFill>
            <a:srgbClr val="17375e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ffffff"/>
                </a:solidFill>
                <a:latin typeface="Century Gothic"/>
              </a:rPr>
              <a:t>+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Прямоугольник 8"/>
          <p:cNvSpPr/>
          <p:nvPr/>
        </p:nvSpPr>
        <p:spPr>
          <a:xfrm>
            <a:off x="571680" y="5857920"/>
            <a:ext cx="8358120" cy="785880"/>
          </a:xfrm>
          <a:prstGeom prst="rect">
            <a:avLst/>
          </a:prstGeom>
          <a:solidFill>
            <a:srgbClr val="17375e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ffffff"/>
                </a:solidFill>
                <a:latin typeface="Century Gothic"/>
              </a:rPr>
              <a:t>Залишок готової продукції на кінець періоду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Прямоугольник 9"/>
          <p:cNvSpPr/>
          <p:nvPr/>
        </p:nvSpPr>
        <p:spPr>
          <a:xfrm>
            <a:off x="4286160" y="5234040"/>
            <a:ext cx="785880" cy="571320"/>
          </a:xfrm>
          <a:prstGeom prst="rect">
            <a:avLst/>
          </a:prstGeom>
          <a:solidFill>
            <a:srgbClr val="17375e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ffffff"/>
                </a:solidFill>
                <a:latin typeface="Century Gothic"/>
              </a:rPr>
              <a:t>-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659" dur="indefinite" restart="never" nodeType="tmRoot">
          <p:childTnLst>
            <p:seq>
              <p:cTn id="660" dur="indefinite" nodeType="mainSeq">
                <p:childTnLst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nodeType="clickEffect" fill="hold">
                      <p:stCondLst>
                        <p:cond delay="indefinite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20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nodeType="clickEffect" fill="hold">
                      <p:stCondLst>
                        <p:cond delay="indefinite"/>
                      </p:stCondLst>
                      <p:childTnLst>
                        <p:par>
                          <p:cTn id="6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nodeType="clickEffect" fill="hold">
                      <p:stCondLst>
                        <p:cond delay="indefinite"/>
                      </p:stCondLst>
                      <p:childTnLst>
                        <p:par>
                          <p:cTn id="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nodeType="clickEffect" fill="hold">
                      <p:stCondLst>
                        <p:cond delay="indefinite"/>
                      </p:stCondLst>
                      <p:childTnLst>
                        <p:par>
                          <p:cTn id="6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4" dur="20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nodeType="clickEffect" fill="hold">
                      <p:stCondLst>
                        <p:cond delay="indefinite"/>
                      </p:stCondLst>
                      <p:childTnLst>
                        <p:par>
                          <p:cTn id="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nodeType="clickEffect" fill="hold">
                      <p:stCondLst>
                        <p:cond delay="indefinite"/>
                      </p:stCondLst>
                      <p:childTnLst>
                        <p:par>
                          <p:cTn id="7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5" dur="20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8" name="Прямоугольник 1" descr=""/>
          <p:cNvPicPr/>
          <p:nvPr/>
        </p:nvPicPr>
        <p:blipFill>
          <a:blip r:embed="rId1"/>
          <a:stretch/>
        </p:blipFill>
        <p:spPr>
          <a:xfrm>
            <a:off x="517680" y="506520"/>
            <a:ext cx="6602400" cy="901440"/>
          </a:xfrm>
          <a:prstGeom prst="rect">
            <a:avLst/>
          </a:prstGeom>
          <a:ln w="0">
            <a:noFill/>
          </a:ln>
        </p:spPr>
      </p:pic>
      <p:sp>
        <p:nvSpPr>
          <p:cNvPr id="499" name="Прямоугольник с двумя вырезанными противолежащими углами 20"/>
          <p:cNvSpPr/>
          <p:nvPr/>
        </p:nvSpPr>
        <p:spPr>
          <a:xfrm>
            <a:off x="1258920" y="2114640"/>
            <a:ext cx="6121440" cy="1028520"/>
          </a:xfrm>
          <a:prstGeom prst="pie">
            <a:avLst/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ffffff"/>
                </a:solidFill>
                <a:latin typeface="Arial"/>
              </a:rPr>
              <a:t>Крок 7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Бюджети операційних витрат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Штриховая стрелка вправо 21"/>
          <p:cNvSpPr/>
          <p:nvPr/>
        </p:nvSpPr>
        <p:spPr>
          <a:xfrm>
            <a:off x="357120" y="2286000"/>
            <a:ext cx="785880" cy="495360"/>
          </a:xfrm>
          <a:custGeom>
            <a:avLst/>
            <a:gdLst/>
            <a:ahLst/>
            <a:rect l="l" t="t" r="r" b="b"/>
            <a:pathLst>
              <a:path w="785812" h="495300">
                <a:moveTo>
                  <a:pt x="0" y="123825"/>
                </a:moveTo>
                <a:lnTo>
                  <a:pt x="15478" y="123825"/>
                </a:lnTo>
                <a:lnTo>
                  <a:pt x="15478" y="371475"/>
                </a:lnTo>
                <a:lnTo>
                  <a:pt x="0" y="371475"/>
                </a:lnTo>
                <a:lnTo>
                  <a:pt x="0" y="123825"/>
                </a:lnTo>
                <a:close/>
                <a:moveTo>
                  <a:pt x="30956" y="123825"/>
                </a:moveTo>
                <a:lnTo>
                  <a:pt x="61913" y="123825"/>
                </a:lnTo>
                <a:lnTo>
                  <a:pt x="61913" y="371475"/>
                </a:lnTo>
                <a:lnTo>
                  <a:pt x="30956" y="371475"/>
                </a:lnTo>
                <a:lnTo>
                  <a:pt x="30956" y="123825"/>
                </a:lnTo>
                <a:close/>
                <a:moveTo>
                  <a:pt x="77391" y="123825"/>
                </a:moveTo>
                <a:lnTo>
                  <a:pt x="538162" y="123825"/>
                </a:lnTo>
                <a:lnTo>
                  <a:pt x="538162" y="0"/>
                </a:lnTo>
                <a:lnTo>
                  <a:pt x="785812" y="247650"/>
                </a:lnTo>
                <a:lnTo>
                  <a:pt x="538162" y="495300"/>
                </a:lnTo>
                <a:lnTo>
                  <a:pt x="538162" y="371475"/>
                </a:lnTo>
                <a:lnTo>
                  <a:pt x="77391" y="371475"/>
                </a:lnTo>
                <a:lnTo>
                  <a:pt x="77391" y="123825"/>
                </a:lnTo>
                <a:close/>
              </a:path>
            </a:pathLst>
          </a:custGeom>
          <a:solidFill>
            <a:srgbClr val="1e1c11"/>
          </a:solidFill>
          <a:ln w="25560">
            <a:solidFill>
              <a:srgbClr val="9848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Прямоугольник с двумя вырезанными противолежащими углами 9"/>
          <p:cNvSpPr/>
          <p:nvPr/>
        </p:nvSpPr>
        <p:spPr>
          <a:xfrm>
            <a:off x="2116080" y="3571920"/>
            <a:ext cx="6121440" cy="1357200"/>
          </a:xfrm>
          <a:prstGeom prst="pie">
            <a:avLst/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ffffff"/>
                </a:solidFill>
                <a:latin typeface="Arial"/>
              </a:rPr>
              <a:t>Крок 8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Бюджетний звіт про фінансові результати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Штриховая стрелка вправо 10"/>
          <p:cNvSpPr/>
          <p:nvPr/>
        </p:nvSpPr>
        <p:spPr>
          <a:xfrm>
            <a:off x="1214280" y="3957480"/>
            <a:ext cx="785880" cy="495360"/>
          </a:xfrm>
          <a:custGeom>
            <a:avLst/>
            <a:gdLst/>
            <a:ahLst/>
            <a:rect l="l" t="t" r="r" b="b"/>
            <a:pathLst>
              <a:path w="785812" h="495300">
                <a:moveTo>
                  <a:pt x="0" y="123825"/>
                </a:moveTo>
                <a:lnTo>
                  <a:pt x="15478" y="123825"/>
                </a:lnTo>
                <a:lnTo>
                  <a:pt x="15478" y="371475"/>
                </a:lnTo>
                <a:lnTo>
                  <a:pt x="0" y="371475"/>
                </a:lnTo>
                <a:lnTo>
                  <a:pt x="0" y="123825"/>
                </a:lnTo>
                <a:close/>
                <a:moveTo>
                  <a:pt x="30956" y="123825"/>
                </a:moveTo>
                <a:lnTo>
                  <a:pt x="61913" y="123825"/>
                </a:lnTo>
                <a:lnTo>
                  <a:pt x="61913" y="371475"/>
                </a:lnTo>
                <a:lnTo>
                  <a:pt x="30956" y="371475"/>
                </a:lnTo>
                <a:lnTo>
                  <a:pt x="30956" y="123825"/>
                </a:lnTo>
                <a:close/>
                <a:moveTo>
                  <a:pt x="77391" y="123825"/>
                </a:moveTo>
                <a:lnTo>
                  <a:pt x="538162" y="123825"/>
                </a:lnTo>
                <a:lnTo>
                  <a:pt x="538162" y="0"/>
                </a:lnTo>
                <a:lnTo>
                  <a:pt x="785812" y="247650"/>
                </a:lnTo>
                <a:lnTo>
                  <a:pt x="538162" y="495300"/>
                </a:lnTo>
                <a:lnTo>
                  <a:pt x="538162" y="371475"/>
                </a:lnTo>
                <a:lnTo>
                  <a:pt x="77391" y="371475"/>
                </a:lnTo>
                <a:lnTo>
                  <a:pt x="77391" y="123825"/>
                </a:lnTo>
                <a:close/>
              </a:path>
            </a:pathLst>
          </a:custGeom>
          <a:solidFill>
            <a:srgbClr val="1e1c11"/>
          </a:solidFill>
          <a:ln w="25560">
            <a:solidFill>
              <a:srgbClr val="9848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706" dur="indefinite" restart="never" nodeType="tmRoot">
          <p:childTnLst>
            <p:seq>
              <p:cTn id="707" dur="indefinite" nodeType="mainSeq">
                <p:childTnLst>
                  <p:par>
                    <p:cTn id="708" nodeType="clickEffect" fill="hold">
                      <p:stCondLst>
                        <p:cond delay="indefinite"/>
                      </p:stCondLst>
                      <p:childTnLst>
                        <p:par>
                          <p:cTn id="7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2" dur="10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7" dur="20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0" dur="20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nodeType="clickEffect" fill="hold">
                      <p:stCondLst>
                        <p:cond delay="indefinite"/>
                      </p:stCondLst>
                      <p:childTnLst>
                        <p:par>
                          <p:cTn id="7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5" dur="20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8" dur="20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Text Box 2"/>
          <p:cNvSpPr/>
          <p:nvPr/>
        </p:nvSpPr>
        <p:spPr>
          <a:xfrm>
            <a:off x="1288440" y="61920"/>
            <a:ext cx="726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ТИПИЧНАЯ ФОРМА БЮДЖЕТА ДОХОДОВ И РАСХОДОВ НКМЗ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04" name="Object 4"/>
          <p:cNvGraphicFramePr/>
          <p:nvPr/>
        </p:nvGraphicFramePr>
        <p:xfrm>
          <a:off x="177840" y="652320"/>
          <a:ext cx="8878680" cy="5618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7840" y="652320"/>
                    <a:ext cx="8878680" cy="561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trips dir="ru"/>
  </p:transition>
  <p:timing>
    <p:tnLst>
      <p:par>
        <p:cTn id="729" dur="indefinite" restart="never" nodeType="tmRoot">
          <p:childTnLst>
            <p:seq>
              <p:cTn id="730" dur="indefinite" nodeType="mainSeq">
                <p:childTnLst>
                  <p:par>
                    <p:cTn id="731" nodeType="clickEffect" fill="hold">
                      <p:stCondLst>
                        <p:cond delay="indefinite"/>
                      </p:stCondLst>
                      <p:childTnLst>
                        <p:par>
                          <p:cTn id="7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5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AutoShape 2" descr=""/>
          <p:cNvPicPr/>
          <p:nvPr/>
        </p:nvPicPr>
        <p:blipFill>
          <a:blip r:embed="rId1"/>
          <a:stretch/>
        </p:blipFill>
        <p:spPr>
          <a:xfrm>
            <a:off x="60480" y="1311120"/>
            <a:ext cx="4419360" cy="1839960"/>
          </a:xfrm>
          <a:prstGeom prst="rect">
            <a:avLst/>
          </a:prstGeom>
          <a:ln w="0">
            <a:noFill/>
          </a:ln>
        </p:spPr>
      </p:pic>
      <p:grpSp>
        <p:nvGrpSpPr>
          <p:cNvPr id="305" name="Rectangle 3"/>
          <p:cNvGrpSpPr/>
          <p:nvPr/>
        </p:nvGrpSpPr>
        <p:grpSpPr>
          <a:xfrm>
            <a:off x="1689120" y="2597040"/>
            <a:ext cx="7515360" cy="1859040"/>
            <a:chOff x="1689120" y="2597040"/>
            <a:chExt cx="7515360" cy="1859040"/>
          </a:xfrm>
        </p:grpSpPr>
        <p:pic>
          <p:nvPicPr>
            <p:cNvPr id="306" name="Rectangle 3" descr=""/>
            <p:cNvPicPr/>
            <p:nvPr/>
          </p:nvPicPr>
          <p:blipFill>
            <a:blip r:embed="rId2"/>
            <a:stretch/>
          </p:blipFill>
          <p:spPr>
            <a:xfrm>
              <a:off x="1689120" y="2597040"/>
              <a:ext cx="7515360" cy="185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7" name=""/>
            <p:cNvSpPr/>
            <p:nvPr/>
          </p:nvSpPr>
          <p:spPr>
            <a:xfrm>
              <a:off x="1928880" y="2749680"/>
              <a:ext cx="7072200" cy="139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Одна з функцій управління, процес визначення дій, які повинні бути виконані в майбутньому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heel spokes="8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Text Box 2"/>
          <p:cNvSpPr/>
          <p:nvPr/>
        </p:nvSpPr>
        <p:spPr>
          <a:xfrm>
            <a:off x="7599960" y="49320"/>
            <a:ext cx="153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  <a:ea typeface="Arial"/>
              </a:rPr>
              <a:t>Продолжение таблицы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Text Box 3"/>
          <p:cNvSpPr/>
          <p:nvPr/>
        </p:nvSpPr>
        <p:spPr>
          <a:xfrm>
            <a:off x="2130120" y="61920"/>
            <a:ext cx="557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  <a:ea typeface="Arial"/>
              </a:rPr>
              <a:t>Типичная форма бюджета доходов и расход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08" name="Object 6"/>
          <p:cNvGraphicFramePr/>
          <p:nvPr/>
        </p:nvGraphicFramePr>
        <p:xfrm>
          <a:off x="376200" y="458640"/>
          <a:ext cx="8543880" cy="6245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9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6200" y="458640"/>
                    <a:ext cx="8543880" cy="624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trips dir="ru"/>
  </p:transition>
  <p:timing>
    <p:tnLst>
      <p:par>
        <p:cTn id="736" dur="indefinite" restart="never" nodeType="tmRoot">
          <p:childTnLst>
            <p:seq>
              <p:cTn id="737" dur="indefinite" nodeType="mainSeq">
                <p:childTnLst>
                  <p:par>
                    <p:cTn id="738" nodeType="clickEffect" fill="hold">
                      <p:stCondLst>
                        <p:cond delay="0"/>
                      </p:stCondLst>
                      <p:childTnLst>
                        <p:par>
                          <p:cTn id="7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2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Text Box 3"/>
          <p:cNvSpPr/>
          <p:nvPr/>
        </p:nvSpPr>
        <p:spPr>
          <a:xfrm>
            <a:off x="7599960" y="49320"/>
            <a:ext cx="153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  <a:ea typeface="Arial"/>
              </a:rPr>
              <a:t>Продолжение таблицы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Text Box 4"/>
          <p:cNvSpPr/>
          <p:nvPr/>
        </p:nvSpPr>
        <p:spPr>
          <a:xfrm>
            <a:off x="2130120" y="61920"/>
            <a:ext cx="557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  <a:ea typeface="Arial"/>
              </a:rPr>
              <a:t>Типичная форма бюджета доходов и расход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12" name="Object 6"/>
          <p:cNvGraphicFramePr/>
          <p:nvPr/>
        </p:nvGraphicFramePr>
        <p:xfrm>
          <a:off x="411120" y="528480"/>
          <a:ext cx="8291520" cy="6232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1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120" y="528480"/>
                    <a:ext cx="8291520" cy="623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trips dir="ru"/>
  </p:transition>
  <p:timing>
    <p:tnLst>
      <p:par>
        <p:cTn id="743" dur="indefinite" restart="never" nodeType="tmRoot">
          <p:childTnLst>
            <p:seq>
              <p:cTn id="744" dur="indefinite" nodeType="mainSeq">
                <p:childTnLst>
                  <p:par>
                    <p:cTn id="745" nodeType="clickEffect" fill="hold">
                      <p:stCondLst>
                        <p:cond delay="0"/>
                      </p:stCondLst>
                      <p:childTnLst>
                        <p:par>
                          <p:cTn id="7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9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Прямоугольник 8"/>
          <p:cNvSpPr/>
          <p:nvPr/>
        </p:nvSpPr>
        <p:spPr>
          <a:xfrm>
            <a:off x="0" y="4241880"/>
            <a:ext cx="9144000" cy="250020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5" name="Прямоугольник 1" descr=""/>
          <p:cNvPicPr/>
          <p:nvPr/>
        </p:nvPicPr>
        <p:blipFill>
          <a:blip r:embed="rId1"/>
          <a:stretch/>
        </p:blipFill>
        <p:spPr>
          <a:xfrm>
            <a:off x="517680" y="506520"/>
            <a:ext cx="6602400" cy="901440"/>
          </a:xfrm>
          <a:prstGeom prst="rect">
            <a:avLst/>
          </a:prstGeom>
          <a:ln w="0">
            <a:noFill/>
          </a:ln>
        </p:spPr>
      </p:pic>
      <p:sp>
        <p:nvSpPr>
          <p:cNvPr id="516" name="Прямоугольник с двумя вырезанными противолежащими углами 20"/>
          <p:cNvSpPr/>
          <p:nvPr/>
        </p:nvSpPr>
        <p:spPr>
          <a:xfrm>
            <a:off x="1258920" y="2719440"/>
            <a:ext cx="6121440" cy="1285920"/>
          </a:xfrm>
          <a:prstGeom prst="pie">
            <a:avLst/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ffffff"/>
                </a:solidFill>
                <a:latin typeface="Arial"/>
              </a:rPr>
              <a:t>Крок 10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Розробка бюджету грошових коштів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Штриховая стрелка вправо 21"/>
          <p:cNvSpPr/>
          <p:nvPr/>
        </p:nvSpPr>
        <p:spPr>
          <a:xfrm>
            <a:off x="357120" y="3152880"/>
            <a:ext cx="785880" cy="495360"/>
          </a:xfrm>
          <a:custGeom>
            <a:avLst/>
            <a:gdLst/>
            <a:ahLst/>
            <a:rect l="l" t="t" r="r" b="b"/>
            <a:pathLst>
              <a:path w="785812" h="495300">
                <a:moveTo>
                  <a:pt x="0" y="123825"/>
                </a:moveTo>
                <a:lnTo>
                  <a:pt x="15478" y="123825"/>
                </a:lnTo>
                <a:lnTo>
                  <a:pt x="15478" y="371475"/>
                </a:lnTo>
                <a:lnTo>
                  <a:pt x="0" y="371475"/>
                </a:lnTo>
                <a:lnTo>
                  <a:pt x="0" y="123825"/>
                </a:lnTo>
                <a:close/>
                <a:moveTo>
                  <a:pt x="30956" y="123825"/>
                </a:moveTo>
                <a:lnTo>
                  <a:pt x="61913" y="123825"/>
                </a:lnTo>
                <a:lnTo>
                  <a:pt x="61913" y="371475"/>
                </a:lnTo>
                <a:lnTo>
                  <a:pt x="30956" y="371475"/>
                </a:lnTo>
                <a:lnTo>
                  <a:pt x="30956" y="123825"/>
                </a:lnTo>
                <a:close/>
                <a:moveTo>
                  <a:pt x="77391" y="123825"/>
                </a:moveTo>
                <a:lnTo>
                  <a:pt x="538162" y="123825"/>
                </a:lnTo>
                <a:lnTo>
                  <a:pt x="538162" y="0"/>
                </a:lnTo>
                <a:lnTo>
                  <a:pt x="785812" y="247650"/>
                </a:lnTo>
                <a:lnTo>
                  <a:pt x="538162" y="495300"/>
                </a:lnTo>
                <a:lnTo>
                  <a:pt x="538162" y="371475"/>
                </a:lnTo>
                <a:lnTo>
                  <a:pt x="77391" y="371475"/>
                </a:lnTo>
                <a:lnTo>
                  <a:pt x="77391" y="123825"/>
                </a:lnTo>
                <a:close/>
              </a:path>
            </a:pathLst>
          </a:custGeom>
          <a:solidFill>
            <a:srgbClr val="1e1c11"/>
          </a:solidFill>
          <a:ln w="25560">
            <a:solidFill>
              <a:srgbClr val="9848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19" name="Object 1"/>
          <p:cNvGraphicFramePr/>
          <p:nvPr/>
        </p:nvGraphicFramePr>
        <p:xfrm>
          <a:off x="0" y="4595760"/>
          <a:ext cx="9144000" cy="1928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20" name="Object 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4595760"/>
                    <a:ext cx="9144000" cy="192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1" name="Прямоугольник с двумя вырезанными противолежащими углами 7"/>
          <p:cNvSpPr/>
          <p:nvPr/>
        </p:nvSpPr>
        <p:spPr>
          <a:xfrm>
            <a:off x="1258920" y="1557360"/>
            <a:ext cx="6121440" cy="1028520"/>
          </a:xfrm>
          <a:prstGeom prst="pie">
            <a:avLst/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ffffff"/>
                </a:solidFill>
                <a:latin typeface="Arial"/>
              </a:rPr>
              <a:t>Крок 9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Бюджет капітальних інвестицій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Штриховая стрелка вправо 9"/>
          <p:cNvSpPr/>
          <p:nvPr/>
        </p:nvSpPr>
        <p:spPr>
          <a:xfrm>
            <a:off x="357120" y="1728720"/>
            <a:ext cx="785880" cy="495360"/>
          </a:xfrm>
          <a:custGeom>
            <a:avLst/>
            <a:gdLst/>
            <a:ahLst/>
            <a:rect l="l" t="t" r="r" b="b"/>
            <a:pathLst>
              <a:path w="785812" h="495300">
                <a:moveTo>
                  <a:pt x="0" y="123825"/>
                </a:moveTo>
                <a:lnTo>
                  <a:pt x="15478" y="123825"/>
                </a:lnTo>
                <a:lnTo>
                  <a:pt x="15478" y="371475"/>
                </a:lnTo>
                <a:lnTo>
                  <a:pt x="0" y="371475"/>
                </a:lnTo>
                <a:lnTo>
                  <a:pt x="0" y="123825"/>
                </a:lnTo>
                <a:close/>
                <a:moveTo>
                  <a:pt x="30956" y="123825"/>
                </a:moveTo>
                <a:lnTo>
                  <a:pt x="61913" y="123825"/>
                </a:lnTo>
                <a:lnTo>
                  <a:pt x="61913" y="371475"/>
                </a:lnTo>
                <a:lnTo>
                  <a:pt x="30956" y="371475"/>
                </a:lnTo>
                <a:lnTo>
                  <a:pt x="30956" y="123825"/>
                </a:lnTo>
                <a:close/>
                <a:moveTo>
                  <a:pt x="77391" y="123825"/>
                </a:moveTo>
                <a:lnTo>
                  <a:pt x="538162" y="123825"/>
                </a:lnTo>
                <a:lnTo>
                  <a:pt x="538162" y="0"/>
                </a:lnTo>
                <a:lnTo>
                  <a:pt x="785812" y="247650"/>
                </a:lnTo>
                <a:lnTo>
                  <a:pt x="538162" y="495300"/>
                </a:lnTo>
                <a:lnTo>
                  <a:pt x="538162" y="371475"/>
                </a:lnTo>
                <a:lnTo>
                  <a:pt x="77391" y="371475"/>
                </a:lnTo>
                <a:lnTo>
                  <a:pt x="77391" y="123825"/>
                </a:lnTo>
                <a:close/>
              </a:path>
            </a:pathLst>
          </a:custGeom>
          <a:solidFill>
            <a:srgbClr val="1e1c11"/>
          </a:solidFill>
          <a:ln w="25560">
            <a:solidFill>
              <a:srgbClr val="9848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750" dur="indefinite" restart="never" nodeType="tmRoot">
          <p:childTnLst>
            <p:seq>
              <p:cTn id="751" dur="indefinite" nodeType="mainSeq">
                <p:childTnLst>
                  <p:par>
                    <p:cTn id="752" nodeType="clickEffect" fill="hold">
                      <p:stCondLst>
                        <p:cond delay="indefinite"/>
                      </p:stCondLst>
                      <p:childTnLst>
                        <p:par>
                          <p:cTn id="7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nodeType="clickEffect" fill="hold">
                      <p:stCondLst>
                        <p:cond delay="indefinite"/>
                      </p:stCondLst>
                      <p:childTnLst>
                        <p:par>
                          <p:cTn id="7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1" dur="2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4" dur="2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nodeType="clickEffect" fill="hold">
                      <p:stCondLst>
                        <p:cond delay="indefinite"/>
                      </p:stCondLst>
                      <p:childTnLst>
                        <p:par>
                          <p:cTn id="7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9" dur="2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2" dur="20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Прямоугольник 2"/>
          <p:cNvSpPr/>
          <p:nvPr/>
        </p:nvSpPr>
        <p:spPr>
          <a:xfrm>
            <a:off x="428760" y="1643040"/>
            <a:ext cx="8358120" cy="714240"/>
          </a:xfrm>
          <a:prstGeom prst="rect">
            <a:avLst/>
          </a:prstGeom>
          <a:solidFill>
            <a:srgbClr val="17375e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ffffff"/>
                </a:solidFill>
                <a:latin typeface="Century Gothic"/>
              </a:rPr>
              <a:t>Сума платежів постачальникам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Прямоугольник 3"/>
          <p:cNvSpPr/>
          <p:nvPr/>
        </p:nvSpPr>
        <p:spPr>
          <a:xfrm>
            <a:off x="428760" y="3000240"/>
            <a:ext cx="8358120" cy="785880"/>
          </a:xfrm>
          <a:prstGeom prst="rect">
            <a:avLst/>
          </a:prstGeom>
          <a:solidFill>
            <a:srgbClr val="17375e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ffffff"/>
                </a:solidFill>
                <a:latin typeface="Century Gothic"/>
              </a:rPr>
              <a:t>Залишок кредиторської заборгованості на початок періоду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Прямоугольник 4"/>
          <p:cNvSpPr/>
          <p:nvPr/>
        </p:nvSpPr>
        <p:spPr>
          <a:xfrm>
            <a:off x="4143240" y="2376360"/>
            <a:ext cx="785880" cy="571680"/>
          </a:xfrm>
          <a:prstGeom prst="rect">
            <a:avLst/>
          </a:prstGeom>
          <a:solidFill>
            <a:srgbClr val="17375e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ffffff"/>
                </a:solidFill>
                <a:latin typeface="Century Gothic"/>
              </a:rPr>
              <a:t>=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Прямоугольник 5"/>
          <p:cNvSpPr/>
          <p:nvPr/>
        </p:nvSpPr>
        <p:spPr>
          <a:xfrm>
            <a:off x="357120" y="285840"/>
            <a:ext cx="8358120" cy="1143000"/>
          </a:xfrm>
          <a:prstGeom prst="rect">
            <a:avLst/>
          </a:prstGeom>
          <a:solidFill>
            <a:srgbClr val="17375e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ffffff"/>
                </a:solidFill>
                <a:latin typeface="Century Gothic"/>
              </a:rPr>
              <a:t>Для визначення величини платежів за бюджетний період можна скористатися залежністю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Прямоугольник 6"/>
          <p:cNvSpPr/>
          <p:nvPr/>
        </p:nvSpPr>
        <p:spPr>
          <a:xfrm>
            <a:off x="500040" y="4429080"/>
            <a:ext cx="8358120" cy="785880"/>
          </a:xfrm>
          <a:prstGeom prst="rect">
            <a:avLst/>
          </a:prstGeom>
          <a:solidFill>
            <a:srgbClr val="17375e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ffffff"/>
                </a:solidFill>
                <a:latin typeface="Century Gothic"/>
              </a:rPr>
              <a:t>Вартість придбаних за період запасів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Прямоугольник 7"/>
          <p:cNvSpPr/>
          <p:nvPr/>
        </p:nvSpPr>
        <p:spPr>
          <a:xfrm>
            <a:off x="4214880" y="3805200"/>
            <a:ext cx="785880" cy="571680"/>
          </a:xfrm>
          <a:prstGeom prst="rect">
            <a:avLst/>
          </a:prstGeom>
          <a:solidFill>
            <a:srgbClr val="17375e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ffffff"/>
                </a:solidFill>
                <a:latin typeface="Century Gothic"/>
              </a:rPr>
              <a:t>+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Прямоугольник 8"/>
          <p:cNvSpPr/>
          <p:nvPr/>
        </p:nvSpPr>
        <p:spPr>
          <a:xfrm>
            <a:off x="571680" y="5857920"/>
            <a:ext cx="8358120" cy="785880"/>
          </a:xfrm>
          <a:prstGeom prst="rect">
            <a:avLst/>
          </a:prstGeom>
          <a:solidFill>
            <a:srgbClr val="17375e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ffffff"/>
                </a:solidFill>
                <a:latin typeface="Century Gothic"/>
              </a:rPr>
              <a:t>Залишок кредиторської заборгованості на кінець періоду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Прямоугольник 9"/>
          <p:cNvSpPr/>
          <p:nvPr/>
        </p:nvSpPr>
        <p:spPr>
          <a:xfrm>
            <a:off x="4286160" y="5234040"/>
            <a:ext cx="785880" cy="571320"/>
          </a:xfrm>
          <a:prstGeom prst="rect">
            <a:avLst/>
          </a:prstGeom>
          <a:solidFill>
            <a:srgbClr val="17375e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ffffff"/>
                </a:solidFill>
                <a:latin typeface="Century Gothic"/>
              </a:rPr>
              <a:t>-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773" dur="indefinite" restart="never" nodeType="tmRoot">
          <p:childTnLst>
            <p:seq>
              <p:cTn id="774" dur="indefinite" nodeType="mainSeq">
                <p:childTnLst>
                  <p:par>
                    <p:cTn id="775" nodeType="clickEffect" fill="hold">
                      <p:stCondLst>
                        <p:cond delay="indefinite"/>
                      </p:stCondLst>
                      <p:childTnLst>
                        <p:par>
                          <p:cTn id="7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nodeType="clickEffect" fill="hold">
                      <p:stCondLst>
                        <p:cond delay="indefinite"/>
                      </p:stCondLst>
                      <p:childTnLst>
                        <p:par>
                          <p:cTn id="7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nodeType="clickEffect" fill="hold">
                      <p:stCondLst>
                        <p:cond delay="indefinite"/>
                      </p:stCondLst>
                      <p:childTnLst>
                        <p:par>
                          <p:cTn id="7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1" dur="2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nodeType="clickEffect" fill="hold">
                      <p:stCondLst>
                        <p:cond delay="indefinite"/>
                      </p:stCondLst>
                      <p:childTnLst>
                        <p:par>
                          <p:cTn id="7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6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7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nodeType="clickEffect" fill="hold">
                      <p:stCondLst>
                        <p:cond delay="indefinite"/>
                      </p:stCondLst>
                      <p:childTnLst>
                        <p:par>
                          <p:cTn id="7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2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3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nodeType="clickEffect" fill="hold">
                      <p:stCondLst>
                        <p:cond delay="indefinite"/>
                      </p:stCondLst>
                      <p:childTnLst>
                        <p:par>
                          <p:cTn id="8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8" dur="2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nodeType="clickEffect" fill="hold">
                      <p:stCondLst>
                        <p:cond delay="indefinite"/>
                      </p:stCondLst>
                      <p:childTnLst>
                        <p:par>
                          <p:cTn id="8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nodeType="clickEffect" fill="hold">
                      <p:stCondLst>
                        <p:cond delay="indefinite"/>
                      </p:stCondLst>
                      <p:childTnLst>
                        <p:par>
                          <p:cTn id="8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9" dur="2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Text Box 3"/>
          <p:cNvSpPr/>
          <p:nvPr/>
        </p:nvSpPr>
        <p:spPr>
          <a:xfrm>
            <a:off x="1106280" y="85680"/>
            <a:ext cx="729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ТИПИЧНАЯ ФОРМА БЮДЖЕТА ПЕРЕДВИЖЕНИЯ ДЕНЕЖНЫХ СРЕДСТВ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32" name="Object 4"/>
          <p:cNvGraphicFramePr/>
          <p:nvPr/>
        </p:nvGraphicFramePr>
        <p:xfrm>
          <a:off x="227160" y="547560"/>
          <a:ext cx="8723160" cy="5977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3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7160" y="547560"/>
                    <a:ext cx="8723160" cy="597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trips dir="ru"/>
  </p:transition>
  <p:timing>
    <p:tnLst>
      <p:par>
        <p:cTn id="820" dur="indefinite" restart="never" nodeType="tmRoot">
          <p:childTnLst>
            <p:seq>
              <p:cTn id="821" dur="indefinite" nodeType="mainSeq">
                <p:childTnLst>
                  <p:par>
                    <p:cTn id="822" nodeType="clickEffect" fill="hold">
                      <p:stCondLst>
                        <p:cond delay="0"/>
                      </p:stCondLst>
                      <p:childTnLst>
                        <p:par>
                          <p:cTn id="8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6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Прямоугольник 1" descr=""/>
          <p:cNvPicPr/>
          <p:nvPr/>
        </p:nvPicPr>
        <p:blipFill>
          <a:blip r:embed="rId1"/>
          <a:stretch/>
        </p:blipFill>
        <p:spPr>
          <a:xfrm>
            <a:off x="517680" y="701640"/>
            <a:ext cx="6602400" cy="901800"/>
          </a:xfrm>
          <a:prstGeom prst="rect">
            <a:avLst/>
          </a:prstGeom>
          <a:ln w="0">
            <a:noFill/>
          </a:ln>
        </p:spPr>
      </p:pic>
      <p:sp>
        <p:nvSpPr>
          <p:cNvPr id="535" name="Прямоугольник с двумя вырезанными противолежащими углами 20"/>
          <p:cNvSpPr/>
          <p:nvPr/>
        </p:nvSpPr>
        <p:spPr>
          <a:xfrm>
            <a:off x="1450800" y="2571840"/>
            <a:ext cx="6121440" cy="1285920"/>
          </a:xfrm>
          <a:prstGeom prst="pie">
            <a:avLst/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ffffff"/>
                </a:solidFill>
                <a:latin typeface="Arial"/>
              </a:rPr>
              <a:t>Крок 10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Розробка прогнозного балансу підприємств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Штриховая стрелка вправо 21"/>
          <p:cNvSpPr/>
          <p:nvPr/>
        </p:nvSpPr>
        <p:spPr>
          <a:xfrm>
            <a:off x="549360" y="3005280"/>
            <a:ext cx="785880" cy="495000"/>
          </a:xfrm>
          <a:custGeom>
            <a:avLst/>
            <a:gdLst/>
            <a:ahLst/>
            <a:rect l="l" t="t" r="r" b="b"/>
            <a:pathLst>
              <a:path w="785813" h="495300">
                <a:moveTo>
                  <a:pt x="0" y="123825"/>
                </a:moveTo>
                <a:lnTo>
                  <a:pt x="15478" y="123825"/>
                </a:lnTo>
                <a:lnTo>
                  <a:pt x="15478" y="371475"/>
                </a:lnTo>
                <a:lnTo>
                  <a:pt x="0" y="371475"/>
                </a:lnTo>
                <a:lnTo>
                  <a:pt x="0" y="123825"/>
                </a:lnTo>
                <a:close/>
                <a:moveTo>
                  <a:pt x="30956" y="123825"/>
                </a:moveTo>
                <a:lnTo>
                  <a:pt x="61913" y="123825"/>
                </a:lnTo>
                <a:lnTo>
                  <a:pt x="61913" y="371475"/>
                </a:lnTo>
                <a:lnTo>
                  <a:pt x="30956" y="371475"/>
                </a:lnTo>
                <a:lnTo>
                  <a:pt x="30956" y="123825"/>
                </a:lnTo>
                <a:close/>
                <a:moveTo>
                  <a:pt x="77391" y="123825"/>
                </a:moveTo>
                <a:lnTo>
                  <a:pt x="538163" y="123825"/>
                </a:lnTo>
                <a:lnTo>
                  <a:pt x="538163" y="0"/>
                </a:lnTo>
                <a:lnTo>
                  <a:pt x="785813" y="247650"/>
                </a:lnTo>
                <a:lnTo>
                  <a:pt x="538163" y="495300"/>
                </a:lnTo>
                <a:lnTo>
                  <a:pt x="538163" y="371475"/>
                </a:lnTo>
                <a:lnTo>
                  <a:pt x="77391" y="371475"/>
                </a:lnTo>
                <a:lnTo>
                  <a:pt x="77391" y="123825"/>
                </a:lnTo>
                <a:close/>
              </a:path>
            </a:pathLst>
          </a:custGeom>
          <a:solidFill>
            <a:srgbClr val="1e1c11"/>
          </a:solidFill>
          <a:ln w="25560">
            <a:solidFill>
              <a:srgbClr val="9848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nodeType="clickEffect" fill="hold">
                      <p:stCondLst>
                        <p:cond delay="indefinite"/>
                      </p:stCondLst>
                      <p:childTnLst>
                        <p:par>
                          <p:cTn id="8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3" dur="1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nodeType="clickEffect" fill="hold">
                      <p:stCondLst>
                        <p:cond delay="indefinite"/>
                      </p:stCondLst>
                      <p:childTnLst>
                        <p:par>
                          <p:cTn id="8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8" dur="2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1" dur="20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8" name="AutoShape 2" descr=""/>
          <p:cNvPicPr/>
          <p:nvPr/>
        </p:nvPicPr>
        <p:blipFill>
          <a:blip r:embed="rId1"/>
          <a:stretch/>
        </p:blipFill>
        <p:spPr>
          <a:xfrm>
            <a:off x="-6480" y="1547640"/>
            <a:ext cx="4413240" cy="1341720"/>
          </a:xfrm>
          <a:prstGeom prst="rect">
            <a:avLst/>
          </a:prstGeom>
          <a:ln w="0">
            <a:noFill/>
          </a:ln>
        </p:spPr>
      </p:pic>
      <p:grpSp>
        <p:nvGrpSpPr>
          <p:cNvPr id="539" name="Rectangle 3"/>
          <p:cNvGrpSpPr/>
          <p:nvPr/>
        </p:nvGrpSpPr>
        <p:grpSpPr>
          <a:xfrm>
            <a:off x="1616040" y="2706840"/>
            <a:ext cx="7362720" cy="1109520"/>
            <a:chOff x="1616040" y="2706840"/>
            <a:chExt cx="7362720" cy="1109520"/>
          </a:xfrm>
        </p:grpSpPr>
        <p:pic>
          <p:nvPicPr>
            <p:cNvPr id="540" name="Rectangle 3" descr=""/>
            <p:cNvPicPr/>
            <p:nvPr/>
          </p:nvPicPr>
          <p:blipFill>
            <a:blip r:embed="rId2"/>
            <a:stretch/>
          </p:blipFill>
          <p:spPr>
            <a:xfrm>
              <a:off x="1616040" y="2706840"/>
              <a:ext cx="7362720" cy="11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"/>
            <p:cNvSpPr/>
            <p:nvPr/>
          </p:nvSpPr>
          <p:spPr>
            <a:xfrm>
              <a:off x="1857240" y="2857680"/>
              <a:ext cx="7072560" cy="92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Бюджети структурних підрозділів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542" name="Прямоугольник 5" descr=""/>
          <p:cNvPicPr/>
          <p:nvPr/>
        </p:nvPicPr>
        <p:blipFill>
          <a:blip r:embed="rId3"/>
          <a:stretch/>
        </p:blipFill>
        <p:spPr>
          <a:xfrm>
            <a:off x="628560" y="201600"/>
            <a:ext cx="6527880" cy="1273320"/>
          </a:xfrm>
          <a:prstGeom prst="rect">
            <a:avLst/>
          </a:prstGeom>
          <a:ln w="0">
            <a:noFill/>
          </a:ln>
        </p:spPr>
      </p:pic>
      <p:pic>
        <p:nvPicPr>
          <p:cNvPr id="543" name="AutoShape 2" descr=""/>
          <p:cNvPicPr/>
          <p:nvPr/>
        </p:nvPicPr>
        <p:blipFill>
          <a:blip r:embed="rId4"/>
          <a:stretch/>
        </p:blipFill>
        <p:spPr>
          <a:xfrm>
            <a:off x="-79200" y="3902040"/>
            <a:ext cx="4413240" cy="1339920"/>
          </a:xfrm>
          <a:prstGeom prst="rect">
            <a:avLst/>
          </a:prstGeom>
          <a:ln w="0">
            <a:noFill/>
          </a:ln>
        </p:spPr>
      </p:pic>
      <p:grpSp>
        <p:nvGrpSpPr>
          <p:cNvPr id="544" name="Rectangle 3"/>
          <p:cNvGrpSpPr/>
          <p:nvPr/>
        </p:nvGrpSpPr>
        <p:grpSpPr>
          <a:xfrm>
            <a:off x="1542960" y="5065560"/>
            <a:ext cx="7521840" cy="1852920"/>
            <a:chOff x="1542960" y="5065560"/>
            <a:chExt cx="7521840" cy="1852920"/>
          </a:xfrm>
        </p:grpSpPr>
        <p:pic>
          <p:nvPicPr>
            <p:cNvPr id="545" name="Rectangle 3" descr=""/>
            <p:cNvPicPr/>
            <p:nvPr/>
          </p:nvPicPr>
          <p:blipFill>
            <a:blip r:embed="rId5"/>
            <a:stretch/>
          </p:blipFill>
          <p:spPr>
            <a:xfrm>
              <a:off x="1542960" y="5065560"/>
              <a:ext cx="7521840" cy="185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6" name=""/>
            <p:cNvSpPr/>
            <p:nvPr/>
          </p:nvSpPr>
          <p:spPr>
            <a:xfrm>
              <a:off x="1785960" y="5214960"/>
              <a:ext cx="7072200" cy="142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Структурні підрозділи підприємства, що здійснюють контроль за виконанням бюджетів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heel spokes="8"/>
  </p:transition>
  <p:timing>
    <p:tnLst>
      <p:par>
        <p:cTn id="842" dur="indefinite" restart="never" nodeType="tmRoot">
          <p:childTnLst>
            <p:seq>
              <p:cTn id="843" dur="indefinite" nodeType="mainSeq">
                <p:childTnLst>
                  <p:par>
                    <p:cTn id="844" nodeType="clickEffect" fill="hold">
                      <p:stCondLst>
                        <p:cond delay="indefinite"/>
                      </p:stCondLst>
                      <p:childTnLst>
                        <p:par>
                          <p:cTn id="8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8" dur="2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nodeType="clickEffect" fill="hold">
                      <p:stCondLst>
                        <p:cond delay="indefinite"/>
                      </p:stCondLst>
                      <p:childTnLst>
                        <p:par>
                          <p:cTn id="8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3" dur="20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nodeType="clickEffect" fill="hold">
                      <p:stCondLst>
                        <p:cond delay="indefinite"/>
                      </p:stCondLst>
                      <p:childTnLst>
                        <p:par>
                          <p:cTn id="8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8" dur="10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nodeType="clickEffect" fill="hold">
                      <p:stCondLst>
                        <p:cond delay="indefinite"/>
                      </p:stCondLst>
                      <p:childTnLst>
                        <p:par>
                          <p:cTn id="8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3" dur="20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nodeType="clickEffect" fill="hold">
                      <p:stCondLst>
                        <p:cond delay="indefinite"/>
                      </p:stCondLst>
                      <p:childTnLst>
                        <p:par>
                          <p:cTn id="8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8" dur="20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Прямоугольник 1" descr=""/>
          <p:cNvPicPr/>
          <p:nvPr/>
        </p:nvPicPr>
        <p:blipFill>
          <a:blip r:embed="rId1"/>
          <a:stretch/>
        </p:blipFill>
        <p:spPr>
          <a:xfrm>
            <a:off x="1347840" y="628560"/>
            <a:ext cx="6735600" cy="908280"/>
          </a:xfrm>
          <a:prstGeom prst="rect">
            <a:avLst/>
          </a:prstGeom>
          <a:ln w="0">
            <a:noFill/>
          </a:ln>
        </p:spPr>
      </p:pic>
      <p:sp>
        <p:nvSpPr>
          <p:cNvPr id="548" name="Прямоугольник с двумя вырезанными противолежащими углами 20"/>
          <p:cNvSpPr/>
          <p:nvPr/>
        </p:nvSpPr>
        <p:spPr>
          <a:xfrm>
            <a:off x="357120" y="2571840"/>
            <a:ext cx="3929040" cy="3786120"/>
          </a:xfrm>
          <a:prstGeom prst="pie">
            <a:avLst/>
          </a:prstGeom>
          <a:solidFill>
            <a:srgbClr val="604a7b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ffffff"/>
                </a:solidFill>
                <a:latin typeface="Arial"/>
              </a:rPr>
              <a:t>Об'єкт контролю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ffffff"/>
                </a:solidFill>
                <a:latin typeface="Arial"/>
              </a:rPr>
              <a:t>Контроль за достовірністю даних бюджетування (системи бюджетів структурних підрозділів та загального бюджету)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Штриховая стрелка вправо 21"/>
          <p:cNvSpPr/>
          <p:nvPr/>
        </p:nvSpPr>
        <p:spPr>
          <a:xfrm rot="5400000">
            <a:off x="1944000" y="1856520"/>
            <a:ext cx="785520" cy="495360"/>
          </a:xfrm>
          <a:custGeom>
            <a:avLst/>
            <a:gdLst/>
            <a:ahLst/>
            <a:rect l="l" t="t" r="r" b="b"/>
            <a:pathLst>
              <a:path w="785813" h="495300">
                <a:moveTo>
                  <a:pt x="0" y="123825"/>
                </a:moveTo>
                <a:lnTo>
                  <a:pt x="15478" y="123825"/>
                </a:lnTo>
                <a:lnTo>
                  <a:pt x="15478" y="371475"/>
                </a:lnTo>
                <a:lnTo>
                  <a:pt x="0" y="371475"/>
                </a:lnTo>
                <a:lnTo>
                  <a:pt x="0" y="123825"/>
                </a:lnTo>
                <a:close/>
                <a:moveTo>
                  <a:pt x="30956" y="123825"/>
                </a:moveTo>
                <a:lnTo>
                  <a:pt x="61913" y="123825"/>
                </a:lnTo>
                <a:lnTo>
                  <a:pt x="61913" y="371475"/>
                </a:lnTo>
                <a:lnTo>
                  <a:pt x="30956" y="371475"/>
                </a:lnTo>
                <a:lnTo>
                  <a:pt x="30956" y="123825"/>
                </a:lnTo>
                <a:close/>
                <a:moveTo>
                  <a:pt x="77391" y="123825"/>
                </a:moveTo>
                <a:lnTo>
                  <a:pt x="538163" y="123825"/>
                </a:lnTo>
                <a:lnTo>
                  <a:pt x="538163" y="0"/>
                </a:lnTo>
                <a:lnTo>
                  <a:pt x="785813" y="247650"/>
                </a:lnTo>
                <a:lnTo>
                  <a:pt x="538163" y="495300"/>
                </a:lnTo>
                <a:lnTo>
                  <a:pt x="538163" y="371475"/>
                </a:lnTo>
                <a:lnTo>
                  <a:pt x="77391" y="371475"/>
                </a:lnTo>
                <a:lnTo>
                  <a:pt x="77391" y="123825"/>
                </a:lnTo>
                <a:close/>
              </a:path>
            </a:pathLst>
          </a:custGeom>
          <a:solidFill>
            <a:srgbClr val="1e1c11"/>
          </a:solidFill>
          <a:ln w="25560">
            <a:solidFill>
              <a:srgbClr val="9848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Прямоугольник с двумя вырезанными противолежащими углами 5"/>
          <p:cNvSpPr/>
          <p:nvPr/>
        </p:nvSpPr>
        <p:spPr>
          <a:xfrm>
            <a:off x="4929120" y="2571840"/>
            <a:ext cx="3929040" cy="3786120"/>
          </a:xfrm>
          <a:prstGeom prst="pie">
            <a:avLst/>
          </a:prstGeom>
          <a:solidFill>
            <a:srgbClr val="558e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ffffff"/>
                </a:solidFill>
                <a:latin typeface="Arial"/>
              </a:rPr>
              <a:t>Засіб контролю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ffffff"/>
                </a:solidFill>
                <a:latin typeface="Arial"/>
              </a:rPr>
              <a:t>Використання системи бюджетів для контролю за господарською діяльністю через виявлення відхилень від заданих параметрів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Штриховая стрелка вправо 6"/>
          <p:cNvSpPr/>
          <p:nvPr/>
        </p:nvSpPr>
        <p:spPr>
          <a:xfrm rot="5400000">
            <a:off x="6516000" y="1856520"/>
            <a:ext cx="785520" cy="495360"/>
          </a:xfrm>
          <a:custGeom>
            <a:avLst/>
            <a:gdLst/>
            <a:ahLst/>
            <a:rect l="l" t="t" r="r" b="b"/>
            <a:pathLst>
              <a:path w="785813" h="495300">
                <a:moveTo>
                  <a:pt x="0" y="123825"/>
                </a:moveTo>
                <a:lnTo>
                  <a:pt x="15478" y="123825"/>
                </a:lnTo>
                <a:lnTo>
                  <a:pt x="15478" y="371475"/>
                </a:lnTo>
                <a:lnTo>
                  <a:pt x="0" y="371475"/>
                </a:lnTo>
                <a:lnTo>
                  <a:pt x="0" y="123825"/>
                </a:lnTo>
                <a:close/>
                <a:moveTo>
                  <a:pt x="30956" y="123825"/>
                </a:moveTo>
                <a:lnTo>
                  <a:pt x="61913" y="123825"/>
                </a:lnTo>
                <a:lnTo>
                  <a:pt x="61913" y="371475"/>
                </a:lnTo>
                <a:lnTo>
                  <a:pt x="30956" y="371475"/>
                </a:lnTo>
                <a:lnTo>
                  <a:pt x="30956" y="123825"/>
                </a:lnTo>
                <a:close/>
                <a:moveTo>
                  <a:pt x="77391" y="123825"/>
                </a:moveTo>
                <a:lnTo>
                  <a:pt x="538163" y="123825"/>
                </a:lnTo>
                <a:lnTo>
                  <a:pt x="538163" y="0"/>
                </a:lnTo>
                <a:lnTo>
                  <a:pt x="785813" y="247650"/>
                </a:lnTo>
                <a:lnTo>
                  <a:pt x="538163" y="495300"/>
                </a:lnTo>
                <a:lnTo>
                  <a:pt x="538163" y="371475"/>
                </a:lnTo>
                <a:lnTo>
                  <a:pt x="77391" y="371475"/>
                </a:lnTo>
                <a:lnTo>
                  <a:pt x="77391" y="123825"/>
                </a:lnTo>
                <a:close/>
              </a:path>
            </a:pathLst>
          </a:custGeom>
          <a:solidFill>
            <a:srgbClr val="1e1c11"/>
          </a:solidFill>
          <a:ln w="25560">
            <a:solidFill>
              <a:srgbClr val="9848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nodeType="clickEffect" fill="hold">
                      <p:stCondLst>
                        <p:cond delay="indefinite"/>
                      </p:stCondLst>
                      <p:childTnLst>
                        <p:par>
                          <p:cTn id="8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5" dur="10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nodeType="clickEffect" fill="hold">
                      <p:stCondLst>
                        <p:cond delay="indefinite"/>
                      </p:stCondLst>
                      <p:childTnLst>
                        <p:par>
                          <p:cTn id="8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0" dur="20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3" dur="2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nodeType="clickEffect" fill="hold">
                      <p:stCondLst>
                        <p:cond delay="indefinite"/>
                      </p:stCondLst>
                      <p:childTnLst>
                        <p:par>
                          <p:cTn id="8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8" dur="20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1" dur="20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3" name="Rectangle 3"/>
          <p:cNvGrpSpPr/>
          <p:nvPr/>
        </p:nvGrpSpPr>
        <p:grpSpPr>
          <a:xfrm>
            <a:off x="549360" y="1042920"/>
            <a:ext cx="8661240" cy="4778280"/>
            <a:chOff x="549360" y="1042920"/>
            <a:chExt cx="8661240" cy="4778280"/>
          </a:xfrm>
        </p:grpSpPr>
        <p:pic>
          <p:nvPicPr>
            <p:cNvPr id="554" name="Rectangle 3" descr=""/>
            <p:cNvPicPr/>
            <p:nvPr/>
          </p:nvPicPr>
          <p:blipFill>
            <a:blip r:embed="rId1"/>
            <a:stretch/>
          </p:blipFill>
          <p:spPr>
            <a:xfrm>
              <a:off x="549360" y="1042920"/>
              <a:ext cx="8661240" cy="477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5" name=""/>
            <p:cNvSpPr/>
            <p:nvPr/>
          </p:nvSpPr>
          <p:spPr>
            <a:xfrm>
              <a:off x="642960" y="1285920"/>
              <a:ext cx="8001000" cy="414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5400" spc="-1" strike="noStrike">
                  <a:solidFill>
                    <a:srgbClr val="ffffff"/>
                  </a:solidFill>
                  <a:latin typeface="Century Gothic"/>
                </a:rPr>
                <a:t>Є тільки одне благо - знання й тільки одне зло - неуцтво. </a:t>
              </a:r>
              <a:endParaRPr b="0" lang="en-US" sz="54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5400" spc="-1" strike="noStrike">
                  <a:solidFill>
                    <a:srgbClr val="ffffff"/>
                  </a:solidFill>
                  <a:latin typeface="Century Gothic"/>
                </a:rPr>
                <a:t>Сократ </a:t>
              </a:r>
              <a:endParaRPr b="0" lang="en-US" sz="5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5000" spc="-1" strike="noStrike">
                  <a:solidFill>
                    <a:srgbClr val="ffffff"/>
                  </a:solidFill>
                  <a:latin typeface="Wingdings"/>
                  <a:ea typeface="Wingdings"/>
                </a:rPr>
                <a:t></a:t>
              </a:r>
              <a:r>
                <a:rPr b="0" lang="uk-UA" sz="5000" spc="-1" strike="noStrike">
                  <a:solidFill>
                    <a:srgbClr val="ffffff"/>
                  </a:solidFill>
                  <a:latin typeface="Century Gothic"/>
                </a:rPr>
                <a:t> </a:t>
              </a:r>
              <a:r>
                <a:rPr b="0" lang="uk-UA" sz="5000" spc="-1" strike="noStrike">
                  <a:solidFill>
                    <a:srgbClr val="ffffff"/>
                  </a:solidFill>
                  <a:latin typeface="Wingdings"/>
                  <a:ea typeface="Wingdings"/>
                </a:rPr>
                <a:t></a:t>
              </a:r>
              <a:r>
                <a:rPr b="0" lang="uk-UA" sz="5000" spc="-1" strike="noStrike">
                  <a:solidFill>
                    <a:srgbClr val="ffffff"/>
                  </a:solidFill>
                  <a:latin typeface="Century Gothic"/>
                </a:rPr>
                <a:t> </a:t>
              </a:r>
              <a:r>
                <a:rPr b="0" lang="uk-UA" sz="5000" spc="-1" strike="noStrike">
                  <a:solidFill>
                    <a:srgbClr val="ffffff"/>
                  </a:solidFill>
                  <a:latin typeface="Wingdings"/>
                  <a:ea typeface="Wingdings"/>
                </a:rPr>
                <a:t></a:t>
              </a:r>
              <a:r>
                <a:rPr b="0" lang="uk-UA" sz="5000" spc="-1" strike="noStrike">
                  <a:solidFill>
                    <a:srgbClr val="ffffff"/>
                  </a:solidFill>
                  <a:latin typeface="Century Gothic"/>
                </a:rPr>
                <a:t> </a:t>
              </a:r>
              <a:endParaRPr b="0" lang="en-US" sz="5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Прямоугольник 1" descr=""/>
          <p:cNvPicPr/>
          <p:nvPr/>
        </p:nvPicPr>
        <p:blipFill>
          <a:blip r:embed="rId1"/>
          <a:stretch/>
        </p:blipFill>
        <p:spPr>
          <a:xfrm>
            <a:off x="706320" y="865080"/>
            <a:ext cx="6523200" cy="908280"/>
          </a:xfrm>
          <a:prstGeom prst="rect">
            <a:avLst/>
          </a:prstGeom>
          <a:ln w="0">
            <a:noFill/>
          </a:ln>
        </p:spPr>
      </p:pic>
      <p:sp>
        <p:nvSpPr>
          <p:cNvPr id="309" name="Прямоугольник с двумя вырезанными противолежащими углами 20"/>
          <p:cNvSpPr/>
          <p:nvPr/>
        </p:nvSpPr>
        <p:spPr>
          <a:xfrm>
            <a:off x="539640" y="2708280"/>
            <a:ext cx="3675240" cy="1584360"/>
          </a:xfrm>
          <a:prstGeom prst="pie">
            <a:avLst/>
          </a:prstGeom>
          <a:solidFill>
            <a:srgbClr val="558e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Короткострокове (строком до року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Штриховая стрелка вправо 21"/>
          <p:cNvSpPr/>
          <p:nvPr/>
        </p:nvSpPr>
        <p:spPr>
          <a:xfrm rot="6339000">
            <a:off x="2122920" y="1989720"/>
            <a:ext cx="785880" cy="495360"/>
          </a:xfrm>
          <a:custGeom>
            <a:avLst/>
            <a:gdLst>
              <a:gd name="textAreaLeft" fmla="*/ 77400 w 785880"/>
              <a:gd name="textAreaRight" fmla="*/ 662040 w 785880"/>
              <a:gd name="textAreaTop" fmla="*/ 123840 h 495360"/>
              <a:gd name="textAreaBottom" fmla="*/ 371520 h 495360"/>
            </a:gdLst>
            <a:ahLst/>
            <a:rect l="textAreaLeft" t="textAreaTop" r="textAreaRight" b="textAreaBottom"/>
            <a:pathLst>
              <a:path w="785812" h="495300">
                <a:moveTo>
                  <a:pt x="0" y="123825"/>
                </a:moveTo>
                <a:lnTo>
                  <a:pt x="15478" y="123825"/>
                </a:lnTo>
                <a:lnTo>
                  <a:pt x="15478" y="371475"/>
                </a:lnTo>
                <a:lnTo>
                  <a:pt x="0" y="371475"/>
                </a:lnTo>
                <a:lnTo>
                  <a:pt x="0" y="123825"/>
                </a:lnTo>
                <a:close/>
                <a:moveTo>
                  <a:pt x="30956" y="123825"/>
                </a:moveTo>
                <a:lnTo>
                  <a:pt x="61913" y="123825"/>
                </a:lnTo>
                <a:lnTo>
                  <a:pt x="61913" y="371475"/>
                </a:lnTo>
                <a:lnTo>
                  <a:pt x="30956" y="371475"/>
                </a:lnTo>
                <a:lnTo>
                  <a:pt x="30956" y="123825"/>
                </a:lnTo>
                <a:close/>
                <a:moveTo>
                  <a:pt x="77391" y="123825"/>
                </a:moveTo>
                <a:lnTo>
                  <a:pt x="538162" y="123825"/>
                </a:lnTo>
                <a:lnTo>
                  <a:pt x="538162" y="0"/>
                </a:lnTo>
                <a:lnTo>
                  <a:pt x="785812" y="247650"/>
                </a:lnTo>
                <a:lnTo>
                  <a:pt x="538162" y="495300"/>
                </a:lnTo>
                <a:lnTo>
                  <a:pt x="538162" y="371475"/>
                </a:lnTo>
                <a:lnTo>
                  <a:pt x="77391" y="371475"/>
                </a:lnTo>
                <a:lnTo>
                  <a:pt x="77391" y="123825"/>
                </a:lnTo>
                <a:close/>
              </a:path>
            </a:pathLst>
          </a:custGeom>
          <a:solidFill>
            <a:srgbClr val="1e1c11"/>
          </a:solidFill>
          <a:ln w="255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rot="10800000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Прямоугольник с двумя вырезанными противолежащими углами 20"/>
          <p:cNvSpPr/>
          <p:nvPr/>
        </p:nvSpPr>
        <p:spPr>
          <a:xfrm>
            <a:off x="4643280" y="2708280"/>
            <a:ext cx="3791160" cy="1584360"/>
          </a:xfrm>
          <a:prstGeom prst="pie">
            <a:avLst/>
          </a:prstGeom>
          <a:solidFill>
            <a:srgbClr val="558e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Перспективне (строком більше року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Штриховая стрелка вправо 21"/>
          <p:cNvSpPr/>
          <p:nvPr/>
        </p:nvSpPr>
        <p:spPr>
          <a:xfrm rot="3411600">
            <a:off x="5290560" y="1989720"/>
            <a:ext cx="785880" cy="495360"/>
          </a:xfrm>
          <a:custGeom>
            <a:avLst/>
            <a:gdLst>
              <a:gd name="textAreaLeft" fmla="*/ 77400 w 785880"/>
              <a:gd name="textAreaRight" fmla="*/ 662040 w 785880"/>
              <a:gd name="textAreaTop" fmla="*/ 123840 h 495360"/>
              <a:gd name="textAreaBottom" fmla="*/ 371520 h 495360"/>
            </a:gdLst>
            <a:ahLst/>
            <a:rect l="textAreaLeft" t="textAreaTop" r="textAreaRight" b="textAreaBottom"/>
            <a:pathLst>
              <a:path w="785812" h="495300">
                <a:moveTo>
                  <a:pt x="0" y="123825"/>
                </a:moveTo>
                <a:lnTo>
                  <a:pt x="15478" y="123825"/>
                </a:lnTo>
                <a:lnTo>
                  <a:pt x="15478" y="371475"/>
                </a:lnTo>
                <a:lnTo>
                  <a:pt x="0" y="371475"/>
                </a:lnTo>
                <a:lnTo>
                  <a:pt x="0" y="123825"/>
                </a:lnTo>
                <a:close/>
                <a:moveTo>
                  <a:pt x="30956" y="123825"/>
                </a:moveTo>
                <a:lnTo>
                  <a:pt x="61913" y="123825"/>
                </a:lnTo>
                <a:lnTo>
                  <a:pt x="61913" y="371475"/>
                </a:lnTo>
                <a:lnTo>
                  <a:pt x="30956" y="371475"/>
                </a:lnTo>
                <a:lnTo>
                  <a:pt x="30956" y="123825"/>
                </a:lnTo>
                <a:close/>
                <a:moveTo>
                  <a:pt x="77391" y="123825"/>
                </a:moveTo>
                <a:lnTo>
                  <a:pt x="538162" y="123825"/>
                </a:lnTo>
                <a:lnTo>
                  <a:pt x="538162" y="0"/>
                </a:lnTo>
                <a:lnTo>
                  <a:pt x="785812" y="247650"/>
                </a:lnTo>
                <a:lnTo>
                  <a:pt x="538162" y="495300"/>
                </a:lnTo>
                <a:lnTo>
                  <a:pt x="538162" y="371475"/>
                </a:lnTo>
                <a:lnTo>
                  <a:pt x="77391" y="371475"/>
                </a:lnTo>
                <a:lnTo>
                  <a:pt x="77391" y="123825"/>
                </a:lnTo>
                <a:close/>
              </a:path>
            </a:pathLst>
          </a:custGeom>
          <a:solidFill>
            <a:srgbClr val="1e1c11"/>
          </a:solidFill>
          <a:ln w="255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rot="10800000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AutoShape 2" descr=""/>
          <p:cNvPicPr/>
          <p:nvPr/>
        </p:nvPicPr>
        <p:blipFill>
          <a:blip r:embed="rId1"/>
          <a:stretch/>
        </p:blipFill>
        <p:spPr>
          <a:xfrm>
            <a:off x="-6480" y="115920"/>
            <a:ext cx="4413240" cy="1841400"/>
          </a:xfrm>
          <a:prstGeom prst="rect">
            <a:avLst/>
          </a:prstGeom>
          <a:ln w="0">
            <a:noFill/>
          </a:ln>
        </p:spPr>
      </p:pic>
      <p:grpSp>
        <p:nvGrpSpPr>
          <p:cNvPr id="314" name="Rectangle 3"/>
          <p:cNvGrpSpPr/>
          <p:nvPr/>
        </p:nvGrpSpPr>
        <p:grpSpPr>
          <a:xfrm>
            <a:off x="1542960" y="1487520"/>
            <a:ext cx="7667640" cy="3035160"/>
            <a:chOff x="1542960" y="1487520"/>
            <a:chExt cx="7667640" cy="3035160"/>
          </a:xfrm>
        </p:grpSpPr>
        <p:pic>
          <p:nvPicPr>
            <p:cNvPr id="315" name="Rectangle 3" descr=""/>
            <p:cNvPicPr/>
            <p:nvPr/>
          </p:nvPicPr>
          <p:blipFill>
            <a:blip r:embed="rId2"/>
            <a:stretch/>
          </p:blipFill>
          <p:spPr>
            <a:xfrm>
              <a:off x="1542960" y="1487520"/>
              <a:ext cx="7667640" cy="303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6" name=""/>
            <p:cNvSpPr/>
            <p:nvPr/>
          </p:nvSpPr>
          <p:spPr>
            <a:xfrm>
              <a:off x="1857240" y="1671480"/>
              <a:ext cx="7072560" cy="254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4000" spc="-1" strike="noStrike">
                  <a:solidFill>
                    <a:srgbClr val="ffffff"/>
                  </a:solidFill>
                  <a:latin typeface="Times New Roman"/>
                </a:rPr>
                <a:t>Процес планування майбутніх операцій підприємства та оформлення його результатів у вигляді системи бюджетів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heel spokes="8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AutoShape 2" descr=""/>
          <p:cNvPicPr/>
          <p:nvPr/>
        </p:nvPicPr>
        <p:blipFill>
          <a:blip r:embed="rId1"/>
          <a:stretch/>
        </p:blipFill>
        <p:spPr>
          <a:xfrm>
            <a:off x="-6480" y="115920"/>
            <a:ext cx="4413240" cy="1841400"/>
          </a:xfrm>
          <a:prstGeom prst="rect">
            <a:avLst/>
          </a:prstGeom>
          <a:ln w="0">
            <a:noFill/>
          </a:ln>
        </p:spPr>
      </p:pic>
      <p:grpSp>
        <p:nvGrpSpPr>
          <p:cNvPr id="318" name="Rectangle 3"/>
          <p:cNvGrpSpPr/>
          <p:nvPr/>
        </p:nvGrpSpPr>
        <p:grpSpPr>
          <a:xfrm>
            <a:off x="1579680" y="1700280"/>
            <a:ext cx="7594560" cy="4279680"/>
            <a:chOff x="1579680" y="1700280"/>
            <a:chExt cx="7594560" cy="4279680"/>
          </a:xfrm>
        </p:grpSpPr>
        <p:pic>
          <p:nvPicPr>
            <p:cNvPr id="319" name="Rectangle 3" descr=""/>
            <p:cNvPicPr/>
            <p:nvPr/>
          </p:nvPicPr>
          <p:blipFill>
            <a:blip r:embed="rId2"/>
            <a:stretch/>
          </p:blipFill>
          <p:spPr>
            <a:xfrm>
              <a:off x="1579680" y="1700280"/>
              <a:ext cx="7594560" cy="427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0" name=""/>
            <p:cNvSpPr/>
            <p:nvPr/>
          </p:nvSpPr>
          <p:spPr>
            <a:xfrm>
              <a:off x="1857240" y="1868400"/>
              <a:ext cx="7072560" cy="386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500" spc="-1" strike="noStrike">
                  <a:solidFill>
                    <a:srgbClr val="ffffff"/>
                  </a:solidFill>
                  <a:latin typeface="Times New Roman"/>
                </a:rPr>
                <a:t>Кількісний план у грошовому вимірі, заздалегідь підготовлений та прийнятий до певного періоду часу, який зазвичай відображає заплановані на цей період величини доходів і витрат, необхідні для досягнення запланованої мети</a:t>
              </a:r>
              <a:endParaRPr b="0" lang="en-US" sz="35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heel spokes="8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Прямоугольник 1" descr=""/>
          <p:cNvPicPr/>
          <p:nvPr/>
        </p:nvPicPr>
        <p:blipFill>
          <a:blip r:embed="rId1"/>
          <a:stretch/>
        </p:blipFill>
        <p:spPr>
          <a:xfrm>
            <a:off x="560520" y="0"/>
            <a:ext cx="6522840" cy="907920"/>
          </a:xfrm>
          <a:prstGeom prst="rect">
            <a:avLst/>
          </a:prstGeom>
          <a:ln w="0">
            <a:noFill/>
          </a:ln>
        </p:spPr>
      </p:pic>
      <p:sp>
        <p:nvSpPr>
          <p:cNvPr id="322" name="Прямоугольник с двумя вырезанными противолежащими углами 20"/>
          <p:cNvSpPr/>
          <p:nvPr/>
        </p:nvSpPr>
        <p:spPr>
          <a:xfrm>
            <a:off x="1357200" y="907920"/>
            <a:ext cx="7500960" cy="1152720"/>
          </a:xfrm>
          <a:prstGeom prst="pie">
            <a:avLst/>
          </a:prstGeom>
          <a:solidFill>
            <a:srgbClr val="558e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Мотивація працівників на виконання цілей підприємства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Штриховая стрелка вправо 21"/>
          <p:cNvSpPr/>
          <p:nvPr/>
        </p:nvSpPr>
        <p:spPr>
          <a:xfrm>
            <a:off x="357120" y="1204920"/>
            <a:ext cx="785880" cy="495360"/>
          </a:xfrm>
          <a:custGeom>
            <a:avLst/>
            <a:gdLst/>
            <a:ahLst/>
            <a:rect l="l" t="t" r="r" b="b"/>
            <a:pathLst>
              <a:path w="785812" h="495300">
                <a:moveTo>
                  <a:pt x="0" y="123825"/>
                </a:moveTo>
                <a:lnTo>
                  <a:pt x="15478" y="123825"/>
                </a:lnTo>
                <a:lnTo>
                  <a:pt x="15478" y="371475"/>
                </a:lnTo>
                <a:lnTo>
                  <a:pt x="0" y="371475"/>
                </a:lnTo>
                <a:lnTo>
                  <a:pt x="0" y="123825"/>
                </a:lnTo>
                <a:close/>
                <a:moveTo>
                  <a:pt x="30956" y="123825"/>
                </a:moveTo>
                <a:lnTo>
                  <a:pt x="61913" y="123825"/>
                </a:lnTo>
                <a:lnTo>
                  <a:pt x="61913" y="371475"/>
                </a:lnTo>
                <a:lnTo>
                  <a:pt x="30956" y="371475"/>
                </a:lnTo>
                <a:lnTo>
                  <a:pt x="30956" y="123825"/>
                </a:lnTo>
                <a:close/>
                <a:moveTo>
                  <a:pt x="77391" y="123825"/>
                </a:moveTo>
                <a:lnTo>
                  <a:pt x="538162" y="123825"/>
                </a:lnTo>
                <a:lnTo>
                  <a:pt x="538162" y="0"/>
                </a:lnTo>
                <a:lnTo>
                  <a:pt x="785812" y="247650"/>
                </a:lnTo>
                <a:lnTo>
                  <a:pt x="538162" y="495300"/>
                </a:lnTo>
                <a:lnTo>
                  <a:pt x="538162" y="371475"/>
                </a:lnTo>
                <a:lnTo>
                  <a:pt x="77391" y="371475"/>
                </a:lnTo>
                <a:lnTo>
                  <a:pt x="77391" y="123825"/>
                </a:lnTo>
                <a:close/>
              </a:path>
            </a:pathLst>
          </a:custGeom>
          <a:solidFill>
            <a:srgbClr val="7030a0"/>
          </a:solidFill>
          <a:ln w="25560">
            <a:solidFill>
              <a:srgbClr val="9848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Прямоугольник с двумя вырезанными противолежащими углами 22"/>
          <p:cNvSpPr/>
          <p:nvPr/>
        </p:nvSpPr>
        <p:spPr>
          <a:xfrm>
            <a:off x="1357200" y="2270160"/>
            <a:ext cx="7500960" cy="1374840"/>
          </a:xfrm>
          <a:prstGeom prst="pie">
            <a:avLst/>
          </a:prstGeom>
          <a:solidFill>
            <a:srgbClr val="604a7b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Ув'язка параметрів  розвитку підприємства з власними та залученими ресурсами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Штриховая стрелка вправо 23"/>
          <p:cNvSpPr/>
          <p:nvPr/>
        </p:nvSpPr>
        <p:spPr>
          <a:xfrm>
            <a:off x="357120" y="2717640"/>
            <a:ext cx="785880" cy="495360"/>
          </a:xfrm>
          <a:custGeom>
            <a:avLst/>
            <a:gdLst/>
            <a:ahLst/>
            <a:rect l="l" t="t" r="r" b="b"/>
            <a:pathLst>
              <a:path w="785812" h="495300">
                <a:moveTo>
                  <a:pt x="0" y="123825"/>
                </a:moveTo>
                <a:lnTo>
                  <a:pt x="15478" y="123825"/>
                </a:lnTo>
                <a:lnTo>
                  <a:pt x="15478" y="371475"/>
                </a:lnTo>
                <a:lnTo>
                  <a:pt x="0" y="371475"/>
                </a:lnTo>
                <a:lnTo>
                  <a:pt x="0" y="123825"/>
                </a:lnTo>
                <a:close/>
                <a:moveTo>
                  <a:pt x="30956" y="123825"/>
                </a:moveTo>
                <a:lnTo>
                  <a:pt x="61913" y="123825"/>
                </a:lnTo>
                <a:lnTo>
                  <a:pt x="61913" y="371475"/>
                </a:lnTo>
                <a:lnTo>
                  <a:pt x="30956" y="371475"/>
                </a:lnTo>
                <a:lnTo>
                  <a:pt x="30956" y="123825"/>
                </a:lnTo>
                <a:close/>
                <a:moveTo>
                  <a:pt x="77391" y="123825"/>
                </a:moveTo>
                <a:lnTo>
                  <a:pt x="538162" y="123825"/>
                </a:lnTo>
                <a:lnTo>
                  <a:pt x="538162" y="0"/>
                </a:lnTo>
                <a:lnTo>
                  <a:pt x="785812" y="247650"/>
                </a:lnTo>
                <a:lnTo>
                  <a:pt x="538162" y="495300"/>
                </a:lnTo>
                <a:lnTo>
                  <a:pt x="538162" y="371475"/>
                </a:lnTo>
                <a:lnTo>
                  <a:pt x="77391" y="371475"/>
                </a:lnTo>
                <a:lnTo>
                  <a:pt x="77391" y="123825"/>
                </a:lnTo>
                <a:close/>
              </a:path>
            </a:pathLst>
          </a:custGeom>
          <a:solidFill>
            <a:srgbClr val="7030a0"/>
          </a:solidFill>
          <a:ln w="25560">
            <a:solidFill>
              <a:srgbClr val="9848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Прямоугольник с двумя вырезанными противолежащими углами 24"/>
          <p:cNvSpPr/>
          <p:nvPr/>
        </p:nvSpPr>
        <p:spPr>
          <a:xfrm>
            <a:off x="1357200" y="3774960"/>
            <a:ext cx="7500960" cy="1309680"/>
          </a:xfrm>
          <a:prstGeom prst="pie">
            <a:avLst/>
          </a:prstGeom>
          <a:solidFill>
            <a:srgbClr val="558e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Гарантування виконання фінансових зобов'язань перед внутрішніми та зовнішніми суб'єктами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Штриховая стрелка вправо 25"/>
          <p:cNvSpPr/>
          <p:nvPr/>
        </p:nvSpPr>
        <p:spPr>
          <a:xfrm>
            <a:off x="357120" y="4149720"/>
            <a:ext cx="785880" cy="495360"/>
          </a:xfrm>
          <a:custGeom>
            <a:avLst/>
            <a:gdLst/>
            <a:ahLst/>
            <a:rect l="l" t="t" r="r" b="b"/>
            <a:pathLst>
              <a:path w="785812" h="495300">
                <a:moveTo>
                  <a:pt x="0" y="123825"/>
                </a:moveTo>
                <a:lnTo>
                  <a:pt x="15478" y="123825"/>
                </a:lnTo>
                <a:lnTo>
                  <a:pt x="15478" y="371475"/>
                </a:lnTo>
                <a:lnTo>
                  <a:pt x="0" y="371475"/>
                </a:lnTo>
                <a:lnTo>
                  <a:pt x="0" y="123825"/>
                </a:lnTo>
                <a:close/>
                <a:moveTo>
                  <a:pt x="30956" y="123825"/>
                </a:moveTo>
                <a:lnTo>
                  <a:pt x="61913" y="123825"/>
                </a:lnTo>
                <a:lnTo>
                  <a:pt x="61913" y="371475"/>
                </a:lnTo>
                <a:lnTo>
                  <a:pt x="30956" y="371475"/>
                </a:lnTo>
                <a:lnTo>
                  <a:pt x="30956" y="123825"/>
                </a:lnTo>
                <a:close/>
                <a:moveTo>
                  <a:pt x="77391" y="123825"/>
                </a:moveTo>
                <a:lnTo>
                  <a:pt x="538162" y="123825"/>
                </a:lnTo>
                <a:lnTo>
                  <a:pt x="538162" y="0"/>
                </a:lnTo>
                <a:lnTo>
                  <a:pt x="785812" y="247650"/>
                </a:lnTo>
                <a:lnTo>
                  <a:pt x="538162" y="495300"/>
                </a:lnTo>
                <a:lnTo>
                  <a:pt x="538162" y="371475"/>
                </a:lnTo>
                <a:lnTo>
                  <a:pt x="77391" y="371475"/>
                </a:lnTo>
                <a:lnTo>
                  <a:pt x="77391" y="123825"/>
                </a:lnTo>
                <a:close/>
              </a:path>
            </a:pathLst>
          </a:custGeom>
          <a:solidFill>
            <a:srgbClr val="7030a0"/>
          </a:solidFill>
          <a:ln w="25560">
            <a:solidFill>
              <a:srgbClr val="9848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Прямоугольник с двумя вырезанными противолежащими углами 26"/>
          <p:cNvSpPr/>
          <p:nvPr/>
        </p:nvSpPr>
        <p:spPr>
          <a:xfrm>
            <a:off x="1357200" y="5300640"/>
            <a:ext cx="7500960" cy="1224000"/>
          </a:xfrm>
          <a:prstGeom prst="pie">
            <a:avLst/>
          </a:prstGeom>
          <a:solidFill>
            <a:srgbClr val="604a7b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Забезпечення керівництва своєчасної та повною інформацією про фінансовий стан підприємства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Штриховая стрелка вправо 27"/>
          <p:cNvSpPr/>
          <p:nvPr/>
        </p:nvSpPr>
        <p:spPr>
          <a:xfrm>
            <a:off x="357120" y="5661000"/>
            <a:ext cx="785880" cy="495360"/>
          </a:xfrm>
          <a:custGeom>
            <a:avLst/>
            <a:gdLst/>
            <a:ahLst/>
            <a:rect l="l" t="t" r="r" b="b"/>
            <a:pathLst>
              <a:path w="785812" h="495300">
                <a:moveTo>
                  <a:pt x="0" y="123825"/>
                </a:moveTo>
                <a:lnTo>
                  <a:pt x="15478" y="123825"/>
                </a:lnTo>
                <a:lnTo>
                  <a:pt x="15478" y="371475"/>
                </a:lnTo>
                <a:lnTo>
                  <a:pt x="0" y="371475"/>
                </a:lnTo>
                <a:lnTo>
                  <a:pt x="0" y="123825"/>
                </a:lnTo>
                <a:close/>
                <a:moveTo>
                  <a:pt x="30956" y="123825"/>
                </a:moveTo>
                <a:lnTo>
                  <a:pt x="61913" y="123825"/>
                </a:lnTo>
                <a:lnTo>
                  <a:pt x="61913" y="371475"/>
                </a:lnTo>
                <a:lnTo>
                  <a:pt x="30956" y="371475"/>
                </a:lnTo>
                <a:lnTo>
                  <a:pt x="30956" y="123825"/>
                </a:lnTo>
                <a:close/>
                <a:moveTo>
                  <a:pt x="77391" y="123825"/>
                </a:moveTo>
                <a:lnTo>
                  <a:pt x="538162" y="123825"/>
                </a:lnTo>
                <a:lnTo>
                  <a:pt x="538162" y="0"/>
                </a:lnTo>
                <a:lnTo>
                  <a:pt x="785812" y="247650"/>
                </a:lnTo>
                <a:lnTo>
                  <a:pt x="538162" y="495300"/>
                </a:lnTo>
                <a:lnTo>
                  <a:pt x="538162" y="371475"/>
                </a:lnTo>
                <a:lnTo>
                  <a:pt x="77391" y="371475"/>
                </a:lnTo>
                <a:lnTo>
                  <a:pt x="77391" y="123825"/>
                </a:lnTo>
                <a:close/>
              </a:path>
            </a:pathLst>
          </a:custGeom>
          <a:solidFill>
            <a:srgbClr val="7030a0"/>
          </a:solidFill>
          <a:ln w="25560">
            <a:solidFill>
              <a:srgbClr val="9848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Rectangle 4" descr=""/>
          <p:cNvPicPr/>
          <p:nvPr/>
        </p:nvPicPr>
        <p:blipFill>
          <a:blip r:embed="rId1"/>
          <a:stretch/>
        </p:blipFill>
        <p:spPr>
          <a:xfrm>
            <a:off x="390600" y="189000"/>
            <a:ext cx="8186760" cy="1079280"/>
          </a:xfrm>
          <a:prstGeom prst="rect">
            <a:avLst/>
          </a:prstGeom>
          <a:ln w="0">
            <a:noFill/>
          </a:ln>
        </p:spPr>
      </p:pic>
      <p:sp>
        <p:nvSpPr>
          <p:cNvPr id="331" name=""/>
          <p:cNvSpPr txBox="1"/>
          <p:nvPr/>
        </p:nvSpPr>
        <p:spPr>
          <a:xfrm>
            <a:off x="394920" y="1341000"/>
            <a:ext cx="820908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380520" indent="-325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000" spc="-1" strike="noStrike" u="sng">
                <a:solidFill>
                  <a:srgbClr val="ffffff"/>
                </a:solidFill>
                <a:uFillTx/>
                <a:latin typeface="Verdana"/>
              </a:rPr>
              <a:t>у сфері виробництва</a:t>
            </a:r>
            <a:r>
              <a:rPr b="1" lang="uk-UA" sz="3000" spc="-1" strike="noStrike">
                <a:solidFill>
                  <a:srgbClr val="ffffff"/>
                </a:solidFill>
                <a:latin typeface="Verdana"/>
              </a:rPr>
              <a:t>: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380520" indent="-325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80520" indent="-3250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Verdana"/>
              </a:rPr>
              <a:t>оптимізація витрат і зниження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80520" indent="-325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Verdana"/>
              </a:rPr>
              <a:t>собівартості;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80520" indent="-3250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Verdana"/>
              </a:rPr>
              <a:t>підвищення ефективності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80520" indent="-325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Verdana"/>
              </a:rPr>
              <a:t>управління витратами;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80520" indent="-3250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Verdana"/>
              </a:rPr>
              <a:t>узгодження цілей і завдань усіх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80520" indent="-325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Verdana"/>
              </a:rPr>
              <a:t>виробничих підрозділів зі стратегією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80520" indent="-325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Verdana"/>
              </a:rPr>
              <a:t>всієї компанії;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80520" indent="-3250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Verdana"/>
              </a:rPr>
              <a:t>мотивація керівників структурних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80520" indent="-3250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Verdana"/>
              </a:rPr>
              <a:t>підрозділів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32" name="Picture 7" descr="60992"/>
          <p:cNvPicPr/>
          <p:nvPr/>
        </p:nvPicPr>
        <p:blipFill>
          <a:blip r:embed="rId2"/>
          <a:stretch/>
        </p:blipFill>
        <p:spPr>
          <a:xfrm>
            <a:off x="5724360" y="1197000"/>
            <a:ext cx="3022920" cy="237636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5" descr="i (7)"/>
          <p:cNvPicPr/>
          <p:nvPr/>
        </p:nvPicPr>
        <p:blipFill>
          <a:blip r:embed="rId3"/>
          <a:stretch/>
        </p:blipFill>
        <p:spPr>
          <a:xfrm>
            <a:off x="6516720" y="3716280"/>
            <a:ext cx="2143080" cy="1728720"/>
          </a:xfrm>
          <a:prstGeom prst="rect">
            <a:avLst/>
          </a:prstGeom>
          <a:ln w="57240">
            <a:solidFill>
              <a:srgbClr val="dddddd"/>
            </a:solidFill>
            <a:miter/>
          </a:ln>
        </p:spPr>
      </p:pic>
    </p:spTree>
  </p:cSld>
  <p:transition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Rectangle 2" descr=""/>
          <p:cNvPicPr/>
          <p:nvPr/>
        </p:nvPicPr>
        <p:blipFill>
          <a:blip r:embed="rId1"/>
          <a:stretch/>
        </p:blipFill>
        <p:spPr>
          <a:xfrm>
            <a:off x="390600" y="189000"/>
            <a:ext cx="8186760" cy="1079280"/>
          </a:xfrm>
          <a:prstGeom prst="rect">
            <a:avLst/>
          </a:prstGeom>
          <a:ln w="0">
            <a:noFill/>
          </a:ln>
        </p:spPr>
      </p:pic>
      <p:sp>
        <p:nvSpPr>
          <p:cNvPr id="335" name=""/>
          <p:cNvSpPr txBox="1"/>
          <p:nvPr/>
        </p:nvSpPr>
        <p:spPr>
          <a:xfrm>
            <a:off x="394920" y="1341000"/>
            <a:ext cx="820908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16160" indent="-355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000" spc="-1" strike="noStrike" u="sng">
                <a:solidFill>
                  <a:srgbClr val="ffffff"/>
                </a:solidFill>
                <a:uFillTx/>
                <a:latin typeface="Verdana"/>
              </a:rPr>
              <a:t>у сфері фінансового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16160" indent="-355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000" spc="-1" strike="noStrike" u="sng">
                <a:solidFill>
                  <a:srgbClr val="ffffff"/>
                </a:solidFill>
                <a:uFillTx/>
                <a:latin typeface="Verdana"/>
              </a:rPr>
              <a:t>управління:</a:t>
            </a:r>
            <a:r>
              <a:rPr b="0" lang="uk-UA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16160" indent="-3556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Verdana"/>
              </a:rPr>
              <a:t>розстановка пріоритетів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16160" indent="-355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Verdana"/>
              </a:rPr>
              <a:t>використання фінансових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16160" indent="-355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Verdana"/>
              </a:rPr>
              <a:t>ресурсів;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16160" indent="-3556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Verdana"/>
              </a:rPr>
              <a:t>підвищення ефективності управління ліквідністю, фінансовою стійкістю;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16160" indent="-3556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Verdana"/>
              </a:rPr>
              <a:t>перспективний фінансовий аналіз;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16160" indent="-3556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Verdana"/>
              </a:rPr>
              <a:t>прогнозування і управління майбутнім фінансовим станом компанії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uk-UA" sz="2400" spc="-1" strike="noStrike">
                <a:solidFill>
                  <a:srgbClr val="ffffff"/>
                </a:solidFill>
                <a:latin typeface="Verdana"/>
              </a:rPr>
              <a:t>у сфері виробництва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16160" indent="-3556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36" name="Picture 4" descr="60992"/>
          <p:cNvPicPr/>
          <p:nvPr/>
        </p:nvPicPr>
        <p:blipFill>
          <a:blip r:embed="rId2"/>
          <a:stretch/>
        </p:blipFill>
        <p:spPr>
          <a:xfrm>
            <a:off x="5724360" y="1197000"/>
            <a:ext cx="3022920" cy="237636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5" descr="i (8)"/>
          <p:cNvPicPr/>
          <p:nvPr/>
        </p:nvPicPr>
        <p:blipFill>
          <a:blip r:embed="rId3">
            <a:grayscl/>
          </a:blip>
          <a:stretch/>
        </p:blipFill>
        <p:spPr>
          <a:xfrm>
            <a:off x="7164360" y="3645000"/>
            <a:ext cx="1504800" cy="2089080"/>
          </a:xfrm>
          <a:prstGeom prst="rect">
            <a:avLst/>
          </a:prstGeom>
          <a:ln w="57240">
            <a:solidFill>
              <a:srgbClr val="dddddd"/>
            </a:solidFill>
            <a:miter/>
          </a:ln>
        </p:spPr>
      </p:pic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4T06:38:36Z</dcterms:created>
  <dc:creator>Таня</dc:creator>
  <dc:description/>
  <dc:language>en-US</dc:language>
  <cp:lastModifiedBy>Богдан</cp:lastModifiedBy>
  <dcterms:modified xsi:type="dcterms:W3CDTF">2021-11-21T08:40:07Z</dcterms:modified>
  <cp:revision>158</cp:revision>
  <dc:subject/>
  <dc:title>Слайд 1</dc:title>
</cp:coreProperties>
</file>