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2A4-75AF-46C4-A73F-7057311D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B55-DB35-47A4-A6BC-24C019F1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BCB-86AD-4A03-A944-8E3E306E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45F-A93A-45C1-85D6-8777C108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0DA4-DF6A-4CA0-BDC9-8A094A59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719B-8417-4DE5-A8C3-236A2AFD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8E7C-4879-46B1-9D00-8470EAD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166-0767-48AD-9F19-39136A2A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75B9-A481-4637-8221-839EA0C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4D9E-2950-4EFE-A526-801CAF48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5352-4AF8-40CC-AF85-4DF43F32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94F-9955-44E3-A8B5-1487060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92E3-154C-4C4C-945F-81E80BFE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8F35-6754-41F5-A57D-11E7D69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B635-114C-45A0-9DEE-AE2817E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CBEB-445B-42E6-9138-4568DCCE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FBB5-7DEA-4EC2-9264-0098EEFF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5680-6D88-48F2-B24A-10247961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1D398-3568-4CB3-AE88-42E2B838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944D-9EE3-4636-B405-27D86697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9BE1-AEA3-4AC3-91E0-8D593519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A2AE-9A8E-4DA0-955F-D6C3BEAC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20C-5DA3-4F42-8B6B-235D4FA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43F7-0C3F-44C5-BD3F-4CEEAF3C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4190-4D00-4C62-A85D-DF06F90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87D9-702F-4FEF-BF73-3855A11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913C-5531-490D-8DE4-10513B4C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E0D4-DC87-47DF-AB17-4B09456A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94611-F75E-45A4-A64A-B8F1DDCA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8B05-DF97-4DA7-8337-014E39E4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72D7-52BD-42DC-8958-340CED82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DEF9-2728-42C1-9282-2FFD2C3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073F6-D67B-4222-B70C-3D4233CC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659-40BA-497E-9B5A-894B0243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963D-FA10-4C08-BEBF-F0551CCC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2491-5B51-45C8-A9D8-07D4A054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0ECB-4F44-461E-BE17-08869499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A9F8-1560-44EC-BA1F-C6F4C24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3484-FBC8-4EB9-89B5-3D2DFCC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59A2-1BF0-4C46-A23D-DC00899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C560-DE64-4C33-8AFD-575B02D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D133-9CF2-4C59-8683-564752E5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D8A40-E849-4823-B0C1-9F6EB425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0E4B-DE6F-43FC-94CF-9B02DF5F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DDE-74E6-4111-B817-3F13C56D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C468-D590-4E3D-A750-E548860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89253-10D6-4769-82C5-FCC23C13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E557-0957-4F52-82CB-263A0E3C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F2CB-407A-40EA-9299-E3D2BDE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BD8B-494A-43F0-858B-C85050C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6B7B-79A7-4159-85D1-D63C644B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06EA-6C7C-486D-BCDA-0C5B792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AAC2-382A-4022-8126-7628CE8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6F89-1318-4BBB-9EAF-0DF4631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D28E-58B0-48A3-A363-CC65CAD5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7E3-9A94-4702-92F8-8D1477D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40DF-A1CC-48F8-9B5C-CB4A233A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D453C-195E-4698-928F-6E626EFD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52BB-6C70-4990-95D5-07767B08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03F84-FAF2-47F3-8CB7-6ACBA7B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68EA-052D-4669-A21A-C8997A2F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7ED2-7ACD-4AF6-81D4-B0879D9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3751-BC08-49F3-9C41-3789568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3E3A-2125-488B-9D40-7EABBBD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4EDD-AADC-494B-9A38-9D6264B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02C80-5BBC-4427-B7EB-7344196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E1A-4EA8-40F5-820A-C2D82931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713F-D586-4EFF-A715-52E84F1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D888-3E3C-42C2-9247-29D2B128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309C8-776B-4644-9AA9-94954EF0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951C4-5F95-4C63-9F66-D2BB7F99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F897A-A9A4-4A56-8971-D14AE45D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6736-CB96-407E-AEB3-DD2A9365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5D08C-AB4F-4E47-BEBF-847D0509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8632-B23C-4939-A471-4B9F84B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B706A-B8A6-4C90-82B5-37FD9DC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EDD8-7A7F-4BB7-82D1-002DF52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ACA-6CB2-499F-B6CD-F2AB33C6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5AAC-66ED-4FB2-ADED-FF4839F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DDB8-9486-4BDA-AF16-C7843C7A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C6C37-9AFC-4184-A192-0F73376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E0B4-2045-480B-BC71-5934CE5E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F84F-A88D-410E-9FFE-6CC5A034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AC9-8375-4593-B859-2BFC768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E660-4E2F-4F0A-90A5-05B84F22C85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A31-D978-44CA-9101-A5135E2CF99F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F5F8-DAB2-492A-BCAC-A3A34C08D29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3CFE-CE6C-4A67-96C2-74C06358687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B49-D951-45D9-8DD6-31D707EC502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0A4-95D2-4CD1-B586-A5CCEAF30FD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7782-2A33-44DC-B680-5F7FFB8B48C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8502480" cy="19508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2951280"/>
            <a:ext cx="8448480" cy="2859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приєм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ди бізнес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рошові пото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9032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робництво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збут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Штриховая стрелка вправо 27"/>
          <p:cNvSpPr/>
          <p:nvPr/>
        </p:nvSpPr>
        <p:spPr>
          <a:xfrm>
            <a:off x="2700360" y="4373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с двумя вырезанными противолежащими углами 10"/>
          <p:cNvSpPr/>
          <p:nvPr/>
        </p:nvSpPr>
        <p:spPr>
          <a:xfrm>
            <a:off x="4165560" y="516420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інш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11"/>
          <p:cNvSpPr/>
          <p:nvPr/>
        </p:nvSpPr>
        <p:spPr>
          <a:xfrm>
            <a:off x="3335400" y="52419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а комісі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с двумя вырезанными противолежащими углами 22"/>
          <p:cNvSpPr/>
          <p:nvPr/>
        </p:nvSpPr>
        <p:spPr>
          <a:xfrm>
            <a:off x="2220840" y="2643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Центри відповідальн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триховая стрелка вправо 23"/>
          <p:cNvSpPr/>
          <p:nvPr/>
        </p:nvSpPr>
        <p:spPr>
          <a:xfrm>
            <a:off x="1220760" y="271476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с двумя вырезанными противолежащими углами 24"/>
          <p:cNvSpPr/>
          <p:nvPr/>
        </p:nvSpPr>
        <p:spPr>
          <a:xfrm>
            <a:off x="2941560" y="365112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ункціональні служби та відді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Штриховая стрелка вправо 25"/>
          <p:cNvSpPr/>
          <p:nvPr/>
        </p:nvSpPr>
        <p:spPr>
          <a:xfrm>
            <a:off x="1941480" y="3722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5230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Єдність бюджетної сис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60231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межування доходів і витрат між рівнями бюджетної систе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87044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амостійність бюджет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51195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балансованість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ласніст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Штриховая стрелка вправо 12"/>
          <p:cNvSpPr/>
          <p:nvPr/>
        </p:nvSpPr>
        <p:spPr>
          <a:xfrm>
            <a:off x="3930480" y="5958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с двумя вырезанными противолежащими углами 13"/>
          <p:cNvSpPr/>
          <p:nvPr/>
        </p:nvSpPr>
        <p:spPr>
          <a:xfrm>
            <a:off x="4932360" y="5883120"/>
            <a:ext cx="410364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стовірні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Інформацій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евентив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й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ціноч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нтроль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365040"/>
            <a:ext cx="6522840" cy="127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гори вни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с двумя вырезанными противолежащими углами 5"/>
          <p:cNvSpPr/>
          <p:nvPr/>
        </p:nvSpPr>
        <p:spPr>
          <a:xfrm>
            <a:off x="2293920" y="2859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низу вгор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Штриховая стрелка вправо 6"/>
          <p:cNvSpPr/>
          <p:nvPr/>
        </p:nvSpPr>
        <p:spPr>
          <a:xfrm>
            <a:off x="1122480" y="292428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Штриховая стрелка вправо 7"/>
          <p:cNvSpPr/>
          <p:nvPr/>
        </p:nvSpPr>
        <p:spPr>
          <a:xfrm>
            <a:off x="1698480" y="4302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с двумя вырезанными противолежащими углами 8"/>
          <p:cNvSpPr/>
          <p:nvPr/>
        </p:nvSpPr>
        <p:spPr>
          <a:xfrm>
            <a:off x="2654280" y="415620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мбінова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95120"/>
            <a:ext cx="8186760" cy="8161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с двумя вырезанными противолежащими углами 20"/>
          <p:cNvSpPr/>
          <p:nvPr/>
        </p:nvSpPr>
        <p:spPr>
          <a:xfrm>
            <a:off x="1258920" y="981000"/>
            <a:ext cx="7885080" cy="12891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ведення основних напрямів політики підприємства до осіб, відповідальних за підготовку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Штриховая стрелка вправо 21"/>
          <p:cNvSpPr/>
          <p:nvPr/>
        </p:nvSpPr>
        <p:spPr>
          <a:xfrm>
            <a:off x="357120" y="134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с двумя вырезанными противолежащими углами 20"/>
          <p:cNvSpPr/>
          <p:nvPr/>
        </p:nvSpPr>
        <p:spPr>
          <a:xfrm>
            <a:off x="1395360" y="244008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обмежувальних чинник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Штриховая стрелка вправо 21"/>
          <p:cNvSpPr/>
          <p:nvPr/>
        </p:nvSpPr>
        <p:spPr>
          <a:xfrm>
            <a:off x="395280" y="251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с двумя вырезанными противолежащими углами 20"/>
          <p:cNvSpPr/>
          <p:nvPr/>
        </p:nvSpPr>
        <p:spPr>
          <a:xfrm>
            <a:off x="1395360" y="337500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переднє склада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Штриховая стрелка вправо 21"/>
          <p:cNvSpPr/>
          <p:nvPr/>
        </p:nvSpPr>
        <p:spPr>
          <a:xfrm>
            <a:off x="395280" y="34466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с двумя вырезанными противолежащими углами 20"/>
          <p:cNvSpPr/>
          <p:nvPr/>
        </p:nvSpPr>
        <p:spPr>
          <a:xfrm>
            <a:off x="1395360" y="422100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бговорення бюджетів із вищим керівництв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Штриховая стрелка вправо 21"/>
          <p:cNvSpPr/>
          <p:nvPr/>
        </p:nvSpPr>
        <p:spPr>
          <a:xfrm>
            <a:off x="395280" y="4292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с двумя вырезанными противолежащими углами 20"/>
          <p:cNvSpPr/>
          <p:nvPr/>
        </p:nvSpPr>
        <p:spPr>
          <a:xfrm>
            <a:off x="1476360" y="506736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я і аналіз обговорених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Штриховая стрелка вправо 21"/>
          <p:cNvSpPr/>
          <p:nvPr/>
        </p:nvSpPr>
        <p:spPr>
          <a:xfrm>
            <a:off x="476280" y="513864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с двумя вырезанными противолежащими углами 20"/>
          <p:cNvSpPr/>
          <p:nvPr/>
        </p:nvSpPr>
        <p:spPr>
          <a:xfrm>
            <a:off x="1468440" y="593712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твердже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Штриховая стрелка вправо 21"/>
          <p:cNvSpPr/>
          <p:nvPr/>
        </p:nvSpPr>
        <p:spPr>
          <a:xfrm>
            <a:off x="468360" y="6008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з нул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через прирощ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176040"/>
            <a:ext cx="6522840" cy="9036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с двумя вырезанными противолежащими углами 20"/>
          <p:cNvSpPr/>
          <p:nvPr/>
        </p:nvSpPr>
        <p:spPr>
          <a:xfrm>
            <a:off x="1357200" y="1279440"/>
            <a:ext cx="56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 ступенем ієрарх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Штриховая стрелка вправо 21"/>
          <p:cNvSpPr/>
          <p:nvPr/>
        </p:nvSpPr>
        <p:spPr>
          <a:xfrm>
            <a:off x="357120" y="13510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с двумя вырезанными противолежащими углами 20"/>
          <p:cNvSpPr/>
          <p:nvPr/>
        </p:nvSpPr>
        <p:spPr>
          <a:xfrm>
            <a:off x="2268360" y="2306520"/>
            <a:ext cx="6480360" cy="1656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енеральний (зведений) бюдже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ансові бюдж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ераційні бюджет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с двумя вырезанными противолежащими углами 5"/>
          <p:cNvSpPr/>
          <p:nvPr/>
        </p:nvSpPr>
        <p:spPr>
          <a:xfrm>
            <a:off x="1509840" y="4005360"/>
            <a:ext cx="572616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лежно від цілей порівня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Штриховая стрелка вправо 6"/>
          <p:cNvSpPr/>
          <p:nvPr/>
        </p:nvSpPr>
        <p:spPr>
          <a:xfrm>
            <a:off x="509760" y="407664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с двумя вырезанными противолежащими углами 20"/>
          <p:cNvSpPr/>
          <p:nvPr/>
        </p:nvSpPr>
        <p:spPr>
          <a:xfrm>
            <a:off x="2421000" y="4862520"/>
            <a:ext cx="6480000" cy="16574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татичн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нучк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0" y="17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БЮДЖЕТІВ ПІДПРИЄМ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131760" y="825480"/>
            <a:ext cx="8910720" cy="5791320"/>
            <a:chOff x="131760" y="825480"/>
            <a:chExt cx="8910720" cy="5791320"/>
          </a:xfrm>
        </p:grpSpPr>
        <p:sp>
          <p:nvSpPr>
            <p:cNvPr id="414" name="Rectangle 4"/>
            <p:cNvSpPr/>
            <p:nvPr/>
          </p:nvSpPr>
          <p:spPr>
            <a:xfrm>
              <a:off x="3916440" y="5943600"/>
              <a:ext cx="249084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ний балан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792440" y="5005440"/>
              <a:ext cx="202068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доход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та вит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6477120" y="4869000"/>
              <a:ext cx="2344680" cy="93636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рух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грошов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кошті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7"/>
            <p:cNvSpPr/>
            <p:nvPr/>
          </p:nvSpPr>
          <p:spPr>
            <a:xfrm>
              <a:off x="4286160" y="4869000"/>
              <a:ext cx="1744920" cy="80964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апітальни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 </a:t>
              </a: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вестиці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8"/>
            <p:cNvSpPr/>
            <p:nvPr/>
          </p:nvSpPr>
          <p:spPr>
            <a:xfrm>
              <a:off x="4465800" y="3863880"/>
              <a:ext cx="22636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грошов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2052720" y="825480"/>
              <a:ext cx="2154240" cy="4096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реалізаці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6862680" y="3863880"/>
              <a:ext cx="217980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надходже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грошових 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62080" y="1484280"/>
              <a:ext cx="196200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управлінськ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2292480" y="1677960"/>
              <a:ext cx="189072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робнитцв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251240" y="1484280"/>
              <a:ext cx="196236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мекрційн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6283440" y="1677960"/>
              <a:ext cx="187776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Ц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487440" y="2747880"/>
              <a:ext cx="188892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запас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6"/>
            <p:cNvSpPr/>
            <p:nvPr/>
          </p:nvSpPr>
          <p:spPr>
            <a:xfrm>
              <a:off x="257796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оплати праці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467028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4208400" y="1027080"/>
              <a:ext cx="4407120" cy="2822760"/>
            </a:xfrm>
            <a:custGeom>
              <a:avLst/>
              <a:gdLst>
                <a:gd name="textAreaLeft" fmla="*/ 0 w 4407120"/>
                <a:gd name="textAreaRight" fmla="*/ 4407120 w 4407120"/>
                <a:gd name="textAreaTop" fmla="*/ 0 h 2822760"/>
                <a:gd name="textAreaBottom" fmla="*/ 2823120 h 2822760"/>
              </a:gdLst>
              <a:ahLst/>
              <a:rect l="textAreaLeft" t="textAreaTop" r="textAreaRight" b="textAreaBottom"/>
              <a:pathLst>
                <a:path w="2782" h="1781">
                  <a:moveTo>
                    <a:pt x="0" y="0"/>
                  </a:moveTo>
                  <a:lnTo>
                    <a:pt x="2782" y="0"/>
                  </a:lnTo>
                  <a:lnTo>
                    <a:pt x="2782" y="1781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1760" y="1046160"/>
              <a:ext cx="1913040" cy="428292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4282920"/>
                <a:gd name="textAreaBottom" fmla="*/ 4283280 h 4282920"/>
              </a:gdLst>
              <a:ahLst/>
              <a:rect l="textAreaLeft" t="textAreaTop" r="textAreaRight" b="textAreaBottom"/>
              <a:pathLst>
                <a:path w="1205" h="2698">
                  <a:moveTo>
                    <a:pt x="1205" y="0"/>
                  </a:moveTo>
                  <a:lnTo>
                    <a:pt x="0" y="0"/>
                  </a:lnTo>
                  <a:lnTo>
                    <a:pt x="0" y="2698"/>
                  </a:lnTo>
                  <a:lnTo>
                    <a:pt x="1029" y="2697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2762280" y="5688000"/>
              <a:ext cx="1163520" cy="59364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 flipH="1">
              <a:off x="6429240" y="5692680"/>
              <a:ext cx="1236960" cy="594000"/>
            </a:xfrm>
            <a:custGeom>
              <a:avLst/>
              <a:gdLst>
                <a:gd name="textAreaLeft" fmla="*/ 360 w 1236960"/>
                <a:gd name="textAreaRight" fmla="*/ 1237680 w 12369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2"/>
            <p:cNvSpPr/>
            <p:nvPr/>
          </p:nvSpPr>
          <p:spPr>
            <a:xfrm flipH="1">
              <a:off x="3817440" y="5324400"/>
              <a:ext cx="468360" cy="46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 flipH="1">
              <a:off x="6041520" y="5329080"/>
              <a:ext cx="42084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1224000" y="2178000"/>
              <a:ext cx="5994360" cy="216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3236760" y="218124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232240" y="219060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3129120" y="1238400"/>
              <a:ext cx="0" cy="4284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>
              <a:off x="143208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>
              <a:off x="352260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5614920" y="2397240"/>
              <a:ext cx="0" cy="3394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1401840" y="3263760"/>
              <a:ext cx="4241880" cy="196920"/>
            </a:xfrm>
            <a:custGeom>
              <a:avLst/>
              <a:gdLst>
                <a:gd name="textAreaLeft" fmla="*/ 0 w 4241880"/>
                <a:gd name="textAreaRight" fmla="*/ 4242240 w 4241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3522600" y="324792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3"/>
            <p:cNvSpPr/>
            <p:nvPr/>
          </p:nvSpPr>
          <p:spPr>
            <a:xfrm>
              <a:off x="3522600" y="3468600"/>
              <a:ext cx="0" cy="1519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34"/>
            <p:cNvSpPr/>
            <p:nvPr/>
          </p:nvSpPr>
          <p:spPr>
            <a:xfrm flipH="1">
              <a:off x="3532320" y="4110120"/>
              <a:ext cx="91440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5584680" y="4378320"/>
              <a:ext cx="2376720" cy="19692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>
              <a:off x="7659720" y="4578480"/>
              <a:ext cx="3240" cy="403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298080" y="61920"/>
            <a:ext cx="89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ТНО-АНАЛИТИЧЕСКОЕ ОБЕСПЕЧЕНИЕ БЮДЖЕТН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27080" y="449280"/>
          <a:ext cx="89834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49280"/>
                    <a:ext cx="89834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утність бюджетування та його організаці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рядок складання та взаємоузгодже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Контроль викона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ання бюджету прод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виробниц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Необхідний обсяг виробництва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планований обсяг продажу за період в одиниця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виробництва формується на підставі даних бюджету продажу з урахуванням зміни залишків готової продукції за формуло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314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матеріаль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Штриховая стрелка вправо 21"/>
          <p:cNvSpPr/>
          <p:nvPr/>
        </p:nvSpPr>
        <p:spPr>
          <a:xfrm>
            <a:off x="477720" y="2862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Необхідний кількість придбання виробничих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, необхідна для виготовлення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кількості матеріалів, що необхідно придбати за період, користуються формулою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витрат на оплату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Штриховая стрелка вправо 21"/>
          <p:cNvSpPr/>
          <p:nvPr/>
        </p:nvSpPr>
        <p:spPr>
          <a:xfrm>
            <a:off x="357120" y="25052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с двумя вырезанными противолежащими углами 6"/>
          <p:cNvSpPr/>
          <p:nvPr/>
        </p:nvSpPr>
        <p:spPr>
          <a:xfrm>
            <a:off x="2500200" y="385776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наклад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Штриховая стрелка вправо 7"/>
          <p:cNvSpPr/>
          <p:nvPr/>
        </p:nvSpPr>
        <p:spPr>
          <a:xfrm>
            <a:off x="1598760" y="424800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886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собівартості готової та реалізованої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Штриховая стрелка вправо 21"/>
          <p:cNvSpPr/>
          <p:nvPr/>
        </p:nvSpPr>
        <p:spPr>
          <a:xfrm>
            <a:off x="477720" y="3219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готов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итрати на виробництво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за період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и операцій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с двумя вырезанными противолежащими углами 9"/>
          <p:cNvSpPr/>
          <p:nvPr/>
        </p:nvSpPr>
        <p:spPr>
          <a:xfrm>
            <a:off x="2116080" y="3571920"/>
            <a:ext cx="6121440" cy="13572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ий звіт про фінансові результ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Штриховая стрелка вправо 10"/>
          <p:cNvSpPr/>
          <p:nvPr/>
        </p:nvSpPr>
        <p:spPr>
          <a:xfrm>
            <a:off x="121428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288440" y="6192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ДОХОДОВ И РАСХОДОВ НКМ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177840" y="652320"/>
          <a:ext cx="8878680" cy="56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652320"/>
                    <a:ext cx="8878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60480" y="1311120"/>
            <a:ext cx="441936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689120" y="2597040"/>
            <a:ext cx="7515360" cy="1859040"/>
            <a:chOff x="1689120" y="2597040"/>
            <a:chExt cx="7515360" cy="185904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9120" y="2597040"/>
              <a:ext cx="7515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28880" y="2749680"/>
              <a:ext cx="707220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дна з функцій управління, процес визначення дій, які повинні бути виконані в майбутньом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6"/>
          <p:cNvGraphicFramePr/>
          <p:nvPr/>
        </p:nvGraphicFramePr>
        <p:xfrm>
          <a:off x="376200" y="458640"/>
          <a:ext cx="854388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58640"/>
                    <a:ext cx="854388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Object 6"/>
          <p:cNvGraphicFramePr/>
          <p:nvPr/>
        </p:nvGraphicFramePr>
        <p:xfrm>
          <a:off x="411120" y="528480"/>
          <a:ext cx="82915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528480"/>
                    <a:ext cx="82915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8"/>
          <p:cNvSpPr/>
          <p:nvPr/>
        </p:nvSpPr>
        <p:spPr>
          <a:xfrm>
            <a:off x="0" y="4241880"/>
            <a:ext cx="914400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с двумя вырезанными противолежащими углами 20"/>
          <p:cNvSpPr/>
          <p:nvPr/>
        </p:nvSpPr>
        <p:spPr>
          <a:xfrm>
            <a:off x="1258920" y="27194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грошових кош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Штриховая стрелка вправо 21"/>
          <p:cNvSpPr/>
          <p:nvPr/>
        </p:nvSpPr>
        <p:spPr>
          <a:xfrm>
            <a:off x="357120" y="31528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Object 1"/>
          <p:cNvGraphicFramePr/>
          <p:nvPr/>
        </p:nvGraphicFramePr>
        <p:xfrm>
          <a:off x="0" y="4595760"/>
          <a:ext cx="9144000" cy="19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95760"/>
                    <a:ext cx="914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Прямоугольник с двумя вырезанными противолежащими углами 7"/>
          <p:cNvSpPr/>
          <p:nvPr/>
        </p:nvSpPr>
        <p:spPr>
          <a:xfrm>
            <a:off x="1258920" y="155736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капітальних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Штриховая стрелка вправо 9"/>
          <p:cNvSpPr/>
          <p:nvPr/>
        </p:nvSpPr>
        <p:spPr>
          <a:xfrm>
            <a:off x="357120" y="1728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ума платежів постачальника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величини платежів за бюджетний період можна скористатися залежніст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артість придбаних за період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1106280" y="85680"/>
            <a:ext cx="72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ПЕРЕДВИЖЕНИЯ ДЕНЕЖНЫХ СРЕД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Object 4"/>
          <p:cNvGraphicFramePr/>
          <p:nvPr/>
        </p:nvGraphicFramePr>
        <p:xfrm>
          <a:off x="227160" y="547560"/>
          <a:ext cx="8723160" cy="59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47560"/>
                    <a:ext cx="87231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701640"/>
            <a:ext cx="6602400" cy="901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с двумя вырезанными противолежащими углами 20"/>
          <p:cNvSpPr/>
          <p:nvPr/>
        </p:nvSpPr>
        <p:spPr>
          <a:xfrm>
            <a:off x="1450800" y="25718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прогнозного балансу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Штриховая стрелка вправо 21"/>
          <p:cNvSpPr/>
          <p:nvPr/>
        </p:nvSpPr>
        <p:spPr>
          <a:xfrm>
            <a:off x="549360" y="3005280"/>
            <a:ext cx="785880" cy="49500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AutoShape 2" descr=""/>
          <p:cNvPicPr/>
          <p:nvPr/>
        </p:nvPicPr>
        <p:blipFill>
          <a:blip r:embed="rId1"/>
          <a:stretch/>
        </p:blipFill>
        <p:spPr>
          <a:xfrm>
            <a:off x="-6480" y="1547640"/>
            <a:ext cx="4413240" cy="1341720"/>
          </a:xfrm>
          <a:prstGeom prst="rect">
            <a:avLst/>
          </a:prstGeom>
          <a:ln w="0">
            <a:noFill/>
          </a:ln>
        </p:spPr>
      </p:pic>
      <p:grpSp>
        <p:nvGrpSpPr>
          <p:cNvPr id="539" name="Rectangle 3"/>
          <p:cNvGrpSpPr/>
          <p:nvPr/>
        </p:nvGrpSpPr>
        <p:grpSpPr>
          <a:xfrm>
            <a:off x="1616040" y="2706840"/>
            <a:ext cx="7362720" cy="1109520"/>
            <a:chOff x="1616040" y="2706840"/>
            <a:chExt cx="7362720" cy="1109520"/>
          </a:xfrm>
        </p:grpSpPr>
        <p:pic>
          <p:nvPicPr>
            <p:cNvPr id="540" name="Rectangle 3" descr=""/>
            <p:cNvPicPr/>
            <p:nvPr/>
          </p:nvPicPr>
          <p:blipFill>
            <a:blip r:embed="rId2"/>
            <a:stretch/>
          </p:blipFill>
          <p:spPr>
            <a:xfrm>
              <a:off x="1616040" y="2706840"/>
              <a:ext cx="7362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857240" y="2857680"/>
              <a:ext cx="70725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Бюджети структурних підроз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2" name="Прямоугольник 5" descr=""/>
          <p:cNvPicPr/>
          <p:nvPr/>
        </p:nvPicPr>
        <p:blipFill>
          <a:blip r:embed="rId3"/>
          <a:stretch/>
        </p:blipFill>
        <p:spPr>
          <a:xfrm>
            <a:off x="628560" y="201600"/>
            <a:ext cx="6527880" cy="1273320"/>
          </a:xfrm>
          <a:prstGeom prst="rect">
            <a:avLst/>
          </a:prstGeom>
          <a:ln w="0">
            <a:noFill/>
          </a:ln>
        </p:spPr>
      </p:pic>
      <p:pic>
        <p:nvPicPr>
          <p:cNvPr id="543" name="AutoShape 2" descr=""/>
          <p:cNvPicPr/>
          <p:nvPr/>
        </p:nvPicPr>
        <p:blipFill>
          <a:blip r:embed="rId4"/>
          <a:stretch/>
        </p:blipFill>
        <p:spPr>
          <a:xfrm>
            <a:off x="-79200" y="3902040"/>
            <a:ext cx="4413240" cy="1339920"/>
          </a:xfrm>
          <a:prstGeom prst="rect">
            <a:avLst/>
          </a:prstGeom>
          <a:ln w="0">
            <a:noFill/>
          </a:ln>
        </p:spPr>
      </p:pic>
      <p:grpSp>
        <p:nvGrpSpPr>
          <p:cNvPr id="544" name="Rectangle 3"/>
          <p:cNvGrpSpPr/>
          <p:nvPr/>
        </p:nvGrpSpPr>
        <p:grpSpPr>
          <a:xfrm>
            <a:off x="1542960" y="5065560"/>
            <a:ext cx="7521840" cy="1852920"/>
            <a:chOff x="1542960" y="5065560"/>
            <a:chExt cx="7521840" cy="1852920"/>
          </a:xfrm>
        </p:grpSpPr>
        <p:pic>
          <p:nvPicPr>
            <p:cNvPr id="545" name="Rectangle 3" descr=""/>
            <p:cNvPicPr/>
            <p:nvPr/>
          </p:nvPicPr>
          <p:blipFill>
            <a:blip r:embed="rId5"/>
            <a:stretch/>
          </p:blipFill>
          <p:spPr>
            <a:xfrm>
              <a:off x="1542960" y="5065560"/>
              <a:ext cx="752184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785960" y="5214960"/>
              <a:ext cx="70722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труктурні підрозділи підприємства, що здійснюють контроль за виконанням бюджет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628560"/>
            <a:ext cx="6735600" cy="9082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с двумя вырезанными противолежащими углами 20"/>
          <p:cNvSpPr/>
          <p:nvPr/>
        </p:nvSpPr>
        <p:spPr>
          <a:xfrm>
            <a:off x="357120" y="2571840"/>
            <a:ext cx="3929040" cy="378612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б'єкт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троль за достовірністю даних бюджетування (системи бюджетів структурних підрозділів та загального бюджету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Штриховая стрелка вправо 21"/>
          <p:cNvSpPr/>
          <p:nvPr/>
        </p:nvSpPr>
        <p:spPr>
          <a:xfrm rot="5400000">
            <a:off x="1944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с двумя вырезанными противолежащими углами 5"/>
          <p:cNvSpPr/>
          <p:nvPr/>
        </p:nvSpPr>
        <p:spPr>
          <a:xfrm>
            <a:off x="4929120" y="2571840"/>
            <a:ext cx="3929040" cy="37861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б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Використання системи бюджетів для контролю за господарською діяльністю через виявлення відхилень від заданих параметр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Штриховая стрелка вправо 6"/>
          <p:cNvSpPr/>
          <p:nvPr/>
        </p:nvSpPr>
        <p:spPr>
          <a:xfrm rot="5400000">
            <a:off x="6516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Rectangle 3"/>
          <p:cNvGrpSpPr/>
          <p:nvPr/>
        </p:nvGrpSpPr>
        <p:grpSpPr>
          <a:xfrm>
            <a:off x="549360" y="1042920"/>
            <a:ext cx="8661240" cy="4778280"/>
            <a:chOff x="549360" y="1042920"/>
            <a:chExt cx="8661240" cy="4778280"/>
          </a:xfrm>
        </p:grpSpPr>
        <p:pic>
          <p:nvPicPr>
            <p:cNvPr id="554" name="Rectangle 3" descr=""/>
            <p:cNvPicPr/>
            <p:nvPr/>
          </p:nvPicPr>
          <p:blipFill>
            <a:blip r:embed="rId1"/>
            <a:stretch/>
          </p:blipFill>
          <p:spPr>
            <a:xfrm>
              <a:off x="549360" y="1042920"/>
              <a:ext cx="866124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642960" y="1285920"/>
              <a:ext cx="8001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Є тільки одне благо - знання й тільки одне зло - неуцтво.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Сократ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865080"/>
            <a:ext cx="6523200" cy="908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с двумя вырезанными противолежащими углами 20"/>
          <p:cNvSpPr/>
          <p:nvPr/>
        </p:nvSpPr>
        <p:spPr>
          <a:xfrm>
            <a:off x="539640" y="2708280"/>
            <a:ext cx="367524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роткострокове (строком до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1"/>
          <p:cNvSpPr/>
          <p:nvPr/>
        </p:nvSpPr>
        <p:spPr>
          <a:xfrm rot="6339000">
            <a:off x="212292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с двумя вырезанными противолежащими углами 20"/>
          <p:cNvSpPr/>
          <p:nvPr/>
        </p:nvSpPr>
        <p:spPr>
          <a:xfrm>
            <a:off x="4643280" y="2708280"/>
            <a:ext cx="379116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ерспективне (строком більше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21"/>
          <p:cNvSpPr/>
          <p:nvPr/>
        </p:nvSpPr>
        <p:spPr>
          <a:xfrm rot="3411600">
            <a:off x="529056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4" name="Rectangle 3"/>
          <p:cNvGrpSpPr/>
          <p:nvPr/>
        </p:nvGrpSpPr>
        <p:grpSpPr>
          <a:xfrm>
            <a:off x="1542960" y="1487520"/>
            <a:ext cx="7667640" cy="3035160"/>
            <a:chOff x="1542960" y="1487520"/>
            <a:chExt cx="7667640" cy="3035160"/>
          </a:xfrm>
        </p:grpSpPr>
        <p:pic>
          <p:nvPicPr>
            <p:cNvPr id="315" name="Rectangle 3" descr=""/>
            <p:cNvPicPr/>
            <p:nvPr/>
          </p:nvPicPr>
          <p:blipFill>
            <a:blip r:embed="rId2"/>
            <a:stretch/>
          </p:blipFill>
          <p:spPr>
            <a:xfrm>
              <a:off x="1542960" y="1487520"/>
              <a:ext cx="766764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857240" y="1671480"/>
              <a:ext cx="707256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Процес планування майбутніх операцій підприємства та оформлення його результатів у вигляді системи бюджет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8" name="Rectangle 3"/>
          <p:cNvGrpSpPr/>
          <p:nvPr/>
        </p:nvGrpSpPr>
        <p:grpSpPr>
          <a:xfrm>
            <a:off x="1579680" y="1700280"/>
            <a:ext cx="7594560" cy="4279680"/>
            <a:chOff x="1579680" y="1700280"/>
            <a:chExt cx="7594560" cy="4279680"/>
          </a:xfrm>
        </p:grpSpPr>
        <p:pic>
          <p:nvPicPr>
            <p:cNvPr id="31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700280"/>
              <a:ext cx="759456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857240" y="1868400"/>
              <a:ext cx="707256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ний план у грошовому вимірі, заздалегідь підготовлений та прийнятий до певного періоду часу, який зазвичай відображає заплановані на цей період величини доходів і витрат, необхідні для досягнення запланованої ме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0"/>
            <a:ext cx="6522840" cy="9079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с двумя вырезанными противолежащими углами 20"/>
          <p:cNvSpPr/>
          <p:nvPr/>
        </p:nvSpPr>
        <p:spPr>
          <a:xfrm>
            <a:off x="1357200" y="907920"/>
            <a:ext cx="7500960" cy="11527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отивація працівників на виконання цілей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1"/>
          <p:cNvSpPr/>
          <p:nvPr/>
        </p:nvSpPr>
        <p:spPr>
          <a:xfrm>
            <a:off x="357120" y="12049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с двумя вырезанными противолежащими углами 22"/>
          <p:cNvSpPr/>
          <p:nvPr/>
        </p:nvSpPr>
        <p:spPr>
          <a:xfrm>
            <a:off x="1357200" y="2270160"/>
            <a:ext cx="7500960" cy="13748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в'язка параметрів  розвитку підприємства з власними та залученими ресурс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Штриховая стрелка вправо 23"/>
          <p:cNvSpPr/>
          <p:nvPr/>
        </p:nvSpPr>
        <p:spPr>
          <a:xfrm>
            <a:off x="357120" y="2717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с двумя вырезанными противолежащими углами 24"/>
          <p:cNvSpPr/>
          <p:nvPr/>
        </p:nvSpPr>
        <p:spPr>
          <a:xfrm>
            <a:off x="1357200" y="3774960"/>
            <a:ext cx="7500960" cy="13096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арантування виконання фінансових зобов'язань перед внутрішніми та зовнішніми суб'єкт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Штриховая стрелка вправо 25"/>
          <p:cNvSpPr/>
          <p:nvPr/>
        </p:nvSpPr>
        <p:spPr>
          <a:xfrm>
            <a:off x="357120" y="4149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с двумя вырезанными противолежащими углами 26"/>
          <p:cNvSpPr/>
          <p:nvPr/>
        </p:nvSpPr>
        <p:spPr>
          <a:xfrm>
            <a:off x="1357200" y="5300640"/>
            <a:ext cx="7500960" cy="1224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безпечення керівництва своєчасної та повною інформацією про фінансовий стан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Штриховая стрелка вправо 27"/>
          <p:cNvSpPr/>
          <p:nvPr/>
        </p:nvSpPr>
        <p:spPr>
          <a:xfrm>
            <a:off x="357120" y="5661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4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-325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виробництва</a:t>
            </a:r>
            <a:r>
              <a:rPr b="1" lang="uk-UA" sz="3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тимізація витрат і зниженн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обівартості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правління витрата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згодження цілей і завдань усі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робничих підрозділів зі стратегіє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сієї компанії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отивація керівників структурн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розділі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7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i (7)"/>
          <p:cNvPicPr/>
          <p:nvPr/>
        </p:nvPicPr>
        <p:blipFill>
          <a:blip r:embed="rId3"/>
          <a:stretch/>
        </p:blipFill>
        <p:spPr>
          <a:xfrm>
            <a:off x="6516720" y="3716280"/>
            <a:ext cx="2143080" cy="172872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фінансовог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правління: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озстановка пріоритеті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користання фінансов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сурсів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управління ліквідністю, фінансовою стійкістю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ерспективний фінансовий аналіз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рогнозування і управління майбутнім фінансовим станом компанії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 сфері виробництв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4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 (8)"/>
          <p:cNvPicPr/>
          <p:nvPr/>
        </p:nvPicPr>
        <p:blipFill>
          <a:blip r:embed="rId3">
            <a:grayscl/>
          </a:blip>
          <a:stretch/>
        </p:blipFill>
        <p:spPr>
          <a:xfrm>
            <a:off x="7164360" y="3645000"/>
            <a:ext cx="1504800" cy="208908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Богдан</cp:lastModifiedBy>
  <dcterms:modified xsi:type="dcterms:W3CDTF">2021-11-21T08:40:07Z</dcterms:modified>
  <cp:revision>158</cp:revision>
  <dc:subject/>
  <dc:title>Слайд 1</dc:title>
</cp:coreProperties>
</file>