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wmf" ContentType="image/x-wmf"/>
  <Override PartName="/ppt/media/image6.wmf" ContentType="image/x-wmf"/>
  <Override PartName="/ppt/media/image11.png" ContentType="image/png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CB0-EAB2-4EB8-AC9B-72C754B7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B93-BC6A-41A1-AC38-30188A4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141-556F-4BBA-A656-6FB4E07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3BB-700A-47B9-BDC1-499925E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AE9-BCD0-4058-80B8-1B35DA2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536-A321-47D4-B306-5F95719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A5E-2878-4A93-AE98-DA3ED83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ADC-C2D2-4D15-89B5-4365E835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6E8-FA4D-4DBF-9B4D-554E177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11F-B214-4292-89B0-062928F3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EA3-216C-41EF-964C-D6474D6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5EE-DF56-4B70-9B09-1B676DA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A50-1539-4546-BDAE-D79A9F79E2C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D3E-A545-4FBC-978B-668B488842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46160" y="1736640"/>
            <a:ext cx="8785080" cy="270216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ECD2-8035-4B2F-8CB0-38BBDD1B6A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835200" y="-42840"/>
            <a:ext cx="7102440" cy="1822320"/>
          </a:xfrm>
          <a:prstGeom prst="rect">
            <a:avLst/>
          </a:prstGeom>
          <a:ln w="0">
            <a:noFill/>
          </a:ln>
        </p:spPr>
      </p:pic>
      <p:pic>
        <p:nvPicPr>
          <p:cNvPr id="71" name="Схема 2" descr=""/>
          <p:cNvPicPr/>
          <p:nvPr/>
        </p:nvPicPr>
        <p:blipFill>
          <a:blip r:embed="rId2"/>
          <a:stretch/>
        </p:blipFill>
        <p:spPr>
          <a:xfrm>
            <a:off x="371520" y="1895400"/>
            <a:ext cx="8632800" cy="48229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739-850A-4698-8224-C5090C7AF8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" y="255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кументальне оформлення бра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65240" y="1486080"/>
          <a:ext cx="894852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86080"/>
                    <a:ext cx="89485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Схема 5" descr=""/>
          <p:cNvPicPr/>
          <p:nvPr/>
        </p:nvPicPr>
        <p:blipFill>
          <a:blip r:embed="rId3"/>
          <a:stretch/>
        </p:blipFill>
        <p:spPr>
          <a:xfrm>
            <a:off x="55440" y="3029040"/>
            <a:ext cx="9118800" cy="388944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D6F-AC63-4B81-99A7-82E555863C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0" y="334800"/>
          <a:ext cx="9144000" cy="59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3D3-A431-4A54-B292-98467BC282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Облік втрат від браку в</a:t>
            </a:r>
            <a:br>
              <a:rPr sz="4000"/>
            </a:b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бухгалтерському облі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131760" y="1447920"/>
          <a:ext cx="901224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47920"/>
                    <a:ext cx="90122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Схема 4" descr=""/>
          <p:cNvPicPr/>
          <p:nvPr/>
        </p:nvPicPr>
        <p:blipFill>
          <a:blip r:embed="rId3"/>
          <a:stretch/>
        </p:blipFill>
        <p:spPr>
          <a:xfrm>
            <a:off x="92160" y="3084480"/>
            <a:ext cx="8985240" cy="370044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820-1FE0-46D4-97A5-44393FA815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2" descr=""/>
          <p:cNvPicPr/>
          <p:nvPr/>
        </p:nvPicPr>
        <p:blipFill>
          <a:blip r:embed="rId1"/>
          <a:stretch/>
        </p:blipFill>
        <p:spPr>
          <a:xfrm>
            <a:off x="92160" y="274680"/>
            <a:ext cx="8985240" cy="424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4"/>
          <p:cNvGraphicFramePr/>
          <p:nvPr/>
        </p:nvGraphicFramePr>
        <p:xfrm>
          <a:off x="0" y="4473720"/>
          <a:ext cx="9144000" cy="23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73720"/>
                    <a:ext cx="91440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212-9AFC-45C6-A205-DB7F626BEE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0" y="344520"/>
          <a:ext cx="91440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4520"/>
                    <a:ext cx="9144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A34-B430-435D-87F8-895B9E6A71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1" descr=""/>
          <p:cNvPicPr/>
          <p:nvPr/>
        </p:nvPicPr>
        <p:blipFill>
          <a:blip r:embed="rId1"/>
          <a:stretch/>
        </p:blipFill>
        <p:spPr>
          <a:xfrm>
            <a:off x="92160" y="109440"/>
            <a:ext cx="8959680" cy="679140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B54-5B80-49E1-B431-6D1542C974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85880" y="127476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ітичний облік рахунку 24 “Брак у виробництві” ведеться за видами виробництва продукції, де виник брак, а також у розрізі статей калькуля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5227-1ED6-4CA2-A215-0A943459CC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1646280"/>
            <a:ext cx="9460080" cy="34131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65B7-AE9A-47D4-9FBA-42FC25978F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1280" y="0"/>
          <a:ext cx="9001440" cy="6735600"/>
        </p:xfrm>
        <a:graphic>
          <a:graphicData uri="http://schemas.openxmlformats.org/drawingml/2006/table">
            <a:tbl>
              <a:tblPr/>
              <a:tblGrid>
                <a:gridCol w="714600"/>
                <a:gridCol w="4857840"/>
                <a:gridCol w="1000080"/>
                <a:gridCol w="1428480"/>
                <a:gridCol w="1000440"/>
              </a:tblGrid>
              <a:tr h="8535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міст операці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спондуючі рахун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б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значено собівартість забракованих вироб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ибутковано побічну продукцію від списання остаточ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і на винних осіб втрат від остаточного й виправ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унуто претензію за поставку неякісної сировини й матеріал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о величину втрат від технічно неминучого браку (1350-200-500-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E31-E25D-4027-B4AA-B5D981709F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38120" y="6480"/>
            <a:ext cx="8175600" cy="220032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30492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ироби, напівфабрикати, деталі, вузли тощо, а також роботи, що не відповідають за якістю встановленим стандартам або технічним умовам і не можуть бути використані за прямим призначенням або можуть використовуватись тільки після проведення додаткових робіт з їх виправ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6413400" y="4809960"/>
            <a:ext cx="2822760" cy="2565720"/>
          </a:xfrm>
          <a:prstGeom prst="rect">
            <a:avLst/>
          </a:prstGeom>
          <a:ln w="0">
            <a:noFill/>
          </a:ln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E454-E1D9-4E2C-A8E6-9FBD9C14C8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212760" y="0"/>
            <a:ext cx="4121280" cy="1017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71680" y="1143000"/>
            <a:ext cx="82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 підприємства «Кераміка» у звітному періоді виявлено кілька партій бракованої продукції, (які відділом технічного контролю поділені натри ви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випадковий брак у сумі 600 грн. (винні не встановлені, продукція не придатна для подальшого використання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хнічно неминучий виправний брак (собівартість бракованих виробів-800 грн., витрати на виправлення 200 грн.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хнічно неминучий остаточний брак у сумі 250 грн. (у тому числі витрати на освоєння виробництва - 20 грн., загальновиробничі витрати 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грн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307-EA8B-45F9-B898-17029997FD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1280" y="615960"/>
          <a:ext cx="9001440" cy="5456160"/>
        </p:xfrm>
        <a:graphic>
          <a:graphicData uri="http://schemas.openxmlformats.org/drawingml/2006/table">
            <a:tbl>
              <a:tblPr/>
              <a:tblGrid>
                <a:gridCol w="714600"/>
                <a:gridCol w="4786200"/>
                <a:gridCol w="1071720"/>
                <a:gridCol w="1285920"/>
                <a:gridCol w="1143000"/>
              </a:tblGrid>
              <a:tr h="7923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операці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4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від усіх видів браку, виявленого у звітному періоді (600 + 800 + 25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уються на собівартість втрати від випадкового браку (60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артість запасів, використаних на виправлення бра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*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ня витрат на заробітну плату (відрахування на соціальні заходи) робітників, зайнятих виправленням бра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*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35C8-2CFC-4F1E-BD2A-93F0DE8D92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1280" y="795240"/>
          <a:ext cx="9001440" cy="4633920"/>
        </p:xfrm>
        <a:graphic>
          <a:graphicData uri="http://schemas.openxmlformats.org/drawingml/2006/table">
            <a:tbl>
              <a:tblPr/>
              <a:tblGrid>
                <a:gridCol w="571680"/>
                <a:gridCol w="4929120"/>
                <a:gridCol w="1071720"/>
                <a:gridCol w="1428480"/>
                <a:gridCol w="1000440"/>
              </a:tblGrid>
              <a:tr h="159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, віднесені до складу втрат на виправлення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й витрати щодо виправлення технічно неминучого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09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від технічно неминучого остаточного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61D-D711-4B54-BDE8-D194895CAD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201600" y="1762200"/>
            <a:ext cx="8820000" cy="313380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44A-D6A4-488D-8B59-62A7B9AB41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214200" y="71280"/>
          <a:ext cx="8763120" cy="657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1280"/>
                    <a:ext cx="8763120" cy="65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2B82-5D4A-4DB1-B47B-66AAF63E5F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49120" y="433440"/>
            <a:ext cx="8516880" cy="1822320"/>
          </a:xfrm>
          <a:prstGeom prst="rect">
            <a:avLst/>
          </a:prstGeom>
          <a:ln w="0">
            <a:noFill/>
          </a:ln>
        </p:spPr>
      </p:pic>
      <p:sp>
        <p:nvSpPr>
          <p:cNvPr id="114" name="Подзаголовок 2"/>
          <p:cNvSpPr/>
          <p:nvPr/>
        </p:nvSpPr>
        <p:spPr>
          <a:xfrm>
            <a:off x="0" y="26668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Calibri"/>
              </a:rPr>
              <a:t>Напівфабрикати, які споживаються всередині підприємств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929F-17D0-4E6B-A5B2-E2794900D3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993600" y="-6480"/>
            <a:ext cx="7772400" cy="1884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2588760"/>
            <a:ext cx="9183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інші підприємства – з метою подальшої обробки (переробки) напівфабрикатів у готову продукцію (пряжа, відливка стальна, спирт тощ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інцеві споживачі – фізичні або юридичні особи (спирт, вершки молочні, фарш м’ясний тощ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24C1-0DAA-4375-9241-194A381FBD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85840" y="380880"/>
            <a:ext cx="87152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Аналітичний кількісно-сортовий облік напівфабрикатів ведуть за місцями їх зберіган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цінюють напівфабрикати за фактичною виробничою собівартістю, однак у деяких випадках можливим є використання облікових цін, які наближені до собівартості  напівфабрика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лік руху напівфабрикатів всередині підприємства ведеться на рахунку</a:t>
            </a:r>
            <a:br>
              <a:rPr sz="3000"/>
            </a:b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23 “Виробництво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394-30C7-42B9-9AE4-EFC47E9482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хема 4" descr=""/>
          <p:cNvPicPr/>
          <p:nvPr/>
        </p:nvPicPr>
        <p:blipFill>
          <a:blip r:embed="rId1"/>
          <a:stretch/>
        </p:blipFill>
        <p:spPr>
          <a:xfrm>
            <a:off x="-109440" y="1523880"/>
            <a:ext cx="9296280" cy="5254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При цьому напівфабрикати можна оцінюва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169-EA52-42C4-8C17-AF70666B39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0" y="97164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164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926-F096-48F7-A02B-0E0268740C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109440" y="152280"/>
            <a:ext cx="8937720" cy="663264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333C-6302-48DB-BA1F-41417ADD57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54120"/>
                <a:gridCol w="4075200"/>
                <a:gridCol w="1025280"/>
                <a:gridCol w="946080"/>
                <a:gridCol w="1182960"/>
                <a:gridCol w="630000"/>
                <a:gridCol w="630360"/>
              </a:tblGrid>
              <a:tr h="1254240">
                <a:tc gridSpan="7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ік операцій з напівфабрикатами, використаними для власних потреб підприємств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бухгалтерського запису або податкова под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ьк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сировину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матеріали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купівельні напівфабрикати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.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,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71B-921E-4DA4-A099-9082C35D56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6320" y="65160"/>
          <a:ext cx="8129520" cy="6751440"/>
        </p:xfrm>
        <a:graphic>
          <a:graphicData uri="http://schemas.openxmlformats.org/drawingml/2006/table">
            <a:tbl>
              <a:tblPr/>
              <a:tblGrid>
                <a:gridCol w="395280"/>
                <a:gridCol w="4686120"/>
                <a:gridCol w="625680"/>
                <a:gridCol w="1015920"/>
                <a:gridCol w="1406520"/>
              </a:tblGrid>
              <a:tr h="152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основну заробітну плату основних виробничих робітників за виготовлення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,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12,80грн. х 38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,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2, 653, 6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8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розподілені змінні загально виробним і витр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,7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розподілені постійні загально виробничі витр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9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ибутковано напівфабрик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плата на виготовлення комутаторі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0,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992-815F-4DCA-99B2-EF643EEEBE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0" y="97164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164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D93-92F9-4680-B555-0FE50DF287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drawingml/2006/table">
            <a:tbl>
              <a:tblPr/>
              <a:tblGrid>
                <a:gridCol w="533520"/>
                <a:gridCol w="3886200"/>
                <a:gridCol w="914400"/>
                <a:gridCol w="914400"/>
                <a:gridCol w="1371600"/>
                <a:gridCol w="1066680"/>
                <a:gridCol w="457200"/>
              </a:tblGrid>
              <a:tr h="930240">
                <a:tc gridSpan="7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ік операцій з напівфабрикатами, призначеними для реалізаці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бухгалтерського запису або податкова поді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ький облі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отовлено плати ІС9 для реаліза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на склад плати ІС9 для подальшої реаліза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аванс за поставку партії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податкові зобов'язання з ПД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покупцеві партію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B8A-B62A-4E67-A059-16B2734959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5680" y="76320"/>
          <a:ext cx="9058320" cy="6705360"/>
        </p:xfrm>
        <a:graphic>
          <a:graphicData uri="http://schemas.openxmlformats.org/drawingml/2006/table">
            <a:tbl>
              <a:tblPr/>
              <a:tblGrid>
                <a:gridCol w="446040"/>
                <a:gridCol w="3765600"/>
                <a:gridCol w="1015920"/>
                <a:gridCol w="938160"/>
                <a:gridCol w="1719360"/>
                <a:gridCol w="625680"/>
                <a:gridCol w="547560"/>
              </a:tblGrid>
              <a:tr h="420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ховано податкові зобов'язання з ПДВ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мо залік взаємної заборгованості з покупцем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собівартість реалізованих плат ІС9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ерозподілені постійні загально виробним і витрат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2F56-6BAD-45A5-A962-1ECBA06C63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2280" y="152280"/>
          <a:ext cx="8991720" cy="6708960"/>
        </p:xfrm>
        <a:graphic>
          <a:graphicData uri="http://schemas.openxmlformats.org/drawingml/2006/table">
            <a:tbl>
              <a:tblPr/>
              <a:tblGrid>
                <a:gridCol w="443160"/>
                <a:gridCol w="3900240"/>
                <a:gridCol w="838440"/>
                <a:gridCol w="914400"/>
                <a:gridCol w="1752480"/>
                <a:gridCol w="609480"/>
                <a:gridCol w="533520"/>
              </a:tblGrid>
              <a:tr h="398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дохід від реалізації готової продук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собівартість реалізованої продук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4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адміністративні витра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інші операційні витра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витрати на збу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EE2F-C5A0-4639-977B-55EE0773AA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За місцем виявлення брак ділиться 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2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8912160" cy="580392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BED7-5B05-4347-8F71-0A001B1021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533520" y="152280"/>
          <a:ext cx="82296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280"/>
                    <a:ext cx="82296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-60480" y="317520"/>
            <a:ext cx="9217080" cy="530208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796-9677-40B5-A6AA-BCA1220491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536400" y="19080"/>
            <a:ext cx="784548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1"/>
          <p:cNvGraphicFramePr/>
          <p:nvPr/>
        </p:nvGraphicFramePr>
        <p:xfrm>
          <a:off x="76320" y="1536840"/>
          <a:ext cx="895968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36840"/>
                    <a:ext cx="89596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B59-4C77-47DA-94C3-36B5834204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534520" cy="1122480"/>
          </a:xfrm>
          <a:prstGeom prst="rect">
            <a:avLst/>
          </a:prstGeom>
          <a:ln w="0">
            <a:noFill/>
          </a:ln>
        </p:spPr>
      </p:pic>
      <p:sp>
        <p:nvSpPr>
          <p:cNvPr id="62" name="Содержимое 2"/>
          <p:cNvSpPr/>
          <p:nvPr/>
        </p:nvSpPr>
        <p:spPr>
          <a:xfrm>
            <a:off x="30168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собівартість остаточно забракованої продукції (виробів, напівфабрикатів) з технологічних причин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артість матеріалів, напівфабрикатів (деталей), зіпсованих під час налагодження устаткування, у випадку зупинки або простою обладнання через тимчасове відключення енергії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артість скляних, керамічних і пластмасових виробів, розбитих під час транспортування на виробництві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итрати на усунення технічно неминучого брак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FAA-D255-415A-B39E-6446E3DB60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712800" y="390600"/>
            <a:ext cx="7974000" cy="1036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380880" y="205740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визначається як сума фактично понесених витрат за всіма статтями калькуляції за винятком витрат на підготовку й освоєння виробництва, загальновиробничих витрат та інших спеціальних витрат, які відносяться тільки на собівартість готової проду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269-A5AB-4796-A0DE-2F1C517C81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34520" cy="12063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артість сировини, матеріалів і напівфабрикатів, витрачених на усунення дефектів продукції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трати на оплату праці робітників, нараховану за виправлення брак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ідрахування на соціальні заходи від нарахованої заробітної плати згідно з чинним законодавств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E1F2-B472-4B7D-B068-A11538E792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MSI</cp:lastModifiedBy>
  <cp:lastPrinted>2019-10-31T11:17:41Z</cp:lastPrinted>
  <dcterms:modified xsi:type="dcterms:W3CDTF">2021-11-10T11:07:37Z</dcterms:modified>
  <cp:revision>25</cp:revision>
  <dc:subject/>
  <dc:title>Слайд 1</dc:title>
</cp:coreProperties>
</file>