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7.wmf" ContentType="image/x-wmf"/>
  <Override PartName="/ppt/media/image6.wmf" ContentType="image/x-wmf"/>
  <Override PartName="/ppt/media/image11.png" ContentType="image/png"/>
  <Override PartName="/ppt/media/image5.png" ContentType="image/png"/>
  <Override PartName="/ppt/media/image30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DD9-35A9-4BAF-85EC-F4CEE93C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C02-305B-49B4-AECD-4ACAB416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BB6D-67AE-46E9-BBAC-ED47803B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108-79AB-425F-91AC-DB7635FA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E48-5C4F-486A-98D3-C2A75AF8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62A-9CFD-438D-B42B-50DE9A8C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040-947F-48B4-89DC-7F3AC0DA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C16-F565-45DE-882C-B1DE52DA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FA7-B8CB-4AF9-8245-C74512E9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880-34A4-403D-8549-097061A0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186-26F5-4D94-B957-4B0DBE0E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81A-23FA-4E1F-881D-671478DE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694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D40C-8E66-4407-B96E-7CD62DE38C53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2522-5BC5-4459-8DF5-A80268D0104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146160" y="1736640"/>
            <a:ext cx="8785080" cy="2702160"/>
          </a:xfrm>
          <a:prstGeom prst="rect">
            <a:avLst/>
          </a:prstGeom>
          <a:ln w="0">
            <a:noFill/>
          </a:ln>
        </p:spPr>
      </p:pic>
      <p:sp>
        <p:nvSpPr>
          <p:cNvPr id="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AA67-9865-4AD2-802B-C390C7391FC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835200" y="-42840"/>
            <a:ext cx="7102440" cy="1822320"/>
          </a:xfrm>
          <a:prstGeom prst="rect">
            <a:avLst/>
          </a:prstGeom>
          <a:ln w="0">
            <a:noFill/>
          </a:ln>
        </p:spPr>
      </p:pic>
      <p:pic>
        <p:nvPicPr>
          <p:cNvPr id="71" name="Схема 2" descr=""/>
          <p:cNvPicPr/>
          <p:nvPr/>
        </p:nvPicPr>
        <p:blipFill>
          <a:blip r:embed="rId2"/>
          <a:stretch/>
        </p:blipFill>
        <p:spPr>
          <a:xfrm>
            <a:off x="371520" y="1895400"/>
            <a:ext cx="8632800" cy="482292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8CE1-0D8A-43AB-A65A-05EF75DAA6F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00" y="255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кументальне оформлення бра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165240" y="1486080"/>
          <a:ext cx="8948520" cy="16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486080"/>
                    <a:ext cx="894852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Схема 5" descr=""/>
          <p:cNvPicPr/>
          <p:nvPr/>
        </p:nvPicPr>
        <p:blipFill>
          <a:blip r:embed="rId3"/>
          <a:stretch/>
        </p:blipFill>
        <p:spPr>
          <a:xfrm>
            <a:off x="55440" y="3029040"/>
            <a:ext cx="9118800" cy="3889440"/>
          </a:xfrm>
          <a:prstGeom prst="rect">
            <a:avLst/>
          </a:prstGeom>
          <a:ln w="0">
            <a:noFill/>
          </a:ln>
        </p:spPr>
      </p:pic>
      <p:sp>
        <p:nvSpPr>
          <p:cNvPr id="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F4AD-032D-414B-BCD6-2C2BDB350ED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0" y="334800"/>
          <a:ext cx="9144000" cy="590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4800"/>
                    <a:ext cx="9144000" cy="59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C332-F90B-4CAC-B9FA-CE2C7DE1D1B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49cdc"/>
                </a:solidFill>
                <a:latin typeface="Calibri"/>
              </a:rPr>
              <a:t>Облік втрат від браку в</a:t>
            </a:r>
            <a:br>
              <a:rPr sz="4000"/>
            </a:br>
            <a:r>
              <a:rPr b="0" lang="uk-UA" sz="4000" spc="-1" strike="noStrike">
                <a:solidFill>
                  <a:srgbClr val="749cdc"/>
                </a:solidFill>
                <a:latin typeface="Calibri"/>
              </a:rPr>
              <a:t>бухгалтерському облі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131760" y="1447920"/>
          <a:ext cx="901224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447920"/>
                    <a:ext cx="901224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Схема 4" descr=""/>
          <p:cNvPicPr/>
          <p:nvPr/>
        </p:nvPicPr>
        <p:blipFill>
          <a:blip r:embed="rId3"/>
          <a:stretch/>
        </p:blipFill>
        <p:spPr>
          <a:xfrm>
            <a:off x="92160" y="3084480"/>
            <a:ext cx="8985240" cy="370044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8720-C757-46DE-BC78-52C6FF74BB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2" descr=""/>
          <p:cNvPicPr/>
          <p:nvPr/>
        </p:nvPicPr>
        <p:blipFill>
          <a:blip r:embed="rId1"/>
          <a:stretch/>
        </p:blipFill>
        <p:spPr>
          <a:xfrm>
            <a:off x="92160" y="274680"/>
            <a:ext cx="8985240" cy="424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Object 4"/>
          <p:cNvGraphicFramePr/>
          <p:nvPr/>
        </p:nvGraphicFramePr>
        <p:xfrm>
          <a:off x="0" y="4473720"/>
          <a:ext cx="9144000" cy="238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473720"/>
                    <a:ext cx="91440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2540-507B-446B-9A5D-C56AB3AD55A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4"/>
          <p:cNvGraphicFramePr/>
          <p:nvPr/>
        </p:nvGraphicFramePr>
        <p:xfrm>
          <a:off x="0" y="344520"/>
          <a:ext cx="9144000" cy="61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4520"/>
                    <a:ext cx="9144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6B77-BD60-4A26-94E7-4D5B8747B97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хема 1" descr=""/>
          <p:cNvPicPr/>
          <p:nvPr/>
        </p:nvPicPr>
        <p:blipFill>
          <a:blip r:embed="rId1"/>
          <a:stretch/>
        </p:blipFill>
        <p:spPr>
          <a:xfrm>
            <a:off x="92160" y="109440"/>
            <a:ext cx="8959680" cy="6791400"/>
          </a:xfrm>
          <a:prstGeom prst="rect">
            <a:avLst/>
          </a:prstGeom>
          <a:ln w="0">
            <a:noFill/>
          </a:ln>
        </p:spPr>
      </p:pic>
      <p:sp>
        <p:nvSpPr>
          <p:cNvPr id="9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ECDF-EC30-4037-9D21-1AB2D3ABF49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785880" y="1274760"/>
            <a:ext cx="7429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ітичний облік рахунку 24 “Брак у виробництві” ведеться за видами виробництва продукції, де виник брак, а також у розрізі статей калькуля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EEDD-77CD-4E54-9B03-CFE01FFEDF1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1" descr=""/>
          <p:cNvPicPr/>
          <p:nvPr/>
        </p:nvPicPr>
        <p:blipFill>
          <a:blip r:embed="rId1"/>
          <a:stretch/>
        </p:blipFill>
        <p:spPr>
          <a:xfrm>
            <a:off x="-212760" y="1646280"/>
            <a:ext cx="9460080" cy="341316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733D-0C00-4AEB-928F-E2859341148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71280" y="0"/>
          <a:ext cx="9001440" cy="6735600"/>
        </p:xfrm>
        <a:graphic>
          <a:graphicData uri="http://schemas.openxmlformats.org/drawingml/2006/table">
            <a:tbl>
              <a:tblPr/>
              <a:tblGrid>
                <a:gridCol w="714600"/>
                <a:gridCol w="4857840"/>
                <a:gridCol w="1000080"/>
                <a:gridCol w="1428480"/>
                <a:gridCol w="1000440"/>
              </a:tblGrid>
              <a:tr h="8535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міст операці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м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еспондуючі рахунк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бе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значено собівартість забракованих вироб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ибутковано побічну продукцію від списання остаточного бра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исані на винних осіб втрат від остаточного й виправного бра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сунуто претензію за поставку неякісної сировини й матеріал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исано величину втрат від технічно неминучого браку (1350-200-500-1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0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401A-1E0C-4A1D-BF3B-D890A48E89A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38120" y="6480"/>
            <a:ext cx="8175600" cy="2200320"/>
          </a:xfrm>
          <a:prstGeom prst="rect">
            <a:avLst/>
          </a:prstGeom>
          <a:ln w="0">
            <a:noFill/>
          </a:ln>
        </p:spPr>
      </p:pic>
      <p:sp>
        <p:nvSpPr>
          <p:cNvPr id="44" name="Подзаголовок 2"/>
          <p:cNvSpPr/>
          <p:nvPr/>
        </p:nvSpPr>
        <p:spPr>
          <a:xfrm>
            <a:off x="304920" y="1752480"/>
            <a:ext cx="8381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вироби, напівфабрикати, деталі, вузли тощо, а також роботи, що не відповідають за якістю встановленим стандартам або технічним умовам і не можуть бути використані за прямим призначенням або можуть використовуватись тільки після проведення додаткових робіт з їх виправл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3" descr=""/>
          <p:cNvPicPr/>
          <p:nvPr/>
        </p:nvPicPr>
        <p:blipFill>
          <a:blip r:embed="rId2"/>
          <a:stretch/>
        </p:blipFill>
        <p:spPr>
          <a:xfrm>
            <a:off x="6413400" y="4809960"/>
            <a:ext cx="2822760" cy="2565720"/>
          </a:xfrm>
          <a:prstGeom prst="rect">
            <a:avLst/>
          </a:prstGeom>
          <a:ln w="0">
            <a:noFill/>
          </a:ln>
        </p:spPr>
      </p:pic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4BB3-9457-4DE6-9385-91D78F53A79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2" descr=""/>
          <p:cNvPicPr/>
          <p:nvPr/>
        </p:nvPicPr>
        <p:blipFill>
          <a:blip r:embed="rId1"/>
          <a:stretch/>
        </p:blipFill>
        <p:spPr>
          <a:xfrm>
            <a:off x="212760" y="0"/>
            <a:ext cx="4121280" cy="1017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571680" y="1143000"/>
            <a:ext cx="82152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У підприємства «Кераміка» у звітному періоді виявлено кілька партій бракованої продукції, (які відділом технічного контролю поділені натри вид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випадковий брак у сумі 600 грн. (винні не встановлені, продукція не придатна для подальшого використання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технічно неминучий виправний брак (собівартість бракованих виробів-800 грн., витрати на виправлення 200 грн.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технічно неминучий остаточний брак у сумі 250 грн. (у тому числі витрати на освоєння виробництва - 20 грн., загальновиробничі витрати 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грн.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E279-D938-4507-9DCA-2602FE67DCA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71280" y="615960"/>
          <a:ext cx="9001440" cy="5456160"/>
        </p:xfrm>
        <a:graphic>
          <a:graphicData uri="http://schemas.openxmlformats.org/drawingml/2006/table">
            <a:tbl>
              <a:tblPr/>
              <a:tblGrid>
                <a:gridCol w="714600"/>
                <a:gridCol w="4786200"/>
                <a:gridCol w="1071720"/>
                <a:gridCol w="1285920"/>
                <a:gridCol w="1143000"/>
              </a:tblGrid>
              <a:tr h="7923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2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ст операці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спондуючі рахунк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е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14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втрати від усіх видів браку, виявленого у звітному періоді (600 + 800 + 25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9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уються на собівартість втрати від випадкового браку (600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9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вартість запасів, використаних на виправлення брак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*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2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ображення витрат на заробітну плату (відрахування на соціальні заходи) робітників, зайнятих виправленням брак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*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960D-351F-437D-AC49-39408B509E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71280" y="795240"/>
          <a:ext cx="9001440" cy="4633920"/>
        </p:xfrm>
        <a:graphic>
          <a:graphicData uri="http://schemas.openxmlformats.org/drawingml/2006/table">
            <a:tbl>
              <a:tblPr/>
              <a:tblGrid>
                <a:gridCol w="571680"/>
                <a:gridCol w="4929120"/>
                <a:gridCol w="1071720"/>
                <a:gridCol w="1428480"/>
                <a:gridCol w="1000440"/>
              </a:tblGrid>
              <a:tr h="1590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льновиробничі витрати, віднесені до складу втрат на виправлення брак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804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втрати й витрати щодо виправлення технічно неминучого брак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094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втрати від технічно неминучого остаточного брак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sp>
        <p:nvSpPr>
          <p:cNvPr id="10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5594-1433-4E07-9232-3F6ABCC8A59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2" descr=""/>
          <p:cNvPicPr/>
          <p:nvPr/>
        </p:nvPicPr>
        <p:blipFill>
          <a:blip r:embed="rId1"/>
          <a:stretch/>
        </p:blipFill>
        <p:spPr>
          <a:xfrm>
            <a:off x="201600" y="1762200"/>
            <a:ext cx="8820000" cy="313380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3331-B833-4349-A3CB-90B508354CD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4"/>
          <p:cNvGraphicFramePr/>
          <p:nvPr/>
        </p:nvGraphicFramePr>
        <p:xfrm>
          <a:off x="214200" y="71280"/>
          <a:ext cx="8763120" cy="657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71280"/>
                    <a:ext cx="8763120" cy="657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DA80-163E-4089-B315-75A407CE425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249120" y="433440"/>
            <a:ext cx="8516880" cy="1822320"/>
          </a:xfrm>
          <a:prstGeom prst="rect">
            <a:avLst/>
          </a:prstGeom>
          <a:ln w="0">
            <a:noFill/>
          </a:ln>
        </p:spPr>
      </p:pic>
      <p:sp>
        <p:nvSpPr>
          <p:cNvPr id="114" name="Подзаголовок 2"/>
          <p:cNvSpPr/>
          <p:nvPr/>
        </p:nvSpPr>
        <p:spPr>
          <a:xfrm>
            <a:off x="0" y="266688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876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0000"/>
                </a:solidFill>
                <a:latin typeface="Calibri"/>
              </a:rPr>
              <a:t>Напівфабрикати, які споживаються всередині підприємств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F75F-45BE-45EC-896B-0D98C4A99A5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993600" y="-6480"/>
            <a:ext cx="7772400" cy="1884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0" y="2588760"/>
            <a:ext cx="9183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інші підприємства – з метою подальшої обробки (переробки) напівфабрикатів у готову продукцію (пряжа, відливка стальна, спирт тощ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інцеві споживачі – фізичні або юридичні особи (спирт, вершки молочні, фарш м’ясний тощ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00A1-4CD2-4D19-BA9D-1F5357A05AB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85840" y="380880"/>
            <a:ext cx="871524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Аналітичний кількісно-сортовий облік напівфабрикатів ведуть за місцями їх зберіганн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Оцінюють напівфабрикати за фактичною виробничою собівартістю, однак у деяких випадках можливим є використання облікових цін, які наближені до собівартості  напівфабрикаті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Облік руху напівфабрикатів всередині підприємства ведеться на рахунку</a:t>
            </a:r>
            <a:br>
              <a:rPr sz="3000"/>
            </a:br>
            <a:r>
              <a:rPr b="1" lang="uk-UA" sz="3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23 “Виробництво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915A-2510-4554-92F6-26FE47FE164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хема 4" descr=""/>
          <p:cNvPicPr/>
          <p:nvPr/>
        </p:nvPicPr>
        <p:blipFill>
          <a:blip r:embed="rId1"/>
          <a:stretch/>
        </p:blipFill>
        <p:spPr>
          <a:xfrm>
            <a:off x="-109440" y="1523880"/>
            <a:ext cx="9296280" cy="5254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49cdc"/>
                </a:solidFill>
                <a:latin typeface="Calibri"/>
              </a:rPr>
              <a:t>При цьому напівфабрикати можна оцінюва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919D-64FE-4823-A5A8-0E4A478E27F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4"/>
          <p:cNvGraphicFramePr/>
          <p:nvPr/>
        </p:nvGraphicFramePr>
        <p:xfrm>
          <a:off x="0" y="971640"/>
          <a:ext cx="9144000" cy="46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1640"/>
                    <a:ext cx="91440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A5BA-046A-48D8-9988-5A76192CB63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хема 1" descr=""/>
          <p:cNvPicPr/>
          <p:nvPr/>
        </p:nvPicPr>
        <p:blipFill>
          <a:blip r:embed="rId1"/>
          <a:stretch/>
        </p:blipFill>
        <p:spPr>
          <a:xfrm>
            <a:off x="109440" y="152280"/>
            <a:ext cx="8937720" cy="6632640"/>
          </a:xfrm>
          <a:prstGeom prst="rect">
            <a:avLst/>
          </a:prstGeom>
          <a:ln w="0">
            <a:noFill/>
          </a:ln>
        </p:spPr>
      </p:pic>
      <p:sp>
        <p:nvSpPr>
          <p:cNvPr id="4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DED1-FB5A-4D57-BBA6-32EC9740231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654120"/>
                <a:gridCol w="4075200"/>
                <a:gridCol w="1025280"/>
                <a:gridCol w="946080"/>
                <a:gridCol w="1182960"/>
                <a:gridCol w="630000"/>
                <a:gridCol w="630360"/>
              </a:tblGrid>
              <a:tr h="1254240">
                <a:tc gridSpan="7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ік операцій з напівфабрикатами, використаними для власних потреб підприємств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640"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ст бухгалтерського запису або податкова под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ський обл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имано сировину для виготовлення плат ІС9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.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8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имано матеріали для виготовлення плат ІС9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.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,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58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имано купівельні напівфабрикати для виготовлення плат ІС9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.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5,4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82E7-213D-406D-B928-F6110A76789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76320" y="65160"/>
          <a:ext cx="8129520" cy="6751440"/>
        </p:xfrm>
        <a:graphic>
          <a:graphicData uri="http://schemas.openxmlformats.org/drawingml/2006/table">
            <a:tbl>
              <a:tblPr/>
              <a:tblGrid>
                <a:gridCol w="395280"/>
                <a:gridCol w="4686120"/>
                <a:gridCol w="625680"/>
                <a:gridCol w="1015920"/>
                <a:gridCol w="1406520"/>
              </a:tblGrid>
              <a:tr h="152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основну заробітну плату основних виробничих робітників за виготовлення плат ІС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,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ЄСВ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12,80грн. х 38%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1,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2, 653, 65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,8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розподілені змінні загально виробним і витрат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7,7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розподілені постійні загально виробничі витрат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,9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ибутковано напівфабрикат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но плата на виготовлення комутаторів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50,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0EDA-AFE9-4FEA-AABC-CAAB98161E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4"/>
          <p:cNvGraphicFramePr/>
          <p:nvPr/>
        </p:nvGraphicFramePr>
        <p:xfrm>
          <a:off x="0" y="971640"/>
          <a:ext cx="9144000" cy="46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1640"/>
                    <a:ext cx="91440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4B09-902E-435F-8C8A-2B4A79784F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0"/>
          <a:ext cx="9144000" cy="6899400"/>
        </p:xfrm>
        <a:graphic>
          <a:graphicData uri="http://schemas.openxmlformats.org/drawingml/2006/table">
            <a:tbl>
              <a:tblPr/>
              <a:tblGrid>
                <a:gridCol w="533520"/>
                <a:gridCol w="3886200"/>
                <a:gridCol w="914400"/>
                <a:gridCol w="914400"/>
                <a:gridCol w="1371600"/>
                <a:gridCol w="1066680"/>
                <a:gridCol w="457200"/>
              </a:tblGrid>
              <a:tr h="930240">
                <a:tc gridSpan="7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ік операцій з напівфабрикатами, призначеними для реалізаці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міст бухгалтерського запису або податкова поді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хгалтерський облі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, грн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готовлено плати ІС9 для реалізації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0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но на склад плати ІС9 для подальшої реалізації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50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имано аванс за поставку партії плат ІС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аховано податкові зобов'язання з ПДВ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ано покупцеві партію плат ІС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9D66-63D0-4446-8AF8-72FBAFAEB4A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85680" y="76320"/>
          <a:ext cx="9058320" cy="6705360"/>
        </p:xfrm>
        <a:graphic>
          <a:graphicData uri="http://schemas.openxmlformats.org/drawingml/2006/table">
            <a:tbl>
              <a:tblPr/>
              <a:tblGrid>
                <a:gridCol w="446040"/>
                <a:gridCol w="3765600"/>
                <a:gridCol w="1015920"/>
                <a:gridCol w="938160"/>
                <a:gridCol w="1719360"/>
                <a:gridCol w="625680"/>
                <a:gridCol w="547560"/>
              </a:tblGrid>
              <a:tr h="4204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ховано податкові зобов'язання з ПДВ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,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мо залік взаємної заборгованості з покупцем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0,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18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собівартість реалізованих плат ІС9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50,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нерозподілені постійні загально виробним і витрат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7,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385C-9D5D-4994-8660-BAD744D94F8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52280" y="152280"/>
          <a:ext cx="8991720" cy="6708960"/>
        </p:xfrm>
        <a:graphic>
          <a:graphicData uri="http://schemas.openxmlformats.org/drawingml/2006/table">
            <a:tbl>
              <a:tblPr/>
              <a:tblGrid>
                <a:gridCol w="443160"/>
                <a:gridCol w="3900240"/>
                <a:gridCol w="838440"/>
                <a:gridCol w="914400"/>
                <a:gridCol w="1752480"/>
                <a:gridCol w="609480"/>
                <a:gridCol w="533520"/>
              </a:tblGrid>
              <a:tr h="3985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на фінансовий результат дохід від реалізації готової продукції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000,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на фінансовий результат собівартість реалізованої продукції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400,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на фінансовий результат адміністративні витрат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3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на фінансовий результат інші операційні витрат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00,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25560" rIns="255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ано на фінансовий результат витрати на збу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0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2845-3B1F-4922-8EA5-4A485E92EBB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49cdc"/>
                </a:solidFill>
                <a:latin typeface="Calibri"/>
              </a:rPr>
              <a:t>За місцем виявлення брак ділиться 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хема 2" descr=""/>
          <p:cNvPicPr/>
          <p:nvPr/>
        </p:nvPicPr>
        <p:blipFill>
          <a:blip r:embed="rId1"/>
          <a:stretch/>
        </p:blipFill>
        <p:spPr>
          <a:xfrm>
            <a:off x="92160" y="950760"/>
            <a:ext cx="8912160" cy="5803920"/>
          </a:xfrm>
          <a:prstGeom prst="rect">
            <a:avLst/>
          </a:prstGeom>
          <a:ln w="0">
            <a:noFill/>
          </a:ln>
        </p:spPr>
      </p:pic>
      <p:sp>
        <p:nvSpPr>
          <p:cNvPr id="5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76B0-FE6C-4357-8CD8-530B2F31A3C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"/>
          <p:cNvGraphicFramePr/>
          <p:nvPr/>
        </p:nvGraphicFramePr>
        <p:xfrm>
          <a:off x="533520" y="152280"/>
          <a:ext cx="8229600" cy="15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280"/>
                    <a:ext cx="822960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Схема 4" descr=""/>
          <p:cNvPicPr/>
          <p:nvPr/>
        </p:nvPicPr>
        <p:blipFill>
          <a:blip r:embed="rId3"/>
          <a:stretch/>
        </p:blipFill>
        <p:spPr>
          <a:xfrm>
            <a:off x="-60480" y="317520"/>
            <a:ext cx="9217080" cy="530208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C104-7C9E-4431-BAB4-795E2093120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536400" y="19080"/>
            <a:ext cx="784548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Object 1"/>
          <p:cNvGraphicFramePr/>
          <p:nvPr/>
        </p:nvGraphicFramePr>
        <p:xfrm>
          <a:off x="76320" y="1536840"/>
          <a:ext cx="8959680" cy="394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536840"/>
                    <a:ext cx="89596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197F-6477-4E8B-9009-3F52350F9F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298440" y="152280"/>
            <a:ext cx="8534520" cy="1122480"/>
          </a:xfrm>
          <a:prstGeom prst="rect">
            <a:avLst/>
          </a:prstGeom>
          <a:ln w="0">
            <a:noFill/>
          </a:ln>
        </p:spPr>
      </p:pic>
      <p:sp>
        <p:nvSpPr>
          <p:cNvPr id="62" name="Содержимое 2"/>
          <p:cNvSpPr/>
          <p:nvPr/>
        </p:nvSpPr>
        <p:spPr>
          <a:xfrm>
            <a:off x="30168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6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собівартість остаточно забракованої продукції (виробів, напівфабрикатів) з технологічних причин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артість матеріалів, напівфабрикатів (деталей), зіпсованих під час налагодження устаткування, у випадку зупинки або простою обладнання через тимчасове відключення енергії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артість скляних, керамічних і пластмасових виробів, розбитих під час транспортування на виробництві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624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итрати на усунення технічно неминучого брак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4C54-2CE3-4035-A28C-FA81A1FF6F5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712800" y="390600"/>
            <a:ext cx="7974000" cy="10364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380880" y="205740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визначається як сума фактично понесених витрат за всіма статтями калькуляції за винятком витрат на підготовку й освоєння виробництва, загальновиробничих витрат та інших спеціальних витрат, які відносяться тільки на собівартість готової продук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82AC-B0AF-4B7F-91C8-798AB0E4451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534520" cy="1206360"/>
          </a:xfrm>
          <a:prstGeom prst="rect">
            <a:avLst/>
          </a:prstGeom>
          <a:ln w="0">
            <a:noFill/>
          </a:ln>
        </p:spPr>
      </p:pic>
      <p:sp>
        <p:nvSpPr>
          <p:cNvPr id="68" name="Содержимое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8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вартість сировини, матеріалів і напівфабрикатів, витрачених на усунення дефектів продукції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8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витрати на оплату праці робітників, нараховану за виправлення браку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8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відрахування на соціальні заходи від нарахованої заробітної плати згідно з чинним законодавство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213C-4D3D-4B38-84C1-F9135DCC638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I</dc:creator>
  <dc:description/>
  <dc:language>en-US</dc:language>
  <cp:lastModifiedBy>MSI</cp:lastModifiedBy>
  <cp:lastPrinted>2019-10-31T11:17:41Z</cp:lastPrinted>
  <dcterms:modified xsi:type="dcterms:W3CDTF">2021-11-10T11:07:37Z</dcterms:modified>
  <cp:revision>25</cp:revision>
  <dc:subject/>
  <dc:title>Слайд 1</dc:title>
</cp:coreProperties>
</file>