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50D4-1434-44B0-8D63-649E2A4A0B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A13A-889A-466C-8E42-21BCCBDE17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E7168-1D05-4139-9BE8-256766A4B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256AC-788B-4CEA-9024-745A4561D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8BCFC-708D-48B2-975E-5F6D618FE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45F96-23B1-4765-AD36-DCE2A6DAE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CA08A-F739-4417-81FB-E7CE37450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8CBC6-26BB-45EB-B992-5C169BDD5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E694-DC67-4747-8C09-7772BC16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3FAF-9FC4-49E3-9AE0-DAC7BA4D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B14D-BDE8-4504-B092-8D48B139C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3A3F-2269-409E-948A-FC8485395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8B323-C725-4C13-8EF7-38836A99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033D0-12EC-497D-AAE9-389AEB4D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B0DA-104C-4C63-8F30-699B19DEDF2E}" type="datetime">
              <a:rPr b="0" lang="ru-RU"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310B-5BB3-49B9-B174-641E1C33024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46160" y="281160"/>
            <a:ext cx="9192960" cy="5510160"/>
          </a:xfrm>
          <a:prstGeom prst="rect">
            <a:avLst/>
          </a:prstGeom>
          <a:ln w="0">
            <a:noFill/>
          </a:ln>
        </p:spPr>
      </p:pic>
      <p:sp>
        <p:nvSpPr>
          <p:cNvPr id="49"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41AC-98AF-47B1-A0FD-0D9FB24C7E8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2F8E-ECDC-4AF2-A7EF-BED501D4E52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69" name="Прямоугольник 3"/>
          <p:cNvSpPr/>
          <p:nvPr/>
        </p:nvSpPr>
        <p:spPr>
          <a:xfrm>
            <a:off x="380880" y="353880"/>
            <a:ext cx="8001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ідтверджують це і відповідні П(С)БО. Так, п. 6 П(С)БО 9 «Запаси» визначає МШП як запаси, що використовуються не більше одного року або нормального операційного циклу, якщо він більше одного року. Таке ж визначення наведене і в п. 1.3 Методрекомендацій № 2*. Ну, а до МНМА потрапляють активи, що експлуатуються довше за цей строк (пп. 4, 5 П(С)БО 7 «Основні засоби», пп. 2, 7 Методрекомендацій № 56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Методичні рекомендації з обліку запасів, затверджені наказом Мінфіну від 10.01.2007 р. № 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Методичні рекомендації з обліку основних засобів, затверджені наказом Мінфіну від 30.09.2003 р. № 56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верніть увагу: орієнтуватися при класифікації активів слід на передбачуваний (очікуваний), а не на фактичний період їх використ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5AFD-64CB-4026-9DF1-204D0935496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1" name="Прямоугольник 3"/>
          <p:cNvSpPr/>
          <p:nvPr/>
        </p:nvSpPr>
        <p:spPr>
          <a:xfrm>
            <a:off x="457200" y="1066680"/>
            <a:ext cx="8229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же, щоб визначити, чим саме є конкретний актив — МШП або МНМА — достатньо знати очікуваний строк його використання. Якщо він менше або дорівнює одному року (операційному циклу, якщо той більше року), то незалежно від вартості — це МШП. Якщо ж передбачається, що строк експлуатації перевищить один рік, то потрібно оцінити вартість такого «довгограючого» активу. Якщо вона вписується в малоцінні межі, які підприємство закріпило в обліковій політиці, — це МНМА (окрім активів, що обліковуються на субрахунках 111, 113, 114, 115, 116, 117)). Якщо не вписується — це інші — немалоцінні — ОЗ.</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наочності покажемо це на рисун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1F1E-E8EA-4A1D-AA99-B405F393BB3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73" name="Рисунок 3" descr=""/>
          <p:cNvPicPr/>
          <p:nvPr/>
        </p:nvPicPr>
        <p:blipFill>
          <a:blip r:embed="rId1"/>
          <a:srcRect l="4319" t="30212" r="33604" b="9375"/>
          <a:stretch/>
        </p:blipFill>
        <p:spPr>
          <a:xfrm>
            <a:off x="609480" y="590400"/>
            <a:ext cx="8077320" cy="4419720"/>
          </a:xfrm>
          <a:prstGeom prst="rect">
            <a:avLst/>
          </a:prstGeom>
          <a:ln w="0">
            <a:noFill/>
          </a:ln>
        </p:spPr>
      </p:pic>
      <p:sp>
        <p:nvSpPr>
          <p:cNvPr id="74" name="Прямоугольник 4"/>
          <p:cNvSpPr/>
          <p:nvPr/>
        </p:nvSpPr>
        <p:spPr>
          <a:xfrm>
            <a:off x="609480" y="526716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Calibri"/>
              </a:rPr>
              <a:t>Рис. Класифікація матеріальних активів у бухгалтерському облі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DED-A94C-4B70-9688-C8C939B103D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6" name="Прямоугольник 2"/>
          <p:cNvSpPr/>
          <p:nvPr/>
        </p:nvSpPr>
        <p:spPr>
          <a:xfrm>
            <a:off x="457200" y="414360"/>
            <a:ext cx="80010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же, головне у визнанні МШП це відповідь на 2 питання: </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який строк використання ми очікуємо для даного об’єкта? Саме очікуємо, а не те скільки він взагалі фізично потенційно може прослужити. Якщо об’єкт з досвіду здатний зламатися через місяць (наприклад, ручка, олівець, свердло), то це без сумніву МШП; </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и може він використовуватися багаторазово без зміни своєї матеріально форм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Головне для МШП – очікуваний строк використання менше року та здатність зберігати в ході використання фізичну фор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405B-AF04-47C5-A055-0BC71B8B24B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78" name=""/>
          <p:cNvGraphicFramePr/>
          <p:nvPr/>
        </p:nvGraphicFramePr>
        <p:xfrm>
          <a:off x="304920" y="1371600"/>
          <a:ext cx="8534160" cy="4114800"/>
        </p:xfrm>
        <a:graphic>
          <a:graphicData uri="http://schemas.openxmlformats.org/drawingml/2006/table">
            <a:tbl>
              <a:tblPr/>
              <a:tblGrid>
                <a:gridCol w="2133360"/>
                <a:gridCol w="1219320"/>
                <a:gridCol w="1676520"/>
                <a:gridCol w="1371600"/>
                <a:gridCol w="213336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Що порівнюємо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 чи МНМА?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 чи виробничі запас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НМ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иробничі запас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Строк використан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Менше рок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Більше рок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Менше рок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Багаторазовість і незмінність фор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та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та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н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Приклад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рдла, пилка, звичайна офісна ручк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гнегасни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ртридж для принтера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нер для заправки картриджа у принте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Прямоугольник 7"/>
          <p:cNvSpPr/>
          <p:nvPr/>
        </p:nvSpPr>
        <p:spPr>
          <a:xfrm>
            <a:off x="1028880" y="60948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ді стає зрозумілим, що й куди відне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0E07-4C88-4A4F-9506-EEA147572B5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Прямоугольник 2"/>
          <p:cNvSpPr/>
          <p:nvPr/>
        </p:nvSpPr>
        <p:spPr>
          <a:xfrm>
            <a:off x="762120" y="2286000"/>
            <a:ext cx="7772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2. Податковий облік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65DB-FBB4-430D-A7D4-3E24F2D1951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3" name="Прямоугольник 2"/>
          <p:cNvSpPr/>
          <p:nvPr/>
        </p:nvSpPr>
        <p:spPr>
          <a:xfrm>
            <a:off x="304920" y="1371600"/>
            <a:ext cx="83818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2d2d"/>
                </a:solidFill>
                <a:latin typeface="Calibri"/>
              </a:rPr>
              <a:t>Податок на прибуто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d2d2d"/>
                </a:solidFill>
                <a:latin typeface="Calibri"/>
              </a:rPr>
              <a:t>В обліку податку на прибуток жодних особливостей для МШП не виділено. Податкових різниць по ним немає. Як високодоходники, так і малодоходники ведуть облік однаково – на основі бухгалтерського.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ECC7-39F8-416E-B3FA-CD8DF58C1ED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5" name="Прямоугольник 2"/>
          <p:cNvSpPr/>
          <p:nvPr/>
        </p:nvSpPr>
        <p:spPr>
          <a:xfrm>
            <a:off x="457200" y="609480"/>
            <a:ext cx="8229600" cy="53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2d2d2d"/>
                </a:solidFill>
                <a:latin typeface="Calibri"/>
              </a:rPr>
              <a:t>ПДВ</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2d2d2d"/>
                </a:solidFill>
                <a:latin typeface="Calibri"/>
              </a:rPr>
              <a:t>Тут проблемним питанням є нюанси щодо тих МШП, по яким важко довести зв’язок з господарською діяльністю платника податку. Це стосується в першу чергу офісних МШП. Якщо немає виробничого використання, то після відображення податкового кредиту при придбанні таких МШП необхідно при початку їх використання нарахувати компенсуюче податкове зобов’язання за п. 198.5 ПКУ, цим самим “прибрати” податковий кредит. Зробити це треба шляхом реєстрації відповідної зведеної податкової накладної не пізніше останнього дня звітного місяця.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2d2d2d"/>
                </a:solidFill>
                <a:latin typeface="Calibri"/>
              </a:rPr>
              <a:t>Якщо по виданим МШП проблематично довести зв’язок з виробничою діяльністю, то нараховуємо компенсуюче зобов’язання з ПДВ</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A6F6-21E9-4E15-B840-3A4D0AB878A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7" name="Прямоугольник 3"/>
          <p:cNvSpPr/>
          <p:nvPr/>
        </p:nvSpPr>
        <p:spPr>
          <a:xfrm>
            <a:off x="380880" y="379440"/>
            <a:ext cx="8305920" cy="324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одаткові зобов’язання (ПЗ) з ПДВ при передачі МШП в експлуатацію не виникають. Проте, необхідність нарахування ПДВ-зобов’язань може виникнути при іншому «передчасному» списанні МШП — якщо МШП загублене або зламалося ще до передачі в експлуатацію. Тоді згідно з п.п. «г» п. 198.5 ПКУ доведеться нарахувати «компенсуючі» ПЗ, виходячи з вартості придбання таких передчасно загублених/зламаних МШП. Звичайно, тільки в тому випадку, якщо МШП отримувався з ПДВ і це підтверджено зареєстрованою ПН (БЗ 101.06).</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7845-5C35-4A30-AFD1-AD90D9F6C0E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9" name="Прямоугольник 2"/>
          <p:cNvSpPr/>
          <p:nvPr/>
        </p:nvSpPr>
        <p:spPr>
          <a:xfrm>
            <a:off x="380880" y="457200"/>
            <a:ext cx="8305920" cy="464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У разі, коли особу, яка винна у втраті/поломці ТМЦ, встановлено, податківці пропонують розцінювати отриману від неї компенсацію як відшкодування вартості втрачених/зламаних МШП (БЗ 101.15). Тобто таке «відшкодовуване» списання МШП вони прирівнюють до його продажу (постачання) за вартістю отриманого відшкодування.</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Саме суму компенсації, отриману від винної особи, на їх думку, слід вважати базою оподаткування ПДВ. А ось негосподарського використання в цій ситуації вони не вбачаю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Хоча такий підхід фіскалів не обґрунтований. Адже втрата/поломка МШП (хоч з компенсацією, хоч без) під визначення постачання товарів (з п.п. 14.1.191 ПКУ) вже точно не підпадає.</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85720" y="269640"/>
            <a:ext cx="61722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500" spc="-1" strike="noStrike">
                <a:solidFill>
                  <a:srgbClr val="c00000"/>
                </a:solidFill>
                <a:latin typeface="Calibri"/>
              </a:rPr>
              <a:t>Питання лекції</a:t>
            </a:r>
            <a:endParaRPr b="0" lang="en-US" sz="6500" spc="-1" strike="noStrike">
              <a:solidFill>
                <a:srgbClr val="000000"/>
              </a:solidFill>
              <a:latin typeface="Calibri"/>
            </a:endParaRPr>
          </a:p>
        </p:txBody>
      </p:sp>
      <p:sp>
        <p:nvSpPr>
          <p:cNvPr id="51" name=""/>
          <p:cNvSpPr txBox="1"/>
          <p:nvPr/>
        </p:nvSpPr>
        <p:spPr>
          <a:xfrm>
            <a:off x="304920" y="1599840"/>
            <a:ext cx="8534160" cy="4530600"/>
          </a:xfrm>
          <a:prstGeom prst="rect">
            <a:avLst/>
          </a:prstGeom>
          <a:noFill/>
          <a:ln w="0">
            <a:noFill/>
          </a:ln>
        </p:spPr>
        <p:txBody>
          <a:bodyPr anchor="t">
            <a:normAutofit/>
          </a:bodyPr>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Сутність МШП </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Податковий облік МШП</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Бухгалтерський облік МШП</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Документальне оформлення обліку МШП</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Бухгалтерські проведення з обліку МШП</a:t>
            </a:r>
            <a:endParaRPr b="0" lang="en-US" sz="4000" spc="-1" strike="noStrike">
              <a:solidFill>
                <a:srgbClr val="000000"/>
              </a:solidFill>
              <a:latin typeface="Calibri"/>
            </a:endParaRPr>
          </a:p>
        </p:txBody>
      </p:sp>
      <p:sp>
        <p:nvSpPr>
          <p:cNvPr id="5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4EA2-35E3-47FB-B74C-7B0ACB47B3F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C1CC-8960-4288-B4A0-8CF15EF7442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1" name=""/>
          <p:cNvGraphicFramePr/>
          <p:nvPr/>
        </p:nvGraphicFramePr>
        <p:xfrm>
          <a:off x="317520" y="2085840"/>
          <a:ext cx="8458200" cy="3430800"/>
        </p:xfrm>
        <a:graphic>
          <a:graphicData uri="http://schemas.openxmlformats.org/drawingml/2006/table">
            <a:tbl>
              <a:tblPr/>
              <a:tblGrid>
                <a:gridCol w="673200"/>
                <a:gridCol w="4800600"/>
                <a:gridCol w="1143000"/>
                <a:gridCol w="990360"/>
                <a:gridCol w="851040"/>
              </a:tblGrid>
              <a:tr h="708120">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п</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міст господарської операції</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хгалтерський облік</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у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рн.</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70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т</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т</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ибутковано калькулятор</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2</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3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5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44/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3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708120">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римано зареєстровану ПН і відображено у складі ПК</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41/ПДВ</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44/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дійснено оплату за калькулятор</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3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1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2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едано калькулятор в експлуатацію</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93</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2</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5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Rectangle 1"/>
          <p:cNvSpPr/>
          <p:nvPr/>
        </p:nvSpPr>
        <p:spPr>
          <a:xfrm>
            <a:off x="317520" y="477360"/>
            <a:ext cx="8458200" cy="915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клад. </a:t>
            </a:r>
            <a:r>
              <a:rPr b="0" lang="ru-RU" sz="2000" spc="-1" strike="noStrike">
                <a:solidFill>
                  <a:srgbClr val="000000"/>
                </a:solidFill>
                <a:latin typeface="Calibri"/>
              </a:rPr>
              <a:t>Підприємство — платник ПДВ придбало калькулятор вартістю 420 грн. (у т. ч. ПДВ — 70 грн.), який переданий в експлуатацію менеджерові зі збуту. Очікуваний строк корисного використання — 1 рік.</a:t>
            </a:r>
            <a:endParaRPr b="0" lang="en-US" sz="2000" spc="-1" strike="noStrike">
              <a:solidFill>
                <a:srgbClr val="000000"/>
              </a:solidFill>
              <a:latin typeface="Arial"/>
            </a:endParaRPr>
          </a:p>
        </p:txBody>
      </p:sp>
      <p:sp>
        <p:nvSpPr>
          <p:cNvPr id="93" name="Прямоугольник 4"/>
          <p:cNvSpPr/>
          <p:nvPr/>
        </p:nvSpPr>
        <p:spPr>
          <a:xfrm>
            <a:off x="6144120" y="155736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блиця 1. Облік МШ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ABFD-1782-496F-ACBD-DD21AF86886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95" name="Прямоугольник 3"/>
          <p:cNvSpPr/>
          <p:nvPr/>
        </p:nvSpPr>
        <p:spPr>
          <a:xfrm>
            <a:off x="473040" y="230040"/>
            <a:ext cx="821376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ДФО та військовий збір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т є певний ризик того, що певні об’єкти можна пов’язати з конкретною особою та визнати, що вона користується додатковим благом, по якому не був сплачений податок. Однак, тут 2 моменти: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ШП загального користування (наприклад, канцелярське приладдя, мило) не можна персоніфікувати (користуються всі працівники бухгалтерії), тому ПДФО нарахувати неможливо;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ШП, яке було видане конкретному працівнику (наприклад, спецодяг, корпоративний одяг) належить не працівнику, а підприємству. Після того, як спецодяг був зношений, щоб тут не було питань треба списати його належним документом. Отже, за правильно поставленого документального оформлення тут теж питань щодо ПДФО бути не повинно. Бажано б прописати пункт у трудовому договорі, що підприємство забезпечує працівників на період роботи спецодягом, корпоративним одягом, який вони зобов’язані носити, щоб це не виглядало як подаруно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 якщо спецодяг, наприклад, корпоративний одяг одразу дарується працівнику, то тоді доведеться нараховувати усі податки: ПДВ, ПДФО, військовий збір та й, скоріше за все, й ЄС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дача спецодягу чи інструменту робітнику для тимчасового користування на роботі не є додатковим благом для нього й не оподатковується ПДФО і військовим збор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009E-637F-43B2-A125-AC998D17BB0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Прямоугольник 2"/>
          <p:cNvSpPr/>
          <p:nvPr/>
        </p:nvSpPr>
        <p:spPr>
          <a:xfrm>
            <a:off x="1447920" y="2286000"/>
            <a:ext cx="6503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0000"/>
                </a:solidFill>
                <a:latin typeface="Calibri"/>
              </a:rPr>
              <a:t>3. Бухгалтерський облік 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605E-C365-4878-9B1B-0A3919597D5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99" name="Прямоугольник 3"/>
          <p:cNvSpPr/>
          <p:nvPr/>
        </p:nvSpPr>
        <p:spPr>
          <a:xfrm>
            <a:off x="457200" y="609480"/>
            <a:ext cx="82296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обліку й узагальнення інформації про наявність і рух МШП, що належать підприємству, використовують </a:t>
            </a:r>
            <a:r>
              <a:rPr b="1" lang="ru-RU" sz="2400" spc="-1" strike="noStrike">
                <a:solidFill>
                  <a:srgbClr val="000000"/>
                </a:solidFill>
                <a:latin typeface="Calibri"/>
              </a:rPr>
              <a:t>рахунок 22 «Малоцінні та швидкозношувані предмети».</a:t>
            </a:r>
            <a:r>
              <a:rPr b="0" lang="ru-RU" sz="2400" spc="-1" strike="noStrike">
                <a:solidFill>
                  <a:srgbClr val="000000"/>
                </a:solidFill>
                <a:latin typeface="Calibri"/>
              </a:rPr>
              <a:t> Субрахунки до цього рахунку підприємство відкриває самостійно залежно від видів МШП за однорідними групами, встановленими виходячи з власних потре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 дебетом рахунку 22 відображають придбані (отримані) або виготовлені МШП за їх первісною вартістю (про те, як її визначити, див. «Податки та бухгалтерський облік», 2018, № 50, с. 9). Облікову (балансову) вартість переданих в експлуатацію МШП показують за кредитом рахунку 22 з одночасним списанням на рахунки обліку витрат. Сюди ж потрапить списання недостач і втрат від псування таких предметів, а також інше їх вибутт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C098-4DE7-4DB9-B4C3-304EA4577E0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1" name="Прямоугольник 2"/>
          <p:cNvSpPr/>
          <p:nvPr/>
        </p:nvSpPr>
        <p:spPr>
          <a:xfrm>
            <a:off x="304920" y="533520"/>
            <a:ext cx="83818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верніть увагу: вартість переданих в експлуатацію МШП відображають за кредитом рахунку 22. Тобто МШП обліковують у складі активів (на рахунку 22) тільки до передачі в експлуатацію, а при такій передачі їх списують з балансу. Проте, це не означає, що їх облік на цьому повністю завершений. Надалі має бути організований оперативний кількісний облік таких предметів у розрізі місць їх експлуатації і відповідальних осіб протягом усього строку їх фактичного використання (п. 23 П(С)БО 9, п. 2.22 Методрекомендацій № 2). Робиться це з тим, щоб забезпечити збереження зазначених предметів в експлуатації (Інструкція № 291 Інструкція про застосування Плану рахунків бухгалтерського обліку…, затверджена наказом Мінфіну від 30.11.99 р. № 29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B553-FBCE-48B2-A9E9-D147432EBB3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3" name="Прямоугольник 3"/>
          <p:cNvSpPr/>
          <p:nvPr/>
        </p:nvSpPr>
        <p:spPr>
          <a:xfrm>
            <a:off x="380880" y="533520"/>
            <a:ext cx="830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передачі МШП в експлуатацію та іншому вибутті їх оцінку проводять із застосуванням методів, передбачених п. 16 П(С)БО 9 (див. «Податки та бухгалтерський облік», 2018, № 50, с. 49). Причому для всіх МШП, що мають однакове призначення й однакові умови використання, застосовують тільки один з установлених цим пунктом методів. Запаси, що вибули, списують на відповідні рахунки обліку витрат залежно від їх призначення (Дт 15, 23, 91, 92, 93, 94 — Кт 2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що МШП, придатні для подальшого використання, повертають з експлуатації на склад, їх необхідно знову оприбуткувати. Для цього роблять проводку: Дт 22 — Кт 7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AB03-E830-4F16-8546-754AA7A70F9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 name="Прямоугольник 2"/>
          <p:cNvSpPr/>
          <p:nvPr/>
        </p:nvSpPr>
        <p:spPr>
          <a:xfrm>
            <a:off x="457200" y="654120"/>
            <a:ext cx="7924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d2d2d"/>
                </a:solidFill>
                <a:latin typeface="Calibri"/>
              </a:rPr>
              <a:t>В обліку МШП є свої нюанси, які відрізняють його від обліку МНМА та виробничих запасів. Хоча є й спільні чи схожі підходи. Їх наведено нижче:</a:t>
            </a:r>
            <a:endParaRPr b="0" lang="en-US" sz="2000" spc="-1" strike="noStrike">
              <a:solidFill>
                <a:srgbClr val="000000"/>
              </a:solidFill>
              <a:latin typeface="Arial"/>
            </a:endParaRPr>
          </a:p>
        </p:txBody>
      </p:sp>
      <p:graphicFrame>
        <p:nvGraphicFramePr>
          <p:cNvPr id="106" name=""/>
          <p:cNvGraphicFramePr/>
          <p:nvPr/>
        </p:nvGraphicFramePr>
        <p:xfrm>
          <a:off x="457200" y="1735200"/>
          <a:ext cx="7924680" cy="4816440"/>
        </p:xfrm>
        <a:graphic>
          <a:graphicData uri="http://schemas.openxmlformats.org/drawingml/2006/table">
            <a:tbl>
              <a:tblPr/>
              <a:tblGrid>
                <a:gridCol w="2362320"/>
                <a:gridCol w="556236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юанси облі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Як це реалізовано в обліку МШП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писання на витрат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передачі у використання одразу відбувається списання на витрати (Дт 23, 91, 92, 93, 949 Кт 2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изначення первісної вартост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логічно запасам. Включаємо витрати на доставку, митні платежі і т.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мортизаці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дсут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пеціалізовані первинні документ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є. Форми первинного обліку затверджені наказом Мінстату від 22.05.1996 р. № 145 (далі – Наказ № 145).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изначення вартості при списанн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логічно запасам. Як правило, використовується ідентифікована собівартість, тобто та вартість, по якій придбали (це первісна вартіст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7FD0-AE93-4742-995A-EC1A5CA0B53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8" name=""/>
          <p:cNvGraphicFramePr/>
          <p:nvPr/>
        </p:nvGraphicFramePr>
        <p:xfrm>
          <a:off x="457200" y="625320"/>
          <a:ext cx="7924680" cy="5121360"/>
        </p:xfrm>
        <a:graphic>
          <a:graphicData uri="http://schemas.openxmlformats.org/drawingml/2006/table">
            <a:tbl>
              <a:tblPr/>
              <a:tblGrid>
                <a:gridCol w="2971800"/>
                <a:gridCol w="495288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об’єктний облік з присвоєнням інвентарних номерів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дсутній, але за бажанням на спецодяг тощо номери можна й поставит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ількісний облік за місцями експлуатації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п. 23 П(С)БО 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ахунок облі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вернення МШП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знається дохід (Дт 22 Кт 716). Вартість МШП береться чиста реалізаційна вартість (= ринкова без витрат на їх можливий збут) (П(С)БО 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оговори матеріальної відповідальності з особами, яким видано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потрібн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ідображення у фінзвітност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паси (або додатково вписуваний рядок “виробничі запас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35B6-29EB-4A42-8214-CBA6C5711C9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0" name="Прямоугольник 2"/>
          <p:cNvSpPr/>
          <p:nvPr/>
        </p:nvSpPr>
        <p:spPr>
          <a:xfrm>
            <a:off x="914400" y="2057400"/>
            <a:ext cx="7238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4. Документальне оформлення обліку 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F71F-9B19-4B45-97CE-68BBE43BBD3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2" name="Прямоугольник 3"/>
          <p:cNvSpPr/>
          <p:nvPr/>
        </p:nvSpPr>
        <p:spPr>
          <a:xfrm>
            <a:off x="609480" y="838080"/>
            <a:ext cx="7848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каз № 145 містить спеціалізовані первинні документи для обліку МШП. Для ситуацій, які ним не передбачені, використовуємо звичайні первинні документи для обліку запасів. Форма МШ-2 ведеться на кожного працівника, кому видавали МШП.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ож підприємство може розробити документи самостійно у разі потреби, наприклад, можна скласти власну </a:t>
            </a:r>
            <a:r>
              <a:rPr b="1" lang="ru-RU" sz="2400" spc="-1" strike="noStrike">
                <a:solidFill>
                  <a:srgbClr val="000000"/>
                </a:solidFill>
                <a:latin typeface="Arial"/>
              </a:rPr>
              <a:t>Книгу оперативного обліку МШП</a:t>
            </a:r>
            <a:r>
              <a:rPr b="0" lang="ru-RU" sz="2400" spc="-1" strike="noStrike">
                <a:solidFill>
                  <a:srgbClr val="000000"/>
                </a:solidFill>
                <a:latin typeface="Arial"/>
              </a:rPr>
              <a:t>, де по кожному виду МШП прописувати: кому й коли була видача, скільки штук було видано, скільки залишилось, скільки списано через поламку, втрату, інше вибуття. Таку книгу можна вести або по видам МШП, або по працівникам підприємства (допрацювати “під себе” картку МШ-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E92A-0548-4360-8C31-82F2250FD32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4" name="Прямоугольник 2"/>
          <p:cNvSpPr/>
          <p:nvPr/>
        </p:nvSpPr>
        <p:spPr>
          <a:xfrm>
            <a:off x="1424160" y="2590920"/>
            <a:ext cx="6381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1. Сутність МШП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563F-F8A9-43AA-87D4-4AFF0D416B9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4" name=""/>
          <p:cNvGraphicFramePr/>
          <p:nvPr/>
        </p:nvGraphicFramePr>
        <p:xfrm>
          <a:off x="380880" y="316080"/>
          <a:ext cx="8305920" cy="6005520"/>
        </p:xfrm>
        <a:graphic>
          <a:graphicData uri="http://schemas.openxmlformats.org/drawingml/2006/table">
            <a:tbl>
              <a:tblPr/>
              <a:tblGrid>
                <a:gridCol w="1473480"/>
                <a:gridCol w="1676160"/>
                <a:gridCol w="2211480"/>
                <a:gridCol w="2944800"/>
              </a:tblGrid>
              <a:tr h="13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итуаці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сі МШП, крім спецодягу, спецвзуття та запобіжних засобі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пецодяг, спецвзуття, запобіжні засоб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ясне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дходже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акладна, чек тощ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Факт придбання МШ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бутковий ордер М-4, картка складського обліку М-1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організації складського обліку МШП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дача МШП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ртка обліку МШП (МШ-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обова картка обліку спецодягу, спецвзуття та запобіжних засобів (МШ-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Ш-4 для видачі під розписку працівникам (1 прим).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Ш-6  для видачі МШП під розписку для тривалого користування (1 прим).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ідомість обліку видачі (повернення) спецодягу, спецвзуття та запобіжних засобів (МШ-7)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Ш-7 для видачі працівнику в індивідуальне користування спецодягу, спецвзуття, запобіжних засобів по нормам (2 прим., один комірнику, інший – бухгалтер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кладна на внутрішнє переміщення (М-11) чи інша внутрішня накладна, складена в довільній формі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ередача МШП між підрозділами тощ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E191-B685-4484-B4A5-DE3A765FF0F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6" name=""/>
          <p:cNvGraphicFramePr/>
          <p:nvPr/>
        </p:nvGraphicFramePr>
        <p:xfrm>
          <a:off x="380880" y="1066680"/>
          <a:ext cx="8305920" cy="4419720"/>
        </p:xfrm>
        <a:graphic>
          <a:graphicData uri="http://schemas.openxmlformats.org/drawingml/2006/table">
            <a:tbl>
              <a:tblPr/>
              <a:tblGrid>
                <a:gridCol w="1473480"/>
                <a:gridCol w="1676160"/>
                <a:gridCol w="2211480"/>
                <a:gridCol w="2944800"/>
              </a:tblGrid>
              <a:tr h="13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итуаці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сі МШП, крім спецодягу, спецвзуття та запобіжних засобі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пецодяг, спецвзуття, запобіжні засоб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ясне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исання МШП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 вибуття МШП (МШ-4)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чина списання МШП: поломка, втрата (1 або 2 прим., один на дільниці, а інший – бухгалтерії). Після Акта МШ-4 складається ще й Акт МШ-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 на списання МШП (МШ-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чина списання: моральна застарілість, зношеність, непридатність для подальшого використання, здавання до комори утилізації. Складається на основі рішення зібраної коміс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04560"/>
            <a:ext cx="8534160" cy="99036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e46c0a"/>
                </a:solidFill>
                <a:latin typeface="Calibri"/>
              </a:rPr>
              <a:t>Первинні документи </a:t>
            </a:r>
            <a:br>
              <a:rPr sz="4400"/>
            </a:br>
            <a:r>
              <a:rPr b="1" i="1" lang="uk-UA" sz="4400" spc="-1" strike="noStrike">
                <a:solidFill>
                  <a:srgbClr val="e46c0a"/>
                </a:solidFill>
                <a:latin typeface="Calibri"/>
              </a:rPr>
              <a:t>з обліку МШП</a:t>
            </a:r>
            <a:endParaRPr b="0" lang="en-US" sz="4400" spc="-1" strike="noStrike">
              <a:solidFill>
                <a:srgbClr val="000000"/>
              </a:solidFill>
              <a:latin typeface="Calibri"/>
            </a:endParaRPr>
          </a:p>
        </p:txBody>
      </p:sp>
      <p:graphicFrame>
        <p:nvGraphicFramePr>
          <p:cNvPr id="118" name=""/>
          <p:cNvGraphicFramePr/>
          <p:nvPr/>
        </p:nvGraphicFramePr>
        <p:xfrm>
          <a:off x="0" y="1676520"/>
          <a:ext cx="9144000" cy="4443120"/>
        </p:xfrm>
        <a:graphic>
          <a:graphicData uri="http://schemas.openxmlformats.org/drawingml/2006/table">
            <a:tbl>
              <a:tblPr/>
              <a:tblGrid>
                <a:gridCol w="1066680"/>
                <a:gridCol w="2514600"/>
                <a:gridCol w="556272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Форма</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Назва документу</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ризначення документу</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9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Calibri"/>
                        </a:rPr>
                        <a:t>Відомість на поповнення (вилучення) постійного запасу інструментів (пристрої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астосовується для обліку зміни запасу інструментів (пристроїв) у роздавальних коморах на підприємствах, де облік ведеться за принципом встановлення постійного оборотного (обмінного) фонду. На підставі даних відомості вносяться зміни до картки складського обліку запасів інструментально-роздавальної комор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Calibri"/>
                        </a:rPr>
                        <a:t>Картка обліку малоцінних та швидкозношуваних предмет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астосовується для обліку предметів, виданих під розписку робітнику чи бригадиру (для бригади) з роздавальної комори цеху для тривалого користува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B015-5574-49FA-B57B-BD98A33A370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0" y="177840"/>
          <a:ext cx="9144000" cy="6364080"/>
        </p:xfrm>
        <a:graphic>
          <a:graphicData uri="http://schemas.openxmlformats.org/drawingml/2006/table">
            <a:tbl>
              <a:tblPr/>
              <a:tblGrid>
                <a:gridCol w="990720"/>
                <a:gridCol w="2666880"/>
                <a:gridCol w="5486400"/>
              </a:tblGrid>
              <a:tr h="2332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1</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2</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3</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11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3</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Замовлення на ремонт або заточування інструментів (пристрої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бліку інструментів (пристроїв), переданих на заточування або ремонт, що проводиться у централізованому порядку</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4</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Акт вибуття малоцінних та швидко</a:t>
                      </a:r>
                      <a:r>
                        <a:rPr b="0" lang="ru-RU" sz="2600" spc="-1" strike="noStrike" u="sng">
                          <a:solidFill>
                            <a:srgbClr val="000000"/>
                          </a:solidFill>
                          <a:uFillTx/>
                          <a:latin typeface="Calibri"/>
                        </a:rPr>
                        <a:t>-</a:t>
                      </a:r>
                      <a:r>
                        <a:rPr b="0" lang="uk-UA" sz="2600" spc="-1" strike="noStrike" u="sng">
                          <a:solidFill>
                            <a:srgbClr val="000000"/>
                          </a:solidFill>
                          <a:uFillTx/>
                          <a:latin typeface="Calibri"/>
                        </a:rPr>
                        <a:t>зношуваних предметі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формлення псування та витрат інструментів (пристроїв) та інших малоцінних і швидкозношуваних предметів</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3656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Акт на списання інструментів (пристроїв) та їх обмін на придатні</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формлення списання інструментів (пристроїв), що стали непридатними, та обміну їх на придатні на тих підприємствах, де облік проводиться за методом обмінного (оборотного) фонду </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803A-95B7-440B-9CAA-F079966A3C3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2600" y="360360"/>
          <a:ext cx="9144000" cy="5991120"/>
        </p:xfrm>
        <a:graphic>
          <a:graphicData uri="http://schemas.openxmlformats.org/drawingml/2006/table">
            <a:tbl>
              <a:tblPr/>
              <a:tblGrid>
                <a:gridCol w="990360"/>
                <a:gridCol w="2887920"/>
                <a:gridCol w="5265720"/>
              </a:tblGrid>
              <a:tr h="2332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1</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2</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3</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608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6</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Особова картка обліку спецодягу, спецвзуття та запобіжних пристрої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спецодягу, спецвзуття та запобіжних засобів, які видаються робітникам підприємства в індивідуальне користування за встановленими нормами. Картка ведеться в одному примірнику і зберігається в цеху (дільниці)</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9696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7</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Відомість обліку видачі (повернення) спецодягу, спецвзуття та запобіжних пристрої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бліку видачі спецодягу, спецвзуття та запобіжних засобів робітникам підприємств в індивідуальне користування за встановленими нормами </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C62A-BADA-4CF0-8114-E248E9011B2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0" y="1295280"/>
          <a:ext cx="9144000" cy="3657600"/>
        </p:xfrm>
        <a:graphic>
          <a:graphicData uri="http://schemas.openxmlformats.org/drawingml/2006/table">
            <a:tbl>
              <a:tblPr/>
              <a:tblGrid>
                <a:gridCol w="1471680"/>
                <a:gridCol w="2406600"/>
                <a:gridCol w="5265720"/>
              </a:tblGrid>
              <a:tr h="36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92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Calibri"/>
                        </a:rPr>
                        <a:t>Акт на списання малоцінних та швидко-зношуваних предмет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астосовується для оформлення списання морально застарілих, зношених і непридатних для подальшого використання інструментів (пристроїв), спецодягу, спецвзуття, запобіжних засобів після закінчення строку використання, інших МШП і здавання їх до комори для утиліза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8248-B835-4523-B23F-70B20CE127E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CC52-A3E7-4FF7-9C1E-439B2563C4B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7" name="Прямоугольник 3"/>
          <p:cNvSpPr/>
          <p:nvPr/>
        </p:nvSpPr>
        <p:spPr>
          <a:xfrm>
            <a:off x="380880" y="353880"/>
            <a:ext cx="83059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формлення остаточного списання МШП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остаточного списання уже виданого МШП з обліку оформляємо: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кт вибуття МШП (МШ-4) та Акт на списання МШП (МШ-8) – обидва, якщо причиною є  поломка, втрата;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кт на списання МШП (МШ-8) – якщо причиною є зношення та необхідність списання у брухт.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ідписує спеціально створена наказом керівника комісія. Також слід зробити відмітку в Картці обліку МШП (МШ-2) або іншому регістрі, який веде по МШП підприємство. Крім того, не забуваємо, що при звільненні працівник має повернути видані йому МШП. Якщо  об’єкт уже був списаний в обліку, то бухгалтерські проведення у такому разі відсутні, так як МШП на 22 рахунку уже відсутній. Правильне списання МШП позбавляє підприємства необхідності оподатковувати неповернутий спецодяг, спецвзуття тощ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B8B0-F843-4D87-8C86-8874B85C55D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9" name="Прямоугольник 2"/>
          <p:cNvSpPr/>
          <p:nvPr/>
        </p:nvSpPr>
        <p:spPr>
          <a:xfrm>
            <a:off x="1143000" y="1905120"/>
            <a:ext cx="6858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5. Бухгалтерські проведення з обліку 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53880"/>
            <a:ext cx="8661600" cy="124632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300" spc="-1" strike="noStrike">
                <a:solidFill>
                  <a:srgbClr val="e46c0a"/>
                </a:solidFill>
                <a:latin typeface="Calibri"/>
              </a:rPr>
              <a:t>Відображення в обліку операцій з руху оборотних МШП</a:t>
            </a:r>
            <a:endParaRPr b="0" lang="en-US" sz="4300" spc="-1" strike="noStrike">
              <a:solidFill>
                <a:srgbClr val="000000"/>
              </a:solidFill>
              <a:latin typeface="Calibri"/>
            </a:endParaRPr>
          </a:p>
        </p:txBody>
      </p:sp>
      <p:graphicFrame>
        <p:nvGraphicFramePr>
          <p:cNvPr id="131" name=""/>
          <p:cNvGraphicFramePr/>
          <p:nvPr/>
        </p:nvGraphicFramePr>
        <p:xfrm>
          <a:off x="0" y="1825560"/>
          <a:ext cx="9144000" cy="3951360"/>
        </p:xfrm>
        <a:graphic>
          <a:graphicData uri="http://schemas.openxmlformats.org/drawingml/2006/table">
            <a:tbl>
              <a:tblPr/>
              <a:tblGrid>
                <a:gridCol w="457200"/>
                <a:gridCol w="4343400"/>
                <a:gridCol w="1828800"/>
                <a:gridCol w="2514600"/>
              </a:tblGrid>
              <a:tr h="329400">
                <a:tc rowSpan="2">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п/п</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міст господарської операції</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Кореспондуючі рахунки</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ебет</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Кредит</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53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отримання МШП у вигляді “відходів” внаслідок розбирання, ліквідації браку, отриманого у виробництв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4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Брак у виробництв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надходження МШП в рахунок погашення дебіторської заборгованост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37</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Розрахунки з різними дебіторам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591C-CC02-4432-9FEC-D905AEC5057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0" y="990720"/>
          <a:ext cx="9144000" cy="3949560"/>
        </p:xfrm>
        <a:graphic>
          <a:graphicData uri="http://schemas.openxmlformats.org/drawingml/2006/table">
            <a:tbl>
              <a:tblPr/>
              <a:tblGrid>
                <a:gridCol w="573120"/>
                <a:gridCol w="4075200"/>
                <a:gridCol w="1143000"/>
                <a:gridCol w="335268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2420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суму дооцінки 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710, 719</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Ін. операц. дохід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556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держано малоцінні та швидкозношувані предмети як внесок до статутного капіталу</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40</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Зареєстрова-ний капітал”,</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46</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Неоплачений капітал”</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2420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надходження МШП, призначених для цільового використа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48</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Цільове фінансування і цільові надходже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25DD-B8D6-4AAC-BEDF-2AD91D802B4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E634-4150-4EDB-855F-E29CFDFA979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6" name="Прямоугольник 2"/>
          <p:cNvSpPr/>
          <p:nvPr/>
        </p:nvSpPr>
        <p:spPr>
          <a:xfrm>
            <a:off x="428760" y="990720"/>
            <a:ext cx="8305560" cy="404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Calibri"/>
                <a:ea typeface="Times New Roman"/>
              </a:rPr>
              <a:t>Згідно з П(С)БО 9 “Запаси”</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000000"/>
                </a:solidFill>
                <a:uFillTx/>
                <a:latin typeface="Calibri"/>
                <a:ea typeface="Times New Roman"/>
              </a:rPr>
              <a:t>МШП</a:t>
            </a:r>
            <a:r>
              <a:rPr b="0" lang="uk-UA" sz="3200" spc="-1" strike="noStrike">
                <a:solidFill>
                  <a:srgbClr val="000000"/>
                </a:solidFill>
                <a:latin typeface="Calibri"/>
                <a:ea typeface="Times New Roman"/>
              </a:rPr>
              <a:t> визначаються за єдиним критерієм – строком служби, який в даному випадку вважається не більше одного року або нормального операційного циклу, якщо він перевищує один рік. До них відносяться: інструменти і приладдя, господарський інвентар, спеціальне оснащення, спеціальний одяг, спеціальне взуття тощ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066680"/>
          <a:ext cx="9144000" cy="4608720"/>
        </p:xfrm>
        <a:graphic>
          <a:graphicData uri="http://schemas.openxmlformats.org/drawingml/2006/table">
            <a:tbl>
              <a:tblPr/>
              <a:tblGrid>
                <a:gridCol w="457200"/>
                <a:gridCol w="4038480"/>
                <a:gridCol w="2210040"/>
                <a:gridCol w="243828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459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прибутковано МШП, що надійшли від постачальника, на суму, визначену відповідно до  договору (без ПД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63</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Розрахунки з постачальни-ками та підрядникам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7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прибутковано лишки МШП, виявлених під час інвентаризації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719</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Інші операційний дохі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ередано МШП як внесок до статутного капіталу іншого підприємств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14</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Довгостро-кові фінансові інвести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402A-56E9-465D-8FE3-48BC243A5B1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0" y="533520"/>
          <a:ext cx="9144000" cy="5219640"/>
        </p:xfrm>
        <a:graphic>
          <a:graphicData uri="http://schemas.openxmlformats.org/drawingml/2006/table">
            <a:tbl>
              <a:tblPr/>
              <a:tblGrid>
                <a:gridCol w="380880"/>
                <a:gridCol w="4267440"/>
                <a:gridCol w="3276360"/>
                <a:gridCol w="1219320"/>
              </a:tblGrid>
              <a:tr h="336600">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23320">
                <a:tc rowSpan="7">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пущено зі складу МШП для власних потреб на:</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капітальне будівництво</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5 “Капітальні інвестиції”</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виробництво продук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3 “Виробництво”</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загальновиробничі потреб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1</a:t>
                      </a:r>
                      <a:r>
                        <a:rPr b="0" lang="en-US" sz="2400" spc="-1" strike="noStrike">
                          <a:solidFill>
                            <a:srgbClr val="000000"/>
                          </a:solidFill>
                          <a:latin typeface="Calibri"/>
                        </a:rPr>
                        <a:t> </a:t>
                      </a:r>
                      <a:r>
                        <a:rPr b="0" lang="uk-UA" sz="2400" spc="-1" strike="noStrike">
                          <a:solidFill>
                            <a:srgbClr val="000000"/>
                          </a:solidFill>
                          <a:latin typeface="Calibri"/>
                        </a:rPr>
                        <a:t>“Загальновиробничі витрат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забезпечення збуту продук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3 “Витрати на збут”</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адміністративні потреб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2</a:t>
                      </a:r>
                      <a:r>
                        <a:rPr b="0" lang="en-US" sz="2400" spc="-1" strike="noStrike">
                          <a:solidFill>
                            <a:srgbClr val="000000"/>
                          </a:solidFill>
                          <a:latin typeface="Calibri"/>
                        </a:rPr>
                        <a:t> </a:t>
                      </a:r>
                      <a:r>
                        <a:rPr b="0" lang="uk-UA" sz="2400" spc="-1" strike="noStrike">
                          <a:solidFill>
                            <a:srgbClr val="000000"/>
                          </a:solidFill>
                          <a:latin typeface="Calibri"/>
                        </a:rPr>
                        <a:t>“Адміністративні витрат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виконання досліджень і розробок</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41</a:t>
                      </a:r>
                      <a:r>
                        <a:rPr b="0" lang="en-US" sz="2400" spc="-1" strike="noStrike">
                          <a:solidFill>
                            <a:srgbClr val="000000"/>
                          </a:solidFill>
                          <a:latin typeface="Calibri"/>
                        </a:rPr>
                        <a:t> </a:t>
                      </a:r>
                      <a:r>
                        <a:rPr b="0" lang="uk-UA" sz="2400" spc="-1" strike="noStrike">
                          <a:solidFill>
                            <a:srgbClr val="000000"/>
                          </a:solidFill>
                          <a:latin typeface="Calibri"/>
                        </a:rPr>
                        <a:t>“Витрати на дослідження і розробк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9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утримання об’єктів житловокомунального господарства і соціально-культурного призначе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49</a:t>
                      </a:r>
                      <a:r>
                        <a:rPr b="0" lang="en-US" sz="2400" spc="-1" strike="noStrike">
                          <a:solidFill>
                            <a:srgbClr val="000000"/>
                          </a:solidFill>
                          <a:latin typeface="Calibri"/>
                        </a:rPr>
                        <a:t> </a:t>
                      </a:r>
                      <a:r>
                        <a:rPr b="0" lang="uk-UA" sz="2400" spc="-1" strike="noStrike">
                          <a:solidFill>
                            <a:srgbClr val="000000"/>
                          </a:solidFill>
                          <a:latin typeface="Calibri"/>
                        </a:rPr>
                        <a:t> “Інші витрати операційної діяльност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8"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8AB0-EAC0-46E6-8E7A-157E003ADCA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25560" y="431640"/>
          <a:ext cx="9144000" cy="5924880"/>
        </p:xfrm>
        <a:graphic>
          <a:graphicData uri="http://schemas.openxmlformats.org/drawingml/2006/table">
            <a:tbl>
              <a:tblPr/>
              <a:tblGrid>
                <a:gridCol w="573120"/>
                <a:gridCol w="4044960"/>
                <a:gridCol w="2421000"/>
                <a:gridCol w="210492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2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Списано вартість реалізованих малоцінних і швидкозношуваних предмет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943</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Собівартість реалізованих виробничих запас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53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Списано суму уцінки МШП до чистої вартості їх реаліза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946</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Втрати від знецінення запас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53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1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Списано нестачу малоцінних та швидкозношуваних предметів за їх балансовою вартістю</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947</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Нестачі і втрати від псування цінностей”</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Безоплатно передано малоцінні і швидкозношувані предмет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949</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Інші витрати операційної діяльност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22</a:t>
                      </a: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МПШ”</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83F2-81AD-4AEA-AEEE-B8AD910EFEC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7579-109F-4E24-9360-640E252CBF0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42" name="Прямоугольник 2"/>
          <p:cNvSpPr/>
          <p:nvPr/>
        </p:nvSpPr>
        <p:spPr>
          <a:xfrm>
            <a:off x="750240" y="2438280"/>
            <a:ext cx="76453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800" spc="-1" strike="noStrike">
                <a:solidFill>
                  <a:srgbClr val="000000"/>
                </a:solidFill>
                <a:latin typeface="Calibri"/>
              </a:rPr>
              <a:t>Дякую за увагу</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3604-2874-46B6-88BD-9C91AAB8287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8" name="Прямоугольник 3"/>
          <p:cNvSpPr/>
          <p:nvPr/>
        </p:nvSpPr>
        <p:spPr>
          <a:xfrm>
            <a:off x="457200" y="533520"/>
            <a:ext cx="82296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лоцінні швидкозношувані предмети (МШП) </a:t>
            </a:r>
            <a:r>
              <a:rPr b="0" lang="ru-RU" sz="2400" spc="-1" strike="noStrike">
                <a:solidFill>
                  <a:srgbClr val="000000"/>
                </a:solidFill>
                <a:latin typeface="Calibri"/>
              </a:rPr>
              <a:t>– це багаторазові матеріальні активи, очікуваний строк використання яких становить менше одного року. Протягом відведеного терміну використання вони зберігають свою початкову фізичну форму, не втрачаючи своїх функціональних якостей.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вертаємо увагу одразу на той факт, що незважаючи на свою назву, МШП не мають вартісного критерію щодо визнання. Вартість МШП, в принципі, може бути будь-яка і що таке “малоцінність” може визначатися хіба що прийнятим в обліковій політиці підприємства вартісним порогом суттєвості на підприємстві (його може й не бути). Таким чином, МШП може коштувати й 50 грн, й 15000 грн – чіткої межі немає.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артість об’єкта у визнанні МШП не відіграє рол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79EA-1ECB-4E59-9294-C0043999B26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60" name="Прямоугольник 2"/>
          <p:cNvSpPr/>
          <p:nvPr/>
        </p:nvSpPr>
        <p:spPr>
          <a:xfrm>
            <a:off x="457200" y="914400"/>
            <a:ext cx="8229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ищенаведене  визначення можна їм дати на основі того, що написано про них в нормативних документах, а інформації про них не таку уже й багато. Тільки те, що вони є засобами праці (Інструкція до плану рахунків, наказ Мінфіну від 30.11.1999 р. № 291) та входять до складу запасів (П(С)БО 9). Додати сюди ще можна Порядок застосування Плану рахунків бухгалтерського обліку в державному секторі, наказ від 29.12.2015 р.  № 1219 (далі – Порядок № 1219). Він хоча й для державного сектору, але підхід до МШП на підприємствах і бюджетних установах має бути однаковий, а Порядок № 1219 виписаний більш детально, ніж звична Інструкція до плану рахунків підприєм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B9B2-66FE-4331-87FD-4F20037ECA6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2" name=""/>
          <p:cNvGraphicFramePr/>
          <p:nvPr/>
        </p:nvGraphicFramePr>
        <p:xfrm>
          <a:off x="306360" y="755640"/>
          <a:ext cx="8381880" cy="5775480"/>
        </p:xfrm>
        <a:graphic>
          <a:graphicData uri="http://schemas.openxmlformats.org/drawingml/2006/table">
            <a:tbl>
              <a:tblPr/>
              <a:tblGrid>
                <a:gridCol w="1871640"/>
                <a:gridCol w="651024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Види МШП</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Підвиди та приклади МШП в обліку</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7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Інструменти</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априклад, пилки, сучкорізи, склорізи, свердла, леза для пилок, зубила, ножі тощо. Також спеціальні інструменти та спеціальні пристосування для серійного і масового виробництва певних виробів або для виготовлення індивідуальних замовлень. Це може бути набір певних інструментів, який іде для виробництва конкретного виробу тощо.</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Господарський інвентар</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юди можна віднести: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предмети конторського та господарського облаштування, столовий, кухонний та інший господарський інвентар, предмети протипожежного призначення. Наприклад, вилки, ножі, ложки, чашки в офісі, клапани для вогнегасників, клапани для термосів і т.п.;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предмети виробничого призначення, обладнання, що сприяє охороні праці, предмети технічного призначення, які не можуть бути віднесені до необоротних активів. Наприклад, респіратори, протигази, маски, гумові рукавички, наколінники, беруші;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Прямоугольник 5"/>
          <p:cNvSpPr/>
          <p:nvPr/>
        </p:nvSpPr>
        <p:spPr>
          <a:xfrm>
            <a:off x="3468600" y="21276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2d"/>
                </a:solidFill>
                <a:latin typeface="Calibri"/>
              </a:rPr>
              <a:t>Приклади МШ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9221-ED52-495E-901B-37AE48A4242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5" name=""/>
          <p:cNvGraphicFramePr/>
          <p:nvPr/>
        </p:nvGraphicFramePr>
        <p:xfrm>
          <a:off x="304920" y="914400"/>
          <a:ext cx="8381880" cy="4435560"/>
        </p:xfrm>
        <a:graphic>
          <a:graphicData uri="http://schemas.openxmlformats.org/drawingml/2006/table">
            <a:tbl>
              <a:tblPr/>
              <a:tblGrid>
                <a:gridCol w="1974600"/>
                <a:gridCol w="6407280"/>
              </a:tblGrid>
              <a:tr h="18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господарські матеріали, що використовуються для поточних потреб установ, наприклад, електричні лампи, мило, щітки, швабри, віники, відра, тощо; </a:t>
                      </a:r>
                      <a:endParaRPr b="0" lang="en-US" sz="19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нцелярське приладдя, наприклад, папір, олівці, підставки для ручок, чинки для олівців, папки, дироколи, степлери, ножиці тощо;</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Спецоснащенн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знаряддя лову (трали, неводи, сіті тощо), троси; смарт-картки.</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9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Спецодяг</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априклад, захисні жилети, захисні костюми, накидки, кашкети, робочі рукавиці, також спецвзуття тощо. І не обов’язково це одяг для робітників, адже може бути ще й корпоративний одяг.</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Інша малоцінка</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 може бути що завгодно, наприклад, калькулятор, флеш-пам’ять (флешки), картриджі для принтерів тощо.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1552-7369-4460-A9C9-BAD2376010E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67" name="Прямоугольник 4"/>
          <p:cNvSpPr/>
          <p:nvPr/>
        </p:nvSpPr>
        <p:spPr>
          <a:xfrm>
            <a:off x="685800" y="60948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ШП і МНМА: схожість і відмінност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хожі МШП і МНМА тим, що і ті й інші </a:t>
            </a:r>
            <a:r>
              <a:rPr b="1" lang="ru-RU" sz="2400" spc="-1" strike="noStrike">
                <a:solidFill>
                  <a:srgbClr val="000000"/>
                </a:solidFill>
                <a:latin typeface="Calibri"/>
              </a:rPr>
              <a:t>багаторазово беруть участь </a:t>
            </a:r>
            <a:r>
              <a:rPr b="0" lang="ru-RU" sz="2400" spc="-1" strike="noStrike">
                <a:solidFill>
                  <a:srgbClr val="000000"/>
                </a:solidFill>
                <a:latin typeface="Calibri"/>
              </a:rPr>
              <a:t>у процесі виробництва, зберігаючи незмінною свою натуральну форму (на відміну, наприклад, від сировини, матеріалів або товарів). Такі предмети </a:t>
            </a:r>
            <a:r>
              <a:rPr b="1" lang="ru-RU" sz="2400" spc="-1" strike="noStrike">
                <a:solidFill>
                  <a:srgbClr val="000000"/>
                </a:solidFill>
                <a:latin typeface="Calibri"/>
              </a:rPr>
              <a:t>поступово</a:t>
            </a:r>
            <a:r>
              <a:rPr b="0" lang="ru-RU" sz="2400" spc="-1" strike="noStrike">
                <a:solidFill>
                  <a:srgbClr val="000000"/>
                </a:solidFill>
                <a:latin typeface="Calibri"/>
              </a:rPr>
              <a:t> втрачають свої первісні якості і властивості, роблячись непридатними. Утім, такі ж якості мають і інші — не малоцінні — необоротні активи. Тож згаданою «багатократністю» МШП схожі не лише з МНМА, але й узагалі з усіма основними засобами (ОЗ).</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 чим МШП відрізняються від МНМ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Відповідь підказують самі назви цих об’єкті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МШП є швидкозношуваними (оборотним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 МНМА — необоротними актив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MSI</cp:lastModifiedBy>
  <cp:lastPrinted>2021-10-29T15:07:25Z</cp:lastPrinted>
  <dcterms:modified xsi:type="dcterms:W3CDTF">2021-10-29T15:08:13Z</dcterms:modified>
  <cp:revision>1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