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371-6E70-4660-856D-F5B301C9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AA1-CFF2-4982-AF27-0561BDBA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D1D30-ABFD-43EE-91DA-4F8F78A3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48B96-8E61-4332-99D2-95606E22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EB9A3-6C2D-41C5-B10A-80722EBE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7C24A-D865-4646-894B-6D533422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FBA3F-FC9F-4256-B336-8921F324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7800F-B2E9-482A-84F6-F7061F1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A9C65-B02E-4099-B5ED-AF8AA176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9BC0C-F37A-4819-BBE1-49D43B61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F45DC-135C-4872-BFA6-94ACC83F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143-C6B9-4BFD-BD8F-8D39BFC8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C42-617F-43BD-92C8-6D68E56C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9E93-897A-4941-A39B-5A31E055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7D67-2850-4A11-97F1-3B10761E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8C22-52FE-429A-BBE3-EE68B7B4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9EF9-25ED-4265-96E1-DA5E4FF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6ACE-5518-4E80-99F9-20FA4F9F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531E-B0C9-4DFB-A97E-C414B7AB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EBC7-194F-4E8E-A894-5EBB47C1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15B-55B8-48ED-83A2-810F737B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C401-A6F4-4243-B3E7-1C989774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ECDA-33FE-4D0E-9E55-7274EB5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DD61-9CC0-48B3-BF46-06780DF3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A07B-BBC7-42AB-A08E-C257D75F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0F30-A156-4D8F-B467-3605DC09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4787-8C74-48B6-BA72-5D0907C0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6652-AEBC-4BDA-8A3F-DC7645D3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E25F3-087E-412B-8313-D7FCD4B7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675E-1C14-484B-A8EC-541D8308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B313-7AF3-4DBD-A1CE-513005CC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959-93B9-4DEA-8522-5A3E9FF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04F8-BAC5-4DFD-8DF5-861035A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63126-9DA5-4D99-BAA5-9ADFEAE9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543E-0F6C-4113-A69F-AC3D042E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2ECA-E274-426E-B325-FC62EF3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6D4E-8622-4CA6-8A31-14C0815C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5479-8638-4452-BF6F-6F9DC858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5D9E-4865-429A-8190-0CA0F928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1D41E-7E77-4C1E-8591-3CA75F90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1C9EF-176D-447B-8B31-A94DB7B3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8188-6588-46FA-B4BF-A134E46D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E9F-7899-4B0A-B158-53FBC0F2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13CE7-E7E2-4D44-BFBA-6EBB1762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8E773-E3E2-40E3-A62D-AE94C588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E318-AE7B-4C82-BDC3-3C3FC233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CD59-F61E-4A51-BD73-3BA1918A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EA0D-1906-4B66-8CA4-8410E918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4163-67F6-46AE-8032-681A4A6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BA48F-1EB8-4304-B368-D0D17289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B039-9E9F-4D73-AEC5-6CC5527D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7BBB6-CF8A-4F1F-8617-103FE371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C2CEA-20F5-4ABC-8D41-3439692C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4D1-EB14-439E-BCF5-70C17178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74E8E-C56D-434B-B4CF-A9AF00C7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77C55-A492-4673-A664-27CB1E94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EDD2-85B7-4618-B869-E90673F0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0C59D-DAD3-413D-9EA9-C3D9623B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6870-E74F-4E04-B2FF-31371D33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ECA86-AB9E-4FE6-8E7F-A0C29D16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A38DA-2C30-4792-8E47-78FC291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A1EAC-F389-4E94-98A7-B92FF2B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2225-FD7F-471C-9522-735AC0FD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B29C9-998F-4586-90A4-1A27EE37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83E-EBD7-481A-ADAF-1B199A17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60E7C-54B1-4B81-BB39-5A330D09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3CEA3-C17D-476B-99C2-7919501D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97955-70F1-4EF1-805A-2D6783FF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4C50-5622-40AD-99D1-795F4C8B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26F4E-C301-41AA-818F-4EB7E4D9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AEED8-26B9-41F4-8562-DF3E991D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DD7B3-A2E4-4A60-BCC2-7A44786E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EFBA9-D642-4F7B-BE22-80F097B0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AD56-E6E2-4F6B-89D0-91410479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AFB65-2FA3-40B0-90C7-63338602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657-CE17-472C-810A-67308FDD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5B87C-D77E-458F-BAEE-BC959777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72DD7-B3B8-4E43-ADB3-8538941E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53272-AE4F-4CBA-8A67-8C109266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37D66-BCD4-402C-A07A-662C8B20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B976D-125F-4487-8232-7FBC2E12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BDD00-66F1-404D-BC2E-D9E77844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FBCF-02C6-4C5E-A02D-28181395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0F48A-BDEA-4DF6-BF21-945F5E54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E6564-EE75-4390-986A-36F13843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9EDE5-4D30-491D-AF5E-2F1DBCFF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9C2-1344-4714-BE8C-E3648115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52449-A006-43AE-9035-9CAABCA1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39E15-E542-4ABB-AF33-3975BAAE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5BBB3-C3D3-4C5F-AE81-8930D41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3946B-B2C5-4413-985B-68FE6ED8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F1BFA-C0A8-49DD-A86E-7443378A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B1749-70B7-46E6-BE6C-27729CEA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B069-0B83-41D6-ACFB-11F593BE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4E0AF-2B71-48FB-958E-12C09C60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CC0C4-1F3F-4E29-B9E1-E92B0FFD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E7D56-F272-4005-9E52-7C6CB341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8CB-0CB8-4320-A829-5F768F3D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8211A-9D0F-4388-8962-EF84298E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F3FED-2D43-4D76-88E3-03AF8029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54B3-FB34-45F3-BEF9-9C5D87C6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D64B2-4AA2-494E-92A6-C471203D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F8F28-617D-43BC-9EDF-923E8CE1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45C1C-78C9-454B-BA8C-7EC5F108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C93B0-CDEC-4965-A84D-23A004EA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46131-1251-4201-95C7-21E568B0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2BFE5-E4CA-4B75-9E75-3AAE2066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FF08A-38DC-446C-916F-0B6186EB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794-131F-434B-B2A6-C0DD07E6F60A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DAC9-A8F3-497A-A7C5-DDCCFD2C4518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6B94-8AC0-4C21-AA23-D3A41635D88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63FD-74D3-48C7-9D36-E3CBF54939B8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5A6C-4C56-4361-BC10-87DCFBEE34E7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321C-863C-4CD6-AE21-D045C6CAEE15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EBFF-2BFE-43DD-999C-7298F4F4519B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3759-7EA5-4390-A2E2-578C0FF1D96A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5CBA-C0EF-4090-9F47-7E4D58501D98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817560" y="901800"/>
            <a:ext cx="7504200" cy="22255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26836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Лектор: Назаренко Т. П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1" descr="C:\Users\User\Desktop\слайди\audit-sajta.png"/>
          <p:cNvPicPr/>
          <p:nvPr/>
        </p:nvPicPr>
        <p:blipFill>
          <a:blip r:embed="rId2"/>
          <a:stretch/>
        </p:blipFill>
        <p:spPr>
          <a:xfrm>
            <a:off x="-181080" y="3716280"/>
            <a:ext cx="3067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755280" y="2133360"/>
            <a:ext cx="77612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Залежно від обраного способу організації перевірки аудитор складає програму перевірки, де встановлює перелік аудиторських процедур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які б дали змогу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достовірність первинних даних БО щодо фактичної наявності та руху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овноту і своєчасність відображення первинних даних з обліку запасів у зведених документах та реєстрах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едення обліку запасів відповідно до чинних законодавчих і нормативних актів, облікової політики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стан збереження запасів у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ідтвердити або спростувати показники фінансової звітності суб’єкта господарювання, які залежать від достовірності, повноти, й своєчасності відображення господарських операцій, пов’язаних із рухо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75656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Програма аудиту виробничих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3"/>
          <p:cNvSpPr/>
          <p:nvPr/>
        </p:nvSpPr>
        <p:spPr>
          <a:xfrm>
            <a:off x="3780000" y="189000"/>
            <a:ext cx="50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ська фірма 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о _____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 перевірки 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у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чих запас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9280" y="2071800"/>
          <a:ext cx="8785440" cy="463392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172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відповідність даних аналітичного обліку даним синтетичного обліку, даним Головної книги, звіт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фактичну наявність запасів, перевірити організацію складського господарства, стан збереже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овноту оприбуткування запасів при наявності документів, які підтверджують їх придб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організацію контролю за зберіганням , використанням і погашенням довіре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ити правильність оформлення надходження та спис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заємна звірка даних матеріального звіту та накладних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вірка віднесення в підзвіт окремими особами відпущених запасі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ити кореспонденцію рахунків на відпускання запасів у Головній книз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законність списання запасів при витрата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римання встановленого порядку оформленн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ка правильності застосування природного убут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дотримання лімітів із відпуск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устрічна перевірка ліміто-забірних карт із докуменами на витра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вчити стан матеріальної відповідальності за шкоду, заподіяну підприємств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равильність відображення в обліку операцій із спис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87440" y="62064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довження програми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79280" y="2276640"/>
          <a:ext cx="8785440" cy="205236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204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, який із методів оцінки запасів при відпусканні їх у виробництво, продаж або інше вибуття застосовується на підприємств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згідно з наказом про облікову політик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факти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 достовірність даних за залишками запасів у фінансовій звіт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вання реєстрів виявлених пору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 txBox="1"/>
          <p:nvPr/>
        </p:nvSpPr>
        <p:spPr>
          <a:xfrm>
            <a:off x="394920" y="4437000"/>
            <a:ext cx="77454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кла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віри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знайомився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виробничих запасів здійснюється з таких джерел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ід постачальників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результаті обміну на подібні (неподібні) активи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безоплатне отримання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надлишків у результаті інвентаризації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з власного виробництва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як внесок у статутний капітал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придбання через підзвітних осіб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інше надходження (зворотні відходи, оприбуткування цінностей внаслідок ліквідації основних засобів, МШП).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цінностей від постачальників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перевіряється за первинними документами, до яких належать накладна, рахунок, рахунок-фактура, товарно-транспортна накладна, прибутковий ордер, картка складського обліку, податкова накладна; за регістрами синтетичного і аналітичного обліку: матеріальний звіт, оборотна відомість, журнал 3, відомості 3.3, 3.5. У випадку доставки матеріальних цінностей власним транспортним засобом перевірці підлягають шляхові листи, журнал обліку виданих довіреностей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75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56" name="Заголовок 2"/>
          <p:cNvSpPr/>
          <p:nvPr/>
        </p:nvSpPr>
        <p:spPr>
          <a:xfrm>
            <a:off x="684360" y="1268280"/>
            <a:ext cx="775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1 Аудит надходження виробничих запасів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84000" y="2637000"/>
            <a:ext cx="77454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орівняння даних складського, бухгалтерського обліку проводиться перевірка стану розрахунків з постачальниками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вірку, яку залучають видаткові касові ордери, платіжні документи, виписки банків, дані журналів 1, 3 та відомостей 1.1, 1.2, 3.3, 3.5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95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При здійсненні перевірки </a:t>
            </a:r>
            <a:br>
              <a:rPr sz="4000"/>
            </a:b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звертається увага на: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9040" y="259920"/>
            <a:ext cx="77565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На підставі договорів поставки, специфікацій, накладних постачальників, актів приймання МПЗ, первинних документів складського обліку аудитори відповідають на наведені нижче питання. При позитивній відповіді на деякі питання необхідне проведення додаткових процедур.</a:t>
            </a:r>
            <a:r>
              <a:rPr b="0" lang="ru-RU" sz="2000" spc="-1" strike="noStrike">
                <a:solidFill>
                  <a:srgbClr val="d4745e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1" name="Таблица 3" descr=""/>
          <p:cNvPicPr/>
          <p:nvPr/>
        </p:nvPicPr>
        <p:blipFill>
          <a:blip r:embed="rId1"/>
          <a:stretch/>
        </p:blipFill>
        <p:spPr>
          <a:xfrm>
            <a:off x="828720" y="1981080"/>
            <a:ext cx="72723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698040" y="2247480"/>
            <a:ext cx="81946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дотримання на підприємстві порядку приймання і оформлення документів, що підтверджують факт надходження матеріал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бліку та оцінки матеріалів, що надійшли від постачальник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 і своєчасність оприбуткування запасів у відповідності з документами постачальника (здійснюється з метою виявлення випадків неповного оприбуткування або повного неоприбуткування  запасів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відповідність якості одержаних запасів характеристикам, що вказані в прибуткових документах, сертифікатах якості, лабораторних аналізах тощо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формлення актів на приймання запасів (у випадку, коли якісні або кількісні характеристики матеріалів, що надійшли, не відповідають тим, що вказані в супроводжувальних документах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, повнота та своєчасність оприбуткування запасів, придбаних підзвітними особами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, своєчасність і правильність оприбуткування матеріалів від ліквідації основних засобів та малоцінних необоротних активів тощо.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547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</a:rPr>
              <a:t>Аудит повноти, своєчасності та правильності оприбуткування  запасів передбачає вивчення таких питань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9040" y="189000"/>
            <a:ext cx="77565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95d1d"/>
                </a:solidFill>
                <a:latin typeface="Times New Roman"/>
              </a:rPr>
              <a:t>Під час проведення інвентаризації аудитор не може бути членом інвентаризаційної комісії, але, спостерігаючи за її роботою мож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1. спостерігати за виконанням процедур інвентаризації;</a:t>
            </a: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2. перевірити правильність підрахунку на основі випадкової вибірки;</a:t>
            </a:r>
            <a:br>
              <a:rPr sz="1800"/>
            </a:b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5" name="Picture 2" descr="http://textreferat.com.ua/images/291324_image021.gif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У випадках придбання запасів аудитору необхідно звернути особливу увагу на дотримання податкового законодавства (порядку нарахування і сплати ПДВ тощо). В цілому результати аудиту повноти і своєчасності оприбуткування запасів доцільно відображати у робочому документі наступного виду (приклад)</a:t>
            </a: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95280" y="2060640"/>
          <a:ext cx="8497800" cy="1928880"/>
        </p:xfrm>
        <a:graphic>
          <a:graphicData uri="http://schemas.openxmlformats.org/drawingml/2006/table">
            <a:tbl>
              <a:tblPr/>
              <a:tblGrid>
                <a:gridCol w="4032360"/>
                <a:gridCol w="4465440"/>
              </a:tblGrid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робочого документу 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скла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арченко Т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Перевіри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еповий П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удит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бірков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95280" y="4076640"/>
          <a:ext cx="8424720" cy="2509920"/>
        </p:xfrm>
        <a:graphic>
          <a:graphicData uri="http://schemas.openxmlformats.org/drawingml/2006/table">
            <a:tbl>
              <a:tblPr/>
              <a:tblGrid>
                <a:gridCol w="897120"/>
                <a:gridCol w="1226880"/>
                <a:gridCol w="1227240"/>
                <a:gridCol w="817560"/>
                <a:gridCol w="826920"/>
                <a:gridCol w="827280"/>
                <a:gridCol w="658800"/>
                <a:gridCol w="1295280"/>
                <a:gridCol w="647640"/>
              </a:tblGrid>
              <a:tr h="525600">
                <a:tc gridSpan="9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БІРКА СВОЄЧАСНОСТ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УВ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рахунку 20 «Виробничі запаси» (203 «Паливо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ображено в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рахун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 від 12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овано на наступний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1 від 2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 первісної вартості помилкововключено до П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755280" y="1989000"/>
            <a:ext cx="7745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1004"/>
                </a:solidFill>
                <a:latin typeface="Times New Roman"/>
              </a:rPr>
              <a:t>Списання запасів із балансу згідно П(с)БО 9 відбувається у таких випадках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ускання у виробництво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реалізація за грошові кошти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дача до статутного капіталу іншого підприємства; безоплатна передача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через витрати від стихійного лиха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недостач у межах норм і понад норм природного убутку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1004"/>
                </a:solidFill>
                <a:latin typeface="Times New Roman"/>
              </a:rPr>
              <a:t>При списанні матеріалів у виробництво проводимо документальну перевірку, яка дає змогу встановити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норм у документах на списання нормативним актам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кількості фактично списаної сировини витрачанню цієї сировини за нормами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565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2 Аудит вибуття виробничих запасів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79280" y="2204640"/>
            <a:ext cx="734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 Мета,завдання та джерела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2. Послідовність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1 Аудит надходженн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2 Аудит вибутт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4. Узагальнення результатів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(Аудиторський висновок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912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895d1d"/>
                </a:solidFill>
                <a:latin typeface="Times New Roman"/>
              </a:rPr>
              <a:t>У лекції розглядаються наступні питання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29" name="Shape 32" descr=""/>
          <p:cNvPicPr/>
          <p:nvPr/>
        </p:nvPicPr>
        <p:blipFill>
          <a:blip r:embed="rId1"/>
          <a:stretch/>
        </p:blipFill>
        <p:spPr>
          <a:xfrm>
            <a:off x="6032520" y="4076640"/>
            <a:ext cx="3111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-360" y="2133360"/>
            <a:ext cx="804852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фактична кількість списаної сировини та матеріалів відповідає або не відповідає нормам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 зв’язку із списанням виробничих запасів перевіряємо наявність актів на списання запасів, накладних , довіреностей, вимог на відпущення матеріалів, відомостей обліку видачі матеріалів, а також перевіряємо правильність заповнення документ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иявлено що на підприємстві застосовується оцінка запасів за середньозваженою собівартістю, а саме нам пояснили, що цей метод застосовується окремо для кожної сукупності взятих на облік запасів, однакових за призначенням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За результатами такого зіставлення можна виявити:</a:t>
            </a: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7380360" y="4437000"/>
            <a:ext cx="1647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684360" y="1125360"/>
          <a:ext cx="8172360" cy="2313000"/>
        </p:xfrm>
        <a:graphic>
          <a:graphicData uri="http://schemas.openxmlformats.org/drawingml/2006/table">
            <a:tbl>
              <a:tblPr/>
              <a:tblGrid>
                <a:gridCol w="4051080"/>
                <a:gridCol w="412128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обочого документу 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скла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рченко Т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Перевіри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еповий П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ков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, робочі документи аудитор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826920" y="3500280"/>
          <a:ext cx="7921800" cy="2036880"/>
        </p:xfrm>
        <a:graphic>
          <a:graphicData uri="http://schemas.openxmlformats.org/drawingml/2006/table">
            <a:tbl>
              <a:tblPr/>
              <a:tblGrid>
                <a:gridCol w="1355760"/>
                <a:gridCol w="1355760"/>
                <a:gridCol w="1079640"/>
                <a:gridCol w="1079280"/>
                <a:gridCol w="989280"/>
                <a:gridCol w="2062080"/>
              </a:tblGrid>
              <a:tr h="3848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ЛІК ПОМИЛОК І ПОРУШЕНЬ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ЯВЛЕНИХ В ХОДІ АУДИТУ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 поруш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менува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імітно-забірна кар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8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ищення ліміту відпуску па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а складськ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ес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оприбут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50920" y="2133720"/>
            <a:ext cx="83534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а організація складського господарства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виконання завдань щодо заготовлення (придбання)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завищення собівартості придбаних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равил приймання вантаж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повне оприбуткування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обґрунтовані претензії до постачальник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раціональне витрачання матеріалів на виробництво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норм і лімітів відпуску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орядку проведення інвентаризації (порушення строків проведення, нерівномірний їх розподіл за календарними періодами, порушення принципу раптовості, неякісне проведення інвентаризації, недбале і несвоєчасне оформлення документів тощо)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стача, надлишок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і підробки в документах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ідміна нових матеріалів старими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у визначенні сум уцінок, дооцінок запасів та їх відображення в обліку; /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е ведення бухгалтерського обліку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Типовими помилками під час здійснення операцій з виробничими запасами є такі: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4. Узагальнення результатів аудиту(Аудиторський висновок)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0" name="Заголовок 2"/>
          <p:cNvSpPr/>
          <p:nvPr/>
        </p:nvSpPr>
        <p:spPr>
          <a:xfrm>
            <a:off x="826920" y="2060640"/>
            <a:ext cx="7756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Тест перевірки стану внутрішнього контролю та системи обліку виробничих запасі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Таблица 5" descr=""/>
          <p:cNvPicPr/>
          <p:nvPr/>
        </p:nvPicPr>
        <p:blipFill>
          <a:blip r:embed="rId1"/>
          <a:stretch/>
        </p:blipFill>
        <p:spPr>
          <a:xfrm>
            <a:off x="895320" y="2567160"/>
            <a:ext cx="7493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565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Продовження прикладу </a:t>
            </a:r>
            <a:br>
              <a:rPr sz="1600"/>
            </a:br>
            <a:endParaRPr b="0" lang="en-US" sz="16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539640" y="2060640"/>
          <a:ext cx="8209080" cy="3327480"/>
        </p:xfrm>
        <a:graphic>
          <a:graphicData uri="http://schemas.openxmlformats.org/drawingml/2006/table">
            <a:tbl>
              <a:tblPr/>
              <a:tblGrid>
                <a:gridCol w="617760"/>
                <a:gridCol w="4021200"/>
                <a:gridCol w="2489040"/>
                <a:gridCol w="1081080"/>
              </a:tblGrid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а чи класифікація виробничих запасів для їх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ізовано чи АУ на посадовому рівні, чи ведуться картки складського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іляються ПДВ окремим рядком в розрахункових і платіжних документах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яються чи дані АУ і СУ систематично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ільки в кінці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 складають акти списання МШП, що приходять у непридатні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кладання бухгалтерської звітност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є встановленим нормативним вимог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облікової політики вимогам ПБ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ово не відповіда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Заголовок 2"/>
          <p:cNvSpPr/>
          <p:nvPr/>
        </p:nvSpPr>
        <p:spPr>
          <a:xfrm>
            <a:off x="395280" y="5445000"/>
            <a:ext cx="77565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1004"/>
                </a:solidFill>
                <a:latin typeface="Times New Roman"/>
              </a:rPr>
              <a:t>Значення символів: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1 - низьки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2 - нижче середнього рівня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3 - середні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4 - високий </a:t>
            </a:r>
            <a:r>
              <a:rPr b="0" i="1" lang="ru-RU" sz="1600" spc="-1" strike="noStrike">
                <a:solidFill>
                  <a:srgbClr val="4b1004"/>
                </a:solidFill>
                <a:latin typeface="Times New Roman"/>
              </a:rPr>
              <a:t>рівень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чезну роль у вирішенні цього завдання грає чітко організований облік. Він повинен оперативно забезпечувати керівників та інших зацікавлених осіб необхідною інформацією для ефективного управління виробничим запасами в цілях оптимальних умов для виготовлення високоякісної продукції і вишукування резервів зниження її собівартості в частині раціонального використання матеріалів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ідна умова діяльності підприємств - добре налагоджені господарські зв'язки, тому що вони забезпечують безперебійність постачання, безперервність процесу виробництва, своєчасність відвантаження і реалізації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ітка класифікація виробничих запасів за певними ознаками і вибір одиниці обліку необхідні для своєчасної і правильної організації синтетичного й аналітичного обліку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ливою передумовою організації обліку матеріалів є їх оцінка. Вона має значення і для більш ефективної організації обробки даних обліку. 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ік запасів на підприємстві відповідає як умовам виробничого споживання матеріалів, так і вимогам організації складського господарства, і забезпечує виконання однієї з основних завдань обліку - контроль за збереженням запасів під час їх приймання та зберігання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1004"/>
                </a:solidFill>
                <a:latin typeface="Times New Roman"/>
              </a:rPr>
              <a:t>При узагальненні отриманих  результатів, можна спрямувати до наступні висновки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684000" y="1989000"/>
            <a:ext cx="8048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1.2. Оборотні активи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трансформованому балансі товариства на кінець року відображені </a:t>
            </a:r>
            <a:r>
              <a:rPr b="0" i="1" lang="ru-RU" sz="1400" spc="-1" strike="noStrike">
                <a:solidFill>
                  <a:srgbClr val="262626"/>
                </a:solidFill>
                <a:latin typeface="Times New Roman"/>
              </a:rPr>
              <a:t>оборотні активи загальною вартістю 77,0 тис. грн., що становить 3,4 % вартості майна товариства, а саме: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запаси (рахунки класу 2), облік яких здійснюється згідно П(С)БО-9 “Запаси”, затвердженого наказом МФУ від 20.12.1999 №246. Розмежування та визначення належності засобів праці, що тривалий час знаходяться в експлуатації, до ОЗ та МШП, їх поточний облік здійснено згідно П(С)БО-9 та прийнятої підприємством облікової політик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ТМЦ здійснюється на основі первинних документів за фактичною собівартістю. Аналітичний облік запасів ведеться в обігово-сальдових відомостях за кожною одиницею бухгалтерського обліку запасів, якою прийнято їх найменування, та в розрізі матеріально-відповідальних осіб. При відпуску запасів у виробництво оцінка їх здійснюється за методом середньозваженого залишку, що передбачено наказом про облікову політику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На дату балансу запаси відображені достовірно (за їх первісною вартістю) і складаються із залишків виробничих запасів в сумі 24,8 тис. грн. ( в т.ч. товарів – 0,8 тис. грн.) та готової продукції – 0,4 тис. грн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процесі трансформації балансу на дату переходу на МСФЗ для забезпечення порівняності звітних даних за ряд періодів застосовувався один і той же метод визначення собівартості запасів, як того вимагає МСБО-2 «Запаси». На виконання вимог МСБО-2 «Запаси» МШП в сумі 4,7 тис. грн. рекласифіковано в запас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АУДИТОРСЬКИЙ ЗВІТ ПРО РЕЗУЛЬТАТИ ДОСЛІДЖЕННЯ </a:t>
            </a:r>
            <a:br>
              <a:rPr sz="2000"/>
            </a:b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В ХОДІ АУДИТОРСЬКОЇ ПЕРЕВІРКИ ВАТ "ВОЛОЛОДАРСЬКО-ВОЛИНСЬКИЙ ЛЬОНОЗАВОД»" за 2013 рік 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9" name="Заголовок 2"/>
          <p:cNvSpPr/>
          <p:nvPr/>
        </p:nvSpPr>
        <p:spPr>
          <a:xfrm>
            <a:off x="3492360" y="0"/>
            <a:ext cx="5816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4040"/>
                </a:solidFill>
                <a:latin typeface="Times New Roman"/>
              </a:rPr>
              <a:t>Примірник аудиторського звіту в частині запас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260280"/>
            <a:ext cx="77565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1. Мета, завдання та джерела аудиту запасів</a:t>
            </a:r>
            <a:br>
              <a:rPr sz="28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31" name="Содержимое 1"/>
          <p:cNvSpPr/>
          <p:nvPr/>
        </p:nvSpPr>
        <p:spPr>
          <a:xfrm>
            <a:off x="250920" y="1700280"/>
            <a:ext cx="828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Запаси –це активи як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подальшого продажу (розподілу, передачі) за умов звичайної господарської діяльност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бувають у процесі виробництва з метою подальшого продажу продукту виробницт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споживання під час виробництва продукції, виконання робіт та надання послуг, а також управління підприємством/установою. (згідно П(С)БО 9 «Запас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84000" y="2133360"/>
            <a:ext cx="7745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 </a:t>
            </a:r>
            <a:r>
              <a:rPr b="1" i="1" lang="ru-RU" sz="2600" spc="-1" strike="noStrike">
                <a:solidFill>
                  <a:srgbClr val="873624"/>
                </a:solidFill>
                <a:latin typeface="Times New Roman"/>
              </a:rPr>
              <a:t>Метою аудиту виробничих запасів</a:t>
            </a:r>
            <a:r>
              <a:rPr b="0" lang="ru-RU" sz="2600" spc="-1" strike="noStrike">
                <a:solidFill>
                  <a:srgbClr val="87362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є висловлювання аудиторів думки про те, чи відповідає фінансова інформація щодо руху і залишків виробничих запасів на підприємстві в усіх суттєвих аспектах нормативних документам, які регламентують порядок її підготовки і надання користувачам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3" name="Picture 4" descr="C:\Users\User\Desktop\слайди\1389230430_c7.jpg"/>
          <p:cNvPicPr/>
          <p:nvPr/>
        </p:nvPicPr>
        <p:blipFill>
          <a:blip r:embed="rId1"/>
          <a:stretch/>
        </p:blipFill>
        <p:spPr>
          <a:xfrm>
            <a:off x="5724360" y="4724280"/>
            <a:ext cx="3419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-360" y="2133720"/>
            <a:ext cx="684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изнання запасів активами суб’єкта господарювання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, чи відповідають чинному законодавству методи оцінки і обліку виробничих запасів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, чи дотримується підприємство прийнятих методів оцінк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цінити стан внутрішнього контролю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здійснюється контроль за виробничими запасам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чи правильно та своєчасно здійснюється документальне відображення господарських операцій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немає на підприємстві протизаконних дій, пов’язаних з витрачання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Завданнями аудиту операцій з виробничими запасами є: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6" name="Picture 2" descr="C:\Users\User\Desktop\слайди\ukrayisnskyyaudyt.jpg"/>
          <p:cNvPicPr/>
          <p:nvPr/>
        </p:nvPicPr>
        <p:blipFill>
          <a:blip r:embed="rId1"/>
          <a:stretch/>
        </p:blipFill>
        <p:spPr>
          <a:xfrm>
            <a:off x="6516720" y="4653000"/>
            <a:ext cx="2627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213372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кількісне та якісне приймання запасів від постачальника, а також при внутрішньому переміщенні в міжцеховому напрямку, між матеріально відповідальними особами, складами та виробництвом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мови зберігання запасів і закріплення матеріальної відповідальності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орми витрат сировини і матеріалів на виробництво та їх дотримання – перевіряється обґрунтованість затвердження норм та їх застосування в лімітно-забірних картках і відомостях на витрачання матеріалів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первинна документація з обліку запасів досліджується в частині достовірності відображених у ній господарських операцій;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ухгалтерський облік та звітність вивчаються в частині достовірності даних щодо залишків та руху виробничих запасів, відображених у них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рак та пошкодження запасів – досліджуються причини, які зумовили виникнення негативних явищ, розмір невиробничих витрат, встановлюються особи, винні в злодіянні шкод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едостача цінностей та шкода, виявлені при інвентаризації, їх обґрунтованість і відповідальні особ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загальнюється дослідження інших об’єктів, де виявлена шкода, перевіряється, чи підтверджується їх розмір даними бухгалтерського обліку та іншими зібраними доказами, наскільки правильно встановлену матеріальну відповідальність конкретних працівників і розмір їх відшкодування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95d1d"/>
                </a:solidFill>
                <a:latin typeface="Times New Roman"/>
              </a:rPr>
              <a:t>Об’єктами аудиту виробничих запасів є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Джерела інформації для проведення аудиту виробничих запасів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2247480"/>
            <a:ext cx="83534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бухгалтерськ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татистичн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регістри бухгалтерського обліку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документи: типові форми з обліку матеріально-виробничих запасів, договори купівля, протоколи узгодження ціни, і постачання за терміну, асортименту тощо., накладні про поставки і внутрішнє переміщення,лимитно-заборние карта народження і ін.,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блікова політика: графік документообігу, субрахунка і аналітичні рахунки робочому плані рахунків; способи погашення вартості предметів у складі засобів у обороті; оцінка виробничих запасів; відпустку запасів у виробництво; оцінка запасів незавершеного виробництва; наявність і склад комісій по інвентаризація незавершеного виробництва та матеріально-виробничих накупив конвертів, графік і періодичність проведення інвентаризацій незавершеного виробництва та матеріально-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20500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Етапи проведення аудиту виробничих запасів: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73624"/>
                </a:solidFill>
                <a:latin typeface="Segoe Script"/>
              </a:rPr>
              <a:t>І етап -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ланування та визначення аудиторського підход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 етап –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Оцінка системи внутрішнього контролю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І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 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еревірка господарських операцій по суті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</a:t>
            </a:r>
            <a:r>
              <a:rPr b="1" lang="en-US" sz="2400" spc="-1" strike="noStrike">
                <a:solidFill>
                  <a:srgbClr val="873624"/>
                </a:solidFill>
                <a:latin typeface="Segoe Script"/>
              </a:rPr>
              <a:t>V</a:t>
            </a: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Завершення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5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2. Послідовність проведення аудиту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3" name="Picture 2" descr="C:\Users\User\Desktop\слайди\audit-doc1.jpg"/>
          <p:cNvPicPr/>
          <p:nvPr/>
        </p:nvPicPr>
        <p:blipFill>
          <a:blip r:embed="rId1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5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895d1d"/>
                </a:solidFill>
                <a:latin typeface="Times New Roman"/>
              </a:rPr>
              <a:t>Важливо знати!!!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36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 етапі аудитор звертає увагу на:</a:t>
            </a:r>
            <a:r>
              <a:rPr b="1" i="1" lang="ru-RU" sz="16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рміни проведення інвентаризації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ьність визначення її результатів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вчає склад комісії та відображення в бухгалтерському обліку даних по інвентаризації.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 етапі аудитор звертає увагу на:</a:t>
            </a:r>
            <a:r>
              <a:rPr b="1" i="1" lang="ru-RU" sz="15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значення критичних моментів системи бухгалтерського обліку, в яких можуть бути помилки чи викривлення, і дістає впевненість, що стосовно таких пунктів були розроблені й проведені заходи і процедури, які дають змогу виявити помилки та викривлення 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дення додаткових перевірок на відповідність засобів контролю ефективне тільки у разі, якщо час та зусилля, зекономлені при проведенні перевірок на суттєвість, перевищують час і зусилля, затрачені на проведен­ня перевірок на відповідність засобів контролю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І етапі аудитор звертає увагу на:</a:t>
            </a:r>
            <a:endParaRPr b="0" lang="en-US" sz="1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воєчасність і правильність документального оформлення, оприбуткування запасів первинними документами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ідображення їх в обліку, також слід перевірити правильність складання актів розбіжності кількості та якості матеріальних цінностей, що надійшли, і своєчасність пред’явлення претензій до постачальників або транспортних організацій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ку окремих елементів баланс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</a:t>
            </a:r>
            <a:r>
              <a:rPr b="1" i="1" lang="en-US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V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етапі аудитор звертає увагу на: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ити роботи складу групи аудиторів і вирішити чи до­статньо зібрано свідчень та оцінити результати аудит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9:56:32Z</dcterms:created>
  <dc:creator>Диана</dc:creator>
  <dc:description/>
  <dc:language>en-US</dc:language>
  <cp:lastModifiedBy>Татьяна</cp:lastModifiedBy>
  <dcterms:modified xsi:type="dcterms:W3CDTF">2014-03-07T07:15:21Z</dcterms:modified>
  <cp:revision>37</cp:revision>
  <dc:subject/>
  <dc:title>Презентация PowerPoint</dc:title>
</cp:coreProperties>
</file>