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423E-F902-4E6D-9D8C-158D33651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AD93-D8A9-4780-B99E-5BF44FC7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C412D-2BF0-42FE-B04C-F097B877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7452A-744F-4F78-99B3-1BD39D29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3DE59-6FF3-4FCA-93D4-E1C7D334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84178-0951-42CF-82E3-B4E623ED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06F4E-0D9A-49CC-A902-CC0A4961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1A016-0115-4A5E-AC23-6BF80EE5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E5F25-7E05-4953-87C1-7BC53AB8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1CA2A7-E277-425C-9F32-A1E2D41C8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7EC0E-3390-4175-885A-B454AF65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59A6-7B64-4203-8E87-443C5F598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406D-9E85-409A-94B8-BE39A047F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B82A-9726-4450-B134-BDC53CB2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E2FD-D6D3-4EB6-880D-EE427345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F04F-1B92-4CD8-A2F5-D2C3DDE3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3AE2-398B-4814-83D5-626C3C77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4F52-BBDE-41A7-94A7-CA69D259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3518-8738-40AD-9BA2-36F6FA9C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5A58-5A1E-4A72-BCC8-AFED195D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F302-FBC1-43D5-9D00-E0AB9510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7E89-991A-4E8A-B130-C40BAECE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5F04-8525-4385-816E-2394F287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3D75-6BB6-434A-90C2-8484A114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20BE-A0E1-45BF-A599-55320D9C3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902E-59A2-4A8C-A747-096E2714D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4CAA8-F0E7-4736-9AE5-86305395C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D8CB7-9834-4CEB-9070-E80E9955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F2221-6A4D-4ED8-BA70-025B81DC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8691B-3EA4-4C67-9AB4-1DB87695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4002C-57CF-4390-8564-1BFFC56F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1EA1-6CAA-4F31-AA15-82B11BCF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02B12-03C3-4689-9D4A-8398324A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CA07D-5AF2-46AC-A91B-2DD364EB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0D198-5468-4967-95F3-684B8B43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7A79E-503D-4504-BE3D-0E184A68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5CA39-9FAE-46AA-8853-0E52BB14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3B115-7C25-4C2B-925C-FB6A487EA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F0728-19EB-4E66-B0B3-9D3A9B880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960E2-D40A-4703-BA02-EEE6A807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155C8-DBD9-4D5F-8C39-51FEF593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67135-F010-4036-ABFE-DFCAB337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A545-9951-4719-9E5F-1FEB3BCD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6003E-994F-42BB-ACC7-F0BFA7A5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EF984-420D-46CD-A876-BF6F0B5F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14793-2EA5-4F2D-A5AD-987D50CD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D411F-2820-4CE3-8604-FAB8220C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F61AB-7BAB-47FD-B849-04A5F190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DE410-21A2-49E9-9659-28E1A129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99046-67BA-4816-8B8D-F5711EB8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84500-1D6B-4A76-888D-0E4A30238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B33E7-E506-4071-AFD6-68F0D2336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A0180-95B6-408D-9C62-56F397099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6FEE-FEAB-42D7-B94D-4B811B00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6711A-1B74-4041-B510-D7E66C14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89813-CDC4-4895-A0C1-D96B13EA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5FFD8-88D8-4799-84EB-63745470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694DC-EE2B-4D98-90B7-B2EF4543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ECCEC-86A0-4D3B-87AA-1B1CA2D9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D245F-EC4F-4CEF-81C0-3ACC2611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50B69-EC9A-4336-93F7-C059C911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87154-8D3D-4577-9618-913D15E8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44E90-27BD-497D-8E10-D181A645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72230-FA6A-4066-ADEB-BDAB5818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5BB9-0D35-476B-8B59-77F19CFA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F1610-4D0E-43BE-8848-B9DD1A481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CD3FA-4D5A-46A3-A1DA-2CFAFFC6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1CCAA-942B-474C-BF6C-3BB95DA1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685EF-34F4-4BF5-919A-667C4ABB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DB9E3-1A0A-4C8A-85D2-4279935F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A81E5-B877-45A2-95B4-F0305EDA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A389C-AFD3-474A-A57F-5755BCD0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DD617-5E26-4B25-8E7F-D4675A6D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19A3E-59E5-49E6-8177-6323B6D7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053AB-11EB-450F-BDDF-D6C4339F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8EB5-8A47-4DEC-92A7-03F648E0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FF8A1-DBD3-46DA-B7F2-B8AFE67D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E5284-AA0E-4A84-B81B-31C983344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B079F-3553-4A2E-AAD6-0116F30C7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01755-9F1A-4822-AEE6-024197C70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40D35-FFD6-42AD-BDC1-63E4809B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28A60-3335-4A4A-AA06-95EFAA1E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E7E33-1F6C-40DB-AC08-493EA24A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DBF40-6EFC-4721-9D25-29B8ADA5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F7893-9B60-4955-8226-E6BA5545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9F0C2-2B21-47D8-B419-C383FB9F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7C68-75BA-4B5A-BB84-8FC694E2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D5EE9-5624-4A56-B204-ED71C979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D0AD2-3D84-4B73-A93A-B7227EE4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CB89B-60B7-4A8B-A913-C23984C1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0668F-065F-4060-B8C9-41A4E80A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5655A-6771-4C4A-A4D1-AFD555F3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90EC2-6E44-4E66-A026-DE3549604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0F591-0D7A-4344-8175-CEA044C6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3FD81-44F4-4A56-8E0A-049EBD73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1AE73-ADF9-4739-B4C5-672F7CA7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0D6D2-A870-41B9-9433-AEB01DAB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8963-6C7F-4D96-88E0-0C7EB32A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D0B97-91B6-4774-9878-CCC88D13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E4E0D-5A3A-40AA-B709-A9B9A827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E43F0-B087-4EB7-9D2E-5698D087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1A36C-244B-4BA5-AEA5-25B98842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EF906-BAD7-4D84-BAE6-2B560699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551FF-AEAB-4868-898D-2ABC91706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43DC1-3B6C-4613-B9CF-A45936628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D6E37-F4D9-45DD-A085-0DCC7A2AA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225407-28D5-4E9F-A4B8-C735DB62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8E8FC-5084-4929-AF18-04956149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54CA-62BD-4965-A3AE-DD99885EAB12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Group 7" descr=""/>
          <p:cNvPicPr/>
          <p:nvPr/>
        </p:nvPicPr>
        <p:blipFill>
          <a:blip r:embed="rId4"/>
          <a:stretch/>
        </p:blipFill>
        <p:spPr>
          <a:xfrm>
            <a:off x="1146240" y="2614680"/>
            <a:ext cx="6875280" cy="1231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e9c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ce9c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D154-0736-47DB-A35E-0F97654993FA}" type="slidenum">
              <a:rPr b="0" lang="ru-RU" sz="1200" spc="-1" strike="noStrike">
                <a:solidFill>
                  <a:srgbClr val="ece9c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88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11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91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Straight Connector 13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Straight Connector 14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D2E6-0486-432E-861C-DF57DE78A606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36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8" name="Picture 11" descr="CoverOverlay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"/>
          <p:cNvGrpSpPr/>
          <p:nvPr/>
        </p:nvGrpSpPr>
        <p:grpSpPr>
          <a:xfrm>
            <a:off x="1172880" y="2887560"/>
            <a:ext cx="6778440" cy="916920"/>
            <a:chOff x="1172880" y="2887560"/>
            <a:chExt cx="6778440" cy="916920"/>
          </a:xfrm>
        </p:grpSpPr>
        <p:sp>
          <p:nvSpPr>
            <p:cNvPr id="140" name="TextBox 9"/>
            <p:cNvSpPr/>
            <p:nvPr/>
          </p:nvSpPr>
          <p:spPr>
            <a:xfrm>
              <a:off x="4308840" y="288756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Straight Connector 9"/>
            <p:cNvSpPr/>
            <p:nvPr/>
          </p:nvSpPr>
          <p:spPr>
            <a:xfrm flipH="1" flipV="1">
              <a:off x="1172880" y="34322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Straight Connector 10"/>
            <p:cNvSpPr/>
            <p:nvPr/>
          </p:nvSpPr>
          <p:spPr>
            <a:xfrm flipH="1" flipV="1">
              <a:off x="4831920" y="34340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1E0C-26FA-4954-92BB-2E857347D750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85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Group 12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188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Straight Connector 15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45FB-9892-475C-8EF6-E5BCD5E71F81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3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Group 13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36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Straight Connector 16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Straight Connector 17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A05B-A66D-42D6-B5B9-441BBCD9907E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8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9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84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Straight Connector 15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7576-E0AD-432A-A751-9E8E43CF3915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29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10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332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Straight Connector 15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Straight Connector 16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1316-AB74-431D-ACCF-B1AE8AF4ACF3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77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Group 10"/>
          <p:cNvGrpSpPr/>
          <p:nvPr/>
        </p:nvGrpSpPr>
        <p:grpSpPr>
          <a:xfrm>
            <a:off x="6193440" y="601560"/>
            <a:ext cx="916920" cy="5481720"/>
            <a:chOff x="6193440" y="601560"/>
            <a:chExt cx="916920" cy="5481720"/>
          </a:xfrm>
        </p:grpSpPr>
        <p:sp>
          <p:nvSpPr>
            <p:cNvPr id="380" name="TextBox 8"/>
            <p:cNvSpPr/>
            <p:nvPr/>
          </p:nvSpPr>
          <p:spPr>
            <a:xfrm rot="5400000">
              <a:off x="6374880" y="291420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Straight Connector 12"/>
            <p:cNvSpPr/>
            <p:nvPr/>
          </p:nvSpPr>
          <p:spPr>
            <a:xfrm flipV="1">
              <a:off x="6565680" y="601560"/>
              <a:ext cx="2160" cy="246960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Straight Connector 13"/>
            <p:cNvSpPr/>
            <p:nvPr/>
          </p:nvSpPr>
          <p:spPr>
            <a:xfrm flipV="1">
              <a:off x="6563520" y="3613680"/>
              <a:ext cx="1440" cy="246960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4F52-E7CB-4135-A913-16DB6E404D53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817560" y="901800"/>
            <a:ext cx="7504200" cy="222552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2268360" y="53002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ff"/>
                </a:solidFill>
                <a:latin typeface="Times New Roman"/>
              </a:rPr>
              <a:t>Лектор: Назаренко Т. П</a:t>
            </a: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6" name="Picture 1" descr="C:\Users\User\Desktop\слайди\audit-sajta.png"/>
          <p:cNvPicPr/>
          <p:nvPr/>
        </p:nvPicPr>
        <p:blipFill>
          <a:blip r:embed="rId2"/>
          <a:stretch/>
        </p:blipFill>
        <p:spPr>
          <a:xfrm>
            <a:off x="-181080" y="3716280"/>
            <a:ext cx="30672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755280" y="2133360"/>
            <a:ext cx="776124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361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Залежно від обраного способу організації перевірки аудитор складає програму перевірки, де встановлює перелік аудиторських процедур </a:t>
            </a:r>
            <a:r>
              <a:rPr b="1" i="1" lang="ru-RU" sz="2000" spc="-1" strike="noStrike">
                <a:solidFill>
                  <a:srgbClr val="262626"/>
                </a:solidFill>
                <a:latin typeface="Times New Roman"/>
              </a:rPr>
              <a:t>які б дали змогу: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1080" indent="-361080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встановити достовірність первинних даних БО щодо фактичної наявності та руху виробничих запасів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1080" indent="-361080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перевірити повноту і своєчасність відображення первинних даних з обліку запасів у зведених документах та реєстрах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1080" indent="-361080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перевірити правильність ведення обліку запасів відповідно до чинних законодавчих і нормативних актів, облікової політики суб’єкта господарювання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1080" indent="-361080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перевірити стан збереження запасів у суб’єкта господарювання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1080" indent="-361080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підтвердити або спростувати показники фінансової звітності суб’єкта господарювання, які залежать від достовірності, повноти, й своєчасності відображення господарських операцій, пов’язаних із рухом виробничих запасів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1080" indent="-361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75656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95d1d"/>
                </a:solidFill>
                <a:latin typeface="Times New Roman"/>
              </a:rPr>
              <a:t>Програма аудиту виробничих запасів</a:t>
            </a:r>
            <a:br>
              <a:rPr sz="3600"/>
            </a:br>
            <a:endParaRPr b="0" lang="en-US" sz="3600" spc="-1" strike="noStrike">
              <a:solidFill>
                <a:srgbClr val="895d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Прямоугольник 3"/>
          <p:cNvSpPr/>
          <p:nvPr/>
        </p:nvSpPr>
        <p:spPr>
          <a:xfrm>
            <a:off x="3780000" y="189000"/>
            <a:ext cx="5040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диторська фірма _________________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приємство ______________________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іод перевірки 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диту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обничих запасі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179280" y="2071800"/>
          <a:ext cx="8785440" cy="4633920"/>
        </p:xfrm>
        <a:graphic>
          <a:graphicData uri="http://schemas.openxmlformats.org/drawingml/2006/table">
            <a:tbl>
              <a:tblPr/>
              <a:tblGrid>
                <a:gridCol w="466920"/>
                <a:gridCol w="5438520"/>
                <a:gridCol w="935280"/>
                <a:gridCol w="1224000"/>
                <a:gridCol w="720720"/>
              </a:tblGrid>
              <a:tr h="17244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з/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Перелік аудиторських процеду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Виконавец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4b1004"/>
                          </a:solidFill>
                          <a:latin typeface="Times New Roman"/>
                        </a:rPr>
                        <a:t>Терміни перевір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Примітк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4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ірити відповідність даних аналітичного обліку даним синтетичного обліку, даним Головної книги, звітност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ірити фактичну наявність запасів, перевірити організацію складського господарства, стан збереження запас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6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ірити повноту оприбуткування запасів при наявності документів, які підтверджують їх придба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60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ірити організацію контролю за зберіганням , використанням і погашенням довірено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ірити правильність оформлення надходження та списання запасів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rowSpan="3"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заємна звірка даних матеріального звіту та накладних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звірка віднесення в підзвіт окремими особами відпущених запасів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еревірити кореспонденцію рахунків на відпускання запасів у Головній книзі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rowSpan="3"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ірити законність списання запасів при витрата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тримання встановленого порядку оформлення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еревірка правильності застосування природного убутк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ірити дотримання лімітів із відпускання запасів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зустрічна перевірка ліміто-забірних карт із докуменами на витрача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вчити стан матеріальної відповідальності за шкоду, заподіяну підприємств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ірити правильність відображення в обліку операцій із списання запас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387440" y="62064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довження програми</a:t>
            </a:r>
            <a:br>
              <a:rPr sz="3200"/>
            </a:br>
            <a:endParaRPr b="0" lang="en-US" sz="3200" spc="-1" strike="noStrike">
              <a:solidFill>
                <a:srgbClr val="895d1d"/>
              </a:solidFill>
              <a:latin typeface="Times New Roman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179280" y="2276640"/>
          <a:ext cx="8785440" cy="2052360"/>
        </p:xfrm>
        <a:graphic>
          <a:graphicData uri="http://schemas.openxmlformats.org/drawingml/2006/table">
            <a:tbl>
              <a:tblPr/>
              <a:tblGrid>
                <a:gridCol w="466920"/>
                <a:gridCol w="5438520"/>
                <a:gridCol w="935280"/>
                <a:gridCol w="1224000"/>
                <a:gridCol w="720720"/>
              </a:tblGrid>
              <a:tr h="2044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з/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Перелік аудиторських процеду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Виконавец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4b1004"/>
                          </a:solidFill>
                          <a:latin typeface="Times New Roman"/>
                        </a:rPr>
                        <a:t>Терміни перевір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Примітк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вірити, який із методів оцінки запасів при відпусканні їх у виробництво, продаж або інше вибуття застосовується на підприємстві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згідно з наказом про облікову політику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факти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вірити достовірність даних за залишками запасів у фінансовій звіт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92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ування реєстрів виявлених поруш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3" name=""/>
          <p:cNvSpPr txBox="1"/>
          <p:nvPr/>
        </p:nvSpPr>
        <p:spPr>
          <a:xfrm>
            <a:off x="394920" y="4437000"/>
            <a:ext cx="7745400" cy="15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Склав: Прізвище Ім</a:t>
            </a:r>
            <a:r>
              <a:rPr b="0" lang="en-US" sz="1800" spc="-1" strike="noStrike">
                <a:solidFill>
                  <a:srgbClr val="262626"/>
                </a:solidFill>
                <a:latin typeface="Book Antiqua"/>
              </a:rPr>
              <a:t>`</a:t>
            </a:r>
            <a:r>
              <a:rPr b="0" lang="uk-UA" sz="1800" spc="-1" strike="noStrike">
                <a:solidFill>
                  <a:srgbClr val="262626"/>
                </a:solidFill>
                <a:latin typeface="Times New Roman"/>
              </a:rPr>
              <a:t>я По батькові 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Перевірив: Прізвище Ім</a:t>
            </a:r>
            <a:r>
              <a:rPr b="0" lang="en-US" sz="1800" spc="-1" strike="noStrike">
                <a:solidFill>
                  <a:srgbClr val="262626"/>
                </a:solidFill>
                <a:latin typeface="Book Antiqua"/>
              </a:rPr>
              <a:t>`</a:t>
            </a:r>
            <a:r>
              <a:rPr b="0" lang="uk-UA" sz="1800" spc="-1" strike="noStrike">
                <a:solidFill>
                  <a:srgbClr val="262626"/>
                </a:solidFill>
                <a:latin typeface="Times New Roman"/>
              </a:rPr>
              <a:t>я По батькові 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Ознайомився: Прізвище Ім</a:t>
            </a:r>
            <a:r>
              <a:rPr b="0" lang="en-US" sz="1800" spc="-1" strike="noStrike">
                <a:solidFill>
                  <a:srgbClr val="262626"/>
                </a:solidFill>
                <a:latin typeface="Book Antiqua"/>
              </a:rPr>
              <a:t>`</a:t>
            </a:r>
            <a:r>
              <a:rPr b="0" lang="uk-UA" sz="1800" spc="-1" strike="noStrike">
                <a:solidFill>
                  <a:srgbClr val="262626"/>
                </a:solidFill>
                <a:latin typeface="Times New Roman"/>
              </a:rPr>
              <a:t>я По батькові 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62626"/>
                </a:solidFill>
                <a:latin typeface="Times New Roman"/>
              </a:rPr>
              <a:t>Надходження виробничих запасів здійснюється з таких джерел: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від постачальників;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в результаті обміну на подібні (неподібні) активи;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безоплатне отримання;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оприбуткування надлишків у результаті інвентаризації;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з власного виробництва;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як внесок у статутний капітал;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придбання через підзвітних осіб;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інше надходження (зворотні відходи, оприбуткування цінностей внаслідок ліквідації основних засобів, МШП).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Times New Roman"/>
              </a:rPr>
              <a:t>Надходження цінностей від постачальників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 перевіряється за первинними документами, до яких належать накладна, рахунок, рахунок-фактура, товарно-транспортна накладна, прибутковий ордер, картка складського обліку, податкова накладна; за регістрами синтетичного і аналітичного обліку: матеріальний звіт, оборотна відомість, журнал 3, відомості 3.3, 3.5. У випадку доставки матеріальних цінностей власним транспортним засобом перевірці підлягають шляхові листи, журнал обліку виданих довіреностей. 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775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95d1d"/>
                </a:solidFill>
                <a:latin typeface="Times New Roman"/>
              </a:rPr>
              <a:t>3. Загальна методика проведення аудиту запасів</a:t>
            </a:r>
            <a:endParaRPr b="0" lang="en-US" sz="36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56" name="Заголовок 2"/>
          <p:cNvSpPr/>
          <p:nvPr/>
        </p:nvSpPr>
        <p:spPr>
          <a:xfrm>
            <a:off x="684360" y="1268280"/>
            <a:ext cx="7754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95d1d"/>
                </a:solidFill>
                <a:latin typeface="Times New Roman"/>
                <a:ea typeface="Times New Roman"/>
              </a:rPr>
              <a:t>3.1 Аудит надходження виробничих запасів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684000" y="2637000"/>
            <a:ext cx="7745400" cy="26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порівняння даних складського, бухгалтерського обліку проводиться перевірка стану розрахунків з постачальниками.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перевірку, яку залучають видаткові касові ордери, платіжні документи, виписки банків, дані журналів 1, 3 та відомостей 1.1, 1.2, 3.3, 3.5. 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95672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895d1d"/>
                </a:solidFill>
                <a:latin typeface="Times New Roman"/>
              </a:rPr>
              <a:t>При здійсненні перевірки </a:t>
            </a:r>
            <a:br>
              <a:rPr sz="4000"/>
            </a:br>
            <a:r>
              <a:rPr b="0" i="1" lang="uk-UA" sz="4000" spc="-1" strike="noStrike">
                <a:solidFill>
                  <a:srgbClr val="895d1d"/>
                </a:solidFill>
                <a:latin typeface="Times New Roman"/>
              </a:rPr>
              <a:t>звертається увага на:</a:t>
            </a:r>
            <a:endParaRPr b="0" lang="en-US" sz="40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1240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9040" y="259920"/>
            <a:ext cx="775656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1004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4b1004"/>
                </a:solidFill>
                <a:latin typeface="Times New Roman"/>
              </a:rPr>
              <a:t>На підставі договорів поставки, специфікацій, накладних постачальників, актів приймання МПЗ, первинних документів складського обліку аудитори відповідають на наведені нижче питання. При позитивній відповіді на деякі питання необхідне проведення додаткових процедур.</a:t>
            </a:r>
            <a:r>
              <a:rPr b="0" lang="ru-RU" sz="2000" spc="-1" strike="noStrike">
                <a:solidFill>
                  <a:srgbClr val="d4745e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61" name="Таблица 3" descr=""/>
          <p:cNvPicPr/>
          <p:nvPr/>
        </p:nvPicPr>
        <p:blipFill>
          <a:blip r:embed="rId1"/>
          <a:stretch/>
        </p:blipFill>
        <p:spPr>
          <a:xfrm>
            <a:off x="828720" y="1981080"/>
            <a:ext cx="7272360" cy="43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698040" y="2247480"/>
            <a:ext cx="819468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80000"/>
              </a:lnSpc>
              <a:spcBef>
                <a:spcPts val="425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62626"/>
                </a:solidFill>
                <a:latin typeface="Times New Roman"/>
              </a:rPr>
              <a:t>дотримання на підприємстві порядку приймання і оформлення документів, що підтверджують факт надходження матеріалів;</a:t>
            </a:r>
            <a:endParaRPr b="0" lang="en-US" sz="17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425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62626"/>
                </a:solidFill>
                <a:latin typeface="Times New Roman"/>
              </a:rPr>
              <a:t>правильність обліку та оцінки матеріалів, що надійшли від постачальників;</a:t>
            </a:r>
            <a:endParaRPr b="0" lang="en-US" sz="17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425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62626"/>
                </a:solidFill>
                <a:latin typeface="Times New Roman"/>
              </a:rPr>
              <a:t>повнота і своєчасність оприбуткування запасів у відповідності з документами постачальника (здійснюється з метою виявлення випадків неповного оприбуткування або повного неоприбуткування  запасів);</a:t>
            </a:r>
            <a:endParaRPr b="0" lang="en-US" sz="17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425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62626"/>
                </a:solidFill>
                <a:latin typeface="Times New Roman"/>
              </a:rPr>
              <a:t>відповідність якості одержаних запасів характеристикам, що вказані в прибуткових документах, сертифікатах якості, лабораторних аналізах тощо;</a:t>
            </a:r>
            <a:endParaRPr b="0" lang="en-US" sz="17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425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62626"/>
                </a:solidFill>
                <a:latin typeface="Times New Roman"/>
              </a:rPr>
              <a:t>правильність оформлення актів на приймання запасів (у випадку, коли якісні або кількісні характеристики матеріалів, що надійшли, не відповідають тим, що вказані в супроводжувальних документах);</a:t>
            </a:r>
            <a:endParaRPr b="0" lang="en-US" sz="17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425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62626"/>
                </a:solidFill>
                <a:latin typeface="Times New Roman"/>
              </a:rPr>
              <a:t>правильність, повнота та своєчасність оприбуткування запасів, придбаних підзвітними особами;</a:t>
            </a:r>
            <a:endParaRPr b="0" lang="en-US" sz="17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425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62626"/>
                </a:solidFill>
                <a:latin typeface="Times New Roman"/>
              </a:rPr>
              <a:t>повнота, своєчасність і правильність оприбуткування матеріалів від ліквідації основних засобів та малоцінних необоротних активів тощо.</a:t>
            </a:r>
            <a:endParaRPr b="0" lang="en-US" sz="17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425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547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95d1d"/>
                </a:solidFill>
                <a:latin typeface="Times New Roman"/>
              </a:rPr>
              <a:t>Аудит повноти, своєчасності та правильності оприбуткування  запасів передбачає вивчення таких питань:</a:t>
            </a:r>
            <a:br>
              <a:rPr sz="2800"/>
            </a:br>
            <a:endParaRPr b="0" lang="en-US" sz="2800" spc="-1" strike="noStrike">
              <a:solidFill>
                <a:srgbClr val="895d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9040" y="189000"/>
            <a:ext cx="775656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95d1d"/>
                </a:solidFill>
                <a:latin typeface="Times New Roman"/>
              </a:rPr>
              <a:t>Під час проведення інвентаризації аудитор не може бути членом інвентаризаційної комісії, але, спостерігаючи за її роботою може: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895d1d"/>
                </a:solidFill>
                <a:latin typeface="Times New Roman"/>
              </a:rPr>
              <a:t>1. спостерігати за виконанням процедур інвентаризації;</a:t>
            </a:r>
            <a:br>
              <a:rPr sz="1800"/>
            </a:br>
            <a:r>
              <a:rPr b="0" lang="ru-RU" sz="1800" spc="-1" strike="noStrike">
                <a:solidFill>
                  <a:srgbClr val="895d1d"/>
                </a:solidFill>
                <a:latin typeface="Times New Roman"/>
              </a:rPr>
              <a:t>2. перевірити правильність підрахунку на основі випадкової вибірки;</a:t>
            </a:r>
            <a:br>
              <a:rPr sz="1800"/>
            </a:br>
            <a:endParaRPr b="0" lang="en-US" sz="18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65" name="Picture 2" descr="http://textreferat.com.ua/images/291324_image021.gif"/>
          <p:cNvPicPr/>
          <p:nvPr/>
        </p:nvPicPr>
        <p:blipFill>
          <a:blip r:embed="rId1"/>
          <a:stretch/>
        </p:blipFill>
        <p:spPr>
          <a:xfrm>
            <a:off x="1116000" y="1916280"/>
            <a:ext cx="691200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14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5d1d"/>
                </a:solidFill>
                <a:latin typeface="Times New Roman"/>
              </a:rPr>
              <a:t>У випадках придбання запасів аудитору необхідно звернути особливу увагу на дотримання податкового законодавства (порядку нарахування і сплати ПДВ тощо). В цілому результати аудиту повноти і своєчасності оприбуткування запасів доцільно відображати у робочому документі наступного виду (приклад)</a:t>
            </a:r>
            <a:endParaRPr b="0" lang="en-US" sz="1800" spc="-1" strike="noStrike">
              <a:solidFill>
                <a:srgbClr val="895d1d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395280" y="2060640"/>
          <a:ext cx="8497800" cy="1928880"/>
        </p:xfrm>
        <a:graphic>
          <a:graphicData uri="http://schemas.openxmlformats.org/drawingml/2006/table">
            <a:tbl>
              <a:tblPr/>
              <a:tblGrid>
                <a:gridCol w="4032360"/>
                <a:gridCol w="4465440"/>
              </a:tblGrid>
              <a:tr h="17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удиторська фірма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«Центр-аудит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eb795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робочого документу 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eb795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иємство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ТОВ «Агрофірм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Д склав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Марченко Т. 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іод, що перевіряється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1.01.2013-31.12.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Д Перевірив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Степовий П. 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ілянка аудит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Аудит запас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удиторські процедур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вірка записів і документів, запит, підтвердження, перерахунок, аналітичні процедур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іб перевір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бірков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жере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aeb79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кладні, рахунки-фактури, регістри синтетичного і аналітичного обліку запасів, відповіді на запитання аудито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aeb795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395280" y="4076640"/>
          <a:ext cx="8424720" cy="2509920"/>
        </p:xfrm>
        <a:graphic>
          <a:graphicData uri="http://schemas.openxmlformats.org/drawingml/2006/table">
            <a:tbl>
              <a:tblPr/>
              <a:tblGrid>
                <a:gridCol w="897120"/>
                <a:gridCol w="1226880"/>
                <a:gridCol w="1227240"/>
                <a:gridCol w="817560"/>
                <a:gridCol w="826920"/>
                <a:gridCol w="827280"/>
                <a:gridCol w="658800"/>
                <a:gridCol w="1295280"/>
                <a:gridCol w="647640"/>
              </a:tblGrid>
              <a:tr h="525600">
                <a:tc gridSpan="9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</a:t>
                      </a: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БІРКА СВОЄЧАСНОСТІ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ИБУТКУВАННЯ ЗАПАС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 рахунку 20 «Виробничі запаси» (203 «Паливо»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6040">
                <a:tc rowSpan="2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ні первинного облік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ідображено в облік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ідхиле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 запас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д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т рахунк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3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, від 12.03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варно-транспортна наклад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6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03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6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ибутковано на наступний д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аливо А-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1 від 23.03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варно-транспортна наклад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3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 первісної вартості помилкововключено до ПД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аливо А-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755280" y="1989000"/>
            <a:ext cx="7745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b1004"/>
                </a:solidFill>
                <a:latin typeface="Times New Roman"/>
              </a:rPr>
              <a:t>Списання запасів із балансу згідно П(с)БО 9 відбувається у таких випадках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5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відпускання у виробництво; 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5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реалізація за грошові кошти; 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5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передача до статутного капіталу іншого підприємства; безоплатна передача; 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5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списання через витрати від стихійного лиха;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5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списання недостач у межах норм і понад норм природного убутку.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1004"/>
                </a:solidFill>
                <a:latin typeface="Times New Roman"/>
              </a:rPr>
              <a:t>При списанні матеріалів у виробництво проводимо документальну перевірку, яка дає змогу встановити: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5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відповідність норм у документах на списання нормативним актам;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5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відповідність кількості фактично списаної сировини витрачанню цієї сировини за нормами.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55640" y="836640"/>
            <a:ext cx="775656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95d1d"/>
                </a:solidFill>
                <a:latin typeface="Times New Roman"/>
                <a:ea typeface="Times New Roman"/>
              </a:rPr>
              <a:t>3.2 Аудит вибуття виробничих запасів</a:t>
            </a:r>
            <a:br>
              <a:rPr sz="2000"/>
            </a:br>
            <a:br>
              <a:rPr sz="2000"/>
            </a:br>
            <a:endParaRPr b="0" lang="en-US" sz="2800" spc="-1" strike="noStrike">
              <a:solidFill>
                <a:srgbClr val="895d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179280" y="2204640"/>
            <a:ext cx="734544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1. Мета,завдання та джерела аудиту запасів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2. Послідовність проведення аудиту запасів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3. Загальна методика проведення аудиту запасів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3.1 Аудит надходження виробничих запасів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3.2 Аудит вибуття виробничих запасів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4. Узагальнення результатів аудиту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(Аудиторський висновок)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99128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895d1d"/>
                </a:solidFill>
                <a:latin typeface="Times New Roman"/>
              </a:rPr>
              <a:t>У лекції розглядаються наступні питання: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29" name="Shape 32" descr=""/>
          <p:cNvPicPr/>
          <p:nvPr/>
        </p:nvPicPr>
        <p:blipFill>
          <a:blip r:embed="rId1"/>
          <a:stretch/>
        </p:blipFill>
        <p:spPr>
          <a:xfrm>
            <a:off x="6032520" y="4076640"/>
            <a:ext cx="31114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-360" y="2133360"/>
            <a:ext cx="8048520" cy="42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фактична кількість списаної сировини та матеріалів відповідає або не відповідає нормам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в зв’язку із списанням виробничих запасів перевіряємо наявність актів на списання запасів, накладних , довіреностей, вимог на відпущення матеріалів, відомостей обліку видачі матеріалів, а також перевіряємо правильність заповнення документів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виявлено що на підприємстві застосовується оцінка запасів за середньозваженою собівартістю, а саме нам пояснили, що цей метод застосовується окремо для кожної сукупності взятих на облік запасів, однакових за призначенням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95d1d"/>
                </a:solidFill>
                <a:latin typeface="Times New Roman"/>
              </a:rPr>
              <a:t>За результатами такого зіставлення можна виявити:</a:t>
            </a:r>
            <a:endParaRPr b="0" lang="en-US" sz="32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74" name="Picture 1" descr=""/>
          <p:cNvPicPr/>
          <p:nvPr/>
        </p:nvPicPr>
        <p:blipFill>
          <a:blip r:embed="rId1"/>
          <a:stretch/>
        </p:blipFill>
        <p:spPr>
          <a:xfrm>
            <a:off x="7380360" y="4437000"/>
            <a:ext cx="164772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"/>
          <p:cNvGraphicFramePr/>
          <p:nvPr/>
        </p:nvGraphicFramePr>
        <p:xfrm>
          <a:off x="684360" y="1125360"/>
          <a:ext cx="8172360" cy="2313000"/>
        </p:xfrm>
        <a:graphic>
          <a:graphicData uri="http://schemas.openxmlformats.org/drawingml/2006/table">
            <a:tbl>
              <a:tblPr/>
              <a:tblGrid>
                <a:gridCol w="4051080"/>
                <a:gridCol w="412128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удиторська фірма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«Центр-аудит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робочого документу  </a:t>
                      </a:r>
                      <a:r>
                        <a:rPr b="0" lang="uk-UA" sz="1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иємство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ТОВ «Агрофірм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Д склав </a:t>
                      </a:r>
                      <a:r>
                        <a:rPr b="0" lang="uk-UA" sz="1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арченко Т. 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іод, що перевіряється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1.01.2013-31.12.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Д Перевірив </a:t>
                      </a:r>
                      <a:r>
                        <a:rPr b="0" lang="uk-UA" sz="1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теповий П. 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ілянка аудит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удит запас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удиторські процедур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ірка записів і документів, запит, підтвердження, перерахунок, аналітичні процедур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іб перевір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бірков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жере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кладні, рахунки-фактури, регістри синтетичного і аналітичного обліку запасів, відповіді на запитання аудитора, робочі документи аудитор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826920" y="3500280"/>
          <a:ext cx="7921800" cy="2036880"/>
        </p:xfrm>
        <a:graphic>
          <a:graphicData uri="http://schemas.openxmlformats.org/drawingml/2006/table">
            <a:tbl>
              <a:tblPr/>
              <a:tblGrid>
                <a:gridCol w="1355760"/>
                <a:gridCol w="1355760"/>
                <a:gridCol w="1079640"/>
                <a:gridCol w="1079280"/>
                <a:gridCol w="989280"/>
                <a:gridCol w="2062080"/>
              </a:tblGrid>
              <a:tr h="384840"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ЛІК ПОМИЛОК І ПОРУШЕНЬ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ЯВЛЕНИХ В ХОДІ АУДИТУ ЗАПАС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ні первинного облі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арактер порушенн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йменуванн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імітно-забірна карт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08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вищення ліміту відпуску пали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нига складського облі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рес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своєчасне оприбутку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250920" y="2133720"/>
            <a:ext cx="835344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незадовільна організація складського господарства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невиконання завдань щодо заготовлення (придбання) матеріалів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завищення собівартості придбаних матеріалів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порушення правил приймання вантажів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неповне оприбуткування запасів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необґрунтовані претензії до постачальників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нераціональне витрачання матеріалів на виробництво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порушення норм і лімітів відпуску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порушення порядку проведення інвентаризації (порушення строків проведення, нерівномірний їх розподіл за календарними періодами, порушення принципу раптовості, неякісне проведення інвентаризації, недбале і несвоєчасне оформлення документів тощо)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нестача, надлишок запасів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помилки і підробки в документах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підміна нових матеріалів старими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помилки у визначенні сум уцінок, дооцінок запасів та їх відображення в обліку; /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незадовільне ведення бухгалтерського обліку</a:t>
            </a: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.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95d1d"/>
                </a:solidFill>
                <a:latin typeface="Times New Roman"/>
              </a:rPr>
              <a:t>Типовими помилками під час здійснення операцій з виробничими запасами є такі:</a:t>
            </a:r>
            <a:br>
              <a:rPr sz="3200"/>
            </a:br>
            <a:endParaRPr b="0" lang="en-US" sz="3200" spc="-1" strike="noStrike">
              <a:solidFill>
                <a:srgbClr val="895d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95d1d"/>
                </a:solidFill>
                <a:latin typeface="Times New Roman"/>
              </a:rPr>
              <a:t>4. Узагальнення результатів аудиту(Аудиторський висновок)</a:t>
            </a:r>
            <a:endParaRPr b="0" lang="en-US" sz="36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80" name="Заголовок 2"/>
          <p:cNvSpPr/>
          <p:nvPr/>
        </p:nvSpPr>
        <p:spPr>
          <a:xfrm>
            <a:off x="826920" y="2060640"/>
            <a:ext cx="7756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b1004"/>
                </a:solidFill>
                <a:latin typeface="Times New Roman"/>
              </a:rPr>
              <a:t>Тест перевірки стану внутрішнього контролю та системи обліку виробничих запасів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Таблица 5" descr=""/>
          <p:cNvPicPr/>
          <p:nvPr/>
        </p:nvPicPr>
        <p:blipFill>
          <a:blip r:embed="rId1"/>
          <a:stretch/>
        </p:blipFill>
        <p:spPr>
          <a:xfrm>
            <a:off x="895320" y="2567160"/>
            <a:ext cx="749304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5656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b1004"/>
                </a:solidFill>
                <a:latin typeface="Times New Roman"/>
              </a:rPr>
              <a:t>Продовження прикладу </a:t>
            </a:r>
            <a:br>
              <a:rPr sz="1600"/>
            </a:br>
            <a:endParaRPr b="0" lang="en-US" sz="1600" spc="-1" strike="noStrike">
              <a:solidFill>
                <a:srgbClr val="895d1d"/>
              </a:solidFill>
              <a:latin typeface="Times New Roman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539640" y="2060640"/>
          <a:ext cx="8209080" cy="3327480"/>
        </p:xfrm>
        <a:graphic>
          <a:graphicData uri="http://schemas.openxmlformats.org/drawingml/2006/table">
            <a:tbl>
              <a:tblPr/>
              <a:tblGrid>
                <a:gridCol w="617760"/>
                <a:gridCol w="4021200"/>
                <a:gridCol w="2489040"/>
                <a:gridCol w="1081080"/>
              </a:tblGrid>
              <a:tr h="27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облі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а чи класифікація виробничих запасів для їх обліку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ізовано чи АУ на посадовому рівні, чи ведуться картки складського обліку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іляються ПДВ окремим рядком в розрахункових і платіжних документах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іряються чи дані АУ і СУ систематично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ільки в кінці ро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 складають акти списання МШП, що приходять у непридатні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ок складання бухгалтерської звітност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є встановленим нормативним вимога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ність облікової політики вимогам ПБ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ково не відповіда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4" name="Заголовок 2"/>
          <p:cNvSpPr/>
          <p:nvPr/>
        </p:nvSpPr>
        <p:spPr>
          <a:xfrm>
            <a:off x="395280" y="5445000"/>
            <a:ext cx="77565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b1004"/>
                </a:solidFill>
                <a:latin typeface="Times New Roman"/>
              </a:rPr>
              <a:t>Значення символів:</a:t>
            </a:r>
            <a:br>
              <a:rPr sz="1600"/>
            </a:br>
            <a:r>
              <a:rPr b="0" lang="ru-RU" sz="1600" spc="-1" strike="noStrike">
                <a:solidFill>
                  <a:srgbClr val="4b1004"/>
                </a:solidFill>
                <a:latin typeface="Times New Roman"/>
              </a:rPr>
              <a:t>У1 - низький рівень;</a:t>
            </a:r>
            <a:br>
              <a:rPr sz="1600"/>
            </a:br>
            <a:r>
              <a:rPr b="0" lang="ru-RU" sz="1600" spc="-1" strike="noStrike">
                <a:solidFill>
                  <a:srgbClr val="4b1004"/>
                </a:solidFill>
                <a:latin typeface="Times New Roman"/>
              </a:rPr>
              <a:t>У2 - нижче середнього рівня;</a:t>
            </a:r>
            <a:br>
              <a:rPr sz="1600"/>
            </a:br>
            <a:r>
              <a:rPr b="0" lang="ru-RU" sz="1600" spc="-1" strike="noStrike">
                <a:solidFill>
                  <a:srgbClr val="4b1004"/>
                </a:solidFill>
                <a:latin typeface="Times New Roman"/>
              </a:rPr>
              <a:t>У3 - середній рівень;</a:t>
            </a:r>
            <a:br>
              <a:rPr sz="1600"/>
            </a:br>
            <a:r>
              <a:rPr b="0" lang="ru-RU" sz="1600" spc="-1" strike="noStrike">
                <a:solidFill>
                  <a:srgbClr val="4b1004"/>
                </a:solidFill>
                <a:latin typeface="Times New Roman"/>
              </a:rPr>
              <a:t>У4 - високий </a:t>
            </a:r>
            <a:r>
              <a:rPr b="0" i="1" lang="ru-RU" sz="1600" spc="-1" strike="noStrike">
                <a:solidFill>
                  <a:srgbClr val="4b1004"/>
                </a:solidFill>
                <a:latin typeface="Times New Roman"/>
              </a:rPr>
              <a:t>рівень.</a:t>
            </a:r>
            <a:br>
              <a:rPr sz="10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250920" y="2133720"/>
            <a:ext cx="86421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личезну роль у вирішенні цього завдання грає чітко організований облік. Він повинен оперативно забезпечувати керівників та інших зацікавлених осіб необхідною інформацією для ефективного управління виробничим запасами в цілях оптимальних умов для виготовлення високоякісної продукції і вишукування резервів зниження її собівартості в частині раціонального використання матеріалів.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обхідна умова діяльності підприємств - добре налагоджені господарські зв'язки, тому що вони забезпечують безперебійність постачання, безперервність процесу виробництва, своєчасність відвантаження і реалізації.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ітка класифікація виробничих запасів за певними ознаками і вибір одиниці обліку необхідні для своєчасної і правильної організації синтетичного й аналітичного обліку.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ажливою передумовою організації обліку матеріалів є їх оцінка. Вона має значення і для більш ефективної організації обробки даних обліку. 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лік запасів на підприємстві відповідає як умовам виробничого споживання матеріалів, так і вимогам організації складського господарства, і забезпечує виконання однієї з основних завдань обліку - контроль за збереженням запасів під час їх приймання та зберігання.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7547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b1004"/>
                </a:solidFill>
                <a:latin typeface="Times New Roman"/>
              </a:rPr>
              <a:t>При узагальненні отриманих  результатів, можна спрямувати до наступні висновки:</a:t>
            </a:r>
            <a:br>
              <a:rPr sz="2800"/>
            </a:br>
            <a:endParaRPr b="0" lang="en-US" sz="2800" spc="-1" strike="noStrike">
              <a:solidFill>
                <a:srgbClr val="895d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684000" y="1989000"/>
            <a:ext cx="80485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62626"/>
                </a:solidFill>
                <a:latin typeface="Times New Roman"/>
              </a:rPr>
              <a:t>1.2. Оборотні активи 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В трансформованому балансі товариства на кінець року відображені </a:t>
            </a:r>
            <a:r>
              <a:rPr b="0" i="1" lang="ru-RU" sz="1400" spc="-1" strike="noStrike">
                <a:solidFill>
                  <a:srgbClr val="262626"/>
                </a:solidFill>
                <a:latin typeface="Times New Roman"/>
              </a:rPr>
              <a:t>оборотні активи загальною вартістю 77,0 тис. грн., що становить 3,4 % вартості майна товариства, а саме: 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262626"/>
                </a:solidFill>
                <a:latin typeface="Times New Roman"/>
              </a:rPr>
              <a:t>запаси (рахунки класу 2), облік яких здійснюється згідно П(С)БО-9 “Запаси”, затвердженого наказом МФУ від 20.12.1999 №246. Розмежування та визначення належності засобів праці, що тривалий час знаходяться в експлуатації, до ОЗ та МШП, їх поточний облік здійснено згідно П(С)БО-9 та прийнятої підприємством облікової політики. 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Оприбуткування ТМЦ здійснюється на основі первинних документів за фактичною собівартістю. Аналітичний облік запасів ведеться в обігово-сальдових відомостях за кожною одиницею бухгалтерського обліку запасів, якою прийнято їх найменування, та в розрізі матеріально-відповідальних осіб. При відпуску запасів у виробництво оцінка їх здійснюється за методом середньозваженого залишку, що передбачено наказом про облікову політику. 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На дату балансу запаси відображені достовірно (за їх первісною вартістю) і складаються із залишків виробничих запасів в сумі 24,8 тис. грн. ( в т.ч. товарів – 0,8 тис. грн.) та готової продукції – 0,4 тис. грн. 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В процесі трансформації балансу на дату переходу на МСФЗ для забезпечення порівняності звітних даних за ряд періодів застосовувався один і той же метод визначення собівартості запасів, як того вимагає МСБО-2 «Запаси». На виконання вимог МСБО-2 «Запаси» МШП в сумі 4,7 тис. грн. рекласифіковано в запаси. 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7547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95d1d"/>
                </a:solidFill>
                <a:latin typeface="Times New Roman"/>
              </a:rPr>
              <a:t>АУДИТОРСЬКИЙ ЗВІТ ПРО РЕЗУЛЬТАТИ ДОСЛІДЖЕННЯ </a:t>
            </a:r>
            <a:br>
              <a:rPr sz="2000"/>
            </a:br>
            <a:r>
              <a:rPr b="1" lang="ru-RU" sz="2000" spc="-1" strike="noStrike">
                <a:solidFill>
                  <a:srgbClr val="895d1d"/>
                </a:solidFill>
                <a:latin typeface="Times New Roman"/>
              </a:rPr>
              <a:t>В ХОДІ АУДИТОРСЬКОЇ ПЕРЕВІРКИ ВАТ "ВОЛОЛОДАРСЬКО-ВОЛИНСЬКИЙ ЛЬОНОЗАВОД»" за 2013 рік </a:t>
            </a:r>
            <a:endParaRPr b="0" lang="en-US" sz="20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89" name="Заголовок 2"/>
          <p:cNvSpPr/>
          <p:nvPr/>
        </p:nvSpPr>
        <p:spPr>
          <a:xfrm>
            <a:off x="3492360" y="0"/>
            <a:ext cx="58168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404040"/>
                </a:solidFill>
                <a:latin typeface="Times New Roman"/>
              </a:rPr>
              <a:t>Примірник аудиторського звіту в частині запасі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9040" y="260280"/>
            <a:ext cx="775656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95d1d"/>
                </a:solidFill>
                <a:latin typeface="Times New Roman"/>
              </a:rPr>
              <a:t>1. Мета, завдання та джерела аудиту запасів</a:t>
            </a:r>
            <a:br>
              <a:rPr sz="2800"/>
            </a:br>
            <a:endParaRPr b="0" lang="en-US" sz="36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31" name="Содержимое 1"/>
          <p:cNvSpPr/>
          <p:nvPr/>
        </p:nvSpPr>
        <p:spPr>
          <a:xfrm>
            <a:off x="250920" y="1700280"/>
            <a:ext cx="82818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Times New Roman"/>
              </a:rPr>
              <a:t>Запаси –це активи які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утримуються для подальшого продажу (розподілу, передачі) за умов звичайної господарської діяльності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перебувають у процесі виробництва з метою подальшого продажу продукту виробництв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утримуються для споживання під час виробництва продукції, виконання робіт та надання послуг, а також управління підприємством/установою. (згідно П(С)БО 9 «Запас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684000" y="2133360"/>
            <a:ext cx="7745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 </a:t>
            </a:r>
            <a:r>
              <a:rPr b="1" i="1" lang="ru-RU" sz="2600" spc="-1" strike="noStrike">
                <a:solidFill>
                  <a:srgbClr val="873624"/>
                </a:solidFill>
                <a:latin typeface="Times New Roman"/>
              </a:rPr>
              <a:t>Метою аудиту виробничих запасів</a:t>
            </a:r>
            <a:r>
              <a:rPr b="0" lang="ru-RU" sz="2600" spc="-1" strike="noStrike">
                <a:solidFill>
                  <a:srgbClr val="873624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є висловлювання аудиторів думки про те, чи відповідає фінансова інформація щодо руху і залишків виробничих запасів на підприємстві в усіх суттєвих аспектах нормативних документам, які регламентують порядок її підготовки і надання користувачам.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pic>
        <p:nvPicPr>
          <p:cNvPr id="433" name="Picture 4" descr="C:\Users\User\Desktop\слайди\1389230430_c7.jpg"/>
          <p:cNvPicPr/>
          <p:nvPr/>
        </p:nvPicPr>
        <p:blipFill>
          <a:blip r:embed="rId1"/>
          <a:stretch/>
        </p:blipFill>
        <p:spPr>
          <a:xfrm>
            <a:off x="5724360" y="4724280"/>
            <a:ext cx="34196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-360" y="2133720"/>
            <a:ext cx="684036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9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перевірити правильність визнання запасів активами суб’єкта господарювання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перевірити, чи відповідають чинному законодавству методи оцінки і обліку виробничих запасів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встановити, чи дотримується підприємство прийнятих методів оцінки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оцінити стан внутрішнього контролю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встановити чи здійснюється контроль за виробничими запасами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перевірити чи правильно та своєчасно здійснюється документальне відображення господарських операцій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встановити чи немає на підприємстві протизаконних дій, пов’язаних з витрачанням виробничих запасів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35344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895d1d"/>
                </a:solidFill>
                <a:latin typeface="Times New Roman"/>
                <a:ea typeface="Times New Roman"/>
              </a:rPr>
              <a:t>Завданнями аудиту операцій з виробничими запасами є:</a:t>
            </a:r>
            <a:endParaRPr b="0" lang="en-US" sz="48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36" name="Picture 2" descr="C:\Users\User\Desktop\слайди\ukrayisnskyyaudyt.jpg"/>
          <p:cNvPicPr/>
          <p:nvPr/>
        </p:nvPicPr>
        <p:blipFill>
          <a:blip r:embed="rId1"/>
          <a:stretch/>
        </p:blipFill>
        <p:spPr>
          <a:xfrm>
            <a:off x="6516720" y="4653000"/>
            <a:ext cx="26272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179280" y="2133720"/>
            <a:ext cx="8785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just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кількісне та якісне приймання запасів від постачальника, а також при внутрішньому переміщенні в міжцеховому напрямку, між матеріально відповідальними особами, складами та виробництвом. 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умови зберігання запасів і закріплення матеріальної відповідальності. 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норми витрат сировини і матеріалів на виробництво та їх дотримання – перевіряється обґрунтованість затвердження норм та їх застосування в лімітно-забірних картках і відомостях на витрачання матеріалів;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первинна документація з обліку запасів досліджується в частині достовірності відображених у ній господарських операцій; 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бухгалтерський облік та звітність вивчаються в частині достовірності даних щодо залишків та руху виробничих запасів, відображених у них;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брак та пошкодження запасів – досліджуються причини, які зумовили виникнення негативних явищ, розмір невиробничих витрат, встановлюються особи, винні в злодіянні шкоди;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недостача цінностей та шкода, виявлені при інвентаризації, їх обґрунтованість і відповідальні особи;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узагальнюється дослідження інших об’єктів, де виявлена шкода, перевіряється, чи підтверджується їх розмір даними бухгалтерського обліку та іншими зібраними доказами, наскільки правильно встановлену матеріальну відповідальність конкретних працівників і розмір їх відшкодування.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7138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895d1d"/>
                </a:solidFill>
                <a:latin typeface="Times New Roman"/>
              </a:rPr>
              <a:t>Об’єктами аудиту виробничих запасів є: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41672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895d1d"/>
                </a:solidFill>
                <a:latin typeface="Times New Roman"/>
                <a:ea typeface="Times New Roman"/>
              </a:rPr>
              <a:t>Джерела інформації для проведення аудиту виробничих запасів</a:t>
            </a:r>
            <a:endParaRPr b="0" lang="en-US" sz="40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95280" y="2247480"/>
            <a:ext cx="835344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бухгалтерська звітність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статистична звітність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регістри бухгалтерського обліку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документи: типові форми з обліку матеріально-виробничих запасів, договори купівля, протоколи узгодження ціни, і постачання за терміну, асортименту тощо., накладні про поставки і внутрішнє переміщення,лимитно-заборние карта народження і ін.,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облікова політика: графік документообігу, субрахунка і аналітичні рахунки робочому плані рахунків; способи погашення вартості предметів у складі засобів у обороті; оцінка виробничих запасів; відпустку запасів у виробництво; оцінка запасів незавершеного виробництва; наявність і склад комісій по інвентаризація незавершеного виробництва та матеріально-виробничих накупив конвертів, графік і періодичність проведення інвентаризацій незавершеного виробництва та матеріально-виробничих запасів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95280" y="2205000"/>
            <a:ext cx="8569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Times New Roman"/>
              </a:rPr>
              <a:t>Етапи проведення аудиту виробничих запасів:</a:t>
            </a:r>
            <a:endParaRPr b="0" lang="en-US" sz="2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73624"/>
                </a:solidFill>
                <a:latin typeface="Segoe Script"/>
              </a:rPr>
              <a:t>І етап - </a:t>
            </a:r>
            <a:r>
              <a:rPr b="1" i="1" lang="ru-RU" sz="2400" spc="-1" strike="noStrike">
                <a:solidFill>
                  <a:srgbClr val="404040"/>
                </a:solidFill>
                <a:latin typeface="Times New Roman"/>
              </a:rPr>
              <a:t>Планування та визначення аудиторського підходу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73624"/>
                </a:solidFill>
                <a:latin typeface="Segoe Script"/>
              </a:rPr>
              <a:t>ІІ етап – </a:t>
            </a:r>
            <a:r>
              <a:rPr b="1" i="1" lang="ru-RU" sz="2400" spc="-1" strike="noStrike">
                <a:solidFill>
                  <a:srgbClr val="404040"/>
                </a:solidFill>
                <a:latin typeface="Times New Roman"/>
              </a:rPr>
              <a:t>Оцінка системи внутрішнього контролю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73624"/>
                </a:solidFill>
                <a:latin typeface="Segoe Script"/>
              </a:rPr>
              <a:t>ІІІ етап -</a:t>
            </a:r>
            <a:r>
              <a:rPr b="1" i="1" lang="ru-RU" sz="2400" spc="-1" strike="noStrike">
                <a:solidFill>
                  <a:srgbClr val="262626"/>
                </a:solidFill>
                <a:latin typeface="Times New Roman"/>
              </a:rPr>
              <a:t>  </a:t>
            </a:r>
            <a:r>
              <a:rPr b="1" i="1" lang="ru-RU" sz="2400" spc="-1" strike="noStrike">
                <a:solidFill>
                  <a:srgbClr val="404040"/>
                </a:solidFill>
                <a:latin typeface="Times New Roman"/>
              </a:rPr>
              <a:t>Перевірка господарських операцій по суті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73624"/>
                </a:solidFill>
                <a:latin typeface="Segoe Script"/>
              </a:rPr>
              <a:t>І</a:t>
            </a:r>
            <a:r>
              <a:rPr b="1" lang="en-US" sz="2400" spc="-1" strike="noStrike">
                <a:solidFill>
                  <a:srgbClr val="873624"/>
                </a:solidFill>
                <a:latin typeface="Segoe Script"/>
              </a:rPr>
              <a:t>V</a:t>
            </a:r>
            <a:r>
              <a:rPr b="1" lang="ru-RU" sz="2400" spc="-1" strike="noStrike">
                <a:solidFill>
                  <a:srgbClr val="873624"/>
                </a:solidFill>
                <a:latin typeface="Segoe Script"/>
              </a:rPr>
              <a:t> етап -</a:t>
            </a:r>
            <a:r>
              <a:rPr b="1" i="1" lang="ru-RU" sz="24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404040"/>
                </a:solidFill>
                <a:latin typeface="Times New Roman"/>
              </a:rPr>
              <a:t>Завершення аудиту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565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95d1d"/>
                </a:solidFill>
                <a:latin typeface="Times New Roman"/>
              </a:rPr>
              <a:t>2. Послідовність проведення аудиту запасів</a:t>
            </a:r>
            <a:br>
              <a:rPr sz="3600"/>
            </a:br>
            <a:endParaRPr b="0" lang="en-US" sz="36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43" name="Picture 2" descr="C:\Users\User\Desktop\слайди\audit-doc1.jpg"/>
          <p:cNvPicPr/>
          <p:nvPr/>
        </p:nvPicPr>
        <p:blipFill>
          <a:blip r:embed="rId1"/>
          <a:stretch/>
        </p:blipFill>
        <p:spPr>
          <a:xfrm>
            <a:off x="5940360" y="4292640"/>
            <a:ext cx="3203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7756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5400" spc="-1" strike="noStrike">
                <a:solidFill>
                  <a:srgbClr val="895d1d"/>
                </a:solidFill>
                <a:latin typeface="Times New Roman"/>
              </a:rPr>
              <a:t>Важливо знати!!!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68360" y="220464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b1004"/>
                </a:solidFill>
                <a:latin typeface="Times New Roman"/>
                <a:ea typeface="Times New Roman"/>
              </a:rPr>
              <a:t>При І етапі аудитор звертає увагу на:</a:t>
            </a:r>
            <a:r>
              <a:rPr b="1" i="1" lang="ru-RU" sz="1600" spc="-1" strike="noStrike">
                <a:solidFill>
                  <a:srgbClr val="4b1004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терміни проведення інвентаризації;</a:t>
            </a: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авильність визначення її результатів;</a:t>
            </a: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ивчає склад комісії та відображення в бухгалтерському обліку даних по інвентаризації.</a:t>
            </a: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i="1" lang="ru-RU" sz="1300" spc="-1" strike="noStrike">
                <a:solidFill>
                  <a:srgbClr val="4b1004"/>
                </a:solidFill>
                <a:latin typeface="Times New Roman"/>
                <a:ea typeface="Times New Roman"/>
              </a:rPr>
              <a:t>При ІІ етапі аудитор звертає увагу на:</a:t>
            </a:r>
            <a:r>
              <a:rPr b="1" i="1" lang="ru-RU" sz="1500" spc="-1" strike="noStrike">
                <a:solidFill>
                  <a:srgbClr val="4b1004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изначення критичних моментів системи бухгалтерського обліку, в яких можуть бути помилки чи викривлення, і дістає впевненість, що стосовно таких пунктів були розроблені й проведені заходи і процедури, які дають змогу виявити помилки та викривлення ;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оведення додаткових перевірок на відповідність засобів контролю ефективне тільки у разі, якщо час та зусилля, зекономлені при проведенні перевірок на суттєвість, перевищують час і зусилля, затрачені на проведен­ня перевірок на відповідність засобів контролю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4b1004"/>
                </a:solidFill>
                <a:latin typeface="Times New Roman"/>
                <a:ea typeface="Times New Roman"/>
              </a:rPr>
              <a:t>При ІІІ етапі аудитор звертає увагу на:</a:t>
            </a:r>
            <a:endParaRPr b="0" lang="en-US" sz="12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воєчасність і правильність документального оформлення, оприбуткування запасів первинними документами;</a:t>
            </a: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ідображення їх в обліку, також слід перевірити правильність складання актів розбіжності кількості та якості матеріальних цінностей, що надійшли, і своєчасність пред’явлення претензій до постачальників або транспортних організацій;</a:t>
            </a: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еревірку окремих елементів балансу;</a:t>
            </a: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4b1004"/>
                </a:solidFill>
                <a:latin typeface="Times New Roman"/>
                <a:ea typeface="Times New Roman"/>
              </a:rPr>
              <a:t>При І</a:t>
            </a:r>
            <a:r>
              <a:rPr b="1" i="1" lang="en-US" sz="1300" spc="-1" strike="noStrike">
                <a:solidFill>
                  <a:srgbClr val="4b1004"/>
                </a:solidFill>
                <a:latin typeface="Times New Roman"/>
                <a:ea typeface="Times New Roman"/>
              </a:rPr>
              <a:t>V</a:t>
            </a:r>
            <a:r>
              <a:rPr b="1" i="1" lang="ru-RU" sz="1300" spc="-1" strike="noStrike">
                <a:solidFill>
                  <a:srgbClr val="4b1004"/>
                </a:solidFill>
                <a:latin typeface="Times New Roman"/>
                <a:ea typeface="Times New Roman"/>
              </a:rPr>
              <a:t> етапі аудитор звертає увагу на:</a:t>
            </a: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еревірити роботи складу групи аудиторів і вирішити чи до­статньо зібрано свідчень та оцінити результати аудиту;</a:t>
            </a: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</p:txBody>
      </p:sp>
      <p:pic>
        <p:nvPicPr>
          <p:cNvPr id="446" name="Picture 1" descr="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19:56:32Z</dcterms:created>
  <dc:creator>Диана</dc:creator>
  <dc:description/>
  <dc:language>en-US</dc:language>
  <cp:lastModifiedBy>Татьяна</cp:lastModifiedBy>
  <dcterms:modified xsi:type="dcterms:W3CDTF">2014-03-07T07:15:21Z</dcterms:modified>
  <cp:revision>37</cp:revision>
  <dc:subject/>
  <dc:title>Презентация PowerPoint</dc:title>
</cp:coreProperties>
</file>