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D7A-26A7-43F6-8F62-361E7297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1B0-9A18-4B5B-A33A-D08B3D62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C27-C4C5-4DDF-9A1A-3D340B49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D9E-082E-49EF-ADF1-B02B3B73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51EE-178B-4683-A460-0FFB73B0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F4FC-314A-4A78-B156-1AAD0DA9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3832-ABBC-42DD-94B8-3C65B7CA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532C-80AC-4F15-A4E9-AED2482B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9A77-F1CA-4C08-9107-BC63B079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9FDF-D3B7-4F4B-9043-CDB37133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1429-F0D0-41BD-8BE3-CB6E164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CE25-FA43-4D70-8FBE-46F163F4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D13D-A761-463C-B83C-8811728F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FA3A-4226-404B-BA44-4F7455F5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E8E2-2951-4F66-822B-7ADC8437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FBC9-29A1-45DD-B513-F4EA1FB2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B401-2008-46E1-8DAD-C4A0B3AB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6F1-9F88-4011-B2C4-6FBA618A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553-B710-4DA6-AF23-7D9B6592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4EB-7C8B-4840-8D5D-EF637C65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401-1DBE-408B-B085-667B6B97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E0E-EF50-4CD5-9FAB-4A699342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CBF-A0A5-4A0B-8520-FA34BE44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BD1-574C-4A98-B489-44E00DC0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3C2A-EE7F-4005-8E2B-9A7A72C85421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8751-5553-4185-B655-7B1D900BE1A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B9B3-1488-471A-9FDC-DECC081041B4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A028-4996-4250-BEFD-D17DD2794C0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1670040"/>
            <a:ext cx="8736120" cy="240192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2F6F-B54D-4E1B-86C8-57D67A9E752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ffffff"/>
                </a:solidFill>
                <a:latin typeface="Times New Roman"/>
              </a:rPr>
              <a:t>В результаті проведення </a:t>
            </a:r>
            <a:r>
              <a:rPr b="1" lang="uk-UA" sz="3100" spc="-1" strike="noStrike">
                <a:solidFill>
                  <a:srgbClr val="ffffff"/>
                </a:solidFill>
                <a:latin typeface="Times New Roman"/>
              </a:rPr>
              <a:t>дооцінки</a:t>
            </a:r>
            <a:r>
              <a:rPr b="0" lang="uk-UA" sz="3100" spc="-1" strike="noStrike">
                <a:solidFill>
                  <a:srgbClr val="ffffff"/>
                </a:solidFill>
                <a:latin typeface="Times New Roman"/>
              </a:rPr>
              <a:t> ОЗ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0" algn="just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1" lang="uk-UA" sz="35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Користувачі</a:t>
            </a:r>
            <a:r>
              <a:rPr b="0" lang="hu-HU" sz="3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фінансової звітності одержують адекватну</a:t>
            </a:r>
            <a:r>
              <a:rPr b="0" lang="hu-HU" sz="3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інформацію про стан активів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0" algn="just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uk-UA" sz="35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Збільшується балансова вартість активів підприємства, що нормативно випливає на надання кредиту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1F49-E7F5-4804-AFFC-262E239749E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71680" y="1214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Пунктом 17 </a:t>
            </a:r>
            <a:r>
              <a:rPr b="1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П(С)БО 7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 установлено такий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порядок проведення переоцінки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Переоцінена первісна вартість та сум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зносу об’єкта ОЗ визначається множення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відповідно первісної вартості і суми зносу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об’єкта ОЗ на індекс переоцінк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26D3-1132-4FC6-9AD8-4618B4847DF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34920" y="22320"/>
          <a:ext cx="8933040" cy="21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22320"/>
                    <a:ext cx="893304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136440" y="2571840"/>
          <a:ext cx="900756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2571840"/>
                    <a:ext cx="90075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8"/>
          <p:cNvGraphicFramePr/>
          <p:nvPr/>
        </p:nvGraphicFramePr>
        <p:xfrm>
          <a:off x="0" y="4500720"/>
          <a:ext cx="9007560" cy="185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500720"/>
                    <a:ext cx="900756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Прямая соединительная линия 14"/>
          <p:cNvSpPr/>
          <p:nvPr/>
        </p:nvSpPr>
        <p:spPr>
          <a:xfrm>
            <a:off x="0" y="2286000"/>
            <a:ext cx="892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5"/>
          <p:cNvSpPr/>
          <p:nvPr/>
        </p:nvSpPr>
        <p:spPr>
          <a:xfrm>
            <a:off x="152280" y="4429080"/>
            <a:ext cx="892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9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49FA-A1AC-4B94-B88F-401596CB023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2997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.с.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– справедлива вартість об’єкт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.з.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– залишкова вартість об’єкт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Object 6"/>
          <p:cNvGraphicFramePr/>
          <p:nvPr/>
        </p:nvGraphicFramePr>
        <p:xfrm>
          <a:off x="684360" y="333360"/>
          <a:ext cx="7632720" cy="19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327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B1ED-A80D-4D90-8B1E-DD6EEA24748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Якщо </a:t>
            </a:r>
            <a:r>
              <a:rPr b="1" i="1" lang="uk-UA" sz="3700" spc="-1" strike="noStrike">
                <a:solidFill>
                  <a:srgbClr val="ffffff"/>
                </a:solidFill>
                <a:latin typeface="Times New Roman"/>
              </a:rPr>
              <a:t>залишкова вартість</a:t>
            </a: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 об’єкта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ОЗ дорівнює </a:t>
            </a:r>
            <a:r>
              <a:rPr b="1" i="1" lang="uk-UA" sz="3700" spc="-1" strike="noStrike">
                <a:solidFill>
                  <a:srgbClr val="ffffff"/>
                </a:solidFill>
                <a:latin typeface="Times New Roman"/>
              </a:rPr>
              <a:t>нулю</a:t>
            </a: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, то переоцінена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залишкова вартість такого об’єкта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ffffff"/>
                </a:solidFill>
                <a:latin typeface="Times New Roman"/>
              </a:rPr>
              <a:t>визначається: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Первісна (переоцінена) вартість без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зміни зносу об’єкта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8360" y="3357720"/>
          <a:ext cx="813600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57720"/>
                    <a:ext cx="81360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BB49-6C44-43BA-9B56-A16F861756B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85480" y="14292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ffff"/>
                </a:solidFill>
                <a:latin typeface="Calibri"/>
              </a:rPr>
              <a:t>Відображення результатів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ffff"/>
                </a:solidFill>
                <a:latin typeface="Calibri"/>
              </a:rPr>
              <a:t>переоцінки в обліку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ідповідно до </a:t>
            </a: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п.19 П(С)БО 7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 сума </a:t>
            </a:r>
            <a:r>
              <a:rPr b="1" i="1" lang="uk-UA" sz="4800" spc="-1" strike="noStrike">
                <a:solidFill>
                  <a:srgbClr val="ffffff"/>
                </a:solidFill>
                <a:latin typeface="Times New Roman"/>
              </a:rPr>
              <a:t>дооцінки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 залишкової </a:t>
            </a:r>
            <a:r>
              <a:rPr b="0" lang="uk-UA" sz="5000" spc="-1" strike="noStrike">
                <a:solidFill>
                  <a:srgbClr val="ffffff"/>
                </a:solidFill>
                <a:latin typeface="Times New Roman"/>
              </a:rPr>
              <a:t>вартості об’єкта ОЗ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ключаються до складу капіталу</a:t>
            </a: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 доооцінках, а сума </a:t>
            </a:r>
            <a:r>
              <a:rPr b="1" i="1" lang="uk-UA" sz="4800" spc="-1" strike="noStrike">
                <a:solidFill>
                  <a:srgbClr val="ffffff"/>
                </a:solidFill>
                <a:latin typeface="Times New Roman"/>
              </a:rPr>
              <a:t>уцінки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 – до складу витрат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E0B7-962A-40FB-A0D0-C5A683D4491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42920" y="115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Calibri"/>
              </a:rPr>
              <a:t>Винятки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1. Якщо на дату проведенн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чергової </a:t>
            </a:r>
            <a:r>
              <a:rPr b="1" i="1" lang="uk-UA" sz="4500" spc="-1" strike="noStrike">
                <a:solidFill>
                  <a:srgbClr val="ffffff"/>
                </a:solidFill>
                <a:latin typeface="Times New Roman"/>
              </a:rPr>
              <a:t>дооцінки</a:t>
            </a:r>
            <a:r>
              <a:rPr b="1" i="1" lang="uk-U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суми попередні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уцінок перевищують су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попередніх дооцінок залишково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вартості, то сума дооцінки в межа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такого перевищення включаєтьс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до </a:t>
            </a:r>
            <a:r>
              <a:rPr b="1" i="1" lang="uk-UA" sz="4400" spc="-1" strike="noStrike">
                <a:solidFill>
                  <a:srgbClr val="ffffff"/>
                </a:solidFill>
                <a:latin typeface="Times New Roman"/>
              </a:rPr>
              <a:t>доходу</a:t>
            </a: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 звітного періоду, а 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різницю збільшується сум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Times New Roman"/>
              </a:rPr>
              <a:t>Капіталу в дооцінках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1699-FC10-4B6A-B670-91F4729F7B7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4300" spc="-1" strike="noStrike">
                <a:solidFill>
                  <a:srgbClr val="ffffff"/>
                </a:solidFill>
                <a:latin typeface="Times New Roman"/>
              </a:rPr>
              <a:t>2. Якщо проводиться </a:t>
            </a:r>
            <a:r>
              <a:rPr b="1" i="1" lang="uk-UA" sz="4500" spc="-1" strike="noStrike">
                <a:solidFill>
                  <a:srgbClr val="ffffff"/>
                </a:solidFill>
                <a:latin typeface="Times New Roman"/>
              </a:rPr>
              <a:t>уцінка</a:t>
            </a:r>
            <a:r>
              <a:rPr b="0" lang="uk-UA" sz="4300" spc="-1" strike="noStrike">
                <a:solidFill>
                  <a:srgbClr val="ffffff"/>
                </a:solidFill>
                <a:latin typeface="Times New Roman"/>
              </a:rPr>
              <a:t> об’єкта, що раніше дооцінювався, сума уцінки в межах перевищення попередніх дооцінок над попередніми уцінками залишкової вартості направляється на зменшення капіталу в дооцінках, а різниця (якщо сума уцінки більше зазначеного перевищення) включається до витрат звітного періоду.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D49C-C832-4CFF-8B14-EDCDA4F7F4D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0560" y="285480"/>
            <a:ext cx="889308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Фактично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порядок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ідображення в облік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результатів уцінки або дооцінки залежить від того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чи проводилася переоцінка об’єкта ОЗ </a:t>
            </a:r>
            <a:r>
              <a:rPr b="0" i="1" lang="uk-UA" sz="4800" spc="-1" strike="noStrike">
                <a:solidFill>
                  <a:srgbClr val="ffffff"/>
                </a:solidFill>
                <a:latin typeface="Times New Roman"/>
              </a:rPr>
              <a:t>раніше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8F9B-7CA9-40BE-BB96-77988B412D4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У результаті проведення оцінки складається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3900" spc="-1" strike="noStrike">
                <a:solidFill>
                  <a:srgbClr val="ffffff"/>
                </a:solidFill>
                <a:latin typeface="Times New Roman"/>
              </a:rPr>
              <a:t>звіт про оцінку майна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, який містить висновки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про вартість майна та підтверджує виконані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процедури з оцінки майна суб’єктом оціночної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діяльності –</a:t>
            </a:r>
            <a:r>
              <a:rPr b="0" lang="ru-RU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суб’єктом господарювання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відповідно до</a:t>
            </a:r>
            <a:r>
              <a:rPr b="0" lang="en-US" sz="3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договору. Звіт </a:t>
            </a:r>
            <a:r>
              <a:rPr b="0" i="1" lang="uk-UA" sz="3900" spc="-1" strike="noStrike">
                <a:solidFill>
                  <a:srgbClr val="ffffff"/>
                </a:solidFill>
                <a:latin typeface="Times New Roman"/>
              </a:rPr>
              <a:t>підписується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оцінювачами, які безпосередньо проводили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оцінку майна, і скріплюється печаткою та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підписом керівника суб’єкта оціночної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діяльності (ст. 12 Закону про оцінку)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01F8-43F5-4D46-898B-51B29FAAD9D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85840" y="1459080"/>
            <a:ext cx="8715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Згідно з </a:t>
            </a:r>
            <a:r>
              <a:rPr b="1" lang="uk-UA" sz="4500" spc="-1" strike="noStrike">
                <a:solidFill>
                  <a:srgbClr val="ffffff"/>
                </a:solidFill>
                <a:latin typeface="Times New Roman"/>
              </a:rPr>
              <a:t>п.</a:t>
            </a: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uk-UA" sz="4500" spc="-1" strike="noStrike">
                <a:solidFill>
                  <a:srgbClr val="ffffff"/>
                </a:solidFill>
                <a:latin typeface="Times New Roman"/>
              </a:rPr>
              <a:t>16 П(С)БО</a:t>
            </a: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uk-UA" sz="45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Основні засоби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підприємство може переоцінювати об’єкт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ОЗ, якщо залишкова вартість цього об’єкта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істотно відрізняється від його справедливої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вартості на дату балансу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2C3C-9095-4B41-85AF-9234046AD2F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0000"/>
                </a:solidFill>
                <a:latin typeface="Times New Roman"/>
              </a:rPr>
              <a:t>Приклад 1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Припустимо, первісна вартість об’єкта –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50000,00 грн, сума зносу – 20000,00 гри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залишкова вартість – 30000,00 грн. Відповідно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до експертної оцінки справедлива вартість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об’єкта становить 180000,00грн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900000" y="4149720"/>
          <a:ext cx="72010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149720"/>
                    <a:ext cx="72010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10F0-50BB-41FD-BCD3-4D6AA959890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250920" y="620640"/>
          <a:ext cx="835344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20640"/>
                    <a:ext cx="835344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7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6"/>
          <p:cNvGraphicFramePr/>
          <p:nvPr/>
        </p:nvGraphicFramePr>
        <p:xfrm>
          <a:off x="0" y="3213000"/>
          <a:ext cx="875016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13000"/>
                    <a:ext cx="87501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C845-8ED3-4816-815C-483BE8790C2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14200" y="285480"/>
            <a:ext cx="87868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Приклад 2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Виходячи з умови прикладу 1,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припустимо, що раніше проводилася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уцінка залишкової вартості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переоцінюваного об’єкта на суму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5 000,00 грн. Зараз залишкова вартість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об’єкта дооцінюється на суму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0" y="4357800"/>
          <a:ext cx="902808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57800"/>
                    <a:ext cx="902808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F56D-F3B0-46F1-A784-CE2F5ED0978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85480" y="356760"/>
            <a:ext cx="87152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4200" spc="-1" strike="noStrike">
                <a:solidFill>
                  <a:srgbClr val="ffffff"/>
                </a:solidFill>
                <a:latin typeface="Times New Roman"/>
              </a:rPr>
              <a:t>Тоді дооцінка в сумі 5000 грн відображається в складі доходу того періоду, в якому вона проводиться, а різниця в сумі 145000,00 грн направляється на збільшення капіталу в дооцінках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4600" spc="-1" strike="noStrike">
                <a:solidFill>
                  <a:srgbClr val="ffffff"/>
                </a:solidFill>
                <a:latin typeface="Times New Roman"/>
              </a:rPr>
              <a:t>Проводки за розрахунками бухгалтерського обліку за даним прикладом відображаються </a:t>
            </a:r>
            <a:r>
              <a:rPr b="1" i="1" lang="uk-UA" sz="4600" spc="-1" strike="noStrike">
                <a:solidFill>
                  <a:srgbClr val="ffffff"/>
                </a:solidFill>
                <a:latin typeface="Times New Roman"/>
              </a:rPr>
              <a:t>наступним чином: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013C-8BAE-467D-B072-A219ECEE6C7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42920" y="0"/>
          <a:ext cx="9001080" cy="6916680"/>
        </p:xfrm>
        <a:graphic>
          <a:graphicData uri="http://schemas.openxmlformats.org/drawingml/2006/table">
            <a:tbl>
              <a:tblPr/>
              <a:tblGrid>
                <a:gridCol w="500040"/>
                <a:gridCol w="3000240"/>
                <a:gridCol w="1143000"/>
                <a:gridCol w="1081080"/>
                <a:gridCol w="1890720"/>
                <a:gridCol w="692280"/>
                <a:gridCol w="693720"/>
              </a:tblGrid>
              <a:tr h="114300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ctr">
                      <a:noAutofit/>
                    </a:bodyPr>
                    <a:p>
                      <a:pPr marL="792000" indent="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</a:t>
                      </a: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 операц</a:t>
                      </a: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ії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хгалтер-ський обл</a:t>
                      </a: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ік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, гр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ат-ковий обл</a:t>
                      </a: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03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50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Д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В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о</a:t>
                      </a: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</a:t>
                      </a:r>
                      <a:r>
                        <a:rPr b="0" lang="ru-RU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ка зносу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93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1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,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9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більшення доходів у межах суми попередньої уцінки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93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1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 000,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3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0" lang="uk-UA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іль</a:t>
                      </a:r>
                      <a:r>
                        <a:rPr b="0" lang="ru-RU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ення ка</a:t>
                      </a:r>
                      <a:r>
                        <a:rPr b="0" lang="uk-UA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і</a:t>
                      </a:r>
                      <a:r>
                        <a:rPr b="0" lang="ru-RU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лу в дооцінках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84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7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,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3B60-5445-46BE-BED2-1CA0594B969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-317520" y="920880"/>
            <a:ext cx="9882360" cy="4047840"/>
          </a:xfrm>
          <a:prstGeom prst="rect">
            <a:avLst/>
          </a:prstGeom>
          <a:ln w="0">
            <a:noFill/>
          </a:ln>
        </p:spPr>
      </p:pic>
      <p:sp>
        <p:nvSpPr>
          <p:cNvPr id="158" name="Стрелка углом 4"/>
          <p:cNvSpPr/>
          <p:nvPr/>
        </p:nvSpPr>
        <p:spPr>
          <a:xfrm rot="4918800">
            <a:off x="7196040" y="4938480"/>
            <a:ext cx="1857240" cy="1285920"/>
          </a:xfrm>
          <a:custGeom>
            <a:avLst/>
            <a:gdLst/>
            <a:ahLst/>
            <a:rect l="l" t="t" r="r" b="b"/>
            <a:pathLst>
              <a:path w="1857375" h="1285875">
                <a:moveTo>
                  <a:pt x="0" y="1285875"/>
                </a:moveTo>
                <a:lnTo>
                  <a:pt x="0" y="723305"/>
                </a:lnTo>
                <a:cubicBezTo>
                  <a:pt x="0" y="412606"/>
                  <a:pt x="251871" y="160735"/>
                  <a:pt x="562570" y="160735"/>
                </a:cubicBezTo>
                <a:lnTo>
                  <a:pt x="1535906" y="160734"/>
                </a:lnTo>
                <a:lnTo>
                  <a:pt x="1535906" y="0"/>
                </a:lnTo>
                <a:lnTo>
                  <a:pt x="1857375" y="321469"/>
                </a:lnTo>
                <a:lnTo>
                  <a:pt x="1535906" y="642938"/>
                </a:lnTo>
                <a:lnTo>
                  <a:pt x="1535906" y="482203"/>
                </a:lnTo>
                <a:lnTo>
                  <a:pt x="562570" y="482203"/>
                </a:lnTo>
                <a:cubicBezTo>
                  <a:pt x="429413" y="482203"/>
                  <a:pt x="321468" y="590148"/>
                  <a:pt x="321468" y="723305"/>
                </a:cubicBezTo>
                <a:cubicBezTo>
                  <a:pt x="321468" y="910828"/>
                  <a:pt x="321469" y="1098352"/>
                  <a:pt x="321469" y="1285875"/>
                </a:cubicBezTo>
                <a:lnTo>
                  <a:pt x="0" y="1285875"/>
                </a:lnTo>
                <a:close/>
              </a:path>
            </a:pathLst>
          </a:custGeom>
          <a:solidFill>
            <a:srgbClr val="558ed5">
              <a:alpha val="2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6D90-754D-4ED6-A2D7-3C85F48ACDA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42920" y="142920"/>
          <a:ext cx="9001080" cy="6572160"/>
        </p:xfrm>
        <a:graphic>
          <a:graphicData uri="http://schemas.openxmlformats.org/drawingml/2006/table">
            <a:tbl>
              <a:tblPr/>
              <a:tblGrid>
                <a:gridCol w="439560"/>
                <a:gridCol w="3732480"/>
                <a:gridCol w="2120760"/>
                <a:gridCol w="1830240"/>
                <a:gridCol w="878040"/>
              </a:tblGrid>
              <a:tr h="525600">
                <a:tc rowSpan="2"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ст господарської операції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еспондуючі рахунк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, грн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бе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240">
                <a:tc gridSpan="5"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дення першої дооцінки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656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дооцінки залишкової вартості основного засобу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“ОЗ”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“До-оцінка ОЗ”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932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дооцінки зносу основного засобу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“ОЗ”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ос ОЗ”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F0B2-AF55-4DC0-99FA-72E9A3F169C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-36360" y="0"/>
          <a:ext cx="9180360" cy="6858000"/>
        </p:xfrm>
        <a:graphic>
          <a:graphicData uri="http://schemas.openxmlformats.org/drawingml/2006/table">
            <a:tbl>
              <a:tblPr/>
              <a:tblGrid>
                <a:gridCol w="554040"/>
                <a:gridCol w="2954160"/>
                <a:gridCol w="82440"/>
                <a:gridCol w="2529000"/>
                <a:gridCol w="1846440"/>
                <a:gridCol w="272880"/>
                <a:gridCol w="941400"/>
              </a:tblGrid>
              <a:tr h="461880"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640" rIns="35640" tIns="0" bIns="0" anchor="t">
                      <a:noAutofit/>
                    </a:bodyPr>
                    <a:p>
                      <a:pPr marL="179280" algn="ctr">
                        <a:lnSpc>
                          <a:spcPct val="200000"/>
                        </a:lnSpc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gridSpan="7"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дення першої уцінки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2640"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уцінки залишкової вартості основного засобу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5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цінка необорот-них активів і фінансових інвестицій”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00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2440"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уцінки зносу основного засобу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r>
                        <a:rPr b="0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“Знос ОЗ”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3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5C61-DCBA-4075-8425-D89D6B356AF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24000" y="117360"/>
          <a:ext cx="8424720" cy="6551640"/>
        </p:xfrm>
        <a:graphic>
          <a:graphicData uri="http://schemas.openxmlformats.org/drawingml/2006/table">
            <a:tbl>
              <a:tblPr/>
              <a:tblGrid>
                <a:gridCol w="406080"/>
                <a:gridCol w="4206960"/>
                <a:gridCol w="1805040"/>
                <a:gridCol w="84240"/>
                <a:gridCol w="1120680"/>
                <a:gridCol w="801720"/>
              </a:tblGrid>
              <a:tr h="289800">
                <a:tc rowSpan="2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ст господарської операці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еспондуючі рахун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, гр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б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gridSpan="6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дення уцінки після попередньої дооцінк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3960">
                <a:tc rowSpan="2"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уцінки залишкової вартості ОЗ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 </a:t>
                      </a: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межах суми попередньої дооцін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“До-оцінка ОЗ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4200" rIns="342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 </a:t>
                      </a: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сумі перевищення над сумою попередньої дооцін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5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цінка необоротних активів і фінансових інвестицій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760"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уцінки зносу О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ос ОЗ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1144-0383-47F7-9976-FD5A02ADF62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14200" y="214200"/>
          <a:ext cx="8786880" cy="6464520"/>
        </p:xfrm>
        <a:graphic>
          <a:graphicData uri="http://schemas.openxmlformats.org/drawingml/2006/table">
            <a:tbl>
              <a:tblPr/>
              <a:tblGrid>
                <a:gridCol w="428760"/>
                <a:gridCol w="4643280"/>
                <a:gridCol w="1071720"/>
                <a:gridCol w="1714320"/>
                <a:gridCol w="928800"/>
              </a:tblGrid>
              <a:tr h="3016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 gridSpan="5"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дення дооцінки після попередньої уцінк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8640">
                <a:tc rowSpan="2"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дооцінки залишкової вартості ОЗ: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 </a:t>
                      </a: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межах суми попередньої уцінки 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6</a:t>
                      </a: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Інші доходи від звичайної діяльно-сті”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 </a:t>
                      </a: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сумі перевищення над сумою попередньої уцінки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r>
                        <a:rPr b="0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“До-оцінка ОЗ”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дооцінки зносу основного засобу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Знос ОЗ”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0237-D2C9-4059-B9B9-D063E4D842B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14200" y="836280"/>
            <a:ext cx="8715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Згідно з 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п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34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розділу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7 Методичних рекомендацій з бухгалтерського обліку ОЗ за поріг істотності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для проведення переоцінки може прийматися величина в розмірі </a:t>
            </a:r>
            <a:r>
              <a:rPr b="1" i="1" lang="uk-UA" sz="4000" spc="-1" strike="noStrike">
                <a:solidFill>
                  <a:srgbClr val="ffffff"/>
                </a:solidFill>
                <a:latin typeface="Times New Roman"/>
              </a:rPr>
              <a:t>1 %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чистого прибутку (збитку) підприємства або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величина, що дорівнює </a:t>
            </a:r>
            <a:r>
              <a:rPr b="1" i="1" lang="uk-UA" sz="4000" spc="-1" strike="noStrike">
                <a:solidFill>
                  <a:srgbClr val="ffffff"/>
                </a:solidFill>
                <a:latin typeface="Times New Roman"/>
              </a:rPr>
              <a:t>10-відсотковому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 відхиленню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залишкової вартості об’єктів основних засобів від їхньої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справедливої  вартості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3D0A-6765-4E90-872B-9B7065FA800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357120"/>
            <a:ext cx="91440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uk-UA" sz="4200" spc="-1" strike="noStrike">
                <a:solidFill>
                  <a:srgbClr val="ffffff"/>
                </a:solidFill>
                <a:latin typeface="Times New Roman"/>
              </a:rPr>
              <a:t>П(С)БО 7 не </a:t>
            </a:r>
            <a:r>
              <a:rPr b="0" i="1" lang="uk-UA" sz="4200" spc="-1" strike="noStrike">
                <a:solidFill>
                  <a:srgbClr val="ffffff"/>
                </a:solidFill>
                <a:latin typeface="Times New Roman"/>
              </a:rPr>
              <a:t>встановлює обов’язковості</a:t>
            </a:r>
            <a:r>
              <a:rPr b="0" i="1" lang="en-US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200" spc="-1" strike="noStrike">
                <a:solidFill>
                  <a:srgbClr val="ffffff"/>
                </a:solidFill>
                <a:latin typeface="Times New Roman"/>
              </a:rPr>
              <a:t>проведення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ереоцінки</a:t>
            </a:r>
            <a:r>
              <a:rPr b="0" lang="uk-UA" sz="4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Якщо об’єкти групи ОЗ були переоцінені,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то згодом переоцінка цієї групи повинна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500" spc="-1" strike="noStrike">
                <a:solidFill>
                  <a:srgbClr val="ffffff"/>
                </a:solidFill>
                <a:latin typeface="Times New Roman"/>
              </a:rPr>
              <a:t>проводитися регулярно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, так, щоб залишкова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вартість об’єктів на дату балансу істотно не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відрізнялася від справедливої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536E-A2FC-4477-B949-F2E6934D37A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14200" y="1093320"/>
            <a:ext cx="86788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Необхідність переоцінки визначає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керівник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підприємства.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Це рішення може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прийматися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підставі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даних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3500" spc="-1" strike="noStrike">
                <a:solidFill>
                  <a:srgbClr val="ffffff"/>
                </a:solidFill>
                <a:latin typeface="Times New Roman"/>
              </a:rPr>
              <a:t>інвентаризації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або на підставі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3500" spc="-1" strike="noStrike">
                <a:solidFill>
                  <a:srgbClr val="ffffff"/>
                </a:solidFill>
                <a:latin typeface="Times New Roman"/>
              </a:rPr>
              <a:t>службової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500" spc="-1" strike="noStrike">
                <a:solidFill>
                  <a:srgbClr val="ffffff"/>
                </a:solidFill>
                <a:latin typeface="Times New Roman"/>
              </a:rPr>
              <a:t>записки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бухгалтера. Рішення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керівника про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проведення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переоцінки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оформляється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відповідним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розпорядженням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(наказом)</a:t>
            </a:r>
            <a:r>
              <a:rPr b="0" lang="hu-HU" sz="35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2B8F-2985-4ADB-9AA6-C4DFABFD9AB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0" y="428760"/>
            <a:ext cx="91440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52840" indent="-7207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100" spc="-1" strike="noStrike">
                <a:solidFill>
                  <a:srgbClr val="ffffff"/>
                </a:solidFill>
                <a:latin typeface="Times New Roman"/>
              </a:rPr>
              <a:t>Процедура проведення переоцінки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1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Переоцінка проводиться на дату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балансу. Датою балансу вважається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дата, на яку складений баланс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підприємства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1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У разі переоцінки об’єкта на ту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саму 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дату здійснюється переоцінка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uk-UA" sz="4100" spc="-1" strike="noStrike">
                <a:solidFill>
                  <a:srgbClr val="ffffff"/>
                </a:solidFill>
                <a:latin typeface="Times New Roman"/>
              </a:rPr>
              <a:t>усіх 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ffffff"/>
                </a:solidFill>
                <a:latin typeface="Times New Roman"/>
              </a:rPr>
              <a:t>об’єктів групи </a:t>
            </a: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ОЗ, до якої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належить 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цей об’єкт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2C54-5D81-4036-BC53-004F2C9981E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24000" y="1727280"/>
            <a:ext cx="857232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Спочатку визначається</a:t>
            </a: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переоцінена первісна вартість, переоцінена сума зносу і переоцінена залишкова вартість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1F9A-B58E-4E03-9A08-9611CF51FE8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Ст. 7 </a:t>
            </a:r>
            <a:r>
              <a:rPr b="1" lang="uk-UA" sz="3400" spc="-1" strike="noStrike">
                <a:solidFill>
                  <a:srgbClr val="ffffff"/>
                </a:solidFill>
                <a:latin typeface="Times New Roman"/>
              </a:rPr>
              <a:t>ЗУ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uk-UA" sz="3400" spc="-1" strike="noStrike">
                <a:solidFill>
                  <a:srgbClr val="ffffff"/>
                </a:solidFill>
                <a:latin typeface="Times New Roman"/>
              </a:rPr>
              <a:t>Про оцінку майна, майнових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3400" spc="-1" strike="noStrike">
                <a:solidFill>
                  <a:srgbClr val="ffffff"/>
                </a:solidFill>
                <a:latin typeface="Times New Roman"/>
              </a:rPr>
              <a:t>прав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3400" spc="-1" strike="noStrike">
                <a:solidFill>
                  <a:srgbClr val="ffffff"/>
                </a:solidFill>
                <a:latin typeface="Times New Roman"/>
              </a:rPr>
              <a:t>і професійну оціночну діяльність в Україні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3400" spc="-1" strike="noStrike">
                <a:solidFill>
                  <a:srgbClr val="ffffff"/>
                </a:solidFill>
                <a:latin typeface="Times New Roman"/>
              </a:rPr>
              <a:t>дата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прийняття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установлено, що у випадку переоцінки ОФ для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цілей бухгалтерського обліку обов’язковим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є </a:t>
            </a:r>
            <a:r>
              <a:rPr b="1" i="1" lang="uk-UA" sz="3400" spc="-1" strike="noStrike">
                <a:solidFill>
                  <a:srgbClr val="ffffff"/>
                </a:solidFill>
                <a:latin typeface="Times New Roman"/>
              </a:rPr>
              <a:t>проведення оцінки майна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. Оцінка майна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проводиться особою, яка одержала сертифікат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суб’єкта оціночної діяльності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8BB8-67AA-4541-9185-5A93704A31B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У результаті проведення оцінки складається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звіт про оцінку майна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, який містить висновк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ро вартість майна та підтверджує виконані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роцедури з оцінки майна суб’єктом оціночної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діяльності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суб’єктом господарювання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відповідно до договору. Звіт </a:t>
            </a:r>
            <a:r>
              <a:rPr b="0" i="1" lang="uk-UA" sz="3600" spc="-1" strike="noStrike">
                <a:solidFill>
                  <a:srgbClr val="ffffff"/>
                </a:solidFill>
                <a:latin typeface="Times New Roman"/>
              </a:rPr>
              <a:t>підписується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цінювачами, які безпосередньо проводил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цінку майна, і скріплюється печаткою т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ідписом керівника суб’єкта оціночної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діяльності (ст. 12 Закону про оцінку)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5229-FB1B-447F-928B-E404F50C1FF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I</dc:creator>
  <dc:description/>
  <dc:language>en-US</dc:language>
  <cp:lastModifiedBy>MSI</cp:lastModifiedBy>
  <dcterms:modified xsi:type="dcterms:W3CDTF">2021-09-29T06:56:45Z</dcterms:modified>
  <cp:revision>405</cp:revision>
  <dc:subject/>
  <dc:title>Лекція 2</dc:title>
</cp:coreProperties>
</file>