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55A-A701-461C-8DB3-A7BB0D3B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872-D94A-4FE8-BD82-861D0903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B46-BC1A-49D0-B688-58A3E775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D0E-BBEF-496A-AFC4-ADB330AF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4C5B-81BC-48E5-A682-23262D1D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1FD3-F370-4F87-9516-4E7402DD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B1C5-1851-4C9A-BBF4-A81C37AF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1D31-69E8-4D75-BC17-03134F31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63EF-0B61-41D3-A509-33E6E7D3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CE59-D1D4-491A-8990-59F3C965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AFDD-21B9-46F2-8007-E35BCA6C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D0A-FFE6-40C3-8DA8-6080F2CC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EBD6-7BAE-45E5-93C1-451112D1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B585-FBF2-4628-8AA6-6F2EAD3D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6A0F-ED15-4476-8840-F47360A5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881F-7BE5-4623-B262-36025EF2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B5CA-D842-4002-9E51-FF433571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DDD-6C49-4F6A-A8B0-5063FE75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12D-AD67-479F-9EEB-7F9DD488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11A-27C9-4F81-BCD6-70ABE340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E57-247F-4365-A627-CE00ACFC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9E0-12B8-454B-AC1B-E4972815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244-35FB-43B8-9ACA-AE3FFF48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D37-AE3A-4B36-8F9A-CE105586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DF8F-1D0A-4749-9C6A-4290131F9A15}" type="datetime">
              <a:rPr b="0" lang="ru-RU" sz="1200" spc="-1" strike="noStrike">
                <a:solidFill>
                  <a:srgbClr val="bcbcbc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F24C-BE06-49FB-B468-7172C9BB5C1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933c"/>
            </a:gs>
            <a:gs pos="100000">
              <a:srgbClr val="e1e8f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BD2A-2DD3-4562-8333-5AE328AAF839}" type="datetime">
              <a:rPr b="0" lang="ru-RU" sz="1200" spc="-1" strike="noStrike">
                <a:solidFill>
                  <a:srgbClr val="bcbcbc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9636-DDE5-41AB-92B5-8D2DAECB6E0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1670040"/>
            <a:ext cx="8736120" cy="240192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81F5-285C-4911-AD87-831182DF54F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ffffff"/>
                </a:solidFill>
                <a:latin typeface="Times New Roman"/>
              </a:rPr>
              <a:t>В результаті проведення </a:t>
            </a:r>
            <a:r>
              <a:rPr b="1" lang="uk-UA" sz="3100" spc="-1" strike="noStrike">
                <a:solidFill>
                  <a:srgbClr val="ffffff"/>
                </a:solidFill>
                <a:latin typeface="Times New Roman"/>
              </a:rPr>
              <a:t>дооцінки</a:t>
            </a:r>
            <a:r>
              <a:rPr b="0" lang="uk-UA" sz="3100" spc="-1" strike="noStrike">
                <a:solidFill>
                  <a:srgbClr val="ffffff"/>
                </a:solidFill>
                <a:latin typeface="Times New Roman"/>
              </a:rPr>
              <a:t> ОЗ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0" algn="just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9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1" lang="uk-UA" sz="35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Користувачі</a:t>
            </a:r>
            <a:r>
              <a:rPr b="0" lang="hu-HU" sz="35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фінансової звітності одержують адекватну</a:t>
            </a:r>
            <a:r>
              <a:rPr b="0" lang="hu-HU" sz="35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інформацію про стан активів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0" algn="just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uk-UA" sz="35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Збільшується балансова вартість активів підприємства, що нормативно випливає на надання кредиту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71D5-1A97-4979-B177-5CBD1A1931A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71680" y="1214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  <a:ea typeface="Arial"/>
              </a:rPr>
              <a:t>Пунктом 17 </a:t>
            </a:r>
            <a:r>
              <a:rPr b="1" lang="uk-UA" sz="3000" spc="-1" strike="noStrike">
                <a:solidFill>
                  <a:srgbClr val="ffffff"/>
                </a:solidFill>
                <a:latin typeface="Arial"/>
                <a:ea typeface="Arial"/>
              </a:rPr>
              <a:t>П(С)БО 7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  <a:ea typeface="Arial"/>
              </a:rPr>
              <a:t> установлено такий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  <a:ea typeface="Arial"/>
              </a:rPr>
              <a:t>порядок проведення переоцінки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  <a:ea typeface="Arial"/>
              </a:rPr>
              <a:t>Переоцінена первісна вартість та сум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  <a:ea typeface="Arial"/>
              </a:rPr>
              <a:t>зносу об’єкта ОЗ визначається множенням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  <a:ea typeface="Arial"/>
              </a:rPr>
              <a:t>відповідно первісної вартості і суми зносу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  <a:ea typeface="Arial"/>
              </a:rPr>
              <a:t>об’єкта ОЗ на індекс переоцінки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E11B-B304-4D2A-ADBB-8507DC9DFD3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34920" y="22320"/>
          <a:ext cx="8933040" cy="21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22320"/>
                    <a:ext cx="893304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136440" y="2571840"/>
          <a:ext cx="9007560" cy="17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2571840"/>
                    <a:ext cx="90075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8"/>
          <p:cNvGraphicFramePr/>
          <p:nvPr/>
        </p:nvGraphicFramePr>
        <p:xfrm>
          <a:off x="0" y="4500720"/>
          <a:ext cx="9007560" cy="185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500720"/>
                    <a:ext cx="900756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Прямая соединительная линия 14"/>
          <p:cNvSpPr/>
          <p:nvPr/>
        </p:nvSpPr>
        <p:spPr>
          <a:xfrm>
            <a:off x="0" y="2286000"/>
            <a:ext cx="892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15"/>
          <p:cNvSpPr/>
          <p:nvPr/>
        </p:nvSpPr>
        <p:spPr>
          <a:xfrm>
            <a:off x="152280" y="4429080"/>
            <a:ext cx="8929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Номер слайда 9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EB54-0AA7-491D-90C3-06FB7002D16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2997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В.с.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– справедлива вартість об’єкта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В.з.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– залишкова вартість об’єкт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Object 6"/>
          <p:cNvGraphicFramePr/>
          <p:nvPr/>
        </p:nvGraphicFramePr>
        <p:xfrm>
          <a:off x="684360" y="333360"/>
          <a:ext cx="7632720" cy="19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63272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C0B7-B664-43B5-B0E8-109EE0CCE32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Якщо </a:t>
            </a:r>
            <a:r>
              <a:rPr b="1" i="1" lang="uk-UA" sz="3700" spc="-1" strike="noStrike">
                <a:solidFill>
                  <a:srgbClr val="ffffff"/>
                </a:solidFill>
                <a:latin typeface="Times New Roman"/>
              </a:rPr>
              <a:t>залишкова вартість</a:t>
            </a: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 об’єкта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ОЗ дорівнює </a:t>
            </a:r>
            <a:r>
              <a:rPr b="1" i="1" lang="uk-UA" sz="3700" spc="-1" strike="noStrike">
                <a:solidFill>
                  <a:srgbClr val="ffffff"/>
                </a:solidFill>
                <a:latin typeface="Times New Roman"/>
              </a:rPr>
              <a:t>нулю</a:t>
            </a: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, то переоцінена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залишкова вартість такого об’єкта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700" spc="-1" strike="noStrike">
                <a:solidFill>
                  <a:srgbClr val="ffffff"/>
                </a:solidFill>
                <a:latin typeface="Times New Roman"/>
              </a:rPr>
              <a:t>визначається: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Первісна (переоцінена) вартість без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зміни зносу об’єкта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468360" y="3357720"/>
          <a:ext cx="813600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57720"/>
                    <a:ext cx="81360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8409-3079-44C8-9103-B5AADF7A091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85480" y="142920"/>
            <a:ext cx="8643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ffffff"/>
                </a:solidFill>
                <a:latin typeface="Calibri"/>
              </a:rPr>
              <a:t>Відображення результатів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ffffff"/>
                </a:solidFill>
                <a:latin typeface="Calibri"/>
              </a:rPr>
              <a:t>переоцінки в обліку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ідповідно до </a:t>
            </a: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п.19 П(С)БО 7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 сума </a:t>
            </a:r>
            <a:r>
              <a:rPr b="1" i="1" lang="uk-UA" sz="4800" spc="-1" strike="noStrike">
                <a:solidFill>
                  <a:srgbClr val="ffffff"/>
                </a:solidFill>
                <a:latin typeface="Times New Roman"/>
              </a:rPr>
              <a:t>дооцінки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 залишкової </a:t>
            </a:r>
            <a:r>
              <a:rPr b="0" lang="uk-UA" sz="5000" spc="-1" strike="noStrike">
                <a:solidFill>
                  <a:srgbClr val="ffffff"/>
                </a:solidFill>
                <a:latin typeface="Times New Roman"/>
              </a:rPr>
              <a:t>вартості об’єкта ОЗ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ключаються до складу капіталу</a:t>
            </a: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 доооцінках, а сума </a:t>
            </a:r>
            <a:r>
              <a:rPr b="1" i="1" lang="uk-UA" sz="4800" spc="-1" strike="noStrike">
                <a:solidFill>
                  <a:srgbClr val="ffffff"/>
                </a:solidFill>
                <a:latin typeface="Times New Roman"/>
              </a:rPr>
              <a:t>уцінки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 – до складу витрат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C084-57F5-4C86-9702-CE9E3275A6D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42920" y="11592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Calibri"/>
              </a:rPr>
              <a:t>Винятки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1. Якщо на дату проведенн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чергової </a:t>
            </a:r>
            <a:r>
              <a:rPr b="1" i="1" lang="uk-UA" sz="4500" spc="-1" strike="noStrike">
                <a:solidFill>
                  <a:srgbClr val="ffffff"/>
                </a:solidFill>
                <a:latin typeface="Times New Roman"/>
              </a:rPr>
              <a:t>дооцінки</a:t>
            </a:r>
            <a:r>
              <a:rPr b="1" i="1" lang="uk-U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суми попередні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уцінок перевищують сум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попередніх дооцінок залишково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вартості, то сума дооцінки в межа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такого перевищення включаєтьс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до </a:t>
            </a:r>
            <a:r>
              <a:rPr b="1" i="1" lang="uk-UA" sz="4400" spc="-1" strike="noStrike">
                <a:solidFill>
                  <a:srgbClr val="ffffff"/>
                </a:solidFill>
                <a:latin typeface="Times New Roman"/>
              </a:rPr>
              <a:t>доходу</a:t>
            </a: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 звітного періоду, а 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різницю збільшується сум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Times New Roman"/>
              </a:rPr>
              <a:t>Капіталу в дооцінках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7EB4-E847-4ADE-B938-318C21D78E3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4300" spc="-1" strike="noStrike">
                <a:solidFill>
                  <a:srgbClr val="ffffff"/>
                </a:solidFill>
                <a:latin typeface="Times New Roman"/>
              </a:rPr>
              <a:t>2. Якщо проводиться </a:t>
            </a:r>
            <a:r>
              <a:rPr b="1" i="1" lang="uk-UA" sz="4500" spc="-1" strike="noStrike">
                <a:solidFill>
                  <a:srgbClr val="ffffff"/>
                </a:solidFill>
                <a:latin typeface="Times New Roman"/>
              </a:rPr>
              <a:t>уцінка</a:t>
            </a:r>
            <a:r>
              <a:rPr b="0" lang="uk-UA" sz="4300" spc="-1" strike="noStrike">
                <a:solidFill>
                  <a:srgbClr val="ffffff"/>
                </a:solidFill>
                <a:latin typeface="Times New Roman"/>
              </a:rPr>
              <a:t> об’єкта, що раніше дооцінювався, сума уцінки в межах перевищення попередніх дооцінок над попередніми уцінками залишкової вартості направляється на зменшення капіталу в дооцінках, а різниця (якщо сума уцінки більше зазначеного перевищення) включається до витрат звітного періоду.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122F-98F5-453E-A660-D443B350BF1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50560" y="285480"/>
            <a:ext cx="889308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Фактично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порядок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ідображення в обліку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результатів уцінки або дооцінки залежить від того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чи проводилася переоцінка об’єкта ОЗ </a:t>
            </a:r>
            <a:r>
              <a:rPr b="0" i="1" lang="uk-UA" sz="4800" spc="-1" strike="noStrike">
                <a:solidFill>
                  <a:srgbClr val="ffffff"/>
                </a:solidFill>
                <a:latin typeface="Times New Roman"/>
              </a:rPr>
              <a:t>раніше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1F4F-3819-4472-9205-71497EA1145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У результаті проведення оцінки складається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3900" spc="-1" strike="noStrike">
                <a:solidFill>
                  <a:srgbClr val="ffffff"/>
                </a:solidFill>
                <a:latin typeface="Times New Roman"/>
              </a:rPr>
              <a:t>звіт про оцінку майна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, який містить висновки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про вартість майна та підтверджує виконані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процедури з оцінки майна суб’єктом оціночної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діяльності –</a:t>
            </a:r>
            <a:r>
              <a:rPr b="0" lang="ru-RU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суб’єктом господарювання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відповідно до</a:t>
            </a:r>
            <a:r>
              <a:rPr b="0" lang="en-US" sz="39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договору. Звіт </a:t>
            </a:r>
            <a:r>
              <a:rPr b="0" i="1" lang="uk-UA" sz="3900" spc="-1" strike="noStrike">
                <a:solidFill>
                  <a:srgbClr val="ffffff"/>
                </a:solidFill>
                <a:latin typeface="Times New Roman"/>
              </a:rPr>
              <a:t>підписується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оцінювачами, які безпосередньо проводили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оцінку майна, і скріплюється печаткою та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підписом керівника суб’єкта оціночної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900" spc="-1" strike="noStrike">
                <a:solidFill>
                  <a:srgbClr val="ffffff"/>
                </a:solidFill>
                <a:latin typeface="Times New Roman"/>
              </a:rPr>
              <a:t>діяльності (ст. 12 Закону про оцінку)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1CDE-01F3-4D46-A977-E25FDB06D29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85840" y="1459080"/>
            <a:ext cx="8715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Згідно з </a:t>
            </a:r>
            <a:r>
              <a:rPr b="1" lang="uk-UA" sz="4500" spc="-1" strike="noStrike">
                <a:solidFill>
                  <a:srgbClr val="ffffff"/>
                </a:solidFill>
                <a:latin typeface="Times New Roman"/>
              </a:rPr>
              <a:t>п.</a:t>
            </a: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uk-UA" sz="4500" spc="-1" strike="noStrike">
                <a:solidFill>
                  <a:srgbClr val="ffffff"/>
                </a:solidFill>
                <a:latin typeface="Times New Roman"/>
              </a:rPr>
              <a:t>16 П(С)БО</a:t>
            </a: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uk-UA" sz="45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Основні засоби</a:t>
            </a:r>
            <a:r>
              <a:rPr b="0" lang="ru-RU" sz="45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підприємство може переоцінювати об’єкт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ОЗ, якщо залишкова вартість цього об’єкта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істотно відрізняється від його справедливої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500" spc="-1" strike="noStrike">
                <a:solidFill>
                  <a:srgbClr val="ffffff"/>
                </a:solidFill>
                <a:latin typeface="Times New Roman"/>
              </a:rPr>
              <a:t>вартості на дату балансу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25CF-CFDD-4D55-905D-3138140C936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0000"/>
                </a:solidFill>
                <a:latin typeface="Times New Roman"/>
              </a:rPr>
              <a:t>Приклад 1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3000" spc="-1" strike="noStrike">
                <a:solidFill>
                  <a:srgbClr val="ffffff"/>
                </a:solidFill>
                <a:latin typeface="Times New Roman"/>
              </a:rPr>
              <a:t>Припустимо, первісна вартість об’єкта –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</a:rPr>
              <a:t>50000,00 грн, сума зносу – 20000,00 гри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</a:rPr>
              <a:t>залишкова вартість – 30000,00 грн. Відповідно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</a:rPr>
              <a:t>до експертної оцінки справедлива вартість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</a:rPr>
              <a:t>об’єкта становить 180000,00грн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6"/>
          <p:cNvGraphicFramePr/>
          <p:nvPr/>
        </p:nvGraphicFramePr>
        <p:xfrm>
          <a:off x="900000" y="4149720"/>
          <a:ext cx="720108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149720"/>
                    <a:ext cx="72010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5AA3-ED36-4D1D-9462-1F10C475806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250920" y="620640"/>
          <a:ext cx="835344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20640"/>
                    <a:ext cx="835344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7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6"/>
          <p:cNvGraphicFramePr/>
          <p:nvPr/>
        </p:nvGraphicFramePr>
        <p:xfrm>
          <a:off x="0" y="3213000"/>
          <a:ext cx="875016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13000"/>
                    <a:ext cx="87501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0821-BD02-4A32-B052-25AB13820D1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14200" y="285480"/>
            <a:ext cx="87868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imes New Roman"/>
              </a:rPr>
              <a:t>Приклад 2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uk-UA" sz="3800" spc="-1" strike="noStrike">
                <a:solidFill>
                  <a:srgbClr val="ffffff"/>
                </a:solidFill>
                <a:latin typeface="Times New Roman"/>
              </a:rPr>
              <a:t>Виходячи з умови прикладу 1,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Times New Roman"/>
              </a:rPr>
              <a:t>припустимо, що раніше проводилася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Times New Roman"/>
              </a:rPr>
              <a:t>уцінка залишкової вартості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Times New Roman"/>
              </a:rPr>
              <a:t>переоцінюваного об’єкта на суму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Times New Roman"/>
              </a:rPr>
              <a:t>5 000,00 грн. Зараз залишкова вартість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Times New Roman"/>
              </a:rPr>
              <a:t>об’єкта дооцінюється на суму: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0" y="4357800"/>
          <a:ext cx="9028080" cy="17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57800"/>
                    <a:ext cx="902808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4526-8F72-4609-B7A4-D196AB50DDE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85480" y="356760"/>
            <a:ext cx="87152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4200" spc="-1" strike="noStrike">
                <a:solidFill>
                  <a:srgbClr val="ffffff"/>
                </a:solidFill>
                <a:latin typeface="Times New Roman"/>
              </a:rPr>
              <a:t>Тоді дооцінка в сумі 5000 грн відображається в складі доходу того періоду, в якому вона проводиться, а різниця в сумі 145000,00 грн направляється на збільшення капіталу в дооцінках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4600" spc="-1" strike="noStrike">
                <a:solidFill>
                  <a:srgbClr val="ffffff"/>
                </a:solidFill>
                <a:latin typeface="Times New Roman"/>
              </a:rPr>
              <a:t>Проводки за розрахунками бухгалтерського обліку за даним прикладом відображаються </a:t>
            </a:r>
            <a:r>
              <a:rPr b="1" i="1" lang="uk-UA" sz="4600" spc="-1" strike="noStrike">
                <a:solidFill>
                  <a:srgbClr val="ffffff"/>
                </a:solidFill>
                <a:latin typeface="Times New Roman"/>
              </a:rPr>
              <a:t>наступним чином: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B3CF-87F8-49FD-BB83-DA6E5C1AD5B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42920" y="0"/>
          <a:ext cx="9001080" cy="6916680"/>
        </p:xfrm>
        <a:graphic>
          <a:graphicData uri="http://schemas.openxmlformats.org/drawingml/2006/table">
            <a:tbl>
              <a:tblPr/>
              <a:tblGrid>
                <a:gridCol w="500040"/>
                <a:gridCol w="3000240"/>
                <a:gridCol w="1143000"/>
                <a:gridCol w="1081080"/>
                <a:gridCol w="1890720"/>
                <a:gridCol w="692280"/>
                <a:gridCol w="693720"/>
              </a:tblGrid>
              <a:tr h="1143000"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ctr">
                      <a:noAutofit/>
                    </a:bodyPr>
                    <a:p>
                      <a:pPr marL="792000" indent="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м</a:t>
                      </a: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 операц</a:t>
                      </a: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ії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хгалтер-ський обл</a:t>
                      </a: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ік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, грн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ат-ковий обл</a:t>
                      </a: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103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т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50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Д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В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о</a:t>
                      </a: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і</a:t>
                      </a:r>
                      <a:r>
                        <a:rPr b="0" lang="ru-RU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ка зносу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93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11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,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9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більшення доходів у межах суми попередньої уцінки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93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11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 000,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73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0" lang="uk-UA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іль</a:t>
                      </a:r>
                      <a:r>
                        <a:rPr b="0" lang="ru-RU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ення ка</a:t>
                      </a:r>
                      <a:r>
                        <a:rPr b="0" lang="uk-UA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і</a:t>
                      </a:r>
                      <a:r>
                        <a:rPr b="0" lang="ru-RU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лу в дооцінках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84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7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00,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5762-EB3C-41CC-AB54-569B73EE058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-317520" y="920880"/>
            <a:ext cx="9882360" cy="4047840"/>
          </a:xfrm>
          <a:prstGeom prst="rect">
            <a:avLst/>
          </a:prstGeom>
          <a:ln w="0">
            <a:noFill/>
          </a:ln>
        </p:spPr>
      </p:pic>
      <p:sp>
        <p:nvSpPr>
          <p:cNvPr id="158" name="Стрелка углом 4"/>
          <p:cNvSpPr/>
          <p:nvPr/>
        </p:nvSpPr>
        <p:spPr>
          <a:xfrm rot="4918800">
            <a:off x="7196040" y="4938480"/>
            <a:ext cx="1857240" cy="1285920"/>
          </a:xfrm>
          <a:custGeom>
            <a:avLst/>
            <a:gdLst/>
            <a:ahLst/>
            <a:rect l="l" t="t" r="r" b="b"/>
            <a:pathLst>
              <a:path w="1857375" h="1285875">
                <a:moveTo>
                  <a:pt x="0" y="1285875"/>
                </a:moveTo>
                <a:lnTo>
                  <a:pt x="0" y="723305"/>
                </a:lnTo>
                <a:cubicBezTo>
                  <a:pt x="0" y="412606"/>
                  <a:pt x="251871" y="160735"/>
                  <a:pt x="562570" y="160735"/>
                </a:cubicBezTo>
                <a:lnTo>
                  <a:pt x="1535906" y="160734"/>
                </a:lnTo>
                <a:lnTo>
                  <a:pt x="1535906" y="0"/>
                </a:lnTo>
                <a:lnTo>
                  <a:pt x="1857375" y="321469"/>
                </a:lnTo>
                <a:lnTo>
                  <a:pt x="1535906" y="642938"/>
                </a:lnTo>
                <a:lnTo>
                  <a:pt x="1535906" y="482203"/>
                </a:lnTo>
                <a:lnTo>
                  <a:pt x="562570" y="482203"/>
                </a:lnTo>
                <a:cubicBezTo>
                  <a:pt x="429413" y="482203"/>
                  <a:pt x="321468" y="590148"/>
                  <a:pt x="321468" y="723305"/>
                </a:cubicBezTo>
                <a:cubicBezTo>
                  <a:pt x="321468" y="910828"/>
                  <a:pt x="321469" y="1098352"/>
                  <a:pt x="321469" y="1285875"/>
                </a:cubicBezTo>
                <a:lnTo>
                  <a:pt x="0" y="1285875"/>
                </a:lnTo>
                <a:close/>
              </a:path>
            </a:pathLst>
          </a:custGeom>
          <a:solidFill>
            <a:srgbClr val="558ed5">
              <a:alpha val="2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D7B2-78B8-48C6-A87B-BD677489DF8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42920" y="142920"/>
          <a:ext cx="9001080" cy="6572160"/>
        </p:xfrm>
        <a:graphic>
          <a:graphicData uri="http://schemas.openxmlformats.org/drawingml/2006/table">
            <a:tbl>
              <a:tblPr/>
              <a:tblGrid>
                <a:gridCol w="439560"/>
                <a:gridCol w="3732480"/>
                <a:gridCol w="2120760"/>
                <a:gridCol w="1830240"/>
                <a:gridCol w="878040"/>
              </a:tblGrid>
              <a:tr h="525600">
                <a:tc rowSpan="2"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i="1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міст господарської операції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респондуючі рахунк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, грн.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бе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ди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240">
                <a:tc gridSpan="5"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дення першої дооцінки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656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бражено суму дооцінки залишкової вартості основного засобу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“ОЗ”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“До-оцінка ОЗ”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932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бражено суму дооцінки зносу основного засобу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“ОЗ”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ос ОЗ”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A17B-90B2-4E45-AFD6-608B6AF2CE3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-36360" y="0"/>
          <a:ext cx="9180360" cy="6858000"/>
        </p:xfrm>
        <a:graphic>
          <a:graphicData uri="http://schemas.openxmlformats.org/drawingml/2006/table">
            <a:tbl>
              <a:tblPr/>
              <a:tblGrid>
                <a:gridCol w="554040"/>
                <a:gridCol w="2954160"/>
                <a:gridCol w="82440"/>
                <a:gridCol w="2529000"/>
                <a:gridCol w="1846440"/>
                <a:gridCol w="272880"/>
                <a:gridCol w="941400"/>
              </a:tblGrid>
              <a:tr h="461880"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640" rIns="35640" tIns="0" bIns="0" anchor="t">
                      <a:noAutofit/>
                    </a:bodyPr>
                    <a:p>
                      <a:pPr marL="179280" algn="ctr">
                        <a:lnSpc>
                          <a:spcPct val="200000"/>
                        </a:lnSpc>
                        <a:tabLst>
                          <a:tab algn="l" pos="0"/>
                          <a:tab algn="l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gridSpan="7">
                  <a:txBody>
                    <a:bodyPr lIns="35640" rIns="3564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дення першої уцінки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2640"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бражено суму уцінки залишкової вартості основного засобу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5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цінка необорот-них активів і фінансових інвестицій”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ОЗ”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00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2440"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бражено суму уцінки зносу основного засобу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r>
                        <a:rPr b="0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“Знос ОЗ”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uk-UA" sz="4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ОЗ”</a:t>
                      </a:r>
                      <a:endParaRPr b="0" lang="en-US" sz="4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640" rIns="35640" tIns="0" bIns="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3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8683-E3CD-49A6-BD1F-FFC753CF8D5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24000" y="117360"/>
          <a:ext cx="8424720" cy="6551640"/>
        </p:xfrm>
        <a:graphic>
          <a:graphicData uri="http://schemas.openxmlformats.org/drawingml/2006/table">
            <a:tbl>
              <a:tblPr/>
              <a:tblGrid>
                <a:gridCol w="406080"/>
                <a:gridCol w="4206960"/>
                <a:gridCol w="1805040"/>
                <a:gridCol w="84240"/>
                <a:gridCol w="1120680"/>
                <a:gridCol w="801720"/>
              </a:tblGrid>
              <a:tr h="289800">
                <a:tc rowSpan="2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i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міст господарської операці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респондуючі рахун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а, грн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б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д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 gridSpan="6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дення уцінки після попередньої дооцінк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3960">
                <a:tc rowSpan="2"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бражено суму уцінки залишкової вартості ОЗ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 </a:t>
                      </a: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межах суми попередньої дооцін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“До-оцінка ОЗ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4200" rIns="342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ОЗ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 </a:t>
                      </a: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сумі перевищення над сумою попередньої дооцін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5</a:t>
                      </a: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цінка необоротних активів і фінансових інвестицій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ОЗ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760">
                <a:tc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бражено суму уцінки зносу О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ос ОЗ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ОЗ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F2CA-762C-4AEB-8F4E-8595428F484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14200" y="214200"/>
          <a:ext cx="8786880" cy="6464520"/>
        </p:xfrm>
        <a:graphic>
          <a:graphicData uri="http://schemas.openxmlformats.org/drawingml/2006/table">
            <a:tbl>
              <a:tblPr/>
              <a:tblGrid>
                <a:gridCol w="428760"/>
                <a:gridCol w="4643280"/>
                <a:gridCol w="1071720"/>
                <a:gridCol w="1714320"/>
                <a:gridCol w="928800"/>
              </a:tblGrid>
              <a:tr h="30168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 gridSpan="5"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дення дооцінки після попередньої уцінки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8640">
                <a:tc rowSpan="2"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бражено суму дооцінки залишкової вартості ОЗ: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 </a:t>
                      </a: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межах суми попередньої уцінки 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uk-UA" sz="3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ОЗ”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6</a:t>
                      </a: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Інші доходи від звичайної діяльно-сті”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– </a:t>
                      </a: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сумі перевищення над сумою попередньої уцінки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uk-UA" sz="3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ОЗ”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r>
                        <a:rPr b="0" lang="uk-U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“До-оцінка ОЗ”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marL="179280">
                        <a:lnSpc>
                          <a:spcPct val="90000"/>
                        </a:lnSpc>
                        <a:tabLst>
                          <a:tab algn="l" pos="0"/>
                          <a:tab algn="l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ображено суму дооцінки зносу основного засобу</a:t>
                      </a:r>
                      <a:endParaRPr b="0" lang="en-US" sz="3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uk-UA" sz="3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ОЗ”</a:t>
                      </a:r>
                      <a:endParaRPr b="0" lang="en-US" sz="3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r>
                        <a:rPr b="0" lang="uk-UA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“Знос ОЗ”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2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1687-7918-471A-851C-C39963F78B6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14200" y="836280"/>
            <a:ext cx="8715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Згідно з 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п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34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розділу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7 Методичних рекомендацій з бухгалтерського обліку ОЗ за поріг істотності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для проведення переоцінки може прийматися величина в розмірі </a:t>
            </a:r>
            <a:r>
              <a:rPr b="1" i="1" lang="uk-UA" sz="4000" spc="-1" strike="noStrike">
                <a:solidFill>
                  <a:srgbClr val="ffffff"/>
                </a:solidFill>
                <a:latin typeface="Times New Roman"/>
              </a:rPr>
              <a:t>1 %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чистого прибутку (збитку) підприємства або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величина, що дорівнює </a:t>
            </a:r>
            <a:r>
              <a:rPr b="1" i="1" lang="uk-UA" sz="4000" spc="-1" strike="noStrike">
                <a:solidFill>
                  <a:srgbClr val="ffffff"/>
                </a:solidFill>
                <a:latin typeface="Times New Roman"/>
              </a:rPr>
              <a:t>10-відсотковому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 відхиленню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залишкової вартості об’єктів основних засобів від їхньої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справедливої  вартості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AEAB-A5AF-4A17-8F66-33A132A7C08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357120"/>
            <a:ext cx="91440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uk-UA" sz="4200" spc="-1" strike="noStrike">
                <a:solidFill>
                  <a:srgbClr val="ffffff"/>
                </a:solidFill>
                <a:latin typeface="Times New Roman"/>
              </a:rPr>
              <a:t>П(С)БО 7 не </a:t>
            </a:r>
            <a:r>
              <a:rPr b="0" i="1" lang="uk-UA" sz="4200" spc="-1" strike="noStrike">
                <a:solidFill>
                  <a:srgbClr val="ffffff"/>
                </a:solidFill>
                <a:latin typeface="Times New Roman"/>
              </a:rPr>
              <a:t>встановлює обов’язковості</a:t>
            </a:r>
            <a:r>
              <a:rPr b="0" i="1" lang="en-US" sz="4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200" spc="-1" strike="noStrike">
                <a:solidFill>
                  <a:srgbClr val="ffffff"/>
                </a:solidFill>
                <a:latin typeface="Times New Roman"/>
              </a:rPr>
              <a:t>проведення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переоцінки</a:t>
            </a:r>
            <a:r>
              <a:rPr b="0" lang="uk-UA" sz="4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Якщо об’єкти групи ОЗ були переоцінені,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то згодом переоцінка цієї групи повинна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500" spc="-1" strike="noStrike">
                <a:solidFill>
                  <a:srgbClr val="ffffff"/>
                </a:solidFill>
                <a:latin typeface="Times New Roman"/>
              </a:rPr>
              <a:t>проводитися регулярно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, так, щоб залишкова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вартість об’єктів на дату балансу істотно не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відрізнялася від справедливої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86EC-7976-42F1-92A2-A9D8C04DCEB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14200" y="1093320"/>
            <a:ext cx="86788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Необхідність переоцінки визначає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керівник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підприємства.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Це рішення може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прийматися 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підставі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даних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3500" spc="-1" strike="noStrike">
                <a:solidFill>
                  <a:srgbClr val="ffffff"/>
                </a:solidFill>
                <a:latin typeface="Times New Roman"/>
              </a:rPr>
              <a:t>інвентаризації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або на підставі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3500" spc="-1" strike="noStrike">
                <a:solidFill>
                  <a:srgbClr val="ffffff"/>
                </a:solidFill>
                <a:latin typeface="Times New Roman"/>
              </a:rPr>
              <a:t>службової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500" spc="-1" strike="noStrike">
                <a:solidFill>
                  <a:srgbClr val="ffffff"/>
                </a:solidFill>
                <a:latin typeface="Times New Roman"/>
              </a:rPr>
              <a:t>записки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бухгалтера. Рішення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керівника про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проведення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переоцінки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оформляється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відповідним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розпорядженням</a:t>
            </a: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(наказом)</a:t>
            </a:r>
            <a:r>
              <a:rPr b="0" lang="hu-HU" sz="35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D27C-3A4C-4DBE-B2A0-54E7CE61780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0" y="428760"/>
            <a:ext cx="91440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52840" indent="-7207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100" spc="-1" strike="noStrike">
                <a:solidFill>
                  <a:srgbClr val="ffffff"/>
                </a:solidFill>
                <a:latin typeface="Times New Roman"/>
              </a:rPr>
              <a:t>Процедура проведення переоцінки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1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Переоцінка проводиться на дату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балансу. Датою балансу вважається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дата, на яку складений баланс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підприємства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1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У разі переоцінки об’єкта на ту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саму 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дату здійснюється переоцінка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uk-UA" sz="4100" spc="-1" strike="noStrike">
                <a:solidFill>
                  <a:srgbClr val="ffffff"/>
                </a:solidFill>
                <a:latin typeface="Times New Roman"/>
              </a:rPr>
              <a:t>усіх 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100" spc="-1" strike="noStrike">
                <a:solidFill>
                  <a:srgbClr val="ffffff"/>
                </a:solidFill>
                <a:latin typeface="Times New Roman"/>
              </a:rPr>
              <a:t>об’єктів групи </a:t>
            </a: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ОЗ, до якої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належить 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marL="852840" indent="-72072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Times New Roman"/>
              </a:rPr>
              <a:t>цей об’єкт</a:t>
            </a: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78FD-0C88-4844-A0AF-1802E54F486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24000" y="1727280"/>
            <a:ext cx="857232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Спочатку визначається</a:t>
            </a: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700" spc="-1" strike="noStrike">
                <a:solidFill>
                  <a:srgbClr val="ffffff"/>
                </a:solidFill>
                <a:latin typeface="Times New Roman"/>
              </a:rPr>
              <a:t>переоцінена первісна вартість, переоцінена сума зносу і переоцінена залишкова вартість.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0C0D-EABB-4F5C-92DB-CDB11D01874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3400" spc="-1" strike="noStrike">
                <a:solidFill>
                  <a:srgbClr val="ffffff"/>
                </a:solidFill>
                <a:latin typeface="Times New Roman"/>
              </a:rPr>
              <a:t>Ст. 7 </a:t>
            </a:r>
            <a:r>
              <a:rPr b="1" lang="uk-UA" sz="3400" spc="-1" strike="noStrike">
                <a:solidFill>
                  <a:srgbClr val="ffffff"/>
                </a:solidFill>
                <a:latin typeface="Times New Roman"/>
              </a:rPr>
              <a:t>ЗУ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uk-UA" sz="3400" spc="-1" strike="noStrike">
                <a:solidFill>
                  <a:srgbClr val="ffffff"/>
                </a:solidFill>
                <a:latin typeface="Times New Roman"/>
              </a:rPr>
              <a:t>Про оцінку майна, майнових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3400" spc="-1" strike="noStrike">
                <a:solidFill>
                  <a:srgbClr val="ffffff"/>
                </a:solidFill>
                <a:latin typeface="Times New Roman"/>
              </a:rPr>
              <a:t>прав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3400" spc="-1" strike="noStrike">
                <a:solidFill>
                  <a:srgbClr val="ffffff"/>
                </a:solidFill>
                <a:latin typeface="Times New Roman"/>
              </a:rPr>
              <a:t>і професійну оціночну діяльність в Україні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3400" spc="-1" strike="noStrike">
                <a:solidFill>
                  <a:srgbClr val="ffffff"/>
                </a:solidFill>
                <a:latin typeface="Times New Roman"/>
              </a:rPr>
              <a:t>дата </a:t>
            </a:r>
            <a:r>
              <a:rPr b="0" lang="uk-UA" sz="3400" spc="-1" strike="noStrike">
                <a:solidFill>
                  <a:srgbClr val="ffffff"/>
                </a:solidFill>
                <a:latin typeface="Times New Roman"/>
              </a:rPr>
              <a:t>прийняття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400" spc="-1" strike="noStrike">
                <a:solidFill>
                  <a:srgbClr val="ffffff"/>
                </a:solidFill>
                <a:latin typeface="Times New Roman"/>
              </a:rPr>
              <a:t>установлено, що у випадку переоцінки ОФ для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400" spc="-1" strike="noStrike">
                <a:solidFill>
                  <a:srgbClr val="ffffff"/>
                </a:solidFill>
                <a:latin typeface="Times New Roman"/>
              </a:rPr>
              <a:t>цілей бухгалтерського обліку обов’язковим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400" spc="-1" strike="noStrike">
                <a:solidFill>
                  <a:srgbClr val="ffffff"/>
                </a:solidFill>
                <a:latin typeface="Times New Roman"/>
              </a:rPr>
              <a:t>є </a:t>
            </a:r>
            <a:r>
              <a:rPr b="1" i="1" lang="uk-UA" sz="3400" spc="-1" strike="noStrike">
                <a:solidFill>
                  <a:srgbClr val="ffffff"/>
                </a:solidFill>
                <a:latin typeface="Times New Roman"/>
              </a:rPr>
              <a:t>проведення оцінки майна</a:t>
            </a:r>
            <a:r>
              <a:rPr b="0" lang="uk-UA" sz="3400" spc="-1" strike="noStrike">
                <a:solidFill>
                  <a:srgbClr val="ffffff"/>
                </a:solidFill>
                <a:latin typeface="Times New Roman"/>
              </a:rPr>
              <a:t>. Оцінка майна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400" spc="-1" strike="noStrike">
                <a:solidFill>
                  <a:srgbClr val="ffffff"/>
                </a:solidFill>
                <a:latin typeface="Times New Roman"/>
              </a:rPr>
              <a:t>проводиться особою, яка одержала сертифікат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400" spc="-1" strike="noStrike">
                <a:solidFill>
                  <a:srgbClr val="ffffff"/>
                </a:solidFill>
                <a:latin typeface="Times New Roman"/>
              </a:rPr>
              <a:t>суб’єкта оціночної діяльності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3AB7-FB64-43F9-8508-59EFFBC8A33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У результаті проведення оцінки складається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3600" spc="-1" strike="noStrike">
                <a:solidFill>
                  <a:srgbClr val="ffffff"/>
                </a:solidFill>
                <a:latin typeface="Times New Roman"/>
              </a:rPr>
              <a:t>звіт про оцінку майна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, який містить висновк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ро вартість майна та підтверджує виконані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роцедури з оцінки майна суб’єктом оціночної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діяльності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суб’єктом господарювання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відповідно до договору. Звіт </a:t>
            </a:r>
            <a:r>
              <a:rPr b="0" i="1" lang="uk-UA" sz="3600" spc="-1" strike="noStrike">
                <a:solidFill>
                  <a:srgbClr val="ffffff"/>
                </a:solidFill>
                <a:latin typeface="Times New Roman"/>
              </a:rPr>
              <a:t>підписується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оцінювачами, які безпосередньо проводил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оцінку майна, і скріплюється печаткою т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ідписом керівника суб’єкта оціночної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діяльності (ст. 12 Закону про оцінку)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1E1D-4D94-41DC-AE7A-C372B73B13B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SI</dc:creator>
  <dc:description/>
  <dc:language>en-US</dc:language>
  <cp:lastModifiedBy>MSI</cp:lastModifiedBy>
  <dcterms:modified xsi:type="dcterms:W3CDTF">2021-09-29T06:56:45Z</dcterms:modified>
  <cp:revision>405</cp:revision>
  <dc:subject/>
  <dc:title>Лекція 2</dc:title>
</cp:coreProperties>
</file>