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5D0-5FD2-4D86-9D3E-250B4A66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E66-A6C3-4D7A-B625-F345B729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318-1BCE-44D7-AFD4-666C598C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1AC-FA2C-4696-973D-941FCED2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1B3F-A345-44BD-AA29-D8815071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B843-DC45-401A-A4BD-053DCBAE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6BF7-F786-487A-983C-A94124BE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5F41-0747-4032-82D8-1C36AA8A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9855-EC85-448B-AC81-AE5FF36F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BB0C-B922-4DDE-9CA8-C4864686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713-D6E0-42D5-8D3F-7E14E8A3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5BA-BC1C-4F50-B9D2-97BE16E5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881E-54C3-4955-B498-A338EB30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33FB-A32C-4E73-BCC9-F76AB68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DC78-0A42-4AB4-B69A-7A29D4B9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CFE6-27A4-42B8-878C-982E0FEA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0E5A-87C5-48F9-81BC-CBC3D10F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84584-2221-433F-862C-F3BA33AA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5AC14-AF9D-4479-B687-C331CBE4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F486C-04FF-49D8-88CA-7F197999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D8309-FC84-405C-A5DA-D7E21849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1F6D5-3827-4557-8DBA-B3CC18C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0DE-6318-4C8F-B65C-46EC0C3B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BE391-36D3-485D-BC80-3003FF98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ABC38-2EBF-48A8-92C4-05DCFEB6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E36A6-71E2-4AD8-8036-88FA8FAA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5ED6C-CDC2-4602-96D1-E7DBEA15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E64C5-6BF2-4416-95EB-0582FFD1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362AA-E1B8-41C6-85E7-ABD92706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B3537-E394-4118-AA5A-2B1B0E83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915A-BC49-40D3-8FFA-83E6E02A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9ADC-4454-41E4-880A-00B64CF4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CC42-D4A4-409D-B488-0C8A2D30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7D9-BE02-453C-8DBC-7DA00D9F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B1F0-328A-45B4-9D81-CAB3ED84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058B0-23B8-422A-935D-32A81F0F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D46C1-B275-45B8-81EE-C2BEE5BF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3E33-82B2-4172-BA18-F3ED12A5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7229-EC06-45A1-9699-0FFEDE9C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1C98E-87E7-492D-B12B-D861E148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F429-EF8E-465E-A48A-49A46DC0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F40F-F39A-4BC7-822D-62F55DEE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04200-C7A9-460A-A5F5-B12A50C8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8D519-BE47-494B-93BD-1D5EE4FE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ACC-99DD-45E4-B9F1-A6C7F034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A8C42-9FC6-4948-B15A-BA56208B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353F7-1ED9-4FF1-BF3F-C74667C0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36096-6C06-4610-87B2-97099DEC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1D7B7-1648-44A1-8139-6571AF63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0CF9F-52D0-4F27-84D8-4A5BF8FE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A080F-693F-484F-8F0A-52D3A01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BAEB0-95E7-4E31-BFF1-426C6947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B0622-2802-4F23-BD16-C50FF54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DC445-B57E-4EC2-9A0A-CF3F0578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297DE-6EF6-40B6-8AD4-906CE405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4F2-46B9-4211-A075-1302FF0D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28E3D-3BF2-49C4-BBC1-ADCAD6D6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3E855-754A-485E-B55D-F4E77C1C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47275-F9E9-4666-9E69-6E9DFEB1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32478-7F50-4A2C-A2AF-1034C6B5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8EF1A-58BA-4BBE-9687-9BD4888A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621A8-D0A2-426C-82B6-948BF90F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99BCC-9962-4BE5-A8D7-0C333422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3F818-FD53-4CB2-B343-B483F3BC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65BA9-D7C3-4CDA-A2D0-F1BD9AA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67E85A-CE82-4683-A5E6-D54E64CB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C46-4F39-41EF-8FC1-84138E0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39434-7C51-46C4-A634-516EA606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8EFF3-8811-4007-BC36-E1F1CD74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96551-77AE-4754-8F11-3514EE8F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39C2A-0DE3-4971-9C0B-46DBA973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D7347-B18E-4FCF-9F42-457A7667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06A70-1FD3-4AFE-A2DD-789E02AD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FE2756-7883-4214-94A6-9CF1EA8F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3B956-D9DA-46F3-8263-42A4DD98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7B8CA-1C60-45C4-93F4-05EF3D3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29357-9D8E-4DB2-B6C3-54FB9855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7FC-8791-43DA-BD9E-8426E3B3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A5B98-7AB8-4360-B732-FCD88A0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5F916-472B-4E36-9245-D68CFD9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BB6A0-0D89-4085-AEFA-27E5DCFA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1E5FE-8938-48A7-A287-C166C392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518C4-7614-4A52-8AFB-510F5D51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D88-82B8-4CE6-9B04-6B81E8C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70E0-492A-43D5-AA66-5700ACBDE4B0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49C0-EA95-435A-86AF-8E25CAD189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B643-978B-466C-873C-E0F4416541AB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818B-4603-415B-AC5F-546403823B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10C6-5C0E-4214-9ED0-967084767AB5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24A-C292-4033-A4F4-56144D9E4A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C610-41EC-4B40-87E9-1F0982FD26E4}" type="datetime"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A57E-3BAF-49DF-8F3C-FF5F46867F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2242-BE1B-43A5-9E18-38228983C3A5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7794-4A62-431D-8C9C-31076F759E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2CFE-107E-48BA-B40E-5AE108C61B68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3AA-177D-4179-9E2E-6159CF45F2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E572-9D35-4DC9-BA70-5D204A26DE50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DDFE-7DBF-40BF-AE4F-A0769271F4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i.factor.ua/ukr/law-118/section-580/article-11644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753B-5FDE-4AC4-AA7E-A1F5DC71394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Прямоугольник 4" descr=""/>
          <p:cNvPicPr/>
          <p:nvPr/>
        </p:nvPicPr>
        <p:blipFill>
          <a:blip r:embed="rId1"/>
          <a:stretch/>
        </p:blipFill>
        <p:spPr>
          <a:xfrm>
            <a:off x="49320" y="682560"/>
            <a:ext cx="96310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drawingml/2006/table">
            <a:tbl>
              <a:tblPr/>
              <a:tblGrid>
                <a:gridCol w="500040"/>
                <a:gridCol w="5429160"/>
                <a:gridCol w="1000080"/>
                <a:gridCol w="928800"/>
                <a:gridCol w="1285920"/>
              </a:tblGrid>
              <a:tr h="541080"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 gridSpan="2"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54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знано витрат на консервацію ОЗ (зарплата працівників та єдиний внесок, матеріал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77 (94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, 22,</a:t>
                      </a:r>
                      <a:br>
                        <a:rPr sz="1500"/>
                      </a:b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5, 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8060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раховано амортизацію за місяць, в якому ОЗ передано на консервац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55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312840"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консервацію об’єкта (на підставі затвердженого Акта про прийняття ОЗ на консервацію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3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знано витрат на утримання ОЗ під час консервації (зарплата працівників охорони та єдиний внесо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77 (94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5, 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знано витрат на утримання ОЗ під час консервації (послуги сторонніх організаці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77 (94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48060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податковий кредит із ПДВ із послуг сторонніх організацій (на підставі зареєстрованої податкової накладної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31284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плачено послуги сторонніх організаці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знано витрат на розконсервацію ОЗ (послуги сторонніх організаці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77 (94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8060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податковий кредит із ПДВ із послуг сторонніх організацій (на підставі зареєстрованої податкової накладної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31284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плачено послуги сторонніх організаці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312840"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розконсервацію об’єкта (на підставі Акта про розконсервацію ОЗ і введення в експлуатацію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23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55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</a:tbl>
          </a:graphicData>
        </a:graphic>
      </p:graphicFrame>
      <p:sp>
        <p:nvSpPr>
          <p:cNvPr id="395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76D3-A730-4DDB-875E-D4FEDB9B295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Реконструкція — це перебудова введеного в експлуатацію в установленому порядку об’єкта будівництва, що передбачає зміну його геометричних розмірів та/або функціонального призначення, внаслідок чого відбувається зміна основних техніко-економічних показникі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одернізація – це комплекс робіт, виконання яких приведе до збільшення економічних вигод у майбутньому та/або збільшення потенціалу корисності. Інакше кажучи, результатом модернізації об’єкта основних засобів має стати його поліпшен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DE3E-27B3-4A50-ACCE-8FA087069C6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ПРИКЛАД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зОВ «Галінжпром», балансова вартість основних засобів якого становить 150000 грн, проводить реконструкцію (модернізацію) цеху (його балансова вартість на початок кварталу, в якому здійснюється ремонт — 80000 грн). Підприємство виготовило проектно-кошторисну документацію і оплатило роботи з реконструкції (модернізації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00A-4A82-42B0-B692-2DAD22FCCFF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0" y="0"/>
          <a:ext cx="9144000" cy="7077240"/>
        </p:xfrm>
        <a:graphic>
          <a:graphicData uri="http://schemas.openxmlformats.org/drawingml/2006/table">
            <a:tbl>
              <a:tblPr/>
              <a:tblGrid>
                <a:gridCol w="500040"/>
                <a:gridCol w="5429160"/>
                <a:gridCol w="1000080"/>
                <a:gridCol w="1000440"/>
                <a:gridCol w="1214280"/>
              </a:tblGrid>
              <a:tr h="578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7398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ачуємо проектній організації аванс на виготовлення ПК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  <a:tr h="73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з перерахованого аванс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7398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уємо проектно-кошторисну документацію (на суму без ПД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38916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залік заборгованос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  <a:tr h="7398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ховуємо аванс підряднику за будівельні робо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73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з перерахованого аванс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</a:tbl>
          </a:graphicData>
        </a:graphic>
      </p:graphicFrame>
      <p:sp>
        <p:nvSpPr>
          <p:cNvPr id="402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7378-1503-4CD7-B98A-6E88F0F5B2D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71680"/>
                <a:gridCol w="5357520"/>
                <a:gridCol w="928800"/>
                <a:gridCol w="1000080"/>
                <a:gridCol w="1285920"/>
              </a:tblGrid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1065240"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исано акт виконаних робіт на проведені роботи з реконструкції цеху (без ПД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  <a:tr h="10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на вартість виконаних робіт (160000 - 4000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10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з попередньо сплаченого аванс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  <a:tr h="10652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взаємозалік за розрахунк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овуємось з підрядником (800000 + 160000 - 24000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  <a:tr h="10652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маємо цех в експлуатацію (800000 + 3500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917D-3D4E-4419-A480-371F14A05D0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Century Schoolbook"/>
              </a:rPr>
              <a:t>Призупиняти нарахування амортизації слід лише у тих випадках, коли здійснення таких заходів передбачає </a:t>
            </a:r>
            <a:r>
              <a:rPr b="1" lang="uk-UA" sz="4400" spc="-1" strike="noStrike">
                <a:solidFill>
                  <a:srgbClr val="000000"/>
                </a:solidFill>
                <a:latin typeface="Century Schoolbook"/>
              </a:rPr>
              <a:t>виведення</a:t>
            </a:r>
            <a:r>
              <a:rPr b="0" lang="uk-UA" sz="4400" spc="-1" strike="noStrike">
                <a:solidFill>
                  <a:srgbClr val="000000"/>
                </a:solidFill>
                <a:latin typeface="Century Schoolbook"/>
              </a:rPr>
              <a:t> відповідного об’єкта </a:t>
            </a:r>
            <a:r>
              <a:rPr b="1" lang="uk-UA" sz="4400" spc="-1" strike="noStrike">
                <a:solidFill>
                  <a:srgbClr val="000000"/>
                </a:solidFill>
                <a:latin typeface="Century Schoolbook"/>
              </a:rPr>
              <a:t>з експлуатації</a:t>
            </a:r>
            <a:r>
              <a:rPr b="0" lang="uk-UA" sz="44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A553-09D3-4A5A-BC04-943AE028A56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C645-872D-49D5-AF87-CDD9E5301DD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Якщо підприємство проводить поліпшення основних засобів, то витрати, пов’язані зі здійсненням такого заходу, спочатку акумулюються за дебетом субрахунків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51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«Капітальне будівництво»,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52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«Придбання (виготовлення) основних засобів» або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53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«Придбання (виготовлення) інших необоротних матеріальних активів». Після того як роботи з поліпшення завершено, витрати списують на дебет відповідних субрахунків до рахунків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«Основні засоби» або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«Інші необоротні матеріальні активи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оліпшення основних засобів проходить через аналітичний облік з відображенням на позабалансовому рахунку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09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«Амортизаційні відрахування»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Збільшення залишку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на цьому рахунку відбувається на суму нарахованої амортизації необоротних активів. А ось на суму використаної амортизації на капітальні інвестиції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залишок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на цьому рахунку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зменшуєтьс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, зокрема за таким напрямом використання, як поліпшення (модернізація, модифікація, добудова, дообладнання, реконструкція тощо) основних засобі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EA08-DA11-4D65-80CD-7C373F966E4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23640" y="357120"/>
            <a:ext cx="85690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До основних витрат на поліпшення ОЗ належать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1) матеріальні витрати, тобто витрати на придбання запасних частин, комплектуючих, будівельних та інших матеріалів, а також витрати, пов’язані</a:t>
            </a:r>
            <a:r>
              <a:rPr b="0" i="1" lang="uk-UA" sz="3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з придбанням цих матеріалів (транспортні та інші платежі)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2) витрати на оплату праці працівників, які виконують роботи з поліпшення, а також</a:t>
            </a: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збори та внески на соціальні заходи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25B8-5B3B-43FB-8707-1A5DDB52D1A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50560" y="142920"/>
            <a:ext cx="8713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витрати на оплату послуг сторонніх організацій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4) сума ПДВ, сплачена у складі вартості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матеріальних ресурсів або робіт, послуг (за певних обставин, наприклад, якщо поліпшуваний об’єкт використовують у не оподатковуваних ПДВ операціях).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C261-014D-44C9-8717-070A6BBCDCC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13840" y="428760"/>
            <a:ext cx="8643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Види поліпшеннь ОЗ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1)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одифікація, модернізація, реконструкція об’єкта ОЗ з метою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одовження терміну його корисної експлуатації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або збільшення його виробничої потужності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2)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заміна окремих частин устаткування дл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ідвищення якості продукції (робіт, послуг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3)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провадження ефективнішого технологічног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оцесу, що дозволить зменшити первісне оцінені виробничі витра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4)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будова (надбудова) будівлі, що збільшить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ількість місць (площу) будівлі, обсяги та/аб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кість виконуваних робіт (послуг) чи умови ї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икон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88E8-9F6C-4F62-BFB2-CB9E32C0CE2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Витрати, що здійснюються дл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підтримання об’єкта в робочому стані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та отримання первісно визначеної суми економічних вигод від його використання,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включають до складу витрат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п. 15 П(С)БО 7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Якщо витрати на поліпшення об’єкта ОЗ призводять до </a:t>
            </a:r>
            <a:r>
              <a:rPr b="0" i="1" lang="uk-UA" sz="3400" spc="-1" strike="noStrike">
                <a:solidFill>
                  <a:srgbClr val="000000"/>
                </a:solidFill>
                <a:latin typeface="Century Schoolbook"/>
              </a:rPr>
              <a:t>збільшення економічних вигод, 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первісно очікуваних від використання цього об’єкта, то такі витрати </a:t>
            </a:r>
            <a:r>
              <a:rPr b="1" i="1" lang="uk-UA" sz="3400" spc="-1" strike="noStrike">
                <a:solidFill>
                  <a:srgbClr val="000000"/>
                </a:solidFill>
                <a:latin typeface="Century Schoolbook"/>
              </a:rPr>
              <a:t>збільшують</a:t>
            </a:r>
            <a:r>
              <a:rPr b="0" i="1" lang="uk-UA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його </a:t>
            </a:r>
            <a:r>
              <a:rPr b="1" i="1" lang="uk-UA" sz="3400" spc="-1" strike="noStrike">
                <a:solidFill>
                  <a:srgbClr val="000000"/>
                </a:solidFill>
                <a:latin typeface="Century Schoolbook"/>
              </a:rPr>
              <a:t>первісну вартість 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(п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14 П(С)БО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7)</a:t>
            </a:r>
            <a:r>
              <a:rPr b="0" lang="ru-RU" sz="3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6028-C376-478E-AEC2-A2013C249C7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Рішення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ро характер і ознак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здійснюваних підприємством робіт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приймає керівник підприємства 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з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урахуванням результатів аналізу ситуації, що склалася, та суттєвості таких витрат (п. 29 Методичних рекомендацій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Згідно з П(С)БО 7 витрати на поліпшення ОЗ може бути включено до складу </a:t>
            </a:r>
            <a:r>
              <a:rPr b="1" i="1" lang="uk-UA" sz="3400" spc="-1" strike="noStrike">
                <a:solidFill>
                  <a:srgbClr val="000000"/>
                </a:solidFill>
                <a:latin typeface="Century Schoolbook"/>
              </a:rPr>
              <a:t>поточних витрат, або до складу первісної вартості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37E5-0D96-4925-BEDC-111299736B8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Ремонт основних засобів </a:t>
            </a: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- часткове відновлення окремих об’єктів для підтримання їх у робочому стані. Ремонт буває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поточний ремонт </a:t>
            </a: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здійснюється за необхідності і виконується в основному власними силами. До поточних ремонтів належать дрібні роботи із заміни або виправлення окремих зношених деталей, вузлів машин, обладнання, елементів конструкції будов та споруд, а також профілактичні ремонти й огляд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капітальний ремонт </a:t>
            </a: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виконується з періодичністю понад один рік, при цьому здійснюється повне розбирання, заміна або відновлення всіх зношених деталей, вузлі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1681-25A9-434B-B18C-B784D055331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Schoolbook"/>
              </a:rPr>
              <a:t>КАПІТАЛЬНИЙ РЕМОН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071720"/>
            <a:ext cx="825804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апітальними вважаються витрати на ремонт, пов’язані з поліпшенням ОЗ 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(модернізація, модифікація, добудова, дообладнання, реконструкція тощо)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, що призводять до збільшення майбутніх економічних вигід, первісно очікуваних від їх використ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Такі витрати збільшують первісну вартість ОЗ (п. 14 П(С)БО 7). Тобто капітальні витрати накопичуються на відповідному субрахунку рахунку 15 «Капітальні інвестиції» і після завершення ремонтів включаються до первісної вартості О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ож варто пам’ятати, що на пері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ведення капітального ремонту ОЗ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амортизацію цього об’єкта не нараховую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05AD-9664-4E6D-BA92-F21DB92DA85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ПРИКЛАД 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ідприємство (платник податку на прибуток, платник ПДВ) вирішило провести капітальний ремонту адміністративної будівлі (основний засіб групи 3), а саме,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ерекрити даху будівлі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Шифер вирішили замінити металочерепицею. Знятий шифер заплановано використати для перекриття іншої будівлі. Вартість усіх необхідних матеріалів, які потрібні для перекриття, — 48 тис. грн (у т.ч. ПДВ — 8 тис. грн). Ці роботи підприємство проводить самостійно (зайнято 5 працівників, заробітна плата яких — 3000 грн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B37-F1CD-49B3-9EB0-D0DD1B60F1B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00040"/>
                <a:gridCol w="5357880"/>
                <a:gridCol w="1000080"/>
                <a:gridCol w="928800"/>
                <a:gridCol w="1357200"/>
              </a:tblGrid>
              <a:tr h="745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о металочерепицю та інші матеріли, необхідні для перекриття даху будів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о податковий кре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4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чено вартість необхідних для ремонту матері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і матеріали використані для перекриття да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4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заробітну плату працівникам, зайнятим на роботах із заміни покрівлі (3000 грн × 5 чол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ЄСВ на зарпла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5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нято виконані ремонтні робо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формлено </a:t>
                      </a:r>
                      <a:r>
                        <a:rPr b="0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ипову форму № ОЗ-2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F45-1083-4E79-AD3C-493CCB05E88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Schoolbook"/>
              </a:rPr>
              <a:t>ПОТОЧНИЙ РЕМОН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85920"/>
            <a:ext cx="825804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итрати, що здійснюються для підтримання ОЗ у робочому стані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(технічний огляд, нагляд, обслуговування, ремонт тощо)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та одержання первісно визначеної суми майбутніх економічних вигід від його використання, вважаються поточним ремонтом і включаються до складу витрат звітного періоду (п. 15 П(С)БО 7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6422-CFE0-45D3-897F-7B5E914070D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КЛАД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унальне підприємство замінило пошкоджену частину труби на теплотрасі. Загальна вартість ремонту становить 16 517,70 грн. (без урахування ПДВ), у т. ч.: вартість труби (100 м. п.) — 12 000,00 грн., у т. ч. ПДВ — 2000,00 грн.; заробітна плата працівників — 4500,00 грн.; нарахування ЄСВ на заробітну плату — 990 грн.; вартість послуг сторонньої організації — 420,00 грн., у т. ч. ПДВ — 70,00 гр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0AC-1D79-4EC6-A682-A5E4435E1DB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drawingml/2006/table">
            <a:tbl>
              <a:tblPr/>
              <a:tblGrid>
                <a:gridCol w="500040"/>
                <a:gridCol w="5357880"/>
                <a:gridCol w="1000080"/>
                <a:gridCol w="1000080"/>
                <a:gridCol w="1285920"/>
              </a:tblGrid>
              <a:tr h="578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о частину труби для ремонту теплотр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о ПД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ачено постачальни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трубу, використану на ремонт теплотр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заробітну плату праців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ЄС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8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чено послуги сторонньої організ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о ПД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8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артість послуг сторонньої організ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о ПД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435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55F2-DAA1-45C3-9B1B-ED432A93624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250920" y="428400"/>
            <a:ext cx="86421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Відповідно до </a:t>
            </a:r>
            <a:r>
              <a:rPr b="0" lang="uk-UA" sz="26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П(С)БО 16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витрати на поліпшення і технічне обслуговування ОЗ відносять до складу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собівартості готової продукції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23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— за ОЗ, використовуваними безпосередньо в процесі виробництва, якщо об’єкт ОЗ зайнятий у виробництві конкретного виду продукції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загальновиробничих витрат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91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— за ОЗ, використовуваними безпосередньо в процесі виробництва, якщо об’єкт ОЗ бере участь у виробництві декількох видів продукції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адміністративних витрат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92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— за ОЗ загальногосподарського призначення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витрат на збут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93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i="1" lang="uk-UA" sz="26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 за ОЗ, пов’язаними зі збутом продукції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інших операційних витрат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94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— за ОЗ соціально-культурного призначення і тих, що беруть участь у процесі досліджень і розробок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3DE8-E6F2-43CE-844B-33EBCA9AA00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42920"/>
            <a:ext cx="7467480" cy="63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Добудова фактично спрямована на збільшення кількості місць (площі) будівлі, об’єктів та/або якості виконуваних робіт або умов їх виконанн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5A30-AD89-44EF-B60D-1577E71D1AF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кументальне оформленн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Після проведення поліпшення ОЗ слід оформити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Актом приймання-здачі відремонтованих, реконструйованих та модернізованих об’єктів (форма № ОЗ-2)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Якщо поліпшення виконує стороннє підприємство, акт складають у двох примірниках. Другий примірник передають підприємству, що виконало поліпшення. Відомості про поліпшення вносять також в Інвентарну картку обліку основних засобів (форма № ОЗ-6). У разі </a:t>
            </a:r>
            <a:r>
              <a:rPr b="1" lang="uk-UA" sz="2700" spc="-1" strike="noStrike">
                <a:solidFill>
                  <a:srgbClr val="000000"/>
                </a:solidFill>
                <a:latin typeface="Century Schoolbook"/>
              </a:rPr>
              <a:t>поліпшень</a:t>
            </a: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 ОЗ дані про змінені техніко-економічні характеристики об’єктів — вартість, потужність, площу тощо вносять також у техпаспорти й інші регістри аналітичного обліку (</a:t>
            </a:r>
            <a:r>
              <a:rPr b="0" i="1" lang="uk-UA" sz="2700" spc="-1" strike="noStrike">
                <a:solidFill>
                  <a:srgbClr val="000000"/>
                </a:solidFill>
                <a:latin typeface="Century Schoolbook"/>
              </a:rPr>
              <a:t>п. 33 Методрекомендацій № 561</a:t>
            </a: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D075-9E92-4051-A499-A21EE189A0A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425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ПРИКЛАД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Виробниче підприємство здійснил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000000"/>
                </a:solidFill>
                <a:latin typeface="Century Schoolbook"/>
              </a:rPr>
              <a:t>господарським способом</a:t>
            </a:r>
            <a:r>
              <a:rPr b="0" lang="uk-UA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300" spc="-1" strike="noStrike">
                <a:solidFill>
                  <a:srgbClr val="000000"/>
                </a:solidFill>
                <a:latin typeface="Century Schoolbook"/>
              </a:rPr>
              <a:t>будівництво прибудови до будівлі виробничого цеху з метою розширення виробничих потужностей і збільшення обсягу продукції, що випускається. Вартість поліпшень склала 272600 грн. (у тому числі ПДВ — 5000 грн.), з них:— балансова вартість будівельних матеріалів — 130000 грн.;— витрати на оплату праці робітників, зайнятих на будівництві прибудови, — 80000 грн.; — сума ЄСВ, нарахованого на фонд оплати праці працівників, зайнятих будівництвом прибудови, — 17600 грн.;</a:t>
            </a:r>
            <a:r>
              <a:rPr b="0" lang="uk-UA" sz="23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i="1" lang="uk-UA" sz="2300" spc="-1" strike="noStrike">
                <a:solidFill>
                  <a:srgbClr val="000000"/>
                </a:solidFill>
                <a:latin typeface="Century Schoolbook"/>
              </a:rPr>
              <a:t>вартість послуг сторонньої організації — 30000 грн. (у тому числі ПДВ — 5000 грн.);— амортизація ОЗ та інших необоротних матеріальних активів, використаних при будівництві, — 15000 грн.;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000000"/>
                </a:solidFill>
                <a:latin typeface="Century Schoolbook"/>
              </a:rPr>
              <a:t>підрядним способом</a:t>
            </a:r>
            <a:r>
              <a:rPr b="0" lang="uk-UA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300" spc="-1" strike="noStrike">
                <a:solidFill>
                  <a:srgbClr val="000000"/>
                </a:solidFill>
                <a:latin typeface="Century Schoolbook"/>
              </a:rPr>
              <a:t>поліпшення виробничого устаткування, що збільшило майбутні економічні вигоди, очікувані від його використання. Вартість послуг підрядника склала 60000 грн.    (у тому числі ПДВ — 10000 грн.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9DCE-3D80-45DC-AAF4-0F51BAE811C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0"/>
          <a:ext cx="9144000" cy="6838920"/>
        </p:xfrm>
        <a:graphic>
          <a:graphicData uri="http://schemas.openxmlformats.org/drawingml/2006/table">
            <a:tbl>
              <a:tblPr/>
              <a:tblGrid>
                <a:gridCol w="571680"/>
                <a:gridCol w="5000400"/>
                <a:gridCol w="1071720"/>
                <a:gridCol w="1071360"/>
                <a:gridCol w="1428840"/>
              </a:tblGrid>
              <a:tr h="725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ума,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2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116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ліпшення об’єкта ОЗ господарським способ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писано вартість будівельних матеріалів, використаних при проведенні будівниц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раховано заробітну плату робітникам, зайнятим будівництвом прибудови до будівлі це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раховано ЄСВ на фонд оплати праці працівників, зайнятих на будівництві об’єкта 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6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2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вартість послуг сторонньої організ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суму ПДВ (до отримання зареєстрованої в ЄРПН податкової накладної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84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2C82-A98C-478D-A940-401131E939A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0" y="0"/>
          <a:ext cx="9144000" cy="6724800"/>
        </p:xfrm>
        <a:graphic>
          <a:graphicData uri="http://schemas.openxmlformats.org/drawingml/2006/table">
            <a:tbl>
              <a:tblPr/>
              <a:tblGrid>
                <a:gridCol w="500040"/>
                <a:gridCol w="5429160"/>
                <a:gridCol w="1000080"/>
                <a:gridCol w="1000440"/>
                <a:gridCol w="1214280"/>
              </a:tblGrid>
              <a:tr h="41112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414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податковий кредит з ПДВ (отримано зареєстровану в ЄРПН податкову накладну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1/ ПД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14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плачено вартість послуг сторонньої організації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раховано амортизацію ОЗ та інших необоротних матеріальних активів, використовуваних при будівництві прибудови до будівлі цех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, 1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14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більшено залишок на позабалансовому рахунку 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—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40508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збільшення первісної вартості будівлі на суму витрат з поліпшення об’єкта О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130000,00 грн. + 80000,00 грн. + 17600,00 грн. + + 25000,00 грн. + 15000,00 грн.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76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14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еншено залишок на позабалансовому рахунку 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—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76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86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0CD8-2371-48D3-835E-9F4A60ABEE2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28760"/>
                <a:gridCol w="5786280"/>
                <a:gridCol w="928800"/>
                <a:gridCol w="785880"/>
                <a:gridCol w="121428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44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ліпшення об’єкта ОЗ підрядним способ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ераховано попередню оплату вартості послуг підрядної організ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суму ПДВ (до отримання зареєстрованої в ЄРПН податкової накладної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 ПД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податковий кредит з ПДВ (отримано зареєстровану в ЄРПН податкову накладну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1/ ПД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ідписано акт виконаних робіт з підрядною організацією, що здійснювала поліпшення устатк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писано суму раніше нарахованого податкового кредиту з ПД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 ПД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залік заборгова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6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збільшення первісної вартості устаткування на суму витрат з його поліпш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еншено залишок за рахунком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88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FF18-5DF2-448D-8039-A4963079B9E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нсервація — це комплекс заходів, направлених на довгострокове (але не більш як 3 роки) зберігання основних засобів у разі припинення виробничої та іншої господарської діяльності з можливістю подальшого відновлення їх функціон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451-9A97-46E9-8DBC-5BA778A9E8E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ПРИКЛАД 2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2920" y="71424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Згідно з рішенням керівника підприємство на два роки законсервувало об’єкт ОЗ «Будівля готелю «Жасмін». Комісія з консервації оформила всі належні документи, зокрема Акт про тимчасове виведення ОЗ із експлуатації та їхню консервацію й Акт про прийняття ОЗ на консерваці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итрати на консервацію ОЗ складаються із зарплати та єдиного внеску працівників, зайнятих придбанням приміщення та складуванням матеріальних цінностей; матеріалів, використаних на роботи з консервації (22000 грн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итрати на утримання законсервованих ОЗ — зарплата та єдиний внесок працівників охорони (18000 грн); послуги сторонніх організацій на обслуговування охоронно-пожежної сигналізації, комунальні послуги (1200 грн, у т.ч. ПДВ — 200 грн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итрати на консервацію ОЗ складаються із вартості послуг сторонніх організацій на розконсервацію (24000 грн, у т.ч. ПДВ — 4000 грн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Підприємство веде облік за П(С)БО, тому на період консервації припиняють нараховувати амортизацію. Місячна сума амортизації — 1555 гр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5833-C414-4E9D-9040-1F1FFD7FC55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MSI</cp:lastModifiedBy>
  <dcterms:modified xsi:type="dcterms:W3CDTF">2021-09-29T06:56:12Z</dcterms:modified>
  <cp:revision>503</cp:revision>
  <dc:subject/>
  <dc:title>Лекція 2</dc:title>
</cp:coreProperties>
</file>