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B74-5A43-4504-B9C1-7CF32DD9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276-856A-4C4E-8F39-6C9F85DB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2AB-261F-4187-B8BF-20C3E013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60B-4F5B-4A28-AD3E-C0939004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6192-58EA-4EDE-B913-A9FB5CC6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3F4C-A9ED-4183-9228-425D936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E242-B8BC-4617-9D4D-E2FE31E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D504-69D3-4D3C-8B4E-0787812B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9602-8DC5-4E20-91F2-0F7514F1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7F7-677F-45A9-A38A-A2999164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2D71-1AA5-4708-889E-802DEC0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810-3A54-4CE9-955C-42851E6E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ECA7-F932-4F07-AE8D-2428E0F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A33C-8B28-4136-876D-E90E8A9F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F48B-C040-4197-BADD-CB1DA5F8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EF1A-3045-42FF-8462-ECA1C43F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80D-C860-4841-BECC-86FBCD70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ABD1C-EF33-4E26-862F-7286604B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F8BA7-6117-49FE-BE50-5A0F9CC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1E780-098A-42AB-8535-7C48108B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D8CE4-4465-4E63-B040-A0B70F6A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BE184-FFC8-4E24-BBE8-40909E74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BAE-17C3-4EC0-BDD0-F916AD22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83CB8-0C5F-4202-ADC6-5B95965A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E999F-08A4-4A34-A00B-3195A82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03E87-0F02-442C-B670-749F001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13E5B-B135-40B9-B666-44FB3DB5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3B4AD-3E34-4F8C-A4A5-80A46B7F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D7EDB-89F2-4DCD-B92B-38511418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6AEF4-BABA-4190-9BF0-FFC1F23B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7EFF-16FC-42F6-85A9-C07D6076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7212-A565-4B28-AF69-AC3041C5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D78B-5F4A-4F8F-85B4-919290FE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BFD-BCBA-4E77-805E-DC3BFF1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9A61-AD94-42D1-A80E-39C1BE7C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738E-4E8C-4950-984C-103D26CA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8EC8-F0BF-4155-BA06-8E7FE93B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9F45-04C5-49D9-9387-E8FC2CFE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B2D3-9EEC-4984-A5FF-94BFDC3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C486-9F13-48A7-B853-9AA54CB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A9979-51F0-43CC-B265-89DEDD8B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CC727-F5F8-42E6-BCB3-AD32AE3D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527B-F0F1-47EF-91EA-59C0718A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C1439-AB43-4884-B1F3-B54888F2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650-28B6-477F-B413-13D22BB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831A0-05B2-4533-B9D4-FBD74B66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9EB6C-0781-471D-A601-D2CA4283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C07AB-84F7-4971-8EA7-72A0B8A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BB770-0710-4741-A263-733876ED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1D942-9336-4842-94B4-F04EDDA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646BA-CD3F-4136-B79E-C41E059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30A6E-0C4E-44F6-BE0E-7AE7CD0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C91F1-76FC-4E8B-8F4F-8E4C8C0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6B962-94F5-4CA5-A35D-C15D9817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702F8-6C97-4B56-911C-982F6F73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BE6-F1BF-412F-8DC7-C35F4312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FF898-D949-45DC-8830-3B419794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97F38-E454-4515-B3B5-1045BC62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6747E-CA0D-4326-A3FF-A996F016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C0CAB-C7CF-4CE7-AC54-91DED521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F6261-B440-4CEF-A01D-D62DDD1C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54F63-BD2F-4DEF-8DCC-A3C39D80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1B045-35DE-4A4C-9D84-C9163E21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8A696-B663-4531-9BBB-C33C850A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13C7C-3690-409C-A0F8-ACC891EE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F1154-740E-4128-BCFD-C766938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5BF-FFCB-461C-94E5-B2A7018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E6DAD-8B94-45AD-AA63-5899E1E3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05038-22B6-42A9-82B4-EA91A38A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029EC-D27D-4E53-AE75-1BA302A4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5BFC5-06B2-4806-99A4-407B2CC6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B29EC-4CF4-407C-9D68-4321C0EE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F05A4-4FCD-4141-A308-330A610A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1082B-4A51-40AD-90AD-67A0775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812264-BCBB-4D2B-B64A-7D6E5980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79F19-5234-4E09-B3C6-1FE64E93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B30BD-2FA8-47A3-8E4D-74999338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9D9-A4ED-462A-8D91-79634204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DD4B7-7E77-4F63-9F19-4D71350F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7D6EA-6B67-4001-BF2B-C567978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B57B21-74C8-47B9-903A-E32049B0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0708E-8544-42DD-9230-2025F718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8E563-8488-41BF-8DCC-5C008E27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940-8C4D-4148-98E6-AF477817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CF0F-8156-4592-B404-B148D6587392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BB58-D1C8-43C6-B00F-0528C36B96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695-58A5-4E2F-BF5A-EB2D3677DB95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CF9E-4A8C-477A-8FCD-657B98FB40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846D-C533-41B4-B15A-0BEC50C46ED4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0BFD-33B1-4FBA-B17F-ED9C0A6803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93C-16F4-48CE-A020-6CEF14C85378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CEDB-995D-4CD5-836B-5230127889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3AB-B213-4C48-8DC0-F126A2CCD037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7EF-2469-4D77-8807-A21E9B3FA6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A4AA-EAD7-48CE-8EE6-ABF6B9870590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0CA0-08ED-4BCD-B99E-40838FD48F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5"/>
            </a:gs>
            <a:gs pos="100000">
              <a:srgbClr val="ffdb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4FA-31BD-49D3-A1FA-DBBFA5D65B8F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939B-E4B9-44CF-9EF3-0FFBAFB1A1D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s://i.factor.ua/ukr/law-118/section-580/article-11644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29ED-017E-4150-99D8-BEA283B90A4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Прямоугольник 4" descr=""/>
          <p:cNvPicPr/>
          <p:nvPr/>
        </p:nvPicPr>
        <p:blipFill>
          <a:blip r:embed="rId1"/>
          <a:stretch/>
        </p:blipFill>
        <p:spPr>
          <a:xfrm>
            <a:off x="49320" y="682560"/>
            <a:ext cx="96310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500040"/>
                <a:gridCol w="5429160"/>
                <a:gridCol w="1000080"/>
                <a:gridCol w="928800"/>
                <a:gridCol w="1285920"/>
              </a:tblGrid>
              <a:tr h="541080"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grid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54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консервацію ОЗ (зарплата працівників та єдиний внесок, матеріали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, 22,</a:t>
                      </a:r>
                      <a:br>
                        <a:rPr sz="1500"/>
                      </a:b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, 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806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амортизацію за місяць, в якому ОЗ передано на консерва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55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312840"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консервацію об’єкта (на підставі затвердженого Акта про прийняття ОЗ на консервацію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3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утримання ОЗ під час консервації (зарплата працівників охорони та єдиний внесо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, 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утримання ОЗ під час консервації (послуги сторонніх організаці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4806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із ПДВ із послуг сторонніх організацій (на підставі зареєстрованої податкової накладної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128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чено послуги сторонніх організаці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знано витрат на розконсервацію ОЗ (послуги сторонніх організаці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77 (94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4806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із ПДВ із послуг сторонніх організацій (на підставі зареєстрованої податкової накладної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3128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плачено послуги сторонніх організаці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  <a:tr h="312840"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 rowSpan="2"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розконсервацію об’єкта (на підставі Акта про розконсервацію ОЗ і введення в експлуатацію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2300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d6d7d9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0055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77c84"/>
                      </a:solidFill>
                    </a:lnL>
                    <a:lnR w="5760">
                      <a:solidFill>
                        <a:srgbClr val="777c84"/>
                      </a:solidFill>
                    </a:lnR>
                    <a:lnT w="5760">
                      <a:solidFill>
                        <a:srgbClr val="777c84"/>
                      </a:solidFill>
                    </a:lnT>
                    <a:lnB w="5760">
                      <a:solidFill>
                        <a:srgbClr val="777c84"/>
                      </a:solidFill>
                    </a:lnB>
                    <a:solidFill>
                      <a:srgbClr val="ececed"/>
                    </a:solidFill>
                  </a:tcPr>
                </a:tc>
              </a:tr>
            </a:tbl>
          </a:graphicData>
        </a:graphic>
      </p:graphicFrame>
      <p:sp>
        <p:nvSpPr>
          <p:cNvPr id="39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3C1-39E6-4A20-8C45-2A01118AC78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Реконструкція — це перебудова введеного в експлуатацію в установленому порядку об’єкта будівництва, що передбачає зміну його геометричних розмірів та/або функціонального призначення, внаслідок чого відбувається зміна основних техніко-економічних показникі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дернізація – це комплекс робіт, виконання яких приведе до збільшення економічних вигод у майбутньому та/або збільшення потенціалу корисності. Інакше кажучи, результатом модернізації об’єкта основних засобів має стати його поліпшен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4478-FBEF-4B0F-9F8F-B0926DF4270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ПРИКЛАД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зОВ «Галінжпром», балансова вартість основних засобів якого становить 150000 грн, проводить реконструкцію (модернізацію) цеху (його балансова вартість на початок кварталу, в якому здійснюється ремонт — 80000 грн). Підприємство виготовило проектно-кошторисну документацію і оплатило роботи з реконструкції (модернізації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D7E1-F796-4841-A104-5951DFB0ECC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0" y="0"/>
          <a:ext cx="9144000" cy="7077240"/>
        </p:xfrm>
        <a:graphic>
          <a:graphicData uri="http://schemas.openxmlformats.org/drawingml/2006/table">
            <a:tbl>
              <a:tblPr/>
              <a:tblGrid>
                <a:gridCol w="500040"/>
                <a:gridCol w="5429160"/>
                <a:gridCol w="1000080"/>
                <a:gridCol w="1000440"/>
                <a:gridCol w="1214280"/>
              </a:tblGrid>
              <a:tr h="578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398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ачуємо проектній організації аванс на виготовлення ПК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з перерахованого аванс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398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уємо проектно-кошторисну документацію (на суму без ПД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38916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залік заборгованос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  <a:tr h="73980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ховуємо аванс підряднику за будівельні робо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з перерахованого аванс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bedcd"/>
                    </a:solidFill>
                  </a:tcPr>
                </a:tc>
              </a:tr>
            </a:tbl>
          </a:graphicData>
        </a:graphic>
      </p:graphicFrame>
      <p:sp>
        <p:nvSpPr>
          <p:cNvPr id="40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0AE-13FF-41C1-AACA-A06B84C64A3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71680"/>
                <a:gridCol w="5357520"/>
                <a:gridCol w="928800"/>
                <a:gridCol w="1000080"/>
                <a:gridCol w="128592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1065240">
                <a:tc row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писано акт виконаних робіт на проведені роботи з реконструкції цеху (без ПД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на вартість виконаних робіт (160000 - 40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10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ПК з ПДВ з попередньо сплаченого аванс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  <a:tr h="10652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аємо взаємозалік за розрахунк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аховуємось з підрядником (800000 + 160000 - 240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  <a:tr h="10652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маємо цех в експлуатацію (800000 + 3500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22F-57E0-4634-9579-17D24BAC776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Century Schoolbook"/>
              </a:rPr>
              <a:t>Призупиняти нарахування амортизації слід лише у тих випадках, коли здійснення таких заходів передбачає </a:t>
            </a:r>
            <a:r>
              <a:rPr b="1" lang="uk-UA" sz="4400" spc="-1" strike="noStrike">
                <a:solidFill>
                  <a:srgbClr val="000000"/>
                </a:solidFill>
                <a:latin typeface="Century Schoolbook"/>
              </a:rPr>
              <a:t>виведення</a:t>
            </a:r>
            <a:r>
              <a:rPr b="0" lang="uk-UA" sz="4400" spc="-1" strike="noStrike">
                <a:solidFill>
                  <a:srgbClr val="000000"/>
                </a:solidFill>
                <a:latin typeface="Century Schoolbook"/>
              </a:rPr>
              <a:t> відповідного об’єкта </a:t>
            </a:r>
            <a:r>
              <a:rPr b="1" lang="uk-UA" sz="4400" spc="-1" strike="noStrike">
                <a:solidFill>
                  <a:srgbClr val="000000"/>
                </a:solidFill>
                <a:latin typeface="Century Schoolbook"/>
              </a:rPr>
              <a:t>з експлуатації</a:t>
            </a:r>
            <a:r>
              <a:rPr b="0" lang="uk-UA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667C-9AC4-4114-9D07-8ACD92D0B07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A1A8-C580-4ADF-AD94-B480E98796B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Якщо підприємство проводить поліпшення основних засобів, то витрати, пов’язані зі здійсненням такого заходу, спочатку акумулюються за дебетом субрахунків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51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Капітальне будівництво»,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52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Придбання (виготовлення) основних засобів» або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53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«Придбання (виготовлення) інших необоротних матеріальних активів». Після того як роботи з поліпшення завершено, витрати списують на дебет відповідних субрахунків до рахунків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Основні засоби» або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«Інші необоротні матеріальні активи»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Поліпшення основних засобів проходить через аналітичний облік з відображенням на позабалансовому рахунку 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09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«Амортизаційні відрахування»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більшення залишку 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на цьому рахунку відбувається на суму нарахованої амортизації необоротних активів. А ось на суму використаної амортизації на капітальні інвестиції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алишок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на цьому рахунку </a:t>
            </a: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зменшується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, зокрема за таким напрямом використання, як поліпшення (модернізація, модифікація, добудова, дообладнання, реконструкція тощо) основних засобі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85CD-8FA8-4C42-827B-7E4591D1DF2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23640" y="357120"/>
            <a:ext cx="85690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До основних витрат на поліпшення ОЗ належа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1) матеріальні витрати, тобто витрати на придбання запасних частин, комплектуючих, будівельних та інших матеріалів, а також витрати, пов’язані</a:t>
            </a:r>
            <a:r>
              <a:rPr b="0" i="1" lang="uk-UA" sz="3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з придбанням цих матеріалів (транспортні та інші платежі)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2) витрати на оплату праці працівників, які виконують роботи з поліпшення, а також</a:t>
            </a: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збори та внески на соціальні заходи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656A-1645-46F8-887B-956680EAB78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560" y="142920"/>
            <a:ext cx="8713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витрати на оплату послуг сторонніх організацій;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4) сума ПДВ, сплачена у складі вартості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Century Schoolbook"/>
              </a:rPr>
              <a:t>матеріальних ресурсів або робіт, послуг (за певних обставин, наприклад, якщо поліпшуваний об’єкт використовують у не оподатковуваних ПДВ операціях).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830C-78E8-45A0-BD83-660249B03C0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3840" y="428760"/>
            <a:ext cx="8643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Види поліпшеннь ОЗ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1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модифікація, модернізація, реконструкція об’єкта ОЗ з метою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одовження терміну його корисної експлуатації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або збільшення його виробничої потужності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2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заміна окремих частин устаткування дл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ідвищення якості продукції (робіт, послуг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3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провадження ефективнішого технологічног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роцесу, що дозволить зменшити первісне оцінені виробничі витра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4) 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добудова (надбудова) будівлі, що збільшить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ількість місць (площу) будівлі, обсяги та/або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якість виконуваних робіт (послуг) чи умови ї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викон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575A-1692-4E14-9343-7DA14B02655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Витрати, що здійснюються дл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підтримання об’єкта в робочому стані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та отримання первісно визначеної суми економічних вигод від його використання,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включають до складу витрат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п. 15 П(С)БО 7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Якщо витрати на поліпшення об’єкта ОЗ призводять до </a:t>
            </a:r>
            <a:r>
              <a:rPr b="0" i="1" lang="uk-UA" sz="3400" spc="-1" strike="noStrike">
                <a:solidFill>
                  <a:srgbClr val="000000"/>
                </a:solidFill>
                <a:latin typeface="Century Schoolbook"/>
              </a:rPr>
              <a:t>збільшення економічних вигод,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первісно очікуваних від використання цього об’єкта, то такі витрати </a:t>
            </a:r>
            <a:r>
              <a:rPr b="1" i="1" lang="uk-UA" sz="3400" spc="-1" strike="noStrike">
                <a:solidFill>
                  <a:srgbClr val="000000"/>
                </a:solidFill>
                <a:latin typeface="Century Schoolbook"/>
              </a:rPr>
              <a:t>збільшують</a:t>
            </a:r>
            <a:r>
              <a:rPr b="0" i="1" lang="uk-UA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його </a:t>
            </a:r>
            <a:r>
              <a:rPr b="1" i="1" lang="uk-UA" sz="3400" spc="-1" strike="noStrike">
                <a:solidFill>
                  <a:srgbClr val="000000"/>
                </a:solidFill>
                <a:latin typeface="Century Schoolbook"/>
              </a:rPr>
              <a:t>первісну вартість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(п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14 П(С)БО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3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2D86-C416-477B-8DAD-0EB89DECCEF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Рішення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ро характер і озна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здійснюваних підприємством робіт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приймає керівник підприємства 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з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урахуванням результатів аналізу ситуації, що склалася, та суттєвості таких витрат (п. 29 Методичних рекомендацій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Century Schoolbook"/>
              </a:rPr>
              <a:t>Згідно з П(С)БО 7 витрати на поліпшення ОЗ може бути включено до складу </a:t>
            </a:r>
            <a:r>
              <a:rPr b="1" i="1" lang="uk-UA" sz="3400" spc="-1" strike="noStrike">
                <a:solidFill>
                  <a:srgbClr val="000000"/>
                </a:solidFill>
                <a:latin typeface="Century Schoolbook"/>
              </a:rPr>
              <a:t>поточних витрат, або до складу первісної вартості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DB00-7803-4E95-8AE6-0795AA6D0A3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Ремонт основних засобів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- часткове відновлення окремих об’єктів для підтримання їх у робочому стані. Ремонт буває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поточний ремонт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здійснюється за необхідності і виконується в основному власними силами. До поточних ремонтів належать дрібні роботи із заміни або виправлення окремих зношених деталей, вузлів машин, обладнання, елементів конструкції будов та споруд, а також профілактичні ремонти й огляд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entury Schoolbook"/>
              </a:rPr>
              <a:t>капітальний ремонт </a:t>
            </a:r>
            <a:r>
              <a:rPr b="0" lang="uk-UA" sz="2200" spc="-1" strike="noStrike">
                <a:solidFill>
                  <a:srgbClr val="000000"/>
                </a:solidFill>
                <a:latin typeface="Century Schoolbook"/>
              </a:rPr>
              <a:t>виконується з періодичністю понад один рік, при цьому здійснюється повне розбирання, заміна або відновлення всіх зношених деталей, вузлі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3CC4-56A6-458E-88A7-F77E1E933E1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Schoolbook"/>
              </a:rPr>
              <a:t>КАПІТАЛЬНИЙ РЕМО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071720"/>
            <a:ext cx="82580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Капітальними вважаються витрати на ремонт, пов’язані з поліпшенням ОЗ </a:t>
            </a: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(модернізація, модифікація, добудова, дообладнання, реконструкція тощо)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, що призводять до збільшення майбутніх економічних вигід, первісно очікуваних від їх використан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Такі витрати збільшують первісну вартість ОЗ (п. 14 П(С)БО 7). Тобто капітальні витрати накопичуються на відповідному субрахунку рахунку 15 «Капітальні інвестиції» і після завершення ремонтів включаються до первісної вартості О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ож варто пам’ятати, що на період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ведення капітального ремонту ОЗ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амортизацію цього об’єкта не нараховую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A0BB-3AD4-44EE-8DC5-C84840665CF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Schoolbook"/>
              </a:rPr>
              <a:t>ПРИКЛАД 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Підприємство (платник податку на прибуток, платник ПДВ) вирішило провести капітальний ремонту адміністративної будівлі (основний засіб групи 3), а саме, </a:t>
            </a:r>
            <a:r>
              <a:rPr b="1" lang="uk-UA" sz="2400" spc="-1" strike="noStrike">
                <a:solidFill>
                  <a:srgbClr val="000000"/>
                </a:solidFill>
                <a:latin typeface="Century Schoolbook"/>
              </a:rPr>
              <a:t>перекрити даху будівлі.</a:t>
            </a: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Шифер вирішили замінити металочерепицею. Знятий шифер заплановано використати для перекриття іншої будівлі. Вартість усіх необхідних матеріалів, які потрібні для перекриття, — 48 тис. грн (у т.ч. ПДВ — 8 тис. грн). Ці роботи підприємство проводить самостійно (зайнято 5 працівників, заробітна плата яких — 3000 грн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9271-60C1-44C6-BEBE-72FBBA102CF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00040"/>
                <a:gridCol w="5357880"/>
                <a:gridCol w="1000080"/>
                <a:gridCol w="928800"/>
                <a:gridCol w="1357200"/>
              </a:tblGrid>
              <a:tr h="74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о металочерепицю та інші матеріли, необхідні для перекриття даху будів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одатковий кре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4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чено вартість необхідних для ремонту матері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і матеріали використані для перекриття да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45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заробітну плату працівникам, зайнятим на роботах із заміни покрівлі (3000 грн × 5 чо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ЄСВ на зарпла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5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йнято виконані ремонтні роб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формлено </a:t>
                      </a:r>
                      <a:r>
                        <a:rPr b="0" lang="uk-UA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ипову форму № ОЗ-2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639-0109-419C-BE78-13444DF9238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Schoolbook"/>
              </a:rPr>
              <a:t>ПОТОЧНИЙ РЕМО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285920"/>
            <a:ext cx="825804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Витрати, що здійснюються для підтримання ОЗ у робочому стані </a:t>
            </a:r>
            <a:r>
              <a:rPr b="0" i="1" lang="uk-UA" sz="2800" spc="-1" strike="noStrike">
                <a:solidFill>
                  <a:srgbClr val="000000"/>
                </a:solidFill>
                <a:latin typeface="Century Schoolbook"/>
              </a:rPr>
              <a:t>(технічний огляд, нагляд, обслуговування, ремонт тощо)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 та одержання первісно визначеної суми майбутніх економічних вигід від його використання, вважаються поточним ремонтом і включаються до складу витрат звітного періоду (п. 15 П(С)БО 7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43FA-17F0-483C-8838-717B06103DC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КЛАД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унальне підприємство замінило пошкоджену частину труби на теплотрасі. Загальна вартість ремонту становить 16 517,70 грн. (без урахування ПДВ), у т. ч.: вартість труби (100 м. п.) — 12 000,00 грн., у т. ч. ПДВ — 2000,00 грн.; заробітна плата працівників — 4500,00 грн.; нарахування ЄСВ на заробітну плату — 990 грн.; вартість послуг сторонньої організації — 420,00 грн., у т. ч. ПДВ — 70,00 грн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395-FBC8-4C6B-BAA3-4C297C5619D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drawingml/2006/table">
            <a:tbl>
              <a:tblPr/>
              <a:tblGrid>
                <a:gridCol w="500040"/>
                <a:gridCol w="5357880"/>
                <a:gridCol w="1000080"/>
                <a:gridCol w="1000080"/>
                <a:gridCol w="1285920"/>
              </a:tblGrid>
              <a:tr h="578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ума, гр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бано частину труби для ремонту теплотр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Д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ачено постачальн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трубу, використану на ремонт теплотра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заробітну плату працівн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ЄС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28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лачено послуги сторонньої організ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Д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8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артість послуг сторонньої організ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о ПД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435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F847-2E73-4E43-98B6-F784D14992E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250920" y="428400"/>
            <a:ext cx="8642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Відповідно до </a:t>
            </a:r>
            <a:r>
              <a:rPr b="0" lang="uk-UA" sz="2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П(С)БО 16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витрати на поліпшення і технічне обслуговування ОЗ відносять до складу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собівартості готової продукції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23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, використовуваними безпосередньо в процесі виробництва, якщо об’єкт ОЗ зайнятий у виробництві конкретного виду продукції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загальновиробничих витра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1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, використовуваними безпосередньо в процесі виробництва, якщо об’єкт ОЗ бере участь у виробництві декількох видів продукції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адміністративних витра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2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 загальногосподарського призначення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витрат на збу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3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</a:t>
            </a:r>
            <a:r>
              <a:rPr b="0" i="1" lang="uk-UA" sz="26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 за ОЗ, пов’язаними зі збутом продукції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інших операційних витрат (</a:t>
            </a:r>
            <a:r>
              <a:rPr b="1" lang="uk-UA" sz="2600" spc="-1" strike="noStrike">
                <a:solidFill>
                  <a:srgbClr val="000000"/>
                </a:solidFill>
                <a:latin typeface="Century Schoolbook"/>
              </a:rPr>
              <a:t>рахунок 94</a:t>
            </a: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) — за ОЗ соціально-культурного призначення і тих, що беруть участь у процесі досліджень і розробок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033F-63B7-4243-9B3A-EBBC3F6665E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142920"/>
            <a:ext cx="746748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Добудова фактично спрямована на збільшення кількості місць (площі) будівлі, об’єктів та/або якості виконуваних робіт або умов їх виконан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14DF-D453-43F8-9EC1-6ACCA0DBD42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Документальне оформленн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entury Schoolbook"/>
              </a:rPr>
              <a:t>Після проведення поліпшення ОЗ слід оформити </a:t>
            </a: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Актом приймання-здачі відремонтованих, реконструйованих та модернізованих об’єктів (форма № ОЗ-2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Якщо поліпшення виконує стороннє підприємство, акт складають у двох примірниках. Другий примірник передають підприємству, що виконало поліпшення. Відомості про поліпшення вносять також в Інвентарну картку обліку основних засобів (форма № ОЗ-6). У разі </a:t>
            </a:r>
            <a:r>
              <a:rPr b="1" lang="uk-UA" sz="2700" spc="-1" strike="noStrike">
                <a:solidFill>
                  <a:srgbClr val="000000"/>
                </a:solidFill>
                <a:latin typeface="Century Schoolbook"/>
              </a:rPr>
              <a:t>поліпшень</a:t>
            </a: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 ОЗ дані про змінені техніко-економічні характеристики об’єктів — вартість, потужність, площу тощо вносять також у техпаспорти й інші регістри аналітичного обліку (</a:t>
            </a:r>
            <a:r>
              <a:rPr b="0" i="1" lang="uk-UA" sz="2700" spc="-1" strike="noStrike">
                <a:solidFill>
                  <a:srgbClr val="000000"/>
                </a:solidFill>
                <a:latin typeface="Century Schoolbook"/>
              </a:rPr>
              <a:t>п. 33 Методрекомендацій № 561</a:t>
            </a: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Номер слайда 2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DBE-9A96-46E8-ACEF-5A122781280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ПРИКЛАД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entury Schoolbook"/>
              </a:rPr>
              <a:t>Виробниче підприємство здійснил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000000"/>
                </a:solidFill>
                <a:latin typeface="Century Schoolbook"/>
              </a:rPr>
              <a:t>господарським способом</a:t>
            </a:r>
            <a:r>
              <a:rPr b="0" lang="uk-UA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300" spc="-1" strike="noStrike">
                <a:solidFill>
                  <a:srgbClr val="000000"/>
                </a:solidFill>
                <a:latin typeface="Century Schoolbook"/>
              </a:rPr>
              <a:t>будівництво прибудови до будівлі виробничого цеху з метою розширення виробничих потужностей і збільшення обсягу продукції, що випускається. Вартість поліпшень склала 272600 грн. (у тому числі ПДВ — 5000 грн.), з них:— балансова вартість будівельних матеріалів — 130000 грн.;— витрати на оплату праці робітників, зайнятих на будівництві прибудови, — 80000 грн.; — сума ЄСВ, нарахованого на фонд оплати праці працівників, зайнятих будівництвом прибудови, — 17600 грн.;</a:t>
            </a:r>
            <a:r>
              <a:rPr b="0" lang="uk-UA" sz="23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0" i="1" lang="uk-UA" sz="2300" spc="-1" strike="noStrike">
                <a:solidFill>
                  <a:srgbClr val="000000"/>
                </a:solidFill>
                <a:latin typeface="Century Schoolbook"/>
              </a:rPr>
              <a:t>вартість послуг сторонньої організації — 30000 грн. (у тому числі ПДВ — 5000 грн.);— амортизація ОЗ та інших необоротних матеріальних активів, використаних при будівництві, — 15000 грн.;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>
                <a:solidFill>
                  <a:srgbClr val="000000"/>
                </a:solidFill>
                <a:latin typeface="Century Schoolbook"/>
              </a:rPr>
              <a:t>підрядним способом</a:t>
            </a:r>
            <a:r>
              <a:rPr b="0" lang="uk-UA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uk-UA" sz="2300" spc="-1" strike="noStrike">
                <a:solidFill>
                  <a:srgbClr val="000000"/>
                </a:solidFill>
                <a:latin typeface="Century Schoolbook"/>
              </a:rPr>
              <a:t>поліпшення виробничого устаткування, що збільшило майбутні економічні вигоди, очікувані від його використання. Вартість послуг підрядника склала 60000 грн.    (у тому числі ПДВ — 10000 грн.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7DB5-3B2A-4B12-BBC4-7FC5A61DFEA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0" y="0"/>
          <a:ext cx="9144000" cy="6838920"/>
        </p:xfrm>
        <a:graphic>
          <a:graphicData uri="http://schemas.openxmlformats.org/drawingml/2006/table">
            <a:tbl>
              <a:tblPr/>
              <a:tblGrid>
                <a:gridCol w="571680"/>
                <a:gridCol w="5000400"/>
                <a:gridCol w="1071720"/>
                <a:gridCol w="1071360"/>
                <a:gridCol w="1428840"/>
              </a:tblGrid>
              <a:tr h="725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міст господарської опер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респонденція рахун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ума,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2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116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іпшення об’єкта ОЗ господарським спосо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исано вартість будівельних матеріалів, використаних при проведенні будівниц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заробітну плату робітникам, зайнятим будівництвом прибудови до будівлі це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ЄСВ на фонд оплати праці працівників, зайнятих на будівництві об’єкта 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76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2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вартість послуг сторонньої організ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суму ПДВ (до отримання зареєстрованої в ЄРПН податкової накладної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84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9EA5-8344-4AE8-92A7-5D97588D00A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0" y="0"/>
          <a:ext cx="9144000" cy="6724800"/>
        </p:xfrm>
        <a:graphic>
          <a:graphicData uri="http://schemas.openxmlformats.org/drawingml/2006/table">
            <a:tbl>
              <a:tblPr/>
              <a:tblGrid>
                <a:gridCol w="500040"/>
                <a:gridCol w="5429160"/>
                <a:gridCol w="1000080"/>
                <a:gridCol w="1000440"/>
                <a:gridCol w="1214280"/>
              </a:tblGrid>
              <a:tr h="411120"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з ПДВ (отримано зареєстровану в ЄРПН податкову накладну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/ ПД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лачено вартість послуг сторонньої організації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раховано амортизацію ОЗ та інших необоротних матеріальних активів, використовуваних при будівництві прибудови до будівлі цех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1, 1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більшено залишок на позабалансовому рахунку 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—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40508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збільшення первісної вартості будівлі на суму витрат з поліпшення об’єкта О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130000,00 грн. + 80000,00 грн. + 17600,00 грн. + + 25000,00 грн. + 15000,00 грн.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76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41400"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еншено залишок на позабалансовому рахунку 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—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3920" bIns="43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76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86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D60-0E2E-48F5-93C4-EFCA5ED4E53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28760"/>
                <a:gridCol w="5786280"/>
                <a:gridCol w="928800"/>
                <a:gridCol w="785880"/>
                <a:gridCol w="121428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44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іпшення об’єкта ОЗ підрядним способ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рераховано попередню оплату вартості послуг підрядної організац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суму ПДВ (до отримання зареєстрованої в ЄРПН податкової накладної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податковий кредит з ПДВ (отримано зареєстровану в ЄРПН податкову накладну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1/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ідписано акт виконаних робіт з підрядною організацією, що здійснювала поліпшення устатк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писано суму раніше нарахованого податкового кредиту з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44/ ПД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залік заборгова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ідображено збільшення первісної вартості устаткування на суму витрат з його поліпш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меншено залишок за рахунком 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88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7045-B3D2-4391-A7B0-75299F60166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entury Schoolbook"/>
              </a:rPr>
              <a:t>Консервація — це комплекс заходів, направлених на довгострокове (але не більш як 3 роки) зберігання основних засобів у разі припинення виробничої та іншої господарської діяльності з можливістю подальшого відновлення їх функціонуванн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DFD3-6A68-47EE-ACE2-0ACC3857FBA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entury Schoolbook"/>
              </a:rPr>
              <a:t>ПРИКЛАД 2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2920" y="71424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Згідно з рішенням керівника підприємство на два роки законсервувало об’єкт ОЗ «Будівля готелю «Жасмін». Комісія з консервації оформила всі належні документи, зокрема Акт про тимчасове виведення ОЗ із експлуатації та їхню консервацію й Акт про прийняття ОЗ на консерваці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итрати на консервацію ОЗ складаються із зарплати та єдиного внеску працівників, зайнятих придбанням приміщення та складуванням матеріальних цінностей; матеріалів, використаних на роботи з консервації (22000 грн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итрати на утримання законсервованих ОЗ — зарплата та єдиний внесок працівників охорони (18000 грн); послуги сторонніх організацій на обслуговування охоронно-пожежної сигналізації, комунальні послуги (1200 грн, у т.ч. ПДВ — 200 грн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Витрати на консервацію ОЗ складаються із вартості послуг сторонніх організацій на розконсервацію (24000 грн, у т.ч. ПДВ — 4000 грн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entury Schoolbook"/>
              </a:rPr>
              <a:t>Підприємство веде облік за П(С)БО, тому на період консервації припиняють нараховувати амортизацію. Місячна сума амортизації — 1555 гр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E05C-953A-4F57-9DC7-8A3BD69FA91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MSI</cp:lastModifiedBy>
  <dcterms:modified xsi:type="dcterms:W3CDTF">2021-09-29T06:56:12Z</dcterms:modified>
  <cp:revision>503</cp:revision>
  <dc:subject/>
  <dc:title>Лекція 2</dc:title>
</cp:coreProperties>
</file>