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E91-F3BE-4E17-8882-F4AF4ECE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78D-3814-468F-94C3-5620CF0F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51A-DF82-4EDC-BE11-4947D7AD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171-92F4-4C0F-9692-5FEB0EC5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485-24D7-49F4-9A04-56614D1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AD0-8BEE-47AA-82A7-9015D4E7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E6E-B0C2-42D3-82A6-9B16C08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E64-7A7E-40FF-8078-73DB92F6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0F9-A3B0-4965-A8EE-CEA0C469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A4C-65C7-43F9-B725-E7ED1E37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C81-467E-474C-B25A-668FE3D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D4D-59E9-49DC-92E8-778C8A1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A22B-F9A3-40E7-A510-04B1F039F5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ма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НОВИ ГРУПОВОЇ ДИНАМІКИ ТА КОМАНДНОЇ РОБО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5800" y="351216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тність групової динам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ипологія формуван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 і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-ситуація (обрати правильну відповідь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Авторитарний стиль в компанії, якщ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застосовуєть переважно в творчих колективах, таких як рекламне агентство, дизайн-студія тощ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) керівник характеризується лояльністю, стриманістю емоцій і доброзичливіст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 керівник несе повну відповідальність за дії свої підлегл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керівник 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 терпить критики, не любить опору, не враховує думку оточуючих, ставить інтереси справи вище людей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правданий в стресових ситуаціях: війни, кризи, епідемії і так далі, тому що така людина діє швидко і відповідальність бере на себе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ктур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ван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ові рол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облема лідерства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та мотивації, ефективної комунік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" y="1582560"/>
            <a:ext cx="8763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Структура групи -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це впорядкована система взаємодій і взаємин учасників спільної діяльності, яка поєднує 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торони (тех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на, еконо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на, виробнича, соц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льна) та має певну організаційну побудову – тобто структуру управлі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iнськi зв`язки i вiдносини можуть мати вертикальний або горизонтальний характер. З огляду на це, виділяють дві великі групи, навколо яких і формуєть інші їх різновид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ша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інійна структура управлінн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– дуже проста за своєю суттю: основним принципом є вертикальна ієрархія, тобто підпорядкованість ланок управління знизу доверх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Друга – д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ункціональної структури управлінн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характерне створення структурних підрозділів, кожен з яких має свої чітко визначені, конкретні завдання й обов'яз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93800" y="563796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Лінійна структура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8" descr=""/>
          <p:cNvPicPr/>
          <p:nvPr/>
        </p:nvPicPr>
        <p:blipFill>
          <a:blip r:embed="rId1"/>
          <a:srcRect l="36559" t="40842" r="12937" b="27141"/>
          <a:stretch/>
        </p:blipFill>
        <p:spPr>
          <a:xfrm>
            <a:off x="1143000" y="1371600"/>
            <a:ext cx="63324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284120" y="457200"/>
          <a:ext cx="7554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4120" y="457200"/>
                    <a:ext cx="7554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6"/>
          <p:cNvSpPr/>
          <p:nvPr/>
        </p:nvSpPr>
        <p:spPr>
          <a:xfrm>
            <a:off x="2059200" y="5562000"/>
            <a:ext cx="46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ис. Функціональна структура управлі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322560"/>
            <a:ext cx="899172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На формування структури групи впливає безліч факторів, основними з яких є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)  вибір ефективного способу розподілу повноважень і відповідальності в межах (делегування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лежно від ступеня передання повноважень розрізняю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нтралізовану організацію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прац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централізовану організацію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прац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 централізованій організації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всі повноваження й відповідальність з певної функції зосереджені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на одній особ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та є прерогативою керівника даного підрозділу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групи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Децентралізована організаці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ередбачає передання або делегування відповідальності за низку ключових рішень на всіх учасників груп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2) види взаємин і взаємодій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, що впливають на розподіл статусів і ролей в групі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Роль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- перелік функцій, які задані особистості групою і які визначаються специфікою спільної групової діяльності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татус людини в групі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изначається його положенням (позицією, місцем) в системі групових взаємодій і взаємин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ст (обрати правильну відповідь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Підрозділ ІТ-компанії є децентразованим якщ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) більшість рішень приймає керівник цього підрозділ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Б) керівництво вищої ланки рідко перевіряє повсякденні рішення підлеглих йому керівників підрозділі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 рішення керівника підрозділу стосуються графіку роботи підлеглих, вирішення конфліктів та організація комунікаці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працівники даного підрозділу погоджують свої дії з керівником вищої ланки управлінн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Д) працівники дуже повільно адаптуються до нового проекту  і слабо реагують на змі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304920" y="1720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Є багато підходів до розподілу ролей та статусів в групах,  в основі їх лежать відносини влади-підпорядкування або симпатії-антипат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приклад, учасник групи, який має найбільш високий позитивний статус, тобто має авторитет у інших і має на них вплив, володіє статусом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ід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Лідерство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 груп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це здатність впливати на окремі особистості і групи, спрямовуючи їх зусилля на досягнення цілей організа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ток лідерств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обхідний фактор перетворення групи людей в команду, в силу, що представляє стійку конкурентну переваг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-14328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снують й інші статуси в залежності від участі в груповій взаємодії, (середній, нульовий або негативний) напри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. Шиндлер описав чотири найбільш часто зустрічаються групові ролі і одну менше поширену ро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1. Альф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лідер, який імпонує групі, спонукає її до активності, до дій, складає програму, направляє, надає їй впевненість і рішуч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2. Бе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експерт, який має спеціальні знання, навички або здібності, які групі завжди потрібні або які вона високо оціню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Гамм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переважно пасивні і легко пристосовуються до групи, які намагаються зберегти свою анонім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мег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самий «крайній» член групи, який відстає від колективу через нездатність або якусь відмінності від інших або стра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Р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- противник, опозиціонер, активно виступає проти лід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56520"/>
            <a:ext cx="9144000" cy="69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ослідження М. Белбін свідчать про те, що для отримання дійсно ефективної групи необхідні вісім ролей. Серед них так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Голова.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людина, яка здійснює керівництво командою і координує її дії, дисциплінований, цілеспрямований і урівноважений, вміє добре слухати і говорити, розуміти потреби інш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Організатор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Це ініціативні, мобільні і найбільш впливові люди в групі, також зачасту беруть на себе роль голови, Їх сила полягає в їх прагненні досягти мети, але вони можуть бути надчуттєвими, дратівливими і нетерпляч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озковий цент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генератор ідей, спрямовані в себе, є джерелом оригінальних ідей і пропозицій, найрозумніші члени команди, за характером стрима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нтролер-критик. 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умні, але  мають швидше аналітичний, ніж творчий, склад розуму, скрупульозні, менш товариські, тримаються осторонь від команди, але надійні, іноді нетактовні і байдуж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28600" y="228600"/>
            <a:ext cx="876312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Дослідники резерву нових службовців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є популярними членами команди, екстраверти, товариські і ризиковані. Вони приносять в групу нові контакти, ідеї, удосконалення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Трудоголіки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є практичними організаторами всієї діяльності компанії. Вони перетворюють ідеї в здійсненні завдання. Складання графіків, діаграм, планів виступає сильною стороною їх діяльності. Вони методичні й ефективні в роботі, вселяють дові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Координатори команди.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-  згуртовують всю команду, підтримуючи інших, вислуховуючи їх, заохочуючи, вникаючи в усі, розуміючи все і вносячи в усі почуття гармонії і злагоди. Вони популярні і приємні, але вони не прагнуть до суперництв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Детермінатор-завершувач.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Без детермінатора команда не могла б закінчити нічого до призначеного терміну. Вони перевіряють деталі, турбуються про графіки, докучають іншим необхідністю щось невідкладно зроби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Сутність групової динамі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85800" y="1092600"/>
            <a:ext cx="8037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учасній літературі існує кілька значень термін «групова динамі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упова динамі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укупність внутрішньогрупових соціально-психологічних процесів і явищ, зокрема таких як: прийняття рішень, вирішення проблем та ситуацій, управління конфліктами, комунікацій, мотивації та інших процесів, що характеризують весь цикл життєдіяльності малої групи, і його етапи: утворення, функціонування, розвиток, стагнація, регрес, роз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упова динамік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укупність тих динамічних процесів, які одночасно відбуваються в групі у будь-який момент часу і які знаменують собою рух групи від стадії до стадії, тобто її розви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28600" y="150840"/>
            <a:ext cx="872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3) наступний фактор – це мотив людин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групі, яка визначає його поведінку, роль та зачасту стат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отив 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це внутрішня спонукальна сила, яка примушує людину до здійснення певних дій або вести себе певним чи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мунікація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ається як основа структури групи, показник фізичної та соціальної близькості індивідів, а не просто мовний, письмовий чи індивідуальний спосіб спілку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оцеси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ов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згуртован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сті та 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пов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апруг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04920" y="943920"/>
            <a:ext cx="84582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Згуртованість групи -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це міра взаємного тяжіння членів групи один до одного і до групи. Згуртованість виражається в прагненні залишитися в групі, в прагненні до співпраці при вирішенні спільних завдань і до збереження групи. Згуртованість породжує емоційну прихильність членів групи і лояльне ставлення до загальних завдань, забезпечує групі стабільні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Показник згуртованості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- параметр, який показує, скільки людей однієї групи однаково ставляться до різних речей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мітка: людей сильніше об'єднують прихильності (до роботи, відпочинку, спорту і т.д.), звички і темпераменти, а не їх приналежність до того чи іншого поколі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304920" y="11962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Які переваги згуртованих гру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Групи добре працюють і можуть підвищити ефективність всієї організ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 впливом згуртованості члени групи відчувають підтримку і відносну безп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 разі розбіжності цілей групи і цілей організації високий ступінь згуртованості може негативно позначитися на продуктивності праці всієї організа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лени такої групи не бажають мислити критично і приймати серйозні рішення внаслідок розвитку процесу групового одноду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52280" y="4647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Групова напруга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 результаті взаємодії членів групи, що розрізняються за поглядами, позиціями, моделям поведінки, за своїми планами і потребам, в групі, природно, виникає напруг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52280" y="477720"/>
            <a:ext cx="8686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Тест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Які переваги групової напруги в колективі?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виступає як стимулюючий фактор – веде до незадоволеності і прагнення щось змінити в собі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може виражатися в агресивності, злості, роздратування, неприйняття, страху, відчуженн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пруга – це чинник, що стимулює членів групи до активності, змі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) У деяких випадках напруга призводить до відкритих конфлікті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5. Розвиток групи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114084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діляють наступні стадії розвитку груп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1. Формуванн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ming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. Учасники групи тільки вчаться взаємодіяти один з одним; на цій стадії її продуктивність мінімаль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Штор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Storming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Час напруженої боротьби за соціальні ролі і правила взаємодії, за якими команди буд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іяти да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рмуванн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Norming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цій частині стадії розподіляються обов'язки, розвивається почуття ліктя, вільно передається інформ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обо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Performing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ягнення оптимального рівня функціону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Руйнування (Розформування)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групи аб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ан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-239760" y="1600200"/>
            <a:ext cx="9423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00"/>
                </a:solidFill>
                <a:uFillTx/>
                <a:latin typeface="Arial"/>
              </a:rPr>
              <a:t>2. Типологія формування груп і коман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1509480"/>
            <a:ext cx="876312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уп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— це сукупність двох і/або більше людей, які певним чином взаємодіють один з одним, усвідомлюють свою приналежність до цієї групи і вважаються членами цієї групи з погляду інш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рупа має цілу низку психологічних характеристик, які притаманні її учасни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) часто взаємодіють один з одн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) визначають себе як члени однієї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) поділяють загальні норми з приводу того, що їх цікав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) беруть участь в єдиній системі поділу ро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5) ідентифікують себе з одними і тими ж об'єктами і ідеал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6) сприймають групу як джерело задово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7) знаходяться в кооперативній взаємозалежнос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8) координують дії по відношенню до серед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Колектив м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жна розглядати як групу людей, які організаційно об‘єднані єдиною метою, єдиними цілями, і який можна віднести до проміжної ланки в процесі утворення коман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228600" y="123840"/>
            <a:ext cx="8763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снують різні критерії формування груп т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че представлена ​​типологія, що виділя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отири категорії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груп (команд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лежності від поставлених цілей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радч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(консультативно-дорадчі)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група, що утворюється для сприяння вирішенню питань, організації або удосконалення процесів у певній сфері чи галузі, а також з метою  координації діяльності інших структурних одиниць для вирішення конкретних завдань або доручень. Як правило має право лише обговорювати питання, а не вирішувати його. Консультативно-дорадчі органи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жуть мати назву комісій, комітетів, рад, робочих груп, служб, журі тощо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юджетний коміт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організаційний комітет фестивалю нау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тестаційна коміс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спостережна ра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«круглий стіл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упи, що займаються залученням працівників у процес управління – «гуртки якості», експертні служб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1680"/>
                <a:tab algn="l" pos="13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Arial"/>
              </a:rPr>
              <a:t>виробнича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група, що сприяє розвитку і становленню відносин у виробничих колективах з певним циклом технологічного процесу, що відбуваються на основі трудової діяль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Н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априкл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виробнич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шахтарськ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ремонтні бригад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команди льотного складу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групи обробки даних та і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80880" y="463320"/>
            <a:ext cx="851544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новних процесів, щ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ую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ов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намік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іднося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місії, мет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іл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або коман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вання (керівництво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кту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ва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ові рол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блема лідерств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та мотивації, ефективної комунік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цеси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гуртова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ті та 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п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пруг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ви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у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2860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проект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це сформована група з метою вирішення проблемних завдань, пов’язаних з переорієнтацією цілей організації або зміною шляхів їх досягнення на основі інвестицій та інновацій, де виконавці закріплені за проектом на період його життєвого циклу і повністю підпорядковані менеджеру проекту, в той час як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рична структура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складається з фахівців відповідних функціональних відділів вже діючої структури та новоствореної проектної гру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дослідницька гр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рупа планув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інженерна груп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група проектувальни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4"/>
          <p:cNvSpPr/>
          <p:nvPr/>
        </p:nvSpPr>
        <p:spPr>
          <a:xfrm>
            <a:off x="380880" y="22860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рупа дій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формується, як правило, у статусі тимчасового утворення з метою здійснення чого-небудь або вчинення певних дій, видів діяльності у визначені строки або для виконання конкретних завдань на практиці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Наприклад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портивна команд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рупа для розваг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експедиці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оманда на переговора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бригада хірургі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ійськовий підрозді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04920" y="12528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безпосередністю взаємозв'язків групи можна поділит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овні та реальн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Умовні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б'єднуються за певною ознакою (стать, вік, рівень освіти, вид діяльності, національність та ін.) і включають у себе людей, які не пов'язані об'єктивною, реальною взаємодією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, що утворюють цю спільноту, ніколи не зустрічаються і нічого не знають один про од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льна гру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це обмежена за розмірами спільність людей, яка існує у спільному просторі й часі та поєднується реальними стосунками взаємодії й спілкуванн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априклад: ми все життя проводимо в групах: сім'я, дитсадок, школа, робота і так далі, тобто будь-яке співтовариство людей, починаючи від натовпу пасажирів, які очікують поїзда на вокзальній платформі, і закінчуючи командою загону космонавтів, здійснює свою життєдіяльність груподинаміч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До умовних груп належать такі категорі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) молодь та пенсіонер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) українці, італійц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спеціалісти, робітники та ін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сім‘я, школа, університ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група у соціальних мере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) бригада хірург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Ж) кабінет міністрів та ін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320400"/>
            <a:ext cx="853416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За характером зв'язків усередині організації розрізняють 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формальні та неформальні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об'єднання працівників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аслідком структурування фірми по горизонталі та вертикалі є формальні групи. Їх кількість відповідає кількості структурних одиниць (підрозділів) фір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Формальні груп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— об'єднання людей у межах організації, ство­рені за рішенням вищого керівництва для виконання певних функці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Формальна структура залежить від офіційного розподілу обов'язків, типу завдань для членів групи, їх взаємодії в процесі праці, переліку знань, умінь і навичок, якими повинні володіти члени команди; терміни виконання поставленого завдання; ступінь контролю робочої групи з боку керівництв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04920" y="152280"/>
            <a:ext cx="83818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Наприклад, до формальних груп відносять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керівні груп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(топ-менеджери та їхні команди, які розробляють стратегічні рішення і вирішують ключові питання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робочі групи -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взаємодіють між собою перш за все для того, щоб обмінятися інформацією, досвідом роботи або для визначення перспективи і прийняття рішень, щоб допомогти кожному працювати в межах його області відповідальності (постійні групи, об'єднані виконан­ням спільного завдання: наприклад, групи якості, група розслідування нещасних випадків на виробництві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цільові групи, або комітети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 (мають право на гру­пове прийняття рішень і створені для реалізації певних завдань чи проектів; вони можуть бути тимчасовими і постійними — ради, комісії, проектні команди тощо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80880" y="306000"/>
            <a:ext cx="853452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еформальна група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 — спонтанно утворене об'єднання людей, які вступають у взаємодію для досягнення певних ці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формальна структу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утворюється на основі взаємин, що склалися в процесі взаємодії членів груп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ака структура визначається значною кількістю ситуативних та особистісних факторів: професійні та комунікаційні знання і здібності, життєвий досвід, і політичні та релігійні уподобання, особисті якості людини тощ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52280" y="325080"/>
            <a:ext cx="89917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 кількісним складом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групи бувають великими, середніми і малим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 Чисельність групи залежить від багатьох факторів, основними з яких є місія, цілі і завдання, які визначення і термін їх викона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елика груп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- це кількісно необмежена умовна (за статтю або віком, професією) чи реальна спільність людей (мітинги і збори, революції, війни), яка виділяється на основі певних ознак у межах всього суспільства (класової приналежності, статі, віку, національності, професії). У великих групах виробляються норми поведінки, громадські культурні традиції, громадська думка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Приклади: До великих груп належ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суспільні класи (робітники, селяни, інтелігенці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соціальні прошарки (підприємці, фермери, державні службовці, партійні чл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професійні групи (машинобудівники, педагоги, будівельники і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етнічні спільності (нація, наро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- вікові групи (молодь, середній вік, пенсіонер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52280" y="50724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 середніх груп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лежать трудові колективи підприємств, організацій і установ (юридичних осіб), а також громадян, які характеризуються територіальною спільністю проживання (місто, район, селищ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а груп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характеризується безпосереднім контактом її членів і спільним обміном інформац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о різноманітних малих груп відносяться такі групи, я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ім'я, дружні компанії, шкільний клас, виробнича бригада група підтримки і т.п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52280" y="2988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няття кількості групи має відносне значенн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а може бути або дуже маленькою, або занадто вел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інімальна чисельність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малої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и - 2 людини, максимальна - до 40 осіб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ладність викликає визначення оптимальної чисе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ший поріг становить кількість 7 ± 2 члени груп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Дослідження свідчать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м більше команда і проект, тим складніше буде вирішити задачу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том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м більше група, тим нижче продуктивність кожного. При збільшенні групи від 1 до 12 осіб середні зусилля, прикладені кожним, зменшуються приблизно на 10%.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в'язано з такими груповими явищами, як, по-перше, конформізм (підпорядкування окремого члена групи думці і рішенню всіх інших) і конфліктність, по-друге, прийняття групового рішення і, по-третє, цілісність або роздробленість на угрупо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Формування місії, мет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іл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і завдань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ру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28600" y="635400"/>
            <a:ext cx="868680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ис. нижче. Дерево ці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ісія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ісія, або призначення, визначає причини існування групи або команди. Місія відповідає на питання, чому група або команда існу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є бажаною кінцевою точкою групового процесу, з досягнення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ої пов'язаний успіх проекту або важливої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Наприкла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мета виробничої групи - досягнення випуску продукції;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груп взаємодопомоги - взаємна підтримка і консультування і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Цілі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груп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це конкретні кінцеві результати або стану, які повинні бути досягнуті групою або командою для реалізації її міс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вдання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це дії, необхідні для досягнення мети. Формулювання завдань включає розгляд питання про ресурсах, необхідних для виконання завда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Британські фахівці з формування команд  виділяють три типи завдан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прості завдання, що мають технічну приро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вичайні завдання з помірним ступенем невизначено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вдання з високим ступенем невизначеності і щодо складними проблемами, що мають значення для всіх зацікавлених стор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28600" y="-145080"/>
            <a:ext cx="86104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й критичний поріг визначається кількістю 14 ± 2 людин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ий групі властиві свої особливості. У ній представлений набагато більший спектр індивідуальних інтересів, думок, оцінок пропозицій, можливостей для функціонального розподілу ролей. Група з чотирнадцяти чоловік домагається ефективності за рахунок конформізму її членів і в результаті групового обговор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тій критичний поріг визначається кількістю 25 ± 2 люд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-перше, це межа функціонування групи як єдиного цілого. При більшій кількості людей група обов'язково розпадається на підгрупи. По-друге, при взаємодії індивідів в такій групі можливо розбивка на дві-три підгрупи, між якими відбувається зіставлення думок і позицій з широкого кола питань. Однак таке розбиття може бути досить короткочасно і ситуативно, оскільки зазвичай двадцять чоловік цілком здатні виступити як єдине ціле. По-третє, в таких групах більше можливостей для взаємозамі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28600" y="27936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700" spc="-1" strike="noStrike">
                <a:solidFill>
                  <a:srgbClr val="000000"/>
                </a:solidFill>
                <a:latin typeface="Arial"/>
              </a:rPr>
              <a:t>Існує багато тлумачень терміну «команда», суть їх відрізняється зовнішніми та внутрішніми прояв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До перших можна віднести такі визначенн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анда – в широкому сенсі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трудовий колектив з високим рівнем згуртованості, прихильності всіх працівників загальним цілям і цінностям організації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манда –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група індивідів, які розподіляють між собою робочі операції і відповідальність за отримання конкретних результатів, що мають спільні цілі, взаємодоповнюючі навички та вміння, високий рівень взаємозалежності і розділяють відповідальність за досягнення кінцевих результатів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8600" y="336240"/>
            <a:ext cx="868680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 другого типу визначень варто віднести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манд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колектив однодумців, згуртованих навколо свого лідера, який одночасно є і вищою посадовою особою в даній організації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оманда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–  це група креативних людей згуртованих навколо одного лідера, що займаються спільною справою із задоволенням, поєднують свою особисту мету із загальною, і свідомо взаємодіють один з одним для її досягнення, а результатом їхньої справи є якісно новий продук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3276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вною відмінністю команд від традиційних формальних груп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бо колективі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є наявність синергічного ефек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 даних визначеннях підкреслю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ься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такі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ажливі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характеристи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аємозалежні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ожен член команди вносить свій індивідуальний внесок у загальну роботу. Інші члени команди залежать від роботи кожного. У команді всі діляться робочою інформацією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дин з одни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Члени команди також сприймаються як рівноправні учасники процессу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ють можливість впливати одна на од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лективна відповідальність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ідповідальність за командні цілі розуміється і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іляється всіма.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анди надають значення як індивідуальній роботі кожного з її членів, так і загального результату.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езультат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ультат роботи команди залежить від особистого внеску кожного її члена у досягнення мети в тісній взаємодії. Відповідальність за командні результати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зділяється всіма членами групи і фокусує групову активні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52280" y="262440"/>
            <a:ext cx="883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2100" spc="-1" strike="noStrike">
                <a:solidFill>
                  <a:srgbClr val="000000"/>
                </a:solidFill>
                <a:latin typeface="Arial"/>
              </a:rPr>
              <a:t>Місія і цілі.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Члени команд концентруються на спільному досягненні вищих цілей, що в поєднанні зі специфікою виконання завдань робить їх сильно зацікавленими в результатах своєї діяльності. Наприклад стати провідною компанією у своєму регіоні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uk-UA" sz="2100" spc="-1" strike="noStrike">
                <a:solidFill>
                  <a:srgbClr val="000000"/>
                </a:solidFill>
                <a:latin typeface="Arial"/>
              </a:rPr>
              <a:t>Менеджмент.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Команди</a:t>
            </a:r>
            <a:r>
              <a:rPr b="0" i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повинні володіти високим ступенем свободи і бути в змозі самостійно встановлювати проміжні цілі, займатися розрахунком часу, виконання роботи і мати можливість максимально наблизити результати до поставленої мети. Всі ці дії повинні відбуватися без втручання з боку керівництва або при його мінімальній залученості в процес роботи команд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52280" y="259200"/>
            <a:ext cx="883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Визначення, що поєднує вказані вище характеристик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Командою називають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невелику групу людей (найчастіше 5-7 чоловік, рідше до 15-20), які поділяють цілі, цінності та спільні підходи до реалізації спільної діяльності, мають взаємодоповнюючі навички; приймають на себе відповідальність за кінцеві результати, здатні змінювати функціонально-рольову співвіднесеність (виконувати будь-які внутрішньогрупові ролі); мають взаємовизначальну приналежність - свою і партнерів - до цієї групі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28600" y="370440"/>
            <a:ext cx="876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анди прийнято розрізняти по декількох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араметр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Залежно від спосоду організації виконання поставленого завдання і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нує два основних типи команд: крос-функціональні і інтактні ком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рос-функціональн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команда формується з представників різних підрозділів формальної організації і відображає їх інтерес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членів команди робота над завданням є вторинною по відношенню до їх основної робо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Інтактна команд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інтактний - незайманий, непошкоджений, цілий) є виробничим підрозділом або довготривало існуючою робочою групою, що виробляє певний продукт або послугу. Досить розвинені, зрілі, самоврядні, автономні інтактні команди можуть функціонувати як невеликі підприєм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256680"/>
            <a:ext cx="8686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лежності від командних зусиль - ефективності взаємодії членів груп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група, у я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є потреба в підвищенні ефективності спільної праці, є можливість стати командою, але вона не зосереди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я на колективному виконанні роботи і не намагається робити це. У псевдокоманди негативна синергія - сума цілого менше, ніж потенціал індивідуальних ча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тенційна 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група, у якій має місце суттєва потреба в підвищенні ефективності спільної праці, і вон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магаєть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це робити. Однак, як правило, такій команді не вистачає ясності щодо направлення, цілей і процесу виконання робо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3. Реальна команд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це невелике число людей з взаємодоповнюючими навичками, які віддані загальному напрямку і цілям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ни усвідомлюють, що кожен з них важливий для ефективного виконання роботи, ал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вністю реалізували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сокоефективна коман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 реальна команда, члени якої мають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ти високовідповідальн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щодо виконання командної роботи. Методи роботи і взаємодії в групі сприяють персонально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осту й успіху членів команди. Такі групи мають надлиш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синергії і домагаються результату, який перевершує очікування оточуюч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«Дерево цілей»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– це графічне зображення взаємозв’язку і підпорядкованості цілей, що відображає розподіл місії і мети на цілі, під цілі, завдання та окремі дії. При конструюванні «дерева цілей» важливу роль відводять таким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івням (рис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967120" y="586728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Дерево ці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0" descr="C:\DOCUME~1\User\LOCALS~1\Temp\FineReader10\media\image12.jpeg"/>
          <p:cNvPicPr/>
          <p:nvPr/>
        </p:nvPicPr>
        <p:blipFill>
          <a:blip r:embed="rId1"/>
          <a:stretch/>
        </p:blipFill>
        <p:spPr>
          <a:xfrm>
            <a:off x="1523880" y="12193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380880" y="336600"/>
            <a:ext cx="85345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Наприклад, проект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«Сонячні дерева для зарядки мобільних пристроїв у Гідропарк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ісія: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стійкий соціально-культурний розвиток територій за рахунок покращення екосисте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проекту: впровадження нових інформаційних технологій на основі застосування альтернативних джерел енергії у дозвіллі, покращення рівня життя населення і комуніка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000000"/>
                </a:solidFill>
                <a:latin typeface="Arial"/>
              </a:rPr>
              <a:t>Цілі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: (наприклад, в розрізі комерційних, соціальних, економічних та професійн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1.Встановити 5 «Сонячних дерев» для зарядки мобільних пристроїв у Гідропар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2.Облаштувати навколишній простір тротуарними стежками, квітковими клумбами та лавками для відпочин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3.Створити ігровий дитячий майданчик для дітей віком 1-8 рок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вання (керівництво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014120"/>
            <a:ext cx="861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ід керівництвом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 даному випад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розуміються основоположні правила або норми, що визначають, як команда буде виконувати свою роботу і як члени команди будуть вести себе по відношенню один до одн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орми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являють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собою сукупність неписаних правил і вимог, стандартів поведінки, що регулюють взаємовідносини і взаємодії між її учас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ові норми визначають, що припустимо і неприпустимо в групі, бажано і небажано, що правильно і неправи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и можна розділити на дві категор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1) Н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рми, які спочатку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визнача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ерівник груп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лежать від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ерівництва - це типова для керівника (лідера) система прийомів впливу на підлеглих. Тоб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ль керівництва визначає ставлення його до підлеглих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іляють такі типи стилів керівниц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автократи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демократич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лібераль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533520" y="121680"/>
            <a:ext cx="82296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Автократичний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е стиль, орієнтований на роботу.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бота і досягнення результату за всяку ціну - головні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кладові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втократичного стилю.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Демократичний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тиль керівництв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- це природний стиль. У цьому випадку керівник розподіляє і відповідальність, і роботу між підлеглими, делегуючи їм досить високий або природний ступінь свободи і влад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uk-UA" sz="2500" spc="-1" strike="noStrike">
                <a:solidFill>
                  <a:srgbClr val="000000"/>
                </a:solidFill>
                <a:latin typeface="Arial"/>
              </a:rPr>
              <a:t>Ліберальний </a:t>
            </a:r>
            <a:r>
              <a:rPr b="0" i="1" lang="uk-UA" sz="2500" spc="-1" strike="noStrike">
                <a:solidFill>
                  <a:srgbClr val="000000"/>
                </a:solidFill>
                <a:latin typeface="Arial"/>
              </a:rPr>
              <a:t>стиль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передбачає повну свободу підлеглих в ухваленні власних ріш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Arial"/>
              </a:rPr>
              <a:t>2) Н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рми, вироблені группою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априклад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) гордість за організацію; 2) досягнення цілей; 3) прибутковість; 4) колективна праця;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планування; 6) контроль; 7) професійна підготовка кадрів; 8) нововведення; 9) відносини з замовником; 10) захист чесност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ест-ситуація (обрати правильну відповідь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іберальний стиль в компанії, якщ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немає серйозного контролю за колективною роботою, тому працівники розслабляю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иникнення неформальних груп і неофіційних лідер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) керівник несе повну відповідальність за дії свої підлегл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) несприятлива соціально-психологічна обстановка в колектив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) підходить лише для виробничих це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ександра</dc:creator>
  <dc:description/>
  <dc:language>en-US</dc:language>
  <cp:lastModifiedBy>Олександра</cp:lastModifiedBy>
  <dcterms:modified xsi:type="dcterms:W3CDTF">2021-09-21T06:51:4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