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EC67-7262-488F-A30F-370C5386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0188-B4D1-4AE5-8DEC-9024D7A5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BE60-3DCF-4B5D-BC84-B8015413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5ED-85AB-47A7-90F7-F923645B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084F-FF00-4592-96AB-94CE4B7F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756A-00E1-4868-BEB2-02AE7661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6775-5183-408A-90BC-D0FEC0AB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11EA-F6B9-4860-98C6-5126E8B5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6450-077B-4CDD-9D22-E34C73E1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D8FE-356A-41E3-AF29-13C3FF70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778B-A762-4F4D-B4F1-FAC18497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ACD3-56A9-4205-A99C-7D11F06D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4C23-3A8C-4C5F-B7CF-5FFF624257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Тема 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ОСНОВИ ГРУПОВОЇ ДИНАМІКИ ТА КОМАНДНОЇ РОБО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685800" y="351216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утність групової динам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Типологія формуван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руп і кома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Тест-ситуація (обрати правильну відповідь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Авторитарний стиль в компанії, якщ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) застосовуєть переважно в творчих колективах, таких як рекламне агентство, дизайн-студія тощо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) керівник характеризується лояльністю, стриманістю емоцій і доброзичливістю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) керівник несе повну відповідальність за дії свої підлегли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Г) керівник 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 терпить критики, не любить опору, не враховує думку оточуючих, ставить інтереси справи вище людей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)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правданий в стресових ситуаціях: війни, кризи, епідемії і так далі, тому що така людина діє швидко і відповідальність бере на себе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уктур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ван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рупи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упові ролі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облема лідерства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та мотивації, ефективної комуніка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28600" y="1582560"/>
            <a:ext cx="87631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Структура групи -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це впорядкована система взаємодій і взаємин учасників спільної діяльності, яка поєднує 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н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сторони (техн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чна, еконо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чна, виробнича, соц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альна) та має певну організаційну побудову – тобто структуру управлінн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правлiнськi зв`язки i вiдносини можуть мати вертикальний або горизонтальний характер. З огляду на це, виділяють дві великі групи, навколо яких і формуєть інші їх різновид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ша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інійна структура управлінн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– дуже проста за своєю суттю: основним принципом є вертикальна ієрархія, тобто підпорядкованість ланок управління знизу доверх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Друга – до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ункціональної структури управлінн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характерне створення структурних підрозділів, кожен з яких має свої чітко визначені, конкретні завдання й обов'яз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2593800" y="5637960"/>
            <a:ext cx="38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ис. Лінійна структура управлі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8" descr=""/>
          <p:cNvPicPr/>
          <p:nvPr/>
        </p:nvPicPr>
        <p:blipFill>
          <a:blip r:embed="rId1"/>
          <a:srcRect l="36559" t="40842" r="12937" b="27141"/>
          <a:stretch/>
        </p:blipFill>
        <p:spPr>
          <a:xfrm>
            <a:off x="1143000" y="1371600"/>
            <a:ext cx="633240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1284120" y="457200"/>
          <a:ext cx="7554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4120" y="457200"/>
                    <a:ext cx="7554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Rectangle 6"/>
          <p:cNvSpPr/>
          <p:nvPr/>
        </p:nvSpPr>
        <p:spPr>
          <a:xfrm>
            <a:off x="2059200" y="5562000"/>
            <a:ext cx="46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ис. Функціональна структура управлі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0" y="322560"/>
            <a:ext cx="899172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2100" spc="-1" strike="noStrike">
                <a:solidFill>
                  <a:srgbClr val="000000"/>
                </a:solidFill>
                <a:latin typeface="Arial"/>
              </a:rPr>
              <a:t>На формування структури групи впливає безліч факторів, основними з яких є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uk-UA" sz="2100" spc="-1" strike="noStrike">
                <a:solidFill>
                  <a:srgbClr val="000000"/>
                </a:solidFill>
                <a:latin typeface="Arial"/>
              </a:rPr>
              <a:t>)  вибір ефективного способу розподілу повноважень і відповідальності в межах (делегування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лежно від ступеня передання повноважень розрізняють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нтралізовану організацію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праці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ецентралізовану організацію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праці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У централізованій організації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всі повноваження й відповідальність з певної функції зосереджені 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на одній особі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та є прерогативою керівника даного підрозділу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(групи)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2100" spc="-1" strike="noStrike">
                <a:solidFill>
                  <a:srgbClr val="000000"/>
                </a:solidFill>
                <a:latin typeface="Arial"/>
              </a:rPr>
              <a:t>Децентралізована організаці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передбачає передання або делегування відповідальності за низку ключових рішень на всіх учасників груп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2100" spc="-1" strike="noStrike">
                <a:solidFill>
                  <a:srgbClr val="000000"/>
                </a:solidFill>
                <a:latin typeface="Arial"/>
              </a:rPr>
              <a:t>2) види взаємин і взаємодій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, що впливають на розподіл статусів і ролей в групі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100" spc="-1" strike="noStrike">
                <a:solidFill>
                  <a:srgbClr val="000000"/>
                </a:solidFill>
                <a:latin typeface="Arial"/>
              </a:rPr>
              <a:t>Роль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- перелік функцій, які задані особистості групою і які визначаються специфікою спільної групової діяльності.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татус людини в групі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визначається його положенням (позицією, місцем) в системі групових взаємодій і взаємин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-1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Тест (обрати правильну відповідь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Підрозділ ІТ-компанії є децентразованим якщ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А) більшість рішень приймає керівник цього підрозділу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Б) керівництво вищої ланки рідко перевіряє повсякденні рішення підлеглих йому керівників підрозділі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) рішення керівника підрозділу стосуються графіку роботи підлеглих, вирішення конфліктів та організація комунікаці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Г) працівники даного підрозділу погоджують свої дії з керівником вищої ланки управлінн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) працівники дуже повільно адаптуються до нового проекту  і слабо реагують на змін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304920" y="172080"/>
            <a:ext cx="84582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Є багато підходів до розподілу ролей та статусів в групах,  в основі їх лежать відносини влади-підпорядкування або симпатії-антипаті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приклад, учасник групи, який має найбільш високий позитивний статус, тобто має авторитет у інших і має на них вплив, володіє статусом 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Ліде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Лідерство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в груп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- це здатність впливати на окремі особистості і групи, спрямовуючи їх зусилля на досягнення цілей організації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виток лідерства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обхідний фактор перетворення групи людей в команду, в силу, що представляє стійку конкурентну перевагу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228600" y="-143280"/>
            <a:ext cx="85345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снують й інші статуси в залежності від участі в груповій взаємодії, (середній, нульовий або негативний) наприкл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Р. Шиндлер описав чотири найбільш часто зустрічаються групові ролі і одну менше поширену ро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1. Альф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- лідер, який імпонує групі, спонукає її до активності, до дій, складає програму, направляє, надає їй впевненість і рішучі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2. Бет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- експерт, який має спеціальні знання, навички або здібності, які групі завжди потрібні або які вона високо оцінює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. Гамм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переважно пасивні і легко пристосовуються до групи, які намагаються зберегти свою анонімні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Омег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- самий «крайній» член групи, який відстає від колективу через нездатність або якусь відмінності від інших або страх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. Р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- противник, опозиціонер, активно виступає проти лід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56520"/>
            <a:ext cx="9144000" cy="69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Дослідження М. Белбін свідчать про те, що для отримання дійсно ефективної групи необхідні вісім ролей. Серед них так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Голова.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Це людина, яка здійснює керівництво командою і координує її дії, дисциплінований, цілеспрямований і урівноважений, вміє добре слухати і говорити, розуміти потреби інш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Організатор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Це ініціативні, мобільні і найбільш впливові люди в групі, також зачасту беруть на себе роль голови, Їх сила полягає в їх прагненні досягти мети, але вони можуть бути надчуттєвими, дратівливими і нетерпляч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Мозковий центр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- генератор ідей, спрямовані в себе, є джерелом оригінальних ідей і пропозицій, найрозумніші члени команди, за характером стриман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Контролер-критик. -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умні, але  мають швидше аналітичний, ніж творчий, склад розуму, скрупульозні, менш товариські, тримаються осторонь від команди, але надійні, іноді нетактовні і байдуж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228600" y="228600"/>
            <a:ext cx="876312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uk-UA" sz="2300" spc="-1" strike="noStrike">
                <a:solidFill>
                  <a:srgbClr val="000000"/>
                </a:solidFill>
                <a:latin typeface="Arial"/>
              </a:rPr>
              <a:t>Дослідники резерву нових службовців.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- є популярними членами команди, екстраверти, товариські і ризиковані. Вони приносять в групу нові контакти, ідеї, удосконалення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uk-UA" sz="2300" spc="-1" strike="noStrike">
                <a:solidFill>
                  <a:srgbClr val="000000"/>
                </a:solidFill>
                <a:latin typeface="Arial"/>
              </a:rPr>
              <a:t>Трудоголіки.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- є практичними організаторами всієї діяльності компанії. Вони перетворюють ідеї в здійсненні завдання. Складання графіків, діаграм, планів виступає сильною стороною їх діяльності. Вони методичні й ефективні в роботі, вселяють довір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uk-UA" sz="2300" spc="-1" strike="noStrike">
                <a:solidFill>
                  <a:srgbClr val="000000"/>
                </a:solidFill>
                <a:latin typeface="Arial"/>
              </a:rPr>
              <a:t>Координатори команди.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-  згуртовують всю команду, підтримуючи інших, вислуховуючи їх, заохочуючи, вникаючи в усі, розуміючи все і вносячи в усі почуття гармонії і злагоди. Вони популярні і приємні, але вони не прагнуть до суперництв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uk-UA" sz="2300" spc="-1" strike="noStrike">
                <a:solidFill>
                  <a:srgbClr val="000000"/>
                </a:solidFill>
                <a:latin typeface="Arial"/>
              </a:rPr>
              <a:t>Детермінатор-завершувач.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Без детермінатора команда не могла б закінчити нічого до призначеного терміну. Вони перевіряють деталі, турбуються про графіки, докучають іншим необхідністю щось невідкладно зробит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00"/>
                </a:solidFill>
                <a:uFillTx/>
                <a:latin typeface="Arial"/>
              </a:rPr>
              <a:t>1.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uk-UA" sz="4000" spc="-1" strike="noStrike" u="sng">
                <a:solidFill>
                  <a:srgbClr val="000000"/>
                </a:solidFill>
                <a:uFillTx/>
                <a:latin typeface="Arial"/>
              </a:rPr>
              <a:t>Сутність групової динамі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685800" y="1092600"/>
            <a:ext cx="8037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сучасній літературі існує кілька значень термін «групова динаміка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Групова динамік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сукупність внутрішньогрупових соціально-психологічних процесів і явищ, зокрема таких як: прийняття рішень, вирішення проблем та ситуацій, управління конфліктами, комунікацій, мотивації та інших процесів, що характеризують весь цикл життєдіяльності малої групи, і його етапи: утворення, функціонування, розвиток, стагнація, регрес, розпа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Групова динамік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сукупність тих динамічних процесів, які одночасно відбуваються в групі у будь-який момент часу і які знаменують собою рух групи від стадії до стадії, тобто її розвит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228600" y="150840"/>
            <a:ext cx="87296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3) наступний фактор – це мотив людин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в групі, яка визначає його поведінку, роль та зачасту стат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Мотив 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це внутрішня спонукальна сила, яка примушує людину до здійснення певних дій або вести себе певним чин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омунікація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глядається як основа структури групи, показник фізичної та соціальної близькості індивідів, а не просто мовний, письмовий чи індивідуальний спосіб спілкув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роцеси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рупов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ї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згуртован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сті та г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упов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ї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напруг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04920" y="943920"/>
            <a:ext cx="845820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uk-UA" sz="2600" spc="-1" strike="noStrike">
                <a:solidFill>
                  <a:srgbClr val="000000"/>
                </a:solidFill>
                <a:latin typeface="Arial"/>
              </a:rPr>
              <a:t>Згуртованість групи -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це міра взаємного тяжіння членів групи один до одного і до групи. Згуртованість виражається в прагненні залишитися в групі, в прагненні до співпраці при вирішенні спільних завдань і до збереження групи. Згуртованість породжує емоційну прихильність членів групи і лояльне ставлення до загальних завдань, забезпечує групі стабільність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Arial"/>
              </a:rPr>
              <a:t>Показник згуртованості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- параметр, який показує, скільки людей однієї групи однаково ставляться до різних речей.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Примітка: людей сильніше об'єднують прихильності (до роботи, відпочинку, спорту і т.д.), звички і темпераменти, а не їх приналежність до того чи іншого поколі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304920" y="11962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Те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Які переваги згуртованих груп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) Групи добре працюють і можуть підвищити ефективність всієї організаці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 впливом згуртованості члени групи відчувають підтримку і відносну безпе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) В разі розбіжності цілей групи і цілей організації високий ступінь згуртованості може негативно позначитися на продуктивності праці всієї організаці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Члени такої групи не бажають мислити критично і приймати серйозні рішення внаслідок розвитку процесу групового однодумност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152280" y="464760"/>
            <a:ext cx="8686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uk-UA" sz="2600" spc="-1" strike="noStrike">
                <a:solidFill>
                  <a:srgbClr val="000000"/>
                </a:solidFill>
                <a:latin typeface="Arial"/>
              </a:rPr>
              <a:t>Групова напруга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 результаті взаємодії членів групи, що розрізняються за поглядами, позиціями, моделям поведінки, за своїми планами і потребам, в групі, природно, виникає напруг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152280" y="477720"/>
            <a:ext cx="86868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uk-UA" sz="2600" spc="-1" strike="noStrike">
                <a:solidFill>
                  <a:srgbClr val="000000"/>
                </a:solidFill>
                <a:latin typeface="Arial"/>
              </a:rPr>
              <a:t>Тест: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Які переваги групової напруги в колективі?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апруга виступає як стимулюючий фактор – веде до незадоволеності і прагнення щось змінити в собі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апруга може виражатися в агресивності, злості, роздратування, неприйняття, страху, відчуженн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апруга – це чинник, що стимулює членів групи до активності, змі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Г) У деяких випадках напруга призводить до відкритих конфлікті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5. Розвиток групи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52280" y="114084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діляють наступні стадії розвитку груп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1. Формування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Forming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. Учасники групи тільки вчаться взаємодіяти один з одним; на цій стадії її продуктивність мінімаль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Штор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Storming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Час напруженої боротьби за соціальні ролі і правила взаємодії, за якими команди буд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іяти дал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ормуванн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Norming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цій частині стадії розподіляються обов'язки, розвивається почуття ліктя, вільно передається інформа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обо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Performing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сягнення оптимального рівня функціонув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5. Руйнування (Розформування)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групи аб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ан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-239760" y="1600200"/>
            <a:ext cx="9423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00"/>
                </a:solidFill>
                <a:uFillTx/>
                <a:latin typeface="Arial"/>
              </a:rPr>
              <a:t>2. Типологія формування груп і коман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28600" y="1509480"/>
            <a:ext cx="876312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уп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— це сукупність двох і/або більше людей, які певним чином взаємодіють один з одним, усвідомлюють свою приналежність до цієї групи і вважаються членами цієї групи з погляду інш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Група має цілу низку психологічних характеристик, які притаманні її учасник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) часто взаємодіють один з одн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) визначають себе як члени однієї груп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) поділяють загальні норми з приводу того, що їх цікави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) беруть участь в єдиній системі поділу ро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5) ідентифікують себе з одними і тими ж об'єктами і ідеал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6) сприймають групу як джерело задоволе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7) знаходяться в кооперативній взаємозалежност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8) координують дії по відношенню до середовищ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Колектив м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жна розглядати як групу людей, які організаційно об‘єднані єдиною метою, єдиними цілями, і який можна віднести до проміжної ланки в процесі утворення коман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228600" y="123840"/>
            <a:ext cx="87631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571680"/>
                <a:tab algn="l" pos="13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снують різні критерії формування груп та коман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13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13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жче представлена ​​типологія, що виділяє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отири категорії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груп (команд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лежності від поставлених цілей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і завдань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13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орадча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(консультативно-дорадчі)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група, що утворюється для сприяння вирішенню питань, організації або удосконалення процесів у певній сфері чи галузі, а також з метою  координації діяльності інших структурних одиниць для вирішення конкретних завдань або доручень. Як правило має право лише обговорювати питання, а не вирішувати його. Консультативно-дорадчі органи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ожуть мати назву комісій, комітетів, рад, робочих груп, служб, журі тощо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Наприклад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13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бюджетний коміте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13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організаційний комітет фестивалю нау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13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атестаційна комісі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13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спостережна рад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13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«круглий стіл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13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групи, що займаються залученням працівників у процес управління – «гуртки якості», експертні служб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13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3352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Arial"/>
              </a:rPr>
              <a:t>виробнича </a:t>
            </a: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група, що сприяє розвитку і становленню відносин у виробничих колективах з певним циклом технологічного процесу, що відбуваються на основі трудової діяльност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Н</a:t>
            </a:r>
            <a:r>
              <a:rPr b="1" i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априклад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виробничі бригад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шахтарські бригад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ремонтні бригад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команди льотного складу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групи обробки даних та і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380880" y="463320"/>
            <a:ext cx="8515440" cy="55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сновних процесів, щ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и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ую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рупов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инамік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у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ідносять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ування місії, мети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іл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і завдань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рупи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або коман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м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вання (керівництво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кту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ванн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рупи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ові рол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облема лідерства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та мотивації, ефективної комунікаці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цеси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о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ї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гуртова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сті та 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по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ї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пруг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вит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руп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228600" y="228600"/>
            <a:ext cx="8686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проектн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- це сформована група з метою вирішення проблемних завдань, пов’язаних з переорієнтацією цілей організації або зміною шляхів їх досягнення на основі інвестицій та інновацій, де виконавці закріплені за проектом на період його життєвого циклу і повністю підпорядковані менеджеру проекту, в той час як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матрична структура груп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- складається з фахівців відповідних функціональних відділів вже діючої структури та новоствореної проектної груп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Наприкла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дослідницька груп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група плануванн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інженерна груп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група проектувальни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4"/>
          <p:cNvSpPr/>
          <p:nvPr/>
        </p:nvSpPr>
        <p:spPr>
          <a:xfrm>
            <a:off x="380880" y="228600"/>
            <a:ext cx="84582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група дій </a:t>
            </a: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формується, як правило, у статусі тимчасового утворення з метою здійснення чого-небудь або вчинення певних дій, видів діяльності у визначені строки або для виконання конкретних завдань на практиці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Наприклад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спортивна команда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група для розваг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експедиція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команда на переговорах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бригада хірургів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військовий підрозді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04920" y="125280"/>
            <a:ext cx="8458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безпосередністю взаємозв'язків групи можна поділити 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овні та реальні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Умовні груп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об'єднуються за певною ознакою (стать, вік, рівень освіти, вид діяльності, національність та ін.) і включають у себе людей, які не пов'язані об'єктивною, реальною взаємодією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, що утворюють цю спільноту, ніколи не зустрічаються і нічого не знають один про од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альна груп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це обмежена за розмірами спільність людей, яка існує у спільному просторі й часі та поєднується реальними стосунками взаємодії й спілкування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Наприклад: ми все життя проводимо в групах: сім'я, дитсадок, школа, робота і так далі, тобто будь-яке співтовариство людей, починаючи від натовпу пасажирів, які очікують поїзда на вокзальній платформі, і закінчуючи командою загону космонавтів, здійснює свою життєдіяльність груподинаміч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Тес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До умовних груп належать такі категорії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) молодь та пенсіонер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) українці, італійці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) спеціалісти, робітники та ін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) сім‘я, школа, університ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) група у соціальних мереж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) бригада хірургі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Ж) кабінет міністрів та ін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04920" y="320400"/>
            <a:ext cx="8534160" cy="60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За характером зв'язків усередині організації розрізняють </a:t>
            </a: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формальні та неформальні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об'єднання працівників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Наслідком структурування фірми по горизонталі та вертикалі є формальні групи. Їх кількість відповідає кількості структурних одиниць (підрозділів) фір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Формальні групи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 — об'єднання людей у межах організації, ство­рені за рішенням вищого керівництва для виконання певних функці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Формальна структура залежить від офіційного розподілу обов'язків, типу завдань для членів групи, їх взаємодії в процесі праці, переліку знань, умінь і навичок, якими повинні володіти члени команди; терміни виконання поставленого завдання; ступінь контролю робочої групи з боку керівництв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304920" y="152280"/>
            <a:ext cx="83818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Наприклад, до формальних груп відносять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0" i="1" lang="uk-UA" sz="2500" spc="-1" strike="noStrike">
                <a:solidFill>
                  <a:srgbClr val="000000"/>
                </a:solidFill>
                <a:latin typeface="Arial"/>
              </a:rPr>
              <a:t>керівні групи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 (топ-менеджери та їхні команди, які розробляють стратегічні рішення і вирішують ключові питання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0" i="1" lang="uk-UA" sz="2500" spc="-1" strike="noStrike">
                <a:solidFill>
                  <a:srgbClr val="000000"/>
                </a:solidFill>
                <a:latin typeface="Arial"/>
              </a:rPr>
              <a:t>робочі групи -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взаємодіють між собою перш за все для того, щоб обмінятися інформацією, досвідом роботи або для визначення перспективи і прийняття рішень, щоб допомогти кожному працювати в межах його області відповідальності (постійні групи, об'єднані виконан­ням спільного завдання: наприклад, групи якості, група розслідування нещасних випадків на виробництві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0" i="1" lang="uk-UA" sz="2500" spc="-1" strike="noStrike">
                <a:solidFill>
                  <a:srgbClr val="000000"/>
                </a:solidFill>
                <a:latin typeface="Arial"/>
              </a:rPr>
              <a:t>цільові групи, або комітети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 (мають право на гру­пове прийняття рішень і створені для реалізації певних завдань чи проектів; вони можуть бути тимчасовими і постійними — ради, комісії, проектні команди тощо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380880" y="306000"/>
            <a:ext cx="853452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Неформальна група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 — спонтанно утворене об'єднання людей, які вступають у взаємодію для досягнення певних ціл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еформальна структур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утворюється на основі взаємин, що склалися в процесі взаємодії членів груп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Така структура визначається значною кількістю ситуативних та особистісних факторів: професійні та комунікаційні знання і здібності, життєвий досвід, і політичні та релігійні уподобання, особисті якості людини тощ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152280" y="325080"/>
            <a:ext cx="8991720" cy="59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а кількісним складом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 групи бувають великими, середніми і малими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.  Чисельність групи залежить від багатьох факторів, основними з яких є місія, цілі і завдання, які визначення і термін їх виконанн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Велика група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- це кількісно необмежена умовна (за статтю або віком, професією) чи реальна спільність людей (мітинги і збори, революції, війни), яка виділяється на основі певних ознак у межах всього суспільства (класової приналежності, статі, віку, національності, професії). У великих групах виробляються норми поведінки, громадські культурні традиції, громадська думка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Приклади: До великих груп належ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- суспільні класи (робітники, селяни, інтелігенці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- соціальні прошарки (підприємці, фермери, державні службовці, партійні член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- професійні групи (машинобудівники, педагоги, будівельники і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- етнічні спільності (нація, народ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- вікові групи (молодь, середній вік, пенсіонер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152280" y="507240"/>
            <a:ext cx="8610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о середніх груп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належать трудові колективи підприємств, організацій і установ (юридичних осіб), а також громадян, які характеризуються територіальною спільністю проживання (місто, район, селищ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ала група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характеризується безпосереднім контактом її членів і спільним обміном інформаціє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До різноманітних малих груп відносяться такі групи, я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сім'я, дружні компанії, шкільний клас, виробнича бригада група підтримки і т.п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52280" y="298800"/>
            <a:ext cx="8839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няття кількості групи має відносне значення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па може бути або дуже маленькою, або занадто велик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інімальна чисельність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малої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рупи - 2 людини, максимальна - до 40 осіб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ладність викликає визначення оптимальної чисельн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ерший поріг становить кількість 7 ± 2 члени груп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Дослідження свідчать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м більше команда і проект, тим складніше буде вирішити задачу.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 тому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им більше група, тим нижче продуктивність кожного. При збільшенні групи від 1 до 12 осіб середні зусилля, прикладені кожним, зменшуються приблизно на 10%.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Це пов'язано з такими груповими явищами, як, по-перше, конформізм (підпорядкування окремого члена групи думці і рішенню всіх інших) і конфліктність, по-друге, прийняття групового рішення і, по-третє, цілісність або роздробленість на угрупов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Формування місії, мети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іл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е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і завдань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руп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28600" y="635400"/>
            <a:ext cx="8686800" cy="60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Рис. нижче. Дерево ці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Місія.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ісія, або призначення, визначає причини існування групи або команди. Місія відповідає на питання, чому група або команда існує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Мета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є бажаною кінцевою точкою групового процесу, з досягнення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якої пов'язаний успіх проекту або важливої робо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Наприклад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мета виробничої групи - досягнення випуску продукції;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груп взаємодопомоги - взаємна підтримка і консультування і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Цілі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груп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- це конкретні кінцеві результати або стану, які повинні бути досягнуті групою або командою для реалізації її місії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Завдання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це дії, необхідні для досягнення мети. Формулювання завдань включає розгляд питання про ресурсах, необхідних для виконання завда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Британські фахівці з формування команд  виділяють три типи завдан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прості завдання, що мають технічну природ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звичайні завдання з помірним ступенем невизначеност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завдання з високим ступенем невизначеності і щодо складними проблемами, що мають значення для всіх зацікавлених сторі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228600" y="-145080"/>
            <a:ext cx="86104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ий критичний поріг визначається кількістю 14 ± 2 людин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акий групі властиві свої особливості. У ній представлений набагато більший спектр індивідуальних інтересів, думок, оцінок пропозицій, можливостей для функціонального розподілу ролей. Група з чотирнадцяти чоловік домагається ефективності за рахунок конформізму її членів і в результаті групового обговор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тій критичний поріг визначається кількістю 25 ± 2 люди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-перше, це межа функціонування групи як єдиного цілого. При більшій кількості людей група обов'язково розпадається на підгрупи. По-друге, при взаємодії індивідів в такій групі можливо розбивка на дві-три підгрупи, між якими відбувається зіставлення думок і позицій з широкого кола питань. Однак таке розбиття може бути досить короткочасно і ситуативно, оскільки зазвичай двадцять чоловік цілком здатні виступити як єдине ціле. По-третє, в таких групах більше можливостей для взаємозамі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228600" y="279360"/>
            <a:ext cx="87631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700" spc="-1" strike="noStrike">
                <a:solidFill>
                  <a:srgbClr val="000000"/>
                </a:solidFill>
                <a:latin typeface="Arial"/>
              </a:rPr>
              <a:t>Існує багато тлумачень терміну «команда», суть їх відрізняється зовнішніми та внутрішніми проявам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До перших можна віднести такі визначення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оманда – в широкому сенсі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трудовий колектив з високим рівнем згуртованості, прихильності всіх працівників загальним цілям і цінностям організації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оманда –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група індивідів, які розподіляють між собою робочі операції і відповідальність за отримання конкретних результатів, що мають спільні цілі, взаємодоповнюючі навички та вміння, високий рівень взаємозалежності і розділяють відповідальність за досягнення кінцевих результатів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228600" y="336240"/>
            <a:ext cx="868680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о другого типу визначень варто віднести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манд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колектив однодумців, згуртованих навколо свого лідера, який одночасно є і вищою посадовою особою в даній організації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оманда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–  це група креативних людей згуртованих навколо одного лідера, що займаються спільною справою із задоволенням, поєднують свою особисту мету із загальною, і свідомо взаємодіють один з одним для її досягнення, а результатом їхньої справи є якісно новий продукт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0" y="3276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оловною відмінністю команд від традиційних формальних груп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або колективів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є наявність синергічного ефек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 даних визначеннях підкреслю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ю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ься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такі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важливі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характеристик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ман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заємозалежність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ожен член команди вносить свій індивідуальний внесок у загальну роботу. Інші члени команди залежать від роботи кожного. У команді всі діляться робочою інформацією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дин з одни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Члени команди також сприймаються як рівноправні учасники процессу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т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мають можливість впливати одна на одн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олективна відповідальність.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ідповідальність за командні цілі розуміється і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іляється всіма.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анди надають значення як індивідуальній роботі кожного з її членів, так і загального результату.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езультат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Результат роботи команди залежить від особистого внеску кожного її члена у досягнення мети в тісній взаємодії. Відповідальність за командні результати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зділяється всіма членами групи і фокусує групову активніс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152280" y="262440"/>
            <a:ext cx="8839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1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uk-UA" sz="2100" spc="-1" strike="noStrike">
                <a:solidFill>
                  <a:srgbClr val="000000"/>
                </a:solidFill>
                <a:latin typeface="Arial"/>
              </a:rPr>
              <a:t>Місія і цілі. 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Члени команд концентруються на спільному досягненні вищих цілей, що в поєднанні зі специфікою виконання завдань робить їх сильно зацікавленими в результатах своєї діяльності. Наприклад стати провідною компанією у своєму регіоні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1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uk-UA" sz="2100" spc="-1" strike="noStrike">
                <a:solidFill>
                  <a:srgbClr val="000000"/>
                </a:solidFill>
                <a:latin typeface="Arial"/>
              </a:rPr>
              <a:t>Менеджмент. 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Команди</a:t>
            </a:r>
            <a:r>
              <a:rPr b="0" i="1" lang="uk-UA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повинні володіти високим ступенем свободи і бути в змозі самостійно встановлювати проміжні цілі, займатися розрахунком часу, виконання роботи і мати можливість максимально наблизити результати до поставленої мети. Всі ці дії повинні відбуватися без втручання з боку керівництва або при його мінімальній залученості в процес роботи команд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152280" y="259200"/>
            <a:ext cx="88394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100" spc="-1" strike="noStrike">
                <a:solidFill>
                  <a:srgbClr val="000000"/>
                </a:solidFill>
                <a:latin typeface="Arial"/>
              </a:rPr>
              <a:t>Визначення, що поєднує вказані вище характеристики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100" spc="-1" strike="noStrike">
                <a:solidFill>
                  <a:srgbClr val="000000"/>
                </a:solidFill>
                <a:latin typeface="Arial"/>
              </a:rPr>
              <a:t>Командою називають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невелику групу людей (найчастіше 5-7 чоловік, рідше до 15-20), які поділяють цілі, цінності та спільні підходи до реалізації спільної діяльності, мають взаємодоповнюючі навички; приймають на себе відповідальність за кінцеві результати, здатні змінювати функціонально-рольову співвіднесеність (виконувати будь-які внутрішньогрупові ролі); мають взаємовизначальну приналежність - свою і партнерів - до цієї групі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228600" y="370440"/>
            <a:ext cx="8763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анди прийнято розрізняти по декількох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араметра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. Залежно від спосоду організації виконання поставленого завдання і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нує два основних типи команд: крос-функціональні і інтактні коман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Крос-функціональн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команда формується з представників різних підрозділів формальної організації і відображає їх інтереси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членів команди робота над завданням є вторинною по відношенню до їх основної робо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Інтактна команд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інтактний - незайманий, непошкоджений, цілий) є виробничим підрозділом або довготривало існуючою робочою групою, що виробляє певний продукт або послугу. Досить розвинені, зрілі, самоврядні, автономні інтактні команди можуть функціонувати як невеликі підприєм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228600" y="256680"/>
            <a:ext cx="86868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залежності від командних зусиль - ефективності взаємодії членів груп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севдокоман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це група, у як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ї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є потреба в підвищенні ефективності спільної праці, є можливість стати командою, але вона не зосереди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я на колективному виконанні роботи і не намагається робити це. У псевдокоманди негативна синергія - сума цілого менше, ніж потенціал індивідуальних част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тенційна коман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це група, у якій має місце суттєва потреба в підвищенні ефективності спільної праці, і вона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магаєть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це робити. Однак, як правило, такій команді не вистачає ясності щодо направлення, цілей і процесу виконання робо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3. Реальна команд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- це невелике число людей з взаємодоповнюючими навичками, які віддані загальному напрямку і цілям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ни усвідомлюють, що кожен з них важливий для ефективного виконання роботи, але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щ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овністю реалізували с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сокоефективна коман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це реальна команда, члени якої мають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ути високовідповідальни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щодо виконання командної роботи. Методи роботи і взаємодії в групі сприяють персонально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осту й успіху членів команди. Такі групи мають надлиш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синергії і домагаються результату, який перевершує очікування оточуюч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«Дерево цілей»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– це графічне зображення взаємозв’язку і підпорядкованості цілей, що відображає розподіл місії і мети на цілі, під цілі, завдання та окремі дії. При конструюванні «дерева цілей» важливу роль відводять таким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івням (рис.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2967120" y="586728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Дерево ці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10" descr="C:\DOCUME~1\User\LOCALS~1\Temp\FineReader10\media\image12.jpeg"/>
          <p:cNvPicPr/>
          <p:nvPr/>
        </p:nvPicPr>
        <p:blipFill>
          <a:blip r:embed="rId1"/>
          <a:stretch/>
        </p:blipFill>
        <p:spPr>
          <a:xfrm>
            <a:off x="1523880" y="1219320"/>
            <a:ext cx="6858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380880" y="336600"/>
            <a:ext cx="853452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Наприклад, проект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«Сонячні дерева для зарядки мобільних пристроїв у Гідропарку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Місія: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стійкий соціально-культурний розвиток територій за рахунок покращення екосисте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Мета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проекту: впровадження нових інформаційних технологій на основі застосування альтернативних джерел енергії у дозвіллі, покращення рівня життя населення і комунікаці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Цілі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: (наприклад, в розрізі комерційних, соціальних, економічних та професійних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1.Встановити 5 «Сонячних дерев» для зарядки мобільних пристроїв у Гідропар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2.Облаштувати навколишній простір тротуарними стежками, квітковими клумбами та лавками для відпочин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3.Створити ігровий дитячий майданчик для дітей віком 1-8 рокі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154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м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ування (керівництво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руп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28600" y="1014120"/>
            <a:ext cx="86104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Під керівництвом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в даному випадк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розуміються основоположні правила або норми, що визначають, як команда буде виконувати свою роботу і як члени команди будуть вести себе по відношенню один до одн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Норми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являють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собою сукупність неписаних правил і вимог, стандартів поведінки, що регулюють взаємовідносини і взаємодії між її учас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ові норми визначають, що припустимо і неприпустимо в групі, бажано і небажано, що правильно і неправиль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рми можна розділити на дві категорії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1) Н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рми, які спочатку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визначає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ерівник групи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лежать від 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ерівництва - це типова для керівника (лідера) система прийомів впливу на підлеглих. Тобт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иль керівництва визначає ставлення його до підлеглих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іляють такі типи стилів керівниц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автократич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демократич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лібераль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533520" y="121680"/>
            <a:ext cx="8229600" cy="58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Автократичний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це стиль, орієнтований на роботу.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бота і досягнення результату за всяку ціну - головні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складові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автократичного стилю.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Демократичний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 стиль керівництва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- це природний стиль. У цьому випадку керівник розподіляє і відповідальність, і роботу між підлеглими, делегуючи їм досить високий або природний ступінь свободи і влад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uk-UA" sz="2500" spc="-1" strike="noStrike">
                <a:solidFill>
                  <a:srgbClr val="000000"/>
                </a:solidFill>
                <a:latin typeface="Arial"/>
              </a:rPr>
              <a:t>Ліберальний </a:t>
            </a:r>
            <a:r>
              <a:rPr b="0" i="1" lang="uk-UA" sz="2500" spc="-1" strike="noStrike">
                <a:solidFill>
                  <a:srgbClr val="000000"/>
                </a:solidFill>
                <a:latin typeface="Arial"/>
              </a:rPr>
              <a:t>стиль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 – передбачає повну свободу підлеглих в ухваленні власних рішень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0000"/>
                </a:solidFill>
                <a:latin typeface="Arial"/>
              </a:rPr>
              <a:t>2) Н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орми, вироблені группою</a:t>
            </a: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наприклад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) гордість за організацію; 2) досягнення цілей; 3) прибутковість; 4) колективна праця;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5) планування; 6) контроль; 7) професійна підготовка кадрів; 8) нововведення; 9) відносини з замовником; 10) захист чесност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Тест-ситуація (обрати правильну відповідь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Ліберальний стиль в компанії, якщ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немає серйозного контролю за колективною роботою, тому працівники розслабляють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виникнення неформальних груп і неофіційних лідері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) керівник несе повну відповідальність за дії свої підлегл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) несприятлива соціально-психологічна обстановка в колектив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) підходить лише для виробничих цех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ександра</dc:creator>
  <dc:description/>
  <dc:language>en-US</dc:language>
  <cp:lastModifiedBy>Олександра</cp:lastModifiedBy>
  <dcterms:modified xsi:type="dcterms:W3CDTF">2021-09-21T06:51:48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