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03FA-A0F9-4A7A-AD1A-A0189643F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43E0-67A4-4BF2-94FF-59D1E71D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0333-B53B-4F85-987E-2A34685CC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61FF-F4BE-48E4-ACC3-341DCC168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DBA3-7BCA-4002-9247-7A64EC05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8EEB-8DEC-43D6-8AE8-64D8BFE6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2BFE-956C-4DFE-B6CA-5F47EAA5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550F-809B-4C3B-887E-65E86070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61C8-C6B6-4CC7-B114-A735AB31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B175-66F4-4F03-8E07-525DA8BC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8EC2-E990-4724-9643-7AEE94FA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1280-0B58-4E64-AEBC-CE38B850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B609-BF53-4EF2-B150-854F49966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ЕТАПИ ТА РІВНІ ОСОБИСТІСНОГО РОЗВИТКУ ЛЮДИ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09680" y="3048120"/>
            <a:ext cx="487692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10666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00ff"/>
                </a:solidFill>
                <a:latin typeface="Arial"/>
              </a:rPr>
              <a:t>Класифікація чинників формування особистості А. Мудрік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220968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мегафактор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312408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макрофактор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403848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мезофактор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1981080"/>
            <a:ext cx="0" cy="3353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44197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35053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25909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95288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мікрофакт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53341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9144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Види соціалізації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523880"/>
            <a:ext cx="8001000" cy="60984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стихійну соціалізацію людини у взаємодії і під впливом об’єктивних обставин життя суспільс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2286000"/>
            <a:ext cx="8001000" cy="5335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відносно спрямовувану соціалізаці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2971800"/>
            <a:ext cx="8001000" cy="5335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ідносно соціально контрольовану соціалізаці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3657600"/>
            <a:ext cx="8001000" cy="5335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більш або менш свідому соціалізацію люди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1371600"/>
            <a:ext cx="0" cy="2514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388620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320040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251460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82880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rcRect l="0" t="12662" r="0" b="18993"/>
          <a:stretch/>
        </p:blipFill>
        <p:spPr>
          <a:xfrm>
            <a:off x="1523880" y="4419720"/>
            <a:ext cx="60199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7621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Джерела соціалізації особистості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1371600"/>
            <a:ext cx="8001000" cy="8380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ервинний досві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2362320"/>
            <a:ext cx="8001000" cy="7617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ультурно-соціальний досві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3276720"/>
            <a:ext cx="8001000" cy="7617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ктивність самої особистості у виборі знань та їх осмисленн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1219320"/>
            <a:ext cx="0" cy="2438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656160"/>
            <a:ext cx="228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2741760"/>
            <a:ext cx="228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1827360"/>
            <a:ext cx="228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rcRect l="0" t="3431" r="0" b="50219"/>
          <a:stretch/>
        </p:blipFill>
        <p:spPr>
          <a:xfrm>
            <a:off x="1295280" y="4343400"/>
            <a:ext cx="66675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Змі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504800"/>
            <a:ext cx="9144000" cy="914400"/>
          </a:xfrm>
          <a:prstGeom prst="rect">
            <a:avLst/>
          </a:prstGeom>
          <a:solidFill>
            <a:srgbClr val="80808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447920"/>
            <a:ext cx="86868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тапи особистісного зрост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647800"/>
            <a:ext cx="9144000" cy="860400"/>
          </a:xfrm>
          <a:prstGeom prst="rect">
            <a:avLst/>
          </a:prstGeom>
          <a:solidFill>
            <a:srgbClr val="80808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2571840"/>
            <a:ext cx="8686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івні розвитку люд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714840"/>
            <a:ext cx="9144000" cy="860400"/>
          </a:xfrm>
          <a:prstGeom prst="rect">
            <a:avLst/>
          </a:prstGeom>
          <a:solidFill>
            <a:srgbClr val="80808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638520"/>
            <a:ext cx="8686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жерела і чинники формування особистос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685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Етапи процесу особистісного зростанн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14300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 етап «моє ідеальне «я»: чого людина хоче від життя і ким прагне стати – так вона уявляє картину бажаного стану реч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990720"/>
            <a:ext cx="0" cy="4876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152388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2057400"/>
            <a:ext cx="8001000" cy="12193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 етап «моя реальна сутність»: як людина проявляє себе і як її сприймають оточуючі – порівняння реальної сутності з ідеальним «я» дозволяє виявити свої переваги і недоліки – так людина підводить «особистісний баланс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25909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3429000"/>
            <a:ext cx="8001000" cy="9907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 етап «моя програма самовдосконалення»: з її допомогою людина може знайти застосування своїм сильним сторонам, а також наблизитися до свого ідеалу і можливо подолати якісь слабкі сторо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88620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4572000"/>
            <a:ext cx="8001000" cy="6858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 етап – випробування на практиці нових способів поведінки, тренування нових навичок, зміцнення і розвиток позитивних якос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48769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410080"/>
            <a:ext cx="8001000" cy="9144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 етап – встановлення і підтримка тісних особистісних стосунків з оточуючими. Гармонійні стосунки з людьми допоможуть нам здійснити зміни і розвинути лідерський потенціа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586728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0880" y="1676520"/>
            <a:ext cx="8382240" cy="12189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агатокомпонентний процес розвитку та самовдосконалення люди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19720" y="1219320"/>
            <a:ext cx="0" cy="4572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Arial"/>
              </a:rPr>
              <a:t>Рівень особистісного розвит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905120" y="3276720"/>
            <a:ext cx="518148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82240" cy="9144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Рівні особистісного розвитку людин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1600200"/>
            <a:ext cx="8001000" cy="5335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неприродний рівен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286000"/>
            <a:ext cx="8001000" cy="5335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«тваринний» або інстинктивний рівен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2971800"/>
            <a:ext cx="8001000" cy="5335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2) «біороботи» (зомбі, соціальні наркоман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3657600"/>
            <a:ext cx="8001000" cy="5335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3) «демонічний» рівень (рівень начальник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447920"/>
            <a:ext cx="0" cy="3809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388620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320040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251460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182880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4343400"/>
            <a:ext cx="8001000" cy="5335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людяний рівен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457200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5029200"/>
            <a:ext cx="8001000" cy="5335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просвітлений (мудрец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525780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80880" y="1981080"/>
            <a:ext cx="3429000" cy="1905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ff"/>
                </a:solidFill>
                <a:latin typeface="Arial"/>
              </a:rPr>
              <a:t>Зміни всередині особистісної нор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38480" y="1981080"/>
            <a:ext cx="4724640" cy="289584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Людина була категоричною, запальною, образливою, не відчувала партнера – коли ліквідувала ці недоліки і стала вести себе цілком достойно, у неї відбулося особистісне зроста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988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9880" y="28954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1600200"/>
            <a:ext cx="0" cy="38088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82240" cy="9144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Arial"/>
              </a:rPr>
              <a:t>Малий особистісний рі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80880" y="1981080"/>
            <a:ext cx="3429000" cy="1905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ff"/>
                </a:solidFill>
                <a:latin typeface="Arial"/>
              </a:rPr>
              <a:t>Вихід за межі нор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1981080"/>
            <a:ext cx="4724640" cy="289584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Людина здобула лідерські якості, навчилася працювати з собою самостійно, набула життєвої стійкості, гарантовано захищена від депресії і алкоголіз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988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3372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28954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33720" y="1600200"/>
            <a:ext cx="0" cy="38088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82240" cy="9144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Arial"/>
              </a:rPr>
              <a:t>Великий особистісний рі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10666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Чинники соціалізації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220968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ечовинно-предмет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312408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оціально-інституціональ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403848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інформаційний (засоби масової інформації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981080"/>
            <a:ext cx="0" cy="2438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44197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35053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25909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10666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Чинники формування особистості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220968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формування етнічних установ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312408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плив регіональних умов, у яких живе й розвивається особисті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403848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ип поселен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981080"/>
            <a:ext cx="0" cy="3353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44197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35053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25909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495288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асоби масової комуніка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53341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9T13:02:29Z</dcterms:created>
  <dc:creator>Viacheslav Tkachuk</dc:creator>
  <dc:description/>
  <dc:language>en-US</dc:language>
  <cp:lastModifiedBy> Main User</cp:lastModifiedBy>
  <dcterms:modified xsi:type="dcterms:W3CDTF">2021-09-14T23:02:0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