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255-9D4F-4C1A-8082-C82E20A0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D93-B1AD-444A-8D2A-709A47BD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0BE-D302-48C1-8E92-3D67992A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8A0-FEFE-4E55-A26A-60D37C82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813-4968-4F12-8ECC-C2BBF3D1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47B-57BF-48B6-9FBB-76760B4A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FA1-68EF-4C27-9C6B-65C129F0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5DC-F7FB-45CD-A087-F2FCE181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8B7-692E-47F9-BE70-E0BDF563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856-AC0E-4305-99BB-65C0D287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5914-45A8-49BE-8D86-41B3B6E0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6D7-209D-4CA1-9BB4-7C7EDEB8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0491-B27E-47CA-8AB6-BCDE43964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ЕТАПИ ТА РІВНІ ОСОБИСТІСНОГО РОЗВИТКУ ЛЮД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06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ff"/>
                </a:solidFill>
                <a:latin typeface="Arial"/>
              </a:rPr>
              <a:t>Класифікація чинників формування особистості А. Мудрі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егафакт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1240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акрофакт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0384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езофакт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81080"/>
            <a:ext cx="0" cy="3353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505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590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9528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ікрофа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Види соціалізації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523880"/>
            <a:ext cx="8001000" cy="609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тихійну соціалізацію людини у взаємодії і під впливом об’єктивних обставин життя суспі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22860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відносно спрямовувану соціалізаці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9718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ідносно соціально контрольовану соціалізаці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36576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більш або менш свідому соціалізацію люд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371600"/>
            <a:ext cx="0" cy="2514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8862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2004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146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8288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0" t="12662" r="0" b="18993"/>
          <a:stretch/>
        </p:blipFill>
        <p:spPr>
          <a:xfrm>
            <a:off x="1523880" y="4419720"/>
            <a:ext cx="6019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7621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Джерела соціалізації особистості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1371600"/>
            <a:ext cx="8001000" cy="8380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винний досві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362320"/>
            <a:ext cx="800100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ультурно-соціальний досві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3276720"/>
            <a:ext cx="800100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ктивність самої особистості у виборі знань та їх осмислен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219320"/>
            <a:ext cx="0" cy="243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656160"/>
            <a:ext cx="228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2741760"/>
            <a:ext cx="228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827360"/>
            <a:ext cx="228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3431" r="0" b="50219"/>
          <a:stretch/>
        </p:blipFill>
        <p:spPr>
          <a:xfrm>
            <a:off x="1295280" y="4343400"/>
            <a:ext cx="6667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Змі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04800"/>
            <a:ext cx="9144000" cy="91440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6868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тапи особистісного зрост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47800"/>
            <a:ext cx="9144000" cy="86040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57184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івні розвитку лю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714840"/>
            <a:ext cx="9144000" cy="860400"/>
          </a:xfrm>
          <a:prstGeom prst="rect">
            <a:avLst/>
          </a:prstGeom>
          <a:solidFill>
            <a:srgbClr val="8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3852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жерела і чинники формування особист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Етапи процесу особистісного зростанн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14300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етап «моє ідеальне «я»: чого людина хоче від життя і ким прагне стати – так вона уявляє картину бажаного стану ре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990720"/>
            <a:ext cx="0" cy="4876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5238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057400"/>
            <a:ext cx="8001000" cy="12193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 етап «моя реальна сутність»: як людина проявляє себе і як її сприймають оточуючі – порівняння реальної сутності з ідеальним «я» дозволяє виявити свої переваги і недоліки – так людина підводить «особистісний баланс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590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429000"/>
            <a:ext cx="8001000" cy="990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 етап «моя програма самовдосконалення»: з її допомогою людина може знайти застосування своїм сильним сторонам, а також наблизитися до свого ідеалу і можливо подолати якісь слабкі сторо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862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4572000"/>
            <a:ext cx="8001000" cy="6858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 етап – випробування на практиці нових способів поведінки, тренування нових навичок, зміцнення і розвиток позитивних як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876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410080"/>
            <a:ext cx="800100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 етап – встановлення і підтримка тісних особистісних стосунків з оточуючими. Гармонійні стосунки з людьми допоможуть нам здійснити зміни і розвинути лідерський потенці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58672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1676520"/>
            <a:ext cx="8382240" cy="12189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агатокомпонентний процес розвитку та самовдосконалення люд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121932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Рівень особистісного розвит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05120" y="3276720"/>
            <a:ext cx="51814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Рівні особистісного розвитку люди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неприродний рів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2860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«тваринний» або інстинктивний рів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9718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2) «біороботи» (зомбі, соціальні наркоман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36576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3) «демонічний» рівень (рівень началь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447920"/>
            <a:ext cx="0" cy="3809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8862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32004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25146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8288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3434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людяний рів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45720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5029200"/>
            <a:ext cx="8001000" cy="533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просвітлений (мудрец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2578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1981080"/>
            <a:ext cx="3429000" cy="1905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Arial"/>
              </a:rPr>
              <a:t>Зміни всередині особистісної нор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1981080"/>
            <a:ext cx="4724640" cy="2895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юдина була категоричною, запальною, образливою, не відчувала партнера – коли ліквідувала ці недоліки і стала вести себе цілком достойно, у неї відбулося особистісне зрос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8954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600200"/>
            <a:ext cx="0" cy="3808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Малий особистісний рі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1981080"/>
            <a:ext cx="3429000" cy="1905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Arial"/>
              </a:rPr>
              <a:t>Вихід за межі нор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1981080"/>
            <a:ext cx="4724640" cy="2895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юдина здобула лідерські якості, навчилася працювати з собою самостійно, набула життєвої стійкості, гарантовано захищена від депресії і алкоголі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2895480"/>
            <a:ext cx="22860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1600200"/>
            <a:ext cx="0" cy="38088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Великий особистісний рі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06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Чинники соціалізації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2096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ечовинно-предмет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1240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ціально-інституціональ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0384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інформаційний (засоби масової інформації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81080"/>
            <a:ext cx="0" cy="2438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505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590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0666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Чинники формування особистості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22096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ормування етнічних установ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1240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плив регіональних умов, у яких живе й розвивається особисті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ип поселе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81080"/>
            <a:ext cx="0" cy="3353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5053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590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4952880"/>
            <a:ext cx="8001000" cy="7621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соби масової комунік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1-09-14T23:02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