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440-2067-4626-93DA-4EBDF567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29A-5AED-4BD0-A9EB-27AA28D7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E17-EC0A-4D50-8147-3D5D0AE9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C01-F330-4FC3-A801-9B781364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A6F-C066-421E-9164-7B13E0F4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BB2-AC6D-4F13-996F-6A24F3C9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89E-0043-442A-9A1D-866FD96F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8F9-B8A8-4998-A517-0922A175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55E-0AA6-45AF-B63C-9C9097B3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80D-95BE-4D30-A466-1344942E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0A7-CF0E-44DA-99FE-DCF18725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C2E-F9F6-4A25-B630-58149E84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2388-51BC-4DC8-A5AC-BF2D1AF52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СУТНІСТЬ, РУШІЙНА СИЛА ТА ЧИННИКИ РОЗВИТКУ ОСОБИСТ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38280" y="3048120"/>
            <a:ext cx="42674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62520" y="1981080"/>
            <a:ext cx="4800600" cy="2514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ріст організму, певні кількісні та якісні зміни на основі біологічних процес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152388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15627" t="0" r="7810" b="0"/>
          <a:stretch/>
        </p:blipFill>
        <p:spPr>
          <a:xfrm>
            <a:off x="380880" y="1981080"/>
            <a:ext cx="3276720" cy="2514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Фізичний розвит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Показники функціонального стану людин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2952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еробна витривал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9810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швидкісна витривал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6668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илова витривал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3526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швидкісно-силова витривал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143000"/>
            <a:ext cx="0" cy="5181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5812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8954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2096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5238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0384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нучк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267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7242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швидк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9528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4100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инамічна м’язова си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6386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60958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росто-вагові характеристики і пропорції тіла та і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3244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Індекси фізичного розвитку люди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828800"/>
            <a:ext cx="800100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9999"/>
                </a:solidFill>
                <a:latin typeface="Arial"/>
              </a:rPr>
              <a:t>вагово-ростовий індекс Кет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447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267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124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133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819520"/>
            <a:ext cx="800100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9999"/>
                </a:solidFill>
                <a:latin typeface="Arial"/>
              </a:rPr>
              <a:t>вагово-ростовий індекс Бро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8862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9999"/>
                </a:solidFill>
                <a:latin typeface="Arial"/>
              </a:rPr>
              <a:t>грудинно-ростовий інде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0" y="1981080"/>
            <a:ext cx="4114800" cy="4114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Характеризується процесами змін і становлення психіки людин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52388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436920" cy="3448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15328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Психічний розвит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ff"/>
                </a:solidFill>
                <a:latin typeface="Arial"/>
              </a:rPr>
              <a:t>Типові особливості психічного розвитку індиві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06668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уперечності як основа психічного розвит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67652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перервність психічного розвит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2860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искретні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97180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зворотні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914400"/>
            <a:ext cx="0" cy="5334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2004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5146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9051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2952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8098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58128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аємозв’язок психічного з іншими напрямами розвит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19112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рівномірні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480060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рехід від нижчих психічних структур до вищ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50292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41008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«спіралеподібний» характер розвитку психі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601992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аємозв’язок кількісних і якісних змін психі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56386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2485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0" y="1981080"/>
            <a:ext cx="4114800" cy="4114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ирізняється процесом оволодіння людиною соціальним досвідом (мовою, моральними якостями та ін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152388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15328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Соціальний розвит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7146" t="0" r="25004" b="0"/>
          <a:stretch/>
        </p:blipFill>
        <p:spPr>
          <a:xfrm>
            <a:off x="533520" y="2209680"/>
            <a:ext cx="358128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066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Чинники розвитку людини, їх характеристи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2096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іологічне та соціальне успадк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31240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ктивна діяльн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0384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родно-соціальне середовищ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981080"/>
            <a:ext cx="0" cy="3353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505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590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9528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ихо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Змі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00200"/>
            <a:ext cx="9144000" cy="121932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3880"/>
            <a:ext cx="8686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няття «людина», «особистості», індивіда», «індивідуальності» та співвідношення між н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48120"/>
            <a:ext cx="9144000" cy="86040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97180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звиток особистості та його рушійна 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168800"/>
            <a:ext cx="9144000" cy="86040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0924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инники розвитку людини, їх характер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350532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Люди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0"/>
            <a:ext cx="350532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Особисті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276720"/>
            <a:ext cx="350532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Індиві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267080"/>
            <a:ext cx="350532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Індивідуальні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16438" t="0" r="16712" b="0"/>
          <a:stretch/>
        </p:blipFill>
        <p:spPr>
          <a:xfrm>
            <a:off x="4114800" y="1371600"/>
            <a:ext cx="46483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1523880"/>
            <a:ext cx="327636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іологічна іст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809880"/>
            <a:ext cx="327636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ціальна іст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523880"/>
            <a:ext cx="4419720" cy="2057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ділена на відміну від тварин свідомістю й мовою, здатністю працювати, оцінювати навколишній світ і активно його перетворювати відповідно до своїх потр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809880"/>
            <a:ext cx="4419720" cy="12956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озкриває свої сутнісні риси саме в колективі, у процесі спілк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1905120"/>
            <a:ext cx="30492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267080"/>
            <a:ext cx="30492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066680"/>
            <a:ext cx="0" cy="32767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3434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9051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Лю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Особист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676520"/>
            <a:ext cx="8382240" cy="22096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Системна соціальна характеристика індивіда, що формує предметну діяльність та спілкування і зумовлює його причетність до суспільних віднос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121932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23998" r="0" b="0"/>
          <a:stretch/>
        </p:blipFill>
        <p:spPr>
          <a:xfrm>
            <a:off x="2286000" y="4305240"/>
            <a:ext cx="42861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Індивідуальн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676520"/>
            <a:ext cx="8382240" cy="1676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Неповторність, оригінальність особистості, сукупність тільки їй притаманних своєрідних особливо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121932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20655" r="0" b="15492"/>
          <a:stretch/>
        </p:blipFill>
        <p:spPr>
          <a:xfrm>
            <a:off x="1752480" y="3809880"/>
            <a:ext cx="5410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83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Приклади яскравих індивідуаль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2040" y="2209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176640" y="2209680"/>
            <a:ext cx="2444760" cy="3124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19001" t="0" r="15000" b="0"/>
          <a:stretch/>
        </p:blipFill>
        <p:spPr>
          <a:xfrm>
            <a:off x="5843520" y="2209680"/>
            <a:ext cx="26146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066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Політичні відносини як чинник активності життєвої позиції людин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2096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алізувати свої політичні пра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1240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и участь у виборчих кампані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0384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ідкрито обговорювати проблеми суспільного жит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981080"/>
            <a:ext cx="0" cy="243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505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590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Види розвитку люди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0574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ізич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048120"/>
            <a:ext cx="8001000" cy="761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сихіч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0384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ціаль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828800"/>
            <a:ext cx="0" cy="2590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4290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362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1-09-14T21:18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