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B16-7E9C-4F90-ADC7-56A3D22B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576-B385-4DD2-9870-889CF809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B6A-2CF5-4D0C-BF4A-B10B2828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A5AD-76D7-4FEE-BECE-ED0B87A8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EB5C-27D6-4A3C-8A70-1CDDA7FA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1273-B3EA-4AA3-BB59-C9CD061E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9E0-4BFA-4BFC-8F14-55E1FE8A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779-B5B1-41EB-81D5-9EE910A3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268-628A-4809-A871-FBEC411F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903-173C-4F66-B19A-0744CD23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B57-69FE-4EB5-8BDE-8F873069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803-0E43-4C60-A63B-638B06B8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377E-44F0-4C70-8787-247359994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СУТНІСТЬ, РУШІЙНА СИЛА ТА ЧИННИКИ РОЗВИТКУ ОСОБИСТОС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38280" y="3048120"/>
            <a:ext cx="42674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62520" y="1981080"/>
            <a:ext cx="4800600" cy="25146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ріст організму, певні кількісні та якісні зміни на основі біологічних процес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152388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15627" t="0" r="7810" b="0"/>
          <a:stretch/>
        </p:blipFill>
        <p:spPr>
          <a:xfrm>
            <a:off x="380880" y="1981080"/>
            <a:ext cx="3276720" cy="25146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Фізичний розвито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Показники функціонального стану людин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29528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еробна витривалі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98108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швидкісна витривалі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66688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илова витривалі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35268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швидкісно-силова витривалі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143000"/>
            <a:ext cx="0" cy="5181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5812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8954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2096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5238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03848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нучкі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2670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72428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швидкі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9528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541008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инамічна м’язова си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6386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609588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росто-вагові характеристики і пропорції тіла та і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3244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Індекси фізичного розвитку людин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828800"/>
            <a:ext cx="8001000" cy="609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009999"/>
                </a:solidFill>
                <a:latin typeface="Arial"/>
              </a:rPr>
              <a:t>вагово-ростовий індекс Кет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447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2670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1240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2133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819520"/>
            <a:ext cx="800100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009999"/>
                </a:solidFill>
                <a:latin typeface="Arial"/>
              </a:rPr>
              <a:t>вагово-ростовий індекс Бро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8862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009999"/>
                </a:solidFill>
                <a:latin typeface="Arial"/>
              </a:rPr>
              <a:t>грудинно-ростовий інде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0" y="1981080"/>
            <a:ext cx="4114800" cy="4114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Характеризується процесами змін і становлення психіки людин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152388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3436920" cy="3448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15328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Психічний розвито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ff"/>
                </a:solidFill>
                <a:latin typeface="Arial"/>
              </a:rPr>
              <a:t>Типові особливості психічного розвитку індивід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066680"/>
            <a:ext cx="800100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уперечності як основа психічного розвит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676520"/>
            <a:ext cx="800100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перервність психічного розвит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22860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искретні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971800"/>
            <a:ext cx="800100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зворотні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914400"/>
            <a:ext cx="0" cy="5334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2004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25146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9051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2952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38098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581280"/>
            <a:ext cx="800100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аємозв’язок психічного з іншими напрямами розвит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191120"/>
            <a:ext cx="800100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рівномірні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4800600"/>
            <a:ext cx="800100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ерехід від нижчих психічних структур до вищ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4419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50292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5410080"/>
            <a:ext cx="800100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«спіралеподібний» характер розвитку психі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6019920"/>
            <a:ext cx="8001000" cy="4572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аємозв’язок кількісних і якісних змін психі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56386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2485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72000" y="1981080"/>
            <a:ext cx="4114800" cy="4114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ирізняється процесом оволодіння людиною соціальним досвідом (мовою, моральними якостями та ін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29400" y="152388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15328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Соціальний розвито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7146" t="0" r="25004" b="0"/>
          <a:stretch/>
        </p:blipFill>
        <p:spPr>
          <a:xfrm>
            <a:off x="533520" y="2209680"/>
            <a:ext cx="358128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1066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Чинники розвитку людини, їх характеристи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2096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іологічне та соціальне успадку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31240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ктивна діяльні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40384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родно-соціальне середовищ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981080"/>
            <a:ext cx="0" cy="3353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419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5053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25909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49528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ихо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3341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Змі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600200"/>
            <a:ext cx="9144000" cy="1219320"/>
          </a:xfrm>
          <a:prstGeom prst="rect">
            <a:avLst/>
          </a:prstGeom>
          <a:solidFill>
            <a:srgbClr val="808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523880"/>
            <a:ext cx="8686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няття «людина», «особистості», індивіда», «індивідуальності» та співвідношення між н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048120"/>
            <a:ext cx="9144000" cy="860400"/>
          </a:xfrm>
          <a:prstGeom prst="rect">
            <a:avLst/>
          </a:prstGeom>
          <a:solidFill>
            <a:srgbClr val="808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97180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звиток особистості та його рушійна 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168800"/>
            <a:ext cx="9144000" cy="860400"/>
          </a:xfrm>
          <a:prstGeom prst="rect">
            <a:avLst/>
          </a:prstGeom>
          <a:solidFill>
            <a:srgbClr val="808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09248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инники розвитку людини, їх характер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350532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Arial"/>
              </a:rPr>
              <a:t>Люди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0"/>
            <a:ext cx="350532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Arial"/>
              </a:rPr>
              <a:t>Особисті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276720"/>
            <a:ext cx="350532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Arial"/>
              </a:rPr>
              <a:t>Індиві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267080"/>
            <a:ext cx="3505320" cy="838440"/>
          </a:xfrm>
          <a:prstGeom prst="rect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99"/>
                </a:solidFill>
                <a:latin typeface="Arial"/>
              </a:rPr>
              <a:t>Індивідуальні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16438" t="0" r="16712" b="0"/>
          <a:stretch/>
        </p:blipFill>
        <p:spPr>
          <a:xfrm>
            <a:off x="4114800" y="1371600"/>
            <a:ext cx="46483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120" y="1523880"/>
            <a:ext cx="327636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іологічна іст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3809880"/>
            <a:ext cx="327636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ціальна іст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523880"/>
            <a:ext cx="4419720" cy="2057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ділена на відміну від тварин свідомістю й мовою, здатністю працювати, оцінювати навколишній світ і активно його перетворювати відповідно до своїх потре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3809880"/>
            <a:ext cx="4419720" cy="12956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озкриває свої сутнісні риси саме в колективі, у процесі спілк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1905120"/>
            <a:ext cx="30492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4267080"/>
            <a:ext cx="30492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066680"/>
            <a:ext cx="0" cy="327672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34340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90512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Лю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Особисті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676520"/>
            <a:ext cx="8382240" cy="22096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Системна соціальна характеристика індивіда, що формує предметну діяльність та спілкування і зумовлює його причетність до суспільних віднос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121932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0" t="23998" r="0" b="0"/>
          <a:stretch/>
        </p:blipFill>
        <p:spPr>
          <a:xfrm>
            <a:off x="2286000" y="4305240"/>
            <a:ext cx="42861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Індивідуальні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676520"/>
            <a:ext cx="8382240" cy="16761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Неповторність, оригінальність особистості, сукупність тільки їй притаманних своєрідних особливос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121932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20655" r="0" b="15492"/>
          <a:stretch/>
        </p:blipFill>
        <p:spPr>
          <a:xfrm>
            <a:off x="1752480" y="3809880"/>
            <a:ext cx="5410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838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Приклади яскравих індивідуаль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2040" y="2209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176640" y="2209680"/>
            <a:ext cx="2444760" cy="3124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rcRect l="19001" t="0" r="15000" b="0"/>
          <a:stretch/>
        </p:blipFill>
        <p:spPr>
          <a:xfrm>
            <a:off x="5843520" y="2209680"/>
            <a:ext cx="26146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1066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Політичні відносини як чинник активності життєвої позиції людин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22096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алізувати свої політичні пра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1240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и участь у виборчих кампані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0384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ідкрито обговорювати проблеми суспільного жит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981080"/>
            <a:ext cx="0" cy="2438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419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5053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5909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99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Види розвитку людин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0574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ізич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3048120"/>
            <a:ext cx="8001000" cy="7617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сихіч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0384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ціаль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828800"/>
            <a:ext cx="0" cy="2590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419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34290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3623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9T13:02:29Z</dcterms:created>
  <dc:creator>Viacheslav Tkachuk</dc:creator>
  <dc:description/>
  <dc:language>en-US</dc:language>
  <cp:lastModifiedBy> Main User</cp:lastModifiedBy>
  <dcterms:modified xsi:type="dcterms:W3CDTF">2021-09-14T21:18:2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