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244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784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itsway.kiev.ua/pdf/Science-practic%20comment%20for%20Law%20about%20Electr%20Signature.pdf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9080" cy="39956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Джерел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уково-практичний коментар щодо застосування електронного цифрового підпису в Україні. (Авторське право АМВ Group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Microsoft YaHei"/>
                <a:hlinkClick r:id="rId1"/>
              </a:rPr>
              <a:t>http://www.itsway.kiev.ua</a:t>
            </a:r>
            <a:r>
              <a:rPr b="0" lang="en-US" sz="1200" spc="-1" strike="noStrike" u="sng">
                <a:solidFill>
                  <a:srgbClr val="000080"/>
                </a:solidFill>
                <a:uFillTx/>
                <a:latin typeface="Times New Roman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5BD-36E0-4E95-AF0E-D3AE192B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358-3932-4888-9E87-79601C6C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76E-F2A8-4A9B-B13E-9D5343C0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BF3-E632-4BC4-B9F8-17E19A07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D37A-5D8D-4411-82E6-708CBB84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3486-76BA-4E4C-B7D4-BE3C75E2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5FB8-319D-425D-95DD-BB0552FF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BDC9-2A41-4BC5-A8A2-0A55F69D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6884-773A-4D31-B112-18C065F5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4A39-6873-4573-9133-4D91292C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CF33-1A83-40EA-87D5-F06A9B9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0F0-5010-4B88-A651-549EB57B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A554-3416-4E69-80E7-0BAFB47D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DE6A-8660-4FEC-A5A4-12FE485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BBC3-953B-4B66-9810-D9B54A7B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865B-AF94-4890-A0FE-68B0B610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EE54-31DF-4C42-A56F-9DFA27FE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D9A7-E08C-444B-8652-A2C7507B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3E12-A757-4BEF-9C12-1F25FC7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47EB-A61F-491A-A177-92D8337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A8E2-A790-41BA-96A2-12335A34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B37C-81EC-4486-BA65-C0E3153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187-7D40-4C7E-B2E1-CB8945F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541E-426F-42B1-B3C5-4C0694C2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04F6-A520-4275-8895-BB45DBBD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28A5-38C9-4BBB-8567-511C65B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1F88-0049-4BBA-846C-4B5CB48C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7767-6957-4D49-8CB1-F3FFCF7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9C37-6056-4D6F-87CC-8D6288C4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457B-23BF-41FE-A1A6-B547B266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803A-9248-46FC-8EB8-2E04A49B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082D-122B-4589-8A43-028AE24B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7680-D588-4386-B9AB-CAD0442B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FD1-E078-48AD-8186-1DA4C74A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8ADA-3ED9-4E6D-A113-DF1EF94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E52F-7BBF-414E-8ED4-24C9130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455B-988E-4AA9-BA53-74FAE81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28C9-012D-47FA-98B8-3EEB9792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395B-EC11-405C-829B-38AF37E6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884F-9AE7-476F-91EA-D704E13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CE9E-8943-46A5-9E68-A9D014D2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DAA8-E2C9-4F20-8CE4-06BBEE60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CE18-1E9F-47E5-A984-EF52B7AC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8BE8-0D31-4B14-9182-1BE01864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F1D-9625-45CD-8C4C-928846A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9F8A-4C83-49A5-AD98-2712AE7F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54A5E-7169-4245-84E6-63AD1D2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9D53-604E-4191-B4E5-6B734BEC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C21E-5001-4BA2-8F84-E8F44455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28D6-8C24-4C06-B5C3-F8358B61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15A1C-8866-47C2-9E2D-B13A5AD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E9F8-65B0-4966-8F65-F0F6C63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9F10-E985-4941-892F-1AF2433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F12A-34F3-41C5-9B4F-A0D7B43F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0052-D55B-4494-82B5-2C07A5D4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407-AD7A-4E1B-B2C3-CA4008F2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0ACE5-2971-44B5-AA7E-F66E48EC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286-2D68-4312-9E60-D7F4F3A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1EF-CF14-4304-A912-61652D2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AB6-750E-4E52-8070-E947543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FD0CEA-996B-4224-997D-AE03642734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A66657-1B74-4569-82E7-3221984DB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8917CD-9E01-46BE-8CB2-27FD2E1DDE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77720" y="-477720"/>
            <a:ext cx="7559640" cy="851544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DDF8AF-9283-4991-8141-6A470A528EDC}" type="slidenum">
              <a:rPr b="0" lang="en-US" sz="18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564160"/>
            <a:ext cx="3936960" cy="199548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2D951C-E7A6-432C-9BF9-B6522870D5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s://portal.nazk.gov.ua/login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722160" y="154764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а система документообігу та звітност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і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тенденції у запровадженні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танні зміни у нормативному регулюванні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900000"/>
            <a:ext cx="90630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00000" y="250920"/>
            <a:ext cx="8355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Основні тези закону про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96760" y="907560"/>
            <a:ext cx="8358480" cy="49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лектронний цифровий підпис (ЕЦП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ц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д електронного підпис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триманого за результатом криптографічного  перетворення набору електронних даних, як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дається до цього набору або логічно з ним поєднуєть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ЦП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конує такі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ії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дентифікація підписувача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засвідчує, що підписаний документ надходить від особи, яка його підпис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ідтвердження цілісності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аних в електронній формі -  є гарантією того, що підписаний документ не зазнав модифікації з боку третіх осіб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авові наслідки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позбавляє особу, яка підписала документ, можливості відмовитися від зобов’язань, викладених у підписаному докумен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вага! ЕЦП не робить документ конфіденційн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503280" y="68400"/>
            <a:ext cx="9058320" cy="954000"/>
          </a:xfrm>
          <a:prstGeom prst="rect">
            <a:avLst/>
          </a:prstGeom>
          <a:noFill/>
          <a:ln w="3168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б'єкти електронного документообігу із застосуванням ЕЦ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682560" y="1625760"/>
            <a:ext cx="2197080" cy="10015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ідпис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544920" y="1617840"/>
            <a:ext cx="2733480" cy="10094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Центр сертифікації ключів (ЦС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659640" y="1617840"/>
            <a:ext cx="2809800" cy="9619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орист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627960" y="3089160"/>
            <a:ext cx="2916000" cy="184320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еревіряє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600360" y="3060720"/>
            <a:ext cx="2725920" cy="18716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дає послуги обслуговування процесу електронного цифрового підпи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539640" y="3078000"/>
            <a:ext cx="2786040" cy="185436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олодіє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обистим ключем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(доступним тільки йом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160020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475128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7991640" y="1039680"/>
            <a:ext cx="217440" cy="579600"/>
          </a:xfrm>
          <a:prstGeom prst="downArrow">
            <a:avLst>
              <a:gd name="adj1" fmla="val 50000"/>
              <a:gd name="adj2" fmla="val 5006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158436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4751280" y="2627280"/>
            <a:ext cx="217440" cy="436680"/>
          </a:xfrm>
          <a:prstGeom prst="downArrow">
            <a:avLst>
              <a:gd name="adj1" fmla="val 50000"/>
              <a:gd name="adj2" fmla="val 502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799308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60360" y="214200"/>
            <a:ext cx="93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Щоб стати суб'єктом електронного документообігу в Україні необхід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611280" y="1136520"/>
            <a:ext cx="89913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Укласти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говір про надання послуг електронного цифрового підпису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за умови відсутності) з відповідним акредитованим центром сертифікації ключів (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АЦСК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. Отримати пару ключів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ля забезпечення підписання власних ЕД та здійснення криптографічного шифрування 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3. Інсталювати відповідне програмне забезпече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що забезпечує  підготовку даних для виконання алгоритмів ЕЦ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Встановити кореспондентські відносини з метою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мі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сертифікатами відкритих ключів шифрува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відкритими ключами), що надає можливість у подальшому здійснювати обмін електронними повідомленнями у шифрованому вигля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682560" y="2851200"/>
            <a:ext cx="89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ватний (особистий, таємний) ключ -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араметр криптографічн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ування електронного цифрового  підпису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тільки підписувач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критий ключ – параметр криптографічного алгоритму перевірки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ого цифрового  підпису,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всім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б'єктам відносин у сфері використання ЕЦП (публікується в загальному доступі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ий документ з ЕЦП може бути перевірений будь-яким контрагентом, що має відкритий ключ відправника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ЦП не захищає документ від прочитання сторонніми осо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ля забезпечення конфіденційност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кумента використовується шифруван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503280" y="144360"/>
            <a:ext cx="906300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икористання алгоритмів асиметричного шифрування при реалізації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82560" y="993600"/>
            <a:ext cx="864396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ОД КРИПТОГРАФІЇ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ОСНОВІ УНІКАЛЬНОЇ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’ЯЗАНОЇ ПАРИ КЛЮЧ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228760" y="1876320"/>
            <a:ext cx="281160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ватний (закритий) ключ створю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5611680" y="1851120"/>
            <a:ext cx="235764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критий ключ перевіря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AutoShape 6"/>
          <p:cNvCxnSpPr/>
          <p:nvPr/>
        </p:nvCxnSpPr>
        <p:spPr>
          <a:xfrm flipH="1">
            <a:off x="3327120" y="1565280"/>
            <a:ext cx="28800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7"/>
          <p:cNvCxnSpPr/>
          <p:nvPr/>
        </p:nvCxnSpPr>
        <p:spPr>
          <a:xfrm>
            <a:off x="6040440" y="1564920"/>
            <a:ext cx="34992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Franklin Gothic Book"/>
              </a:rPr>
              <a:t>Процедура використання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92000" y="1187280"/>
            <a:ext cx="7791480" cy="55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Процедура захисту інформації від несанціонованого перегля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719280" y="1023840"/>
            <a:ext cx="793404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511280" y="1692360"/>
            <a:ext cx="6130800" cy="431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документу авто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511280" y="5560920"/>
            <a:ext cx="6130800" cy="513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користання докумен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511280" y="2266920"/>
            <a:ext cx="613080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ання документу закритим ключем авт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Етапи роботи з електронним документом на який накладається ЕЦ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719280" y="176364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863640" y="363528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863640" y="5651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719280" y="743040"/>
            <a:ext cx="144360" cy="5197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512720" y="2925720"/>
            <a:ext cx="612936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Шифрування документу від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512720" y="3575160"/>
            <a:ext cx="6129360" cy="4921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ранспортування документу від автора до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512720" y="422280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шифрування документу за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512720" y="486108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еревірка ЕЦП автора за допомогою його відкритого клю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863640" y="2340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863640" y="2987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863640" y="428472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863640" y="493236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 rot="16200000">
            <a:off x="7345080" y="3420360"/>
            <a:ext cx="2149560" cy="873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хист від несанкціонованого перегля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9"/>
          <p:cNvSpPr/>
          <p:nvPr/>
        </p:nvSpPr>
        <p:spPr>
          <a:xfrm rot="10800000">
            <a:off x="7659720" y="299052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20"/>
          <p:cNvSpPr/>
          <p:nvPr/>
        </p:nvSpPr>
        <p:spPr>
          <a:xfrm rot="10800000">
            <a:off x="7659720" y="428580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 rot="16200000">
            <a:off x="7452360" y="3632400"/>
            <a:ext cx="3807000" cy="44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ий цифров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2"/>
          <p:cNvSpPr/>
          <p:nvPr/>
        </p:nvSpPr>
        <p:spPr>
          <a:xfrm rot="10800000">
            <a:off x="7616880" y="234288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23"/>
          <p:cNvSpPr/>
          <p:nvPr/>
        </p:nvSpPr>
        <p:spPr>
          <a:xfrm rot="10800000">
            <a:off x="7632720" y="493524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539640" y="179280"/>
            <a:ext cx="9180720" cy="900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равила використання особистого ключа ЕЦП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00000" y="1619280"/>
            <a:ext cx="8820360" cy="53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писувач несе відповідальність за зберігання особистого клю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900000" y="2340000"/>
            <a:ext cx="882036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ристання особистого ключа підписувачем здійснюється на умовах конфіденційності. Підписувач зобов'язаний зберігати свій ключ у таємниці та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допускати використання особистого ключа іншими особ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900000" y="3540240"/>
            <a:ext cx="8820360" cy="5140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ювання особистих ключів та/або передача їх іншим особам забороняєть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898560" y="4226040"/>
            <a:ext cx="8820000" cy="8586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приміщені де знаходяться або до якого мають доступ інші особи, забороняється залишення носія з особистим ключем або працюючої програми ЕЦП з введеним особистим ключем у відсутності підписува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900000" y="5254560"/>
            <a:ext cx="8820360" cy="6858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застосуванні ЕЦП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писувач зобов'язаний: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використовуват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особистий ключ у разі його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компрометації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мпрометація ЕЦП при застосуванн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 електронного банкін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079640" y="1547640"/>
            <a:ext cx="8569080" cy="792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вичаєві”  форми роботи з ЕЦП при використанні електронних систем. Компрометація ЕЦП під час роботи з системою “Клієнт-банк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079640" y="3564000"/>
            <a:ext cx="856908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ридична колізія використання ЕЦП при підписанні банківських документів. Постанова НБУ  ві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1.200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079640" y="2700360"/>
            <a:ext cx="8569080" cy="5428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дова практика стосовно несанкціонованого використання ЕЦП в системі електронного банкін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079640" y="4859280"/>
            <a:ext cx="8569080" cy="8589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егітимний варіант використання ЕЦП (особиста участь керівництва , надання повноважень операто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431640" y="2771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431640" y="3924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недоліки існуючих механізмів ЕЦ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 електронн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079640" y="4500720"/>
            <a:ext cx="8569080" cy="792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рфейсна недосконалість діючих програмних продук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79640" y="2987640"/>
            <a:ext cx="8820000" cy="863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сутність спільних форматів ЕЦП різних сертифікаційних цент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079640" y="1403280"/>
            <a:ext cx="8785080" cy="107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врегульовані питання надання електронних документів контролюючим органам при перевірці а також су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431640" y="3203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31640" y="4716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287280" y="466560"/>
            <a:ext cx="144360" cy="4537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Оперативність руху інформ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511280" y="3780000"/>
            <a:ext cx="741672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Мінімізація затрат на обслугов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11280" y="4643280"/>
            <a:ext cx="74167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Зручність узагальнення та отримання інформації за потреб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Вимоги нормативно-правового регулю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295280" y="539640"/>
            <a:ext cx="81378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Franklin Gothic Book"/>
              </a:rPr>
              <a:t>Актуальність 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863640" y="385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863640" y="4788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719280" y="755640"/>
            <a:ext cx="144360" cy="431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539640" y="422280"/>
            <a:ext cx="9063000" cy="53496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і нормативні документи міжнародного рів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03280" y="1065240"/>
            <a:ext cx="9063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иректива 1999/93/ЄС Європейського парламенту та Ради "Про систему електронних підписів, що застосовується в межах Співтовариства" від 13 грудня 1999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иповий закон ЮНСІТРАЛ «Про електронні підписи» (Комісія ООН з права міжнародної торгівлі) від 5 липня 2001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венція ООН про використання електронних повідомлень у міжнародних договорах 2005 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миссия ООН по праву международной торговли - Содействие укреплению доверия к электронной торговле: правовые вопросы международного использования электронных методов удостоверения подлинности и подпис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nvoicing Directive 2001/115/ЕC (про політику ЕС щодо електронних рахункі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1 456: Policy requirements for certification authorities issuing qualified 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2 042: Policy requirements for certification authorities issuing public key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SO 16175-2:2011 Информация и документация. Принципы и функциональные требования к записям в электронной офис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079640" y="1403280"/>
            <a:ext cx="7416720" cy="1366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 дозволяється обмеження або позбавлення юридичної сили будь-якого методу створення електронного підпису, якщо такий підпис є настільки надійним, що відповідає меті, для якої документ на електронному носії був підготовлений або переданий, включаючи всі відповідні домовленості (ч. 1 ст. 6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иповий закон ЮНСІТРАЛ «Про електронні підписи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079640" y="4932360"/>
            <a:ext cx="7416720" cy="1943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ржави  - учасники забезпечують, щоб удосконалені електронні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и, засновані на чинних сертифікатах і створені за допомогою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чних механізмів створення підпису: a) задовольняли юридичним вимогам до підписів стосовно даних,  поданих у електронній формі, так само, як підпис, написаний власноручно, задовольняє вимоги стосовно даних, нанесених на папір; b) були прийнятними в якості доказів у судочинстві. (ст.5. п.1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079640" y="2843280"/>
            <a:ext cx="7416720" cy="1873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ін "удосконалений електронний підпис" означає електронний підпис, який відповідає наступним вимогам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винятково з особою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є можливість ідентифікувати особу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ий за допомогою засобів, як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увач, може тримати під своїм повним контролем;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з даними, до яких він відноситься у такий спосіб, що будь-яку подальшу зміну даних можна виявити (ст.2. п.2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новні тези міжнародного законодавства стосовно цифрового підпи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431640" y="3706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431640" y="5722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287280" y="466560"/>
            <a:ext cx="144360" cy="5545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9640" y="1074600"/>
            <a:ext cx="8640720" cy="55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33480" bIns="54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Наказом від 20 серпня 2012 року № 1236/5/453 «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о затвердження вимог до форматів, структури та протоколів, що реалізуються у надійних засобах електронного цифрового підпис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», який набрав чинності 07 вересня 2012 року внесено суттєві зміни до організації використання національних ЕЦП, які покликані вирішити питання їх вразливості та внормувати методику використання, а с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затверджено нові формати ЕЦ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обов'язковість (для всіх форматів крім базового) фіксування позначки ча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-   вирішення питання сумісності ЕЦП різних сертифікаційних центр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Дані зміни узгоджують в цілому процедуру накладання ЕЦП з міжнародними вимог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и цьому, організації, які експлуатують надійні засоби ЕЦП (акредитовані сертифікаційні центри) забезпечують застосування у них нових положень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з 01 червня 2013 рок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863640" y="250920"/>
            <a:ext cx="8137440" cy="6490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танні зміни законодавства щодо Е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"/>
          <p:cNvGrpSpPr/>
          <p:nvPr/>
        </p:nvGrpSpPr>
        <p:grpSpPr>
          <a:xfrm>
            <a:off x="479520" y="396720"/>
            <a:ext cx="9297360" cy="5975280"/>
            <a:chOff x="479520" y="396720"/>
            <a:chExt cx="9297360" cy="5975280"/>
          </a:xfrm>
        </p:grpSpPr>
        <p:sp>
          <p:nvSpPr>
            <p:cNvPr id="369" name="Rectangle 2"/>
            <p:cNvSpPr/>
            <p:nvPr/>
          </p:nvSpPr>
          <p:spPr>
            <a:xfrm>
              <a:off x="479520" y="396720"/>
              <a:ext cx="9297360" cy="65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0" bIns="46800" anchor="t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3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аказом вводяться типи форматів ЕЦП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"/>
            <p:cNvSpPr/>
            <p:nvPr/>
          </p:nvSpPr>
          <p:spPr>
            <a:xfrm>
              <a:off x="479520" y="1055520"/>
              <a:ext cx="280800" cy="11426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760320" y="1055520"/>
              <a:ext cx="2591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3351600" y="1055520"/>
              <a:ext cx="6425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е надає 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ожливості встановити дійсність підпису у випадку, якщо ЕЦП перевіряється 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після закінчення строку чинності сертифікат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479520" y="2198160"/>
              <a:ext cx="280800" cy="177228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760320" y="2198160"/>
              <a:ext cx="2591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 із визначеною політикою підпис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3351600" y="2198160"/>
              <a:ext cx="6425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істить атрибут, що вказує на політику підпису, дотримання якої є обов’язковим під час формування та перевірки ЕЦ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79520" y="3970440"/>
              <a:ext cx="280800" cy="218592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760320" y="3970440"/>
              <a:ext cx="2591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ЕЦП з посилан-ням на повний набір даних перевірки та ЕЦП з повним набором даних перевір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351600" y="3970440"/>
              <a:ext cx="6425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Забезпечують можливість встановлення дійсності ЕЦП у довгостроковому періоді (після закінчення строку чинності сертифіката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Додатково містять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позначку часу відносно цифрового підпис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сертифікати або посилання на сертифікат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інформацію про статус для кожного сертифікат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479520" y="105552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6"/>
            <p:cNvSpPr/>
            <p:nvPr/>
          </p:nvSpPr>
          <p:spPr>
            <a:xfrm>
              <a:off x="479520" y="219816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7"/>
            <p:cNvSpPr/>
            <p:nvPr/>
          </p:nvSpPr>
          <p:spPr>
            <a:xfrm>
              <a:off x="760320" y="219816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3351600" y="219816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"/>
            <p:cNvSpPr/>
            <p:nvPr/>
          </p:nvSpPr>
          <p:spPr>
            <a:xfrm>
              <a:off x="479520" y="397044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>
              <a:off x="760320" y="397044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3351600" y="397044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>
              <a:off x="479520" y="6156720"/>
              <a:ext cx="280800" cy="21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4795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795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47952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7603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>
              <a:off x="7603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>
              <a:off x="760320" y="3970440"/>
              <a:ext cx="0" cy="240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>
              <a:off x="335160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335160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>
              <a:off x="335160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977688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>
              <a:off x="977688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977688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079640" y="1403280"/>
            <a:ext cx="7416720" cy="100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стема накладання ЕЦП та шифрування документу відкритим ключом отримувача дозволяє забезпечити конфіденційність та достовірність інформації в системі ЕД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079640" y="3924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провадження електронної системи документообігу поширюється на нові напрями господарського житт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1079640" y="2700360"/>
            <a:ext cx="7416720" cy="86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ласник особистого ключа повинен самостійно забезпечувати неможливість його використання іншими особ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исновки та рекоменд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31640" y="2987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431640" y="4140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1079640" y="4932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танні зміни в нормативно-правовому регулюванні наближають вітчизняну нормативну базу до міжнародно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правлінськ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308240" y="6997680"/>
            <a:ext cx="80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ТОВ «Комплексне управління бізнес-процесам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ербальний (надання усних розпорядже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511280" y="3780000"/>
            <a:ext cx="7416720" cy="122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неавтоматизований (несистематизована форма електронного документообіг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511280" y="5148360"/>
            <a:ext cx="7416720" cy="1655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автоматизований (налагодження в інформаційній системі бізнес-процесів здійснення управлінських функц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перовий (формування паперового документу-розпорядженн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Варіанти здійснення розпорядчих функ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63640" y="421308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863640" y="529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719280" y="755640"/>
            <a:ext cx="144360" cy="4824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52360" y="1908000"/>
            <a:ext cx="7848720" cy="4320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латеж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576360" y="539640"/>
            <a:ext cx="828036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фери застосування розпорядчого управлінського документообігу в інформаційній систе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152360" y="255600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договірної документ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152360" y="305928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цін на номенклатуру та зниж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152360" y="3597120"/>
            <a:ext cx="7848720" cy="7588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рийняття на роботу, переміщення та звільнення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152360" y="4498920"/>
            <a:ext cx="784872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ший довільний розпорядчий процес (повернення, нарахування премій та і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649440" y="197964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0"/>
          <p:cNvSpPr/>
          <p:nvPr/>
        </p:nvSpPr>
        <p:spPr>
          <a:xfrm>
            <a:off x="649440" y="262728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649440" y="313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12"/>
          <p:cNvSpPr/>
          <p:nvPr/>
        </p:nvSpPr>
        <p:spPr>
          <a:xfrm>
            <a:off x="649440" y="3780000"/>
            <a:ext cx="502920" cy="2156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13"/>
          <p:cNvSpPr/>
          <p:nvPr/>
        </p:nvSpPr>
        <p:spPr>
          <a:xfrm>
            <a:off x="649440" y="457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649440" y="1187280"/>
            <a:ext cx="142560" cy="352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1727280" y="1908000"/>
            <a:ext cx="7345440" cy="574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онсолідована база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792000" y="611280"/>
            <a:ext cx="8280720" cy="100800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обхідні передумови функціонування ефективної системи управлінськ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727280" y="2843280"/>
            <a:ext cx="7345440" cy="9381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аксимальне обмеження числа працівників, які змінюють довідкову інформаці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727280" y="4067280"/>
            <a:ext cx="7345440" cy="1081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Жорстке обмеження можливості виконання господарських операцій без завершення процесу санкціон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008000" y="1619280"/>
            <a:ext cx="144360" cy="3024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1152360" y="205092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1152360" y="320364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1152360" y="4500720"/>
            <a:ext cx="574920" cy="21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1798560" y="1692360"/>
            <a:ext cx="7345440" cy="720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значення логічного маршруту накладання електронних підписів та повноважень в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782640" y="755640"/>
            <a:ext cx="836136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думови ефективного функціонування електронно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800360" y="255600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іксування історії погодження електронного докумен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800360" y="341964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абезпечення можливості накладення підпису через електронну пошту або безпосередньо в програ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1800360" y="4356000"/>
            <a:ext cx="7416720" cy="936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ливість обмеження санкціонування враховуючи  стан взаєморозрахунків, відповідність бюджету або інші показники бази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1008000" y="1547640"/>
            <a:ext cx="155520" cy="3259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1152360" y="1979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1152360" y="2771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1152360" y="3635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152360" y="4643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503280" y="301680"/>
            <a:ext cx="90630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Сфери поширення електронного документообі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754200" y="1279440"/>
            <a:ext cx="88484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вітність в ДПС та ПФ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Банківські розраху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і державні закупів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итниц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формлення паспор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ерж.реєстра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ля перевезення (авіа, залізниц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єстрація персональних да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іяльність на фондовому ри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проваджується в су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"/>
          <p:cNvSpPr/>
          <p:nvPr/>
        </p:nvSpPr>
        <p:spPr>
          <a:xfrm>
            <a:off x="1009800" y="395280"/>
            <a:ext cx="8207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побудови маршруту послідовного накладання електронних підписів на платіжне дору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579600" y="5364000"/>
            <a:ext cx="2736720" cy="64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іці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008000" y="4356000"/>
            <a:ext cx="273708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ухгал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24000" y="341964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центру відповідальност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1440000" y="255600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фінансової служ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1727280" y="154764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вантаження в клієнт-банк опера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Прямая со стрелкой 2"/>
          <p:cNvCxnSpPr>
            <a:stCxn id="456" idx="0"/>
            <a:endCxn id="457" idx="2"/>
          </p:cNvCxnSpPr>
          <p:nvPr/>
        </p:nvCxnSpPr>
        <p:spPr>
          <a:xfrm flipV="1">
            <a:off x="1947960" y="5002920"/>
            <a:ext cx="4291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9"/>
          <p:cNvCxnSpPr>
            <a:stCxn id="457" idx="0"/>
            <a:endCxn id="458" idx="2"/>
          </p:cNvCxnSpPr>
          <p:nvPr/>
        </p:nvCxnSpPr>
        <p:spPr>
          <a:xfrm flipV="1">
            <a:off x="2376360" y="4066920"/>
            <a:ext cx="216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11"/>
          <p:cNvCxnSpPr>
            <a:stCxn id="458" idx="0"/>
            <a:endCxn id="459" idx="2"/>
          </p:cNvCxnSpPr>
          <p:nvPr/>
        </p:nvCxnSpPr>
        <p:spPr>
          <a:xfrm flipV="1">
            <a:off x="2592360" y="32032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13"/>
          <p:cNvCxnSpPr>
            <a:stCxn id="459" idx="0"/>
            <a:endCxn id="460" idx="2"/>
          </p:cNvCxnSpPr>
          <p:nvPr/>
        </p:nvCxnSpPr>
        <p:spPr>
          <a:xfrm flipV="1">
            <a:off x="2808360" y="2339640"/>
            <a:ext cx="288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5" name="Text Box 3"/>
          <p:cNvSpPr/>
          <p:nvPr/>
        </p:nvSpPr>
        <p:spPr>
          <a:xfrm>
            <a:off x="5113440" y="2303640"/>
            <a:ext cx="273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анківська ви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143680" y="422100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Прямая со стрелкой 18"/>
          <p:cNvCxnSpPr>
            <a:stCxn id="465" idx="2"/>
            <a:endCxn id="466" idx="0"/>
          </p:cNvCxnSpPr>
          <p:nvPr/>
        </p:nvCxnSpPr>
        <p:spPr>
          <a:xfrm>
            <a:off x="6481800" y="3095640"/>
            <a:ext cx="30600" cy="11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8" name="Прямая со стрелкой 22"/>
          <p:cNvCxnSpPr/>
          <p:nvPr/>
        </p:nvCxnSpPr>
        <p:spPr>
          <a:xfrm>
            <a:off x="4464000" y="1979280"/>
            <a:ext cx="65016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0" y="611280"/>
            <a:ext cx="10009080" cy="55450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1009800" y="-36360"/>
            <a:ext cx="835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збереження історії накладення електронних підписів зі збереженням відмітки ч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360360" y="1033560"/>
            <a:ext cx="9433080" cy="4833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"/>
          <p:cNvSpPr/>
          <p:nvPr/>
        </p:nvSpPr>
        <p:spPr>
          <a:xfrm>
            <a:off x="936720" y="250920"/>
            <a:ext cx="806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інтерфейсу накладання електронного підпи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36720" y="1692360"/>
            <a:ext cx="8423280" cy="646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– як правило заявка, замовлення, вимога або наказ на проведе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2576520" y="596880"/>
            <a:ext cx="426384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понована базова схема процесу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008000" y="3635280"/>
            <a:ext cx="828036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Господарська операція (надходження, реалізація, проплата, погодження цін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295280" y="4643280"/>
            <a:ext cx="7848720" cy="5050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             Паперови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958680" y="2771640"/>
            <a:ext cx="8280720" cy="430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кладання електронних підписів санкціонува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3527280" y="5651640"/>
            <a:ext cx="3240360" cy="431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Двойная стрелка влево/вправо 5"/>
          <p:cNvSpPr/>
          <p:nvPr/>
        </p:nvSpPr>
        <p:spPr>
          <a:xfrm>
            <a:off x="4535640" y="4716360"/>
            <a:ext cx="934920" cy="287280"/>
          </a:xfrm>
          <a:prstGeom prst="leftRightArrow">
            <a:avLst>
              <a:gd name="adj1" fmla="val 50000"/>
              <a:gd name="adj2" fmla="val 5018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низ 10"/>
          <p:cNvSpPr/>
          <p:nvPr/>
        </p:nvSpPr>
        <p:spPr>
          <a:xfrm>
            <a:off x="4824360" y="3201840"/>
            <a:ext cx="274680" cy="433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трелка вниз 11"/>
          <p:cNvSpPr/>
          <p:nvPr/>
        </p:nvSpPr>
        <p:spPr>
          <a:xfrm>
            <a:off x="4824360" y="4211640"/>
            <a:ext cx="287280" cy="431640"/>
          </a:xfrm>
          <a:prstGeom prst="downArrow">
            <a:avLst>
              <a:gd name="adj1" fmla="val 50000"/>
              <a:gd name="adj2" fmla="val 500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низ 12"/>
          <p:cNvSpPr/>
          <p:nvPr/>
        </p:nvSpPr>
        <p:spPr>
          <a:xfrm>
            <a:off x="4751280" y="5148360"/>
            <a:ext cx="360360" cy="504720"/>
          </a:xfrm>
          <a:prstGeom prst="downArrow">
            <a:avLst>
              <a:gd name="adj1" fmla="val 50000"/>
              <a:gd name="adj2" fmla="val 5012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трелка вниз 9"/>
          <p:cNvSpPr/>
          <p:nvPr/>
        </p:nvSpPr>
        <p:spPr>
          <a:xfrm>
            <a:off x="4824360" y="2340000"/>
            <a:ext cx="287280" cy="431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576360" y="971640"/>
            <a:ext cx="92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d6e75"/>
                </a:solidFill>
                <a:latin typeface="HeliosC"/>
              </a:rPr>
              <a:t> </a:t>
            </a:r>
            <a:r>
              <a:rPr b="1" lang="ru-RU" sz="4400" spc="-1" strike="noStrike">
                <a:solidFill>
                  <a:srgbClr val="6d6e75"/>
                </a:solidFill>
                <a:latin typeface="HeliosC"/>
              </a:rPr>
              <a:t>ЯК ОТРИМАТИ ЕЛЕКТРОННИЙ ЦИФРОВИЙ ПІДПИС ДЛЯ ПОДАННЯ ЕЛЕКТРОННОЇ ДЕКЛАРАЦІЇ ЧЕРЕЗ ПРИВАТ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ttp://jurblog.com.ua/wp-content/uploads/2019/06/21.png"/>
          <p:cNvPicPr/>
          <p:nvPr/>
        </p:nvPicPr>
        <p:blipFill>
          <a:blip r:embed="rId1"/>
          <a:stretch/>
        </p:blipFill>
        <p:spPr>
          <a:xfrm>
            <a:off x="719280" y="108000"/>
            <a:ext cx="8569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http://jurblog.com.ua/wp-content/uploads/2019/06/3.png"/>
          <p:cNvPicPr/>
          <p:nvPr/>
        </p:nvPicPr>
        <p:blipFill>
          <a:blip r:embed="rId1"/>
          <a:stretch/>
        </p:blipFill>
        <p:spPr>
          <a:xfrm>
            <a:off x="576360" y="9360"/>
            <a:ext cx="8048520" cy="402912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1"/>
          <p:cNvSpPr/>
          <p:nvPr/>
        </p:nvSpPr>
        <p:spPr>
          <a:xfrm>
            <a:off x="287280" y="4284720"/>
            <a:ext cx="950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HeliosC"/>
              </a:rPr>
              <a:t>Тут треба звірити особисті дані та уточнити адресу електронної пошти. Після перевірки і можливого виправлення необхідно натиснути «дані вірні» і перейти на наступну сторін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ttp://jurblog.com.ua/wp-content/uploads/2019/06/4.png"/>
          <p:cNvPicPr/>
          <p:nvPr/>
        </p:nvPicPr>
        <p:blipFill>
          <a:blip r:embed="rId1"/>
          <a:stretch/>
        </p:blipFill>
        <p:spPr>
          <a:xfrm>
            <a:off x="360360" y="179280"/>
            <a:ext cx="9144000" cy="36007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1"/>
          <p:cNvSpPr/>
          <p:nvPr/>
        </p:nvSpPr>
        <p:spPr>
          <a:xfrm>
            <a:off x="355680" y="4140360"/>
            <a:ext cx="96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Для цього необхідно натиснути кнопку “Обрати”. Після цього з’явиться вікно навігації, за допомогою можна обрати існуючу папку на комп’ютері чи на флешці, або створити нову пап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http://jurblog.com.ua/wp-content/uploads/2019/06/5.png"/>
          <p:cNvPicPr/>
          <p:nvPr/>
        </p:nvPicPr>
        <p:blipFill>
          <a:blip r:embed="rId1"/>
          <a:stretch/>
        </p:blipFill>
        <p:spPr>
          <a:xfrm>
            <a:off x="503280" y="179280"/>
            <a:ext cx="89298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http://jurblog.com.ua/wp-content/uploads/2019/06/7.png"/>
          <p:cNvPicPr/>
          <p:nvPr/>
        </p:nvPicPr>
        <p:blipFill>
          <a:blip r:embed="rId1"/>
          <a:stretch/>
        </p:blipFill>
        <p:spPr>
          <a:xfrm>
            <a:off x="287280" y="250920"/>
            <a:ext cx="8856720" cy="374472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1"/>
          <p:cNvSpPr/>
          <p:nvPr/>
        </p:nvSpPr>
        <p:spPr>
          <a:xfrm>
            <a:off x="287280" y="4140360"/>
            <a:ext cx="950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Електронний цифровий підпис – це файл, захищений паролем. Навіть якщо флешка з файлом буде втрачена або зловмисники отримають доступ до файлу в будь-який інший спосіб, використати його ніхто не зможе. Для цього необхідно знати пароль. Тому до створення паролю необхідно підійти максимально відповідально, і зробити його максимально унікаль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503280" y="1908000"/>
            <a:ext cx="9010440" cy="3672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/>
          <p:cNvSpPr/>
          <p:nvPr/>
        </p:nvSpPr>
        <p:spPr>
          <a:xfrm>
            <a:off x="863640" y="539640"/>
            <a:ext cx="8497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кумент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— засіб закріплення різними способами на відповідному матеріалі інформації про факти, події, явища об'єктивної дійсності та розумову діяльність люди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ttp://jurblog.com.ua/wp-content/uploads/2019/06/8.png"/>
          <p:cNvPicPr/>
          <p:nvPr/>
        </p:nvPicPr>
        <p:blipFill>
          <a:blip r:embed="rId1"/>
          <a:stretch/>
        </p:blipFill>
        <p:spPr>
          <a:xfrm>
            <a:off x="431640" y="108000"/>
            <a:ext cx="9072720" cy="393372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1"/>
          <p:cNvSpPr/>
          <p:nvPr/>
        </p:nvSpPr>
        <p:spPr>
          <a:xfrm>
            <a:off x="-14400" y="4572000"/>
            <a:ext cx="9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При реєстрації в Приват24 ви вказували номер свого мобільного телефону. Цей номер стає вашим логіном при вході в систему. І цей номер є ключовим зв’язком банку з 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Після того як ви обрали пароль свого електронного ключа на ваш номер телефону має надійти СМС з кодом. Цей код необхідно вписати в систему, після чого поставити позначку навпроти “Я ознайомлений і згоден…” і натиснути “Далі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jurblog.com.ua/wp-content/uploads/2019/06/9.png"/>
          <p:cNvPicPr/>
          <p:nvPr/>
        </p:nvPicPr>
        <p:blipFill>
          <a:blip r:embed="rId1"/>
          <a:stretch/>
        </p:blipFill>
        <p:spPr>
          <a:xfrm>
            <a:off x="431640" y="250920"/>
            <a:ext cx="8182080" cy="27144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1"/>
          <p:cNvSpPr/>
          <p:nvPr/>
        </p:nvSpPr>
        <p:spPr>
          <a:xfrm>
            <a:off x="576360" y="3635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Якщо на попередніх етапах ви все зробили правильно, ви побачите відповідне повідомлення на екрані. Одночасно з цим в обрану вами на кроці №4 папку вивантажиться файл електронного цифрового підпи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1"/>
          <p:cNvSpPr/>
          <p:nvPr/>
        </p:nvSpPr>
        <p:spPr>
          <a:xfrm>
            <a:off x="216000" y="825480"/>
            <a:ext cx="957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На підставі його можна проходити ідентифікацію на веб-сайті НАЗК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Times New Roman"/>
                <a:hlinkClick r:id="rId1"/>
              </a:rPr>
              <a:t>https://portal.nazk.gov.ua/lo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На сторінці входу до системи подання електронних декларацій необхід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а) в полі “Кваліфікований надавач електронних довірчих послуг (АЦСК)” обрати Приват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б) кнопкою “обрати” відкрити вікно навігації та за його допомогою вказати папку, де знаходиться файл електронного ключа (ми її обирали на році №4 вище, але можна змінит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в) в полі “пароль особистого ключа” зазначити пароль (див. крок №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Якщо всі озвучені дії “а”-”б”-”в” зроблені, необхідно натиснути кнопку “Увійти”. З цього моменту ви можете заповнювати електронну декларацію про себе, при тому, що частина даних вже буде заповнена оскільки буде перенесена з електронного підпи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http://jurblog.com.ua/wp-content/uploads/2019/06/11.png"/>
          <p:cNvPicPr/>
          <p:nvPr/>
        </p:nvPicPr>
        <p:blipFill>
          <a:blip r:embed="rId1"/>
          <a:stretch/>
        </p:blipFill>
        <p:spPr>
          <a:xfrm>
            <a:off x="503280" y="179280"/>
            <a:ext cx="898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6480" y="402840"/>
            <a:ext cx="8291520" cy="3521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5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5904000" y="2411280"/>
            <a:ext cx="367344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Електронний докумен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60360" y="3995640"/>
            <a:ext cx="5184720" cy="936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   електронний документ -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60360" y="2411280"/>
            <a:ext cx="518472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або усна вказі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904000" y="3995640"/>
            <a:ext cx="3673440" cy="1079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- електронний документ –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087640" y="395280"/>
            <a:ext cx="619272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аріанти організаці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0800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диційний (паперов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83236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томатизований (електронн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59236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770400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251928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770400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2952720" y="1042920"/>
            <a:ext cx="358920" cy="576360"/>
          </a:xfrm>
          <a:prstGeom prst="downArrow">
            <a:avLst>
              <a:gd name="adj1" fmla="val 50000"/>
              <a:gd name="adj2" fmla="val 5018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6985080" y="1042920"/>
            <a:ext cx="358560" cy="576360"/>
          </a:xfrm>
          <a:prstGeom prst="downArrow">
            <a:avLst>
              <a:gd name="adj1" fmla="val 50000"/>
              <a:gd name="adj2" fmla="val 5023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Прямая со стрелкой 17"/>
          <p:cNvCxnSpPr/>
          <p:nvPr/>
        </p:nvCxnSpPr>
        <p:spPr>
          <a:xfrm>
            <a:off x="3311280" y="4355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0" name="Text Box 1"/>
          <p:cNvSpPr/>
          <p:nvPr/>
        </p:nvSpPr>
        <p:spPr>
          <a:xfrm>
            <a:off x="2952720" y="2050920"/>
            <a:ext cx="46800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озпорядч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527280" y="3635280"/>
            <a:ext cx="36738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Обліков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31640" y="1332000"/>
          <a:ext cx="9075960" cy="3537000"/>
        </p:xfrm>
        <a:graphic>
          <a:graphicData uri="http://schemas.openxmlformats.org/drawingml/2006/table">
            <a:tbl>
              <a:tblPr/>
              <a:tblGrid>
                <a:gridCol w="3024360"/>
                <a:gridCol w="3027240"/>
                <a:gridCol w="302436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тер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л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ков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озпорядч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орсткість регулюв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илена (спеціалізоване програмне забезпеченн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ощена (достатньо електронного листа або документу внесеного в інформаційну систем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складності формування звітнос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ніверсальний (звітність в інформаційній систем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контро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троспектив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передні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ідповідальн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гідно з чинним законодав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рівні внутрішніх регламентів та усних домовле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55"/>
          <p:cNvSpPr/>
          <p:nvPr/>
        </p:nvSpPr>
        <p:spPr>
          <a:xfrm>
            <a:off x="900000" y="360360"/>
            <a:ext cx="8355240" cy="7038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рівняння розпорядчої та облікової систем електронного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ліков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76280" y="393840"/>
            <a:ext cx="9063000" cy="50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Основні нормативні документи Украї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76280" y="942840"/>
            <a:ext cx="90630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і документи та електронний документообіг" від 22.05.2003 р. № 851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ий цифровий підпис" 22.05.2003 р. № 852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захист інформації в інформаційно-телекомунікаційних системах" від 05.07.94 р. № 80/94-ВР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(в редакції від 19.03.2009 р. N 1180-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відчення наявності електронного документа (електронних даних) на певний момент часу" від 26.05.2004 р. № 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тосування електронного цифрового підпису органами державної влади, органами місцевого самоврядування, підприємствами, установами та організаціями державної форми власності" від 28.10.2004 р. №1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503280" y="2340000"/>
            <a:ext cx="1981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н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89404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без посиленого сертифікату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87240" y="539640"/>
            <a:ext cx="874584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асвідчення електронного документ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35940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з посиленим сертифікатом ключів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14440" y="3419640"/>
            <a:ext cx="891864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документ   -   документ,   інформація   в   якому зафіксована у вигляді  електронних  даних,  включаючи  обов'язкові реквізи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 підпис - дані в електронній формі, які додаються до  інших  електронних  даних  або  логічно  з  ними  пов'язані та призначені для ідентифікації підписувача цих да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підпис не може бути визнаний недійсним лише через те, що він має електронну форму або не ґрунтується на посиленому сертифікаті клю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печатки і власноручного підпису на бухгалтерських документах прирівнюється застосування лише посиленого сертифікату клю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35600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784872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1224000" y="125892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user</dc:creator>
  <dc:description/>
  <dc:language>en-US</dc:language>
  <cp:lastModifiedBy>Учетная запись Майкрософт</cp:lastModifiedBy>
  <dcterms:modified xsi:type="dcterms:W3CDTF">2021-03-01T10:38:59Z</dcterms:modified>
  <cp:revision>315</cp:revision>
  <dc:subject/>
  <dc:title>Презентация PowerPoint</dc:title>
</cp:coreProperties>
</file>