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D82-A3C4-47F9-BC27-8D2D177B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4A0-3260-4406-9398-B09106AE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14C-D8DB-4C04-AC8A-A6C218E9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25F0-E248-40B9-B569-F71FDD0F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FEB-F77E-45F7-A98F-2B1FCCF9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04B-6D2C-4238-B376-1F06A831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BB4-06E7-4EDF-B0D7-60F0AE67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878-BD99-46C8-AE09-CABE1BCC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B0D-276F-4B00-9DE2-E55780A0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4582-43D4-41DC-B4E1-836CBB3F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538-DAEA-4951-94F4-793B49DA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88BF-D969-49FA-ABF0-65E14A4D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615A-F262-465D-9F6A-8748348AF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019560" y="2209320"/>
            <a:ext cx="2819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йсбольна коман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луб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кадемі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Фортец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9144000" cy="1218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 Black"/>
              </a:rPr>
              <a:t>Типи організаційної культури 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Arial Black"/>
              </a:rPr>
              <a:t>за підходом </a:t>
            </a:r>
            <a:r>
              <a:rPr b="1" lang="en-US" sz="3200" spc="-1" strike="noStrike">
                <a:solidFill>
                  <a:srgbClr val="009999"/>
                </a:solidFill>
                <a:latin typeface="Arial Black"/>
              </a:rPr>
              <a:t>Дж. Сонефельд</a:t>
            </a:r>
            <a:r>
              <a:rPr b="1" lang="uk-UA" sz="3200" spc="-1" strike="noStrike">
                <a:solidFill>
                  <a:srgbClr val="009999"/>
                </a:solidFill>
                <a:latin typeface="Arial Blac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10680" t="0" r="21359" b="0"/>
          <a:stretch/>
        </p:blipFill>
        <p:spPr>
          <a:xfrm>
            <a:off x="533520" y="2311560"/>
            <a:ext cx="51750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715000" y="220932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часть у постановці ці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ибір засобів досягнення ці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33520"/>
            <a:ext cx="9144000" cy="121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08080"/>
                </a:solidFill>
                <a:latin typeface="Arial Black"/>
              </a:rPr>
              <a:t>«Підприємницька культура</a:t>
            </a:r>
            <a:r>
              <a:rPr b="1" lang="en-US" sz="4400" spc="-1" strike="noStrike">
                <a:solidFill>
                  <a:srgbClr val="808080"/>
                </a:solidFill>
                <a:latin typeface="Arial Black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3360" y="2305080"/>
            <a:ext cx="48830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19560" y="2209320"/>
            <a:ext cx="2819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Швидка зворотна реакці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изикові ріш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реативне мисл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5072040" cy="3371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85800"/>
            <a:ext cx="9144000" cy="914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«</a:t>
            </a:r>
            <a:r>
              <a:rPr b="1" lang="uk-UA" sz="4400" spc="-1" strike="noStrike">
                <a:solidFill>
                  <a:srgbClr val="ffffff"/>
                </a:solidFill>
                <a:latin typeface="Arial Black"/>
              </a:rPr>
              <a:t>Бейсбольна команда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19560" y="2209320"/>
            <a:ext cx="2819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ідданість груп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громадження зн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озвиток гнучк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85800"/>
            <a:ext cx="9144000" cy="914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 Black"/>
              </a:rPr>
              <a:t>Культура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«</a:t>
            </a:r>
            <a:r>
              <a:rPr b="1" lang="uk-UA" sz="4400" spc="-1" strike="noStrike">
                <a:solidFill>
                  <a:srgbClr val="ffffff"/>
                </a:solidFill>
                <a:latin typeface="Arial Black"/>
              </a:rPr>
              <a:t>Клубна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2330280"/>
            <a:ext cx="490536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19560" y="2209320"/>
            <a:ext cx="2819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пеціалізація праців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бмежений розви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имагає стабі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85800"/>
            <a:ext cx="9144000" cy="914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 Black"/>
              </a:rPr>
              <a:t>Культура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«</a:t>
            </a:r>
            <a:r>
              <a:rPr b="1" lang="uk-UA" sz="4400" spc="-1" strike="noStrike">
                <a:solidFill>
                  <a:srgbClr val="ffffff"/>
                </a:solidFill>
                <a:latin typeface="Arial Black"/>
              </a:rPr>
              <a:t>Академія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2317680"/>
            <a:ext cx="503568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19560" y="2209320"/>
            <a:ext cx="2819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иникає у випадку кри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інімум гарантій зайнят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ипробовує працівни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85800"/>
            <a:ext cx="9144000" cy="914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 Black"/>
              </a:rPr>
              <a:t>Культура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«</a:t>
            </a:r>
            <a:r>
              <a:rPr b="1" lang="uk-UA" sz="4400" spc="-1" strike="noStrike">
                <a:solidFill>
                  <a:srgbClr val="ffffff"/>
                </a:solidFill>
                <a:latin typeface="Arial Black"/>
              </a:rPr>
              <a:t>Фортеця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2324160"/>
            <a:ext cx="487980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19560" y="2209320"/>
            <a:ext cx="2819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орпорати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онсультати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артизансь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ідприємниць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33520"/>
            <a:ext cx="9144000" cy="121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8080"/>
                </a:solidFill>
                <a:latin typeface="Arial Black"/>
              </a:rPr>
              <a:t>Типи організаційної культури </a:t>
            </a:r>
            <a:br>
              <a:rPr sz="3200"/>
            </a:br>
            <a:r>
              <a:rPr b="1" lang="uk-UA" sz="3200" spc="-1" strike="noStrike">
                <a:solidFill>
                  <a:srgbClr val="808080"/>
                </a:solidFill>
                <a:latin typeface="Arial Black"/>
              </a:rPr>
              <a:t>за підходом </a:t>
            </a:r>
            <a:r>
              <a:rPr b="1" lang="en-US" sz="3200" spc="-1" strike="noStrike">
                <a:solidFill>
                  <a:srgbClr val="6699ff"/>
                </a:solidFill>
                <a:latin typeface="Arial Black"/>
              </a:rPr>
              <a:t>Р. Акофф</a:t>
            </a:r>
            <a:r>
              <a:rPr b="1" lang="uk-UA" sz="3200" spc="-1" strike="noStrike">
                <a:solidFill>
                  <a:srgbClr val="6699ff"/>
                </a:solidFill>
                <a:latin typeface="Arial Black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2311560"/>
            <a:ext cx="507204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715000" y="2209320"/>
            <a:ext cx="3124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саджені ціл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ерована корпораці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Централізована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33520"/>
            <a:ext cx="9144000" cy="121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08080"/>
                </a:solidFill>
                <a:latin typeface="Arial Black"/>
              </a:rPr>
              <a:t>«Корпоративна культура</a:t>
            </a:r>
            <a:r>
              <a:rPr b="1" lang="en-US" sz="4400" spc="-1" strike="noStrike">
                <a:solidFill>
                  <a:srgbClr val="808080"/>
                </a:solidFill>
                <a:latin typeface="Arial Black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10092" t="0" r="9190" b="0"/>
          <a:stretch/>
        </p:blipFill>
        <p:spPr>
          <a:xfrm>
            <a:off x="533520" y="2303640"/>
            <a:ext cx="498312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715000" y="2209320"/>
            <a:ext cx="3124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часть у постановці ці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ля соціальних інституц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33520"/>
            <a:ext cx="9144000" cy="121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08080"/>
                </a:solidFill>
                <a:latin typeface="Arial Black"/>
              </a:rPr>
              <a:t>«Консультативна культура</a:t>
            </a:r>
            <a:r>
              <a:rPr b="1" lang="en-US" sz="4400" spc="-1" strike="noStrike">
                <a:solidFill>
                  <a:srgbClr val="808080"/>
                </a:solidFill>
                <a:latin typeface="Arial Black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2600" y="2311560"/>
            <a:ext cx="4849560" cy="35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715000" y="2209320"/>
            <a:ext cx="3124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саджені ціл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</a:rPr>
              <a:t>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ля закладів сфери культу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33520"/>
            <a:ext cx="9144000" cy="121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08080"/>
                </a:solidFill>
                <a:latin typeface="Arial Black"/>
              </a:rPr>
              <a:t>«Партизанська культура</a:t>
            </a:r>
            <a:r>
              <a:rPr b="1" lang="en-US" sz="4400" spc="-1" strike="noStrike">
                <a:solidFill>
                  <a:srgbClr val="808080"/>
                </a:solidFill>
                <a:latin typeface="Arial Black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3360" y="2305080"/>
            <a:ext cx="48830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03T06:53:27Z</dcterms:created>
  <dc:creator>Анна-Слава</dc:creator>
  <dc:description/>
  <dc:language>en-US</dc:language>
  <cp:lastModifiedBy>Анна-Слава</cp:lastModifiedBy>
  <dcterms:modified xsi:type="dcterms:W3CDTF">2021-03-03T07:45:0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