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D38-383B-4EDB-BDF4-CB984454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297-8A83-4F2B-ACBA-479FEA0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C57-D773-4076-A6A0-9079EA79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DE0-0924-4C40-8957-30DFF8B6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758-AA67-4E66-9BD9-F17C17CE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F32-104A-4BEB-9376-98EB617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173-9A03-4FD2-B4B4-D818BA99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BDD-6A60-477E-89CC-9AE77FE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FE6-9923-43E3-9CD8-CF40E2AA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F27-4CE5-4B45-A524-E7AD0834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14C-CB50-4A3A-950B-B30E302D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088-4823-49A6-BC15-9B2F590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914-1CDD-49B3-AE69-868AA2AA1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йсбольна кома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луб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кадем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тец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 Black"/>
              </a:rPr>
              <a:t>Типи організаційної культури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 Black"/>
              </a:rPr>
              <a:t>за підходом </a:t>
            </a: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Дж. Сонефельд</a:t>
            </a:r>
            <a:r>
              <a:rPr b="1" lang="uk-UA" sz="3200" spc="-1" strike="noStrike">
                <a:solidFill>
                  <a:srgbClr val="009999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0680" t="0" r="21359" b="0"/>
          <a:stretch/>
        </p:blipFill>
        <p:spPr>
          <a:xfrm>
            <a:off x="533520" y="2311560"/>
            <a:ext cx="5175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асть у постановці ці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бір засобів досягнення ці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Підприємницьк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3360" y="2305080"/>
            <a:ext cx="48830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видка зворотна реакц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зикові ріш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еативне мис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5072040" cy="337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Бейсбольна команда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ідданість груп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громадження зн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озвиток гнучк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ультура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лубна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330280"/>
            <a:ext cx="4905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пеціалізація праці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межений розви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магає стабі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ультура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Академія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317680"/>
            <a:ext cx="50356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икає у випадку кри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інімум гарантій зайнят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пробовує праців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ультура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Фортеця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324160"/>
            <a:ext cx="48798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рпорати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нсультати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артизансь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ідприємниць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 Black"/>
              </a:rPr>
              <a:t>Типи організаційної культури </a:t>
            </a:r>
            <a:br>
              <a:rPr sz="3200"/>
            </a:br>
            <a:r>
              <a:rPr b="1" lang="uk-UA" sz="3200" spc="-1" strike="noStrike">
                <a:solidFill>
                  <a:srgbClr val="808080"/>
                </a:solidFill>
                <a:latin typeface="Arial Black"/>
              </a:rPr>
              <a:t>за підходом </a:t>
            </a:r>
            <a:r>
              <a:rPr b="1" lang="en-US" sz="3200" spc="-1" strike="noStrike">
                <a:solidFill>
                  <a:srgbClr val="6699ff"/>
                </a:solidFill>
                <a:latin typeface="Arial Black"/>
              </a:rPr>
              <a:t>Р. Акофф</a:t>
            </a:r>
            <a:r>
              <a:rPr b="1" lang="uk-UA" sz="3200" spc="-1" strike="noStrike">
                <a:solidFill>
                  <a:srgbClr val="6699ff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311560"/>
            <a:ext cx="5072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саджені ці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ерована корпорац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нтралізована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Корпоративн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0092" t="0" r="9190" b="0"/>
          <a:stretch/>
        </p:blipFill>
        <p:spPr>
          <a:xfrm>
            <a:off x="533520" y="2303640"/>
            <a:ext cx="49831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асть у постановці ці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соціальних інститу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Консультативн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2600" y="2311560"/>
            <a:ext cx="484956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саджені ці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закладів сфери куль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Партизанськ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3360" y="2305080"/>
            <a:ext cx="48830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3T06:53:27Z</dcterms:created>
  <dc:creator>Анна-Слава</dc:creator>
  <dc:description/>
  <dc:language>en-US</dc:language>
  <cp:lastModifiedBy>Анна-Слава</cp:lastModifiedBy>
  <dcterms:modified xsi:type="dcterms:W3CDTF">2021-03-03T07:45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