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D606-132B-4126-ACE9-E2042A2D3E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DF24-3585-492D-A6F7-830A24FD60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2DD-0CAC-4508-8B57-DA39496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1A1-E2A1-448D-A624-20A4863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3C-9772-4E0D-88A8-981E8214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35B-3AB4-448B-A693-E66BDB6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A464-285A-49DC-AFC6-CD0ED88A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65E4-64D7-42E4-86EE-50246EB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F6A7-2005-4ECD-B416-CC0E1A9D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B363-3B6C-43AE-B409-6191795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1C0-2346-489E-A77E-30B82AA8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7C17-4ADD-4BBC-9603-9F7D990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800-6D33-4BFA-9604-9F7649DF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1CC-EFE8-4594-B669-EC625049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33A-AB32-4830-A75E-5CA7A684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6F08-951D-4741-AE59-A0DE45C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C785-5B81-45D3-A6EE-359D094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16B4-FB39-48FB-8C49-24B464DF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539C-AC6A-4A38-B8A7-F5C27AAA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8F86-8CAB-413E-954A-29A21310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404E-E794-4D83-AC08-8F890AED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D128-FE2D-4046-8C71-8950DF1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A9EEB-47D1-452C-8CF3-ACA44588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0461-D3BA-4621-B577-A8F4D833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7B6-7142-45D4-904A-A38E368B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4C8D-F35D-4D60-8724-95BF64D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11AC-EC40-43F7-A0DD-8862352A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7B30-F4FC-4977-9C3A-D23686C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AEB0-356F-4BEA-8CDF-0F3B78B8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9DA7-11FC-4E56-B183-F921E1BC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F76F8-3570-48E4-88B7-C2F4CC72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276AD-9DE1-4D06-8657-88A643D1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6E61E-2EB0-458C-B25F-57D42A1B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2ABC-D09F-4E08-88CC-D585804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2E74-E0BD-4338-BCAF-DECC0DA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6CF-7F15-4BCB-BD81-E9C6D400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DABE-6649-4561-9488-5534978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2525-C731-4CAD-8E94-0ADD15DF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F9CF-C9B4-48B4-940B-49F8C442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051C-1BFD-4EC5-BA31-B66F7FE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64FB-6C74-47EA-88F1-46E17BB9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DAF7-9909-43B6-83B5-2B7B1F9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CF4E-36BC-406A-984D-6C3095A1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96A6-EECA-4CDC-8D59-3215E9FF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0647-CF01-4DC1-8826-CD1A1A54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D770-D285-4EEA-B5E8-8C466FFC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ED0-EA4D-484B-A6D1-F65ABC37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4213-5D90-4D16-B8A2-528A777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AE1E6-20EE-4F13-A383-6303D11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4178A-2B3E-472C-8803-B3BA77F8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53A6-FB7E-4C32-9ABA-6514EBC9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E646E-58BE-4CBE-8F0B-6C40AED4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E4E6-B749-4800-BA9C-58A704E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2DE4-0DA0-4464-B7E3-276A4D7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EAA23-6AAB-4FDA-950A-129D307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943CC-8F1A-428C-93AA-C6266B44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81F4E-7BB0-4BEF-A225-E5DA201D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552-04D1-47DD-91F2-BF47649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7574-4E64-4F56-A99C-E5463C60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76BA-567C-4C36-98A1-2C9108AC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616B-4AFA-4FDE-B250-83C9B4A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386B-3EFE-4F15-9406-D689A3C8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94E95-8660-45D2-9B70-E6916C5A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A901-6984-44CC-9678-FAA9E3B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1A42-152B-413D-BA77-D7E203D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C16B0-C401-4871-9570-7F8ABE16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F163E-2D5F-4A84-B5A2-D63F50E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33A8-5BCB-45EC-B60D-DD6A9401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873-9968-4171-98DB-BC40203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AC1D-D591-496E-8E29-3F380EC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9D076-6D47-4057-8916-DD5E616D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C4E47-6DE5-49A9-A517-AE822F2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A7BE-66CA-40C0-818F-F6F12C6E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87394-A80B-48E4-9AEA-46431DB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A689-A4A2-4AB5-9EEE-9B77EBB1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28C42-1D55-4592-B37D-19C542BE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89A01-CD12-4D66-84BD-7588D571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F88B5-395B-492E-BC32-1689FA2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BED1-0730-48AA-BF68-B425A589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897-FDB2-423D-8F8E-E98AC7E0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58520-295E-48DB-8E43-5B6FEEE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8267-A918-4A83-838D-9BE3F2E9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9B1D-D845-42C9-A889-3E4A398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EF38-7692-4FC6-9CB8-C33B0EE2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35FB-CB42-4DD5-8952-280CA7E9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C5C-06AB-4B60-B988-85248CF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8C8-AC65-4C2B-A45C-0250209FD8D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173-AEC7-4710-AF75-DF35E4612BC5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2780-642D-4265-B744-98612783C91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3CC1-FB7C-4EE0-AE23-58D61BBA72B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932-7003-4A90-9E43-ABA4B9C4026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84A6-AF02-4B23-ADE1-4E14AA39E80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80B2-7E4C-40EB-9AA7-75B690C210E9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2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7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22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9800" y="669960"/>
            <a:ext cx="8515440" cy="1628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438120" y="2919240"/>
            <a:ext cx="8675640" cy="298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1"/>
          <p:cNvSpPr/>
          <p:nvPr/>
        </p:nvSpPr>
        <p:spPr>
          <a:xfrm>
            <a:off x="324000" y="909720"/>
            <a:ext cx="8145360" cy="5832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ОВ “Яна” виробляє один вид продукції – радіотелефони, з ціною реалізації 200 грн. за одиницю. Витрати підприємства на виробництво продукції складають: змінні витрати на одиницю – 140 грн., загальні постійні витрати – 2400 грн. Керівництво бажає знати, який обсяг реалізації дозволить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досягти беззбитковост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отримати прибуток 600 грн.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изначити прибуток від реалізації 1300 телефоні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Скругленный прямоугольник 1"/>
          <p:cNvSpPr/>
          <p:nvPr/>
        </p:nvSpPr>
        <p:spPr>
          <a:xfrm>
            <a:off x="324000" y="1268280"/>
            <a:ext cx="8145360" cy="5616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ржинальний дохід на одиницю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 – Зм витр на од. = 200 – 140 = 6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н.од.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 витр / МД на од. = 2400 : 60 = 4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ефіцієнт маржинального доходу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 на од / Ціна на од. = 60 : 200 = 0,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чка беззбитковості в грошових одиниця = Пост витрати / Коеф МД =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0 : 0,3 = 8000 грн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324000" y="1268280"/>
            <a:ext cx="8145360" cy="4824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сяг реалізації, що дозволить отримати прибуток 600 грн.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Пост. Витрати + БП)/ МД на од. = (2400 + 600) / 60 = 50 ш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уток від реалізації 1300 телефонів = Обсяг реалізації х МД на од. – Постійні витрати =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0 х 60 – 2400 = 75600 гр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Овал 2"/>
          <p:cNvSpPr/>
          <p:nvPr/>
        </p:nvSpPr>
        <p:spPr>
          <a:xfrm>
            <a:off x="539640" y="115920"/>
            <a:ext cx="3168720" cy="1009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12600"/>
            <a:ext cx="7278840" cy="62712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8"/>
          <p:cNvSpPr/>
          <p:nvPr/>
        </p:nvSpPr>
        <p:spPr>
          <a:xfrm>
            <a:off x="3419640" y="765000"/>
            <a:ext cx="5126040" cy="863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ередбачає побудову графіку беззбитковост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Стрелка вправо с вырезом 9"/>
          <p:cNvSpPr/>
          <p:nvPr/>
        </p:nvSpPr>
        <p:spPr>
          <a:xfrm>
            <a:off x="71280" y="692280"/>
            <a:ext cx="3276720" cy="1008000"/>
          </a:xfrm>
          <a:custGeom>
            <a:avLst/>
            <a:gdLst>
              <a:gd name="textAreaLeft" fmla="*/ 252000 w 3276720"/>
              <a:gd name="textAreaRight" fmla="*/ 3024720 w 327672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277" y="5400"/>
                </a:lnTo>
                <a:lnTo>
                  <a:pt x="18277" y="0"/>
                </a:lnTo>
                <a:lnTo>
                  <a:pt x="21600" y="10800"/>
                </a:lnTo>
                <a:lnTo>
                  <a:pt x="18277" y="21600"/>
                </a:lnTo>
                <a:lnTo>
                  <a:pt x="18277" y="16200"/>
                </a:lnTo>
                <a:lnTo>
                  <a:pt x="0" y="16200"/>
                </a:lnTo>
                <a:lnTo>
                  <a:pt x="166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Графіч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Прямоугольник 6" descr=""/>
          <p:cNvPicPr/>
          <p:nvPr/>
        </p:nvPicPr>
        <p:blipFill>
          <a:blip r:embed="rId2"/>
          <a:stretch/>
        </p:blipFill>
        <p:spPr>
          <a:xfrm>
            <a:off x="981000" y="1736640"/>
            <a:ext cx="6993000" cy="69552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11"/>
          <p:cNvSpPr/>
          <p:nvPr/>
        </p:nvSpPr>
        <p:spPr>
          <a:xfrm>
            <a:off x="428760" y="23493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Скругленный прямоугольник 12"/>
          <p:cNvSpPr/>
          <p:nvPr/>
        </p:nvSpPr>
        <p:spPr>
          <a:xfrm>
            <a:off x="1857240" y="2558880"/>
            <a:ext cx="6120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обудова осей графі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Стрелка вправо с вырезом 13"/>
          <p:cNvSpPr/>
          <p:nvPr/>
        </p:nvSpPr>
        <p:spPr>
          <a:xfrm>
            <a:off x="738360" y="306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Скругленный прямоугольник 14"/>
          <p:cNvSpPr/>
          <p:nvPr/>
        </p:nvSpPr>
        <p:spPr>
          <a:xfrm>
            <a:off x="2197080" y="3260880"/>
            <a:ext cx="61200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постій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Стрелка вправо с вырезом 15"/>
          <p:cNvSpPr/>
          <p:nvPr/>
        </p:nvSpPr>
        <p:spPr>
          <a:xfrm>
            <a:off x="984240" y="378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Скругленный прямоугольник 16"/>
          <p:cNvSpPr/>
          <p:nvPr/>
        </p:nvSpPr>
        <p:spPr>
          <a:xfrm>
            <a:off x="2413080" y="4003560"/>
            <a:ext cx="611964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Стрелка вправо с вырезом 17"/>
          <p:cNvSpPr/>
          <p:nvPr/>
        </p:nvSpPr>
        <p:spPr>
          <a:xfrm>
            <a:off x="1293840" y="4508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Скругленный прямоугольник 18"/>
          <p:cNvSpPr/>
          <p:nvPr/>
        </p:nvSpPr>
        <p:spPr>
          <a:xfrm>
            <a:off x="2773440" y="4683240"/>
            <a:ext cx="590220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Стрелка вправо с вырезом 19"/>
          <p:cNvSpPr/>
          <p:nvPr/>
        </p:nvSpPr>
        <p:spPr>
          <a:xfrm>
            <a:off x="1560600" y="5229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Скругленный прямоугольник 20"/>
          <p:cNvSpPr/>
          <p:nvPr/>
        </p:nvSpPr>
        <p:spPr>
          <a:xfrm>
            <a:off x="2989440" y="5443560"/>
            <a:ext cx="5830560" cy="5396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озрахунок доходу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Стрелка вправо с вырезом 21"/>
          <p:cNvSpPr/>
          <p:nvPr/>
        </p:nvSpPr>
        <p:spPr>
          <a:xfrm>
            <a:off x="1797120" y="5950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Скругленный прямоугольник 22"/>
          <p:cNvSpPr/>
          <p:nvPr/>
        </p:nvSpPr>
        <p:spPr>
          <a:xfrm>
            <a:off x="3205080" y="6157800"/>
            <a:ext cx="5688000" cy="54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Нанесення лінії заг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68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9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0" name="Прямоугольник 17" descr=""/>
          <p:cNvPicPr/>
          <p:nvPr/>
        </p:nvPicPr>
        <p:blipFill>
          <a:blip r:embed="rId2"/>
          <a:stretch/>
        </p:blipFill>
        <p:spPr>
          <a:xfrm>
            <a:off x="-19080" y="341280"/>
            <a:ext cx="824040" cy="21700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8" descr=""/>
          <p:cNvPicPr/>
          <p:nvPr/>
        </p:nvPicPr>
        <p:blipFill>
          <a:blip r:embed="rId3"/>
          <a:stretch/>
        </p:blipFill>
        <p:spPr>
          <a:xfrm>
            <a:off x="5559480" y="5303880"/>
            <a:ext cx="3176640" cy="69516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24" descr=""/>
          <p:cNvPicPr/>
          <p:nvPr/>
        </p:nvPicPr>
        <p:blipFill>
          <a:blip r:embed="rId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74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76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Прямоугольник 30" descr=""/>
          <p:cNvPicPr/>
          <p:nvPr/>
        </p:nvPicPr>
        <p:blipFill>
          <a:blip r:embed="rId7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383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Прямоугольник 37" descr=""/>
          <p:cNvPicPr/>
          <p:nvPr/>
        </p:nvPicPr>
        <p:blipFill>
          <a:blip r:embed="rId8"/>
          <a:stretch/>
        </p:blipFill>
        <p:spPr>
          <a:xfrm>
            <a:off x="2127240" y="4456080"/>
            <a:ext cx="3468600" cy="43344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24" descr=""/>
          <p:cNvPicPr/>
          <p:nvPr/>
        </p:nvPicPr>
        <p:blipFill>
          <a:blip r:embed="rId9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387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числення загальних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У = а + </a:t>
              </a: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Х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У = 2400 + 140 х20 = 52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9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391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92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93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397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Прямоугольник 29" descr=""/>
          <p:cNvPicPr/>
          <p:nvPr/>
        </p:nvPicPr>
        <p:blipFill>
          <a:blip r:embed="rId8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30" descr=""/>
          <p:cNvPicPr/>
          <p:nvPr/>
        </p:nvPicPr>
        <p:blipFill>
          <a:blip r:embed="rId9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03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8" descr=""/>
          <p:cNvPicPr/>
          <p:nvPr/>
        </p:nvPicPr>
        <p:blipFill>
          <a:blip r:embed="rId10"/>
          <a:stretch/>
        </p:blipFill>
        <p:spPr>
          <a:xfrm>
            <a:off x="1311120" y="2670120"/>
            <a:ext cx="3267360" cy="151776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24" descr=""/>
          <p:cNvPicPr/>
          <p:nvPr/>
        </p:nvPicPr>
        <p:blipFill>
          <a:blip r:embed="rId11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Rectangle 3"/>
          <p:cNvGrpSpPr/>
          <p:nvPr/>
        </p:nvGrpSpPr>
        <p:grpSpPr>
          <a:xfrm>
            <a:off x="438120" y="1328760"/>
            <a:ext cx="8613720" cy="2273400"/>
            <a:chOff x="438120" y="1328760"/>
            <a:chExt cx="8613720" cy="2273400"/>
          </a:xfrm>
        </p:grpSpPr>
        <p:pic>
          <p:nvPicPr>
            <p:cNvPr id="408" name="Rectangle 3" descr=""/>
            <p:cNvPicPr/>
            <p:nvPr/>
          </p:nvPicPr>
          <p:blipFill>
            <a:blip r:embed="rId1"/>
            <a:stretch/>
          </p:blipFill>
          <p:spPr>
            <a:xfrm>
              <a:off x="438120" y="1328760"/>
              <a:ext cx="861372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4360" y="1484280"/>
              <a:ext cx="831672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Розрахунок доходу від реалізації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000" spc="-1" strike="noStrike">
                  <a:solidFill>
                    <a:srgbClr val="ffffff"/>
                  </a:solidFill>
                  <a:latin typeface="Times New Roman"/>
                </a:rPr>
                <a:t>Дохід = Обсяг реалізації  х Ціна за од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= 2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Дохід = 20 х 200 = 4000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0" name="Прямоугольник 3" descr=""/>
          <p:cNvPicPr/>
          <p:nvPr/>
        </p:nvPicPr>
        <p:blipFill>
          <a:blip r:embed="rId2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6035760"/>
            <a:ext cx="6540480" cy="699840"/>
          </a:xfrm>
          <a:prstGeom prst="rect">
            <a:avLst/>
          </a:prstGeom>
          <a:ln w="0">
            <a:noFill/>
          </a:ln>
        </p:spPr>
      </p:pic>
      <p:cxnSp>
        <p:nvCxnSpPr>
          <p:cNvPr id="412" name="Прямая со стрелкой 9"/>
          <p:cNvCxnSpPr/>
          <p:nvPr/>
        </p:nvCxnSpPr>
        <p:spPr>
          <a:xfrm>
            <a:off x="999720" y="5285880"/>
            <a:ext cx="7287480" cy="2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413" name="Прямая со стрелкой 12"/>
          <p:cNvCxnSpPr/>
          <p:nvPr/>
        </p:nvCxnSpPr>
        <p:spPr>
          <a:xfrm flipV="1">
            <a:off x="998640" y="428400"/>
            <a:ext cx="2160" cy="4857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14" name="Прямоугольник 14" descr=""/>
          <p:cNvPicPr/>
          <p:nvPr/>
        </p:nvPicPr>
        <p:blipFill>
          <a:blip r:embed="rId2"/>
          <a:stretch/>
        </p:blipFill>
        <p:spPr>
          <a:xfrm>
            <a:off x="-19080" y="4340160"/>
            <a:ext cx="1036800" cy="46368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15" descr=""/>
          <p:cNvPicPr/>
          <p:nvPr/>
        </p:nvPicPr>
        <p:blipFill>
          <a:blip r:embed="rId3"/>
          <a:stretch/>
        </p:blipFill>
        <p:spPr>
          <a:xfrm>
            <a:off x="-19080" y="2908440"/>
            <a:ext cx="1036800" cy="46800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16" descr=""/>
          <p:cNvPicPr/>
          <p:nvPr/>
        </p:nvPicPr>
        <p:blipFill>
          <a:blip r:embed="rId4"/>
          <a:stretch/>
        </p:blipFill>
        <p:spPr>
          <a:xfrm>
            <a:off x="-23760" y="1122480"/>
            <a:ext cx="1047600" cy="46836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17" descr=""/>
          <p:cNvPicPr/>
          <p:nvPr/>
        </p:nvPicPr>
        <p:blipFill>
          <a:blip r:embed="rId5"/>
          <a:stretch/>
        </p:blipFill>
        <p:spPr>
          <a:xfrm>
            <a:off x="328680" y="341280"/>
            <a:ext cx="48240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Прямоугольник 18" descr=""/>
          <p:cNvPicPr/>
          <p:nvPr/>
        </p:nvPicPr>
        <p:blipFill>
          <a:blip r:embed="rId6"/>
          <a:stretch/>
        </p:blipFill>
        <p:spPr>
          <a:xfrm>
            <a:off x="8248680" y="541332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419" name="Прямоугольник 19" descr=""/>
          <p:cNvPicPr/>
          <p:nvPr/>
        </p:nvPicPr>
        <p:blipFill>
          <a:blip r:embed="rId7"/>
          <a:stretch/>
        </p:blipFill>
        <p:spPr>
          <a:xfrm>
            <a:off x="4194000" y="5479920"/>
            <a:ext cx="1036800" cy="47016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ая соединительная линия 21"/>
          <p:cNvSpPr/>
          <p:nvPr/>
        </p:nvSpPr>
        <p:spPr>
          <a:xfrm>
            <a:off x="1000080" y="4429080"/>
            <a:ext cx="635796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23"/>
          <p:cNvSpPr/>
          <p:nvPr/>
        </p:nvSpPr>
        <p:spPr>
          <a:xfrm flipV="1">
            <a:off x="1000080" y="1856880"/>
            <a:ext cx="6357960" cy="3429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25"/>
          <p:cNvSpPr/>
          <p:nvPr/>
        </p:nvSpPr>
        <p:spPr>
          <a:xfrm flipV="1">
            <a:off x="1000080" y="2642760"/>
            <a:ext cx="6357960" cy="1785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Блок-схема: узел 26"/>
          <p:cNvSpPr/>
          <p:nvPr/>
        </p:nvSpPr>
        <p:spPr>
          <a:xfrm>
            <a:off x="4214880" y="3429000"/>
            <a:ext cx="142920" cy="21420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Прямоугольник 27" descr=""/>
          <p:cNvPicPr/>
          <p:nvPr/>
        </p:nvPicPr>
        <p:blipFill>
          <a:blip r:embed="rId8"/>
          <a:stretch/>
        </p:blipFill>
        <p:spPr>
          <a:xfrm>
            <a:off x="2176560" y="2548080"/>
            <a:ext cx="2340000" cy="82836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28" descr=""/>
          <p:cNvPicPr/>
          <p:nvPr/>
        </p:nvPicPr>
        <p:blipFill>
          <a:blip r:embed="rId9"/>
          <a:stretch/>
        </p:blipFill>
        <p:spPr>
          <a:xfrm>
            <a:off x="7553160" y="1841400"/>
            <a:ext cx="1640160" cy="4636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29" descr=""/>
          <p:cNvPicPr/>
          <p:nvPr/>
        </p:nvPicPr>
        <p:blipFill>
          <a:blip r:embed="rId10"/>
          <a:stretch/>
        </p:blipFill>
        <p:spPr>
          <a:xfrm>
            <a:off x="7553160" y="3048120"/>
            <a:ext cx="1609920" cy="6886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30" descr=""/>
          <p:cNvPicPr/>
          <p:nvPr/>
        </p:nvPicPr>
        <p:blipFill>
          <a:blip r:embed="rId11"/>
          <a:stretch/>
        </p:blipFill>
        <p:spPr>
          <a:xfrm>
            <a:off x="7553160" y="4511520"/>
            <a:ext cx="1609920" cy="719280"/>
          </a:xfrm>
          <a:prstGeom prst="rect">
            <a:avLst/>
          </a:prstGeom>
          <a:ln w="0">
            <a:noFill/>
          </a:ln>
        </p:spPr>
      </p:pic>
      <p:sp>
        <p:nvSpPr>
          <p:cNvPr id="428" name="Правая фигурная скобка 33"/>
          <p:cNvSpPr/>
          <p:nvPr/>
        </p:nvSpPr>
        <p:spPr>
          <a:xfrm>
            <a:off x="7358040" y="185724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авая фигурная скобка 34"/>
          <p:cNvSpPr/>
          <p:nvPr/>
        </p:nvSpPr>
        <p:spPr>
          <a:xfrm>
            <a:off x="7358040" y="2643120"/>
            <a:ext cx="142920" cy="1785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785960"/>
              <a:gd name="textAreaBottom" fmla="*/ 17823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4"/>
                </a:cubicBezTo>
                <a:lnTo>
                  <a:pt x="10800" y="10656"/>
                </a:lnTo>
                <a:cubicBezTo>
                  <a:pt x="10800" y="10728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4"/>
                </a:cubicBezTo>
                <a:lnTo>
                  <a:pt x="10800" y="21456"/>
                </a:lnTo>
                <a:cubicBezTo>
                  <a:pt x="10800" y="215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авая фигурная скобка 36"/>
          <p:cNvSpPr/>
          <p:nvPr/>
        </p:nvSpPr>
        <p:spPr>
          <a:xfrm>
            <a:off x="7358040" y="4429080"/>
            <a:ext cx="142920" cy="8571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857160"/>
              <a:gd name="textAreaBottom" fmla="*/ 8535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Прямоугольник 37" descr=""/>
          <p:cNvPicPr/>
          <p:nvPr/>
        </p:nvPicPr>
        <p:blipFill>
          <a:blip r:embed="rId12"/>
          <a:stretch/>
        </p:blipFill>
        <p:spPr>
          <a:xfrm>
            <a:off x="2114640" y="3498840"/>
            <a:ext cx="2560680" cy="17254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38" descr=""/>
          <p:cNvPicPr/>
          <p:nvPr/>
        </p:nvPicPr>
        <p:blipFill>
          <a:blip r:embed="rId13"/>
          <a:stretch/>
        </p:blipFill>
        <p:spPr>
          <a:xfrm>
            <a:off x="1292400" y="3700440"/>
            <a:ext cx="480960" cy="39060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24" descr=""/>
          <p:cNvPicPr/>
          <p:nvPr/>
        </p:nvPicPr>
        <p:blipFill>
          <a:blip r:embed="rId14"/>
          <a:stretch/>
        </p:blipFill>
        <p:spPr>
          <a:xfrm>
            <a:off x="5705640" y="444600"/>
            <a:ext cx="3395520" cy="62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вырезанными противолежащими углами 4"/>
          <p:cNvSpPr/>
          <p:nvPr/>
        </p:nvSpPr>
        <p:spPr>
          <a:xfrm>
            <a:off x="285840" y="1357200"/>
            <a:ext cx="8643960" cy="40719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Мета і методи аналізу взаємозвязку “витрати – обсяг – прибуток”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чутливості прибутку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Arial"/>
              </a:rPr>
              <a:t>Аналіз взаємозвязку “витрати – обсяг – прибуток” за умов асортименту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7055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435" name="Rectangle 3"/>
          <p:cNvGrpSpPr/>
          <p:nvPr/>
        </p:nvGrpSpPr>
        <p:grpSpPr>
          <a:xfrm>
            <a:off x="1468440" y="2487600"/>
            <a:ext cx="7742160" cy="1401840"/>
            <a:chOff x="1468440" y="2487600"/>
            <a:chExt cx="7742160" cy="1401840"/>
          </a:xfrm>
        </p:grpSpPr>
        <p:pic>
          <p:nvPicPr>
            <p:cNvPr id="436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714680" y="2643120"/>
              <a:ext cx="72864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изначення впливу на прибуток змінних витрат, ціни та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731880"/>
            <a:ext cx="87537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Стрелка вправо с вырезом 20"/>
          <p:cNvSpPr/>
          <p:nvPr/>
        </p:nvSpPr>
        <p:spPr>
          <a:xfrm>
            <a:off x="500040" y="21002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Скругленный прямоугольник 16"/>
          <p:cNvSpPr/>
          <p:nvPr/>
        </p:nvSpPr>
        <p:spPr>
          <a:xfrm>
            <a:off x="1928880" y="210024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Стрелка вправо с вырезом 8"/>
          <p:cNvSpPr/>
          <p:nvPr/>
        </p:nvSpPr>
        <p:spPr>
          <a:xfrm>
            <a:off x="500040" y="32148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Скругленный прямоугольник 9"/>
          <p:cNvSpPr/>
          <p:nvPr/>
        </p:nvSpPr>
        <p:spPr>
          <a:xfrm>
            <a:off x="1928880" y="321480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Стрелка вправо с вырезом 6"/>
          <p:cNvSpPr/>
          <p:nvPr/>
        </p:nvSpPr>
        <p:spPr>
          <a:xfrm>
            <a:off x="500040" y="43149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1928880" y="4314960"/>
            <a:ext cx="611964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пераційний важіль (леверидж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Прямоугольник 1" descr=""/>
          <p:cNvPicPr/>
          <p:nvPr/>
        </p:nvPicPr>
        <p:blipFill>
          <a:blip r:embed="rId1"/>
          <a:stretch/>
        </p:blipFill>
        <p:spPr>
          <a:xfrm>
            <a:off x="85680" y="365040"/>
            <a:ext cx="8966160" cy="1513080"/>
          </a:xfrm>
          <a:prstGeom prst="rect">
            <a:avLst/>
          </a:prstGeom>
          <a:ln w="0">
            <a:noFill/>
          </a:ln>
        </p:spPr>
      </p:pic>
      <p:sp>
        <p:nvSpPr>
          <p:cNvPr id="446" name="Скругленный прямоугольник 16"/>
          <p:cNvSpPr/>
          <p:nvPr/>
        </p:nvSpPr>
        <p:spPr>
          <a:xfrm>
            <a:off x="1928880" y="210024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прибутк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Скругленный прямоугольник 10"/>
          <p:cNvSpPr/>
          <p:nvPr/>
        </p:nvSpPr>
        <p:spPr>
          <a:xfrm>
            <a:off x="4000680" y="32148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Скругленный прямоугольник 11"/>
          <p:cNvSpPr/>
          <p:nvPr/>
        </p:nvSpPr>
        <p:spPr>
          <a:xfrm>
            <a:off x="2071800" y="400068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міна обсягу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Скругленный прямоугольник 12"/>
          <p:cNvSpPr/>
          <p:nvPr/>
        </p:nvSpPr>
        <p:spPr>
          <a:xfrm>
            <a:off x="4071960" y="5000760"/>
            <a:ext cx="92880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Скругленный прямоугольник 13"/>
          <p:cNvSpPr/>
          <p:nvPr/>
        </p:nvSpPr>
        <p:spPr>
          <a:xfrm>
            <a:off x="2000160" y="5715000"/>
            <a:ext cx="49291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-12600" y="237960"/>
            <a:ext cx="4419360" cy="100512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3"/>
          <p:cNvGrpSpPr/>
          <p:nvPr/>
        </p:nvGrpSpPr>
        <p:grpSpPr>
          <a:xfrm>
            <a:off x="1042920" y="987480"/>
            <a:ext cx="8021880" cy="1689120"/>
            <a:chOff x="1042920" y="987480"/>
            <a:chExt cx="8021880" cy="1689120"/>
          </a:xfrm>
        </p:grpSpPr>
        <p:pic>
          <p:nvPicPr>
            <p:cNvPr id="453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987480"/>
              <a:ext cx="80218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285920" y="114300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Величина, на яку фактичний (або запланований) обсяг реалізації перевищує критичний обсяг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очка беззбитков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-85680" y="36360"/>
            <a:ext cx="44197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461" name="Rectangle 3"/>
          <p:cNvGrpSpPr/>
          <p:nvPr/>
        </p:nvGrpSpPr>
        <p:grpSpPr>
          <a:xfrm>
            <a:off x="1042920" y="1133640"/>
            <a:ext cx="8021880" cy="1682640"/>
            <a:chOff x="1042920" y="1133640"/>
            <a:chExt cx="8021880" cy="1682640"/>
          </a:xfrm>
        </p:grpSpPr>
        <p:pic>
          <p:nvPicPr>
            <p:cNvPr id="462" name="Rectangle 3" descr=""/>
            <p:cNvPicPr/>
            <p:nvPr/>
          </p:nvPicPr>
          <p:blipFill>
            <a:blip r:embed="rId2"/>
            <a:stretch/>
          </p:blipFill>
          <p:spPr>
            <a:xfrm>
              <a:off x="1042920" y="1133640"/>
              <a:ext cx="80218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1285920" y="1285920"/>
              <a:ext cx="75722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піввідношення запасу міцності та фактичного (або запланованого) обсягу реалізації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4" name="Скругленный прямоугольник 3"/>
          <p:cNvSpPr/>
          <p:nvPr/>
        </p:nvSpPr>
        <p:spPr>
          <a:xfrm>
            <a:off x="1928880" y="2886120"/>
            <a:ext cx="5572080" cy="5713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іцієнт запасу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Скругленный прямоугольник 4"/>
          <p:cNvSpPr/>
          <p:nvPr/>
        </p:nvSpPr>
        <p:spPr>
          <a:xfrm>
            <a:off x="4000680" y="3643200"/>
            <a:ext cx="928440" cy="6429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Скругленный прямоугольник 5"/>
          <p:cNvSpPr/>
          <p:nvPr/>
        </p:nvSpPr>
        <p:spPr>
          <a:xfrm>
            <a:off x="2071800" y="442908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Запас міцност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Скругленный прямоугольник 6"/>
          <p:cNvSpPr/>
          <p:nvPr/>
        </p:nvSpPr>
        <p:spPr>
          <a:xfrm>
            <a:off x="4071960" y="5143680"/>
            <a:ext cx="928800" cy="642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Скругленный прямоугольник 7"/>
          <p:cNvSpPr/>
          <p:nvPr/>
        </p:nvSpPr>
        <p:spPr>
          <a:xfrm>
            <a:off x="2000160" y="5929200"/>
            <a:ext cx="5572080" cy="5716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201600"/>
            <a:ext cx="8753400" cy="104760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Скругленный прямоугольник 16"/>
          <p:cNvSpPr/>
          <p:nvPr/>
        </p:nvSpPr>
        <p:spPr>
          <a:xfrm>
            <a:off x="1403280" y="1571760"/>
            <a:ext cx="7596360" cy="849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Стрелка вправо с вырезом 8"/>
          <p:cNvSpPr/>
          <p:nvPr/>
        </p:nvSpPr>
        <p:spPr>
          <a:xfrm>
            <a:off x="108000" y="293220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Скругленный прямоугольник 9"/>
          <p:cNvSpPr/>
          <p:nvPr/>
        </p:nvSpPr>
        <p:spPr>
          <a:xfrm>
            <a:off x="1403280" y="2492280"/>
            <a:ext cx="7596360" cy="1728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Стрелка вправо с вырезом 6"/>
          <p:cNvSpPr/>
          <p:nvPr/>
        </p:nvSpPr>
        <p:spPr>
          <a:xfrm>
            <a:off x="108000" y="42926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1476360" y="4292640"/>
            <a:ext cx="741672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Стрелка вправо с вырезом 10"/>
          <p:cNvSpPr/>
          <p:nvPr/>
        </p:nvSpPr>
        <p:spPr>
          <a:xfrm>
            <a:off x="108000" y="559584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Скругленный прямоугольник 11"/>
          <p:cNvSpPr/>
          <p:nvPr/>
        </p:nvSpPr>
        <p:spPr>
          <a:xfrm>
            <a:off x="1476360" y="5300640"/>
            <a:ext cx="7416720" cy="1297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468360" y="1700280"/>
          <a:ext cx="8136000" cy="4755960"/>
        </p:xfrm>
        <a:graphic>
          <a:graphicData uri="http://schemas.openxmlformats.org/drawingml/2006/table">
            <a:tbl>
              <a:tblPr/>
              <a:tblGrid>
                <a:gridCol w="3602160"/>
                <a:gridCol w="1600200"/>
                <a:gridCol w="1466640"/>
                <a:gridCol w="1467000"/>
              </a:tblGrid>
              <a:tr h="142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вле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шеньковий ліхтар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яг реалізації, шту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на з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ні витрати на одиницю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і постійні витрати, гр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Д на одиницю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Овал 3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Приклад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трелка вправо с вырезом 20"/>
          <p:cNvSpPr/>
          <p:nvPr/>
        </p:nvSpPr>
        <p:spPr>
          <a:xfrm>
            <a:off x="10800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кругленный прямоугольник 16"/>
          <p:cNvSpPr/>
          <p:nvPr/>
        </p:nvSpPr>
        <p:spPr>
          <a:xfrm>
            <a:off x="1403280" y="1571760"/>
            <a:ext cx="7596360" cy="20016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значення комбінації продажу 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(співвідношення окремих видів продукції в загальному обсязі реалізації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лок живлення = 60000/100000= 0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ишеньковий ліхтарик = 1 – 0,6 = 0,4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право с вырезом 8"/>
          <p:cNvSpPr/>
          <p:nvPr/>
        </p:nvSpPr>
        <p:spPr>
          <a:xfrm>
            <a:off x="108000" y="4156200"/>
            <a:ext cx="1357200" cy="1249200"/>
          </a:xfrm>
          <a:custGeom>
            <a:avLst/>
            <a:gdLst>
              <a:gd name="textAreaLeft" fmla="*/ 312480 w 1357200"/>
              <a:gd name="textAreaRight" fmla="*/ 1044720 w 1357200"/>
              <a:gd name="textAreaTop" fmla="*/ 312120 h 1249200"/>
              <a:gd name="textAreaBottom" fmla="*/ 93708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653" y="5400"/>
                </a:lnTo>
                <a:lnTo>
                  <a:pt x="11653" y="0"/>
                </a:lnTo>
                <a:lnTo>
                  <a:pt x="21600" y="10800"/>
                </a:lnTo>
                <a:lnTo>
                  <a:pt x="11653" y="21600"/>
                </a:lnTo>
                <a:lnTo>
                  <a:pt x="11653" y="16200"/>
                </a:lnTo>
                <a:lnTo>
                  <a:pt x="0" y="16200"/>
                </a:lnTo>
                <a:lnTo>
                  <a:pt x="49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кругленный прямоугольник 9"/>
          <p:cNvSpPr/>
          <p:nvPr/>
        </p:nvSpPr>
        <p:spPr>
          <a:xfrm>
            <a:off x="1403280" y="3716280"/>
            <a:ext cx="7596360" cy="2521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середньозваженого маржинального доходу (маржинальний дохід на одну зведену одиницю)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ередньозавжений МД = ∑ Мд на од. і-го виробу х Питома вага і-го виробу в заг. дох. від реалізації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3 х 0,6 + 2 х 0,4 = 2,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611280" y="333360"/>
            <a:ext cx="316872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Розв'язок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Стрелка вправо с вырезом 6"/>
          <p:cNvSpPr/>
          <p:nvPr/>
        </p:nvSpPr>
        <p:spPr>
          <a:xfrm>
            <a:off x="108000" y="3333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Скругленный прямоугольник 7"/>
          <p:cNvSpPr/>
          <p:nvPr/>
        </p:nvSpPr>
        <p:spPr>
          <a:xfrm>
            <a:off x="1476360" y="333360"/>
            <a:ext cx="7416720" cy="2374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(загальне значення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= Постійні витрати / МД на од. = 182000 / 2,6 = 70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Стрелка вправо с вырезом 10"/>
          <p:cNvSpPr/>
          <p:nvPr/>
        </p:nvSpPr>
        <p:spPr>
          <a:xfrm>
            <a:off x="108000" y="357984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Скругленный прямоугольник 11"/>
          <p:cNvSpPr/>
          <p:nvPr/>
        </p:nvSpPr>
        <p:spPr>
          <a:xfrm>
            <a:off x="1476360" y="3284640"/>
            <a:ext cx="7416720" cy="230508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числення точки беззбитковості в розрізі асортименту продукції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виробу = ТБ загальна х Комбінація продаж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блок живлення = 70000 х 0,6 = 42000 од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ТБ кишенькові ліхтарики = 70000 х 0,4 = 28000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3"/>
          <p:cNvGrpSpPr/>
          <p:nvPr/>
        </p:nvGrpSpPr>
        <p:grpSpPr>
          <a:xfrm>
            <a:off x="291960" y="609480"/>
            <a:ext cx="8882280" cy="5645160"/>
            <a:chOff x="291960" y="609480"/>
            <a:chExt cx="8882280" cy="5645160"/>
          </a:xfrm>
        </p:grpSpPr>
        <p:pic>
          <p:nvPicPr>
            <p:cNvPr id="490" name="Rectangle 3" descr=""/>
            <p:cNvPicPr/>
            <p:nvPr/>
          </p:nvPicPr>
          <p:blipFill>
            <a:blip r:embed="rId1"/>
            <a:stretch/>
          </p:blipFill>
          <p:spPr>
            <a:xfrm>
              <a:off x="291960" y="609480"/>
              <a:ext cx="88822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642960" y="857160"/>
              <a:ext cx="8001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Minion Pro SmBd"/>
                </a:rPr>
                <a:t>Даремне навчання без думки, небезпечна думка без навчання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400" spc="-1" strike="noStrike">
                  <a:solidFill>
                    <a:srgbClr val="ffffff"/>
                  </a:solidFill>
                  <a:latin typeface="Monotype Corsiva"/>
                </a:rPr>
                <a:t>Конфуцій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r>
                <a:rPr b="1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1" lang="uk-UA" sz="5000" spc="-1" strike="noStrike">
                  <a:solidFill>
                    <a:srgbClr val="ffffff"/>
                  </a:solidFill>
                  <a:latin typeface="Impact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AutoShape 2" descr=""/>
          <p:cNvPicPr/>
          <p:nvPr/>
        </p:nvPicPr>
        <p:blipFill>
          <a:blip r:embed="rId1"/>
          <a:stretch/>
        </p:blipFill>
        <p:spPr>
          <a:xfrm>
            <a:off x="55440" y="36360"/>
            <a:ext cx="4424400" cy="2494080"/>
          </a:xfrm>
          <a:prstGeom prst="rect">
            <a:avLst/>
          </a:prstGeom>
          <a:ln w="0">
            <a:noFill/>
          </a:ln>
        </p:spPr>
      </p:pic>
      <p:grpSp>
        <p:nvGrpSpPr>
          <p:cNvPr id="312" name="Rectangle 3"/>
          <p:cNvGrpSpPr/>
          <p:nvPr/>
        </p:nvGrpSpPr>
        <p:grpSpPr>
          <a:xfrm>
            <a:off x="1182600" y="1847880"/>
            <a:ext cx="8028000" cy="4467240"/>
            <a:chOff x="1182600" y="1847880"/>
            <a:chExt cx="8028000" cy="4467240"/>
          </a:xfrm>
        </p:grpSpPr>
        <p:pic>
          <p:nvPicPr>
            <p:cNvPr id="313" name="Rectangle 3" descr=""/>
            <p:cNvPicPr/>
            <p:nvPr/>
          </p:nvPicPr>
          <p:blipFill>
            <a:blip r:embed="rId2"/>
            <a:stretch/>
          </p:blipFill>
          <p:spPr>
            <a:xfrm>
              <a:off x="1182600" y="1847880"/>
              <a:ext cx="80280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428840" y="2000160"/>
              <a:ext cx="7572240" cy="42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Метод системного дослідження взаємозв'язку витрат, обсягу реалізації та прибутку підприємства  заради визначення обсягу реалізації, який забезпечує відшкодування всіх витрат та отримання бажаного прибутку; величині прибутку при певному обсязі реалізації; впливу змін величини витрат, обсягу та ціни реалізації на прибуток підприємства; оптимальної структури витрат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16" name="Стрелка вправо с вырезом 20"/>
          <p:cNvSpPr/>
          <p:nvPr/>
        </p:nvSpPr>
        <p:spPr>
          <a:xfrm>
            <a:off x="428760" y="24145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Скругленный прямоугольник 16"/>
          <p:cNvSpPr/>
          <p:nvPr/>
        </p:nvSpPr>
        <p:spPr>
          <a:xfrm>
            <a:off x="1857240" y="24145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темати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Стрелка вправо с вырезом 8"/>
          <p:cNvSpPr/>
          <p:nvPr/>
        </p:nvSpPr>
        <p:spPr>
          <a:xfrm>
            <a:off x="428760" y="3529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1857240" y="3529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Графічні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1" descr=""/>
          <p:cNvPicPr/>
          <p:nvPr/>
        </p:nvPicPr>
        <p:blipFill>
          <a:blip r:embed="rId1"/>
          <a:stretch/>
        </p:blipFill>
        <p:spPr>
          <a:xfrm>
            <a:off x="0" y="201600"/>
            <a:ext cx="8997840" cy="1047600"/>
          </a:xfrm>
          <a:prstGeom prst="rect">
            <a:avLst/>
          </a:prstGeom>
          <a:ln w="0">
            <a:noFill/>
          </a:ln>
        </p:spPr>
      </p:pic>
      <p:sp>
        <p:nvSpPr>
          <p:cNvPr id="321" name="Стрелка вправо с вырезом 20"/>
          <p:cNvSpPr/>
          <p:nvPr/>
        </p:nvSpPr>
        <p:spPr>
          <a:xfrm>
            <a:off x="428760" y="157176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1857240" y="157176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Решта змінних факторів є постійни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Стрелка вправо с вырезом 8"/>
          <p:cNvSpPr/>
          <p:nvPr/>
        </p:nvSpPr>
        <p:spPr>
          <a:xfrm>
            <a:off x="428760" y="268596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Скругленный прямоугольник 9"/>
          <p:cNvSpPr/>
          <p:nvPr/>
        </p:nvSpPr>
        <p:spPr>
          <a:xfrm>
            <a:off x="1857240" y="268596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дин вид продукції або постійна комбінація продаж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6"/>
          <p:cNvSpPr/>
          <p:nvPr/>
        </p:nvSpPr>
        <p:spPr>
          <a:xfrm>
            <a:off x="428760" y="378612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1857240" y="378612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Прибуток визначають на основі калькулювання змінних витра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0"/>
          <p:cNvSpPr/>
          <p:nvPr/>
        </p:nvSpPr>
        <p:spPr>
          <a:xfrm>
            <a:off x="428760" y="4786200"/>
            <a:ext cx="1357200" cy="85752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520"/>
              <a:gd name="textAreaBottom" fmla="*/ 643320 h 85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кругленный прямоугольник 11"/>
          <p:cNvSpPr/>
          <p:nvPr/>
        </p:nvSpPr>
        <p:spPr>
          <a:xfrm>
            <a:off x="1857240" y="4786200"/>
            <a:ext cx="6120000" cy="90036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Сукупні витрати та дохід є лінійною функцією випуск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2"/>
          <p:cNvSpPr/>
          <p:nvPr/>
        </p:nvSpPr>
        <p:spPr>
          <a:xfrm>
            <a:off x="428760" y="5815080"/>
            <a:ext cx="1357200" cy="857160"/>
          </a:xfrm>
          <a:custGeom>
            <a:avLst/>
            <a:gdLst>
              <a:gd name="textAreaLeft" fmla="*/ 214200 w 1357200"/>
              <a:gd name="textAreaRight" fmla="*/ 1143000 w 135720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779" y="5400"/>
                </a:lnTo>
                <a:lnTo>
                  <a:pt x="14779" y="0"/>
                </a:lnTo>
                <a:lnTo>
                  <a:pt x="21600" y="10800"/>
                </a:lnTo>
                <a:lnTo>
                  <a:pt x="14779" y="21600"/>
                </a:lnTo>
                <a:lnTo>
                  <a:pt x="14779" y="16200"/>
                </a:lnTo>
                <a:lnTo>
                  <a:pt x="0" y="16200"/>
                </a:lnTo>
                <a:lnTo>
                  <a:pt x="341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Скругленный прямоугольник 13"/>
          <p:cNvSpPr/>
          <p:nvPr/>
        </p:nvSpPr>
        <p:spPr>
          <a:xfrm>
            <a:off x="1857240" y="5815080"/>
            <a:ext cx="6120000" cy="9000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Витрати можна точно розподілити на змінні та постійн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AutoShap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44244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1468440" y="2487600"/>
            <a:ext cx="7742160" cy="2827440"/>
            <a:chOff x="1468440" y="2487600"/>
            <a:chExt cx="7742160" cy="2827440"/>
          </a:xfrm>
        </p:grpSpPr>
        <p:pic>
          <p:nvPicPr>
            <p:cNvPr id="333" name="Rectangle 3" descr=""/>
            <p:cNvPicPr/>
            <p:nvPr/>
          </p:nvPicPr>
          <p:blipFill>
            <a:blip r:embed="rId2"/>
            <a:stretch/>
          </p:blipFill>
          <p:spPr>
            <a:xfrm>
              <a:off x="1468440" y="2487600"/>
              <a:ext cx="7742160" cy="28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14680" y="2643120"/>
              <a:ext cx="7286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бсяг реалізації (діяльності), при якому доходи підприємства дорівнюють його витратам, а прибуток відповідно дорівнює нулю, або маржинальний дохід дорівнює загальним постійним витратам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895320"/>
            <a:ext cx="6534360" cy="104940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16"/>
          <p:cNvSpPr/>
          <p:nvPr/>
        </p:nvSpPr>
        <p:spPr>
          <a:xfrm>
            <a:off x="2714760" y="2276640"/>
            <a:ext cx="6119640" cy="252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Змінні витрати +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ТБ (г.од.) 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Стрелка вправо с вырезом 6"/>
          <p:cNvSpPr/>
          <p:nvPr/>
        </p:nvSpPr>
        <p:spPr>
          <a:xfrm>
            <a:off x="0" y="2714760"/>
            <a:ext cx="2714760" cy="1938240"/>
          </a:xfrm>
          <a:custGeom>
            <a:avLst/>
            <a:gdLst>
              <a:gd name="textAreaLeft" fmla="*/ 484560 w 2714760"/>
              <a:gd name="textAreaRight" fmla="*/ 2230200 w 2714760"/>
              <a:gd name="textAreaTop" fmla="*/ 484560 h 1938240"/>
              <a:gd name="textAreaBottom" fmla="*/ 1453680 h 19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87" y="5400"/>
                </a:ln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13887" y="16200"/>
                </a:lnTo>
                <a:lnTo>
                  <a:pt x="0" y="16200"/>
                </a:lnTo>
                <a:lnTo>
                  <a:pt x="38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 допомогою рівня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1341360" y="536400"/>
            <a:ext cx="6534360" cy="1047960"/>
          </a:xfrm>
          <a:prstGeom prst="rect">
            <a:avLst/>
          </a:prstGeom>
          <a:ln w="0">
            <a:noFill/>
          </a:ln>
        </p:spPr>
      </p:pic>
      <p:sp>
        <p:nvSpPr>
          <p:cNvPr id="339" name="Скругленный прямоугольник 7"/>
          <p:cNvSpPr/>
          <p:nvPr/>
        </p:nvSpPr>
        <p:spPr>
          <a:xfrm>
            <a:off x="2714760" y="2205000"/>
            <a:ext cx="6119640" cy="215280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н.од.) = Постійні витрати / Маржинальний дохід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Маржинальний дохід на од. = Ціна за од. –  Змінні витрати на 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Стрелка вправо с вырезом 10"/>
          <p:cNvSpPr/>
          <p:nvPr/>
        </p:nvSpPr>
        <p:spPr>
          <a:xfrm>
            <a:off x="0" y="2214720"/>
            <a:ext cx="2714760" cy="1428480"/>
          </a:xfrm>
          <a:custGeom>
            <a:avLst/>
            <a:gdLst>
              <a:gd name="textAreaLeft" fmla="*/ 357120 w 2714760"/>
              <a:gd name="textAreaRight" fmla="*/ 2357640 w 2714760"/>
              <a:gd name="textAreaTop" fmla="*/ 357120 h 1428480"/>
              <a:gd name="textAreaBottom" fmla="*/ 107136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916" y="5400"/>
                </a:lnTo>
                <a:lnTo>
                  <a:pt x="15916" y="0"/>
                </a:lnTo>
                <a:lnTo>
                  <a:pt x="21600" y="10800"/>
                </a:lnTo>
                <a:lnTo>
                  <a:pt x="15916" y="21600"/>
                </a:lnTo>
                <a:lnTo>
                  <a:pt x="15916" y="16200"/>
                </a:lnTo>
                <a:lnTo>
                  <a:pt x="0" y="16200"/>
                </a:lnTo>
                <a:lnTo>
                  <a:pt x="28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8480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аржинальний метод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2738520" y="4500720"/>
            <a:ext cx="6119640" cy="1857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ТБ (г.од.) = Постійні витрати / Коеф. маржинального дохо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Коеф. Маржинального доходу = Маржинальний дохід на од./ Ціна одиниці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Скругленный прямоугольник 7"/>
          <p:cNvSpPr/>
          <p:nvPr/>
        </p:nvSpPr>
        <p:spPr>
          <a:xfrm>
            <a:off x="539640" y="115920"/>
            <a:ext cx="8294760" cy="21607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Змінні витрати + Постійні витрати + Бажаний прибуток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Дохід від реалізації = (Постійні витрати + Бажаний прибуток) / Коеф. маржинального доходу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684360" y="2565360"/>
            <a:ext cx="8173800" cy="220824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Обсяг реалізації = (Постійні витрати + Бажаний прибуток) / Маржинальний дохід на од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Обсяг реалізації х Маржинальний дохід на од.  - Постійні витра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684360" y="4941720"/>
            <a:ext cx="8173800" cy="1582920"/>
          </a:xfrm>
          <a:prstGeom prst="roundRect">
            <a:avLst>
              <a:gd name="adj" fmla="val 16667"/>
            </a:avLst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Бажаний прибуток = Чистий прибуток / (1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Лена</cp:lastModifiedBy>
  <dcterms:modified xsi:type="dcterms:W3CDTF">2013-05-23T08:30:45Z</dcterms:modified>
  <cp:revision>240</cp:revision>
  <dc:subject/>
  <dc:title>Слайд 1</dc:title>
</cp:coreProperties>
</file>