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99BC-7617-4080-A9B1-DFB0312805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7DAB-2F76-4EAB-9D7F-E067452F87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782-F342-486F-BE3C-9EDF3C46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91F-0140-417E-BC52-0E94A627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0B4-C52A-4EC5-A308-2427E9F5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142-4E8B-4964-BF8C-95244C3F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1C45-1079-40B9-A0DC-53824566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0A3A-37A4-4DDD-A763-A3A520F3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03C9-A437-4CDF-9367-FCEC57DC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1F18-CCAC-4835-978C-A787C5AA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63D4-A4C5-47F9-B045-3D09F865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D8E4-2216-4F36-B59A-C854D878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1761-EFDC-4A3F-A407-DD55B90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5E8-9F76-4C0F-97DD-264BD903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176B-6EAF-43DD-9957-D3EECC3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706F-EE71-4642-839D-E410DC91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2CF2-D0DB-457D-84F4-90326958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8FCD-FB1B-48C6-9028-17374D8F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862B-C2FA-4A47-8596-7E758D77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755A9-94FC-4709-A66D-645E1B9C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26AE-BAF7-4706-A6BC-C57D583A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0BBE-6A8F-4BCB-8A9F-F9D78DFE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4C7B-D3B5-42A0-9CCA-C9F368AB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350A-4E43-4A94-A17F-5408E680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5BC-151F-4176-BD7A-F5151894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C8FD-0596-4767-9CDD-19AB64EE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FB0E-F2CA-422E-AC10-59CF58E3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0DF9-7DAC-48F8-98DA-158CBDA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18ED-DD0C-4A78-9481-D050460A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11C1F-7AFB-4759-BE52-1C6CAB8F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B5DD-245D-4E11-B812-DD1244F5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0A79-4EA2-4613-88BD-9F9F1C8C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5739-DEE9-42D1-B78F-28AA3EE3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D497E-377F-4DF2-BD2F-875D73DE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437D5-FAE7-4566-ADEF-F97D8BD0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AEF-6609-4298-B50C-7EB7F285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F934-FBB5-452B-BF56-57B5C575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E0DF-0799-42FF-A677-3F0B3639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4D077-05AF-4422-B906-500DE625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1863-82A5-4B68-AF67-9BC853B7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DD5B-98F2-4405-B97C-1C16AA73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B801-884D-4A9D-8EE8-CAC4A5B0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8AB4-B0D2-418E-876F-AD5325BC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F421-C15B-4925-85A1-C7063905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5F4D-1D93-428D-A00A-3A4E972E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39D52-ADC1-4620-83CC-DB51400F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C16-6AF6-4A81-9318-58C1530A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D604B-1A81-42D9-A5E4-4AA74041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51C8E-A856-43D8-8421-F8DB98A0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B2237-D8F8-4EF1-B0D8-C28F6D17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F3EE2-4D62-4715-B23C-DE41F055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DB679-CA89-4E17-85A8-D0A1C3E8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6AA6F-DCD4-420B-938C-FA239999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43F78-A87A-498A-B4FE-38C7D51B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36E3-7276-4C20-B661-3D1361FA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0FC16-F62E-44A0-AB8A-C404E8B0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C4072-9BB2-4FA7-9B00-CCD43C41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0A6-C7B4-4BB8-B302-4BC83252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F78D0-DAEA-41CD-BA3C-EF931CF1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7B97-727B-4DE5-B7E2-E5F50A02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777E4-776B-4A7E-AB43-D49C6106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7E563-9140-4B19-82A4-40760289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EE29-DF52-43C0-B330-6044540B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BD805-789E-4F5A-B431-A7075F66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5908F-2B9C-4A03-98D6-3E2EBC6C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3D2A6-DD12-4675-B890-BCDD7BE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7D581-CDF5-4C29-A961-7B5B6490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F495-21AB-4095-9D91-F9154DC7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4ED-7AF6-4F41-8F04-809B1855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761A3-2F67-4FAF-B14D-BA3194F5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DAC97-E28E-4392-AF61-E8886654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B8A96-DBD5-4AA8-9F84-195B976D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E0FB3-5312-4CB0-81E4-43DD5510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DC4EB-E1A3-4A01-99C1-40D3FE94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0B999-6A01-45E4-AA4C-76D9901E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93CA6-2AD4-4DF3-9807-40966F8E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C9405-D09F-4105-B821-C9C81780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8498A-FC2C-4242-B8A8-6B6AEDE2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856B2-D849-4797-80CA-6B161706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848-B21D-4415-96A0-AF0A0B15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BBD2A-6DFA-43AC-A2E3-2041424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61385-337F-429A-8DBA-3E637450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06788-79CA-4093-809A-5FE267FD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839FD-416C-4120-9B8D-F780290F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A8410-EC15-49C8-BA41-18F9A47D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360-4817-4446-B822-6D99F2CC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897B-8F15-48FE-BDFA-E6BC2FDE53C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14A8-C3CE-440D-9DFE-11FFCF449B83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F559-DA05-4BD0-80B7-4750D0989E6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F938-7953-4B3A-B964-D83A46FED74E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FCA1-C823-44B5-A7CA-DEF1292D658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928-65F5-429C-8E1B-BC8D22E767B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C373-B41E-46CB-AFD1-81DBF0C7F061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2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8.png"/><Relationship Id="rId11" Type="http://schemas.openxmlformats.org/officeDocument/2006/relationships/image" Target="../media/image22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438120" y="2919240"/>
            <a:ext cx="8675640" cy="298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Скругленный прямоугольник 1"/>
          <p:cNvSpPr/>
          <p:nvPr/>
        </p:nvSpPr>
        <p:spPr>
          <a:xfrm>
            <a:off x="324000" y="90972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зОВ “Яна” виробляє один вид продукції – радіотелефони, з ціною реалізації 200 грн. за одиницю. Витрати підприємства на виробництво продукції складають: змінні витрати на одиницю – 140 грн., загальні постійні витрати – 2400 грн. Керівництво бажає знати, який обсяг реалізації дозволить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досягти беззбитковості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отримати прибуток 600 грн.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изначити прибуток від реалізації 1300 телефоні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Скругленный прямоугольник 1"/>
          <p:cNvSpPr/>
          <p:nvPr/>
        </p:nvSpPr>
        <p:spPr>
          <a:xfrm>
            <a:off x="324000" y="1268280"/>
            <a:ext cx="8145360" cy="5616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жинальний дохід на одиницю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 – Зм витр на од. = 200 – 140 = 6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н.од.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 витр / МД на од. = 2400 : 60 = 4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ефіцієнт маржинального доходу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Д на од / Ціна на од. = 60 : 200 = 0,3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грошових одиниця = Пост витрати / Коеф МД = 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0 : 0,3 = 800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324000" y="1268280"/>
            <a:ext cx="8145360" cy="4824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яг реалізації, що дозволить отримати прибуток 600 грн.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Пост. Витрати + БП)/ МД на од. = (2400 + 600) / 60 = 5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уток від реалізації 1300 телефонів = Обсяг реалізації х МД на од. – Постійні витрати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0 х 60 – 2400 = 75600 гр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7278840" cy="62712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8"/>
          <p:cNvSpPr/>
          <p:nvPr/>
        </p:nvSpPr>
        <p:spPr>
          <a:xfrm>
            <a:off x="3419640" y="765000"/>
            <a:ext cx="5126040" cy="863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ередбачає побудову графіку беззбитков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Стрелка вправо с вырезом 9"/>
          <p:cNvSpPr/>
          <p:nvPr/>
        </p:nvSpPr>
        <p:spPr>
          <a:xfrm>
            <a:off x="71280" y="692280"/>
            <a:ext cx="3276720" cy="1008000"/>
          </a:xfrm>
          <a:custGeom>
            <a:avLst/>
            <a:gdLst>
              <a:gd name="textAreaLeft" fmla="*/ 252000 w 3276720"/>
              <a:gd name="textAreaRight" fmla="*/ 3024720 w 327672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7" y="5400"/>
                </a:lnTo>
                <a:lnTo>
                  <a:pt x="18277" y="0"/>
                </a:lnTo>
                <a:lnTo>
                  <a:pt x="21600" y="10800"/>
                </a:lnTo>
                <a:lnTo>
                  <a:pt x="18277" y="21600"/>
                </a:lnTo>
                <a:lnTo>
                  <a:pt x="18277" y="16200"/>
                </a:lnTo>
                <a:lnTo>
                  <a:pt x="0" y="16200"/>
                </a:lnTo>
                <a:lnTo>
                  <a:pt x="166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Графіч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Прямоугольник 6" descr=""/>
          <p:cNvPicPr/>
          <p:nvPr/>
        </p:nvPicPr>
        <p:blipFill>
          <a:blip r:embed="rId2"/>
          <a:stretch/>
        </p:blipFill>
        <p:spPr>
          <a:xfrm>
            <a:off x="981000" y="1736640"/>
            <a:ext cx="6993000" cy="695520"/>
          </a:xfrm>
          <a:prstGeom prst="rect">
            <a:avLst/>
          </a:prstGeom>
          <a:ln w="0">
            <a:noFill/>
          </a:ln>
        </p:spPr>
      </p:pic>
      <p:sp>
        <p:nvSpPr>
          <p:cNvPr id="355" name="Стрелка вправо с вырезом 11"/>
          <p:cNvSpPr/>
          <p:nvPr/>
        </p:nvSpPr>
        <p:spPr>
          <a:xfrm>
            <a:off x="428760" y="23493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12"/>
          <p:cNvSpPr/>
          <p:nvPr/>
        </p:nvSpPr>
        <p:spPr>
          <a:xfrm>
            <a:off x="1857240" y="255888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обудова осей графі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право с вырезом 13"/>
          <p:cNvSpPr/>
          <p:nvPr/>
        </p:nvSpPr>
        <p:spPr>
          <a:xfrm>
            <a:off x="738360" y="306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Скругленный прямоугольник 14"/>
          <p:cNvSpPr/>
          <p:nvPr/>
        </p:nvSpPr>
        <p:spPr>
          <a:xfrm>
            <a:off x="2197080" y="32608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постій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Стрелка вправо с вырезом 15"/>
          <p:cNvSpPr/>
          <p:nvPr/>
        </p:nvSpPr>
        <p:spPr>
          <a:xfrm>
            <a:off x="98424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Скругленный прямоугольник 16"/>
          <p:cNvSpPr/>
          <p:nvPr/>
        </p:nvSpPr>
        <p:spPr>
          <a:xfrm>
            <a:off x="2413080" y="4003560"/>
            <a:ext cx="611964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Стрелка вправо с вырезом 17"/>
          <p:cNvSpPr/>
          <p:nvPr/>
        </p:nvSpPr>
        <p:spPr>
          <a:xfrm>
            <a:off x="1293840" y="450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Скругленный прямоугольник 18"/>
          <p:cNvSpPr/>
          <p:nvPr/>
        </p:nvSpPr>
        <p:spPr>
          <a:xfrm>
            <a:off x="2773440" y="4683240"/>
            <a:ext cx="59022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трелка вправо с вырезом 19"/>
          <p:cNvSpPr/>
          <p:nvPr/>
        </p:nvSpPr>
        <p:spPr>
          <a:xfrm>
            <a:off x="1560600" y="522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Скругленный прямоугольник 20"/>
          <p:cNvSpPr/>
          <p:nvPr/>
        </p:nvSpPr>
        <p:spPr>
          <a:xfrm>
            <a:off x="2989440" y="5443560"/>
            <a:ext cx="583056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зрахунок доходу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Стрелка вправо с вырезом 21"/>
          <p:cNvSpPr/>
          <p:nvPr/>
        </p:nvSpPr>
        <p:spPr>
          <a:xfrm>
            <a:off x="1797120" y="5950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Скругленный прямоугольник 22"/>
          <p:cNvSpPr/>
          <p:nvPr/>
        </p:nvSpPr>
        <p:spPr>
          <a:xfrm>
            <a:off x="3205080" y="6157800"/>
            <a:ext cx="5688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68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69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0" name="Прямоугольник 17" descr=""/>
          <p:cNvPicPr/>
          <p:nvPr/>
        </p:nvPicPr>
        <p:blipFill>
          <a:blip r:embed="rId2"/>
          <a:stretch/>
        </p:blipFill>
        <p:spPr>
          <a:xfrm>
            <a:off x="-19080" y="341280"/>
            <a:ext cx="824040" cy="2170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8" descr=""/>
          <p:cNvPicPr/>
          <p:nvPr/>
        </p:nvPicPr>
        <p:blipFill>
          <a:blip r:embed="rId3"/>
          <a:stretch/>
        </p:blipFill>
        <p:spPr>
          <a:xfrm>
            <a:off x="5559480" y="5303880"/>
            <a:ext cx="3176640" cy="6951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24" descr=""/>
          <p:cNvPicPr/>
          <p:nvPr/>
        </p:nvPicPr>
        <p:blipFill>
          <a:blip r:embed="rId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6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Прямоугольник 30" descr=""/>
          <p:cNvPicPr/>
          <p:nvPr/>
        </p:nvPicPr>
        <p:blipFill>
          <a:blip r:embed="rId7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383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Прямоугольник 37" descr=""/>
          <p:cNvPicPr/>
          <p:nvPr/>
        </p:nvPicPr>
        <p:blipFill>
          <a:blip r:embed="rId8"/>
          <a:stretch/>
        </p:blipFill>
        <p:spPr>
          <a:xfrm>
            <a:off x="2127240" y="4456080"/>
            <a:ext cx="3468600" cy="43344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9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387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числення загальних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У = а + </a:t>
              </a: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Х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 = 2400 + 140 х20 = 52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9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91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92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93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Прямоугольник 29" descr=""/>
          <p:cNvPicPr/>
          <p:nvPr/>
        </p:nvPicPr>
        <p:blipFill>
          <a:blip r:embed="rId8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30" descr=""/>
          <p:cNvPicPr/>
          <p:nvPr/>
        </p:nvPicPr>
        <p:blipFill>
          <a:blip r:embed="rId9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03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8" descr=""/>
          <p:cNvPicPr/>
          <p:nvPr/>
        </p:nvPicPr>
        <p:blipFill>
          <a:blip r:embed="rId10"/>
          <a:stretch/>
        </p:blipFill>
        <p:spPr>
          <a:xfrm>
            <a:off x="1311120" y="2670120"/>
            <a:ext cx="3267360" cy="151776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24" descr=""/>
          <p:cNvPicPr/>
          <p:nvPr/>
        </p:nvPicPr>
        <p:blipFill>
          <a:blip r:embed="rId11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408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ахунок доходу від реаліз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Дохід = Обсяг реалізації  х Ціна за од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хід = 20 х 200 = 4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0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412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13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14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23"/>
          <p:cNvSpPr/>
          <p:nvPr/>
        </p:nvSpPr>
        <p:spPr>
          <a:xfrm flipV="1">
            <a:off x="1000080" y="1856880"/>
            <a:ext cx="6357960" cy="3429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Блок-схема: узел 26"/>
          <p:cNvSpPr/>
          <p:nvPr/>
        </p:nvSpPr>
        <p:spPr>
          <a:xfrm>
            <a:off x="4214880" y="3429000"/>
            <a:ext cx="142920" cy="2142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Прямоугольник 27" descr=""/>
          <p:cNvPicPr/>
          <p:nvPr/>
        </p:nvPicPr>
        <p:blipFill>
          <a:blip r:embed="rId8"/>
          <a:stretch/>
        </p:blipFill>
        <p:spPr>
          <a:xfrm>
            <a:off x="2176560" y="2548080"/>
            <a:ext cx="2340000" cy="82836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28" descr=""/>
          <p:cNvPicPr/>
          <p:nvPr/>
        </p:nvPicPr>
        <p:blipFill>
          <a:blip r:embed="rId9"/>
          <a:stretch/>
        </p:blipFill>
        <p:spPr>
          <a:xfrm>
            <a:off x="7553160" y="1841400"/>
            <a:ext cx="1640160" cy="4636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29" descr=""/>
          <p:cNvPicPr/>
          <p:nvPr/>
        </p:nvPicPr>
        <p:blipFill>
          <a:blip r:embed="rId10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30" descr=""/>
          <p:cNvPicPr/>
          <p:nvPr/>
        </p:nvPicPr>
        <p:blipFill>
          <a:blip r:embed="rId11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28" name="Правая фигурная скобка 33"/>
          <p:cNvSpPr/>
          <p:nvPr/>
        </p:nvSpPr>
        <p:spPr>
          <a:xfrm>
            <a:off x="7358040" y="1857240"/>
            <a:ext cx="214200" cy="714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Прямоугольник 37" descr=""/>
          <p:cNvPicPr/>
          <p:nvPr/>
        </p:nvPicPr>
        <p:blipFill>
          <a:blip r:embed="rId12"/>
          <a:stretch/>
        </p:blipFill>
        <p:spPr>
          <a:xfrm>
            <a:off x="2114640" y="3498840"/>
            <a:ext cx="2560680" cy="172548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38" descr=""/>
          <p:cNvPicPr/>
          <p:nvPr/>
        </p:nvPicPr>
        <p:blipFill>
          <a:blip r:embed="rId13"/>
          <a:stretch/>
        </p:blipFill>
        <p:spPr>
          <a:xfrm>
            <a:off x="1292400" y="3700440"/>
            <a:ext cx="48096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24" descr=""/>
          <p:cNvPicPr/>
          <p:nvPr/>
        </p:nvPicPr>
        <p:blipFill>
          <a:blip r:embed="rId1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вырезанными противолежащими углами 4"/>
          <p:cNvSpPr/>
          <p:nvPr/>
        </p:nvSpPr>
        <p:spPr>
          <a:xfrm>
            <a:off x="285840" y="1357200"/>
            <a:ext cx="8643960" cy="40719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Мета і методи аналізу взаємозвязку “витрати – обсяг – прибуток”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чутливості прибут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взаємозвязку “витрати – обсяг – прибуток” за умов асортименту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35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43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значення впливу на прибуток змінних витрат, ціни та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195120" y="731880"/>
            <a:ext cx="87537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Стрелка вправо с вырезом 20"/>
          <p:cNvSpPr/>
          <p:nvPr/>
        </p:nvSpPr>
        <p:spPr>
          <a:xfrm>
            <a:off x="500040" y="21002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16"/>
          <p:cNvSpPr/>
          <p:nvPr/>
        </p:nvSpPr>
        <p:spPr>
          <a:xfrm>
            <a:off x="1928880" y="210024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трелка вправо с вырезом 8"/>
          <p:cNvSpPr/>
          <p:nvPr/>
        </p:nvSpPr>
        <p:spPr>
          <a:xfrm>
            <a:off x="500040" y="32148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9"/>
          <p:cNvSpPr/>
          <p:nvPr/>
        </p:nvSpPr>
        <p:spPr>
          <a:xfrm>
            <a:off x="1928880" y="321480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трелка вправо с вырезом 6"/>
          <p:cNvSpPr/>
          <p:nvPr/>
        </p:nvSpPr>
        <p:spPr>
          <a:xfrm>
            <a:off x="500040" y="43149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1928880" y="431496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пераційний важіль (леверидж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85680" y="365040"/>
            <a:ext cx="8966160" cy="151308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1928880" y="210024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0"/>
          <p:cNvSpPr/>
          <p:nvPr/>
        </p:nvSpPr>
        <p:spPr>
          <a:xfrm>
            <a:off x="4000680" y="32148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1"/>
          <p:cNvSpPr/>
          <p:nvPr/>
        </p:nvSpPr>
        <p:spPr>
          <a:xfrm>
            <a:off x="2071800" y="400068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обсягу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2"/>
          <p:cNvSpPr/>
          <p:nvPr/>
        </p:nvSpPr>
        <p:spPr>
          <a:xfrm>
            <a:off x="4071960" y="5000760"/>
            <a:ext cx="92880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"/>
          <p:cNvSpPr/>
          <p:nvPr/>
        </p:nvSpPr>
        <p:spPr>
          <a:xfrm>
            <a:off x="2000160" y="571500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-12600" y="237960"/>
            <a:ext cx="4419360" cy="1005120"/>
          </a:xfrm>
          <a:prstGeom prst="rect">
            <a:avLst/>
          </a:prstGeom>
          <a:ln w="0">
            <a:noFill/>
          </a:ln>
        </p:spPr>
      </p:pic>
      <p:grpSp>
        <p:nvGrpSpPr>
          <p:cNvPr id="452" name="Rectangle 3"/>
          <p:cNvGrpSpPr/>
          <p:nvPr/>
        </p:nvGrpSpPr>
        <p:grpSpPr>
          <a:xfrm>
            <a:off x="1042920" y="987480"/>
            <a:ext cx="8021880" cy="1689120"/>
            <a:chOff x="1042920" y="987480"/>
            <a:chExt cx="8021880" cy="1689120"/>
          </a:xfrm>
        </p:grpSpPr>
        <p:pic>
          <p:nvPicPr>
            <p:cNvPr id="453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987480"/>
              <a:ext cx="802188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285920" y="114300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еличина, на яку фактичний (або запланований) обсяг реалізації перевищує критичний обсяг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очка беззбитков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-85680" y="36360"/>
            <a:ext cx="4419720" cy="135432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1042920" y="1133640"/>
            <a:ext cx="8021880" cy="1682640"/>
            <a:chOff x="1042920" y="1133640"/>
            <a:chExt cx="8021880" cy="168264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285920" y="128592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піввідношення запасу міцності та фактичного (або запланованого)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запасу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201600"/>
            <a:ext cx="8753400" cy="1047600"/>
          </a:xfrm>
          <a:prstGeom prst="rect">
            <a:avLst/>
          </a:prstGeom>
          <a:ln w="0">
            <a:noFill/>
          </a:ln>
        </p:spPr>
      </p:pic>
      <p:sp>
        <p:nvSpPr>
          <p:cNvPr id="47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16"/>
          <p:cNvSpPr/>
          <p:nvPr/>
        </p:nvSpPr>
        <p:spPr>
          <a:xfrm>
            <a:off x="1403280" y="1571760"/>
            <a:ext cx="7596360" cy="849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трелка вправо с вырезом 8"/>
          <p:cNvSpPr/>
          <p:nvPr/>
        </p:nvSpPr>
        <p:spPr>
          <a:xfrm>
            <a:off x="108000" y="2932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9"/>
          <p:cNvSpPr/>
          <p:nvPr/>
        </p:nvSpPr>
        <p:spPr>
          <a:xfrm>
            <a:off x="1403280" y="2492280"/>
            <a:ext cx="7596360" cy="1728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трелка вправо с вырезом 6"/>
          <p:cNvSpPr/>
          <p:nvPr/>
        </p:nvSpPr>
        <p:spPr>
          <a:xfrm>
            <a:off x="108000" y="4292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7"/>
          <p:cNvSpPr/>
          <p:nvPr/>
        </p:nvSpPr>
        <p:spPr>
          <a:xfrm>
            <a:off x="1476360" y="4292640"/>
            <a:ext cx="74167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трелка вправо с вырезом 10"/>
          <p:cNvSpPr/>
          <p:nvPr/>
        </p:nvSpPr>
        <p:spPr>
          <a:xfrm>
            <a:off x="108000" y="559584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11"/>
          <p:cNvSpPr/>
          <p:nvPr/>
        </p:nvSpPr>
        <p:spPr>
          <a:xfrm>
            <a:off x="1476360" y="5300640"/>
            <a:ext cx="7416720" cy="12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468360" y="1700280"/>
          <a:ext cx="8136000" cy="4755960"/>
        </p:xfrm>
        <a:graphic>
          <a:graphicData uri="http://schemas.openxmlformats.org/drawingml/2006/table">
            <a:tbl>
              <a:tblPr/>
              <a:tblGrid>
                <a:gridCol w="3602160"/>
                <a:gridCol w="1600200"/>
                <a:gridCol w="1466640"/>
                <a:gridCol w="1467000"/>
              </a:tblGrid>
              <a:tr h="142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л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шеньковий ліхтар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шту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з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нні витрати н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і постійні витрати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Д на одиниц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Овал 3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6"/>
          <p:cNvSpPr/>
          <p:nvPr/>
        </p:nvSpPr>
        <p:spPr>
          <a:xfrm>
            <a:off x="1403280" y="1571760"/>
            <a:ext cx="7596360" cy="2001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лок живлення = 60000/100000= 0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ишеньковий ліхтарик = 1 – 0,6 = 0,4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право с вырезом 8"/>
          <p:cNvSpPr/>
          <p:nvPr/>
        </p:nvSpPr>
        <p:spPr>
          <a:xfrm>
            <a:off x="108000" y="4156200"/>
            <a:ext cx="1357200" cy="1249200"/>
          </a:xfrm>
          <a:custGeom>
            <a:avLst/>
            <a:gdLst>
              <a:gd name="textAreaLeft" fmla="*/ 312480 w 1357200"/>
              <a:gd name="textAreaRight" fmla="*/ 1044720 w 1357200"/>
              <a:gd name="textAreaTop" fmla="*/ 312120 h 1249200"/>
              <a:gd name="textAreaBottom" fmla="*/ 937080 h 1249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653" y="5400"/>
                </a:lnTo>
                <a:lnTo>
                  <a:pt x="11653" y="0"/>
                </a:lnTo>
                <a:lnTo>
                  <a:pt x="21600" y="10800"/>
                </a:lnTo>
                <a:lnTo>
                  <a:pt x="11653" y="21600"/>
                </a:lnTo>
                <a:lnTo>
                  <a:pt x="11653" y="16200"/>
                </a:lnTo>
                <a:lnTo>
                  <a:pt x="0" y="16200"/>
                </a:lnTo>
                <a:lnTo>
                  <a:pt x="49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9"/>
          <p:cNvSpPr/>
          <p:nvPr/>
        </p:nvSpPr>
        <p:spPr>
          <a:xfrm>
            <a:off x="1403280" y="3716280"/>
            <a:ext cx="7596360" cy="2521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х 0,6 + 2 х 0,4 = 2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Стрелка вправо с вырезом 6"/>
          <p:cNvSpPr/>
          <p:nvPr/>
        </p:nvSpPr>
        <p:spPr>
          <a:xfrm>
            <a:off x="108000" y="333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7"/>
          <p:cNvSpPr/>
          <p:nvPr/>
        </p:nvSpPr>
        <p:spPr>
          <a:xfrm>
            <a:off x="1476360" y="333360"/>
            <a:ext cx="7416720" cy="2374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= Постійні витрати / МД на од. = 182000 / 2,6 = 70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трелка вправо с вырезом 10"/>
          <p:cNvSpPr/>
          <p:nvPr/>
        </p:nvSpPr>
        <p:spPr>
          <a:xfrm>
            <a:off x="108000" y="3579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11"/>
          <p:cNvSpPr/>
          <p:nvPr/>
        </p:nvSpPr>
        <p:spPr>
          <a:xfrm>
            <a:off x="1476360" y="3284640"/>
            <a:ext cx="741672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блок живлення = 70000 х 0,6 = 42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кишенькові ліхтарики = 70000 х 0,4 = 28000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0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36360"/>
            <a:ext cx="44244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182600" y="1847880"/>
            <a:ext cx="8028000" cy="4467240"/>
            <a:chOff x="1182600" y="1847880"/>
            <a:chExt cx="8028000" cy="446724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182600" y="1847880"/>
              <a:ext cx="8028000" cy="44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428840" y="2000160"/>
              <a:ext cx="7572240" cy="42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системного дослідження взаємозв'язку витрат, обсягу реалізації та прибутку підприємства  заради визначення обсягу реалізації, який забезпечує відшкодування всіх витрат та отримання бажаного прибутку; величині прибутку при певному обсязі реалізації; впливу змін величини витрат, обсягу та ціни реалізації на прибуток підприємства; оптимальної структури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16" name="Стрелка вправо с вырезом 20"/>
          <p:cNvSpPr/>
          <p:nvPr/>
        </p:nvSpPr>
        <p:spPr>
          <a:xfrm>
            <a:off x="428760" y="24145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кругленный прямоугольник 16"/>
          <p:cNvSpPr/>
          <p:nvPr/>
        </p:nvSpPr>
        <p:spPr>
          <a:xfrm>
            <a:off x="1857240" y="24145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темати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трелка вправо с вырезом 8"/>
          <p:cNvSpPr/>
          <p:nvPr/>
        </p:nvSpPr>
        <p:spPr>
          <a:xfrm>
            <a:off x="428760" y="3529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ый прямоугольник 9"/>
          <p:cNvSpPr/>
          <p:nvPr/>
        </p:nvSpPr>
        <p:spPr>
          <a:xfrm>
            <a:off x="1857240" y="3529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Граф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Прямоугольник 1" descr=""/>
          <p:cNvPicPr/>
          <p:nvPr/>
        </p:nvPicPr>
        <p:blipFill>
          <a:blip r:embed="rId1"/>
          <a:stretch/>
        </p:blipFill>
        <p:spPr>
          <a:xfrm>
            <a:off x="0" y="201600"/>
            <a:ext cx="8997840" cy="1047600"/>
          </a:xfrm>
          <a:prstGeom prst="rect">
            <a:avLst/>
          </a:prstGeom>
          <a:ln w="0">
            <a:noFill/>
          </a:ln>
        </p:spPr>
      </p:pic>
      <p:sp>
        <p:nvSpPr>
          <p:cNvPr id="321" name="Стрелка вправо с вырезом 20"/>
          <p:cNvSpPr/>
          <p:nvPr/>
        </p:nvSpPr>
        <p:spPr>
          <a:xfrm>
            <a:off x="42876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1857240" y="15717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ешта змінних факторів є постійни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трелка вправо с вырезом 8"/>
          <p:cNvSpPr/>
          <p:nvPr/>
        </p:nvSpPr>
        <p:spPr>
          <a:xfrm>
            <a:off x="428760" y="26859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Скругленный прямоугольник 9"/>
          <p:cNvSpPr/>
          <p:nvPr/>
        </p:nvSpPr>
        <p:spPr>
          <a:xfrm>
            <a:off x="1857240" y="268596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дин вид продукції або постійна комбінація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с вырезом 6"/>
          <p:cNvSpPr/>
          <p:nvPr/>
        </p:nvSpPr>
        <p:spPr>
          <a:xfrm>
            <a:off x="428760" y="3786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7"/>
          <p:cNvSpPr/>
          <p:nvPr/>
        </p:nvSpPr>
        <p:spPr>
          <a:xfrm>
            <a:off x="1857240" y="37861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рибуток визначають на основі калькулювання змін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с вырезом 10"/>
          <p:cNvSpPr/>
          <p:nvPr/>
        </p:nvSpPr>
        <p:spPr>
          <a:xfrm>
            <a:off x="428760" y="4786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кругленный прямоугольник 11"/>
          <p:cNvSpPr/>
          <p:nvPr/>
        </p:nvSpPr>
        <p:spPr>
          <a:xfrm>
            <a:off x="1857240" y="478620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Сукупні витрати та дохід є лінійною функцією випус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с вырезом 12"/>
          <p:cNvSpPr/>
          <p:nvPr/>
        </p:nvSpPr>
        <p:spPr>
          <a:xfrm>
            <a:off x="428760" y="5815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Скругленный прямоугольник 13"/>
          <p:cNvSpPr/>
          <p:nvPr/>
        </p:nvSpPr>
        <p:spPr>
          <a:xfrm>
            <a:off x="1857240" y="5815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трати можна точно розподілити на змінні та пост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1468440" y="2487600"/>
            <a:ext cx="7742160" cy="2827440"/>
            <a:chOff x="1468440" y="2487600"/>
            <a:chExt cx="7742160" cy="2827440"/>
          </a:xfrm>
        </p:grpSpPr>
        <p:pic>
          <p:nvPicPr>
            <p:cNvPr id="333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714680" y="264312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реалізації (діяльності), при якому доходи підприємства дорівнюють його витратам, а прибуток відповідно дорівнює нулю, або маржинальний дохід дорівнює загальним постійним витрата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16"/>
          <p:cNvSpPr/>
          <p:nvPr/>
        </p:nvSpPr>
        <p:spPr>
          <a:xfrm>
            <a:off x="2714760" y="2276640"/>
            <a:ext cx="6119640" cy="252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Змінні витрати +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ТБ (г.од.) 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трелка вправо с вырезом 6"/>
          <p:cNvSpPr/>
          <p:nvPr/>
        </p:nvSpPr>
        <p:spPr>
          <a:xfrm>
            <a:off x="0" y="2714760"/>
            <a:ext cx="2714760" cy="1938240"/>
          </a:xfrm>
          <a:custGeom>
            <a:avLst/>
            <a:gdLst>
              <a:gd name="textAreaLeft" fmla="*/ 484560 w 2714760"/>
              <a:gd name="textAreaRight" fmla="*/ 2230200 w 2714760"/>
              <a:gd name="textAreaTop" fmla="*/ 484560 h 1938240"/>
              <a:gd name="textAreaBottom" fmla="*/ 1453680 h 19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7" y="5400"/>
                </a:ln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13887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допомогою рівня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36400"/>
            <a:ext cx="6534360" cy="1047960"/>
          </a:xfrm>
          <a:prstGeom prst="rect">
            <a:avLst/>
          </a:prstGeom>
          <a:ln w="0">
            <a:noFill/>
          </a:ln>
        </p:spPr>
      </p:pic>
      <p:sp>
        <p:nvSpPr>
          <p:cNvPr id="339" name="Скругленный прямоугольник 7"/>
          <p:cNvSpPr/>
          <p:nvPr/>
        </p:nvSpPr>
        <p:spPr>
          <a:xfrm>
            <a:off x="2714760" y="2205000"/>
            <a:ext cx="6119640" cy="2152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Постійні витрати / Маржинальний дохід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ржинальний дохід на од. = Ціна за од. –  Змінні витрати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0"/>
          <p:cNvSpPr/>
          <p:nvPr/>
        </p:nvSpPr>
        <p:spPr>
          <a:xfrm>
            <a:off x="0" y="2214720"/>
            <a:ext cx="2714760" cy="1428480"/>
          </a:xfrm>
          <a:custGeom>
            <a:avLst/>
            <a:gdLst>
              <a:gd name="textAreaLeft" fmla="*/ 357120 w 2714760"/>
              <a:gd name="textAreaRight" fmla="*/ 2357640 w 2714760"/>
              <a:gd name="textAreaTop" fmla="*/ 357120 h 1428480"/>
              <a:gd name="textAreaBottom" fmla="*/ 107136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916" y="5400"/>
                </a:lnTo>
                <a:lnTo>
                  <a:pt x="15916" y="0"/>
                </a:lnTo>
                <a:lnTo>
                  <a:pt x="21600" y="10800"/>
                </a:lnTo>
                <a:lnTo>
                  <a:pt x="15916" y="21600"/>
                </a:lnTo>
                <a:lnTo>
                  <a:pt x="15916" y="16200"/>
                </a:lnTo>
                <a:lnTo>
                  <a:pt x="0" y="16200"/>
                </a:lnTo>
                <a:lnTo>
                  <a:pt x="28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Маржиналь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Скругленный прямоугольник 6"/>
          <p:cNvSpPr/>
          <p:nvPr/>
        </p:nvSpPr>
        <p:spPr>
          <a:xfrm>
            <a:off x="2738520" y="4500720"/>
            <a:ext cx="6119640" cy="1857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Постійні витрати / Коеф.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. Маржинального доходу = Маржинальний дохід на од.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7"/>
          <p:cNvSpPr/>
          <p:nvPr/>
        </p:nvSpPr>
        <p:spPr>
          <a:xfrm>
            <a:off x="539640" y="115920"/>
            <a:ext cx="8294760" cy="216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Змінні витрати + Постійні витрати + Бажаний прибуто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(Постійні витрати + Бажаний прибуток) / Коеф. маржинального доход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684360" y="2565360"/>
            <a:ext cx="8173800" cy="2208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= (Постійні витрати + Бажаний прибуток) / Маржинальний дохід на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Обсяг реалізації х Маржинальний дохід на од.  -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684360" y="4941720"/>
            <a:ext cx="8173800" cy="1582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Чистий прибуток / (1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23T08:30:45Z</dcterms:modified>
  <cp:revision>240</cp:revision>
  <dc:subject/>
  <dc:title>Слайд 1</dc:title>
</cp:coreProperties>
</file>