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0F27-5C36-4A2A-B32E-3642B670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6B8-E9CF-41D0-AA4C-D52EB323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D52-1143-4976-8E3A-C2BD72D2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409-F774-46AF-92E1-1353D535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6460-D62F-40DE-BDE3-CBA4FE56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6467-0151-4EB2-8763-4B00B376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728A-F703-4FE9-91EA-5080B5F9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8E8A-5ADB-492A-95CD-2A4A7392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1D2B-B4FC-406F-847B-4D74DF8E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AC20-ED1E-49AF-8B56-E9B3AA9F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5EA4-A387-48E4-9B82-B363BD64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7AC-4D75-49D3-80D7-F03FAA50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5EF8-775E-4927-BCB0-8CF673B1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5D4D-641D-4FC3-A7C4-3C0DBF52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A7FB-1876-4676-90F1-43E8BBF6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569F-D332-467A-A3FE-F83D5F43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C1CA-4EB6-4EEA-A0BD-88EF9D8F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E352-B0FC-4326-BC05-ABE7E06D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1D4E3-8646-4139-AE23-14A27FB2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8213-887C-4596-B4BD-B1E0C704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E4DF-DE65-4A93-9A6E-BB7822E7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1708-2F71-4641-BC44-03AAF4C5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BC5-F0DB-4DF8-BBC8-192C25E0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81C4-C441-4479-9043-E70E6142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9665-DA54-447D-AFFE-1C7128DE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EADA-3DC4-4CA8-B7E2-03B78F76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4AC9-85F5-42A3-A2E0-B99575F6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8BDC7-0C00-409A-AFCA-C4FD56B0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6C4EA-DBD5-485A-B383-0A779750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8568-89A2-409E-A314-172B8BB9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EA46-F5C6-4805-9201-221DF1CF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E40F9-4980-49AD-939B-140CC167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880A3-F1FA-49AB-AEB9-C80A785F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191-4CF2-4B7F-B59B-411AFB40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A53F-DD9E-4690-A9A1-944F651D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E7DAD-D22C-4A3B-A6A9-43CAAAC5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FA9C-A81F-4E1A-BB80-8976F7F4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5DC0-4475-4A3F-AC00-919BC86F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4313F-598F-409A-B277-33A959AE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D8FF9-47F9-47CD-91A5-E84D2F72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DC7A6-9C27-4DC3-9949-8572CA9E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28FA5-DE90-4131-BB97-003501AE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B658-7553-4DC7-B8CE-AD474D31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E9041-AE44-421B-AA96-DE8E8C4D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309-C631-469D-85A4-8165D33E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E061D-DF0A-4A82-9993-98BFE9A0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33AD0-C327-4C83-BE90-BA6B9891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C8DB6-1FA2-4936-B67B-39A8C1F3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8FDA3-7B89-4501-86CE-B78B878F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96E9F-5F83-4A40-B85D-7179E051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DF0C5-35B5-404A-8033-6ABF2FE8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6289D-CE13-421E-94BF-34631AEC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8B09-A621-49EF-83B7-2B613E05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42FDB-F567-4434-A9AA-205008B0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217C3-F49D-4382-9C3B-0D243617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F1E-B4A9-40E9-A1A5-DB364510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AD3DB-E667-4E24-8F71-89A545C5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A32-72E8-4865-B3F5-D70BBD58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135-5F58-48D7-AB62-E9F5716F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559-62A8-4AB2-B745-25AD4DF3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D3BE-F888-48F4-9882-0FE7EBCBE22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B91C-FD6F-4936-AD90-FC1A4D20726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E16E-5414-48B7-ADC6-C386B1F9A51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FAF3-5915-427D-A04E-16B8722CC31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B2DD-9AEE-4D14-BF0C-A3DA094A5C8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-237960" y="1292400"/>
            <a:ext cx="1005192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певна сума коштів вноситься на особливий рахунок – рахунок лімітованої чекової книжки. У межах цього ліміту підприємства виписують розрахункові чеки постачальника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РОЗРАХУНКОВИЙ ЧЕК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– це розрахунковий документ, що містить письмове розпорядження власника рахунка (чекодавця) установі банку (банку-емітенту), в якому він має відкритий рахунок, сплатити чекодержателю вказану в чеку суму коштів з його рахунк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WordArt 2"/>
          <p:cNvSpPr txBox="1"/>
          <p:nvPr/>
        </p:nvSpPr>
        <p:spPr>
          <a:xfrm>
            <a:off x="380880" y="76320"/>
            <a:ext cx="3657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розрахунков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0" y="60840"/>
            <a:ext cx="900108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Для </a:t>
            </a:r>
            <a:r>
              <a:rPr b="0" i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ідкриття акредитиву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підприємство подає до банку заяву на акредитив (зразок 3.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разок 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r>
              <a:rPr b="1" lang="uk-UA" sz="25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ЯВА НА АКРЕДИТИ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ід 11 вересня 20хх 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ержано ба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5500800" y="500040"/>
            <a:ext cx="114300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50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921360" y="306360"/>
            <a:ext cx="22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 Black"/>
                <a:ea typeface="Times New Roman"/>
              </a:rPr>
              <a:t>11  вересня 20хх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09480" y="1397160"/>
          <a:ext cx="7696440" cy="4951080"/>
        </p:xfrm>
        <a:graphic>
          <a:graphicData uri="http://schemas.openxmlformats.org/drawingml/2006/table">
            <a:tbl>
              <a:tblPr/>
              <a:tblGrid>
                <a:gridCol w="3405240"/>
                <a:gridCol w="4291200"/>
              </a:tblGrid>
              <a:tr h="477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явник акредит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П “Верес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12578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енефіціа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зОВ “Кро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58146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-емітент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Б “Укрсімбан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м.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ростень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МФО №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5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 бенефіціара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Б “Західінкомбанк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м.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Житомир 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ФО №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8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крийте нам акредити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критий відзив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вид акредитив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трок дії акредит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21 вересня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20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х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а 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0000 грн. 00 ко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сімдесят тисяч гривень 00 ко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цифрами і літерам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редитив у іншому (виконуючо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у виконати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) за рахунок коштів платника, депонованих у виконуючому банку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) інкасацією документів до банку-емітента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) через кореспондуючий рахунок банку-емітент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 уповноваженого покупця </a:t>
                      </a:r>
                      <a:r>
                        <a:rPr b="0" i="1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Борейко Б.І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зайве закреслити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 акцептом (чиїм), без акцеп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Умови акредитива до виконуючо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у направити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) спецзв’язком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) коротким повідомленням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Font typeface="SymbolPS" charset="2"/>
                        <a:buChar char=""/>
                        <a:tabLst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електронною поштою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buClr>
                          <a:srgbClr val="000000"/>
                        </a:buClr>
                        <a:buFont typeface="SymbolPS" charset="2"/>
                        <a:buChar char=""/>
                        <a:tabLst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летайп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Інші лінії зв’язку, вказати які. Зайве закреслити)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тіж (чи акцепт) здійснити проти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рахунок-фактура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перелік документів, які додаються 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еєстру документів за акредитиво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говір № 32 від 17.02.20</a:t>
                      </a: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х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азва товарів, виконаних робіт, наданих послу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аливо 80000 грн. 00 коп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кількість, ціна, сум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даткові умови: ‑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4" name="Rectangle 5"/>
          <p:cNvSpPr/>
          <p:nvPr/>
        </p:nvSpPr>
        <p:spPr>
          <a:xfrm>
            <a:off x="1785960" y="644508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дписи заявників                            </a:t>
            </a:r>
            <a:r>
              <a:rPr b="0" i="1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ереденко                              </a:t>
            </a: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.О. Середенк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964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</a:t>
            </a: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кредитиву                                        </a:t>
            </a:r>
            <a:r>
              <a:rPr b="0" i="1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стюк          </a:t>
            </a:r>
            <a:r>
              <a:rPr b="0" lang="uk-UA" sz="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   К.С. Костю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646200" y="755640"/>
            <a:ext cx="7894440" cy="13842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1760" y="2514600"/>
            <a:ext cx="75438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латіжний документи, за яким кредитна установа (банк, страхова компанія, фонд тощо) дає розпорядження іншій кредитній установі за рахунок спеціально заброньованих коштів оплатити товарно-транспортні документи на відвантажений товар чи виплатити пред’явникові акредитиву зазначену суму грошей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361360" cy="36799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ля відкриття акредитива клієнт подає до банку-емітента заяву про відкриття акредитива  не менше ніж у трьох примірниках, заповнену згідно з вимогами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s://finpdotme.files.wordpress.com/2014/11/d0b7d0b0d18fd0b2d0b0-d0bdd0b0-d0b0d0bad180.png"/>
          <p:cNvPicPr/>
          <p:nvPr/>
        </p:nvPicPr>
        <p:blipFill>
          <a:blip r:embed="rId1"/>
          <a:stretch/>
        </p:blipFill>
        <p:spPr>
          <a:xfrm>
            <a:off x="1712880" y="268200"/>
            <a:ext cx="443232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-6480" y="42840"/>
            <a:ext cx="9156960" cy="95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100" spc="-1" strike="noStrike">
                <a:solidFill>
                  <a:srgbClr val="000000"/>
                </a:solidFill>
                <a:latin typeface="Arial Black"/>
              </a:rPr>
              <a:t>ОВЕРДРАФТ</a:t>
            </a:r>
            <a:r>
              <a:rPr b="0" lang="uk-UA" sz="33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це надання позичальникові (юрособі) коштів шляхом кредитування банком його розрахункового рахунка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Простіше кажучи, овердрафт дає клієнтові право оплачувати платіжні доручення у розмірах, що перевищують залишок на поточному рахунк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-334800" y="-115920"/>
            <a:ext cx="9412200" cy="963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-36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1" lang="uk-UA" sz="4000" spc="-1" strike="noStrike">
                <a:solidFill>
                  <a:srgbClr val="000000"/>
                </a:solidFill>
                <a:latin typeface="Arial Black"/>
              </a:rPr>
              <a:t>стандартний овердрафт;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1" lang="uk-UA" sz="4000" spc="-1" strike="noStrike">
                <a:solidFill>
                  <a:srgbClr val="000000"/>
                </a:solidFill>
                <a:latin typeface="Arial Black"/>
              </a:rPr>
              <a:t>овердрафт авансом – </a:t>
            </a:r>
            <a:r>
              <a:rPr b="0" lang="uk-UA" sz="4000" spc="-1" strike="noStrike">
                <a:solidFill>
                  <a:srgbClr val="000000"/>
                </a:solidFill>
                <a:latin typeface="Arial Black"/>
              </a:rPr>
              <a:t>надається клієнтові, який відповідає вимогам банку, з метою залучення (повернення) його на розрахунково-касове обслуговування;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овердрафт під інкасацію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– надається клієнтам, які відповідають вимогам банку і неменше 75% оборотів за кредитом розрахункового рахунка яких становить грошова виручка, що інкасується (у т. ч. здана на розрахунковий рахунок самим клієнтом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технічний овердрафт –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надається клієнтові без урахування його фінансового становища, під оформлені на рахунок позичальника платежі (продаж/купівля валюти на біржі, до повернення термінового депозиту або інші гарантовані надходження на рахунок клієнта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-298440" y="-23760"/>
            <a:ext cx="9448920" cy="871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152280" y="8377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1. отримання овердрафту – більш швидка процедура, адже не потребує надання техніко-економічного обґрунтування і багатьох додаткових документі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2. овердрафт може надаватися без наявності будь-якого забезпечення (так званий бланковий овердрафт). При наданні стандартного овердрафту як забезпечення можуть виступати рухоме і нерухоме майно позичальника, гарантії банків, фінансове (майнове) поручительство третіх осіб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вердрафт не має цільового характеру, тобто передбачається, що позичальник сам визначає розподіл та призначення використання позикових засобів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Кредит за допомогою овердрафту може бути виданий тривалістю від декади, місяця і до року залежно від потреб позичальника та від виду овердрафту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WordArt 2"/>
          <p:cNvSpPr txBox="1"/>
          <p:nvPr/>
        </p:nvSpPr>
        <p:spPr>
          <a:xfrm>
            <a:off x="152280" y="4419720"/>
            <a:ext cx="381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548dd4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0">
                <a:noFill/>
              </a:ln>
              <a:solidFill>
                <a:srgbClr val="548dd4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-30240" y="128520"/>
            <a:ext cx="7736040" cy="1339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та документування операцій з грошовими коштами на поточному рахунку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розрахунків чеками та акредитивам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овердрафті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Облік зарахування на рахунки банків грошових коштів в дорозі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122400" y="762120"/>
            <a:ext cx="8570880" cy="1152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202716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максимально допустима сума фактичної заборгованості на кожен момент часу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049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2f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За відкриття овердрафту банк стягує фіксовану одноразову плату, яку слід сплатити при укладенні договору;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52f7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Умови процентної ставки або плати за користування овердрафтом найбільш суб'єктивні і залежать від кредитної політики банку.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448920" cy="1079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152280" y="12193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сотки за користування овердрафтом нараховуються один раз на місяць на суму фактичної заборгованості і за фактичний термін використання кредиту за методом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факт/365 днів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”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і підлягають сплаті у тому місяці, в якому вони нараховані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сотки за користування овердрафтом нараховуються щодня на суму дебетового сальдо за поточним рахунком клієнта, яка була закрита за рахунок овердрафт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76212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Якщо користувач овердрафтом захоче внести до кредитного договору які-небудь зміни, наприклад про збільшення ліміту, то за це також треба буде сплатити встановлену сум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За невчасне повернення наданого кредиту за овердрафтом банк стягає пеню і підвищені відсотк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WordArt 4"/>
          <p:cNvSpPr txBox="1"/>
          <p:nvPr/>
        </p:nvSpPr>
        <p:spPr>
          <a:xfrm>
            <a:off x="114480" y="3048120"/>
            <a:ext cx="64764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-6480" y="73080"/>
            <a:ext cx="9156960" cy="1079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68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Відображення овердрафту в обліку залежатиме від того, на який термін він надан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якщо термін овердрафту в межах місяця – в обліку доцільно відображат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“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 Black"/>
              </a:rPr>
              <a:t>червоний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”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залишок за рахунком </a:t>
            </a:r>
            <a:r>
              <a:rPr b="1" lang="uk-UA" sz="3700" spc="-1" strike="noStrike">
                <a:solidFill>
                  <a:srgbClr val="000000"/>
                </a:solidFill>
                <a:latin typeface="Arial Black"/>
              </a:rPr>
              <a:t>311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такий же облік у разі, коли термін овердрафту – у межах кварталу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Arial Black"/>
              </a:rPr>
              <a:t>якщо термін перевищує один квартал – використовують рахунок</a:t>
            </a: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uk-UA" sz="3700" spc="-1" strike="noStrike">
                <a:solidFill>
                  <a:srgbClr val="000000"/>
                </a:solidFill>
                <a:latin typeface="Arial Black"/>
              </a:rPr>
              <a:t>60.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WordArt 2"/>
          <p:cNvSpPr txBox="1"/>
          <p:nvPr/>
        </p:nvSpPr>
        <p:spPr>
          <a:xfrm>
            <a:off x="76320" y="1219320"/>
            <a:ext cx="380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2860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ідсотки за використання овердрафту відносять до витрат звітного періоду і відображають на рахунку 951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ідсотки за кредит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”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591f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Штрафні санкції, що можуть виникати у разі не невиконання умов кредитного договору, відображаються на 948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изнаних пеня, штрафи, неустойки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”</a:t>
            </a: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-73080" y="1073160"/>
            <a:ext cx="94726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Содержимое 2" descr=""/>
          <p:cNvPicPr/>
          <p:nvPr/>
        </p:nvPicPr>
        <p:blipFill>
          <a:blip r:embed="rId1"/>
          <a:stretch/>
        </p:blipFill>
        <p:spPr>
          <a:xfrm>
            <a:off x="-6480" y="304920"/>
            <a:ext cx="90774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100" spc="-1" strike="noStrike" u="sng">
                <a:solidFill>
                  <a:srgbClr val="000000"/>
                </a:solidFill>
                <a:uFillTx/>
                <a:latin typeface="Arial Black"/>
              </a:rPr>
              <a:t>Вкладання цінностей в інкасаторську сумку</a:t>
            </a:r>
            <a:r>
              <a:rPr b="0" lang="uk-UA" sz="31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здійснюється </a:t>
            </a:r>
            <a:r>
              <a:rPr b="0" i="1" lang="uk-UA" sz="3100" spc="-1" strike="noStrike">
                <a:solidFill>
                  <a:srgbClr val="000000"/>
                </a:solidFill>
                <a:latin typeface="Arial Black"/>
              </a:rPr>
              <a:t>з одночасною звіркою їх фактичної наявності з даними супровідної відомості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 u="sng">
                <a:solidFill>
                  <a:srgbClr val="000000"/>
                </a:solidFill>
                <a:uFillTx/>
                <a:latin typeface="Arial Black"/>
              </a:rPr>
              <a:t>Перший екземпляр 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супровідної відомості вкладається в спеціальну кишеню інкасаторської сумки, після чого сумка </a:t>
            </a:r>
            <a:r>
              <a:rPr b="0" lang="uk-UA" sz="4200" spc="-1" strike="noStrike">
                <a:solidFill>
                  <a:srgbClr val="000000"/>
                </a:solidFill>
                <a:latin typeface="Arial Black"/>
              </a:rPr>
              <a:t>опломбовується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Видача сумок з цінностями інкасаторам здійснюється </a:t>
            </a:r>
            <a:r>
              <a:rPr b="1" i="1" lang="uk-UA" sz="3100" spc="-1" strike="noStrike">
                <a:solidFill>
                  <a:srgbClr val="000000"/>
                </a:solidFill>
                <a:latin typeface="Arial Black"/>
              </a:rPr>
              <a:t>під розписку </a:t>
            </a:r>
            <a:r>
              <a:rPr b="0" lang="uk-UA" sz="3100" spc="-1" strike="noStrike">
                <a:solidFill>
                  <a:srgbClr val="000000"/>
                </a:solidFill>
                <a:latin typeface="Arial Black"/>
              </a:rPr>
              <a:t>на третьому примірнику супровідної відомості, завірену відбитком печатки інкасації.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-244440" y="-128520"/>
            <a:ext cx="9759960" cy="1890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228600" y="156996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вимагати від інкасаторів службові посвідчення, доручення на право одержання сумок з валютними та іншими цінностями, явочну картку, завірену печаткою установи банку, а також порожні сумки при їх наявності. Одночасно той, що здає цінності, пред'являє інкасаторам зразки відбитків пломбірів, завірених установою банку, який здійснює перерахунок (підготовку) цінностей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7" descr=""/>
          <p:cNvPicPr/>
          <p:nvPr/>
        </p:nvPicPr>
        <p:blipFill>
          <a:blip r:embed="rId1"/>
          <a:stretch/>
        </p:blipFill>
        <p:spPr>
          <a:xfrm>
            <a:off x="-334800" y="-6480"/>
            <a:ext cx="9485280" cy="1049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51920" y="2057400"/>
            <a:ext cx="404172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  <a:ea typeface="Arial"/>
              </a:rPr>
              <a:t>Виписка банку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5840" y="2057040"/>
            <a:ext cx="5257800" cy="17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591f4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Виписка банку, грошові чеки, платіжні доручення, розрахункові чеки, акредитив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228600" y="914400"/>
            <a:ext cx="3924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500" spc="-1" strike="noStrike">
                <a:solidFill>
                  <a:srgbClr val="000000"/>
                </a:solidFill>
                <a:latin typeface="Arial Black"/>
              </a:rPr>
              <a:t>При надходженні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4800600" y="990720"/>
            <a:ext cx="384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500" spc="-1" strike="noStrike">
                <a:solidFill>
                  <a:srgbClr val="000000"/>
                </a:solidFill>
                <a:latin typeface="Arial Black"/>
              </a:rPr>
              <a:t>При витрачанні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одержимое 7"/>
          <p:cNvSpPr/>
          <p:nvPr/>
        </p:nvSpPr>
        <p:spPr>
          <a:xfrm>
            <a:off x="0" y="4191120"/>
            <a:ext cx="9067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000000"/>
                </a:solidFill>
                <a:uFillTx/>
                <a:latin typeface="Arial Black"/>
              </a:rPr>
              <a:t>Відображення в облікових регістрах і звітності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В облікових регістрах: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Журнал 1, Відомість 1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У фінансовій звітності: 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ф. №1</a:t>
            </a:r>
            <a:r>
              <a:rPr b="0" lang="en-US" sz="26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Arial"/>
              </a:rPr>
              <a:t>«Звіт про фінансовий стан»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  <a:ea typeface="Arial"/>
              </a:rPr>
              <a:t>, ф. №3 “Звіт про рух грошових коштів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записати в явочній картці точний час прибуття інкасаторів, літерами кількість сумок з цінностями, загальну суму вкладення в сумки валютних цінностей в гривневому еквіваленті, кількість порожніх сумок, прийнятих від інкасаторів, і розписатися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0492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співставити підписи інкасатора на копії супровідної відомості із зразком його підпису на службовому посвідченні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0" lang="uk-UA" sz="3600" spc="-1" strike="noStrike">
                <a:solidFill>
                  <a:srgbClr val="000000"/>
                </a:solidFill>
                <a:latin typeface="Arial Black"/>
              </a:rPr>
              <a:t>повернути інкасатору документи, які той пред'явив, і передати сумки з цінностями разом з другими примірниками супровідних відомостей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82760"/>
                <a:gridCol w="5045040"/>
                <a:gridCol w="2036520"/>
                <a:gridCol w="1579680"/>
              </a:tblGrid>
              <a:tr h="806400">
                <a:tc gridSpan="4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ображення руху грошових коштів на рахунках в банка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rowSpan="2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№ 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.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міст господарської операції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респондуючі рахунки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бет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редит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816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ctr" pos="3075120"/>
                          <a:tab algn="r" pos="6151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гашено дебітором довгострокову заборговані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дано готівку з каси в бан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кошти в погашення вексе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4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лачено покупцями раніше одержані товари, роботи, послуги, продукці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504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80880"/>
                <a:gridCol w="4876920"/>
                <a:gridCol w="1905120"/>
                <a:gridCol w="1981080"/>
              </a:tblGrid>
              <a:tr h="39996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продані акції власної емісії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392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кошти цільового фінансування на будівництво з зовнішніх джерел (бюджет, різні позабюджетні та міжгалузеві фонди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довгострокову позику банку на поточний рахуно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фінансову допомогу на зворотній основ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короткострокову позику бан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609480"/>
                <a:gridCol w="6259680"/>
                <a:gridCol w="1098360"/>
                <a:gridCol w="1100160"/>
              </a:tblGrid>
              <a:tr h="38412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з бюджету на рахунок підприємства грошові кош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кошти з фондів соціального страхування на рахунок підприєм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доходи майбутніх періоді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 rowSpan="4"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раховано на рахунок у банку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ручку від реалізації продукції, товарів, робіт, послу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хід від реалізації виробничих запасів, МШ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1680" rIns="31680" tIns="468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хід від спільної діяльнос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just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и отриманих дивіденді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46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0" y="1440"/>
          <a:ext cx="9144000" cy="6878880"/>
        </p:xfrm>
        <a:graphic>
          <a:graphicData uri="http://schemas.openxmlformats.org/drawingml/2006/table">
            <a:tbl>
              <a:tblPr/>
              <a:tblGrid>
                <a:gridCol w="582480"/>
                <a:gridCol w="4044960"/>
                <a:gridCol w="2233800"/>
                <a:gridCol w="2282760"/>
              </a:tblGrid>
              <a:tr h="3747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римано відсотки за зберігання грошових коштів в бан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32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тримано суми страхового відшкодування від страхової організації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004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дбано довгострокові інвестиції (акції, облігації інших підприємств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дано готівку з банку в кас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поновано грошові кошти на пластикову картку, на лімітовану чекову книжку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49360"/>
                <a:gridCol w="6448320"/>
                <a:gridCol w="1073160"/>
                <a:gridCol w="1073160"/>
              </a:tblGrid>
              <a:tr h="55548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 rowSpan="2"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ставлений акредитив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 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національній валюті;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 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іноземній валют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раховано кошти для придбання іноземної валют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20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оплату покупці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оведено передоплату постачальника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7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куплено акції власної емісії у акціонері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2880" bIns="0" anchor="t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812880"/>
                <a:gridCol w="6183360"/>
                <a:gridCol w="1049040"/>
                <a:gridCol w="1098720"/>
              </a:tblGrid>
              <a:tr h="260280"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 algn="ctr">
                        <a:lnSpc>
                          <a:spcPts val="168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користано кошти цільового фінансуванн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вернуто банку довгострокову пози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0880">
                <a:tc rowSpan="5"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гашено за рахунок коштів банку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боргованість за раніше виданим вексел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2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боргованість по зобов’язаннях за облігація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вгострокову заборгованість перед орендодавцем з оренд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овгострокові зобов’язання перед різними кредиторам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280" rIns="17280" tIns="252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роткострокову позику банк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280" rIns="17280" tIns="252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0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280" marR="17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82480"/>
                <a:gridCol w="4044960"/>
                <a:gridCol w="2233800"/>
                <a:gridCol w="2282760"/>
              </a:tblGrid>
              <a:tr h="43344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огашено заборгованість перед бюджетом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4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9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плачено збори до фондів соціального страхування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5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984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раховано суми заробітної плати на особисті рахунки працівників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6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ерераховано дивіденди учасникам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7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582480"/>
                <a:gridCol w="4046760"/>
                <a:gridCol w="2232000"/>
                <a:gridCol w="2282760"/>
              </a:tblGrid>
              <a:tr h="4935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56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плачено відсотки банку за обслуговування поточного рахунку підприємства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2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6880"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лачено витрати грошовими коштами з поточного рахунку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1, 92 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3, 94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5, 97 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576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5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0520" y="10666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000000"/>
                </a:solidFill>
                <a:latin typeface="Arial Black"/>
              </a:rPr>
              <a:t>ПЛАТІЖНЕ ДОРУЧЕННЯ </a:t>
            </a:r>
            <a:r>
              <a:rPr b="0" lang="uk-UA" sz="46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розпорядження обслуговуючому банку про перерахування визначеної суми на рахунок іншого підприємства, оформлене на спеціальному бланку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0" y="0"/>
          <a:ext cx="9144000" cy="6934320"/>
        </p:xfrm>
        <a:graphic>
          <a:graphicData uri="http://schemas.openxmlformats.org/drawingml/2006/table">
            <a:tbl>
              <a:tblPr/>
              <a:tblGrid>
                <a:gridCol w="2284560"/>
                <a:gridCol w="285480"/>
                <a:gridCol w="1413000"/>
                <a:gridCol w="495360"/>
                <a:gridCol w="287280"/>
                <a:gridCol w="285840"/>
                <a:gridCol w="285480"/>
                <a:gridCol w="287640"/>
                <a:gridCol w="285480"/>
                <a:gridCol w="285840"/>
                <a:gridCol w="287280"/>
                <a:gridCol w="285840"/>
                <a:gridCol w="285840"/>
                <a:gridCol w="287280"/>
                <a:gridCol w="285840"/>
                <a:gridCol w="285480"/>
                <a:gridCol w="1230480"/>
              </a:tblGrid>
              <a:tr h="247680">
                <a:tc gridSpan="12" rowSpan="2">
                  <a:txBody>
                    <a:bodyPr lIns="52200" rIns="52200" tIns="0" bIns="0" anchor="t">
                      <a:noAutofit/>
                    </a:bodyPr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тіжне доручення № 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 “</a:t>
                      </a:r>
                      <a:r>
                        <a:rPr b="0" i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8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” </a:t>
                      </a:r>
                      <a:r>
                        <a:rPr b="0" i="1" lang="uk-UA" sz="20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листопада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20</a:t>
                      </a: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х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41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indent="44928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ано бан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атник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АТ “Омега”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. Жито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“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_”________ 20хх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9460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 плат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бан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ЕБЕТ рах. 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64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КБ “Гарант” у м. Києв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22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000982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6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держувач 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зОВ “Традиція”  м.Киї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1621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ct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РЕДИТ рах. 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 одержува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бан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ctr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025921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омінвестбанк в м. Києв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2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 gridSpan="1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ума словами 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Шість тисяч грн. 00 ко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 gridSpan="1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.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17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значення платежу: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плата за дошку обрізну згідно з накладною № 346 від 2 жовтня 20хх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у т.ч. ПДВ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 1000,00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гр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13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ідпис               </a:t>
                      </a:r>
                      <a:r>
                        <a:rPr b="0" i="1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0" i="1" lang="uk-UA" sz="16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Загри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                           </a:t>
                      </a:r>
                      <a:r>
                        <a:rPr b="0" i="1" lang="uk-UA" sz="1600" spc="-1" strike="noStrike" u="sng">
                          <a:solidFill>
                            <a:srgbClr val="000000"/>
                          </a:solidFill>
                          <a:uFillTx/>
                          <a:latin typeface="Arial Black"/>
                          <a:ea typeface="Times New Roman"/>
                        </a:rPr>
                        <a:t>Кудряш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 algn="r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оведено бан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0">
                <a:tc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52200" rIns="52200" tIns="0" bIns="0" anchor="t">
                      <a:noAutofit/>
                    </a:bodyPr>
                    <a:p>
                      <a:pPr marL="228600" algn="just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2200" rIns="52200" tIns="0" bIns="0" anchor="t">
                      <a:noAutofit/>
                    </a:bodyPr>
                    <a:p>
                      <a:pPr marL="228600"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“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___” _______ 20хх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684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 Black"/>
              </a:rPr>
              <a:t>ВИПИСКА БАНКУ </a:t>
            </a:r>
            <a:r>
              <a:rPr b="0" lang="uk-UA" sz="6000" spc="-1" strike="noStrike">
                <a:solidFill>
                  <a:srgbClr val="000000"/>
                </a:solidFill>
                <a:latin typeface="Arial Black"/>
              </a:rPr>
              <a:t>–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 Black"/>
              </a:rPr>
              <a:t>документ, який видається банком підприємству та відображає рух грошових коштів на поточному рахунку 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0"/>
          <a:ext cx="9144000" cy="6851520"/>
        </p:xfrm>
        <a:graphic>
          <a:graphicData uri="http://schemas.openxmlformats.org/drawingml/2006/table">
            <a:tbl>
              <a:tblPr/>
              <a:tblGrid>
                <a:gridCol w="1312920"/>
                <a:gridCol w="1465200"/>
                <a:gridCol w="1544760"/>
                <a:gridCol w="1084320"/>
                <a:gridCol w="614160"/>
                <a:gridCol w="1697040"/>
                <a:gridCol w="1425600"/>
              </a:tblGrid>
              <a:tr h="914400">
                <a:tc gridSpan="2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азва влас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а номер раху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ата останнього дня проведення розрахун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960" rIns="39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ата попереднього дня проведених розрахунк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680"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зОВ “Корона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3201257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4.12.20хх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3.12.20хх 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 gridSpan="4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хідне сальдо паси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0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956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 операці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омер документ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анк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оме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ахунк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оро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 дебет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борот за кредит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511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140808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10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00308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5117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138656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0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5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10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6256386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8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gridSpan="5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азом обороті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080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8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gridSpan="4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ихідне сальдо паси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9960" rIns="399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4680,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4"/>
          <p:cNvSpPr/>
          <p:nvPr/>
        </p:nvSpPr>
        <p:spPr>
          <a:xfrm>
            <a:off x="152280" y="990720"/>
            <a:ext cx="883944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r>
              <a:rPr b="1" lang="uk-UA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блік розрахунків чеками та акредитив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500" spc="-1" strike="noStrike">
                <a:solidFill>
                  <a:srgbClr val="000000"/>
                </a:solidFill>
                <a:latin typeface="Arial Black"/>
              </a:rPr>
              <a:t>Чеком</a:t>
            </a:r>
            <a:r>
              <a:rPr b="0" lang="en-US" sz="7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Arial Black"/>
              </a:rPr>
              <a:t>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 Black"/>
              </a:rPr>
              <a:t>цінний папір, який містить нічим не обумовлене розпорядження чекодавця банку провести платіж зазначеної у ньому суми чекоутримувачу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4" descr=""/>
          <p:cNvPicPr/>
          <p:nvPr/>
        </p:nvPicPr>
        <p:blipFill>
          <a:blip r:embed="rId1"/>
          <a:stretch/>
        </p:blipFill>
        <p:spPr>
          <a:xfrm>
            <a:off x="-334800" y="73080"/>
            <a:ext cx="9485280" cy="1049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52280" y="22096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ласник рахунку (чекодавець) дає письмове розпорядження платнику (банку, який видав грошові чеки) сплатити певну суму, зазначену в чеку, утримувачу коштів (чекодержателю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ля цього підприємство в установі банку придбає чекові книжки, строк дії яких один рік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WordArt 2"/>
          <p:cNvSpPr txBox="1"/>
          <p:nvPr/>
        </p:nvSpPr>
        <p:spPr>
          <a:xfrm>
            <a:off x="457200" y="1066680"/>
            <a:ext cx="297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грошов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Юра</cp:lastModifiedBy>
  <dcterms:modified xsi:type="dcterms:W3CDTF">2020-11-12T18:20:18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