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FCFE-578D-4FF4-A7EC-A189DB53D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195B-3EBC-4E92-9748-4EA063E74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DA4B-DF2A-4EC4-BDD1-08F92999F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28D3-3604-4D27-AF38-DE39A7533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9406B-620C-4C17-BFB3-714F75E90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9BE98-0A2E-48A8-B57D-7ED20804A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8B1A5-4AC3-46D6-A730-CB9726B05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E0297-9604-444E-91CA-BED2EBC8B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3FB78-729D-4E1A-9EF1-F24F0684A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1355A-73D9-466A-92F4-D0A741394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4423F-3BD6-43C4-83F0-6BA70156E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A738-3B19-4713-8402-C26E283CE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72BDF-B131-4B30-8753-7F058EDA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C4E03-A1FE-4516-A111-1DB254398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833DA-AEDA-4064-A194-C27BDEC7D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9732B-88EB-4F44-9F5A-B2E5F6276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2B1B5-DC68-4554-A8CD-CA3E786F4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C4882-8F10-436C-B0B0-7A4A31E94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3125E-015C-49D0-A850-0DD253C1A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ABA9A-3C92-4B88-BEEC-51B4536B4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DFE7D-8E4D-4FAC-AED7-B47716743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AD317-2C93-4AB3-BB85-CDE5C64C5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F41F-D5DE-4A2B-A67C-3A3D45A29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BB195-1CF4-4F9E-9397-7D797911E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9BF3C-30B6-4C96-8BD5-1F492ABC2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36B31-8EBA-449A-89A0-622677F6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2403B-2140-472C-9EB7-58D77BDE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FA430-FD2F-4279-9051-E001575BB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F3FF4-A0FF-4ABE-9270-DA116E615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E4D3C-6E1E-40D5-8D98-A2002EBC7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673A9-573C-48AA-8D86-7E2C86C71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F30CB-E4D9-4BF0-8B74-1106EB9E5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6E46D-E320-4A61-84DE-A33D0E503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CE17-12E2-4D4C-BBAE-95D2ED067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E9238-584D-40C5-AB4E-CB7EC5D03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4B81E-A953-4ECF-8CEA-9AF9E60A5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5A90A-35F9-4E9B-95D9-5D105E4E8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26E40-8B96-4108-A58D-A74B95626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B0702-4311-4AE0-AAE8-68E195B6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6B9FE-4E28-4409-9B97-E9BFF27B8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E7898-4F60-43A0-B74D-0B344BAC8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ABA4B-DFFE-4DFE-9B7D-6C0CA1938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BD6D8-556D-485A-AEB6-63E8F6C3E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CDF8D-799B-4CF9-BFAF-7EF908973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ED91-A900-4E82-B037-DF9BFA22F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24B856-0EC1-4BDB-804D-4F44C6C42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7BBA8-FF7B-45F8-989D-F8BA1EACE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9493B-1F0D-43E0-9D85-0CF6D8F2D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9E921-390E-45A2-AC26-70646E6EE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9BA8B7-0C99-48F3-8C5A-0FE714A7F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2350A-8C31-4C57-AC60-615EA529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5E7131-B84E-4204-A31F-52D34983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873C8B-0902-44C5-B3A1-69BC28F1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5335C-58F3-4FDB-ABC4-6074E4EAE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890051-E40A-45A0-8378-8AA8FDFA1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9A5B-6F37-4116-855C-487C6D6D2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21DE2C-8814-4B63-A51C-E68E17455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5685-0386-437B-8CEB-56C4863C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6E3D-F7D1-4830-8B29-B87E864D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33BE-2C36-4454-80C7-8DBA22B3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12339-6CD8-4232-B2CB-1FEDDEB0612B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05364-EE08-4897-A055-1C555728A223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ED36A-E1AD-4A26-94EE-72179FF79546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BD617-676F-4C45-A3A0-47D8B47E0340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0003C-7E3C-4B24-AF38-D3A3719FD78E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Rectangle 2" descr=""/>
          <p:cNvPicPr/>
          <p:nvPr/>
        </p:nvPicPr>
        <p:blipFill>
          <a:blip r:embed="rId1"/>
          <a:stretch/>
        </p:blipFill>
        <p:spPr>
          <a:xfrm>
            <a:off x="-237960" y="1292400"/>
            <a:ext cx="10051920" cy="40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Black"/>
              </a:rPr>
              <a:t>певна сума коштів вноситься на особливий рахунок – рахунок лімітованої чекової книжки. У межах цього ліміту підприємства виписують розрахункові чеки постачальникам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РОЗРАХУНКОВИЙ ЧЕК </a:t>
            </a:r>
            <a:r>
              <a:rPr b="0" lang="ru-RU" sz="2600" spc="-1" strike="noStrike">
                <a:solidFill>
                  <a:srgbClr val="000000"/>
                </a:solidFill>
                <a:latin typeface="Arial Black"/>
              </a:rPr>
              <a:t>– це розрахунковий документ, що містить письмове розпорядження власника рахунка (чекодавця) установі банку (банку-емітенту), в якому він має відкритий рахунок, сплатити чекодержателю вказану в чеку суму коштів з його рахунку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WordArt 2"/>
          <p:cNvSpPr txBox="1"/>
          <p:nvPr/>
        </p:nvSpPr>
        <p:spPr>
          <a:xfrm>
            <a:off x="380880" y="76320"/>
            <a:ext cx="3657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розрахункові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"/>
          <p:cNvSpPr/>
          <p:nvPr/>
        </p:nvSpPr>
        <p:spPr>
          <a:xfrm>
            <a:off x="0" y="60840"/>
            <a:ext cx="900108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Для </a:t>
            </a:r>
            <a:r>
              <a:rPr b="0" i="1" lang="uk-UA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ідкриття акредитиву</a:t>
            </a:r>
            <a:r>
              <a:rPr b="0" lang="uk-UA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підприємство подає до банку заяву на акредитив (зразок 3.1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Зразок 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1" lang="uk-UA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</a:t>
            </a:r>
            <a:r>
              <a:rPr b="1" lang="uk-UA" sz="25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ЗАЯВА НА АКРЕДИТИ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  </a:t>
            </a:r>
            <a:r>
              <a:rPr b="0" lang="uk-UA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ід 11 вересня 20хх 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Одержано банк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"/>
          <p:cNvSpPr/>
          <p:nvPr/>
        </p:nvSpPr>
        <p:spPr>
          <a:xfrm>
            <a:off x="5500800" y="500040"/>
            <a:ext cx="1143000" cy="3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50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6921360" y="306360"/>
            <a:ext cx="222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 u="sng">
                <a:solidFill>
                  <a:srgbClr val="000000"/>
                </a:solidFill>
                <a:uFillTx/>
                <a:latin typeface="Arial Black"/>
                <a:ea typeface="Times New Roman"/>
              </a:rPr>
              <a:t>11  вересня 20хх 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609480" y="1397160"/>
          <a:ext cx="7696440" cy="4951080"/>
        </p:xfrm>
        <a:graphic>
          <a:graphicData uri="http://schemas.openxmlformats.org/drawingml/2006/table">
            <a:tbl>
              <a:tblPr/>
              <a:tblGrid>
                <a:gridCol w="3405240"/>
                <a:gridCol w="4291200"/>
              </a:tblGrid>
              <a:tr h="477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Заявник акредити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СП “Верес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Код</a:t>
                      </a: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125784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енефіціа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ТзОВ “Крок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Код </a:t>
                      </a: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581469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анк-емітент </a:t>
                      </a: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КБ “Укрсімбанк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м. </a:t>
                      </a: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Коростень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МФО № </a:t>
                      </a: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15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анк бенефіціара </a:t>
                      </a: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КБ “Західінкомбанк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м. </a:t>
                      </a: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Житомир 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МФО № </a:t>
                      </a: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187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ідкрийте нам акредити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покритий відзивн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(вид акредитива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Строк дії акредити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 u="sng">
                          <a:solidFill>
                            <a:srgbClr val="000000"/>
                          </a:solidFill>
                          <a:uFillTx/>
                          <a:latin typeface="Arial Black"/>
                          <a:ea typeface="Times New Roman"/>
                        </a:rPr>
                        <a:t>21 вересня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20</a:t>
                      </a: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хх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р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0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Сума </a:t>
                      </a: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80000 грн. 00 коп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ісімдесят тисяч гривень 00 коп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(цифрами і літерами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кредитив у іншому (виконуючому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анку виконати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) за рахунок коштів платника, депонованих у виконуючому банку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) інкасацією документів до банку-емітента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) через кореспондуючий рахунок банку-емітента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ід уповноваженого покупця </a:t>
                      </a:r>
                      <a:r>
                        <a:rPr b="0" i="1" lang="uk-UA" sz="1100" spc="-1" strike="noStrike" u="sng">
                          <a:solidFill>
                            <a:srgbClr val="000000"/>
                          </a:solidFill>
                          <a:uFillTx/>
                          <a:latin typeface="Arial Black"/>
                          <a:ea typeface="Times New Roman"/>
                        </a:rPr>
                        <a:t>Борейко Б.І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(зайве закреслити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З акцептом (чиїм), без акцепт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2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Умови акредитива до виконуючого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анку направити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) спецзв’язком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) коротким повідомленням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buClr>
                          <a:srgbClr val="000000"/>
                        </a:buClr>
                        <a:buFont typeface="SymbolPS" charset="2"/>
                        <a:buChar char=""/>
                        <a:tabLst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 u="sng">
                          <a:solidFill>
                            <a:srgbClr val="000000"/>
                          </a:solidFill>
                          <a:uFillTx/>
                          <a:latin typeface="Arial Black"/>
                          <a:ea typeface="Times New Roman"/>
                        </a:rPr>
                        <a:t>електронною поштою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buClr>
                          <a:srgbClr val="000000"/>
                        </a:buClr>
                        <a:buFont typeface="SymbolPS" charset="2"/>
                        <a:buChar char=""/>
                        <a:tabLst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телетайпо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(</a:t>
                      </a: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Інші лінії зв’язку, вказати які. Зайве закреслити)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Платіж (чи акцепт) здійснити проти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 u="sng">
                          <a:solidFill>
                            <a:srgbClr val="000000"/>
                          </a:solidFill>
                          <a:uFillTx/>
                          <a:latin typeface="Arial Black"/>
                          <a:ea typeface="Times New Roman"/>
                        </a:rPr>
                        <a:t>рахунок-фактура</a:t>
                      </a: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______________________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(перелік документів, які додаються до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реєстру документів за акредитивом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9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Договір № 32 від 17.02.20</a:t>
                      </a: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хх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р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Назва товарів, виконаних робіт, наданих послу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Паливо 80000 грн. 00 коп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(кількість, ціна, сума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2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Додаткові умови: ‑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44" name="Rectangle 5"/>
          <p:cNvSpPr/>
          <p:nvPr/>
        </p:nvSpPr>
        <p:spPr>
          <a:xfrm>
            <a:off x="1785960" y="6445080"/>
            <a:ext cx="514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964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Підписи заявників                            </a:t>
            </a:r>
            <a:r>
              <a:rPr b="0" i="1" lang="uk-UA" sz="9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Середенко                              </a:t>
            </a:r>
            <a:r>
              <a:rPr b="0" lang="uk-UA" sz="9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С.О. Середенк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964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 </a:t>
            </a:r>
            <a:r>
              <a:rPr b="0" lang="uk-UA" sz="9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кредитиву                                        </a:t>
            </a:r>
            <a:r>
              <a:rPr b="0" i="1" lang="uk-UA" sz="9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Костюк          </a:t>
            </a:r>
            <a:r>
              <a:rPr b="0" lang="uk-UA" sz="9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                      К.С. Костюк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1" descr=""/>
          <p:cNvPicPr/>
          <p:nvPr/>
        </p:nvPicPr>
        <p:blipFill>
          <a:blip r:embed="rId1"/>
          <a:stretch/>
        </p:blipFill>
        <p:spPr>
          <a:xfrm>
            <a:off x="646200" y="755640"/>
            <a:ext cx="7894440" cy="138420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761760" y="2514600"/>
            <a:ext cx="7543800" cy="192096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платіжний документи, за яким кредитна установа (банк, страхова компанія, фонд тощо) дає розпорядження іншій кредитній установі за рахунок спеціально заброньованих коштів оплатити товарно-транспортні документи на відвантажений товар чи виплатити пред’явникові акредитиву зазначену суму грошей.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361360" cy="367992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Для відкриття акредитива клієнт подає до банку-емітента заяву про відкриття акредитива  не менше ніж у трьох примірниках, заповнену згідно з вимогами</a:t>
            </a:r>
            <a:r>
              <a:rPr b="0" lang="uk-UA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https://finpdotme.files.wordpress.com/2014/11/d0b7d0b0d18fd0b2d0b0-d0bdd0b0-d0b0d0bad180.png"/>
          <p:cNvPicPr/>
          <p:nvPr/>
        </p:nvPicPr>
        <p:blipFill>
          <a:blip r:embed="rId1"/>
          <a:stretch/>
        </p:blipFill>
        <p:spPr>
          <a:xfrm>
            <a:off x="1712880" y="268200"/>
            <a:ext cx="4432320" cy="58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Заголовок 1" descr=""/>
          <p:cNvPicPr/>
          <p:nvPr/>
        </p:nvPicPr>
        <p:blipFill>
          <a:blip r:embed="rId1"/>
          <a:stretch/>
        </p:blipFill>
        <p:spPr>
          <a:xfrm>
            <a:off x="-6480" y="42840"/>
            <a:ext cx="9156960" cy="95724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22860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100" spc="-1" strike="noStrike">
                <a:solidFill>
                  <a:srgbClr val="000000"/>
                </a:solidFill>
                <a:latin typeface="Arial Black"/>
              </a:rPr>
              <a:t>ОВЕРДРАФТ</a:t>
            </a:r>
            <a:r>
              <a:rPr b="0" lang="uk-UA" sz="3300" spc="-1" strike="noStrike">
                <a:solidFill>
                  <a:srgbClr val="000000"/>
                </a:solidFill>
                <a:latin typeface="Arial Black"/>
              </a:rPr>
              <a:t> – </a:t>
            </a:r>
            <a:r>
              <a:rPr b="0" lang="uk-UA" sz="3200" spc="-1" strike="noStrike">
                <a:solidFill>
                  <a:srgbClr val="000000"/>
                </a:solidFill>
                <a:latin typeface="Arial Black"/>
              </a:rPr>
              <a:t>це надання позичальникові (юрособі) коштів шляхом кредитування банком його розрахункового рахунка.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 Black"/>
              </a:rPr>
              <a:t>Простіше кажучи, овердрафт дає клієнтові право оплачувати платіжні доручення у розмірах, що перевищують залишок на поточному рахунку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Заголовок 1" descr=""/>
          <p:cNvPicPr/>
          <p:nvPr/>
        </p:nvPicPr>
        <p:blipFill>
          <a:blip r:embed="rId1"/>
          <a:stretch/>
        </p:blipFill>
        <p:spPr>
          <a:xfrm>
            <a:off x="-334800" y="-115920"/>
            <a:ext cx="9412200" cy="96372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-360" y="1066320"/>
            <a:ext cx="89917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 Black"/>
              </a:rPr>
              <a:t>1. </a:t>
            </a:r>
            <a:r>
              <a:rPr b="1" lang="uk-UA" sz="4000" spc="-1" strike="noStrike">
                <a:solidFill>
                  <a:srgbClr val="000000"/>
                </a:solidFill>
                <a:latin typeface="Arial Black"/>
              </a:rPr>
              <a:t>стандартний овердрафт;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 Black"/>
              </a:rPr>
              <a:t>2. </a:t>
            </a:r>
            <a:r>
              <a:rPr b="1" lang="uk-UA" sz="4000" spc="-1" strike="noStrike">
                <a:solidFill>
                  <a:srgbClr val="000000"/>
                </a:solidFill>
                <a:latin typeface="Arial Black"/>
              </a:rPr>
              <a:t>овердрафт авансом – </a:t>
            </a:r>
            <a:r>
              <a:rPr b="0" lang="uk-UA" sz="4000" spc="-1" strike="noStrike">
                <a:solidFill>
                  <a:srgbClr val="000000"/>
                </a:solidFill>
                <a:latin typeface="Arial Black"/>
              </a:rPr>
              <a:t>надається клієнтові, який відповідає вимогам банку, з метою залучення (повернення) його на розрахунково-касове обслуговування;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151920" y="0"/>
            <a:ext cx="8991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 Black"/>
              </a:rPr>
              <a:t>3. </a:t>
            </a:r>
            <a:r>
              <a:rPr b="1" lang="uk-UA" sz="2800" spc="-1" strike="noStrike">
                <a:solidFill>
                  <a:srgbClr val="000000"/>
                </a:solidFill>
                <a:latin typeface="Arial Black"/>
              </a:rPr>
              <a:t>овердрафт під інкасацію</a:t>
            </a:r>
            <a:r>
              <a:rPr b="0" lang="uk-UA" sz="2800" spc="-1" strike="noStrike">
                <a:solidFill>
                  <a:srgbClr val="000000"/>
                </a:solidFill>
                <a:latin typeface="Arial Black"/>
              </a:rPr>
              <a:t> – надається клієнтам, які відповідають вимогам банку і неменше 75% оборотів за кредитом розрахункового рахунка яких становить грошова виручка, що інкасується (у т. ч. здана на розрахунковий рахунок самим клієнтом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 Black"/>
              </a:rPr>
              <a:t>4. </a:t>
            </a:r>
            <a:r>
              <a:rPr b="1" lang="uk-UA" sz="2800" spc="-1" strike="noStrike">
                <a:solidFill>
                  <a:srgbClr val="000000"/>
                </a:solidFill>
                <a:latin typeface="Arial Black"/>
              </a:rPr>
              <a:t>технічний овердрафт – </a:t>
            </a:r>
            <a:r>
              <a:rPr b="0" lang="uk-UA" sz="2800" spc="-1" strike="noStrike">
                <a:solidFill>
                  <a:srgbClr val="000000"/>
                </a:solidFill>
                <a:latin typeface="Arial Black"/>
              </a:rPr>
              <a:t>надається клієнтові без урахування його фінансового становища, під оформлені на рахунок позичальника платежі (продаж/купівля валюти на біржі, до повернення термінового депозиту або інші гарантовані надходження на рахунок клієнта)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1" descr=""/>
          <p:cNvPicPr/>
          <p:nvPr/>
        </p:nvPicPr>
        <p:blipFill>
          <a:blip r:embed="rId1"/>
          <a:stretch/>
        </p:blipFill>
        <p:spPr>
          <a:xfrm>
            <a:off x="-298440" y="-23760"/>
            <a:ext cx="9448920" cy="87156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 txBox="1"/>
          <p:nvPr/>
        </p:nvSpPr>
        <p:spPr>
          <a:xfrm>
            <a:off x="152280" y="837720"/>
            <a:ext cx="883944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 Black"/>
              </a:rPr>
              <a:t>1. отримання овердрафту – більш швидка процедура, адже не потребує надання техніко-економічного обґрунтування і багатьох додаткових документів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 Black"/>
              </a:rPr>
              <a:t>2. овердрафт може надаватися без наявності будь-якого забезпечення (так званий бланковий овердрафт). При наданні стандартного овердрафту як забезпечення можуть виступати рухоме і нерухоме майно позичальника, гарантії банків, фінансове (майнове) поручительство третіх осіб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228600" y="53352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 Black"/>
              </a:rPr>
              <a:t>3. </a:t>
            </a:r>
            <a:r>
              <a:rPr b="0" lang="uk-UA" sz="3200" spc="-1" strike="noStrike">
                <a:solidFill>
                  <a:srgbClr val="000000"/>
                </a:solidFill>
                <a:latin typeface="Arial Black"/>
              </a:rPr>
              <a:t>овердрафт не має цільового характеру, тобто передбачається, що позичальник сам визначає розподіл та призначення використання позикових засобів. 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 Black"/>
              </a:rPr>
              <a:t>Кредит за допомогою овердрафту може бути виданий тривалістю від декади, місяця і до року залежно від потреб позичальника та від виду овердрафту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WordArt 2"/>
          <p:cNvSpPr txBox="1"/>
          <p:nvPr/>
        </p:nvSpPr>
        <p:spPr>
          <a:xfrm>
            <a:off x="152280" y="4419720"/>
            <a:ext cx="3812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548dd4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!</a:t>
            </a:r>
            <a:endParaRPr b="0" lang="en-US" sz="1800" spc="1" strike="noStrike">
              <a:ln w="0">
                <a:noFill/>
              </a:ln>
              <a:solidFill>
                <a:srgbClr val="548dd4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2" descr=""/>
          <p:cNvPicPr/>
          <p:nvPr/>
        </p:nvPicPr>
        <p:blipFill>
          <a:blip r:embed="rId1"/>
          <a:stretch/>
        </p:blipFill>
        <p:spPr>
          <a:xfrm>
            <a:off x="-30240" y="128520"/>
            <a:ext cx="7736040" cy="13399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1. </a:t>
            </a:r>
            <a:r>
              <a:rPr b="0" lang="uk-UA" sz="3200" spc="-1" strike="noStrike">
                <a:solidFill>
                  <a:srgbClr val="000000"/>
                </a:solidFill>
                <a:latin typeface="Arial Black"/>
              </a:rPr>
              <a:t>Облік та документування операцій з грошовими коштами на поточному рахунку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 Black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. </a:t>
            </a:r>
            <a:r>
              <a:rPr b="0" lang="uk-UA" sz="3200" spc="-1" strike="noStrike">
                <a:solidFill>
                  <a:srgbClr val="000000"/>
                </a:solidFill>
                <a:latin typeface="Arial Black"/>
              </a:rPr>
              <a:t>Облік розрахунків чеками та акредитивами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 Black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. </a:t>
            </a:r>
            <a:r>
              <a:rPr b="0" lang="uk-UA" sz="3200" spc="-1" strike="noStrike">
                <a:solidFill>
                  <a:srgbClr val="000000"/>
                </a:solidFill>
                <a:latin typeface="Arial Black"/>
              </a:rPr>
              <a:t>Облік овердрафтів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 Black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. </a:t>
            </a:r>
            <a:r>
              <a:rPr b="0" lang="uk-UA" sz="3200" spc="-1" strike="noStrike">
                <a:solidFill>
                  <a:srgbClr val="000000"/>
                </a:solidFill>
                <a:latin typeface="Arial Black"/>
              </a:rPr>
              <a:t>Облік зарахування на рахунки банків грошових коштів в дорозі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Заголовок 1" descr=""/>
          <p:cNvPicPr/>
          <p:nvPr/>
        </p:nvPicPr>
        <p:blipFill>
          <a:blip r:embed="rId1"/>
          <a:stretch/>
        </p:blipFill>
        <p:spPr>
          <a:xfrm>
            <a:off x="122400" y="762120"/>
            <a:ext cx="8570880" cy="115236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 txBox="1"/>
          <p:nvPr/>
        </p:nvSpPr>
        <p:spPr>
          <a:xfrm>
            <a:off x="457200" y="2027160"/>
            <a:ext cx="8229600" cy="27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500" spc="-1" strike="noStrike">
                <a:solidFill>
                  <a:srgbClr val="000000"/>
                </a:solidFill>
                <a:latin typeface="Arial Black"/>
              </a:rPr>
              <a:t>максимально допустима сума фактичної заборгованості на кожен момент часу</a:t>
            </a:r>
            <a:endParaRPr b="0" lang="en-US" sz="35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Заголовок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10494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 txBox="1"/>
          <p:nvPr/>
        </p:nvSpPr>
        <p:spPr>
          <a:xfrm>
            <a:off x="152280" y="1066680"/>
            <a:ext cx="87631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852f7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uk-UA" sz="3500" spc="-1" strike="noStrike">
                <a:solidFill>
                  <a:srgbClr val="000000"/>
                </a:solidFill>
                <a:latin typeface="Arial Black"/>
              </a:rPr>
              <a:t>За відкриття овердрафту банк стягує фіксовану одноразову плату, яку слід сплатити при укладенні договору;</a:t>
            </a:r>
            <a:endParaRPr b="0" lang="en-US" sz="3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852f7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5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uk-UA" sz="3500" spc="-1" strike="noStrike">
                <a:solidFill>
                  <a:srgbClr val="000000"/>
                </a:solidFill>
                <a:latin typeface="Arial Black"/>
              </a:rPr>
              <a:t>Умови процентної ставки або плати за користування овердрафтом найбільш суб'єктивні і залежать від кредитної політики банку.</a:t>
            </a:r>
            <a:endParaRPr b="0" lang="en-US" sz="3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Заголовок 1" descr=""/>
          <p:cNvPicPr/>
          <p:nvPr/>
        </p:nvPicPr>
        <p:blipFill>
          <a:blip r:embed="rId1"/>
          <a:stretch/>
        </p:blipFill>
        <p:spPr>
          <a:xfrm>
            <a:off x="-298440" y="73080"/>
            <a:ext cx="9448920" cy="107928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 txBox="1"/>
          <p:nvPr/>
        </p:nvSpPr>
        <p:spPr>
          <a:xfrm>
            <a:off x="152280" y="121932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591f4d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 Black"/>
              </a:rPr>
              <a:t>відсотки за користування овердрафтом нараховуються один раз на місяць на суму фактичної заборгованості і за фактичний термін використання кредиту за методом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lang="uk-UA" sz="2400" spc="-1" strike="noStrike">
                <a:solidFill>
                  <a:srgbClr val="000000"/>
                </a:solidFill>
                <a:latin typeface="Arial Black"/>
              </a:rPr>
              <a:t>факт/365 днів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”</a:t>
            </a:r>
            <a:r>
              <a:rPr b="0" lang="uk-UA" sz="2400" spc="-1" strike="noStrike">
                <a:solidFill>
                  <a:srgbClr val="000000"/>
                </a:solidFill>
                <a:latin typeface="Arial Black"/>
              </a:rPr>
              <a:t> і підлягають сплаті у тому місяці, в якому вони нараховані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591f4d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 Black"/>
              </a:rPr>
              <a:t>відсотки за користування овердрафтом нараховуються щодня на суму дебетового сальдо за поточним рахунком клієнта, яка була закрита за рахунок овердрафту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76212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 Black"/>
              </a:rPr>
              <a:t>Якщо користувач овердрафтом захоче внести до кредитного договору які-небудь зміни, наприклад про збільшення ліміту, то за це також треба буде сплатити встановлену суму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 Black"/>
              </a:rPr>
              <a:t>За невчасне повернення наданого кредиту за овердрафтом банк стягає пеню і підвищені відсотки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WordArt 4"/>
          <p:cNvSpPr txBox="1"/>
          <p:nvPr/>
        </p:nvSpPr>
        <p:spPr>
          <a:xfrm>
            <a:off x="114480" y="3048120"/>
            <a:ext cx="647640" cy="184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!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Заголовок 1" descr=""/>
          <p:cNvPicPr/>
          <p:nvPr/>
        </p:nvPicPr>
        <p:blipFill>
          <a:blip r:embed="rId1"/>
          <a:stretch/>
        </p:blipFill>
        <p:spPr>
          <a:xfrm>
            <a:off x="-6480" y="73080"/>
            <a:ext cx="9156960" cy="107928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 txBox="1"/>
          <p:nvPr/>
        </p:nvSpPr>
        <p:spPr>
          <a:xfrm>
            <a:off x="45684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 Black"/>
              </a:rPr>
              <a:t>Відображення овердрафту в обліку залежатиме від того, на який термін він наданий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buClr>
                <a:srgbClr val="591f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 Black"/>
              </a:rPr>
              <a:t>якщо термін овердрафту в межах місяця – в обліку доцільно відображати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Black"/>
              </a:rPr>
              <a:t>“</a:t>
            </a:r>
            <a:r>
              <a:rPr b="0" lang="uk-UA" sz="3200" spc="-1" strike="noStrike" u="sng">
                <a:solidFill>
                  <a:srgbClr val="000000"/>
                </a:solidFill>
                <a:uFillTx/>
                <a:latin typeface="Arial Black"/>
              </a:rPr>
              <a:t>червоний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Black"/>
              </a:rPr>
              <a:t>”</a:t>
            </a:r>
            <a:r>
              <a:rPr b="0" lang="uk-UA" sz="3200" spc="-1" strike="noStrike" u="sng">
                <a:solidFill>
                  <a:srgbClr val="000000"/>
                </a:solidFill>
                <a:uFillTx/>
                <a:latin typeface="Arial Black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 Black"/>
              </a:rPr>
              <a:t>залишок за рахунком </a:t>
            </a:r>
            <a:r>
              <a:rPr b="1" lang="uk-UA" sz="3700" spc="-1" strike="noStrike">
                <a:solidFill>
                  <a:srgbClr val="000000"/>
                </a:solidFill>
                <a:latin typeface="Arial Black"/>
              </a:rPr>
              <a:t>311</a:t>
            </a:r>
            <a:r>
              <a:rPr b="0" lang="uk-UA" sz="3200" spc="-1" strike="noStrike">
                <a:solidFill>
                  <a:srgbClr val="000000"/>
                </a:solidFill>
                <a:latin typeface="Arial Black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buClr>
                <a:srgbClr val="591f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 Black"/>
              </a:rPr>
              <a:t>такий же облік у разі, коли термін овердрафту – у межах кварталу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buClr>
                <a:srgbClr val="591f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Arial Black"/>
              </a:rPr>
              <a:t>якщо термін перевищує один квартал – використовують рахунок</a:t>
            </a:r>
            <a:r>
              <a:rPr b="1" lang="uk-UA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uk-UA" sz="3700" spc="-1" strike="noStrike">
                <a:solidFill>
                  <a:srgbClr val="000000"/>
                </a:solidFill>
                <a:latin typeface="Arial Black"/>
              </a:rPr>
              <a:t>60.</a:t>
            </a: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WordArt 2"/>
          <p:cNvSpPr txBox="1"/>
          <p:nvPr/>
        </p:nvSpPr>
        <p:spPr>
          <a:xfrm>
            <a:off x="76320" y="1219320"/>
            <a:ext cx="3808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!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228600" y="76212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buClr>
                <a:srgbClr val="591f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 Black"/>
              </a:rPr>
              <a:t>Відсотки за використання овердрафту відносять до витрат звітного періоду і відображають на рахунку 951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lang="uk-UA" sz="3200" spc="-1" strike="noStrike">
                <a:solidFill>
                  <a:srgbClr val="000000"/>
                </a:solidFill>
                <a:latin typeface="Arial Black"/>
              </a:rPr>
              <a:t>Відсотки за кредит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”</a:t>
            </a:r>
            <a:r>
              <a:rPr b="0" lang="uk-UA" sz="3200" spc="-1" strike="noStrike">
                <a:solidFill>
                  <a:srgbClr val="000000"/>
                </a:solidFill>
                <a:latin typeface="Arial Black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591f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uk-UA" sz="3200" spc="-1" strike="noStrike">
                <a:solidFill>
                  <a:srgbClr val="000000"/>
                </a:solidFill>
                <a:latin typeface="Arial Black"/>
              </a:rPr>
              <a:t>Штрафні санкції, що можуть виникати у разі не невиконання умов кредитного договору, відображаються на 948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lang="uk-UA" sz="3200" spc="-1" strike="noStrike">
                <a:solidFill>
                  <a:srgbClr val="000000"/>
                </a:solidFill>
                <a:latin typeface="Arial Black"/>
              </a:rPr>
              <a:t>Визнаних пеня, штрафи, неустойки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”</a:t>
            </a:r>
            <a:r>
              <a:rPr b="0" lang="uk-UA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Заголовок 1" descr=""/>
          <p:cNvPicPr/>
          <p:nvPr/>
        </p:nvPicPr>
        <p:blipFill>
          <a:blip r:embed="rId1"/>
          <a:stretch/>
        </p:blipFill>
        <p:spPr>
          <a:xfrm>
            <a:off x="-73080" y="1073160"/>
            <a:ext cx="947268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Содержимое 2" descr=""/>
          <p:cNvPicPr/>
          <p:nvPr/>
        </p:nvPicPr>
        <p:blipFill>
          <a:blip r:embed="rId1"/>
          <a:stretch/>
        </p:blipFill>
        <p:spPr>
          <a:xfrm>
            <a:off x="-6480" y="304920"/>
            <a:ext cx="9077400" cy="55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52280" y="151920"/>
            <a:ext cx="883944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100" spc="-1" strike="noStrike" u="sng">
                <a:solidFill>
                  <a:srgbClr val="000000"/>
                </a:solidFill>
                <a:uFillTx/>
                <a:latin typeface="Arial Black"/>
              </a:rPr>
              <a:t>Вкладання цінностей в інкасаторську сумку</a:t>
            </a:r>
            <a:r>
              <a:rPr b="0" lang="uk-UA" sz="3100" spc="-1" strike="noStrike" u="sng">
                <a:solidFill>
                  <a:srgbClr val="000000"/>
                </a:solidFill>
                <a:uFillTx/>
                <a:latin typeface="Arial Black"/>
              </a:rPr>
              <a:t> </a:t>
            </a:r>
            <a:r>
              <a:rPr b="0" lang="uk-UA" sz="3100" spc="-1" strike="noStrike">
                <a:solidFill>
                  <a:srgbClr val="000000"/>
                </a:solidFill>
                <a:latin typeface="Arial Black"/>
              </a:rPr>
              <a:t>здійснюється </a:t>
            </a:r>
            <a:r>
              <a:rPr b="0" i="1" lang="uk-UA" sz="3100" spc="-1" strike="noStrike">
                <a:solidFill>
                  <a:srgbClr val="000000"/>
                </a:solidFill>
                <a:latin typeface="Arial Black"/>
              </a:rPr>
              <a:t>з одночасною звіркою їх фактичної наявності з даними супровідної відомості</a:t>
            </a:r>
            <a:r>
              <a:rPr b="0" lang="uk-UA" sz="31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31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100" spc="-1" strike="noStrike" u="sng">
                <a:solidFill>
                  <a:srgbClr val="000000"/>
                </a:solidFill>
                <a:uFillTx/>
                <a:latin typeface="Arial Black"/>
              </a:rPr>
              <a:t>Перший екземпляр </a:t>
            </a:r>
            <a:r>
              <a:rPr b="0" lang="uk-UA" sz="3100" spc="-1" strike="noStrike">
                <a:solidFill>
                  <a:srgbClr val="000000"/>
                </a:solidFill>
                <a:latin typeface="Arial Black"/>
              </a:rPr>
              <a:t>супровідної відомості вкладається в спеціальну кишеню інкасаторської сумки, після чого сумка </a:t>
            </a:r>
            <a:r>
              <a:rPr b="0" lang="uk-UA" sz="4200" spc="-1" strike="noStrike">
                <a:solidFill>
                  <a:srgbClr val="000000"/>
                </a:solidFill>
                <a:latin typeface="Arial Black"/>
              </a:rPr>
              <a:t>опломбовується</a:t>
            </a:r>
            <a:r>
              <a:rPr b="0" lang="uk-UA" sz="31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100" spc="-1" strike="noStrike">
                <a:solidFill>
                  <a:srgbClr val="000000"/>
                </a:solidFill>
                <a:latin typeface="Arial Black"/>
              </a:rPr>
              <a:t>Видача сумок з цінностями інкасаторам здійснюється </a:t>
            </a:r>
            <a:r>
              <a:rPr b="1" i="1" lang="uk-UA" sz="3100" spc="-1" strike="noStrike">
                <a:solidFill>
                  <a:srgbClr val="000000"/>
                </a:solidFill>
                <a:latin typeface="Arial Black"/>
              </a:rPr>
              <a:t>під розписку </a:t>
            </a:r>
            <a:r>
              <a:rPr b="0" lang="uk-UA" sz="3100" spc="-1" strike="noStrike">
                <a:solidFill>
                  <a:srgbClr val="000000"/>
                </a:solidFill>
                <a:latin typeface="Arial Black"/>
              </a:rPr>
              <a:t>на третьому примірнику супровідної відомості, завірену відбитком печатки інкасації.</a:t>
            </a:r>
            <a:endParaRPr b="0" lang="en-US" sz="3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Заголовок 1" descr=""/>
          <p:cNvPicPr/>
          <p:nvPr/>
        </p:nvPicPr>
        <p:blipFill>
          <a:blip r:embed="rId1"/>
          <a:stretch/>
        </p:blipFill>
        <p:spPr>
          <a:xfrm>
            <a:off x="-244440" y="-128520"/>
            <a:ext cx="9759960" cy="189072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 txBox="1"/>
          <p:nvPr/>
        </p:nvSpPr>
        <p:spPr>
          <a:xfrm>
            <a:off x="228600" y="1569960"/>
            <a:ext cx="86868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 Black"/>
              </a:rPr>
              <a:t>1. </a:t>
            </a:r>
            <a:r>
              <a:rPr b="0" lang="uk-UA" sz="2800" spc="-1" strike="noStrike">
                <a:solidFill>
                  <a:srgbClr val="000000"/>
                </a:solidFill>
                <a:latin typeface="Arial Black"/>
              </a:rPr>
              <a:t>вимагати від інкасаторів службові посвідчення, доручення на право одержання сумок з валютними та іншими цінностями, явочну картку, завірену печаткою установи банку, а також порожні сумки при їх наявності. Одночасно той, що здає цінності, пред'являє інкасаторам зразки відбитків пломбірів, завірених установою банку, який здійснює перерахунок (підготовку) цінностей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Заголовок 7" descr=""/>
          <p:cNvPicPr/>
          <p:nvPr/>
        </p:nvPicPr>
        <p:blipFill>
          <a:blip r:embed="rId1"/>
          <a:stretch/>
        </p:blipFill>
        <p:spPr>
          <a:xfrm>
            <a:off x="-334800" y="-6480"/>
            <a:ext cx="9485280" cy="10494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>
            <a:off x="151920" y="2057400"/>
            <a:ext cx="4041720" cy="10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591f4d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 Black"/>
                <a:ea typeface="Arial"/>
              </a:rPr>
              <a:t>Виписка банку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885840" y="2057040"/>
            <a:ext cx="5257800" cy="17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591f4d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 Black"/>
                <a:ea typeface="Arial"/>
              </a:rPr>
              <a:t>Виписка банку, грошові чеки, платіжні доручення, розрахункові чеки, акредитив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TextBox 5"/>
          <p:cNvSpPr/>
          <p:nvPr/>
        </p:nvSpPr>
        <p:spPr>
          <a:xfrm>
            <a:off x="228600" y="914400"/>
            <a:ext cx="392436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500" spc="-1" strike="noStrike">
                <a:solidFill>
                  <a:srgbClr val="000000"/>
                </a:solidFill>
                <a:latin typeface="Arial Black"/>
              </a:rPr>
              <a:t>При надходженні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7"/>
          <p:cNvSpPr/>
          <p:nvPr/>
        </p:nvSpPr>
        <p:spPr>
          <a:xfrm>
            <a:off x="4800600" y="990720"/>
            <a:ext cx="38401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500" spc="-1" strike="noStrike">
                <a:solidFill>
                  <a:srgbClr val="000000"/>
                </a:solidFill>
                <a:latin typeface="Arial Black"/>
              </a:rPr>
              <a:t>При витрачанні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Содержимое 7"/>
          <p:cNvSpPr/>
          <p:nvPr/>
        </p:nvSpPr>
        <p:spPr>
          <a:xfrm>
            <a:off x="0" y="4191120"/>
            <a:ext cx="90676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 u="sng">
                <a:solidFill>
                  <a:srgbClr val="000000"/>
                </a:solidFill>
                <a:uFillTx/>
                <a:latin typeface="Arial Black"/>
              </a:rPr>
              <a:t>Відображення в облікових регістрах і звітності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600" spc="-1" strike="noStrike">
                <a:solidFill>
                  <a:srgbClr val="000000"/>
                </a:solidFill>
                <a:latin typeface="Arial Black"/>
                <a:ea typeface="Arial"/>
              </a:rPr>
              <a:t>В облікових регістрах: </a:t>
            </a:r>
            <a:r>
              <a:rPr b="0" lang="uk-UA" sz="2600" spc="-1" strike="noStrike">
                <a:solidFill>
                  <a:srgbClr val="000000"/>
                </a:solidFill>
                <a:latin typeface="Arial Black"/>
                <a:ea typeface="Arial"/>
              </a:rPr>
              <a:t>Журнал 1, Відомість 1.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600" spc="-1" strike="noStrike">
                <a:solidFill>
                  <a:srgbClr val="000000"/>
                </a:solidFill>
                <a:latin typeface="Arial Black"/>
                <a:ea typeface="Arial"/>
              </a:rPr>
              <a:t>У фінансовій звітності: </a:t>
            </a:r>
            <a:r>
              <a:rPr b="0" lang="uk-UA" sz="2600" spc="-1" strike="noStrike">
                <a:solidFill>
                  <a:srgbClr val="000000"/>
                </a:solidFill>
                <a:latin typeface="Arial Black"/>
                <a:ea typeface="Arial"/>
              </a:rPr>
              <a:t>ф. №1</a:t>
            </a:r>
            <a:r>
              <a:rPr b="0" lang="en-US" sz="26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 Black"/>
                <a:ea typeface="Arial"/>
              </a:rPr>
              <a:t>«Звіт про фінансовий стан»</a:t>
            </a:r>
            <a:r>
              <a:rPr b="0" lang="uk-UA" sz="2600" spc="-1" strike="noStrike">
                <a:solidFill>
                  <a:srgbClr val="000000"/>
                </a:solidFill>
                <a:latin typeface="Arial Black"/>
                <a:ea typeface="Arial"/>
              </a:rPr>
              <a:t>, ф. №3 “Звіт про рух грошових коштів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228600" y="380520"/>
            <a:ext cx="86868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 Black"/>
              </a:rPr>
              <a:t>2. </a:t>
            </a:r>
            <a:r>
              <a:rPr b="0" lang="uk-UA" sz="3600" spc="-1" strike="noStrike">
                <a:solidFill>
                  <a:srgbClr val="000000"/>
                </a:solidFill>
                <a:latin typeface="Arial Black"/>
              </a:rPr>
              <a:t>записати в явочній картці точний час прибуття інкасаторів, літерами кількість сумок з цінностями, загальну суму вкладення в сумки валютних цінностей в гривневому еквіваленті, кількість порожніх сумок, прийнятих від інкасаторів, і розписатися;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304920" y="456840"/>
            <a:ext cx="86868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 Black"/>
              </a:rPr>
              <a:t>3. </a:t>
            </a:r>
            <a:r>
              <a:rPr b="0" lang="uk-UA" sz="3600" spc="-1" strike="noStrike">
                <a:solidFill>
                  <a:srgbClr val="000000"/>
                </a:solidFill>
                <a:latin typeface="Arial Black"/>
              </a:rPr>
              <a:t>співставити підписи інкасатора на копії супровідної відомості із зразком його підпису на службовому посвідченні;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 Black"/>
              </a:rPr>
              <a:t>4. </a:t>
            </a:r>
            <a:r>
              <a:rPr b="0" lang="uk-UA" sz="3600" spc="-1" strike="noStrike">
                <a:solidFill>
                  <a:srgbClr val="000000"/>
                </a:solidFill>
                <a:latin typeface="Arial Black"/>
              </a:rPr>
              <a:t>повернути інкасатору документи, які той пред'явив, і передати сумки з цінностями разом з другими примірниками супровідних відомостей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482760"/>
                <a:gridCol w="5045040"/>
                <a:gridCol w="2036520"/>
                <a:gridCol w="1579680"/>
              </a:tblGrid>
              <a:tr h="806400">
                <a:tc gridSpan="4">
                  <a:txBody>
                    <a:bodyPr lIns="37080" rIns="37080" tIns="5040" bIns="0" anchor="ctr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ідображення руху грошових коштів на рахунках в банках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8200">
                <a:tc rowSpan="2">
                  <a:txBody>
                    <a:bodyPr lIns="37080" rIns="37080" tIns="5040" bIns="0" anchor="ctr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№ </a:t>
                      </a:r>
                      <a:r>
                        <a:rPr b="0" i="1" lang="uk-UA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оп.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7080" rIns="37080" tIns="5040" bIns="0" anchor="ctr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Зміст господарської операції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7080" rIns="37080" tIns="5040" bIns="0" anchor="ctr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Кореспондуючі рахунки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7080" rIns="37080" tIns="5040" bIns="0" anchor="ctr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Дебет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5040" bIns="0" anchor="ctr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Кредит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37080" rIns="37080" tIns="5040" bIns="0" anchor="ctr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5040" bIns="0" anchor="ctr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5040" bIns="0" anchor="ctr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5040" bIns="0" anchor="ctr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4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8160">
                <a:tc>
                  <a:txBody>
                    <a:bodyPr lIns="37080" rIns="37080" tIns="504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ctr" pos="3075120"/>
                          <a:tab algn="r" pos="61516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5040" bIns="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Погашено дебітором довгострокову заборгованіст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504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504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8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lIns="37080" rIns="37080" tIns="504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5040" bIns="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Передано готівку з каси в банк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504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504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760">
                <a:tc>
                  <a:txBody>
                    <a:bodyPr lIns="37080" rIns="37080" tIns="504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5040" bIns="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Одержано кошти в погашення вексел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504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504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4 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9560">
                <a:tc>
                  <a:txBody>
                    <a:bodyPr lIns="37080" rIns="37080" tIns="504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5040" bIns="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Оплачено покупцями раніше одержані товари, роботи, послуги, продукцію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504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504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6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80880"/>
                <a:gridCol w="4876920"/>
                <a:gridCol w="1905120"/>
                <a:gridCol w="1981080"/>
              </a:tblGrid>
              <a:tr h="399960">
                <a:tc>
                  <a:txBody>
                    <a:bodyPr lIns="41040" rIns="4104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4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41040" rIns="4104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5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5760" bIns="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Перепродані акції власної емісії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45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93920">
                <a:tc>
                  <a:txBody>
                    <a:bodyPr lIns="41040" rIns="4104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6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5760" bIns="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Одержано кошти цільового фінансування на будівництво з зовнішніх джерел (бюджет, різні позабюджетні та міжгалузеві фонди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48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0520">
                <a:tc>
                  <a:txBody>
                    <a:bodyPr lIns="41040" rIns="4104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7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5760" bIns="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Одержано довгострокову позику банку на поточний рахунок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5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0880">
                <a:tc>
                  <a:txBody>
                    <a:bodyPr lIns="41040" rIns="4104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8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5760" bIns="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Одержано фінансову допомогу на зворотній основі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55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5680">
                <a:tc>
                  <a:txBody>
                    <a:bodyPr lIns="41040" rIns="4104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9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5760" bIns="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Одержано короткострокову позику банку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6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9" name=""/>
          <p:cNvGraphicFramePr/>
          <p:nvPr/>
        </p:nvGraphicFramePr>
        <p:xfrm>
          <a:off x="0" y="0"/>
          <a:ext cx="9067680" cy="6858000"/>
        </p:xfrm>
        <a:graphic>
          <a:graphicData uri="http://schemas.openxmlformats.org/drawingml/2006/table">
            <a:tbl>
              <a:tblPr/>
              <a:tblGrid>
                <a:gridCol w="609480"/>
                <a:gridCol w="6259680"/>
                <a:gridCol w="1098360"/>
                <a:gridCol w="1100160"/>
              </a:tblGrid>
              <a:tr h="384120">
                <a:tc>
                  <a:txBody>
                    <a:bodyPr lIns="31680" rIns="31680" tIns="46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46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46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46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4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760">
                <a:tc>
                  <a:txBody>
                    <a:bodyPr lIns="31680" rIns="31680" tIns="46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4680" bIns="0" anchor="t">
                      <a:noAutofit/>
                    </a:bodyPr>
                    <a:p>
                      <a:pPr algn="just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Повернуто з бюджету на рахунок підприємства грошові кошт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46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46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64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31680" rIns="31680" tIns="46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4680" bIns="0" anchor="t">
                      <a:noAutofit/>
                    </a:bodyPr>
                    <a:p>
                      <a:pPr algn="just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Повернуто кошти з фондів соціального страхування на рахунок підприємств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46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46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65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31680" rIns="31680" tIns="46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2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4680" bIns="0" anchor="t">
                      <a:noAutofit/>
                    </a:bodyPr>
                    <a:p>
                      <a:pPr algn="just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Одержано доходи майбутніх періодів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46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46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69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8640">
                <a:tc rowSpan="4">
                  <a:txBody>
                    <a:bodyPr lIns="31680" rIns="31680" tIns="46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3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4680" bIns="0" anchor="t">
                      <a:noAutofit/>
                    </a:bodyPr>
                    <a:p>
                      <a:pPr algn="just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Зараховано на рахунок у банку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– 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иручку від реалізації продукції, товарів, робіт, послуг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4680" bIns="0" anchor="ctr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 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46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7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1680" rIns="31680" tIns="4680" bIns="0" anchor="t">
                      <a:noAutofit/>
                    </a:bodyPr>
                    <a:p>
                      <a:pPr algn="just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– 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дохід від реалізації виробничих запасів, МШП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31680" rIns="31680" tIns="4680" bIns="0" anchor="ctr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 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46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7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1680" rIns="31680" tIns="4680" bIns="0" anchor="t">
                      <a:noAutofit/>
                    </a:bodyPr>
                    <a:p>
                      <a:pPr algn="just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– 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дохід від спільної діяльності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1680" rIns="31680" tIns="46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72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1680" rIns="31680" tIns="4680" bIns="0" anchor="t">
                      <a:noAutofit/>
                    </a:bodyPr>
                    <a:p>
                      <a:pPr algn="just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– 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суми отриманих дивідендів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1680" rIns="31680" tIns="46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73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0" name=""/>
          <p:cNvGraphicFramePr/>
          <p:nvPr/>
        </p:nvGraphicFramePr>
        <p:xfrm>
          <a:off x="0" y="1440"/>
          <a:ext cx="9144000" cy="6878880"/>
        </p:xfrm>
        <a:graphic>
          <a:graphicData uri="http://schemas.openxmlformats.org/drawingml/2006/table">
            <a:tbl>
              <a:tblPr/>
              <a:tblGrid>
                <a:gridCol w="582480"/>
                <a:gridCol w="4044960"/>
                <a:gridCol w="2233800"/>
                <a:gridCol w="2282760"/>
              </a:tblGrid>
              <a:tr h="374760"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4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4560"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4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Отримано відсотки за зберігання грошових коштів в банку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ctr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 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732 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4280"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5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Отримано суми страхового відшкодування від страхової організації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75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0040"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6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Придбано довгострокові інвестиції (акції, облігації інших підприємств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4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7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Передано готівку з банку в касу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4280"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8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Депоновано грошові кошти на пластикову картку, на лімітовану чекову книжку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3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549360"/>
                <a:gridCol w="6448320"/>
                <a:gridCol w="1073160"/>
                <a:gridCol w="1073160"/>
              </a:tblGrid>
              <a:tr h="555480">
                <a:tc>
                  <a:txBody>
                    <a:bodyPr lIns="29160" rIns="29160" tIns="28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28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28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28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4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6640">
                <a:tc rowSpan="2">
                  <a:txBody>
                    <a:bodyPr lIns="29160" rIns="29160" tIns="28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9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2880" bIns="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иставлений акредитив: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– 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національній валюті;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28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3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28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9160" rIns="29160" tIns="2880" bIns="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– 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іноземній валюті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28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4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28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6640">
                <a:tc>
                  <a:txBody>
                    <a:bodyPr lIns="29160" rIns="29160" tIns="28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2880" bIns="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Перераховано кошти для придбання іноземної валют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28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3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28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200">
                <a:tc>
                  <a:txBody>
                    <a:bodyPr lIns="29160" rIns="29160" tIns="28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2880" bIns="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Повернуто оплату покупців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28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6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28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8080">
                <a:tc>
                  <a:txBody>
                    <a:bodyPr lIns="29160" rIns="29160" tIns="28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2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2880" bIns="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Проведено передоплату постачальникам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28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7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28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6640">
                <a:tc>
                  <a:txBody>
                    <a:bodyPr lIns="29160" rIns="29160" tIns="28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3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2880" bIns="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икуплено акції власної емісії у акціонерів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28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4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28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812880"/>
                <a:gridCol w="6183360"/>
                <a:gridCol w="1049040"/>
                <a:gridCol w="1098720"/>
              </a:tblGrid>
              <a:tr h="260280">
                <a:tc>
                  <a:txBody>
                    <a:bodyPr lIns="17280" rIns="17280" tIns="2520" bIns="0" anchor="t">
                      <a:noAutofit/>
                    </a:bodyPr>
                    <a:p>
                      <a:pPr algn="ctr">
                        <a:lnSpc>
                          <a:spcPts val="168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280" marR="1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280" rIns="17280" tIns="2520" bIns="0" anchor="t">
                      <a:noAutofit/>
                    </a:bodyPr>
                    <a:p>
                      <a:pPr algn="ctr">
                        <a:lnSpc>
                          <a:spcPts val="168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280" marR="1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280" rIns="17280" tIns="2520" bIns="0" anchor="t">
                      <a:noAutofit/>
                    </a:bodyPr>
                    <a:p>
                      <a:pPr algn="ctr">
                        <a:lnSpc>
                          <a:spcPts val="168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280" marR="1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280" rIns="17280" tIns="2520" bIns="0" anchor="t">
                      <a:noAutofit/>
                    </a:bodyPr>
                    <a:p>
                      <a:pPr algn="ctr">
                        <a:lnSpc>
                          <a:spcPts val="168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4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280" marR="1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520">
                <a:tc>
                  <a:txBody>
                    <a:bodyPr lIns="17280" rIns="17280" tIns="252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4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280" rIns="17280" tIns="252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икористано кошти цільового фінансуванн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280" marR="1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280" rIns="17280" tIns="252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48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280" rIns="17280" tIns="252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160">
                <a:tc>
                  <a:txBody>
                    <a:bodyPr lIns="17280" rIns="17280" tIns="252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280" rIns="17280" tIns="252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Повернуто банку довгострокову позику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280" marR="1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280" rIns="17280" tIns="252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5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280" rIns="17280" tIns="252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0880">
                <a:tc rowSpan="5">
                  <a:txBody>
                    <a:bodyPr lIns="17280" rIns="17280" tIns="252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6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280" rIns="17280" tIns="252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Погашено за рахунок коштів банку: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– 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заборгованість за раніше виданим векселем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280" marR="1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280" rIns="17280" tIns="252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5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62 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17280" rIns="17280" tIns="252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280" rIns="17280" tIns="252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–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заборгованість по зобов’язаннях за облігаціям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280" marR="1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280" rIns="17280" tIns="252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52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64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280" rIns="17280" tIns="252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– 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довгострокову заборгованість перед орендодавцем з оренд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280" marR="1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280" rIns="17280" tIns="252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53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280" rIns="17280" tIns="252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– 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довгострокові зобов’язання перед різними кредиторам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280" marR="1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280" rIns="17280" tIns="252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5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280" rIns="17280" tIns="252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– 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короткострокову позику банку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280" marR="1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280" rIns="17280" tIns="252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60 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582480"/>
                <a:gridCol w="4044960"/>
                <a:gridCol w="2233800"/>
                <a:gridCol w="2282760"/>
              </a:tblGrid>
              <a:tr h="433440"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3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3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</a:t>
                      </a: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3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</a:t>
                      </a: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3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4</a:t>
                      </a: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5920"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8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Погашено заборгованість перед бюджетом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64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2880"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9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Сплачено збори до фондів соціального страхування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65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9840"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Перераховано суми заробітної плати на особисті рахунки працівників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66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5920"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Перераховано дивіденди учасникам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67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582480"/>
                <a:gridCol w="4046760"/>
                <a:gridCol w="2232000"/>
                <a:gridCol w="2282760"/>
              </a:tblGrid>
              <a:tr h="493560"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35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r>
                        <a:rPr b="0" lang="uk-UA" sz="35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35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</a:t>
                      </a:r>
                      <a:r>
                        <a:rPr b="0" lang="uk-UA" sz="35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35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</a:t>
                      </a:r>
                      <a:r>
                        <a:rPr b="0" lang="uk-UA" sz="35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35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4</a:t>
                      </a:r>
                      <a:r>
                        <a:rPr b="0" lang="uk-UA" sz="35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560"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2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5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Сплачено відсотки банку за обслуговування поточного рахунку підприємства 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5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92 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5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 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6880"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3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5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Оплачено витрати грошовими коштами з поточного рахунку 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5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91, 92 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5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93, 94 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5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95, 97 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5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 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0520" y="1066680"/>
            <a:ext cx="8610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600" spc="-1" strike="noStrike">
                <a:solidFill>
                  <a:srgbClr val="000000"/>
                </a:solidFill>
                <a:latin typeface="Arial Black"/>
              </a:rPr>
              <a:t>ПЛАТІЖНЕ ДОРУЧЕННЯ </a:t>
            </a:r>
            <a:r>
              <a:rPr b="0" lang="uk-UA" sz="4600" spc="-1" strike="noStrike">
                <a:solidFill>
                  <a:srgbClr val="000000"/>
                </a:solidFill>
                <a:latin typeface="Arial Black"/>
              </a:rPr>
              <a:t>– </a:t>
            </a:r>
            <a:endParaRPr b="0" lang="en-US" sz="4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7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розпорядження обслуговуючому банку про перерахування визначеної суми на рахунок іншого підприємства, оформлене на спеціальному бланку</a:t>
            </a: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0" name=""/>
          <p:cNvGraphicFramePr/>
          <p:nvPr/>
        </p:nvGraphicFramePr>
        <p:xfrm>
          <a:off x="0" y="0"/>
          <a:ext cx="9144000" cy="6934320"/>
        </p:xfrm>
        <a:graphic>
          <a:graphicData uri="http://schemas.openxmlformats.org/drawingml/2006/table">
            <a:tbl>
              <a:tblPr/>
              <a:tblGrid>
                <a:gridCol w="2284560"/>
                <a:gridCol w="285480"/>
                <a:gridCol w="1413000"/>
                <a:gridCol w="495360"/>
                <a:gridCol w="287280"/>
                <a:gridCol w="285840"/>
                <a:gridCol w="285480"/>
                <a:gridCol w="287640"/>
                <a:gridCol w="285480"/>
                <a:gridCol w="285840"/>
                <a:gridCol w="287280"/>
                <a:gridCol w="285840"/>
                <a:gridCol w="285840"/>
                <a:gridCol w="287280"/>
                <a:gridCol w="285840"/>
                <a:gridCol w="285480"/>
                <a:gridCol w="1230480"/>
              </a:tblGrid>
              <a:tr h="247680">
                <a:tc gridSpan="12" rowSpan="2">
                  <a:txBody>
                    <a:bodyPr lIns="52200" rIns="52200" tIns="0" bIns="0" anchor="t">
                      <a:noAutofit/>
                    </a:bodyPr>
                    <a:p>
                      <a:pPr marL="228600" indent="449280" algn="ctr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Платіжне доручення № </a:t>
                      </a:r>
                      <a:r>
                        <a:rPr b="0" i="1" lang="uk-UA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449280" algn="ctr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ід “</a:t>
                      </a:r>
                      <a:r>
                        <a:rPr b="0" i="1" lang="uk-UA" sz="2000" spc="-1" strike="noStrike" u="sng">
                          <a:solidFill>
                            <a:srgbClr val="000000"/>
                          </a:solidFill>
                          <a:uFillTx/>
                          <a:latin typeface="Arial Black"/>
                          <a:ea typeface="Times New Roman"/>
                        </a:rPr>
                        <a:t>8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” </a:t>
                      </a:r>
                      <a:r>
                        <a:rPr b="0" i="1" lang="uk-UA" sz="2000" spc="-1" strike="noStrike" u="sng">
                          <a:solidFill>
                            <a:srgbClr val="000000"/>
                          </a:solidFill>
                          <a:uFillTx/>
                          <a:latin typeface="Arial Black"/>
                          <a:ea typeface="Times New Roman"/>
                        </a:rPr>
                        <a:t>листопада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20</a:t>
                      </a:r>
                      <a:r>
                        <a:rPr b="0" i="1" lang="uk-UA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хх 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52200" rIns="52200" tIns="0" bIns="0" anchor="t">
                      <a:noAutofit/>
                    </a:bodyPr>
                    <a:p>
                      <a:pPr marL="228600" indent="449280" algn="ctr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0410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12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52200" rIns="52200" tIns="0" bIns="0" anchor="t">
                      <a:noAutofit/>
                    </a:bodyPr>
                    <a:p>
                      <a:pPr marL="228600" indent="449280" algn="ctr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Одержано банк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7480">
                <a:tc gridSpan="3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Платник </a:t>
                      </a:r>
                      <a:r>
                        <a:rPr b="0" i="1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АТ “Омега”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м. Житоми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“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_”________ 20хх 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 gridSpan="2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К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94604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7480">
                <a:tc gridSpan="3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анк платн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Код банк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52200" rIns="52200" tIns="0" bIns="0" anchor="t">
                      <a:noAutofit/>
                    </a:bodyPr>
                    <a:p>
                      <a:pPr marL="228600" algn="ctr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ДЕБЕТ рах. 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2200" rIns="52200" tIns="0" bIns="0" anchor="t">
                      <a:noAutofit/>
                    </a:bodyPr>
                    <a:p>
                      <a:pPr marL="228600" algn="ctr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СУ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640">
                <a:tc gridSpan="3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КБ “Гарант” у м. Києв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224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600009820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2200" rIns="52200" tIns="0" bIns="0" anchor="t">
                      <a:noAutofit/>
                    </a:bodyPr>
                    <a:p>
                      <a:pPr marL="228600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60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 gridSpan="3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Одержувач </a:t>
                      </a:r>
                      <a:r>
                        <a:rPr b="0" i="1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ТзОВ “Традиція”  м.Киї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gridSpan="2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Ко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16217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52200" rIns="52200" tIns="0" bIns="0" anchor="t">
                      <a:noAutofit/>
                    </a:bodyPr>
                    <a:p>
                      <a:pPr marL="228600" algn="ctr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КРЕДИТ рах. 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240">
                <a:tc gridSpan="3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анк одержувач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Код банк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52200" rIns="52200" tIns="0" bIns="0" anchor="ctr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600259217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40">
                <a:tc gridSpan="3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Промінвестбанк в м. Києв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2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3920">
                <a:tc gridSpan="17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Сума словами  </a:t>
                      </a:r>
                      <a:r>
                        <a:rPr b="0" i="1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Шість тисяч грн. 00 ко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3920">
                <a:tc gridSpan="17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.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7480">
                <a:tc gridSpan="17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Призначення платежу: </a:t>
                      </a:r>
                      <a:r>
                        <a:rPr b="0" i="1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оплата за дошку обрізну згідно з накладною № 346 від 2 жовтня 20хх 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720">
                <a:tc gridSpan="5">
                  <a:txBody>
                    <a:bodyPr lIns="52200" rIns="52200" tIns="0" bIns="0" anchor="t">
                      <a:noAutofit/>
                    </a:bodyPr>
                    <a:p>
                      <a:pPr marL="228600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у т.ч. ПДВ </a:t>
                      </a:r>
                      <a:r>
                        <a:rPr b="0" i="1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– 1000,00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гр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2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720">
                <a:tc gridSpan="13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10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Підпис               </a:t>
                      </a:r>
                      <a:r>
                        <a:rPr b="0" i="1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r>
                        <a:rPr b="0" i="1" lang="uk-UA" sz="1600" spc="-1" strike="noStrike" u="sng">
                          <a:solidFill>
                            <a:srgbClr val="000000"/>
                          </a:solidFill>
                          <a:uFillTx/>
                          <a:latin typeface="Arial Black"/>
                          <a:ea typeface="Times New Roman"/>
                        </a:rPr>
                        <a:t>Загрив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52200" rIns="52200" tIns="0" bIns="0" anchor="t">
                      <a:noAutofit/>
                    </a:bodyPr>
                    <a:p>
                      <a:pPr marL="228600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7680">
                <a:tc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10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                           </a:t>
                      </a:r>
                      <a:r>
                        <a:rPr b="0" i="1" lang="uk-UA" sz="1600" spc="-1" strike="noStrike" u="sng">
                          <a:solidFill>
                            <a:srgbClr val="000000"/>
                          </a:solidFill>
                          <a:uFillTx/>
                          <a:latin typeface="Arial Black"/>
                          <a:ea typeface="Times New Roman"/>
                        </a:rPr>
                        <a:t>Кудряш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52200" rIns="52200" tIns="0" bIns="0" anchor="t">
                      <a:noAutofit/>
                    </a:bodyPr>
                    <a:p>
                      <a:pPr marL="228600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720">
                <a:tc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10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52200" rIns="52200" tIns="0" bIns="0" anchor="t">
                      <a:noAutofit/>
                    </a:bodyPr>
                    <a:p>
                      <a:pPr marL="228600" algn="r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Проведено банк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2000">
                <a:tc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М.П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10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52200" rIns="52200" tIns="0" bIns="0" anchor="t">
                      <a:noAutofit/>
                    </a:bodyPr>
                    <a:p>
                      <a:pPr marL="228600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“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___” _______ 20хх 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456840" y="685800"/>
            <a:ext cx="838188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Arial Black"/>
              </a:rPr>
              <a:t>ВИПИСКА БАНКУ </a:t>
            </a:r>
            <a:r>
              <a:rPr b="0" lang="uk-UA" sz="6000" spc="-1" strike="noStrike">
                <a:solidFill>
                  <a:srgbClr val="000000"/>
                </a:solidFill>
                <a:latin typeface="Arial Black"/>
              </a:rPr>
              <a:t>–</a:t>
            </a:r>
            <a:endParaRPr b="0" lang="en-US" sz="6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000000"/>
                </a:solidFill>
                <a:latin typeface="Arial Black"/>
              </a:rPr>
              <a:t>документ, який видається банком підприємству та відображає рух грошових коштів на поточному рахунку </a:t>
            </a:r>
            <a:endParaRPr b="0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0" y="0"/>
          <a:ext cx="9144000" cy="6851520"/>
        </p:xfrm>
        <a:graphic>
          <a:graphicData uri="http://schemas.openxmlformats.org/drawingml/2006/table">
            <a:tbl>
              <a:tblPr/>
              <a:tblGrid>
                <a:gridCol w="1312920"/>
                <a:gridCol w="1465200"/>
                <a:gridCol w="1544760"/>
                <a:gridCol w="1084320"/>
                <a:gridCol w="614160"/>
                <a:gridCol w="1697040"/>
                <a:gridCol w="1425600"/>
              </a:tblGrid>
              <a:tr h="914400">
                <a:tc gridSpan="2">
                  <a:txBody>
                    <a:bodyPr lIns="39960" rIns="39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Назва власн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та номер рахунк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9960" rIns="39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Дата останнього дня проведення розрахунк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9960" rIns="39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Дата попереднього дня проведених розрахункі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0680">
                <a:tc gridSpan="2"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ТзОВ “Корона”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63201257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4.12.20хх р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3.12.20хх р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6600">
                <a:tc gridSpan="4"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хідне сальдо паси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9960" rIns="399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5000,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39560">
                <a:tc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Код операції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Номер документу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Код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анку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Номер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рахунку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Оборо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за дебетом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Оборот за кредитом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2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5112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60140808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80,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8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105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6003080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00,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5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5117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61386562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0000,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5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00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62563863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800,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520">
                <a:tc gridSpan="5"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Разом обороті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0800,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480,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520">
                <a:tc gridSpan="4"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ихідне сальдо паси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9960" rIns="399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4680,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рямоугольник 4"/>
          <p:cNvSpPr/>
          <p:nvPr/>
        </p:nvSpPr>
        <p:spPr>
          <a:xfrm>
            <a:off x="152280" y="990720"/>
            <a:ext cx="8839440" cy="57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. </a:t>
            </a:r>
            <a:r>
              <a:rPr b="1" lang="uk-UA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Облік розрахунків чеками та акредитивам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500" spc="-1" strike="noStrike">
                <a:solidFill>
                  <a:srgbClr val="000000"/>
                </a:solidFill>
                <a:latin typeface="Arial Black"/>
              </a:rPr>
              <a:t>Чеком</a:t>
            </a:r>
            <a:r>
              <a:rPr b="0" lang="en-US" sz="75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uk-UA" sz="5000" spc="-1" strike="noStrike">
                <a:solidFill>
                  <a:srgbClr val="000000"/>
                </a:solidFill>
                <a:latin typeface="Arial Black"/>
              </a:rPr>
              <a:t>є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500" spc="-1" strike="noStrike">
                <a:solidFill>
                  <a:srgbClr val="000000"/>
                </a:solidFill>
                <a:latin typeface="Arial Black"/>
              </a:rPr>
              <a:t>цінний папір, який містить нічим не обумовлене розпорядження чекодавця банку провести платіж зазначеної у ньому суми чекоутримувачу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4" descr=""/>
          <p:cNvPicPr/>
          <p:nvPr/>
        </p:nvPicPr>
        <p:blipFill>
          <a:blip r:embed="rId1"/>
          <a:stretch/>
        </p:blipFill>
        <p:spPr>
          <a:xfrm>
            <a:off x="-334800" y="73080"/>
            <a:ext cx="9485280" cy="10494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152280" y="2209680"/>
            <a:ext cx="8686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власник рахунку (чекодавець) дає письмове розпорядження платнику (банку, який видав грошові чеки) сплатити певну суму, зазначену в чеку, утримувачу коштів (чекодержателю)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Для цього підприємство в установі банку придбає чекові книжки, строк дії яких один рік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WordArt 2"/>
          <p:cNvSpPr txBox="1"/>
          <p:nvPr/>
        </p:nvSpPr>
        <p:spPr>
          <a:xfrm>
            <a:off x="457200" y="1066680"/>
            <a:ext cx="2971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грошові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Юра</cp:lastModifiedBy>
  <dcterms:modified xsi:type="dcterms:W3CDTF">2020-11-12T18:20:18Z</dcterms:modified>
  <cp:revision>1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