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FA2-58A2-4856-AED7-06B67EFB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257-45B3-446B-B132-076BFF3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E73FC-ED43-4746-94C7-5FDF0039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CE242-A023-4627-AB14-851A4C07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B0396-FF80-4417-8EB5-C1442AC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F2DD8-5274-4995-83CA-9E4D258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E2EF-AD3E-444A-8CA0-7585DF6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C3D68-3FF2-418C-B413-331BBC9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1AD1A-497A-4DD7-82EC-542D48EA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FFF56-33D3-441E-8617-E9099F91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43A59-6E72-4506-BA04-CEFED808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596-048C-464F-AE89-79909C93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199-D448-444B-B6CB-F648D586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92D4-9394-49C8-A9F3-7EA768E4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78DD-7F6B-489B-A1AA-629271E1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5048-9140-49E6-8817-A1D2D852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EDEB-91EB-46B2-B48A-14C2B83F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EB3D-52EA-4E4D-8611-0E2B5865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7CCA-FDF8-443A-9BBC-FB32B16B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273C-7B9A-428D-AB8C-41C0B72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25A-16DA-4763-9084-DF74AF85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746-639B-40C9-BA5E-2B11AE5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FC0C-B8D9-41B6-AE0D-34E2C0C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0A67-3A16-4598-B105-A5698FA9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0A4D-6930-41E2-84C8-81686B19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7F1D-EC7A-4794-BC78-ECF2F663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8F8C-812B-4FDC-93D2-E1327FFC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9580-6F66-49F6-BE3D-962F3188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1D76-2ABD-43F0-AB61-D05F1B7A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CFEA-EA0E-400E-BDB6-BC50F95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DB8F-8AD6-4BA3-90CE-A47FDF12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4F8-B3E9-4B54-BD63-AC10A7B8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63CA-5C7E-4A62-ABCE-CD12886C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4232-1509-43A4-BAC8-1EA68E8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8438-DB3A-43F1-9356-6DD6618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DFD6-200E-4284-A8EE-1FD891F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B987-E652-4DA5-932A-21477A1E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F5B6-1501-48E8-B994-1E19B3D6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FA48-1A5E-4FDE-9177-0EBC45FA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9974-0EB4-42D9-B654-1D333AFA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E8F01-D2FA-4EC1-8022-A634B5C0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3ACD-456E-431F-B7D3-E69B6DB6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E1B-EB15-442D-BDD6-DDEECB74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0542-7008-455B-9E92-51B88468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9DA1D-B3F2-44D9-B153-37ABB3C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3654-7DC8-471A-B621-CD4BDF8D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0D35A-0DCE-4691-8CED-B8F4705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F2EA-E274-4DAE-86C0-612EAF6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D22C-B6C4-449A-98C1-D48D9DC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51A9-E7CF-48F1-BF1E-6DEA5422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37FC-5F16-40F1-9EEF-40C46E5D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8D19-F2C0-421C-886E-1F115DEA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AD18-D329-4E7B-A9EF-7686263B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9CB-2B97-4CEA-8BBD-79E9891B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0623-4952-464D-81E7-1BD34418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B7F3-82AE-4296-B284-53C916B8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21FD-707A-4A6B-9F89-60286821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837A-CCC2-4EA8-925C-0B5540CB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DAB77-B065-4ED2-86CE-D329C400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0D28-C462-4B68-B926-F29A811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62F6-5351-4A15-9D08-17FD117F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664B-6037-44D7-A9A5-145A075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F39B8-3404-48B7-AEF5-5842E20E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EE69-0219-487C-B32C-79D3654F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64E-38C2-4A40-8F0D-94C0A8A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0506-3BAA-4068-AB98-897A04BE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651C-4536-4165-BB7A-928B3CB2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F194-40EE-48FF-A056-733D0A2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54E20-6193-488F-8F9B-E9D01C50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F26F-A530-47C5-BC91-15DC53E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4499-989B-4FC4-93BB-064BDC7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A07D-EF38-49BE-99C6-84B9B34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5C3E3-85B0-480C-BC6A-3DD88061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6D2F8-7A8E-47DA-8106-2FB886B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0F110-0C53-49D5-94A3-5F2A608A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CC2-3A40-4D6E-A666-541A763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4530-DA9D-4795-94BD-B7C63A9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6BCF0-CDA8-452E-8B8E-76F9F9DF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E444-AEE4-4C54-BCCF-89B6C0BC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6C3F7-2D76-4EAF-A6CE-E8400BBC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A8D2-E69D-467C-9BAE-321DA91E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4AD54-E4B3-4B17-BB2B-6D06FA3A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8602-FACC-485A-ABBD-3EB20CB2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9CB4-109C-4D7B-A6AB-784F8259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C6201-405B-4C89-A5B3-75B3B20F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42EBE-BE64-4F25-B4DC-D018777E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47D-9177-4E00-8F5F-B923ADB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464F3-A283-446F-BDD9-BD824BE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3F053-DA29-43F3-B0DA-676D92B4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3F620-B7BA-410C-B8B3-5AD7E9D9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815F8-8F0D-4686-A3E7-8A11B343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3A79-FD88-4EC0-A441-992BB61E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9384-D103-4CBF-8DBD-89E7E43A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57A7-6288-4882-B095-45593FE2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95A0F-41BE-4906-BC89-A317841F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4590-6039-4E9E-A7EB-CDD3C6B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A6BD-15C7-42B5-A05E-35F3E46E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785-C9DE-40EB-A71E-9211F95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48FD6-7FEE-4E1C-BAE8-2F83CB7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B96E-0309-4D99-A7CB-D5635A19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46543-8E5A-4978-B2AD-7D8B8373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0394-4957-434B-A985-26D3BC2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F5938-FAAA-4D41-BB18-3BA12C6D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DF929-547C-477A-896A-C07C24D9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4D2B-8F63-4850-B0CF-FBB54D24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7924D-AD76-4CC4-8AC2-39197BE9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FC866-211D-499D-AAA9-6459A2EB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409B9-ADF2-4E66-A316-54411161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F2FE-CF4B-44F9-828A-11F855DB2D41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5B80-5746-4B5B-B6AE-DBD4D9C2BA5F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681A-9AF3-40D5-B76E-863DA987957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D37-55D2-49D7-A0F9-003266534AD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2B1E-DEF3-4E83-9B20-82F40FF96653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8A8-5EC6-4C81-BCF0-5ABABAE4359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C0FD-A3EE-4E3E-96D9-C8E533269AEB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B35-3D32-4C48-B807-93C3E4B4CB8F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26C-1E9C-4D0A-85AA-C65230650D23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817560" y="901800"/>
            <a:ext cx="7504200" cy="22255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26836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Лектор: Назаренко Т. П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" descr="C:\Users\User\Desktop\слайди\audit-sajta.png"/>
          <p:cNvPicPr/>
          <p:nvPr/>
        </p:nvPicPr>
        <p:blipFill>
          <a:blip r:embed="rId2"/>
          <a:stretch/>
        </p:blipFill>
        <p:spPr>
          <a:xfrm>
            <a:off x="-181080" y="3716280"/>
            <a:ext cx="3067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55280" y="2133360"/>
            <a:ext cx="77612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лежно від обраного способу організації перевірки аудитор складає програму перевірки, де встановлює перелік аудиторських процедур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які б дали змогу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достовірність первинних даних БО щодо фактичної наявності та руху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овноту і своєчасність відображення первинних даних з обліку запасів у зведених документах та реєстрах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едення обліку запасів відповідно до чинних законодавчих і нормативних актів, облікової політики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стан збереження запасів у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ідтвердити або спростувати показники фінансової звітності суб’єкта господарювання, які залежать від достовірності, повноти, й своєчасності відображення господарських операцій, пов’язаних із рухо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5656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Програма аудиту виробничих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3780000" y="189000"/>
            <a:ext cx="50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ська фірма 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о _____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 перевірки 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у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их запас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2071800"/>
          <a:ext cx="8785440" cy="463392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172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відповідність даних аналітичного обліку даним синтетичного обліку, даним Головної книги, звіт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фактичну наявність запасів, перевірити організацію складського господарства, стан збереже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овноту оприбуткування запасів при наявності документів, які підтверджують їх придб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організацію контролю за зберіганням , використанням і погашенням довіре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ити правильність оформлення надходження та спис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заємна звірка даних матеріального звіту та накладних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вірка віднесення в підзвіт окремими особами відпущених запасі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ити кореспонденцію рахунків на відпускання запасів у Головній книз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законність списання запасів при витрата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римання встановленого порядку оформленн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ка правильності застосування природного убут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дотримання лімітів із відпуск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устрічна перевірка ліміто-забірних карт із докуменами на витра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чити стан матеріальної відповідальності за шкоду, заподіяну підприємст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равильність відображення в обліку операцій із спис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874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овження програми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79280" y="2276640"/>
          <a:ext cx="8785440" cy="205236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204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, який із методів оцінки запасів при відпусканні їх у виробництво, продаж або інше вибуття застосовується на підприємств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гідно з наказом про облікову політи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акти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 достовірність даних за залишками запасів у фінансовій зві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вання реєстрів виявлених пору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 txBox="1"/>
          <p:nvPr/>
        </p:nvSpPr>
        <p:spPr>
          <a:xfrm>
            <a:off x="394920" y="4437000"/>
            <a:ext cx="7745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кла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віри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знайомився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виробничих запасів здійснюється з таких джерел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ід постачальників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результаті обміну на подібні (неподібні) активи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безоплатне отримання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надлишків у результаті інвентаризації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з власного виробництва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як внесок у статутний капітал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придбання через підзвітних осіб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інше надходження (зворотні відходи, оприбуткування цінностей внаслідок ліквідації основних засобів, МШП).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цінностей від постачальників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перевіряється за первинними документами, до яких належать накладна, рахунок, рахунок-фактура, товарно-транспортна накладна, прибутковий ордер, картка складського обліку, податкова накладна; за регістрами синтетичного і аналітичного обліку: матеріальний звіт, оборотна відомість, журнал 3, відомості 3.3, 3.5. У випадку доставки матеріальних цінностей власним транспортним засобом перевірці підлягають шляхові листи, журнал обліку виданих довіреностей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75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56" name="Заголовок 2"/>
          <p:cNvSpPr/>
          <p:nvPr/>
        </p:nvSpPr>
        <p:spPr>
          <a:xfrm>
            <a:off x="684360" y="1268280"/>
            <a:ext cx="775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1 Аудит надходження виробничих запасів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4000" y="2637000"/>
            <a:ext cx="77454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рівняння даних складського, бухгалтерського обліку проводиться перевірка стану розрахунків з постачальниками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вірку, яку залучають видаткові касові ордери, платіжні документи, виписки банків, дані журналів 1, 3 та відомостей 1.1, 1.2, 3.3, 3.5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95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При здійсненні перевірки </a:t>
            </a:r>
            <a:br>
              <a:rPr sz="4000"/>
            </a:b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звертається увага на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9040" y="259920"/>
            <a:ext cx="77565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На підставі договорів поставки, специфікацій, накладних постачальників, актів приймання МПЗ, первинних документів складського обліку аудитори відповідають на наведені нижче питання. При позитивній відповіді на деякі питання необхідне проведення додаткових процедур.</a:t>
            </a:r>
            <a:r>
              <a:rPr b="0" lang="ru-RU" sz="2000" spc="-1" strike="noStrike">
                <a:solidFill>
                  <a:srgbClr val="d4745e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1" name="Таблица 3" descr=""/>
          <p:cNvPicPr/>
          <p:nvPr/>
        </p:nvPicPr>
        <p:blipFill>
          <a:blip r:embed="rId1"/>
          <a:stretch/>
        </p:blipFill>
        <p:spPr>
          <a:xfrm>
            <a:off x="828720" y="1981080"/>
            <a:ext cx="72723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698040" y="2247480"/>
            <a:ext cx="81946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дотримання на підприємстві порядку приймання і оформлення документів, що підтверджують факт надходження матеріал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бліку та оцінки матеріалів, що надійшли від постачальник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 і своєчасність оприбуткування запасів у відповідності з документами постачальника (здійснюється з метою виявлення випадків неповного оприбуткування або повного неоприбуткування  запасів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відповідність якості одержаних запасів характеристикам, що вказані в прибуткових документах, сертифікатах якості, лабораторних аналізах тощо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формлення актів на приймання запасів (у випадку, коли якісні або кількісні характеристики матеріалів, що надійшли, не відповідають тим, що вказані в супроводжувальних документах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, повнота та своєчасність оприбуткування запасів, придбаних підзвітними особами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, своєчасність і правильність оприбуткування матеріалів від ліквідації основних засобів та малоцінних необоротних активів тощо.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547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</a:rPr>
              <a:t>Аудит повноти, своєчасності та правильності оприбуткування  запасів передбачає вивчення таких питань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9040" y="189000"/>
            <a:ext cx="7756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95d1d"/>
                </a:solidFill>
                <a:latin typeface="Times New Roman"/>
              </a:rPr>
              <a:t>Під час проведення інвентаризації аудитор не може бути членом інвентаризаційної комісії, але, спостерігаючи за її роботою мож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1. спостерігати за виконанням процедур інвентаризації;</a:t>
            </a: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2. перевірити правильність підрахунку на основі випадкової вибірки;</a:t>
            </a:r>
            <a:br>
              <a:rPr sz="1800"/>
            </a:b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5" name="Picture 2" descr="http://textreferat.com.ua/images/291324_image021.gif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У випадках придбання запасів аудитору необхідно звернути особливу увагу на дотримання податкового законодавства (порядку нарахування і сплати ПДВ тощо). В цілому результати аудиту повноти і своєчасності оприбуткування запасів доцільно відображати у робочому документі наступного виду (приклад)</a:t>
            </a: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95280" y="2060640"/>
          <a:ext cx="8497800" cy="1928880"/>
        </p:xfrm>
        <a:graphic>
          <a:graphicData uri="http://schemas.openxmlformats.org/drawingml/2006/table">
            <a:tbl>
              <a:tblPr/>
              <a:tblGrid>
                <a:gridCol w="4032360"/>
                <a:gridCol w="4465440"/>
              </a:tblGrid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обочого документу 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скла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рченко Т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Перевіри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еповий П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дит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бірк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95280" y="4076640"/>
          <a:ext cx="8424720" cy="2509920"/>
        </p:xfrm>
        <a:graphic>
          <a:graphicData uri="http://schemas.openxmlformats.org/drawingml/2006/table">
            <a:tbl>
              <a:tblPr/>
              <a:tblGrid>
                <a:gridCol w="897120"/>
                <a:gridCol w="1226880"/>
                <a:gridCol w="1227240"/>
                <a:gridCol w="817560"/>
                <a:gridCol w="826920"/>
                <a:gridCol w="827280"/>
                <a:gridCol w="658800"/>
                <a:gridCol w="1295280"/>
                <a:gridCol w="647640"/>
              </a:tblGrid>
              <a:tr h="525600">
                <a:tc gridSpan="9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ІРКА СВОЄЧАСНОСТ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УВ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рахунку 20 «Виробничі запаси» (203 «Паливо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ображено в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раху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 від 12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овано на наступни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1 від 2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первісної вартості помилкововключено до П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55280" y="1989000"/>
            <a:ext cx="7745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1004"/>
                </a:solidFill>
                <a:latin typeface="Times New Roman"/>
              </a:rPr>
              <a:t>Списання запасів із балансу згідно П(с)БО 9 відбувається у таких випадках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ускання у виробництво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реалізація за грошові кошти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дача до статутного капіталу іншого підприємства; безоплатна передача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через витрати від стихійного лиха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недостач у межах норм і понад норм природного убутку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1004"/>
                </a:solidFill>
                <a:latin typeface="Times New Roman"/>
              </a:rPr>
              <a:t>При списанні матеріалів у виробництво проводимо документальну перевірку, яка дає змогу встановити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норм у документах на списання нормативним актам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кількості фактично списаної сировини витрачанню цієї сировини за нормами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565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2 Аудит вибуття виробничих запасів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9280" y="2204640"/>
            <a:ext cx="734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Мета,завдання та джерела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Послідовність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1 Аудит надходженн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2 Аудит вибутт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4. Узагальнення результатів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(Аудиторський висновок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12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95d1d"/>
                </a:solidFill>
                <a:latin typeface="Times New Roman"/>
              </a:rPr>
              <a:t>У лекції розглядаються наступні питання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29" name="Shape 32" descr=""/>
          <p:cNvPicPr/>
          <p:nvPr/>
        </p:nvPicPr>
        <p:blipFill>
          <a:blip r:embed="rId1"/>
          <a:stretch/>
        </p:blipFill>
        <p:spPr>
          <a:xfrm>
            <a:off x="6032520" y="4076640"/>
            <a:ext cx="3111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-360" y="2133360"/>
            <a:ext cx="804852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актична кількість списаної сировини та матеріалів відповідає або не відповідає нормам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 зв’язку із списанням виробничих запасів перевіряємо наявність актів на списання запасів, накладних , довіреностей, вимог на відпущення матеріалів, відомостей обліку видачі матеріалів, а також перевіряємо правильність заповнення документ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иявлено що на підприємстві застосовується оцінка запасів за середньозваженою собівартістю, а саме нам пояснили, що цей метод застосовується окремо для кожної сукупності взятих на облік запасів, однакових за призначенням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За результатами такого зіставлення можна виявити:</a:t>
            </a: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647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684360" y="1125360"/>
          <a:ext cx="8172360" cy="2313000"/>
        </p:xfrm>
        <a:graphic>
          <a:graphicData uri="http://schemas.openxmlformats.org/drawingml/2006/table">
            <a:tbl>
              <a:tblPr/>
              <a:tblGrid>
                <a:gridCol w="4051080"/>
                <a:gridCol w="41212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обочого документу 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скла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ченко Т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Перевіри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еповий П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ко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, робочі документи аудито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26920" y="3500280"/>
          <a:ext cx="7921800" cy="2036880"/>
        </p:xfrm>
        <a:graphic>
          <a:graphicData uri="http://schemas.openxmlformats.org/drawingml/2006/table">
            <a:tbl>
              <a:tblPr/>
              <a:tblGrid>
                <a:gridCol w="1355760"/>
                <a:gridCol w="1355760"/>
                <a:gridCol w="1079640"/>
                <a:gridCol w="1079280"/>
                <a:gridCol w="989280"/>
                <a:gridCol w="2062080"/>
              </a:tblGrid>
              <a:tr h="3848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ЛІК ПОМИЛОК І ПОРУШЕНЬ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ЯВЛЕНИХ В ХОДІ АУДИТУ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поруш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менув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імітно-забірна кар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8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ищення ліміту відпуску па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а склад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ес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оприбу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50920" y="2133720"/>
            <a:ext cx="8353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а організація складського господарства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виконання завдань щодо заготовлення (придбання)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завищення собівартості придбаних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равил приймання вантаж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повне оприбуткування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обґрунтовані претензії до постачальник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раціональне витрачання матеріалів на виробництво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норм і лімітів відпуску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орядку проведення інвентаризації (порушення строків проведення, нерівномірний їх розподіл за календарними періодами, порушення принципу раптовості, неякісне проведення інвентаризації, недбале і несвоєчасне оформлення документів тощо)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стача, надлишок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і підробки в документах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ідміна нових матеріалів старими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у визначенні сум уцінок, дооцінок запасів та їх відображення в обліку; /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е ведення бухгалтерського обліку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Типовими помилками під час здійснення операцій з виробничими запасами є такі: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4. Узагальнення результатів аудиту(Аудиторський висновок)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0" name="Заголовок 2"/>
          <p:cNvSpPr/>
          <p:nvPr/>
        </p:nvSpPr>
        <p:spPr>
          <a:xfrm>
            <a:off x="826920" y="2060640"/>
            <a:ext cx="7756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Тест перевірки стану внутрішнього контролю та системи обліку виробничих запасі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Таблица 5" descr=""/>
          <p:cNvPicPr/>
          <p:nvPr/>
        </p:nvPicPr>
        <p:blipFill>
          <a:blip r:embed="rId1"/>
          <a:stretch/>
        </p:blipFill>
        <p:spPr>
          <a:xfrm>
            <a:off x="895320" y="2567160"/>
            <a:ext cx="7493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56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Продовження прикладу </a:t>
            </a:r>
            <a:br>
              <a:rPr sz="1600"/>
            </a:br>
            <a:endParaRPr b="0" lang="en-US" sz="16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539640" y="2060640"/>
          <a:ext cx="8209080" cy="3327480"/>
        </p:xfrm>
        <a:graphic>
          <a:graphicData uri="http://schemas.openxmlformats.org/drawingml/2006/table">
            <a:tbl>
              <a:tblPr/>
              <a:tblGrid>
                <a:gridCol w="617760"/>
                <a:gridCol w="4021200"/>
                <a:gridCol w="2489040"/>
                <a:gridCol w="1081080"/>
              </a:tblGrid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а чи класифікація виробничих запасів для їх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овано чи АУ на посадовому рівні, чи ведуться картки складського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іляються ПДВ окремим рядком в розрахункових і платіжних документах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яються чи дані АУ і СУ систематичн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ільки в кінці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 складають акти списання МШП, що приходять у непридатні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кладання бухгалтерської звітност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є встановленим нормативним вимог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облікової політики вимогам ПБ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ово не відповіда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Заголовок 2"/>
          <p:cNvSpPr/>
          <p:nvPr/>
        </p:nvSpPr>
        <p:spPr>
          <a:xfrm>
            <a:off x="395280" y="5445000"/>
            <a:ext cx="77565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1004"/>
                </a:solidFill>
                <a:latin typeface="Times New Roman"/>
              </a:rPr>
              <a:t>Значення символів: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1 - низьки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2 - нижче середнього рівня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3 - середні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4 - високий </a:t>
            </a:r>
            <a:r>
              <a:rPr b="0" i="1" lang="ru-RU" sz="1600" spc="-1" strike="noStrike">
                <a:solidFill>
                  <a:srgbClr val="4b1004"/>
                </a:solidFill>
                <a:latin typeface="Times New Roman"/>
              </a:rPr>
              <a:t>рівень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чезну роль у вирішенні цього завдання грає чітко організований облік. Він повинен оперативно забезпечувати керівників та інших зацікавлених осіб необхідною інформацією для ефективного управління виробничим запасами в цілях оптимальних умов для виготовлення високоякісної продукції і вишукування резервів зниження її собівартості в частині раціонального використання матеріалів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ідна умова діяльності підприємств - добре налагоджені господарські зв'язки, тому що вони забезпечують безперебійність постачання, безперервність процесу виробництва, своєчасність відвантаження і реалізації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ітка класифікація виробничих запасів за певними ознаками і вибір одиниці обліку необхідні для своєчасної і правильної організації синтетичного й аналітичного обліку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ливою передумовою організації обліку матеріалів є їх оцінка. Вона має значення і для більш ефективної організації обробки даних обліку. 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ік запасів на підприємстві відповідає як умовам виробничого споживання матеріалів, так і вимогам організації складського господарства, і забезпечує виконання однієї з основних завдань обліку - контроль за збереженням запасів під час їх приймання та зберігання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1004"/>
                </a:solidFill>
                <a:latin typeface="Times New Roman"/>
              </a:rPr>
              <a:t>При узагальненні отриманих  результатів, можна спрямувати до наступні висновки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684000" y="1989000"/>
            <a:ext cx="8048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1.2. Оборотні активи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трансформованому балансі товариства на кінець року відображені </a:t>
            </a:r>
            <a:r>
              <a:rPr b="0" i="1" lang="ru-RU" sz="1400" spc="-1" strike="noStrike">
                <a:solidFill>
                  <a:srgbClr val="262626"/>
                </a:solidFill>
                <a:latin typeface="Times New Roman"/>
              </a:rPr>
              <a:t>оборотні активи загальною вартістю 77,0 тис. грн., що становить 3,4 % вартості майна товариства, а саме: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запаси (рахунки класу 2), облік яких здійснюється згідно П(С)БО-9 “Запаси”, затвердженого наказом МФУ від 20.12.1999 №246. Розмежування та визначення належності засобів праці, що тривалий час знаходяться в експлуатації, до ОЗ та МШП, їх поточний облік здійснено згідно П(С)БО-9 та прийнятої підприємством облікової політик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ТМЦ здійснюється на основі первинних документів за фактичною собівартістю. Аналітичний облік запасів ведеться в обігово-сальдових відомостях за кожною одиницею бухгалтерського обліку запасів, якою прийнято їх найменування, та в розрізі матеріально-відповідальних осіб. При відпуску запасів у виробництво оцінка їх здійснюється за методом середньозваженого залишку, що передбачено наказом про облікову політику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На дату балансу запаси відображені достовірно (за їх первісною вартістю) і складаються із залишків виробничих запасів в сумі 24,8 тис. грн. ( в т.ч. товарів – 0,8 тис. грн.) та готової продукції – 0,4 тис. грн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процесі трансформації балансу на дату переходу на МСФЗ для забезпечення порівняності звітних даних за ряд періодів застосовувався один і той же метод визначення собівартості запасів, як того вимагає МСБО-2 «Запаси». На виконання вимог МСБО-2 «Запаси» МШП в сумі 4,7 тис. грн. рекласифіковано в запас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АУДИТОРСЬКИЙ ЗВІТ ПРО РЕЗУЛЬТАТИ ДОСЛІДЖЕННЯ </a:t>
            </a:r>
            <a:br>
              <a:rPr sz="2000"/>
            </a:b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В ХОДІ АУДИТОРСЬКОЇ ПЕРЕВІРКИ ВАТ "ВОЛОЛОДАРСЬКО-ВОЛИНСЬКИЙ ЛЬОНОЗАВОД»" за 2013 рік 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9" name="Заголовок 2"/>
          <p:cNvSpPr/>
          <p:nvPr/>
        </p:nvSpPr>
        <p:spPr>
          <a:xfrm>
            <a:off x="3492360" y="0"/>
            <a:ext cx="5816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Times New Roman"/>
              </a:rPr>
              <a:t>Примірник аудиторського звіту в частині запас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77565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1. Мета, завдання та джерела аудиту запасів</a:t>
            </a:r>
            <a:br>
              <a:rPr sz="28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31" name="Содержимое 1"/>
          <p:cNvSpPr/>
          <p:nvPr/>
        </p:nvSpPr>
        <p:spPr>
          <a:xfrm>
            <a:off x="250920" y="170028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Запаси –це активи як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подальшого продажу (розподілу, передачі) за умов звичайної господарської діяльност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бувають у процесі виробництва з метою подальшого продажу продукту виробниц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споживання під час виробництва продукції, виконання робіт та надання послуг, а також управління підприємством/установою. (згідно П(С)БО 9 «Запас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84000" y="2133360"/>
            <a:ext cx="7745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873624"/>
                </a:solidFill>
                <a:latin typeface="Times New Roman"/>
              </a:rPr>
              <a:t>Метою аудиту виробничих запасів</a:t>
            </a:r>
            <a:r>
              <a:rPr b="0" lang="ru-RU" sz="2600" spc="-1" strike="noStrike">
                <a:solidFill>
                  <a:srgbClr val="8736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є висловлювання аудиторів думки про те, чи відповідає фінансова інформація щодо руху і залишків виробничих запасів на підприємстві в усіх суттєвих аспектах нормативних документам, які регламентують порядок її підготовки і надання користувачам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C:\Users\User\Desktop\слайди\1389230430_c7.jpg"/>
          <p:cNvPicPr/>
          <p:nvPr/>
        </p:nvPicPr>
        <p:blipFill>
          <a:blip r:embed="rId1"/>
          <a:stretch/>
        </p:blipFill>
        <p:spPr>
          <a:xfrm>
            <a:off x="5724360" y="47242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-360" y="2133720"/>
            <a:ext cx="684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изнання запасів активами суб’єкта господарювання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, чи відповідають чинному законодавству методи оцінки і обліку виробничих запасів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, чи дотримується підприємство прийнятих методів оцінк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цінити стан внутрішнього контролю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здійснюється контроль за виробничими запасам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чи правильно та своєчасно здійснюється документальне відображення господарських операцій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немає на підприємстві протизаконних дій, пов’язаних з витрачання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Завданнями аудиту операцій з виробничими запасами є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6" name="Picture 2" descr="C:\Users\User\Desktop\слайди\ukrayisnskyyaudyt.jpg"/>
          <p:cNvPicPr/>
          <p:nvPr/>
        </p:nvPicPr>
        <p:blipFill>
          <a:blip r:embed="rId1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ількісне та якісне приймання запасів від постачальника, а також при внутрішньому переміщенні в міжцеховому напрямку, між матеріально відповідальними особами, складами та виробництвом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мови зберігання запасів і закріплення матеріальної відповідальності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орми витрат сировини і матеріалів на виробництво та їх дотримання – перевіряється обґрунтованість затвердження норм та їх застосування в лімітно-забірних картках і відомостях на витрачання матеріалів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первинна документація з обліку запасів досліджується в частині достовірності відображених у ній господарських операці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ухгалтерський облік та звітність вивчаються в частині достовірності даних щодо залишків та руху виробничих запасів, відображених у них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рак та пошкодження запасів – досліджуються причини, які зумовили виникнення негативних явищ, розмір невиробничих витрат, встановлюються особи, винні в злодіянні шкод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едостача цінностей та шкода, виявлені при інвентаризації, їх обґрунтованість і відповідальні особ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загальнюється дослідження інших об’єктів, де виявлена шкода, перевіряється, чи підтверджується їх розмір даними бухгалтерського обліку та іншими зібраними доказами, наскільки правильно встановлену матеріальну відповідальність конкретних працівників і розмір їх відшкодування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95d1d"/>
                </a:solidFill>
                <a:latin typeface="Times New Roman"/>
              </a:rPr>
              <a:t>Об’єктами аудиту виробничих запасів є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Джерела інформації для проведення аудиту виробничих запасів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2247480"/>
            <a:ext cx="83534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бухгалтерськ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татистичн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регістри бухгалтерського обліку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документи: типові форми з обліку матеріально-виробничих запасів, договори купівля, протоколи узгодження ціни, і постачання за терміну, асортименту тощо., накладні про поставки і внутрішнє переміщення,лимитно-заборние карта народження і ін.,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блікова політика: графік документообігу, субрахунка і аналітичні рахунки робочому плані рахунків; способи погашення вартості предметів у складі засобів у обороті; оцінка виробничих запасів; відпустку запасів у виробництво; оцінка запасів незавершеного виробництва; наявність і склад комісій по інвентаризація незавершеного виробництва та матеріально-виробничих накупив конвертів, графік і періодичність проведення інвентаризацій незавершеного виробництва та матеріально-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205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Етапи проведення аудиту виробничих запасів: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73624"/>
                </a:solidFill>
                <a:latin typeface="Segoe Script"/>
              </a:rPr>
              <a:t>І етап -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ланування та визначення аудиторського підход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 етап –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Оцінка системи внутрішнього контролю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І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 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еревірка господарських операцій по суті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</a:t>
            </a:r>
            <a:r>
              <a:rPr b="1" lang="en-US" sz="2400" spc="-1" strike="noStrike">
                <a:solidFill>
                  <a:srgbClr val="873624"/>
                </a:solidFill>
                <a:latin typeface="Segoe Script"/>
              </a:rPr>
              <a:t>V</a:t>
            </a: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Завершення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5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2. Послідовність проведення аудиту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2" descr="C:\Users\User\Desktop\слайди\audit-doc1.jpg"/>
          <p:cNvPicPr/>
          <p:nvPr/>
        </p:nvPicPr>
        <p:blipFill>
          <a:blip r:embed="rId1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5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895d1d"/>
                </a:solidFill>
                <a:latin typeface="Times New Roman"/>
              </a:rPr>
              <a:t>Важливо знати!!!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36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 етапі аудитор звертає увагу на:</a:t>
            </a:r>
            <a:r>
              <a:rPr b="1" i="1" lang="ru-RU" sz="16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рміни проведення інвентаризації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ьність визначення її результатів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вчає склад комісії та відображення в бухгалтерському обліку даних по інвентаризації.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 етапі аудитор звертає увагу на:</a:t>
            </a:r>
            <a:r>
              <a:rPr b="1" i="1" lang="ru-RU" sz="15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значення критичних моментів системи бухгалтерського обліку, в яких можуть бути помилки чи викривлення, і дістає впевненість, що стосовно таких пунктів були розроблені й проведені заходи і процедури, які дають змогу виявити помилки та викривлення 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ня додаткових перевірок на відповідність засобів контролю ефективне тільки у разі, якщо час та зусилля, зекономлені при проведенні перевірок на суттєвість, перевищують час і зусилля, затрачені на проведен­ня перевірок на відповідність засобів контролю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І етапі аудитор звертає увагу на:</a:t>
            </a:r>
            <a:endParaRPr b="0" lang="en-US" sz="1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воєчасність і правильність документального оформлення, оприбуткування запасів первинними документами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ображення їх в обліку, також слід перевірити правильність складання актів розбіжності кількості та якості матеріальних цінностей, що надійшли, і своєчасність пред’явлення претензій до постачальників або транспортних організацій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ку окремих елементів баланс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</a:t>
            </a:r>
            <a:r>
              <a:rPr b="1" i="1" lang="en-US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V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етапі аудитор звертає увагу на: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ити роботи складу групи аудиторів і вирішити чи до­статньо зібрано свідчень та оцінити результати аудит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9:56:32Z</dcterms:created>
  <dc:creator>Диана</dc:creator>
  <dc:description/>
  <dc:language>en-US</dc:language>
  <cp:lastModifiedBy>Татьяна</cp:lastModifiedBy>
  <dcterms:modified xsi:type="dcterms:W3CDTF">2014-03-07T07:15:21Z</dcterms:modified>
  <cp:revision>37</cp:revision>
  <dc:subject/>
  <dc:title>Презентация PowerPoint</dc:title>
</cp:coreProperties>
</file>