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8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1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AF20-A448-4868-8A14-7DB6DD32B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13D3-2589-4CDA-AD0F-99619018B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66A873-2D6C-480E-8755-91D0BEC20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398409-2EB6-4C93-B01C-EBF290575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08B3C6-101B-4485-B000-1EB1DED66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DB6120-BFDB-425A-A156-8BCC41716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0AC58D-C03A-4EAB-B036-20D1697E6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A74231-869D-423D-878C-63A048C51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93867B-16C5-44B3-B602-2CD9ED7B6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C4A048-FDBF-41C1-B897-746294BE4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7B5F4B-E776-42D2-AE0A-9CC35139D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FA54-CCCC-4E5C-8824-E04F686C3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375B-C462-4603-B6A5-16EA21450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000EB-E3E3-49A4-8A41-71DB5786B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DDD4D-DC69-4393-9C79-88C113AC5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69168-1EA9-4B04-980A-95601F32A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8D976-2DFE-467D-852F-184AD4494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93F68-D830-4D61-AF83-5A6153DA9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4781C-63E8-4984-BEF2-F65F3B498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AEC72-5B91-4F26-8077-ED9B07087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41B7-C7C1-426A-8792-253EC0CB9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4DBC4-15EF-466B-9845-26B44FBE0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17ABE-0BBB-400E-A29F-B19C4BF30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0C694-B1DE-45E1-894E-055A88BF2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C6CD7-1A70-4086-B17A-BDCAC4653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05F62-9651-4584-BBB0-A876CC003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0613E-1428-48AF-B07C-F764FACBA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6AB51-D640-4564-8D5E-0118D4CBC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7D3D3-DBCB-4B26-9D4C-C5C0C5B58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E2E34-78F5-49A9-9882-25A3A3C37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DB7C3-8858-4DB7-9251-1CF1F52B0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8B30-D82C-478E-A173-3CBBF1246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D25FA-921A-4FD3-88F9-C23177D3D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74992-2D01-47B1-B808-DCCD45163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D1225-A496-4C6F-BEF6-B173C5ECA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71F58-F981-4286-A827-639178361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83ABC-1C2D-487B-B9C3-C4F4CA806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3FA7D-C2F5-4ABF-9F5A-F7B82E1A5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30C85-C26A-4A11-B718-20FC00B22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F606F4-6AA9-41F1-8FB8-456B48469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24C3F-9CB1-4F7C-9CFF-68F72C94A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24CD3-83F9-4BBE-B34D-FC841004A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906C-8B3F-49A7-82B4-30BE009ED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0EDF8-6022-4294-ADA6-054E9A4F0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C16F9-AF2B-494D-96F7-35456E540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3EA3A-89F7-44E2-93B1-DDE0D7BBF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200BD-D945-4C6D-A638-C4D3D6EC7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4E62C-3345-46B6-B5EA-5C9F81253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CAA95-771A-4141-A141-468C90F94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E1AC7-A452-4254-A040-9EE6BDC30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CB3FB7-B5AE-4FC2-A13A-637222F16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90D03-1C98-4ABC-A5CC-6AF9F0A30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9962B2-F05D-4CA3-BEA6-54CD3E080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3C5E-C719-4E37-91F3-9966AC1AC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8EFAEA-9CCC-4505-811E-8339995C3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D7EBD2-0035-4DA6-9718-0FEAD7E37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58A009-5950-49EB-97E3-20A105A1C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524705-9487-494A-BFE0-BA69ADD71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0C1C80-D71F-4623-8AAD-D1142EDA9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322DAF-B33A-4734-A3CB-4CC6CDE58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8D28EF-2493-4A66-B57E-D878CB15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FE7EC8-DC4D-4F0F-AF56-1CEE74D07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F42C43-F259-41F8-B9B0-C0868D498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D8C70D-F42F-441C-8A61-A94A50BB6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F7B9-6FA0-4B88-A4C9-82DF2226D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1CA1B5-501F-4711-93DF-F1C9AAE71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079D6F-4118-4EEF-9C13-E31E0785D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DE60D1-D827-43E8-9A2E-2E3382B6A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E8061E-A8F7-4BD1-87CA-E4BDC3DBE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AEE31A-1553-4372-A4F8-C77915371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FF149E-5AA6-4D15-AA94-A8AB4BDE6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95AB46-6945-48F7-B07A-054984825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A086B8-6E86-4579-A265-47F283A1F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4AB86E-64E2-4828-926D-34E197701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DC5484-7D7E-40ED-A2E6-05FFE99AC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8EA9-BBC9-46ED-8E83-50EBE0375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5B4FAB-0545-44E9-B778-E8AED41C7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8445EA-0D9D-461E-B21A-0E94E3E7E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5725FD-4826-43DD-B449-CEA11544E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8514B1-639B-4CF4-B847-45798E83E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2627B9-9F44-441C-AA9A-CCD7A9B74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728440-FE66-42A5-A881-C6FF88EAB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CB2A77-3476-4101-8831-4B2C5895A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DC3005-E12C-4049-8840-27C637C08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71FCEA-927C-4B84-A48D-454BA5A08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D22247-4CA5-4A16-955B-82D28C846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160A-EA99-4251-A6B1-8C6C2E2A4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1D1EBC-7D08-4D43-8A92-90B892ADC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FF8948-AB69-4CAE-A9CA-1D55C8861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85FAD2-468B-4ADC-996B-9FBF811A5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C0F7CA-B21D-49C7-A07C-F3BE141F0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4DB7E7-6C52-415D-A8E6-E59595001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72BC28-3ABB-4214-9EB3-07A33253B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26ADAE-EA6D-4E91-891D-A3B6A8A7D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0EC6EB-5BAA-4356-91CD-17DE78E53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9AD08C-E2D2-4F04-AF08-E883912AF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B110D2-EE06-41F8-91F8-2FF916DBE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32F5-4DDB-4C83-9422-4EBC0A305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2A9952-3D2A-41FA-8ABE-26A120AA1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0EA1E3-BBAC-4B6F-8D67-463DB7DCC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EED1E0-727A-4F24-BD34-17424CB52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1448AA-5DD5-4F95-9BAC-95E57DD0A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9DB393-EFCD-44AD-A9FF-4543DC6B4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179C58-E2FF-4CDE-8746-6176B4B6A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47D07D-53B8-4D9F-8A2F-0FC3158EC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B1116D-7AF8-44D8-B3C7-90D3E4471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713455-A69E-40E2-B3E2-00EF3F589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7558C8-DCF9-4F05-8C61-1A2A926CC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EBD13-9C21-462C-8D3C-BC6489D86F40}" type="slidenum"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Cover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Group 7" descr=""/>
          <p:cNvPicPr/>
          <p:nvPr/>
        </p:nvPicPr>
        <p:blipFill>
          <a:blip r:embed="rId4"/>
          <a:stretch/>
        </p:blipFill>
        <p:spPr>
          <a:xfrm>
            <a:off x="1146240" y="2614680"/>
            <a:ext cx="6875280" cy="12319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ce9c6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 indent="-318960">
              <a:spcBef>
                <a:spcPts val="601"/>
              </a:spcBef>
              <a:buClr>
                <a:srgbClr val="ffffff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 indent="-318960">
              <a:spcBef>
                <a:spcPts val="601"/>
              </a:spcBef>
              <a:buClr>
                <a:srgbClr val="ffffff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ce9c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ce9c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ce9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51119-4922-4067-A701-C49EA4D1B3DD}" type="slidenum">
              <a:rPr b="0" lang="ru-RU" sz="1200" spc="-1" strike="noStrike">
                <a:solidFill>
                  <a:srgbClr val="ece9c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88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Group 11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91" name="TextBox 8"/>
            <p:cNvSpPr/>
            <p:nvPr/>
          </p:nvSpPr>
          <p:spPr>
            <a:xfrm>
              <a:off x="430884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Straight Connector 13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Straight Connector 14"/>
            <p:cNvSpPr/>
            <p:nvPr/>
          </p:nvSpPr>
          <p:spPr>
            <a:xfrm flipH="1" flipV="1">
              <a:off x="4831920" y="193392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A82A7-893A-4F67-86FF-ED14FCBCD5BA}" type="slidenum"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136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8" name="Picture 11" descr="CoverOverlay.pn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9" name="Group 7"/>
          <p:cNvGrpSpPr/>
          <p:nvPr/>
        </p:nvGrpSpPr>
        <p:grpSpPr>
          <a:xfrm>
            <a:off x="1172880" y="2887560"/>
            <a:ext cx="6778440" cy="916920"/>
            <a:chOff x="1172880" y="2887560"/>
            <a:chExt cx="6778440" cy="916920"/>
          </a:xfrm>
        </p:grpSpPr>
        <p:sp>
          <p:nvSpPr>
            <p:cNvPr id="140" name="TextBox 9"/>
            <p:cNvSpPr/>
            <p:nvPr/>
          </p:nvSpPr>
          <p:spPr>
            <a:xfrm>
              <a:off x="4308840" y="288756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Straight Connector 9"/>
            <p:cNvSpPr/>
            <p:nvPr/>
          </p:nvSpPr>
          <p:spPr>
            <a:xfrm flipH="1" flipV="1">
              <a:off x="1172880" y="343224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Straight Connector 10"/>
            <p:cNvSpPr/>
            <p:nvPr/>
          </p:nvSpPr>
          <p:spPr>
            <a:xfrm flipH="1" flipV="1">
              <a:off x="4831920" y="343404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B4EA6-03BA-4620-A091-45464F6B79DE}" type="slidenum"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185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Group 12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188" name="TextBox 8"/>
            <p:cNvSpPr/>
            <p:nvPr/>
          </p:nvSpPr>
          <p:spPr>
            <a:xfrm>
              <a:off x="430884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Straight Connector 14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Straight Connector 15"/>
            <p:cNvSpPr/>
            <p:nvPr/>
          </p:nvSpPr>
          <p:spPr>
            <a:xfrm flipH="1" flipV="1">
              <a:off x="4831920" y="193392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EE5B3-CCE7-460C-B625-00E755735671}" type="slidenum"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23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Group 13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236" name="TextBox 8"/>
            <p:cNvSpPr/>
            <p:nvPr/>
          </p:nvSpPr>
          <p:spPr>
            <a:xfrm>
              <a:off x="430884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Straight Connector 16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Straight Connector 17"/>
            <p:cNvSpPr/>
            <p:nvPr/>
          </p:nvSpPr>
          <p:spPr>
            <a:xfrm flipH="1" flipV="1">
              <a:off x="4831920" y="193392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64029-111D-4395-8750-CBBC6A509E8F}" type="slidenum"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28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Group 9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284" name="TextBox 8"/>
            <p:cNvSpPr/>
            <p:nvPr/>
          </p:nvSpPr>
          <p:spPr>
            <a:xfrm>
              <a:off x="430884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Straight Connector 14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Straight Connector 15"/>
            <p:cNvSpPr/>
            <p:nvPr/>
          </p:nvSpPr>
          <p:spPr>
            <a:xfrm flipH="1" flipV="1">
              <a:off x="4831920" y="193392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9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0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1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FAA43-76FB-4B5C-9756-5DA74B4FCB8E}" type="slidenum"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329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10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332" name="TextBox 8"/>
            <p:cNvSpPr/>
            <p:nvPr/>
          </p:nvSpPr>
          <p:spPr>
            <a:xfrm>
              <a:off x="430884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Straight Connector 15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Straight Connector 16"/>
            <p:cNvSpPr/>
            <p:nvPr/>
          </p:nvSpPr>
          <p:spPr>
            <a:xfrm flipH="1" flipV="1">
              <a:off x="4831920" y="193392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2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3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4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F65B1-FB44-4CAF-92DA-15AD67E74072}" type="slidenum"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377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9" name="Group 10"/>
          <p:cNvGrpSpPr/>
          <p:nvPr/>
        </p:nvGrpSpPr>
        <p:grpSpPr>
          <a:xfrm>
            <a:off x="6193440" y="601560"/>
            <a:ext cx="916920" cy="5481720"/>
            <a:chOff x="6193440" y="601560"/>
            <a:chExt cx="916920" cy="5481720"/>
          </a:xfrm>
        </p:grpSpPr>
        <p:sp>
          <p:nvSpPr>
            <p:cNvPr id="380" name="TextBox 8"/>
            <p:cNvSpPr/>
            <p:nvPr/>
          </p:nvSpPr>
          <p:spPr>
            <a:xfrm rot="5400000">
              <a:off x="6374880" y="291420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Straight Connector 12"/>
            <p:cNvSpPr/>
            <p:nvPr/>
          </p:nvSpPr>
          <p:spPr>
            <a:xfrm flipV="1">
              <a:off x="6565680" y="601560"/>
              <a:ext cx="2160" cy="246960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Straight Connector 13"/>
            <p:cNvSpPr/>
            <p:nvPr/>
          </p:nvSpPr>
          <p:spPr>
            <a:xfrm flipV="1">
              <a:off x="6563520" y="3613680"/>
              <a:ext cx="1440" cy="246960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5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6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27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E49E8-E7D9-4232-BBE5-80F0C1C09F63}" type="slidenum"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Заголовок 1" descr=""/>
          <p:cNvPicPr/>
          <p:nvPr/>
        </p:nvPicPr>
        <p:blipFill>
          <a:blip r:embed="rId1"/>
          <a:stretch/>
        </p:blipFill>
        <p:spPr>
          <a:xfrm>
            <a:off x="817560" y="901800"/>
            <a:ext cx="7504200" cy="222552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2268360" y="530028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ffffff"/>
                </a:solidFill>
                <a:latin typeface="Times New Roman"/>
              </a:rPr>
              <a:t>Лектор: Назаренко Т. П</a:t>
            </a: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6" name="Picture 1" descr="C:\Users\User\Desktop\слайди\audit-sajta.png"/>
          <p:cNvPicPr/>
          <p:nvPr/>
        </p:nvPicPr>
        <p:blipFill>
          <a:blip r:embed="rId2"/>
          <a:stretch/>
        </p:blipFill>
        <p:spPr>
          <a:xfrm>
            <a:off x="-181080" y="3716280"/>
            <a:ext cx="30672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755280" y="2133360"/>
            <a:ext cx="7761240" cy="40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361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Залежно від обраного способу організації перевірки аудитор складає програму перевірки, де встановлює перелік аудиторських процедур </a:t>
            </a:r>
            <a:r>
              <a:rPr b="1" i="1" lang="ru-RU" sz="2000" spc="-1" strike="noStrike">
                <a:solidFill>
                  <a:srgbClr val="262626"/>
                </a:solidFill>
                <a:latin typeface="Times New Roman"/>
              </a:rPr>
              <a:t>які б дали змогу:</a:t>
            </a: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  <a:p>
            <a:pPr marL="361080" indent="-361080">
              <a:lnSpc>
                <a:spcPct val="80000"/>
              </a:lnSpc>
              <a:spcBef>
                <a:spcPts val="49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встановити достовірність первинних даних БО щодо фактичної наявності та руху виробничих запасів.</a:t>
            </a: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  <a:p>
            <a:pPr marL="361080" indent="-361080">
              <a:lnSpc>
                <a:spcPct val="80000"/>
              </a:lnSpc>
              <a:spcBef>
                <a:spcPts val="49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перевірити повноту і своєчасність відображення первинних даних з обліку запасів у зведених документах та реєстрах.</a:t>
            </a: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  <a:p>
            <a:pPr marL="361080" indent="-361080">
              <a:lnSpc>
                <a:spcPct val="80000"/>
              </a:lnSpc>
              <a:spcBef>
                <a:spcPts val="49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перевірити правильність ведення обліку запасів відповідно до чинних законодавчих і нормативних актів, облікової політики суб’єкта господарювання.</a:t>
            </a: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  <a:p>
            <a:pPr marL="361080" indent="-361080">
              <a:lnSpc>
                <a:spcPct val="80000"/>
              </a:lnSpc>
              <a:spcBef>
                <a:spcPts val="49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перевірити стан збереження запасів у суб’єкта господарювання.</a:t>
            </a: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  <a:p>
            <a:pPr marL="361080" indent="-361080">
              <a:lnSpc>
                <a:spcPct val="80000"/>
              </a:lnSpc>
              <a:spcBef>
                <a:spcPts val="49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підтвердити або спростувати показники фінансової звітності суб’єкта господарювання, які залежать від достовірності, повноти, й своєчасності відображення господарських операцій, пов’язаних із рухом виробничих запасів.</a:t>
            </a: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  <a:p>
            <a:pPr marL="361080" indent="-361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042920" y="907920"/>
            <a:ext cx="775656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95d1d"/>
                </a:solidFill>
                <a:latin typeface="Times New Roman"/>
              </a:rPr>
              <a:t>Програма аудиту виробничих запасів</a:t>
            </a:r>
            <a:br>
              <a:rPr sz="3600"/>
            </a:br>
            <a:endParaRPr b="0" lang="en-US" sz="3600" spc="-1" strike="noStrike">
              <a:solidFill>
                <a:srgbClr val="895d1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Прямоугольник 3"/>
          <p:cNvSpPr/>
          <p:nvPr/>
        </p:nvSpPr>
        <p:spPr>
          <a:xfrm>
            <a:off x="3780000" y="189000"/>
            <a:ext cx="5040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удиторська фірма _________________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ідприємство ______________________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іод перевірки 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удиту 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робничих запасі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0" name=""/>
          <p:cNvGraphicFramePr/>
          <p:nvPr/>
        </p:nvGraphicFramePr>
        <p:xfrm>
          <a:off x="179280" y="2071800"/>
          <a:ext cx="8785440" cy="4633920"/>
        </p:xfrm>
        <a:graphic>
          <a:graphicData uri="http://schemas.openxmlformats.org/drawingml/2006/table">
            <a:tbl>
              <a:tblPr/>
              <a:tblGrid>
                <a:gridCol w="466920"/>
                <a:gridCol w="5438520"/>
                <a:gridCol w="935280"/>
                <a:gridCol w="1224000"/>
                <a:gridCol w="720720"/>
              </a:tblGrid>
              <a:tr h="172440"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4b1004"/>
                          </a:solidFill>
                          <a:latin typeface="Times New Roman"/>
                          <a:ea typeface="Calibri"/>
                        </a:rPr>
                        <a:t>№ </a:t>
                      </a:r>
                      <a:r>
                        <a:rPr b="0" lang="uk-UA" sz="1100" spc="-1" strike="noStrike">
                          <a:solidFill>
                            <a:srgbClr val="4b1004"/>
                          </a:solidFill>
                          <a:latin typeface="Times New Roman"/>
                          <a:ea typeface="Calibri"/>
                        </a:rPr>
                        <a:t>з/п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4b1004"/>
                          </a:solidFill>
                          <a:latin typeface="Times New Roman"/>
                          <a:ea typeface="Calibri"/>
                        </a:rPr>
                        <a:t>Перелік аудиторських процеду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4b1004"/>
                          </a:solidFill>
                          <a:latin typeface="Times New Roman"/>
                          <a:ea typeface="Calibri"/>
                        </a:rPr>
                        <a:t>Виконавец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4b1004"/>
                          </a:solidFill>
                          <a:latin typeface="Times New Roman"/>
                        </a:rPr>
                        <a:t>Терміни перевір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4b1004"/>
                          </a:solidFill>
                          <a:latin typeface="Times New Roman"/>
                          <a:ea typeface="Calibri"/>
                        </a:rPr>
                        <a:t>Примітки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480"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вірити відповідність даних аналітичного обліку даним синтетичного обліку, даним Головної книги, звітност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вірити фактичну наявність запасів, перевірити організацію складського господарства, стан збереження запасі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680"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вірити повноту оприбуткування запасів при наявності документів, які підтверджують їх придбанн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600"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вірити організацію контролю за зберіганням , використанням і погашенням довіреност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вірити правильність оформлення надходження та списання запасів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 rowSpan="3"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взаємна звірка даних матеріального звіту та накладних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звірка віднесення в підзвіт окремими особами відпущених запасів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еревірити кореспонденцію рахунків на відпускання запасів у Головній книзі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 rowSpan="3"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вірити законність списання запасів при витратах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дотримання встановленого порядку оформлення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еревірка правильності застосування природного убутк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вірити дотримання лімітів із відпускання запасів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зустрічна перевірка ліміто-забірних карт із докуменами на витрачанн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вчити стан матеріальної відповідальності за шкоду, заподіяну підприємств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вірити правильність відображення в обліку операцій із списання запасі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387440" y="62064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одовження програми</a:t>
            </a:r>
            <a:br>
              <a:rPr sz="3200"/>
            </a:br>
            <a:endParaRPr b="0" lang="en-US" sz="3200" spc="-1" strike="noStrike">
              <a:solidFill>
                <a:srgbClr val="895d1d"/>
              </a:solidFill>
              <a:latin typeface="Times New Roman"/>
            </a:endParaRPr>
          </a:p>
        </p:txBody>
      </p:sp>
      <p:graphicFrame>
        <p:nvGraphicFramePr>
          <p:cNvPr id="452" name=""/>
          <p:cNvGraphicFramePr/>
          <p:nvPr/>
        </p:nvGraphicFramePr>
        <p:xfrm>
          <a:off x="179280" y="2276640"/>
          <a:ext cx="8785440" cy="2052360"/>
        </p:xfrm>
        <a:graphic>
          <a:graphicData uri="http://schemas.openxmlformats.org/drawingml/2006/table">
            <a:tbl>
              <a:tblPr/>
              <a:tblGrid>
                <a:gridCol w="466920"/>
                <a:gridCol w="5438520"/>
                <a:gridCol w="935280"/>
                <a:gridCol w="1224000"/>
                <a:gridCol w="720720"/>
              </a:tblGrid>
              <a:tr h="204480"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4b1004"/>
                          </a:solidFill>
                          <a:latin typeface="Times New Roman"/>
                          <a:ea typeface="Calibri"/>
                        </a:rPr>
                        <a:t>№ </a:t>
                      </a:r>
                      <a:r>
                        <a:rPr b="0" lang="uk-UA" sz="1100" spc="-1" strike="noStrike">
                          <a:solidFill>
                            <a:srgbClr val="4b1004"/>
                          </a:solidFill>
                          <a:latin typeface="Times New Roman"/>
                          <a:ea typeface="Calibri"/>
                        </a:rPr>
                        <a:t>з/п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4b1004"/>
                          </a:solidFill>
                          <a:latin typeface="Times New Roman"/>
                          <a:ea typeface="Calibri"/>
                        </a:rPr>
                        <a:t>Перелік аудиторських процеду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4b1004"/>
                          </a:solidFill>
                          <a:latin typeface="Times New Roman"/>
                          <a:ea typeface="Calibri"/>
                        </a:rPr>
                        <a:t>Виконавец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4b1004"/>
                          </a:solidFill>
                          <a:latin typeface="Times New Roman"/>
                        </a:rPr>
                        <a:t>Терміни перевір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4b1004"/>
                          </a:solidFill>
                          <a:latin typeface="Times New Roman"/>
                          <a:ea typeface="Calibri"/>
                        </a:rPr>
                        <a:t>Примітки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1320"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евірити, який із методів оцінки запасів при відпусканні їх у виробництво, продаж або інше вибуття застосовується на підприємстві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згідно з наказом про облікову політику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фактич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евірити достовірність даних за залишками запасів у фінансовій звітност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920"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рмування реєстрів виявлених поруш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3" name=""/>
          <p:cNvSpPr txBox="1"/>
          <p:nvPr/>
        </p:nvSpPr>
        <p:spPr>
          <a:xfrm>
            <a:off x="394920" y="4437000"/>
            <a:ext cx="7745400" cy="157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Склав: Прізвище Ім</a:t>
            </a:r>
            <a:r>
              <a:rPr b="0" lang="en-US" sz="1800" spc="-1" strike="noStrike">
                <a:solidFill>
                  <a:srgbClr val="262626"/>
                </a:solidFill>
                <a:latin typeface="Book Antiqua"/>
              </a:rPr>
              <a:t>`</a:t>
            </a:r>
            <a:r>
              <a:rPr b="0" lang="uk-UA" sz="1800" spc="-1" strike="noStrike">
                <a:solidFill>
                  <a:srgbClr val="262626"/>
                </a:solidFill>
                <a:latin typeface="Times New Roman"/>
              </a:rPr>
              <a:t>я По батькові </a:t>
            </a:r>
            <a:endParaRPr b="0" lang="en-US" sz="18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Перевірив: Прізвище Ім</a:t>
            </a:r>
            <a:r>
              <a:rPr b="0" lang="en-US" sz="1800" spc="-1" strike="noStrike">
                <a:solidFill>
                  <a:srgbClr val="262626"/>
                </a:solidFill>
                <a:latin typeface="Book Antiqua"/>
              </a:rPr>
              <a:t>`</a:t>
            </a:r>
            <a:r>
              <a:rPr b="0" lang="uk-UA" sz="1800" spc="-1" strike="noStrike">
                <a:solidFill>
                  <a:srgbClr val="262626"/>
                </a:solidFill>
                <a:latin typeface="Times New Roman"/>
              </a:rPr>
              <a:t>я По батькові </a:t>
            </a:r>
            <a:endParaRPr b="0" lang="en-US" sz="18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Ознайомився: Прізвище Ім</a:t>
            </a:r>
            <a:r>
              <a:rPr b="0" lang="en-US" sz="1800" spc="-1" strike="noStrike">
                <a:solidFill>
                  <a:srgbClr val="262626"/>
                </a:solidFill>
                <a:latin typeface="Book Antiqua"/>
              </a:rPr>
              <a:t>`</a:t>
            </a:r>
            <a:r>
              <a:rPr b="0" lang="uk-UA" sz="1800" spc="-1" strike="noStrike">
                <a:solidFill>
                  <a:srgbClr val="262626"/>
                </a:solidFill>
                <a:latin typeface="Times New Roman"/>
              </a:rPr>
              <a:t>я По батькові </a:t>
            </a:r>
            <a:endParaRPr b="0" lang="en-US" sz="18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262626"/>
                </a:solidFill>
                <a:latin typeface="Times New Roman"/>
              </a:rPr>
              <a:t>Надходження виробничих запасів здійснюється з таких джерел:</a:t>
            </a:r>
            <a:endParaRPr b="0" lang="en-US" sz="1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34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62626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262626"/>
                </a:solidFill>
                <a:latin typeface="Times New Roman"/>
              </a:rPr>
              <a:t>від постачальників;</a:t>
            </a:r>
            <a:endParaRPr b="0" lang="en-US" sz="1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34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62626"/>
                </a:solidFill>
                <a:latin typeface="Times New Roman"/>
              </a:rPr>
              <a:t>в результаті обміну на подібні (неподібні) активи;</a:t>
            </a:r>
            <a:endParaRPr b="0" lang="en-US" sz="1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34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62626"/>
                </a:solidFill>
                <a:latin typeface="Times New Roman"/>
              </a:rPr>
              <a:t>безоплатне отримання;</a:t>
            </a:r>
            <a:endParaRPr b="0" lang="en-US" sz="1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34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62626"/>
                </a:solidFill>
                <a:latin typeface="Times New Roman"/>
              </a:rPr>
              <a:t>оприбуткування надлишків у результаті інвентаризації;</a:t>
            </a:r>
            <a:endParaRPr b="0" lang="en-US" sz="1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34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62626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262626"/>
                </a:solidFill>
                <a:latin typeface="Times New Roman"/>
              </a:rPr>
              <a:t>з власного виробництва;</a:t>
            </a:r>
            <a:endParaRPr b="0" lang="en-US" sz="1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34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62626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262626"/>
                </a:solidFill>
                <a:latin typeface="Times New Roman"/>
              </a:rPr>
              <a:t>як внесок у статутний капітал;</a:t>
            </a:r>
            <a:endParaRPr b="0" lang="en-US" sz="1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34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62626"/>
                </a:solidFill>
                <a:latin typeface="Times New Roman"/>
              </a:rPr>
              <a:t>придбання через підзвітних осіб;</a:t>
            </a:r>
            <a:endParaRPr b="0" lang="en-US" sz="1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34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62626"/>
                </a:solidFill>
                <a:latin typeface="Times New Roman"/>
              </a:rPr>
              <a:t>інше надходження (зворотні відходи, оприбуткування цінностей внаслідок ліквідації основних засобів, МШП).</a:t>
            </a:r>
            <a:endParaRPr b="0" lang="en-US" sz="1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62626"/>
                </a:solidFill>
                <a:latin typeface="Times New Roman"/>
              </a:rPr>
              <a:t>Надходження цінностей від постачальників</a:t>
            </a:r>
            <a:r>
              <a:rPr b="0" lang="ru-RU" sz="1400" spc="-1" strike="noStrike">
                <a:solidFill>
                  <a:srgbClr val="262626"/>
                </a:solidFill>
                <a:latin typeface="Times New Roman"/>
              </a:rPr>
              <a:t> перевіряється за первинними документами, до яких належать накладна, рахунок, рахунок-фактура, товарно-транспортна накладна, прибутковий ордер, картка складського обліку, податкова накладна; за регістрами синтетичного і аналітичного обліку: матеріальний звіт, оборотна відомість, журнал 3, відомості 3.3, 3.5. У випадку доставки матеріальних цінностей власним транспортним засобом перевірці підлягають шляхові листи, журнал обліку виданих довіреностей. </a:t>
            </a:r>
            <a:endParaRPr b="0" lang="en-US" sz="1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775476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95d1d"/>
                </a:solidFill>
                <a:latin typeface="Times New Roman"/>
              </a:rPr>
              <a:t>3. Загальна методика проведення аудиту запасів</a:t>
            </a:r>
            <a:endParaRPr b="0" lang="en-US" sz="36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456" name="Заголовок 2"/>
          <p:cNvSpPr/>
          <p:nvPr/>
        </p:nvSpPr>
        <p:spPr>
          <a:xfrm>
            <a:off x="684360" y="1268280"/>
            <a:ext cx="7754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95d1d"/>
                </a:solidFill>
                <a:latin typeface="Times New Roman"/>
                <a:ea typeface="Times New Roman"/>
              </a:rPr>
              <a:t>3.1 Аудит надходження виробничих запасів</a:t>
            </a: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684000" y="2637000"/>
            <a:ext cx="7745400" cy="26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порівняння даних складського, бухгалтерського обліку проводиться перевірка стану розрахунків з постачальниками.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перевірку, яку залучають видаткові касові ордери, платіжні документи, виписки банків, дані журналів 1, 3 та відомостей 1.1, 1.2, 3.3, 3.5. 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95672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895d1d"/>
                </a:solidFill>
                <a:latin typeface="Times New Roman"/>
              </a:rPr>
              <a:t>При здійсненні перевірки </a:t>
            </a:r>
            <a:br>
              <a:rPr sz="4000"/>
            </a:br>
            <a:r>
              <a:rPr b="0" i="1" lang="uk-UA" sz="4000" spc="-1" strike="noStrike">
                <a:solidFill>
                  <a:srgbClr val="895d1d"/>
                </a:solidFill>
                <a:latin typeface="Times New Roman"/>
              </a:rPr>
              <a:t>звертається увага на:</a:t>
            </a:r>
            <a:endParaRPr b="0" lang="en-US" sz="4000" spc="-1" strike="noStrike">
              <a:solidFill>
                <a:srgbClr val="895d1d"/>
              </a:solidFill>
              <a:latin typeface="Times New Roman"/>
            </a:endParaRPr>
          </a:p>
        </p:txBody>
      </p:sp>
      <p:pic>
        <p:nvPicPr>
          <p:cNvPr id="45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12400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9040" y="259920"/>
            <a:ext cx="775656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1004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4b1004"/>
                </a:solidFill>
                <a:latin typeface="Times New Roman"/>
              </a:rPr>
              <a:t>На підставі договорів поставки, специфікацій, накладних постачальників, актів приймання МПЗ, первинних документів складського обліку аудитори відповідають на наведені нижче питання. При позитивній відповіді на деякі питання необхідне проведення додаткових процедур.</a:t>
            </a:r>
            <a:r>
              <a:rPr b="0" lang="ru-RU" sz="2000" spc="-1" strike="noStrike">
                <a:solidFill>
                  <a:srgbClr val="d4745e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895d1d"/>
              </a:solidFill>
              <a:latin typeface="Times New Roman"/>
            </a:endParaRPr>
          </a:p>
        </p:txBody>
      </p:sp>
      <p:pic>
        <p:nvPicPr>
          <p:cNvPr id="461" name="Таблица 3" descr=""/>
          <p:cNvPicPr/>
          <p:nvPr/>
        </p:nvPicPr>
        <p:blipFill>
          <a:blip r:embed="rId1"/>
          <a:stretch/>
        </p:blipFill>
        <p:spPr>
          <a:xfrm>
            <a:off x="828720" y="1981080"/>
            <a:ext cx="7272360" cy="43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 txBox="1"/>
          <p:nvPr/>
        </p:nvSpPr>
        <p:spPr>
          <a:xfrm>
            <a:off x="698040" y="2247480"/>
            <a:ext cx="819468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lnSpc>
                <a:spcPct val="80000"/>
              </a:lnSpc>
              <a:spcBef>
                <a:spcPts val="425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62626"/>
                </a:solidFill>
                <a:latin typeface="Times New Roman"/>
              </a:rPr>
              <a:t>дотримання на підприємстві порядку приймання і оформлення документів, що підтверджують факт надходження матеріалів;</a:t>
            </a:r>
            <a:endParaRPr b="0" lang="en-US" sz="17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425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62626"/>
                </a:solidFill>
                <a:latin typeface="Times New Roman"/>
              </a:rPr>
              <a:t>правильність обліку та оцінки матеріалів, що надійшли від постачальників;</a:t>
            </a:r>
            <a:endParaRPr b="0" lang="en-US" sz="17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425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62626"/>
                </a:solidFill>
                <a:latin typeface="Times New Roman"/>
              </a:rPr>
              <a:t>повнота і своєчасність оприбуткування запасів у відповідності з документами постачальника (здійснюється з метою виявлення випадків неповного оприбуткування або повного неоприбуткування  запасів);</a:t>
            </a:r>
            <a:endParaRPr b="0" lang="en-US" sz="17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425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62626"/>
                </a:solidFill>
                <a:latin typeface="Times New Roman"/>
              </a:rPr>
              <a:t>відповідність якості одержаних запасів характеристикам, що вказані в прибуткових документах, сертифікатах якості, лабораторних аналізах тощо;</a:t>
            </a:r>
            <a:endParaRPr b="0" lang="en-US" sz="17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425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62626"/>
                </a:solidFill>
                <a:latin typeface="Times New Roman"/>
              </a:rPr>
              <a:t>правильність оформлення актів на приймання запасів (у випадку, коли якісні або кількісні характеристики матеріалів, що надійшли, не відповідають тим, що вказані в супроводжувальних документах);</a:t>
            </a:r>
            <a:endParaRPr b="0" lang="en-US" sz="17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425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62626"/>
                </a:solidFill>
                <a:latin typeface="Times New Roman"/>
              </a:rPr>
              <a:t>правильність, повнота та своєчасність оприбуткування запасів, придбаних підзвітними особами;</a:t>
            </a:r>
            <a:endParaRPr b="0" lang="en-US" sz="17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425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62626"/>
                </a:solidFill>
                <a:latin typeface="Times New Roman"/>
              </a:rPr>
              <a:t>повнота, своєчасність і правильність оприбуткування матеріалів від ліквідації основних засобів та малоцінних необоротних активів тощо.</a:t>
            </a:r>
            <a:endParaRPr b="0" lang="en-US" sz="17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425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54760" cy="15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95d1d"/>
                </a:solidFill>
                <a:latin typeface="Times New Roman"/>
              </a:rPr>
              <a:t>Аудит повноти, своєчасності та правильності оприбуткування  запасів передбачає вивчення таких питань:</a:t>
            </a:r>
            <a:br>
              <a:rPr sz="2800"/>
            </a:br>
            <a:endParaRPr b="0" lang="en-US" sz="2800" spc="-1" strike="noStrike">
              <a:solidFill>
                <a:srgbClr val="895d1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9040" y="189000"/>
            <a:ext cx="775656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95d1d"/>
                </a:solidFill>
                <a:latin typeface="Times New Roman"/>
              </a:rPr>
              <a:t>Під час проведення інвентаризації аудитор не може бути членом інвентаризаційної комісії, але, спостерігаючи за її роботою може: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895d1d"/>
                </a:solidFill>
                <a:latin typeface="Times New Roman"/>
              </a:rPr>
              <a:t>1. спостерігати за виконанням процедур інвентаризації;</a:t>
            </a:r>
            <a:br>
              <a:rPr sz="1800"/>
            </a:br>
            <a:r>
              <a:rPr b="0" lang="ru-RU" sz="1800" spc="-1" strike="noStrike">
                <a:solidFill>
                  <a:srgbClr val="895d1d"/>
                </a:solidFill>
                <a:latin typeface="Times New Roman"/>
              </a:rPr>
              <a:t>2. перевірити правильність підрахунку на основі випадкової вибірки;</a:t>
            </a:r>
            <a:br>
              <a:rPr sz="1800"/>
            </a:br>
            <a:endParaRPr b="0" lang="en-US" sz="1800" spc="-1" strike="noStrike">
              <a:solidFill>
                <a:srgbClr val="895d1d"/>
              </a:solidFill>
              <a:latin typeface="Times New Roman"/>
            </a:endParaRPr>
          </a:p>
        </p:txBody>
      </p:sp>
      <p:pic>
        <p:nvPicPr>
          <p:cNvPr id="465" name="Picture 2" descr="http://textreferat.com.ua/images/291324_image021.gif"/>
          <p:cNvPicPr/>
          <p:nvPr/>
        </p:nvPicPr>
        <p:blipFill>
          <a:blip r:embed="rId1"/>
          <a:stretch/>
        </p:blipFill>
        <p:spPr>
          <a:xfrm>
            <a:off x="1116000" y="1916280"/>
            <a:ext cx="691200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143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95d1d"/>
                </a:solidFill>
                <a:latin typeface="Times New Roman"/>
              </a:rPr>
              <a:t>У випадках придбання запасів аудитору необхідно звернути особливу увагу на дотримання податкового законодавства (порядку нарахування і сплати ПДВ тощо). В цілому результати аудиту повноти і своєчасності оприбуткування запасів доцільно відображати у робочому документі наступного виду (приклад)</a:t>
            </a:r>
            <a:endParaRPr b="0" lang="en-US" sz="1800" spc="-1" strike="noStrike">
              <a:solidFill>
                <a:srgbClr val="895d1d"/>
              </a:solidFill>
              <a:latin typeface="Times New Roman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395280" y="2060640"/>
          <a:ext cx="8497800" cy="1928880"/>
        </p:xfrm>
        <a:graphic>
          <a:graphicData uri="http://schemas.openxmlformats.org/drawingml/2006/table">
            <a:tbl>
              <a:tblPr/>
              <a:tblGrid>
                <a:gridCol w="4032360"/>
                <a:gridCol w="4465440"/>
              </a:tblGrid>
              <a:tr h="175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удиторська фірма </a:t>
                      </a:r>
                      <a:r>
                        <a:rPr b="0" lang="uk-UA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«Центр-аудит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eb795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 робочого документу  </a:t>
                      </a:r>
                      <a:r>
                        <a:rPr b="0" lang="uk-UA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1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eb795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75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ідприємство </a:t>
                      </a:r>
                      <a:r>
                        <a:rPr b="0" lang="uk-UA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ТОВ «Агрофірма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Д склав </a:t>
                      </a:r>
                      <a:r>
                        <a:rPr b="0" lang="uk-UA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Марченко Т. В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5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іод, що перевіряється </a:t>
                      </a:r>
                      <a:r>
                        <a:rPr b="0" lang="uk-UA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01.01.2013-31.12.20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Д Перевірив </a:t>
                      </a:r>
                      <a:r>
                        <a:rPr b="0" lang="uk-UA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Степовий П. В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5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4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5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ілянка аудит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Аудит запасі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0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удиторські процедур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евірка записів і документів, запит, підтвердження, перерахунок, аналітичні процедур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5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осіб перевір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бірков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0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жерел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aeb79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кладні, рахунки-фактури, регістри синтетичного і аналітичного обліку запасів, відповіді на запитання аудитор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aeb795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8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9" name=""/>
          <p:cNvGraphicFramePr/>
          <p:nvPr/>
        </p:nvGraphicFramePr>
        <p:xfrm>
          <a:off x="395280" y="4076640"/>
          <a:ext cx="8424720" cy="2509920"/>
        </p:xfrm>
        <a:graphic>
          <a:graphicData uri="http://schemas.openxmlformats.org/drawingml/2006/table">
            <a:tbl>
              <a:tblPr/>
              <a:tblGrid>
                <a:gridCol w="897120"/>
                <a:gridCol w="1226880"/>
                <a:gridCol w="1227240"/>
                <a:gridCol w="817560"/>
                <a:gridCol w="826920"/>
                <a:gridCol w="827280"/>
                <a:gridCol w="658800"/>
                <a:gridCol w="1295280"/>
                <a:gridCol w="647640"/>
              </a:tblGrid>
              <a:tr h="525600">
                <a:tc gridSpan="9"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</a:t>
                      </a: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БІРКА СВОЄЧАСНОСТІ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РИБУТКУВАННЯ ЗАПАСІ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 рахунку 20 «Виробничі запаси» (203 «Паливо»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6040">
                <a:tc rowSpan="2"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 </a:t>
                      </a: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/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ані первинного облік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ідображено в облік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ідхиленн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ид запасі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</a:t>
                      </a: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, да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зв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ум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т рахунк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а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ум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532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364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 </a:t>
                      </a: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6, від 12.03.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оварно-транспортна наклад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06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.03.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06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рибутковано на наступний ден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аливо А-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23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 </a:t>
                      </a: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1 від 23.03.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оварно-транспортна наклад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30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.03.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30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о первісної вартості помилкововключено до ПД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аливо А-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 txBox="1"/>
          <p:nvPr/>
        </p:nvSpPr>
        <p:spPr>
          <a:xfrm>
            <a:off x="755280" y="1989000"/>
            <a:ext cx="77454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b1004"/>
                </a:solidFill>
                <a:latin typeface="Times New Roman"/>
              </a:rPr>
              <a:t>Списання запасів із балансу згідно П(с)БО 9 відбувається у таких випадках</a:t>
            </a:r>
            <a:r>
              <a:rPr b="0" lang="ru-RU" sz="1400" spc="-1" strike="noStrike">
                <a:solidFill>
                  <a:srgbClr val="262626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5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відпускання у виробництво; </a:t>
            </a:r>
            <a:endParaRPr b="0" lang="en-US" sz="18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5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реалізація за грошові кошти; </a:t>
            </a:r>
            <a:endParaRPr b="0" lang="en-US" sz="18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5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передача до статутного капіталу іншого підприємства; безоплатна передача; </a:t>
            </a:r>
            <a:endParaRPr b="0" lang="en-US" sz="18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5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списання через витрати від стихійного лиха;</a:t>
            </a:r>
            <a:endParaRPr b="0" lang="en-US" sz="18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5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списання недостач у межах норм і понад норм природного убутку.</a:t>
            </a:r>
            <a:endParaRPr b="0" lang="en-US" sz="18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1004"/>
                </a:solidFill>
                <a:latin typeface="Times New Roman"/>
              </a:rPr>
              <a:t>При списанні матеріалів у виробництво проводимо документальну перевірку, яка дає змогу встановити:</a:t>
            </a: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5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відповідність норм у документах на списання нормативним актам;</a:t>
            </a:r>
            <a:endParaRPr b="0" lang="en-US" sz="18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5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відповідність кількості фактично списаної сировини витрачанню цієї сировини за нормами.</a:t>
            </a:r>
            <a:endParaRPr b="0" lang="en-US" sz="18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34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755640" y="836640"/>
            <a:ext cx="775656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95d1d"/>
                </a:solidFill>
                <a:latin typeface="Times New Roman"/>
                <a:ea typeface="Times New Roman"/>
              </a:rPr>
              <a:t>3.2 Аудит вибуття виробничих запасів</a:t>
            </a:r>
            <a:br>
              <a:rPr sz="2000"/>
            </a:br>
            <a:br>
              <a:rPr sz="2000"/>
            </a:br>
            <a:endParaRPr b="0" lang="en-US" sz="2800" spc="-1" strike="noStrike">
              <a:solidFill>
                <a:srgbClr val="895d1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179280" y="2204640"/>
            <a:ext cx="734544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1. Мета,завдання та джерела аудиту запасів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2. Послідовність проведення аудиту запасів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3. Загальна методика проведення аудиту запасів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1" marL="776160" indent="-365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3.1 Аудит надходження виробничих запасів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1" marL="776160" indent="-365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3.2 Аудит вибуття виробничих запасів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4. Узагальнення результатів аудиту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(Аудиторський висновок)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99128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400" spc="-1" strike="noStrike">
                <a:solidFill>
                  <a:srgbClr val="895d1d"/>
                </a:solidFill>
                <a:latin typeface="Times New Roman"/>
              </a:rPr>
              <a:t>У лекції розглядаються наступні питання:</a:t>
            </a: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pic>
        <p:nvPicPr>
          <p:cNvPr id="429" name="Shape 32" descr=""/>
          <p:cNvPicPr/>
          <p:nvPr/>
        </p:nvPicPr>
        <p:blipFill>
          <a:blip r:embed="rId1"/>
          <a:stretch/>
        </p:blipFill>
        <p:spPr>
          <a:xfrm>
            <a:off x="6032520" y="4076640"/>
            <a:ext cx="311148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 txBox="1"/>
          <p:nvPr/>
        </p:nvSpPr>
        <p:spPr>
          <a:xfrm>
            <a:off x="-360" y="2133360"/>
            <a:ext cx="8048520" cy="42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49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фактична кількість списаної сировини та матеріалів відповідає або не відповідає нормам.</a:t>
            </a: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spcBef>
                <a:spcPts val="49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в зв’язку із списанням виробничих запасів перевіряємо наявність актів на списання запасів, накладних , довіреностей, вимог на відпущення матеріалів, відомостей обліку видачі матеріалів, а також перевіряємо правильність заповнення документів.</a:t>
            </a: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spcBef>
                <a:spcPts val="49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виявлено що на підприємстві застосовується оцінка запасів за середньозваженою собівартістю, а саме нам пояснили, що цей метод застосовується окремо для кожної сукупності взятих на облік запасів, однакових за призначенням</a:t>
            </a: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95d1d"/>
                </a:solidFill>
                <a:latin typeface="Times New Roman"/>
              </a:rPr>
              <a:t>За результатами такого зіставлення можна виявити:</a:t>
            </a:r>
            <a:endParaRPr b="0" lang="en-US" sz="3200" spc="-1" strike="noStrike">
              <a:solidFill>
                <a:srgbClr val="895d1d"/>
              </a:solidFill>
              <a:latin typeface="Times New Roman"/>
            </a:endParaRPr>
          </a:p>
        </p:txBody>
      </p:sp>
      <p:pic>
        <p:nvPicPr>
          <p:cNvPr id="474" name="Picture 1" descr=""/>
          <p:cNvPicPr/>
          <p:nvPr/>
        </p:nvPicPr>
        <p:blipFill>
          <a:blip r:embed="rId1"/>
          <a:stretch/>
        </p:blipFill>
        <p:spPr>
          <a:xfrm>
            <a:off x="7380360" y="4437000"/>
            <a:ext cx="1647720" cy="22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5" name=""/>
          <p:cNvGraphicFramePr/>
          <p:nvPr/>
        </p:nvGraphicFramePr>
        <p:xfrm>
          <a:off x="684360" y="1125360"/>
          <a:ext cx="8172360" cy="2313000"/>
        </p:xfrm>
        <a:graphic>
          <a:graphicData uri="http://schemas.openxmlformats.org/drawingml/2006/table">
            <a:tbl>
              <a:tblPr/>
              <a:tblGrid>
                <a:gridCol w="4051080"/>
                <a:gridCol w="412128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удиторська фірма </a:t>
                      </a:r>
                      <a:r>
                        <a:rPr b="0" lang="uk-UA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«Центр-аудит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робочого документу  </a:t>
                      </a:r>
                      <a:r>
                        <a:rPr b="0" lang="uk-UA" sz="11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ідприємство </a:t>
                      </a:r>
                      <a:r>
                        <a:rPr b="0" lang="uk-UA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ТОВ «Агрофірма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Д склав </a:t>
                      </a:r>
                      <a:r>
                        <a:rPr b="0" lang="uk-UA" sz="11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Марченко Т. В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3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іод, що перевіряється </a:t>
                      </a:r>
                      <a:r>
                        <a:rPr b="0" lang="uk-UA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01.01.2013-31.12.20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Д Перевірив </a:t>
                      </a:r>
                      <a:r>
                        <a:rPr b="0" lang="uk-UA" sz="11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Степовий П. В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3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ілянка аудит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удит запасі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5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удиторські процедур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вірка записів і документів, запит, підтвердження, перерахунок, аналітичні процедур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осіб перевір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бірков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7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жерел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кладні, рахунки-фактури, регістри синтетичного і аналітичного обліку запасів, відповіді на запитання аудитора, робочі документи аудитора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6" name=""/>
          <p:cNvGraphicFramePr/>
          <p:nvPr/>
        </p:nvGraphicFramePr>
        <p:xfrm>
          <a:off x="826920" y="3500280"/>
          <a:ext cx="7921800" cy="2036880"/>
        </p:xfrm>
        <a:graphic>
          <a:graphicData uri="http://schemas.openxmlformats.org/drawingml/2006/table">
            <a:tbl>
              <a:tblPr/>
              <a:tblGrid>
                <a:gridCol w="1355760"/>
                <a:gridCol w="1355760"/>
                <a:gridCol w="1079640"/>
                <a:gridCol w="1079280"/>
                <a:gridCol w="989280"/>
                <a:gridCol w="2062080"/>
              </a:tblGrid>
              <a:tr h="384840">
                <a:tc gridSpan="6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РЕЛІК ПОМИЛОК І ПОРУШЕНЬ,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ИЯВЛЕНИХ В ХОДІ АУДИТУ ЗАПАСІ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024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ані первинного облі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арактер порушенн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йменуванн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а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у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0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імітно-забірна карт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.08.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ревищення ліміту відпуску пали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нига складського облі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ерес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3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своєчасне оприбуткува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 txBox="1"/>
          <p:nvPr/>
        </p:nvSpPr>
        <p:spPr>
          <a:xfrm>
            <a:off x="250920" y="2133720"/>
            <a:ext cx="8353440" cy="43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 algn="just">
              <a:lnSpc>
                <a:spcPct val="80000"/>
              </a:lnSpc>
              <a:spcBef>
                <a:spcPts val="4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Times New Roman"/>
              </a:rPr>
              <a:t>незадовільна організація складського господарства;</a:t>
            </a:r>
            <a:endParaRPr b="0" lang="en-US" sz="16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Times New Roman"/>
              </a:rPr>
              <a:t>невиконання завдань щодо заготовлення (придбання) матеріалів;</a:t>
            </a:r>
            <a:endParaRPr b="0" lang="en-US" sz="16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Times New Roman"/>
              </a:rPr>
              <a:t>завищення собівартості придбаних матеріалів;</a:t>
            </a:r>
            <a:endParaRPr b="0" lang="en-US" sz="16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Times New Roman"/>
              </a:rPr>
              <a:t>порушення правил приймання вантажів;</a:t>
            </a:r>
            <a:endParaRPr b="0" lang="en-US" sz="16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Times New Roman"/>
              </a:rPr>
              <a:t>неповне оприбуткування запасів;</a:t>
            </a:r>
            <a:endParaRPr b="0" lang="en-US" sz="16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Times New Roman"/>
              </a:rPr>
              <a:t>необґрунтовані претензії до постачальників;</a:t>
            </a:r>
            <a:endParaRPr b="0" lang="en-US" sz="16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Times New Roman"/>
              </a:rPr>
              <a:t>нераціональне витрачання матеріалів на виробництво;</a:t>
            </a:r>
            <a:endParaRPr b="0" lang="en-US" sz="16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Times New Roman"/>
              </a:rPr>
              <a:t>порушення норм і лімітів відпуску;</a:t>
            </a:r>
            <a:endParaRPr b="0" lang="en-US" sz="16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Times New Roman"/>
              </a:rPr>
              <a:t>порушення порядку проведення інвентаризації (порушення строків проведення, нерівномірний їх розподіл за календарними періодами, порушення принципу раптовості, неякісне проведення інвентаризації, недбале і несвоєчасне оформлення документів тощо);</a:t>
            </a:r>
            <a:endParaRPr b="0" lang="en-US" sz="16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Times New Roman"/>
              </a:rPr>
              <a:t>нестача, надлишок запасів;</a:t>
            </a:r>
            <a:endParaRPr b="0" lang="en-US" sz="16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Times New Roman"/>
              </a:rPr>
              <a:t>помилки і підробки в документах;</a:t>
            </a:r>
            <a:endParaRPr b="0" lang="en-US" sz="16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Times New Roman"/>
              </a:rPr>
              <a:t>підміна нових матеріалів старими;</a:t>
            </a:r>
            <a:endParaRPr b="0" lang="en-US" sz="16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Times New Roman"/>
              </a:rPr>
              <a:t>помилки у визначенні сум уцінок, дооцінок запасів та їх відображення в обліку; /</a:t>
            </a:r>
            <a:endParaRPr b="0" lang="en-US" sz="16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374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Times New Roman"/>
              </a:rPr>
              <a:t>незадовільне ведення бухгалтерського обліку</a:t>
            </a:r>
            <a:r>
              <a:rPr b="0" lang="ru-RU" sz="1500" spc="-1" strike="noStrike">
                <a:solidFill>
                  <a:srgbClr val="262626"/>
                </a:solidFill>
                <a:latin typeface="Times New Roman"/>
              </a:rPr>
              <a:t>.</a:t>
            </a:r>
            <a:endParaRPr b="0" lang="en-US" sz="15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374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95d1d"/>
                </a:solidFill>
                <a:latin typeface="Times New Roman"/>
              </a:rPr>
              <a:t>Типовими помилками під час здійснення операцій з виробничими запасами є такі:</a:t>
            </a:r>
            <a:br>
              <a:rPr sz="3200"/>
            </a:br>
            <a:endParaRPr b="0" lang="en-US" sz="3200" spc="-1" strike="noStrike">
              <a:solidFill>
                <a:srgbClr val="895d1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95d1d"/>
                </a:solidFill>
                <a:latin typeface="Times New Roman"/>
              </a:rPr>
              <a:t>4. Узагальнення результатів аудиту(Аудиторський висновок)</a:t>
            </a:r>
            <a:endParaRPr b="0" lang="en-US" sz="36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480" name="Заголовок 2"/>
          <p:cNvSpPr/>
          <p:nvPr/>
        </p:nvSpPr>
        <p:spPr>
          <a:xfrm>
            <a:off x="826920" y="2060640"/>
            <a:ext cx="7756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b1004"/>
                </a:solidFill>
                <a:latin typeface="Times New Roman"/>
              </a:rPr>
              <a:t>Тест перевірки стану внутрішнього контролю та системи обліку виробничих запасів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1" name="Таблица 5" descr=""/>
          <p:cNvPicPr/>
          <p:nvPr/>
        </p:nvPicPr>
        <p:blipFill>
          <a:blip r:embed="rId1"/>
          <a:stretch/>
        </p:blipFill>
        <p:spPr>
          <a:xfrm>
            <a:off x="895320" y="2567160"/>
            <a:ext cx="749304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00000" y="476280"/>
            <a:ext cx="775656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b1004"/>
                </a:solidFill>
                <a:latin typeface="Times New Roman"/>
              </a:rPr>
              <a:t>Продовження прикладу </a:t>
            </a:r>
            <a:br>
              <a:rPr sz="1600"/>
            </a:br>
            <a:endParaRPr b="0" lang="en-US" sz="1600" spc="-1" strike="noStrike">
              <a:solidFill>
                <a:srgbClr val="895d1d"/>
              </a:solidFill>
              <a:latin typeface="Times New Roman"/>
            </a:endParaRPr>
          </a:p>
        </p:txBody>
      </p:sp>
      <p:graphicFrame>
        <p:nvGraphicFramePr>
          <p:cNvPr id="483" name=""/>
          <p:cNvGraphicFramePr/>
          <p:nvPr/>
        </p:nvGraphicFramePr>
        <p:xfrm>
          <a:off x="539640" y="2060640"/>
          <a:ext cx="8209080" cy="3327480"/>
        </p:xfrm>
        <a:graphic>
          <a:graphicData uri="http://schemas.openxmlformats.org/drawingml/2006/table">
            <a:tbl>
              <a:tblPr/>
              <a:tblGrid>
                <a:gridCol w="617760"/>
                <a:gridCol w="4021200"/>
                <a:gridCol w="2489040"/>
                <a:gridCol w="1081080"/>
              </a:tblGrid>
              <a:tr h="277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 gridSpan="4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тема облі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а чи класифікація виробничих запасів для їх обліку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ізовано чи АУ на посадовому рівні, чи ведуться картки складського обліку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іляються ПДВ окремим рядком в розрахункових і платіжних документах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віряються чи дані АУ і СУ систематично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ільки в кінці рок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 складають акти списання МШП, що приходять у непридатні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рядок складання бухгалтерської звітності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повідає встановленим нормативним вимога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повідність облікової політики вимогам ПБ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ково не відповідає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4" name="Заголовок 2"/>
          <p:cNvSpPr/>
          <p:nvPr/>
        </p:nvSpPr>
        <p:spPr>
          <a:xfrm>
            <a:off x="395280" y="5445000"/>
            <a:ext cx="775656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b1004"/>
                </a:solidFill>
                <a:latin typeface="Times New Roman"/>
              </a:rPr>
              <a:t>Значення символів:</a:t>
            </a:r>
            <a:br>
              <a:rPr sz="1600"/>
            </a:br>
            <a:r>
              <a:rPr b="0" lang="ru-RU" sz="1600" spc="-1" strike="noStrike">
                <a:solidFill>
                  <a:srgbClr val="4b1004"/>
                </a:solidFill>
                <a:latin typeface="Times New Roman"/>
              </a:rPr>
              <a:t>У1 - низький рівень;</a:t>
            </a:r>
            <a:br>
              <a:rPr sz="1600"/>
            </a:br>
            <a:r>
              <a:rPr b="0" lang="ru-RU" sz="1600" spc="-1" strike="noStrike">
                <a:solidFill>
                  <a:srgbClr val="4b1004"/>
                </a:solidFill>
                <a:latin typeface="Times New Roman"/>
              </a:rPr>
              <a:t>У2 - нижче середнього рівня;</a:t>
            </a:r>
            <a:br>
              <a:rPr sz="1600"/>
            </a:br>
            <a:r>
              <a:rPr b="0" lang="ru-RU" sz="1600" spc="-1" strike="noStrike">
                <a:solidFill>
                  <a:srgbClr val="4b1004"/>
                </a:solidFill>
                <a:latin typeface="Times New Roman"/>
              </a:rPr>
              <a:t>У3 - середній рівень;</a:t>
            </a:r>
            <a:br>
              <a:rPr sz="1600"/>
            </a:br>
            <a:r>
              <a:rPr b="0" lang="ru-RU" sz="1600" spc="-1" strike="noStrike">
                <a:solidFill>
                  <a:srgbClr val="4b1004"/>
                </a:solidFill>
                <a:latin typeface="Times New Roman"/>
              </a:rPr>
              <a:t>У4 - високий </a:t>
            </a:r>
            <a:r>
              <a:rPr b="0" i="1" lang="ru-RU" sz="1600" spc="-1" strike="noStrike">
                <a:solidFill>
                  <a:srgbClr val="4b1004"/>
                </a:solidFill>
                <a:latin typeface="Times New Roman"/>
              </a:rPr>
              <a:t>рівень.</a:t>
            </a:r>
            <a:br>
              <a:rPr sz="10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 txBox="1"/>
          <p:nvPr/>
        </p:nvSpPr>
        <p:spPr>
          <a:xfrm>
            <a:off x="250920" y="2133720"/>
            <a:ext cx="86421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4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еличезну роль у вирішенні цього завдання грає чітко організований облік. Він повинен оперативно забезпечувати керівників та інших зацікавлених осіб необхідною інформацією для ефективного управління виробничим запасами в цілях оптимальних умов для виготовлення високоякісної продукції і вишукування резервів зниження її собівартості в частині раціонального використання матеріалів.</a:t>
            </a:r>
            <a:endParaRPr b="0" lang="en-US" sz="16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spcBef>
                <a:spcPts val="4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обхідна умова діяльності підприємств - добре налагоджені господарські зв'язки, тому що вони забезпечують безперебійність постачання, безперервність процесу виробництва, своєчасність відвантаження і реалізації.</a:t>
            </a:r>
            <a:endParaRPr b="0" lang="en-US" sz="16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spcBef>
                <a:spcPts val="4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Чітка класифікація виробничих запасів за певними ознаками і вибір одиниці обліку необхідні для своєчасної і правильної організації синтетичного й аналітичного обліку.</a:t>
            </a:r>
            <a:endParaRPr b="0" lang="en-US" sz="16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spcBef>
                <a:spcPts val="4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ажливою передумовою організації обліку матеріалів є їх оцінка. Вона має значення і для більш ефективної організації обробки даних обліку. </a:t>
            </a:r>
            <a:endParaRPr b="0" lang="en-US" sz="16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spcBef>
                <a:spcPts val="4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лік запасів на підприємстві відповідає як умовам виробничого споживання матеріалів, так і вимогам організації складського господарства, і забезпечує виконання однієї з основних завдань обліку - контроль за збереженням запасів під час їх приймання та зберігання.</a:t>
            </a:r>
            <a:endParaRPr b="0" lang="en-US" sz="16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4000" y="692280"/>
            <a:ext cx="77547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b1004"/>
                </a:solidFill>
                <a:latin typeface="Times New Roman"/>
              </a:rPr>
              <a:t>При узагальненні отриманих  результатів, можна спрямувати до наступні висновки:</a:t>
            </a:r>
            <a:br>
              <a:rPr sz="2800"/>
            </a:br>
            <a:endParaRPr b="0" lang="en-US" sz="2800" spc="-1" strike="noStrike">
              <a:solidFill>
                <a:srgbClr val="895d1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684000" y="1989000"/>
            <a:ext cx="80485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262626"/>
                </a:solidFill>
                <a:latin typeface="Times New Roman"/>
              </a:rPr>
              <a:t>1.2. Оборотні активи </a:t>
            </a:r>
            <a:endParaRPr b="0" lang="en-US" sz="1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62626"/>
                </a:solidFill>
                <a:latin typeface="Times New Roman"/>
              </a:rPr>
              <a:t>В трансформованому балансі товариства на кінець року відображені </a:t>
            </a:r>
            <a:r>
              <a:rPr b="0" i="1" lang="ru-RU" sz="1400" spc="-1" strike="noStrike">
                <a:solidFill>
                  <a:srgbClr val="262626"/>
                </a:solidFill>
                <a:latin typeface="Times New Roman"/>
              </a:rPr>
              <a:t>оборотні активи загальною вартістю 77,0 тис. грн., що становить 3,4 % вартості майна товариства, а саме: </a:t>
            </a:r>
            <a:endParaRPr b="0" lang="en-US" sz="1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spcBef>
                <a:spcPts val="34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62626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262626"/>
                </a:solidFill>
                <a:latin typeface="Times New Roman"/>
              </a:rPr>
              <a:t>запаси (рахунки класу 2), облік яких здійснюється згідно П(С)БО-9 “Запаси”, затвердженого наказом МФУ від 20.12.1999 №246. Розмежування та визначення належності засобів праці, що тривалий час знаходяться в експлуатації, до ОЗ та МШП, їх поточний облік здійснено згідно П(С)БО-9 та прийнятої підприємством облікової політики. </a:t>
            </a:r>
            <a:endParaRPr b="0" lang="en-US" sz="1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62626"/>
                </a:solidFill>
                <a:latin typeface="Times New Roman"/>
              </a:rPr>
              <a:t>Оприбуткування ТМЦ здійснюється на основі первинних документів за фактичною собівартістю. Аналітичний облік запасів ведеться в обігово-сальдових відомостях за кожною одиницею бухгалтерського обліку запасів, якою прийнято їх найменування, та в розрізі матеріально-відповідальних осіб. При відпуску запасів у виробництво оцінка їх здійснюється за методом середньозваженого залишку, що передбачено наказом про облікову політику. </a:t>
            </a:r>
            <a:endParaRPr b="0" lang="en-US" sz="1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62626"/>
                </a:solidFill>
                <a:latin typeface="Times New Roman"/>
              </a:rPr>
              <a:t>На дату балансу запаси відображені достовірно (за їх первісною вартістю) і складаються із залишків виробничих запасів в сумі 24,8 тис. грн. ( в т.ч. товарів – 0,8 тис. грн.) та готової продукції – 0,4 тис. грн. </a:t>
            </a:r>
            <a:endParaRPr b="0" lang="en-US" sz="1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62626"/>
                </a:solidFill>
                <a:latin typeface="Times New Roman"/>
              </a:rPr>
              <a:t>В процесі трансформації балансу на дату переходу на МСФЗ для забезпечення порівняності звітних даних за ряд періодів застосовувався один і той же метод визначення собівартості запасів, як того вимагає МСБО-2 «Запаси». На виконання вимог МСБО-2 «Запаси» МШП в сумі 4,7 тис. грн. рекласифіковано в запаси. </a:t>
            </a:r>
            <a:endParaRPr b="0" lang="en-US" sz="1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4000" y="692280"/>
            <a:ext cx="77547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95d1d"/>
                </a:solidFill>
                <a:latin typeface="Times New Roman"/>
              </a:rPr>
              <a:t>АУДИТОРСЬКИЙ ЗВІТ ПРО РЕЗУЛЬТАТИ ДОСЛІДЖЕННЯ </a:t>
            </a:r>
            <a:br>
              <a:rPr sz="2000"/>
            </a:br>
            <a:r>
              <a:rPr b="1" lang="ru-RU" sz="2000" spc="-1" strike="noStrike">
                <a:solidFill>
                  <a:srgbClr val="895d1d"/>
                </a:solidFill>
                <a:latin typeface="Times New Roman"/>
              </a:rPr>
              <a:t>В ХОДІ АУДИТОРСЬКОЇ ПЕРЕВІРКИ ВАТ "ВОЛОЛОДАРСЬКО-ВОЛИНСЬКИЙ ЛЬОНОЗАВОД»" за 2013 рік </a:t>
            </a:r>
            <a:endParaRPr b="0" lang="en-US" sz="20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489" name="Заголовок 2"/>
          <p:cNvSpPr/>
          <p:nvPr/>
        </p:nvSpPr>
        <p:spPr>
          <a:xfrm>
            <a:off x="3492360" y="0"/>
            <a:ext cx="581688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404040"/>
                </a:solidFill>
                <a:latin typeface="Times New Roman"/>
              </a:rPr>
              <a:t>Примірник аудиторського звіту в частині запасі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9040" y="260280"/>
            <a:ext cx="775656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95d1d"/>
                </a:solidFill>
                <a:latin typeface="Times New Roman"/>
              </a:rPr>
              <a:t>1. Мета, завдання та джерела аудиту запасів</a:t>
            </a:r>
            <a:br>
              <a:rPr sz="2800"/>
            </a:br>
            <a:endParaRPr b="0" lang="en-US" sz="36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431" name="Содержимое 1"/>
          <p:cNvSpPr/>
          <p:nvPr/>
        </p:nvSpPr>
        <p:spPr>
          <a:xfrm>
            <a:off x="250920" y="1700280"/>
            <a:ext cx="828180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365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62626"/>
                </a:solidFill>
                <a:latin typeface="Times New Roman"/>
              </a:rPr>
              <a:t>Запаси –це активи які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 algn="just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утримуються для подальшого продажу (розподілу, передачі) за умов звичайної господарської діяльності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 algn="just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перебувають у процесі виробництва з метою подальшого продажу продукту виробництва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 algn="just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утримуються для споживання під час виробництва продукції, виконання робіт та надання послуг, а також управління підприємством/установою. (згідно П(С)БО 9 «Запаси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684000" y="2133360"/>
            <a:ext cx="77454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 </a:t>
            </a:r>
            <a:r>
              <a:rPr b="1" i="1" lang="ru-RU" sz="2600" spc="-1" strike="noStrike">
                <a:solidFill>
                  <a:srgbClr val="873624"/>
                </a:solidFill>
                <a:latin typeface="Times New Roman"/>
              </a:rPr>
              <a:t>Метою аудиту виробничих запасів</a:t>
            </a:r>
            <a:r>
              <a:rPr b="0" lang="ru-RU" sz="2600" spc="-1" strike="noStrike">
                <a:solidFill>
                  <a:srgbClr val="873624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є висловлювання аудиторів думки про те, чи відповідає фінансова інформація щодо руху і залишків виробничих запасів на підприємстві в усіх суттєвих аспектах нормативних документам, які регламентують порядок її підготовки і надання користувачам.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pic>
        <p:nvPicPr>
          <p:cNvPr id="433" name="Picture 4" descr="C:\Users\User\Desktop\слайди\1389230430_c7.jpg"/>
          <p:cNvPicPr/>
          <p:nvPr/>
        </p:nvPicPr>
        <p:blipFill>
          <a:blip r:embed="rId1"/>
          <a:stretch/>
        </p:blipFill>
        <p:spPr>
          <a:xfrm>
            <a:off x="5724360" y="4724280"/>
            <a:ext cx="341964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-360" y="2133720"/>
            <a:ext cx="684036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lnSpc>
                <a:spcPct val="90000"/>
              </a:lnSpc>
              <a:spcBef>
                <a:spcPts val="49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перевірити правильність визнання запасів активами суб’єкта господарювання;</a:t>
            </a: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90000"/>
              </a:lnSpc>
              <a:spcBef>
                <a:spcPts val="49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перевірити, чи відповідають чинному законодавству методи оцінки і обліку виробничих запасів;</a:t>
            </a: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90000"/>
              </a:lnSpc>
              <a:spcBef>
                <a:spcPts val="49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встановити, чи дотримується підприємство прийнятих методів оцінки;</a:t>
            </a: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90000"/>
              </a:lnSpc>
              <a:spcBef>
                <a:spcPts val="49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оцінити стан внутрішнього контролю;</a:t>
            </a: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90000"/>
              </a:lnSpc>
              <a:spcBef>
                <a:spcPts val="49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встановити чи здійснюється контроль за виробничими запасами;</a:t>
            </a: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90000"/>
              </a:lnSpc>
              <a:spcBef>
                <a:spcPts val="49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перевірити чи правильно та своєчасно здійснюється документальне відображення господарських операцій;</a:t>
            </a: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90000"/>
              </a:lnSpc>
              <a:spcBef>
                <a:spcPts val="49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встановити чи немає на підприємстві протизаконних дій, пов’язаних з витрачанням виробничих запасів.</a:t>
            </a: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353440" cy="17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895d1d"/>
                </a:solidFill>
                <a:latin typeface="Times New Roman"/>
                <a:ea typeface="Times New Roman"/>
              </a:rPr>
              <a:t>Завданнями аудиту операцій з виробничими запасами є:</a:t>
            </a:r>
            <a:endParaRPr b="0" lang="en-US" sz="4800" spc="-1" strike="noStrike">
              <a:solidFill>
                <a:srgbClr val="895d1d"/>
              </a:solidFill>
              <a:latin typeface="Times New Roman"/>
            </a:endParaRPr>
          </a:p>
        </p:txBody>
      </p:sp>
      <p:pic>
        <p:nvPicPr>
          <p:cNvPr id="436" name="Picture 2" descr="C:\Users\User\Desktop\слайди\ukrayisnskyyaudyt.jpg"/>
          <p:cNvPicPr/>
          <p:nvPr/>
        </p:nvPicPr>
        <p:blipFill>
          <a:blip r:embed="rId1"/>
          <a:stretch/>
        </p:blipFill>
        <p:spPr>
          <a:xfrm>
            <a:off x="6516720" y="4653000"/>
            <a:ext cx="262728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179280" y="2133720"/>
            <a:ext cx="87854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 algn="just">
              <a:spcBef>
                <a:spcPts val="374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262626"/>
                </a:solidFill>
                <a:latin typeface="Times New Roman"/>
              </a:rPr>
              <a:t>кількісне та якісне приймання запасів від постачальника, а також при внутрішньому переміщенні в міжцеховому напрямку, між матеріально відповідальними особами, складами та виробництвом. </a:t>
            </a:r>
            <a:endParaRPr b="0" lang="en-US" sz="15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spcBef>
                <a:spcPts val="374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262626"/>
                </a:solidFill>
                <a:latin typeface="Times New Roman"/>
              </a:rPr>
              <a:t>умови зберігання запасів і закріплення матеріальної відповідальності. </a:t>
            </a:r>
            <a:endParaRPr b="0" lang="en-US" sz="15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spcBef>
                <a:spcPts val="374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262626"/>
                </a:solidFill>
                <a:latin typeface="Times New Roman"/>
              </a:rPr>
              <a:t>норми витрат сировини і матеріалів на виробництво та їх дотримання – перевіряється обґрунтованість затвердження норм та їх застосування в лімітно-забірних картках і відомостях на витрачання матеріалів;</a:t>
            </a:r>
            <a:endParaRPr b="0" lang="en-US" sz="15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spcBef>
                <a:spcPts val="374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262626"/>
                </a:solidFill>
                <a:latin typeface="Times New Roman"/>
              </a:rPr>
              <a:t> </a:t>
            </a:r>
            <a:r>
              <a:rPr b="0" lang="ru-RU" sz="1500" spc="-1" strike="noStrike">
                <a:solidFill>
                  <a:srgbClr val="262626"/>
                </a:solidFill>
                <a:latin typeface="Times New Roman"/>
              </a:rPr>
              <a:t>первинна документація з обліку запасів досліджується в частині достовірності відображених у ній господарських операцій; </a:t>
            </a:r>
            <a:endParaRPr b="0" lang="en-US" sz="15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spcBef>
                <a:spcPts val="374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262626"/>
                </a:solidFill>
                <a:latin typeface="Times New Roman"/>
              </a:rPr>
              <a:t>бухгалтерський облік та звітність вивчаються в частині достовірності даних щодо залишків та руху виробничих запасів, відображених у них;</a:t>
            </a:r>
            <a:endParaRPr b="0" lang="en-US" sz="15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spcBef>
                <a:spcPts val="374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262626"/>
                </a:solidFill>
                <a:latin typeface="Times New Roman"/>
              </a:rPr>
              <a:t>брак та пошкодження запасів – досліджуються причини, які зумовили виникнення негативних явищ, розмір невиробничих витрат, встановлюються особи, винні в злодіянні шкоди;</a:t>
            </a:r>
            <a:endParaRPr b="0" lang="en-US" sz="15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spcBef>
                <a:spcPts val="374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262626"/>
                </a:solidFill>
                <a:latin typeface="Times New Roman"/>
              </a:rPr>
              <a:t>недостача цінностей та шкода, виявлені при інвентаризації, їх обґрунтованість і відповідальні особи;</a:t>
            </a:r>
            <a:endParaRPr b="0" lang="en-US" sz="15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spcBef>
                <a:spcPts val="374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262626"/>
                </a:solidFill>
                <a:latin typeface="Times New Roman"/>
              </a:rPr>
              <a:t>узагальнюється дослідження інших об’єктів, де виявлена шкода, перевіряється, чи підтверджується їх розмір даними бухгалтерського обліку та іншими зібраними доказами, наскільки правильно встановлену матеріальну відповідальність конкретних працівників і розмір їх відшкодування.</a:t>
            </a:r>
            <a:endParaRPr b="0" lang="en-US" sz="15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7138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895d1d"/>
                </a:solidFill>
                <a:latin typeface="Times New Roman"/>
              </a:rPr>
              <a:t>Об’єктами аудиту виробничих запасів є:</a:t>
            </a: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76360" y="-360"/>
            <a:ext cx="7416720" cy="191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895d1d"/>
                </a:solidFill>
                <a:latin typeface="Times New Roman"/>
                <a:ea typeface="Times New Roman"/>
              </a:rPr>
              <a:t>Джерела інформації для проведення аудиту виробничих запасів</a:t>
            </a:r>
            <a:endParaRPr b="0" lang="en-US" sz="40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95280" y="2247480"/>
            <a:ext cx="835344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 algn="just">
              <a:lnSpc>
                <a:spcPct val="80000"/>
              </a:lnSpc>
              <a:spcBef>
                <a:spcPts val="49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бухгалтерська звітність;</a:t>
            </a: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9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статистична звітність;</a:t>
            </a: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9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регістри бухгалтерського обліку;</a:t>
            </a: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9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документи: типові форми з обліку матеріально-виробничих запасів, договори купівля, протоколи узгодження ціни, і постачання за терміну, асортименту тощо., накладні про поставки і внутрішнє переміщення,лимитно-заборние карта народження і ін.,</a:t>
            </a: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9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облікова політика: графік документообігу, субрахунка і аналітичні рахунки робочому плані рахунків; способи погашення вартості предметів у складі засобів у обороті; оцінка виробничих запасів; відпустку запасів у виробництво; оцінка запасів незавершеного виробництва; наявність і склад комісій по інвентаризація незавершеного виробництва та матеріально-виробничих накупив конвертів, графік і періодичність проведення інвентаризацій незавершеного виробництва та матеріально-виробничих запасів.</a:t>
            </a: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9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395280" y="2205000"/>
            <a:ext cx="856944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d0d0d"/>
                </a:solidFill>
                <a:latin typeface="Times New Roman"/>
              </a:rPr>
              <a:t>Етапи проведення аудиту виробничих запасів:</a:t>
            </a:r>
            <a:endParaRPr b="0" lang="en-US" sz="28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73624"/>
                </a:solidFill>
                <a:latin typeface="Segoe Script"/>
              </a:rPr>
              <a:t>І етап - </a:t>
            </a:r>
            <a:r>
              <a:rPr b="1" i="1" lang="ru-RU" sz="2400" spc="-1" strike="noStrike">
                <a:solidFill>
                  <a:srgbClr val="404040"/>
                </a:solidFill>
                <a:latin typeface="Times New Roman"/>
              </a:rPr>
              <a:t>Планування та визначення аудиторського підходу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73624"/>
                </a:solidFill>
                <a:latin typeface="Segoe Script"/>
              </a:rPr>
              <a:t>ІІ етап – </a:t>
            </a:r>
            <a:r>
              <a:rPr b="1" i="1" lang="ru-RU" sz="2400" spc="-1" strike="noStrike">
                <a:solidFill>
                  <a:srgbClr val="404040"/>
                </a:solidFill>
                <a:latin typeface="Times New Roman"/>
              </a:rPr>
              <a:t>Оцінка системи внутрішнього контролю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73624"/>
                </a:solidFill>
                <a:latin typeface="Segoe Script"/>
              </a:rPr>
              <a:t>ІІІ етап -</a:t>
            </a:r>
            <a:r>
              <a:rPr b="1" i="1" lang="ru-RU" sz="2400" spc="-1" strike="noStrike">
                <a:solidFill>
                  <a:srgbClr val="262626"/>
                </a:solidFill>
                <a:latin typeface="Times New Roman"/>
              </a:rPr>
              <a:t>  </a:t>
            </a:r>
            <a:r>
              <a:rPr b="1" i="1" lang="ru-RU" sz="2400" spc="-1" strike="noStrike">
                <a:solidFill>
                  <a:srgbClr val="404040"/>
                </a:solidFill>
                <a:latin typeface="Times New Roman"/>
              </a:rPr>
              <a:t>Перевірка господарських операцій по суті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73624"/>
                </a:solidFill>
                <a:latin typeface="Segoe Script"/>
              </a:rPr>
              <a:t>І</a:t>
            </a:r>
            <a:r>
              <a:rPr b="1" lang="en-US" sz="2400" spc="-1" strike="noStrike">
                <a:solidFill>
                  <a:srgbClr val="873624"/>
                </a:solidFill>
                <a:latin typeface="Segoe Script"/>
              </a:rPr>
              <a:t>V</a:t>
            </a:r>
            <a:r>
              <a:rPr b="1" lang="ru-RU" sz="2400" spc="-1" strike="noStrike">
                <a:solidFill>
                  <a:srgbClr val="873624"/>
                </a:solidFill>
                <a:latin typeface="Segoe Script"/>
              </a:rPr>
              <a:t> етап -</a:t>
            </a:r>
            <a:r>
              <a:rPr b="1" i="1" lang="ru-RU" sz="2400" spc="-1" strike="noStrike">
                <a:solidFill>
                  <a:srgbClr val="26262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404040"/>
                </a:solidFill>
                <a:latin typeface="Times New Roman"/>
              </a:rPr>
              <a:t>Завершення аудиту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77565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95d1d"/>
                </a:solidFill>
                <a:latin typeface="Times New Roman"/>
              </a:rPr>
              <a:t>2. Послідовність проведення аудиту запасів</a:t>
            </a:r>
            <a:br>
              <a:rPr sz="3600"/>
            </a:br>
            <a:endParaRPr b="0" lang="en-US" sz="3600" spc="-1" strike="noStrike">
              <a:solidFill>
                <a:srgbClr val="895d1d"/>
              </a:solidFill>
              <a:latin typeface="Times New Roman"/>
            </a:endParaRPr>
          </a:p>
        </p:txBody>
      </p:sp>
      <p:pic>
        <p:nvPicPr>
          <p:cNvPr id="443" name="Picture 2" descr="C:\Users\User\Desktop\слайди\audit-doc1.jpg"/>
          <p:cNvPicPr/>
          <p:nvPr/>
        </p:nvPicPr>
        <p:blipFill>
          <a:blip r:embed="rId1"/>
          <a:stretch/>
        </p:blipFill>
        <p:spPr>
          <a:xfrm>
            <a:off x="5940360" y="4292640"/>
            <a:ext cx="320364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0" y="620640"/>
            <a:ext cx="7756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5400" spc="-1" strike="noStrike">
                <a:solidFill>
                  <a:srgbClr val="895d1d"/>
                </a:solidFill>
                <a:latin typeface="Times New Roman"/>
              </a:rPr>
              <a:t>Важливо знати!!!</a:t>
            </a: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468360" y="2204640"/>
            <a:ext cx="8424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b1004"/>
                </a:solidFill>
                <a:latin typeface="Times New Roman"/>
                <a:ea typeface="Times New Roman"/>
              </a:rPr>
              <a:t>При І етапі аудитор звертає увагу на:</a:t>
            </a:r>
            <a:r>
              <a:rPr b="1" i="1" lang="ru-RU" sz="1600" spc="-1" strike="noStrike">
                <a:solidFill>
                  <a:srgbClr val="4b1004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326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терміни проведення інвентаризації;</a:t>
            </a:r>
            <a:endParaRPr b="0" lang="en-US" sz="13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326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ru-RU" sz="13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равильність визначення її результатів;</a:t>
            </a:r>
            <a:endParaRPr b="0" lang="en-US" sz="13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326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вивчає склад комісії та відображення в бухгалтерському обліку даних по інвентаризації.</a:t>
            </a:r>
            <a:endParaRPr b="0" lang="en-US" sz="13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1" i="1" lang="ru-RU" sz="1300" spc="-1" strike="noStrike">
                <a:solidFill>
                  <a:srgbClr val="4b1004"/>
                </a:solidFill>
                <a:latin typeface="Times New Roman"/>
                <a:ea typeface="Times New Roman"/>
              </a:rPr>
              <a:t>При ІІ етапі аудитор звертає увагу на:</a:t>
            </a:r>
            <a:r>
              <a:rPr b="1" i="1" lang="ru-RU" sz="1500" spc="-1" strike="noStrike">
                <a:solidFill>
                  <a:srgbClr val="4b1004"/>
                </a:solidFill>
                <a:latin typeface="Times New Roman"/>
                <a:ea typeface="Times New Roman"/>
              </a:rPr>
              <a:t> </a:t>
            </a:r>
            <a:endParaRPr b="0" lang="en-US" sz="15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34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визначення критичних моментів системи бухгалтерського обліку, в яких можуть бути помилки чи викривлення, і дістає впевненість, що стосовно таких пунктів були розроблені й проведені заходи і процедури, які дають змогу виявити помилки та викривлення ;</a:t>
            </a:r>
            <a:endParaRPr b="0" lang="en-US" sz="1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34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роведення додаткових перевірок на відповідність засобів контролю ефективне тільки у разі, якщо час та зусилля, зекономлені при проведенні перевірок на суттєвість, перевищують час і зусилля, затрачені на проведен­ня перевірок на відповідність засобів контролю</a:t>
            </a:r>
            <a:endParaRPr b="0" lang="en-US" sz="1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4b1004"/>
                </a:solidFill>
                <a:latin typeface="Times New Roman"/>
                <a:ea typeface="Times New Roman"/>
              </a:rPr>
              <a:t>При ІІІ етапі аудитор звертає увагу на:</a:t>
            </a:r>
            <a:endParaRPr b="0" lang="en-US" sz="12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326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своєчасність і правильність документального оформлення, оприбуткування запасів первинними документами;</a:t>
            </a:r>
            <a:endParaRPr b="0" lang="en-US" sz="13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326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ru-RU" sz="13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відображення їх в обліку, також слід перевірити правильність складання актів розбіжності кількості та якості матеріальних цінностей, що надійшли, і своєчасність пред’явлення претензій до постачальників або транспортних організацій;</a:t>
            </a:r>
            <a:endParaRPr b="0" lang="en-US" sz="13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326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еревірку окремих елементів балансу;</a:t>
            </a:r>
            <a:endParaRPr b="0" lang="en-US" sz="13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326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4b1004"/>
                </a:solidFill>
                <a:latin typeface="Times New Roman"/>
                <a:ea typeface="Times New Roman"/>
              </a:rPr>
              <a:t>При І</a:t>
            </a:r>
            <a:r>
              <a:rPr b="1" i="1" lang="en-US" sz="1300" spc="-1" strike="noStrike">
                <a:solidFill>
                  <a:srgbClr val="4b1004"/>
                </a:solidFill>
                <a:latin typeface="Times New Roman"/>
                <a:ea typeface="Times New Roman"/>
              </a:rPr>
              <a:t>V</a:t>
            </a:r>
            <a:r>
              <a:rPr b="1" i="1" lang="ru-RU" sz="1300" spc="-1" strike="noStrike">
                <a:solidFill>
                  <a:srgbClr val="4b1004"/>
                </a:solidFill>
                <a:latin typeface="Times New Roman"/>
                <a:ea typeface="Times New Roman"/>
              </a:rPr>
              <a:t> етапі аудитор звертає увагу на:</a:t>
            </a:r>
            <a:endParaRPr b="0" lang="en-US" sz="13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326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еревірити роботи складу групи аудиторів і вирішити чи до­статньо зібрано свідчень та оцінити результати аудиту;</a:t>
            </a:r>
            <a:endParaRPr b="0" lang="en-US" sz="1300" spc="-1" strike="noStrike">
              <a:solidFill>
                <a:srgbClr val="262626"/>
              </a:solidFill>
              <a:latin typeface="Times New Roman"/>
            </a:endParaRPr>
          </a:p>
        </p:txBody>
      </p:sp>
      <p:pic>
        <p:nvPicPr>
          <p:cNvPr id="446" name="Picture 1" descr=""/>
          <p:cNvPicPr/>
          <p:nvPr/>
        </p:nvPicPr>
        <p:blipFill>
          <a:blip r:embed="rId1"/>
          <a:stretch/>
        </p:blipFill>
        <p:spPr>
          <a:xfrm>
            <a:off x="6659640" y="0"/>
            <a:ext cx="24843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5T19:56:32Z</dcterms:created>
  <dc:creator>Диана</dc:creator>
  <dc:description/>
  <dc:language>en-US</dc:language>
  <cp:lastModifiedBy>Татьяна</cp:lastModifiedBy>
  <dcterms:modified xsi:type="dcterms:W3CDTF">2014-03-07T07:15:21Z</dcterms:modified>
  <cp:revision>37</cp:revision>
  <dc:subject/>
  <dc:title>Презентация PowerPoint</dc:title>
</cp:coreProperties>
</file>