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35.jpeg" ContentType="image/jpeg"/>
  <Override PartName="/ppt/media/image10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7327-A521-44C4-B368-D5E49DDE87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F7B8-95D4-454E-AA6D-E02DB3A7D7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4FB7-E364-47FA-9473-72A126B80B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C94-66F8-41B3-BCAF-C899F1C6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553-8A95-44E5-A006-9DCA5A34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D474-11F2-41D0-878E-E53E84D1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330-FA86-48BF-9CE3-57A3201F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75D0-1890-438F-9968-A3173CF1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555C-9E8C-4F00-8E22-5A515B3E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6C3B-47D3-4841-8431-49C4620C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2976-E482-42BD-8E42-8BF1008C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8E21-4BEA-455F-8100-DE54B232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E1A9-9BF1-43CA-B9D5-32020BE5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9AE6-FA5A-4873-9FD1-90209DC1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458-F698-4A25-982E-D954C6DF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67D8-6461-44D4-AF78-FDE0C894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745C-46B5-4A80-B3E5-6D491C6C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F4F4-5AC4-46EA-8C31-49BD5F54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6570-E939-48C0-958D-250EB6C5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23E2-8989-45FD-A5FC-7C39A31B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1B47D-774A-492D-8A8B-66A815DE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AC8FE-D301-48C0-A105-A2A1DCB6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A9D78-FF06-451C-BBFB-0916B996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6D7C4-1D42-40D9-AC16-6C4ED43A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9EC20-F747-4273-966B-F8164DD8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6ED-8AA8-4BB1-A8F3-5BB7379B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01FA3-F9CA-45CF-8A1B-D66D5890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171C9-4CE9-42A0-B729-17213D24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E1AD6-858A-4176-830F-44DD93A5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152B0-4F7D-42CE-938E-980C689A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0847-CAD4-478E-A970-46DFDB23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55967-56C3-4D74-B07A-7CA88475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0CE9C-C9D0-4AC1-8FE7-864B5346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3A0E5-B399-42D5-95F3-4586E34A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17951-6CC9-44F1-8824-0E4DF024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A7C97-8E43-4990-AF00-B478178C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C8C-71F5-48FC-B353-B5BB1CF8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188C8-E388-4E22-900C-121F1755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0E653-DE33-4BFB-997C-53100324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50314-F25C-40D1-B3A4-FC193A7C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BB893-5FED-443B-9A54-0C03EA4A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2A096-0777-4C95-9177-AF0E7281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A93E0-2551-4A93-ABB6-7A55C9D6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83A24-1A5A-4C53-82A6-83C6D77E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0C446-95B6-4C3A-A7E0-025FC290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7908B-6DAE-4A70-852C-AED8D856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4A94D-CB26-4527-850D-3E2AC4EB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96E5-CF28-49A8-B89B-1B244D1A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13C3E-C8A6-40F2-B2E6-6B8A19D0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0F49C-7775-4F99-89EB-5F00746E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1145F-A7FB-4C40-9DB5-C5852602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FA679-6318-44C8-B6C4-1C281908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87543-7385-4E0C-91F8-083299FB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A5603-8344-45E9-AF5C-30846BEB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83F34-54D3-4802-BE7C-0031BC4D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60BEB-185B-49A0-B983-3AD8DE24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85449-2B7F-4A58-B9BC-49B46336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ED028-5FEA-42C6-8396-61C8D729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748-9AB3-4841-A960-AC96B90E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7E350-01A8-4B4E-96D2-1774C010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64564-07CD-4370-A5DC-B7DD6556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4EFE8-B146-41BB-8D06-880E3436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54C1F-6959-429A-8D27-16A81B18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F27D5-DD78-4669-9CE2-D1D5BB6F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75DF3-F3E9-471B-9680-57A76623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E9511-410F-42D0-9BDE-B675DFDB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E37DF-11D8-4248-9E68-B895D48A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A7DC6-473D-4812-8913-DC051652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4622E-F8AE-431C-A644-65C87A3A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4D2-1D11-452A-AC6D-31C85EC2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8643D-C019-4BF2-848C-97E3BE40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D54DB-6682-4559-A6C1-316E625B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8D3F3-CB1F-4FDD-A5AD-7F8A9C45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21F07-4D43-4BBA-9C5E-8DE7201A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77473-C0FA-477E-8D15-BABDEF28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75C63-862A-41A5-8176-69585E36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8B487-3E8D-42CF-AA28-7830FF1E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8FD20-C8F9-4579-8A8E-0FEF2427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0BEB6-0AF5-4CCA-A5FD-0FD5C909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BA95D-8AA4-4F62-94B8-906D476C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1A1-7589-40FC-8CEF-F5DF4693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CB294-1AAE-4348-80AF-886E636A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03DA1-427F-488B-B450-6962FE00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2FF9A-CE0C-4C32-8C41-D7BF0C2F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DBA6A-ED8C-4B7C-AE31-C6F99376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18D10-F2A4-41A6-8E50-2E78CB70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DB9-7945-4E61-A783-D1AF20F0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9BB2-8747-4E7B-AB88-C6A26FD763F8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9C9D-39EC-432A-8E60-0288632C2DD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5E33-58E2-478C-BFAB-03FDA11CE769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5FC3-4ABA-46B7-A681-63436F94F46E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6BAF-8B96-46A0-A930-0C8C5C80D624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1E2C-E72E-4CBC-8DC7-CAF8F531121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9F0A-C12B-4A26-9E9F-744894FB45BA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ACBD-AF60-47C7-AB8E-E2579649F1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F637-3376-4D0E-A308-6362FDC9882F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95B7-F2BD-47E2-93D5-1AA9B10E3B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D8C2-7F2D-4843-84FB-6047221216CE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7164-4452-4EAF-881A-D1A733146512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6A86-6B7A-44D3-A6DE-D64D5D50BED6}" type="datetime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8A5B-3630-4F39-96BB-0B98F6CC8C21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s://www.president.gov.ua/documents/4182019-27613" TargetMode="External"/><Relationship Id="rId2" Type="http://schemas.openxmlformats.org/officeDocument/2006/relationships/hyperlink" Target="https://zakon.rada.gov.ua/laws/show/436/95" TargetMode="External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179280" y="371880"/>
            <a:ext cx="8856720" cy="36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ЛІК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СОВИХ ОПЕРАЦІЙ ТА ОПЕРАЦІЙ З ІНШИМИ ГРОШОВИМИ КОШ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 вивчен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ісля вивчення лекції студент повинен знат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– 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порядок організації грошового обігу та розрахунків, ведення касових операці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– 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організацію синтетичного та аналітичного обліку готівки й інших грошових кошті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– 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порядок документування касових операцій та операцій з іншими грошовими кошт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142920" y="418320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ісля вивчення лекції студент повинен вміт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– 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икористовувати рахунки 30 “Готівка” та 33 “Інші кошти” для обліку готівки та інших грошових потокі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– 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відображати рух готівкових коштів на рахунках 30 “Готівка” та 33 “Інші кошти”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– 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заповнювати документи з обліку готівки та інших грошових кошті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2FA7-19C6-40BD-A68A-E5424A62F6D3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-6480" y="658800"/>
            <a:ext cx="927360" cy="48466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571400" y="1357200"/>
            <a:ext cx="6715080" cy="142416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Рахунок 30 “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Го</a:t>
            </a: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тівка” має такі </a:t>
            </a:r>
            <a:r>
              <a:rPr b="0" i="1" lang="uk-UA" sz="2000" spc="-1" strike="noStrike">
                <a:solidFill>
                  <a:srgbClr val="000000"/>
                </a:solidFill>
                <a:latin typeface="Century Gothic"/>
              </a:rPr>
              <a:t>субрахунки</a:t>
            </a: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301 “</a:t>
            </a: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Готівка в</a:t>
            </a: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 національ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302 “Готівка в інозем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Прямоугольник 4"/>
          <p:cNvSpPr/>
          <p:nvPr/>
        </p:nvSpPr>
        <p:spPr>
          <a:xfrm>
            <a:off x="1116000" y="3429000"/>
            <a:ext cx="7572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алітичний облік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же вестися за кожною операційною касою або касиром, що забезпечує реалізацію функції збереження майна власника, а також за видами вал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5"/>
          <p:cNvSpPr/>
          <p:nvPr/>
        </p:nvSpPr>
        <p:spPr>
          <a:xfrm>
            <a:off x="1214280" y="357120"/>
            <a:ext cx="75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значений для узагальнення інформації про наявність і рух грошових коштів у касі підприєм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7"/>
          <p:cNvSpPr/>
          <p:nvPr/>
        </p:nvSpPr>
        <p:spPr>
          <a:xfrm>
            <a:off x="214200" y="5445000"/>
            <a:ext cx="864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За дебетом рахунку 30 “Готівка” відображається надходження грошових коштів до каси підприємства, за кредитом – виплата (витрачання) готів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ED67-3945-4B15-A6D8-8D3D04788869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-79200" y="23760"/>
            <a:ext cx="927000" cy="56278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571400" y="1357200"/>
            <a:ext cx="6715080" cy="257184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Рахунок 33 “Інші кошти” має такі </a:t>
            </a:r>
            <a:r>
              <a:rPr b="0" i="1" lang="uk-UA" sz="2000" spc="-1" strike="noStrike">
                <a:solidFill>
                  <a:srgbClr val="000000"/>
                </a:solidFill>
                <a:latin typeface="Century Gothic"/>
              </a:rPr>
              <a:t>субрахунки</a:t>
            </a: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331 “Грошові документи в національ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332 “Грошові документи в інозем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333 “Грошові кошти в дорозі в національній валюті”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Gothic"/>
              </a:rPr>
              <a:t>334 “Грошові кошти в дорозі в іноземній валюті”.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335 "Електронні гроші, номіновані в національній валюті"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1143000" y="4000680"/>
            <a:ext cx="7643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алітичний облік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рошових коштів у дорозі може вестися в розрізі відділень зв’язку та інших установ (організацій), які прийняли перекази за кожним первинним документом, який підтверджує здавання грошових су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857160" y="14292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значений для узагальнення інформації про наявність і рух грошових документів (у національній та іноземній валюті) та про кошти в дороз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285840" y="550080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За дебетом рахунку 33 “Інші кошти” відображається надходження грошових документів до каси підприємства та коштів у дорозі, за кредитом – вибуття грошових документів і списання коштів у дорозі після їх зарахування на відповідні раху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ACF0-D755-450D-BEC1-3700D3285802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15200" cy="578628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хунк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 "ІНШІ КОШТИ"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ться узагальнення інформації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наявність та рух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шових документі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національній 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оземній валюті), які знаходяться в касі підприємства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штови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рок, марок гербового збору, сплачених проїзних документів, сплачених путівок до санаторіїв, пансіонатів, будинків відпочин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що)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них грош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ти в дороз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бто грошові суми, внесені в каси банків, ощадні каси або поштові відділенн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альшого їх зарахування на розрахункові або інші рахун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приємств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9F55-FEEF-4B9B-AEAC-6E04E056FE23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15200" cy="578628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хунку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5 "ЕЛЕКТРОННІ ГРОШІ, НОМІНОВАНІ В НАЦІОНАЛЬНІЙ ВАЛЮТІ"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ображаються операції з електронними грошима, які здійснюються комерційними агентами та користувачами, відповідно до нормативно-правових актів Національного банку України та правил використання електронних грошей, узгоджених з Національним банком України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C769-F72F-4E07-B1DB-EC5EE1F5B712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15200" cy="578628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ні грош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диниці вартості, які зберігаються на електронному пристрої, приймаються як засіб платежу іншим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ами, ніж особа, яка їх випускає, і є грошовим зобов'язанням цієї особи, що виконується в готівковій або безготівковій формі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цьому з метою бухгалтерського обліку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знаються електронними грошим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еред оплачені картки одноцільового використання: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контні картки торговців, картки автозаправних 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нцій, квитки для проїзду в міському транспорті тощо, які приймаються як засіб платежу виключно їх емітент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28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536400" y="66600"/>
            <a:ext cx="8326440" cy="1122480"/>
          </a:xfrm>
          <a:prstGeom prst="rect">
            <a:avLst/>
          </a:prstGeom>
          <a:ln w="0">
            <a:noFill/>
          </a:ln>
        </p:spPr>
      </p:pic>
      <p:pic>
        <p:nvPicPr>
          <p:cNvPr id="354" name="Подзаголовок 2" descr=""/>
          <p:cNvPicPr/>
          <p:nvPr/>
        </p:nvPicPr>
        <p:blipFill>
          <a:blip r:embed="rId2"/>
          <a:stretch/>
        </p:blipFill>
        <p:spPr>
          <a:xfrm>
            <a:off x="433440" y="1444680"/>
            <a:ext cx="8246880" cy="1816200"/>
          </a:xfrm>
          <a:prstGeom prst="rect">
            <a:avLst/>
          </a:prstGeom>
          <a:ln w="0">
            <a:noFill/>
          </a:ln>
        </p:spPr>
      </p:pic>
      <p:grpSp>
        <p:nvGrpSpPr>
          <p:cNvPr id="355" name="Прямоугольник 3"/>
          <p:cNvGrpSpPr/>
          <p:nvPr/>
        </p:nvGrpSpPr>
        <p:grpSpPr>
          <a:xfrm>
            <a:off x="-96840" y="3797280"/>
            <a:ext cx="9107640" cy="2481120"/>
            <a:chOff x="-96840" y="3797280"/>
            <a:chExt cx="9107640" cy="2481120"/>
          </a:xfrm>
        </p:grpSpPr>
        <p:pic>
          <p:nvPicPr>
            <p:cNvPr id="356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-96840" y="3797280"/>
              <a:ext cx="9107640" cy="24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0" y="3835440"/>
              <a:ext cx="892980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У касі підприємства може зберігатися готівка, цінні папери, придбані у інших підприємств (акції, облігації тощо), грошові документи, які є бланками суворого обліку (трудові книжки та вкладні листки до них, квитанції подорожніх листів автотранспорту, бланки довіреностей тощо)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Грошовими документами</a:t>
              </a:r>
              <a:r>
                <a:rPr b="1" i="1" lang="uk-UA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</a:t>
              </a: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вважаються документи, які знаходяться в касі підприємства: оплачені путівки в санаторії, пансіонати та будинки відпочинку; поштові марки; проїзні квитки тощ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378000" y="268200"/>
            <a:ext cx="7583400" cy="13716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80880" y="1990440"/>
            <a:ext cx="81201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entury Gothic"/>
              </a:rPr>
              <a:t>Посадова матеріально відповідальна особа, яка завідує касою, видачею та прийманням грошей і цінних паперів на підприємстві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F722-9338-4034-AE5C-146EF7336C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-165240" y="-49320"/>
            <a:ext cx="9455400" cy="15066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142920" y="1752120"/>
            <a:ext cx="8858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Гранична сума готівкового розрахунку одного підприємства (підприємця) з іншим підприємством (підприємцем) протягом одного дня за одним або кількома платіжними документами встановлюється відповідною постановою Правління Національного банку України. Платежі понад зазначену граничну суму проводяться виключно в безготівковій формі. Кількість підприємств (підприємців), з якими здійснюються розрахунки, протягом дня не обмежується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AECF-67DD-4A75-9714-70EA0F5A76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Зазначені обмеження не поширюються 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1) розрахунків суб'єктів господарювання з бюджетами та державними цільовими фондами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2) добровільних пожертвувань та благодійної допомоги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3) використання готівки, виданої на відрядження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4) виплат, пов'язаних з оплатою прац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5) використання готівкових коштів з фонду оперативно-розшукових (негласних слідчих) дій, створеного на виконання ч. 3 статті 24 Закону України "Про Національне антикорупційне бюро України"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'єкти господарювання мають право здійснювати розрахунки готівкою протягом одного дня за одним або кількома платіжними документами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між собою - у розмірі до 10000 (десяти тисяч) гривень включно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 фізичними особами - у розмірі до 50000 (п'ятдесяти тисяч) гривень включн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4D59-8C5C-4201-8F51-19D017D815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219240" y="60480"/>
            <a:ext cx="7626240" cy="15793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Object 1"/>
          <p:cNvGraphicFramePr/>
          <p:nvPr/>
        </p:nvGraphicFramePr>
        <p:xfrm>
          <a:off x="919080" y="2284560"/>
          <a:ext cx="7948800" cy="397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9080" y="2284560"/>
                    <a:ext cx="7948800" cy="39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95280" y="259920"/>
            <a:ext cx="829152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7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ичні особи мають право здійснювати розрахунки готівкою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576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з суб'єктами господарювання протягом одного дня за одним або кількома платіжними документами - у розмірі до 50 000 (п'ятдесяти тисяч) гривень уключн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600">
              <a:lnSpc>
                <a:spcPct val="100000"/>
              </a:lnSpc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іж собою за договорами купівлі-продажу, які підлягають нотаріальному посвідченню, у розмірі до 50 000 (п'ятдесяти тисяч) гривень уключно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ежі на суму, яка перевищує 50 000 гривень, здійснюються шляхом переказу коштів з поточного рахунку на поточний рахунок або внесення та/або переказу коштів на поточні рахунки (у тому числі на депозит нотаріуса на окремий поточний рахунок у національній валюті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7600" algn="just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FB0B-579D-4D6E-B237-9B392886C2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івка видається під звіт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а закупівлю сільськогосподарської продукції та заготівлю вторинної сировини на строк не більше 10 робочих днів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а закупівлю брухту чорних металів і брухту кольорових металів - на строк не більше 30 робочих днів від дня видачі готівки під звіт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а всі інші виробничі (господарські) потреби - на строк не більше двох робочих днів, уключаючи день отримання готівки під звіт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5061-30EA-4B37-B2DC-4B3BDB272D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ймання і видача готівки за касовими ордерами проводиться тільки в день їх складанн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правлення в касових ордерах та видаткових відомостях забороняютьс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E740-5B18-4C56-8823-8C44D3DE2F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Номер слайда 28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493560" y="1994040"/>
            <a:ext cx="8332920" cy="1481040"/>
          </a:xfrm>
          <a:prstGeom prst="rect">
            <a:avLst/>
          </a:prstGeom>
          <a:ln w="0">
            <a:noFill/>
          </a:ln>
        </p:spPr>
      </p:pic>
      <p:pic>
        <p:nvPicPr>
          <p:cNvPr id="375" name="Подзаголовок 2" descr=""/>
          <p:cNvPicPr/>
          <p:nvPr/>
        </p:nvPicPr>
        <p:blipFill>
          <a:blip r:embed="rId2"/>
          <a:stretch/>
        </p:blipFill>
        <p:spPr>
          <a:xfrm>
            <a:off x="426960" y="420840"/>
            <a:ext cx="8315280" cy="184140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3" descr=""/>
          <p:cNvPicPr/>
          <p:nvPr/>
        </p:nvPicPr>
        <p:blipFill>
          <a:blip r:embed="rId3"/>
          <a:stretch/>
        </p:blipFill>
        <p:spPr>
          <a:xfrm>
            <a:off x="225360" y="3932280"/>
            <a:ext cx="84852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F0D0-F975-40C9-8B0D-8DE5B8D738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900432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6BB5-EB6D-42E0-8CBB-68AC722A6B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83152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9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19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міт каси вважається нульовим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установою/підприємством його не встановлено (незалежно від причин такого невстановлення)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19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19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я готівка, що перебуває в касі установи/підприємства на кінець робочого дня і не здана нею/ним відповідно до вимог Положення № 148, уважається понадлімітною, якщо установою/підприємством ліміт каси не встановлено (незалежно від причин такого невстановлення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B207-3DDD-40B5-AFAB-BBC5038F36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56DA-7431-49C8-951E-37FC7BE601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Схема 7" descr=""/>
          <p:cNvPicPr/>
          <p:nvPr/>
        </p:nvPicPr>
        <p:blipFill>
          <a:blip r:embed="rId1"/>
          <a:stretch/>
        </p:blipFill>
        <p:spPr>
          <a:xfrm>
            <a:off x="115920" y="1968480"/>
            <a:ext cx="9551880" cy="5157720"/>
          </a:xfrm>
          <a:prstGeom prst="rect">
            <a:avLst/>
          </a:prstGeom>
          <a:ln w="0">
            <a:noFill/>
          </a:ln>
        </p:spPr>
      </p:pic>
      <p:pic>
        <p:nvPicPr>
          <p:cNvPr id="386" name="Заголовок 4" descr=""/>
          <p:cNvPicPr/>
          <p:nvPr/>
        </p:nvPicPr>
        <p:blipFill>
          <a:blip r:embed="rId2"/>
          <a:stretch/>
        </p:blipFill>
        <p:spPr>
          <a:xfrm>
            <a:off x="73080" y="-6480"/>
            <a:ext cx="90644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A87E-3D6F-47A1-A553-A92644FA28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219240" y="384120"/>
            <a:ext cx="899784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6763-83D4-4E58-9A2D-DE070A0440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14200" y="142560"/>
            <a:ext cx="87868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Підприємства мають право зберігати у своїй касі готівку, одержану в банку для виплат, що належать до фонду оплати праці, а також пенсій, стипендій, дивідендів (доходу), 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над установлений ліміт каси протягом трьох робочих днів, уключаючи день одержання готівки в банку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. Для проведення цих виплат працівникам віддалених відокремлених підрозділів підприємств залізничного транспорту та морських портів готівка може зберігатися в їх касах понад установлений ліміт каси протягом п’яти робочих днів, уключаючи день одержання готівки в банку. 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Готівка, що одержана в банку на інші виплати, має видаватися підприємством своїм працівникам у той самий день. Суми готівки, що одержані в банку і не використані за призначенням протягом установлених вище строків, повертаються підприємством до банку не пізніше наступного робочого дня банку або можуть залишатися в його касі (у межах установленого ліміту)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37FF-439B-4948-BB53-28CE7F774E2D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4"/>
          <p:cNvSpPr/>
          <p:nvPr/>
        </p:nvSpPr>
        <p:spPr>
          <a:xfrm>
            <a:off x="214200" y="642960"/>
            <a:ext cx="85010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СТАНОВА ПРАВЛІННЯ НАЦІОНАЛЬНОГО БАНКУ УКРАЇН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від 29 грудня 2017 р. № 14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ро затвердження </a:t>
            </a: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ложення про ведення касових операцій у національній  валюті в Україн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що визначає порядок ведення касових операцій у національній валюті України підприємствами (підприємцями), а також окремі питання організації банками роботи з готівко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9047-C83D-47E2-8D96-4ECF1C4CFC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-6480" y="-182520"/>
            <a:ext cx="9156960" cy="18828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0" y="1428840"/>
          <a:ext cx="9144000" cy="3103560"/>
        </p:xfrm>
        <a:graphic>
          <a:graphicData uri="http://schemas.openxmlformats.org/drawingml/2006/table">
            <a:tbl>
              <a:tblPr/>
              <a:tblGrid>
                <a:gridCol w="388800"/>
                <a:gridCol w="5764320"/>
                <a:gridCol w="2990880"/>
              </a:tblGrid>
              <a:tr h="8175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0" i="1" lang="uk-U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/п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1154160"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йменування показникі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актично за три будь-які місяці поспіль з останніх дванадцяти, що передують строку встановлення (перегляду) ліміту кас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25200" rIns="252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тівкова виручка (надходження до кас, крім сум, що одержані з банк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едньоденні надходження (рядок 1 розділити на кількість робочих днів підприємства за три місяці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1866960"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плачено готівкою на різні потреби, а/також на відрядження (крім виплат, пов'язаних з оплатою праці, пенсій, стипендій, дивідендів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едньоденна видача готівки (рядок 3 розділити на кількість робочих днів підприємства за три місяці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0" y="4572000"/>
          <a:ext cx="9144000" cy="642960"/>
        </p:xfrm>
        <a:graphic>
          <a:graphicData uri="http://schemas.openxmlformats.org/drawingml/2006/table">
            <a:tbl>
              <a:tblPr/>
              <a:tblGrid>
                <a:gridCol w="4429080"/>
                <a:gridCol w="4714920"/>
              </a:tblGrid>
              <a:tr h="268200">
                <a:tc>
                  <a:txBody>
                    <a:bodyPr lIns="25200" rIns="25200" tIns="0" bIns="0" anchor="t">
                      <a:noAutofit/>
                    </a:bodyPr>
                    <a:p>
                      <a:pPr marL="8287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йменування показник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609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тановлено підприємство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Ліміт залишку готівки в кас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0" y="5270400"/>
          <a:ext cx="9144000" cy="1444680"/>
        </p:xfrm>
        <a:graphic>
          <a:graphicData uri="http://schemas.openxmlformats.org/drawingml/2006/table">
            <a:tbl>
              <a:tblPr/>
              <a:tblGrid>
                <a:gridCol w="4429080"/>
                <a:gridCol w="4714920"/>
              </a:tblGrid>
              <a:tr h="834480">
                <a:tc>
                  <a:txBody>
                    <a:bodyPr lIns="25200" rIns="25200" tIns="0" bIns="0" anchor="ctr">
                      <a:noAutofit/>
                    </a:bodyPr>
                    <a:p>
                      <a:pPr marL="819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йменування показник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60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значається строк здавання готівкової виручки (готівки) та зазначаються реквізити договорів банківських рахункі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Строки здавання готівкової виручки (готівк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D6CC-D4C4-4ECE-8B73-75DC6B80D2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50920" y="6206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6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06.2019 року набрав чинності 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6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1"/>
              </a:rPr>
              <a:t>Указ Президента України від 20.06.2019 р. № 418/2019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им скасовано низку попередніх Указів, зокрема </a:t>
            </a:r>
            <a:r>
              <a:rPr b="0" lang="ru-RU" sz="3000" spc="-1" strike="noStrike" u="sng">
                <a:solidFill>
                  <a:srgbClr val="5f5f5f"/>
                </a:solidFill>
                <a:uFillTx/>
                <a:latin typeface="Times New Roman"/>
                <a:ea typeface="Times New Roman"/>
                <a:hlinkClick r:id="rId2"/>
              </a:rPr>
              <a:t>Указ від 12.06.1995 р. № 436 «Про застосування штрафних санкцій за порушення норм з регулювання обігу готівки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6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6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Gothic"/>
              </a:rPr>
              <a:t>Фінансова відповідальність за порушення норм використання готівки скасован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6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лишилась АДМ</a:t>
            </a:r>
            <a:r>
              <a:rPr b="1" lang="uk-UA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НІСТРАТИВНА відповідальність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Номер слайда 5"/>
          <p:cNvSpPr/>
          <p:nvPr/>
        </p:nvSpPr>
        <p:spPr>
          <a:xfrm>
            <a:off x="8450280" y="809640"/>
            <a:ext cx="503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6295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іністративна відповідальні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гляді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у від 100 до 200 неоподатковуваних мінімумів доходів громадян, тобто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1700 до 3400 гр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за порушення порядку проведення готівкових розрахунків за товари (послуги), у т.ч.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еревищення граничних сум розрахунків готівкою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дотримання установлених законодавством вимог щодо забезпечення можливості розрахунків за товари (послуги) з використанням електронних платіжних засобів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вторне порушення протягом рок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штраф від 500 до 1000 неоподатковуваних мінімумів доходів громадян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ід 8500 до 17000 грн.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ові операції оформляються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овими ордерами, видатковими відомостями, розрахунковими документами, документами за операціями із застосуванням електронних платіжних засобів, іншими касовими документами, які згідно із законодавством України підтверджували б факт продажу (повернення) товарів, надання послуг, отримання (повернення) готівки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ові документи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уть бути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еровими або електронним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лектронні касові документи повинні бути оформлені відповідно до вимог законодавства України у сфері електронного документообігу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 установи/підприємства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ідписання електронного касового документ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обов’язаний використовувати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іфікований електронний підпис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FB81-92CC-4673-923C-C9CD3D075D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259920"/>
            <a:ext cx="822960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м, що свідчить про здавання виручки до банку та є підтвердженням оприбуткування готівки в касі суб'єктів господарюванн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є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витанція до прибуткового документа банку на внесення готівки, підписана відповідальними особами банку та засвідчена відбитком печатки банку (за потреби)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витанція/чек банкомата чи програмно-технічного комплексу самообслуговування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третій примірник "Копія супровідної відомості до сумки з готівкою", засвідчений підписом та відбитком печатки інкасатора-збирача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чек платіжного термінала в разі проведення інкасації коштів у режимі реального часу з використанням платіжних терміналів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1200">
              <a:lnSpc>
                <a:spcPct val="10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AF28-3D0D-45A2-8FE9-8E3530071F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10D8-4792-4CDF-AA0C-B9EF11D6962B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79200" y="-146160"/>
            <a:ext cx="1060560" cy="670572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4"/>
          <p:cNvSpPr/>
          <p:nvPr/>
        </p:nvSpPr>
        <p:spPr>
          <a:xfrm>
            <a:off x="1428840" y="357120"/>
            <a:ext cx="75722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асові операції оформлюються документами, типові міжвідомчі форми яких затверджені Міністерством статистики України за згодою Національного банку України та Міністерства фінансів України, і які повинні застосовуватися без змін на всіх підприємствах, незалежно від їх відомчої підпорядкованості та форми власності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Rectangle 1" descr=""/>
          <p:cNvPicPr/>
          <p:nvPr/>
        </p:nvPicPr>
        <p:blipFill>
          <a:blip r:embed="rId2"/>
          <a:stretch/>
        </p:blipFill>
        <p:spPr>
          <a:xfrm>
            <a:off x="1749600" y="2925720"/>
            <a:ext cx="69246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B753-8560-43AA-80DE-5616B05D44B6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42472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9865-342B-48D3-9C61-58AD000B1693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58680" y="644400"/>
            <a:ext cx="898704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698F-0880-4CA2-AEE3-C0ADC0D66EE4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73080" y="71280"/>
            <a:ext cx="8999640" cy="5016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2"/>
          <a:stretch/>
        </p:blipFill>
        <p:spPr>
          <a:xfrm>
            <a:off x="57240" y="3857760"/>
            <a:ext cx="9015480" cy="280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4419-8E8A-4332-A832-047F447800C5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131760" y="258840"/>
            <a:ext cx="8869320" cy="61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19" name="Подзаголовок 2" descr=""/>
          <p:cNvPicPr/>
          <p:nvPr/>
        </p:nvPicPr>
        <p:blipFill>
          <a:blip r:embed="rId2"/>
          <a:stretch/>
        </p:blipFill>
        <p:spPr>
          <a:xfrm>
            <a:off x="396720" y="2664000"/>
            <a:ext cx="831384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Номер слайда 4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72EE-2DD3-497A-B14B-A0570F5CD04D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1114560" y="31680"/>
            <a:ext cx="62434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B384-D41D-40EB-8026-8A2E89CDA0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Заголовок 7" descr=""/>
          <p:cNvPicPr/>
          <p:nvPr/>
        </p:nvPicPr>
        <p:blipFill>
          <a:blip r:embed="rId1"/>
          <a:stretch/>
        </p:blipFill>
        <p:spPr>
          <a:xfrm>
            <a:off x="-6480" y="-182520"/>
            <a:ext cx="9345600" cy="16509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1214280" y="3427200"/>
            <a:ext cx="6858000" cy="15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4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9a003b"/>
                </a:solidFill>
                <a:uFillTx/>
                <a:latin typeface="Arial"/>
                <a:ea typeface="Arial"/>
              </a:rPr>
              <a:t>ВИТРАЧАННЯ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отівки з каси оформлюється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видатковим касовим ордером (ВКО)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. Він підписується керівником і головним бухгалтером підприємства або особами, ними уповноваженим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58104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ВКО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000080" y="1647720"/>
            <a:ext cx="6858000" cy="18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100000"/>
              </a:lnSpc>
              <a:spcBef>
                <a:spcPts val="4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9a003b"/>
                </a:solidFill>
                <a:uFillTx/>
                <a:latin typeface="Arial"/>
                <a:ea typeface="Arial"/>
              </a:rPr>
              <a:t>ОПРИБУТКУВАННЯ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готівки в касу здійснюється на підставі 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прибуткового касового ордера (ПКО)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Arial"/>
              </a:rPr>
              <a:t> підписаного головним бухгалтером, або уповноваженими на це особами письмовим розпорядженням керівника підприємства, і касиром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0" y="1339560"/>
            <a:ext cx="58104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entury Gothic"/>
              </a:rPr>
              <a:t>ПКО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Прямоугольник 6"/>
          <p:cNvSpPr/>
          <p:nvPr/>
        </p:nvSpPr>
        <p:spPr>
          <a:xfrm>
            <a:off x="142920" y="5000760"/>
            <a:ext cx="8858160" cy="1830600"/>
          </a:xfrm>
          <a:prstGeom prst="rect">
            <a:avLst/>
          </a:prstGeom>
          <a:solidFill>
            <a:srgbClr val="000000">
              <a:alpha val="17000"/>
            </a:srgbClr>
          </a:solidFill>
          <a:ln w="9360">
            <a:solidFill>
              <a:srgbClr val="ffffff"/>
            </a:solidFill>
            <a:prstDash val="sysDash"/>
            <a:miter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Arial"/>
              </a:rPr>
              <a:t>У прибуткових і видаткових касових ордерах, які оформлюються на загальну суму проведених підприємством касових операцій (видача готівки за платіжними (розрахунково-платіжними) відомостями, за платіжними картками, здавання готівки до банку, отримання готівки з банку за чеком та оприбуткування її в касі тощо), реквізит “Отримувач” або “Від кого” не заповнюєтьс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0C5D-A598-4011-B0D6-C3876B5AC9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ймання готівки в каси проводиться за прибутковими касовими ордерами, підписаними головним бухгалтером або особою, уповноваженою керівником підприємства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 приймання підприємствами готівки в касу за прибутковими касовими ордерами видається засвідчена відбитком печатки цього підприємства квитанція (що є відривною частиною прибуткового касового ордера) за підписами головного бухгалтера або працівника підприємства, який на це уповноважений керівником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0AC2-6865-4ED6-91D2-188126390C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42920" y="21420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У разі видачі окремим фізичним особам готівки (у тому числі працівникам підприємства) за видатковим касовим ордером або видатковою відомістю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асир вимагає пред’явити паспорт чи документ, що його замінює, записує його найменування і номер, ким і коли він виданий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. Фізична особа розписується у видатковому касовому ордері або видатковій відомості про одержання готівки із зазначенням одержаної суми (гривень — словами, копійок — цифрами), використовуючи чорнильну або кулькову ручку з чорнилом темного кольору. Якщо видаткова відомість складена на видачу готівки кільком особам, то одержувачі також пред’являють паспорти чи документи, що їх замінюють, і розписуються у відповідній графі документа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1A99-8A49-4290-9EF0-0081E68DB3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8920" algn="just">
              <a:lnSpc>
                <a:spcPct val="80000"/>
              </a:lnSpc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кщо видача готівки проводиться за довіреністю, оформленою у встановленому порядку згідно із законодавством України, у тому числі й особи, що не має змоги у зв’язку з хворобою або з інших поважних причин поставити підпис власноручно, то в тексті ордера після прізвища, імені та по батькові одержувача готівки бухгалтер зазначає прізвище, ім’я та по батькові особи, якій довірено одержати готівку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358920" algn="just">
              <a:lnSpc>
                <a:spcPct val="80000"/>
              </a:lnSpc>
              <a:buClr>
                <a:srgbClr val="a6a6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разі видачі готівки за видатковою відомістю перед підписом про одержання грошей касир робить у ній напис “За довіреністю”. Видача готівки за довіреністю проводиться відповідно до вимог, передбачених у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пункті 3.5 цієї глав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Довіреність залишається в касира і додається до видаткового касового ордера або видаткової відомості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FA38-746A-4CC2-B978-76F532C260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85480" y="142920"/>
            <a:ext cx="8643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ісля закінчення встановлених строків виплат, пов’язаних з оплатою праці за видатковими відомостями, касир зобов’язаний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у видатковій відомості проти прізвища осіб, яким не здійснено виплату, поставити відбиток штампа або зробити напис “Депоновано"; скласти реєстр депонованих сум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у кінці видаткової відомості зазначити фактично виплачену суму та недоодержану суму виплат, яка підлягає депонуванню, звірити ці суми із загальним підсумком за видатковою відомістю і засвідчити напис своїм підписом. Якщо готівкові кошти видавалися не касиром, а іншою особою, то на відомості додатково робиться напис “Готівку за відомістю видав (підпис)"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 здійснити відповідний запис у касовій книзі згідно з виписаним бухгалтерією видатковим касовим ордером на фактично видану суму за видатковою відомістю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D352-2845-491C-A71D-66B13A2B3B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14200" y="1371600"/>
            <a:ext cx="8715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У касових ордерах, які оформляються на загальну суму проведених підприємством касових операцій (видача готівки за видатковими відомостями, платіжними картками, здавання готівки до банку, отримання готівки з банку за чеком та оприбуткування її в касі тощо), реквізит “Одержав” або “Прийнято від” не заповнюється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Номер слайда 22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1080-AE1F-4C41-9720-06E22487A6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309160" cy="140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9" name=""/>
          <p:cNvGraphicFramePr/>
          <p:nvPr/>
        </p:nvGraphicFramePr>
        <p:xfrm>
          <a:off x="142920" y="2000160"/>
          <a:ext cx="8858160" cy="4632480"/>
        </p:xfrm>
        <a:graphic>
          <a:graphicData uri="http://schemas.openxmlformats.org/drawingml/2006/table">
            <a:tbl>
              <a:tblPr/>
              <a:tblGrid>
                <a:gridCol w="733320"/>
                <a:gridCol w="3537000"/>
                <a:gridCol w="3059280"/>
                <a:gridCol w="1528560"/>
              </a:tblGrid>
              <a:tr h="615960"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сподарська операці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ідста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бет рахун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 rowSpan="3"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давання готівкової виручки до банку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320" rIns="673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’ява на внесення готів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0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0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 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стій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 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ляхом інкасації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провідна відомі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ача під звіт на господарські потреб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каз керівника підприєм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ача під звіт на відрядже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каз керівника підприємства, посвідчення на відрядже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плата заробітної плати, допомоги, матеріальної допомог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тіжна (розрахунково-платіжна) відомі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0" name="Прямоугольник 3"/>
          <p:cNvSpPr/>
          <p:nvPr/>
        </p:nvSpPr>
        <p:spPr>
          <a:xfrm>
            <a:off x="285840" y="113976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Таблиця 1. Документи, які є підставою для оформлення видаткових касових ордері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Номер слайда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27D8-0BC6-4995-9C74-830705E27E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51920" y="142560"/>
            <a:ext cx="899172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Щоденно в кінці робочого дня касир підсумовує операції за день, виводить залишок готівки в касі на початок наступного дня і передає до бухгалтерії я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віт касира другі примірники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що є відривною частиною аркуша касової книги (копію записів у касовій книзі за день), з прибутковими і видатковими касовими ордерами під підпис у касовій книзі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жне підприємство (юридична особа), що має касу, вед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дну касову книгу для обліку операцій з готівкою в національній валют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без урахування кас відокремлених підрозділів)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0FB8-3660-4EE0-A830-4BEE11161787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500040" y="356760"/>
            <a:ext cx="8215200" cy="68580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Century Gothic"/>
              </a:rPr>
              <a:t>Таблиця 2. Документи, які підтверджують рух готівки підприємств у сфері торгівлі, громадського харчування та послуг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14200" y="1357200"/>
          <a:ext cx="8786880" cy="5000760"/>
        </p:xfrm>
        <a:graphic>
          <a:graphicData uri="http://schemas.openxmlformats.org/drawingml/2006/table">
            <a:tbl>
              <a:tblPr/>
              <a:tblGrid>
                <a:gridCol w="411120"/>
                <a:gridCol w="1435320"/>
                <a:gridCol w="2406600"/>
                <a:gridCol w="453384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 </a:t>
                      </a: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докумен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винні докумен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значення документ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КЧ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іскальний касовий чек на товари (послуг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рахунковий документ, надрукований реєстратором розрахункових операцій при проведенні розрахунків за продані товари (надані послуг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КЧ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іскальний касовий чек видачі кошті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рахунковий документ, надрукований реєстратором розрахункових операцій при проведенні розрахунків у випадку видачі коштів покупцеві при поверненні товару, рекомпенсації послуги, прийнятті цінностей під заставу, виплаті виграшів у державні лотереї та в інших випадк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К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рахункова квитанц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зрахунковий документ, бланк якого виготовлено друкарським способом, а окремі реквізити заповнюються від руки або шляхом проштампування при реєстрації розрахунків за продані товари (надані послуги) або при видачі коштів покупцеві у випадку повернення товару, рекомпенсації послуги, прийняття цінностей під заставу та в інших випадк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21" name="Подзаголовок 2" descr=""/>
          <p:cNvPicPr/>
          <p:nvPr/>
        </p:nvPicPr>
        <p:blipFill>
          <a:blip r:embed="rId2"/>
          <a:stretch/>
        </p:blipFill>
        <p:spPr>
          <a:xfrm>
            <a:off x="396720" y="2664000"/>
            <a:ext cx="831384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Номер слайда 28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E962-B54B-45D4-9772-66BCBF72CCDA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725400" y="347760"/>
            <a:ext cx="7875720" cy="1914480"/>
          </a:xfrm>
          <a:prstGeom prst="rect">
            <a:avLst/>
          </a:prstGeom>
          <a:ln w="0">
            <a:noFill/>
          </a:ln>
        </p:spPr>
      </p:pic>
      <p:sp>
        <p:nvSpPr>
          <p:cNvPr id="448" name="Прямоугольник 3"/>
          <p:cNvSpPr/>
          <p:nvPr/>
        </p:nvSpPr>
        <p:spPr>
          <a:xfrm>
            <a:off x="714240" y="3286080"/>
            <a:ext cx="8286840" cy="1144800"/>
          </a:xfrm>
          <a:prstGeom prst="rect">
            <a:avLst/>
          </a:prstGeom>
          <a:gradFill rotWithShape="0">
            <a:gsLst>
              <a:gs pos="0">
                <a:srgbClr val="e9e9e9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У кінці кожного робочого дня касир підбиває підсумки операцій за день, виводить залишок грошей в касі на наступне число та передає до бухгалтерії звіт касир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Прямоугольник 4"/>
          <p:cNvSpPr/>
          <p:nvPr/>
        </p:nvSpPr>
        <p:spPr>
          <a:xfrm>
            <a:off x="214200" y="5143680"/>
            <a:ext cx="8643960" cy="151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Звіт касир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це документ, який передається касиром підприємства в бухгалтерію, і є відривним листком Касової книги з додатком прибуткових і видаткових касових документів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Номер слайда 6"/>
          <p:cNvSpPr/>
          <p:nvPr/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9C56-CE18-4967-BB58-1E635FEEA389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Прямоугольник 4"/>
          <p:cNvSpPr/>
          <p:nvPr/>
        </p:nvSpPr>
        <p:spPr>
          <a:xfrm>
            <a:off x="785880" y="2413080"/>
            <a:ext cx="7929360" cy="265356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У кінці місяця бухгалтер збирає всі касові звіти з підшитими до них первинними документами за датами в зростаючому порядку та зшиває в окрему папку. Контроль за правильним веденням Касової книги здійснює головний бухгалтер підприєм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378000" y="268200"/>
            <a:ext cx="7437240" cy="1371600"/>
          </a:xfrm>
          <a:prstGeom prst="rect">
            <a:avLst/>
          </a:prstGeom>
          <a:ln w="0">
            <a:noFill/>
          </a:ln>
        </p:spPr>
      </p:pic>
      <p:pic>
        <p:nvPicPr>
          <p:cNvPr id="323" name="Текст 2" descr=""/>
          <p:cNvPicPr/>
          <p:nvPr/>
        </p:nvPicPr>
        <p:blipFill>
          <a:blip r:embed="rId2"/>
          <a:stretch/>
        </p:blipFill>
        <p:spPr>
          <a:xfrm>
            <a:off x="573120" y="1920960"/>
            <a:ext cx="760716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25" name="Подзаголовок 2" descr=""/>
          <p:cNvPicPr/>
          <p:nvPr/>
        </p:nvPicPr>
        <p:blipFill>
          <a:blip r:embed="rId2"/>
          <a:stretch/>
        </p:blipFill>
        <p:spPr>
          <a:xfrm>
            <a:off x="414360" y="2597040"/>
            <a:ext cx="82789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378000" y="268200"/>
            <a:ext cx="7583400" cy="1371600"/>
          </a:xfrm>
          <a:prstGeom prst="rect">
            <a:avLst/>
          </a:prstGeom>
          <a:ln w="0">
            <a:noFill/>
          </a:ln>
        </p:spPr>
      </p:pic>
      <p:pic>
        <p:nvPicPr>
          <p:cNvPr id="327" name="Текст 2" descr=""/>
          <p:cNvPicPr/>
          <p:nvPr/>
        </p:nvPicPr>
        <p:blipFill>
          <a:blip r:embed="rId2"/>
          <a:stretch/>
        </p:blipFill>
        <p:spPr>
          <a:xfrm>
            <a:off x="255600" y="1841400"/>
            <a:ext cx="833436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ОВІ ОПЕРАЦІЇ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ерації суб'єктів господарювання між собою та з фізичними особами, пов'язані з прийманням і видачею готівки під час проведення розрахунків через касу з відображенням цих операцій у відповідних книгах обліку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1E8D-E7A7-40D9-A7C2-CCFC063AB3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7:04:05Z</dcterms:created>
  <dc:creator>Александра</dc:creator>
  <dc:description/>
  <dc:language>en-US</dc:language>
  <cp:lastModifiedBy>Юра</cp:lastModifiedBy>
  <cp:lastPrinted>2014-02-20T05:51:03Z</cp:lastPrinted>
  <dcterms:modified xsi:type="dcterms:W3CDTF">2020-11-09T17:23:03Z</dcterms:modified>
  <cp:revision>141</cp:revision>
  <dc:subject/>
  <dc:title>Курс лекцій</dc:title>
</cp:coreProperties>
</file>