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68B3-CB42-4A04-9B64-8C92AE3EA1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B2ED-C5F9-4FFB-8E72-DCF4746276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E27F-F63F-438C-94BC-53AA449266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E9B-437C-4B62-8504-C05B3BE5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772-294C-4B6D-B467-EBA0D01E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629-C2CD-4B13-995A-38E600F0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A38-CFA0-4F98-B28A-FF092C0A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2CDC-BF6E-4262-9E14-86CFD2A3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8993-93AA-4ABB-B8E5-FD0E95DB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4C74-4F3A-4735-A38E-73C096FF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AD13-8153-45A6-BC33-D5047E92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2784-0024-4D86-B265-3EA6ADF6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44A5-B5E8-4BE9-AC5A-B7E898D1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0EEA-2BB0-412B-8B6F-D6BEB9F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516-75A4-4693-BE3D-26F9E7A9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CE82-7FCA-410E-97E5-9F9B936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74AC-F24A-41B3-85E3-F0B70BE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9E05-0EB7-46B5-82BB-8137F37D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D4A3-8B76-4D31-98D8-83F0D7E7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68FD-BB0D-487E-9F5D-77B3AEB4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A9F79-B635-4FF8-82F1-8FBD7861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E093-4D50-410F-96F5-C0254E2D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AEC2-3230-45FA-B40A-E5C369C8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2E4B-3C3B-47F4-8837-91767A1E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CB8B-A208-44E6-AA8F-864A618F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591-77C5-431C-82F6-56714332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AE86B-5F69-44FA-9806-957871BA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797A-95D0-462C-B385-23FAF7FF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E4D6F-C72F-4B61-9457-C7D431F7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6D59-5BB8-470C-8253-9C6DC223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F0F5-FC78-4EE6-BF4C-16994462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6FCD-9519-4AC9-ADB4-0F348F14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0CD0-6CB0-4CF7-9E6D-C3DBAF4D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D60FB-43BF-4C83-B717-90765C88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93E6A-D8D4-4DD4-9D6C-4D63AE34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2F452-F1AA-4E15-9188-8CDBCD54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AA9-50A7-40AA-A002-DE95057A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D6F82-E4D2-4A39-BB4A-C3A2D49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6D3A5-F97A-4175-A1AA-6D3CA8BA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84C5-B6C2-48D8-85D1-AD77E3D6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A301A-CD86-4016-8833-8077F36E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BC79B-737E-4916-8E94-A579DA1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9FDD-43D6-422A-896E-E754F18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F178-B882-417E-AA2D-6BDBE5FB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57E8-790F-4EC9-83E7-ECE738A5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C78A-B447-49CD-AA25-2128C0DF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E3347-FAAD-4236-9AA6-343A301A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7A4-9823-465F-9BF9-1872A04B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3C33-833C-47DF-91E8-8D2CDC38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C5922-1703-4678-8FE8-0F142EBD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E3BE-BDED-4761-B22A-5F5C4BF6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4C19-8E5F-4F1B-9EF5-23BF5EB4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721B0-EEB3-49FE-A9A8-D7913ABE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92D5-741E-47E7-8BFE-C14D095C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495F3-D238-4F70-AA61-43BBCD47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57FAE-740A-4442-BEF4-2883158C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AD01-D33A-486C-BF91-15707B15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8E170-B90B-4AAB-9820-A3558AF7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CB7-8AB7-4CF5-A349-B761A14A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4DB75-9283-4620-A2B3-0D16E5E8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1936-1A25-4446-A6F5-C297AE72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70685-1625-4369-A142-BE45CB14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C3FE0-3FB9-490F-8863-D4809F26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C70B9-9E64-4CE7-83C8-FDE7B6F6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11A64-A697-4750-8B3C-A2FB6EC2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658C-1126-454F-B04C-73CE725D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D7834-EBD5-496F-85A4-A3887EB1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340B6-5E4B-4200-843E-0E3D7C4E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34CFE-8E8C-480E-A376-42C4FD4B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E2C-D138-4AE7-AFEA-39426D40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9FA9D-1FA4-483F-BF07-5B84407C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D15D6-3A2E-43EF-A34F-DC5506C0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08BEE-790B-48BD-B2B5-A3D2E758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07DFB-203E-4DF7-87CC-C8BA8F05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97925-D7C1-464C-B571-68BBBBF8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CCED3-6551-4794-82E8-F385D5C3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B4E08-7D8F-4B6B-A396-B9B4840F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2010F-AB79-46DF-8D1E-93BA72AB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A5721-4A94-4517-9400-E8547551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DCB7F-9510-4CF0-92FE-3AE743B6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E82-8061-4000-979B-380FACB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57B42-CAEE-4719-A329-AB1D3123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C72D7-C4F9-4708-BF5E-B39F00E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E155B-D6FC-4EDE-9332-1D1A92BA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B1C3D-841F-4F41-9C75-43AF70A6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7BCB8-B395-4344-B441-CEF6DC41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B62-5FDF-432D-8213-48B151AF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B8D7-3CA8-4832-8BA2-3BE03F973666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A05-2C6C-4831-A6D2-B5F67FBB98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2616-3F59-4CE8-AB3A-4FE8E74594E8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F81C-F28B-4FF2-B80D-A0BEB7FAF214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D998-247C-4DED-BDB6-488EFDE83AB5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41AA-7116-480C-888F-CBAF0EA657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D350-39E3-4EA0-94D9-D08E10612CBB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62F0-5F40-47E0-9365-9A87C8EF31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7CA5-5B15-4C4C-A47A-8F0406A8334B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7A8C-6142-4338-9015-08E7422DA5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179A-ED67-4BF3-864C-F82789F99694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1741-09CF-400E-84F3-6A76AC2E4D5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8D25-C083-4657-81AB-F4253EB2D61B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A181-4653-469E-896F-C302C73DAA7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s://www.president.gov.ua/documents/4182019-27613" TargetMode="External"/><Relationship Id="rId2" Type="http://schemas.openxmlformats.org/officeDocument/2006/relationships/hyperlink" Target="https://zakon.rada.gov.ua/laws/show/436/95" TargetMode="Externa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79280" y="371880"/>
            <a:ext cx="885672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ЛІК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СОВИХ ОПЕРАЦІЙ ТА ОПЕРАЦІЙ З ІНШИМИ ГРОШОВИМИ КОШ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 вивчен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ісля вивчення лекції студент повинен знат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рядок організації грошового обігу та розрахунків, ведення касових операці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організацію синтетичного та аналітичного обліку готівки й інших грошових кошті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рядок документування касових операцій та операцій з іншими грошовими кошт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142920" y="418320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ісля вивчення лекції студент повинен вміт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икористовувати рахунки 30 “Готівка” та 33 “Інші кошти” для обліку готівки та інших грошових потокі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ідображати рух готівкових коштів на рахунках 30 “Готівка” та 33 “Інші кошти”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заповнювати документи з обліку готівки та інших грошових кошті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F0E8-608F-4BD0-B48B-B1EEB6D8266B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-6480" y="658800"/>
            <a:ext cx="927360" cy="4846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571400" y="1357200"/>
            <a:ext cx="6715080" cy="142416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Рахунок 30 “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Го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тівка” має такі </a:t>
            </a:r>
            <a:r>
              <a:rPr b="0" i="1" lang="uk-UA" sz="2000" spc="-1" strike="noStrike">
                <a:solidFill>
                  <a:srgbClr val="000000"/>
                </a:solidFill>
                <a:latin typeface="Century Gothic"/>
              </a:rPr>
              <a:t>субрахунки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301 “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Готівка в</a:t>
            </a: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302 “Готівка в інозем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Прямоугольник 4"/>
          <p:cNvSpPr/>
          <p:nvPr/>
        </p:nvSpPr>
        <p:spPr>
          <a:xfrm>
            <a:off x="1116000" y="3429000"/>
            <a:ext cx="7572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алітичний облік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е вестися за кожною операційною касою або касиром, що забезпечує реалізацію функції збереження майна власника, а також за видами вал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1214280" y="35712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значений для узагальнення інформації про наявність і рух грошових коштів у касі підприєм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214200" y="54450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дебетом рахунку 30 “Готівка” відображається надходження грошових коштів до каси підприємства, за кредитом – виплата (витрачання) готі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AA3A-31EB-436A-81F0-CD52B1531A5E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-79200" y="23760"/>
            <a:ext cx="927000" cy="56278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571400" y="1357200"/>
            <a:ext cx="6715080" cy="257184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Рахунок 33 “Інші кошти” має такі </a:t>
            </a:r>
            <a:r>
              <a:rPr b="0" i="1" lang="uk-UA" sz="2000" spc="-1" strike="noStrike">
                <a:solidFill>
                  <a:srgbClr val="000000"/>
                </a:solidFill>
                <a:latin typeface="Century Gothic"/>
              </a:rPr>
              <a:t>субрахунки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1 “Грошові документи в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2 “Грошові документи в інозем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3 “Грошові кошти в дорозі в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4 “Грошові кошти в дорозі в іноземній валюті”.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335 "Електронні гроші, номіновані в національній валюті"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143000" y="4000680"/>
            <a:ext cx="7643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алітичний облік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ошових коштів у дорозі може вестися в розрізі відділень зв’язку та інших установ (організацій), які прийняли перекази за кожним первинним документом, який підтверджує здавання грошових с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857160" y="14292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значений для узагальнення інформації про наявність і рух грошових документів (у національній та іноземній валюті) та про кошти в дороз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85840" y="55008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а дебетом рахунку 33 “Інші кошти” відображається надходження грошових документів до каси підприємства та коштів у дорозі, за кредитом – вибуття грошових документів і списання коштів у дорозі після їх зарахування на відповідні раху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162B-F17C-4316-B38C-50FE464780EF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хунк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"ІНШІ КОШТИ"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ься узагальнення інформації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наявність та рух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шових документі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національній 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земній валюті), які знаходяться в касі підприємства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штови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ок, марок гербового збору, сплачених проїзних документів, сплачених путівок до санаторіїв, пансіонатів, будинків відпочин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що)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их грош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и в дороз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бто грошові суми, внесені в каси банків, ощадні каси або поштові відділенн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альшого їх зарахування на розрахункові або інші рахун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69EE-C258-4436-99CD-8D5E0BD184F9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хунк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5 "ЕЛЕКТРОННІ ГРОШІ, НОМІНОВАНІ В НАЦІОНАЛЬНІЙ ВАЛЮТІ"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ображаються операції з електронними грошима, які здійснюються комерційними агентами та користувачами, відповідно до нормативно-правових актів Національного банку України та правил використання електронних грошей, узгоджених з Національним банком України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3008-A84D-458B-9C20-873A1C1A094E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і грош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диниці вартості, які зберігаються на електронному пристрої, приймаються як засіб платежу інши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ми, ніж особа, яка їх випускає, і є грошовим зобов'язанням цієї особи, що виконується в готівковій або безготівковій формі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ьому з метою бухгалтерського обліку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знаються електронними гроши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ред оплачені картки одноцільового використання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контні картки торговців, картки автозаправних 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нцій, квитки для проїзду в міському транспорті тощо, які приймаються як засіб платежу виключно їх емітент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536400" y="66600"/>
            <a:ext cx="8326440" cy="1122480"/>
          </a:xfrm>
          <a:prstGeom prst="rect">
            <a:avLst/>
          </a:prstGeom>
          <a:ln w="0">
            <a:noFill/>
          </a:ln>
        </p:spPr>
      </p:pic>
      <p:pic>
        <p:nvPicPr>
          <p:cNvPr id="354" name="Подзаголовок 2" descr=""/>
          <p:cNvPicPr/>
          <p:nvPr/>
        </p:nvPicPr>
        <p:blipFill>
          <a:blip r:embed="rId2"/>
          <a:stretch/>
        </p:blipFill>
        <p:spPr>
          <a:xfrm>
            <a:off x="433440" y="1444680"/>
            <a:ext cx="8246880" cy="1816200"/>
          </a:xfrm>
          <a:prstGeom prst="rect">
            <a:avLst/>
          </a:prstGeom>
          <a:ln w="0">
            <a:noFill/>
          </a:ln>
        </p:spPr>
      </p:pic>
      <p:grpSp>
        <p:nvGrpSpPr>
          <p:cNvPr id="355" name="Прямоугольник 3"/>
          <p:cNvGrpSpPr/>
          <p:nvPr/>
        </p:nvGrpSpPr>
        <p:grpSpPr>
          <a:xfrm>
            <a:off x="-96840" y="3797280"/>
            <a:ext cx="9107640" cy="2481120"/>
            <a:chOff x="-96840" y="3797280"/>
            <a:chExt cx="9107640" cy="2481120"/>
          </a:xfrm>
        </p:grpSpPr>
        <p:pic>
          <p:nvPicPr>
            <p:cNvPr id="35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-96840" y="3797280"/>
              <a:ext cx="910764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0" y="3835440"/>
              <a:ext cx="8929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У касі підприємства може зберігатися готівка, цінні папери, придбані у інших підприємств (акції, облігації тощо), грошові документи, які є бланками суворого обліку (трудові книжки та вкладні листки до них, квитанції подорожніх листів автотранспорту, бланки довіреностей тощо)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Грошовими документами</a:t>
              </a:r>
              <a:r>
                <a:rPr b="1" i="1" lang="uk-UA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вважаються документи, які знаходяться в касі підприємства: оплачені путівки в санаторії, пансіонати та будинки відпочинку; поштові марки; проїзні квитки тощ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7583400" cy="13716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80880" y="1990440"/>
            <a:ext cx="8120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Gothic"/>
              </a:rPr>
              <a:t>Посадова матеріально відповідальна особа, яка завідує касою, видачею та прийманням грошей і цінних паперів на підприємстві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2A8F-1EA8-4CEF-A0B6-0F4286A2A9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-165240" y="-49320"/>
            <a:ext cx="9455400" cy="15066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142920" y="1752120"/>
            <a:ext cx="8858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Гранична сума готівкового розрахунку одного підприємства (підприємця) з іншим підприємством (підприємцем) протягом одного дня за одним або кількома платіжними документами встановлюється відповідною постановою Правління Національного банку України. Платежі понад зазначену граничну суму проводяться виключно в безготівковій формі. Кількість підприємств (підприємців), з якими здійснюються розрахунки, протягом дня не обмежується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B9D-BDB5-40BC-9691-379BB1F527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значені обмеження не поширюються 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1) розрахунків суб'єктів господарювання з бюджетами та державними цільовими фондами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2) добровільних пожертвувань та благодійної допомоги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3) використання готівки, виданої на відрядження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4) виплат, пов'язаних з оплатою прац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5) використання готівкових коштів з фонду оперативно-розшукових (негласних слідчих) дій, створеного на виконання ч. 3 статті 24 Закону України "Про Національне антикорупційне бюро України"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'єкти господарювання мають право здійснювати розрахунки готівкою протягом одного дня за одним або кількома платіжними документами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іж собою - у розмірі до 10000 (десяти тисяч) гривень включно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 фізичними особами - у розмірі до 50000 (п'ятдесяти тисяч) гривень в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413A-76C8-4321-9613-6D4DC7CF61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7626240" cy="15793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Object 1"/>
          <p:cNvGraphicFramePr/>
          <p:nvPr/>
        </p:nvGraphicFramePr>
        <p:xfrm>
          <a:off x="919080" y="2284560"/>
          <a:ext cx="7948800" cy="39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9080" y="2284560"/>
                    <a:ext cx="7948800" cy="39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95280" y="259920"/>
            <a:ext cx="829152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7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і особи мають право здійснювати розрахунки готівкою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76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 суб'єктами господарювання протягом одного дня за одним або кількома платіжними документами - у розмірі до 50 000 (п'ятдесяти тисяч) гривень у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6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іж собою за договорами купівлі-продажу, які підлягають нотаріальному посвідченню, у розмірі до 50 000 (п'ятдесяти тисяч) гривень у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ежі на суму, яка перевищує 50 000 гривень, здійснюються шляхом переказу коштів з поточного рахунку на поточний рахунок або внесення та/або переказу коштів на поточні рахунки (у тому числі на депозит нотаріуса на окремий поточний рахунок у національній валюті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7600" algn="just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91F-FAEA-40A5-A9F4-2D226C760A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івка видається під звіт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 закупівлю сільськогосподарської продукції та заготівлю вторинної сировини на строк не більше 10 робочих днів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 закупівлю брухту чорних металів і брухту кольорових металів - на строк не більше 30 робочих днів від дня видачі готівки під звіт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 всі інші виробничі (господарські) потреби - на строк не більше двох робочих днів, уключаючи день отримання готівки під зві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FDBC-240E-45A8-95CE-25FFFA8A6F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ймання і видача готівки за касовими ордерами проводиться тільки в день їх складанн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равлення в касових ордерах та видаткових відомостях забороняютьс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61A4-DD7A-4296-9A20-493794494D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493560" y="1994040"/>
            <a:ext cx="8332920" cy="1481040"/>
          </a:xfrm>
          <a:prstGeom prst="rect">
            <a:avLst/>
          </a:prstGeom>
          <a:ln w="0">
            <a:noFill/>
          </a:ln>
        </p:spPr>
      </p:pic>
      <p:pic>
        <p:nvPicPr>
          <p:cNvPr id="375" name="Подзаголовок 2" descr=""/>
          <p:cNvPicPr/>
          <p:nvPr/>
        </p:nvPicPr>
        <p:blipFill>
          <a:blip r:embed="rId2"/>
          <a:stretch/>
        </p:blipFill>
        <p:spPr>
          <a:xfrm>
            <a:off x="426960" y="420840"/>
            <a:ext cx="8315280" cy="184140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3" descr=""/>
          <p:cNvPicPr/>
          <p:nvPr/>
        </p:nvPicPr>
        <p:blipFill>
          <a:blip r:embed="rId3"/>
          <a:stretch/>
        </p:blipFill>
        <p:spPr>
          <a:xfrm>
            <a:off x="225360" y="3932280"/>
            <a:ext cx="84852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019C-F19D-4010-AECA-79B5C43C69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900432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2575-9155-4630-992E-84693276BE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3152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міт каси вважається нульови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установою/підприємством його не встановлено (незалежно від причин такого невстановлення)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я готівка, що перебуває в касі установи/підприємства на кінець робочого дня і не здана нею/ним відповідно до вимог Положення № 148, уважається понадлімітною, якщо установою/підприємством ліміт каси не встановлено (незалежно від причин такого невстановлення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530B-B202-4F38-AEF0-CB287E6633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D87C-66C8-405C-A9F0-2CD6338A47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Схема 7" descr=""/>
          <p:cNvPicPr/>
          <p:nvPr/>
        </p:nvPicPr>
        <p:blipFill>
          <a:blip r:embed="rId1"/>
          <a:stretch/>
        </p:blipFill>
        <p:spPr>
          <a:xfrm>
            <a:off x="115920" y="1968480"/>
            <a:ext cx="9551880" cy="5157720"/>
          </a:xfrm>
          <a:prstGeom prst="rect">
            <a:avLst/>
          </a:prstGeom>
          <a:ln w="0">
            <a:noFill/>
          </a:ln>
        </p:spPr>
      </p:pic>
      <p:pic>
        <p:nvPicPr>
          <p:cNvPr id="386" name="Заголовок 4" descr=""/>
          <p:cNvPicPr/>
          <p:nvPr/>
        </p:nvPicPr>
        <p:blipFill>
          <a:blip r:embed="rId2"/>
          <a:stretch/>
        </p:blipFill>
        <p:spPr>
          <a:xfrm>
            <a:off x="73080" y="-6480"/>
            <a:ext cx="90644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56B2-FF7C-4108-B1CE-F19A101B28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219240" y="384120"/>
            <a:ext cx="89978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ABDF-7603-4880-BC3F-267E1C2439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14200" y="14256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ідприємства мають право зберігати у своїй касі готівку, одержану в банку для виплат, що належать до фонду оплати праці, а також пенсій, стипендій, дивідендів (доходу),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над установлений ліміт каси протягом трьох робочих днів, уключаючи день одержання готівки в банку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 Для проведення цих виплат працівникам віддалених відокремлених підрозділів підприємств залізничного транспорту та морських портів готівка може зберігатися в їх касах понад установлений ліміт каси протягом п’яти робочих днів, уключаючи день одержання готівки в банку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Готівка, що одержана в банку на інші виплати, має видаватися підприємством своїм працівникам у той самий день. Суми готівки, що одержані в банку і не використані за призначенням протягом установлених вище строків, повертаються підприємством до банку не пізніше наступного робочого дня банку або можуть залишатися в його касі (у межах установленого ліміту)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CE5F-2AF6-4C0F-A8DA-EAD966C2D1F2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4"/>
          <p:cNvSpPr/>
          <p:nvPr/>
        </p:nvSpPr>
        <p:spPr>
          <a:xfrm>
            <a:off x="214200" y="642960"/>
            <a:ext cx="8501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СТАНОВА ПРАВЛІННЯ НАЦІОНАЛЬНОГО БАНКУ УКРАЇ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ід 29 грудня 2017 р. № 14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о затвердження 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ложення про ведення касових операцій у національній  валюті в Україн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о визначає порядок ведення касових операцій у національній валюті України підприємствами (підприємцями), а також окремі питання організації банками роботи з готівко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2EC-3878-4E04-A98E-DB691B2318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18828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0" y="1428840"/>
          <a:ext cx="9144000" cy="3103560"/>
        </p:xfrm>
        <a:graphic>
          <a:graphicData uri="http://schemas.openxmlformats.org/drawingml/2006/table">
            <a:tbl>
              <a:tblPr/>
              <a:tblGrid>
                <a:gridCol w="388800"/>
                <a:gridCol w="5764320"/>
                <a:gridCol w="2990880"/>
              </a:tblGrid>
              <a:tr h="8175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115416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і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ктично за три будь-які місяці поспіль з останніх дванадцяти, що передують строку встановлення (перегляду) ліміту кас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тівкова виручка (надходження до кас, крім сум, що одержані з банк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денні надходження (рядок 1 розділити на кількість робочих днів підприємства за три місяц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1866960"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плачено готівкою на різні потреби, а/також на відрядження (крім виплат, пов'язаних з оплатою праці, пенсій, стипендій, дивіденд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денна видача готівки (рядок 3 розділити на кількість робочих днів підприємства за три місяц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0" y="4572000"/>
          <a:ext cx="9144000" cy="642960"/>
        </p:xfrm>
        <a:graphic>
          <a:graphicData uri="http://schemas.openxmlformats.org/drawingml/2006/table">
            <a:tbl>
              <a:tblPr/>
              <a:tblGrid>
                <a:gridCol w="4429080"/>
                <a:gridCol w="4714920"/>
              </a:tblGrid>
              <a:tr h="268200">
                <a:tc>
                  <a:txBody>
                    <a:bodyPr lIns="25200" rIns="25200" tIns="0" bIns="0" anchor="t">
                      <a:noAutofit/>
                    </a:bodyPr>
                    <a:p>
                      <a:pPr marL="8287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609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ановлено підприємство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Ліміт залишку готівки в кас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0" y="5270400"/>
          <a:ext cx="9144000" cy="1444680"/>
        </p:xfrm>
        <a:graphic>
          <a:graphicData uri="http://schemas.openxmlformats.org/drawingml/2006/table">
            <a:tbl>
              <a:tblPr/>
              <a:tblGrid>
                <a:gridCol w="4429080"/>
                <a:gridCol w="4714920"/>
              </a:tblGrid>
              <a:tr h="834480">
                <a:tc>
                  <a:txBody>
                    <a:bodyPr lIns="25200" rIns="25200" tIns="0" bIns="0" anchor="ctr">
                      <a:noAutofit/>
                    </a:bodyPr>
                    <a:p>
                      <a:pPr marL="819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60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значається строк здавання готівкової виручки (готівки) та зазначаються реквізити договорів банківських рахункі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Строки здавання готівкової виручки (готівк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820B-D993-4D4C-97E8-A2312C4E96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50920" y="620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06.2019 року набрав чинності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1"/>
              </a:rPr>
              <a:t>Указ Президента України від 20.06.2019 р. № 418/2019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м скасовано низку попередніх Указів, зокрема </a:t>
            </a:r>
            <a:r>
              <a:rPr b="0" lang="ru-RU" sz="30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2"/>
              </a:rPr>
              <a:t>Указ від 12.06.1995 р. № 436 «Про застосування штрафних санкцій за порушення норм з регулювання обігу готівки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Фінансова відповідальність за порушення норм використання готівки скасован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лишилась АДМ</a:t>
            </a: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НІСТРАТИВНА відповідальність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5"/>
          <p:cNvSpPr/>
          <p:nvPr/>
        </p:nvSpPr>
        <p:spPr>
          <a:xfrm>
            <a:off x="8450280" y="809640"/>
            <a:ext cx="503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6295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іністративна відповідальні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гляді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у від 100 до 200 неоподатковуваних мінімумів доходів громадян, тобто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1700 до 3400 гр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за порушення порядку проведення готівкових розрахунків за товари (послуги), у т.ч.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вищення граничних сум розрахунків готівкою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дотримання установлених законодавством вимог щодо забезпечення можливості розрахунків за товари (послуги) з використанням електронних платіжних засобів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вторне порушення протягом рок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штраф від 500 до 1000 неоподатковуваних мінімумів доходів громадян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ід 8500 до 17000 грн.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операції оформляютьс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ими ордерами, видатковими відомостями, розрахунковими документами, документами за операціями із застосуванням електронних платіжних засобів, іншими касовими документами, які згідно із законодавством України підтверджували б факт продажу (повернення) товарів, надання послуг, отримання (повернення) готівки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докумен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уть бут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еровими або електронним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лектронні касові документи повинні бути оформлені відповідно до вимог законодавства України у сфері електронного документообігу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 установи/підприємства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ідписання електронного касового документ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бов’язаний використовувати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ований електронний підпи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5F1E-70F8-4ED9-8641-FD9142283A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м, що свідчить про здавання виручки до банку та є підтвердженням оприбуткування готівки в касі суб'єктів господарюванн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є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витанція до прибуткового документа банку на внесення готівки, підписана відповідальними особами банку та засвідчена відбитком печатки банку (за потреби)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витанція/чек банкомата чи програмно-технічного комплексу самообслуговування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ретій примірник "Копія супровідної відомості до сумки з готівкою", засвідчений підписом та відбитком печатки інкасатора-збирач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чек платіжного термінала в разі проведення інкасації коштів у режимі реального часу з використанням платіжних терміналів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62B1-DC9A-4BC2-8864-C7F5DE981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33BC-6A3C-43A3-9A2D-1FFB66D173CA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79200" y="-146160"/>
            <a:ext cx="1060560" cy="67057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4"/>
          <p:cNvSpPr/>
          <p:nvPr/>
        </p:nvSpPr>
        <p:spPr>
          <a:xfrm>
            <a:off x="1428840" y="357120"/>
            <a:ext cx="75722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сові операції оформлюються документами, типові міжвідомчі форми яких затверджені Міністерством статистики України за згодою Національного банку України та Міністерства фінансів України, і які повинні застосовуватися без змін на всіх підприємствах, незалежно від їх відомчої підпорядкованості та форми власност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1" descr=""/>
          <p:cNvPicPr/>
          <p:nvPr/>
        </p:nvPicPr>
        <p:blipFill>
          <a:blip r:embed="rId2"/>
          <a:stretch/>
        </p:blipFill>
        <p:spPr>
          <a:xfrm>
            <a:off x="1749600" y="2925720"/>
            <a:ext cx="6924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6261-BF89-4110-840E-7CBE5AF6D322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6881-1257-4B5B-ABBE-D6A7A7C28947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8680" y="644400"/>
            <a:ext cx="898704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C92B-83C1-4F83-9727-5BB6734BFA18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73080" y="71280"/>
            <a:ext cx="8999640" cy="5016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57240" y="3857760"/>
            <a:ext cx="9015480" cy="28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F8F-C572-468F-A7A8-32132FC21B0E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31760" y="258840"/>
            <a:ext cx="886932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19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2664000"/>
            <a:ext cx="831384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F0B4-1686-4C47-98B2-7D95D6E2694C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114560" y="31680"/>
            <a:ext cx="6243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DD6E-1E54-445D-B035-0D851846A3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Заголовок 7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345600" cy="1650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1214280" y="3427200"/>
            <a:ext cx="685800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9a003b"/>
                </a:solidFill>
                <a:uFillTx/>
                <a:latin typeface="Arial"/>
                <a:ea typeface="Arial"/>
              </a:rPr>
              <a:t>ВИТРАЧАННЯ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тівки з каси оформлюється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видатковим касовим ордером (ВКО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. Він підписується керівником і головним бухгалтером підприємства або особами, ними уповноваженим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58104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КО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00080" y="1647720"/>
            <a:ext cx="6858000" cy="18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100000"/>
              </a:lnSpc>
              <a:spcBef>
                <a:spcPts val="4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9a003b"/>
                </a:solidFill>
                <a:uFillTx/>
                <a:latin typeface="Arial"/>
                <a:ea typeface="Arial"/>
              </a:rPr>
              <a:t>ОПРИБУТКУВАННЯ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тівки в касу здійснюється на підставі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рибуткового касового ордера (ПКО)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підписаного головним бухгалтером, або уповноваженими на це особами письмовим розпорядженням керівника підприємства, і касиром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339560"/>
            <a:ext cx="58104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КО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Прямоугольник 6"/>
          <p:cNvSpPr/>
          <p:nvPr/>
        </p:nvSpPr>
        <p:spPr>
          <a:xfrm>
            <a:off x="142920" y="5000760"/>
            <a:ext cx="8858160" cy="1830600"/>
          </a:xfrm>
          <a:prstGeom prst="rect">
            <a:avLst/>
          </a:prstGeom>
          <a:solidFill>
            <a:srgbClr val="000000">
              <a:alpha val="17000"/>
            </a:srgbClr>
          </a:solidFill>
          <a:ln w="9360">
            <a:solidFill>
              <a:srgbClr val="ffffff"/>
            </a:solidFill>
            <a:prstDash val="sysDash"/>
            <a:miter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Arial"/>
              </a:rPr>
              <a:t>У прибуткових і видаткових касових ордерах, які оформлюються на загальну суму проведених підприємством касових операцій (видача готівки за платіжними (розрахунково-платіжними) відомостями, за платіжними картками, здавання готівки до банку, отримання готівки з банку за чеком та оприбуткування її в касі тощо), реквізит “Отримувач” або “Від кого” не заповнюєтьс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FDAC-CE75-4254-A6A6-D009AAC0EA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ймання готівки в каси проводиться за прибутковими касовими ордерами, підписаними головним бухгалтером або особою, уповноваженою керівником підприємства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 приймання підприємствами готівки в касу за прибутковими касовими ордерами видається засвідчена відбитком печатки цього підприємства квитанція (що є відривною частиною прибуткового касового ордера) за підписами головного бухгалтера або працівника підприємства, який на це уповноважений керівнико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DE7B-1108-4CFE-9656-1FF33C880B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2920" y="21420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У разі видачі окремим фізичним особам готівки (у тому числі працівникам підприємства) за видатковим касовим ордером або видатковою відомістю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сир вимагає пред’явити паспорт чи документ, що його замінює, записує його найменування і номер, ким і коли він виданий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. Фізична особа розписується у видатковому касовому ордері або видатковій відомості про одержання готівки із зазначенням одержаної суми (гривень — словами, копійок — цифрами), використовуючи чорнильну або кулькову ручку з чорнилом темного кольору. Якщо видаткова відомість складена на видачу готівки кільком особам, то одержувачі також пред’являють паспорти чи документи, що їх замінюють, і розписуються у відповідній графі документа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DD00-6382-4C0D-8328-4BA694DFEA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 algn="just">
              <a:lnSpc>
                <a:spcPct val="8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видача готівки проводиться за довіреністю, оформленою у встановленому порядку згідно із законодавством України, у тому числі й особи, що не має змоги у зв’язку з хворобою або з інших поважних причин поставити підпис власноручно, то в тексті ордера після прізвища, імені та по батькові одержувача готівки бухгалтер зазначає прізвище, ім’я та по батькові особи, якій довірено одержати готівк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358920" algn="just">
              <a:lnSpc>
                <a:spcPct val="8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разі видачі готівки за видатковою відомістю перед підписом про одержання грошей касир робить у ній напис “За довіреністю”. Видача готівки за довіреністю проводиться відповідно до вимог, передбачених у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ункті 3.5 цієї глав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Довіреність залишається в касира і додається до видаткового касового ордера або видаткової відомості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7934-B627-4CA1-9637-5F998E459B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85480" y="14292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ісля закінчення встановлених строків виплат, пов’язаних з оплатою праці за видатковими відомостями, касир зобов’язаний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у видатковій відомості проти прізвища осіб, яким не здійснено виплату, поставити відбиток штампа або зробити напис “Депоновано"; скласти реєстр депонованих сум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у кінці видаткової відомості зазначити фактично виплачену суму та недоодержану суму виплат, яка підлягає депонуванню, звірити ці суми із загальним підсумком за видатковою відомістю і засвідчити напис своїм підписом. Якщо готівкові кошти видавалися не касиром, а іншою особою, то на відомості додатково робиться напис “Готівку за відомістю видав (підпис)"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здійснити відповідний запис у касовій книзі згідно з виписаним бухгалтерією видатковим касовим ордером на фактично видану суму за видатковою відомістю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F4AB-97D5-4871-BB10-1386816E33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14200" y="1371600"/>
            <a:ext cx="8715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У касових ордерах, які оформляються на загальну суму проведених підприємством касових операцій (видача готівки за видатковими відомостями, платіжними картками, здавання готівки до банку, отримання готівки з банку за чеком та оприбуткування її в касі тощо), реквізит “Одержав” або “Прийнято від” не заповнюєтьс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A721-CE5D-4FCE-8664-B0FCBDECDD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09160" cy="140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"/>
          <p:cNvGraphicFramePr/>
          <p:nvPr/>
        </p:nvGraphicFramePr>
        <p:xfrm>
          <a:off x="142920" y="2000160"/>
          <a:ext cx="8858160" cy="4632480"/>
        </p:xfrm>
        <a:graphic>
          <a:graphicData uri="http://schemas.openxmlformats.org/drawingml/2006/table">
            <a:tbl>
              <a:tblPr/>
              <a:tblGrid>
                <a:gridCol w="733320"/>
                <a:gridCol w="3537000"/>
                <a:gridCol w="3059280"/>
                <a:gridCol w="1528560"/>
              </a:tblGrid>
              <a:tr h="61596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сподарська операці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ідста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бет рахун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 rowSpan="3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давання готівкової виручки до банку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320" rIns="67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’ява на внесення готі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0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0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 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стій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 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ляхом інкасації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провідна відом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ача під звіт на господарські потреб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аз керівника підприєм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ача під звіт на відряд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аз керівника підприємства, посвідчення на відряд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плата заробітної плати, допомоги, матеріальної допомо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іжна (розрахунково-платіжна) відом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Прямоугольник 3"/>
          <p:cNvSpPr/>
          <p:nvPr/>
        </p:nvSpPr>
        <p:spPr>
          <a:xfrm>
            <a:off x="285840" y="113976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Таблиця 1. Документи, які є підставою для оформлення видаткових касових ордер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735E-D687-4F47-8542-BE3409E6ED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51920" y="142560"/>
            <a:ext cx="89917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Щоденно в кінці робочого дня касир підсумовує операції за день, виводить залишок готівки в касі на початок наступного дня і передає до бухгалтерії я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віт касира другі примірник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що є відривною частиною аркуша касової книги (копію записів у касовій книзі за день), з прибутковими і видатковими касовими ордерами під підпис у касовій книзі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жне підприємство (юридична особа), що має касу, вед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дну касову книгу для обліку операцій з готівкою в національній валют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без урахування кас відокремлених підрозділів)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5140-FF25-4668-92FB-FC1C2F68F90A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500040" y="356760"/>
            <a:ext cx="8215200" cy="68580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Century Gothic"/>
              </a:rPr>
              <a:t>Таблиця 2. Документи, які підтверджують рух готівки підприємств у сфері торгівлі, громадського харчування та послуг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14200" y="1357200"/>
          <a:ext cx="8786880" cy="5000760"/>
        </p:xfrm>
        <a:graphic>
          <a:graphicData uri="http://schemas.openxmlformats.org/drawingml/2006/table">
            <a:tbl>
              <a:tblPr/>
              <a:tblGrid>
                <a:gridCol w="411120"/>
                <a:gridCol w="1435320"/>
                <a:gridCol w="2406600"/>
                <a:gridCol w="453384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докумен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инні докумен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чення докумен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КЧ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іскальний касовий чек на товари (послуг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надрукований реєстратором розрахункових операцій при проведенні розрахунків за продані товари (надані послуг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КЧ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іскальний касовий чек видачі кошт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надрукований реєстратором розрахункових операцій при проведенні розрахунків у випадку видачі коштів покупцеві при поверненні товару, рекомпенсації послуги, прийнятті цінностей під заставу, виплаті виграшів у державні лотереї та в інших випад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К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а квитан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бланк якого виготовлено друкарським способом, а окремі реквізити заповнюються від руки або шляхом проштампування при реєстрації розрахунків за продані товари (надані послуги) або при видачі коштів покупцеві у випадку повернення товару, рекомпенсації послуги, прийняття цінностей під заставу та в інших випад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21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2664000"/>
            <a:ext cx="831384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D6CF-B070-4A88-91B8-A0AE0B2B6ED7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725400" y="347760"/>
            <a:ext cx="7875720" cy="191448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3"/>
          <p:cNvSpPr/>
          <p:nvPr/>
        </p:nvSpPr>
        <p:spPr>
          <a:xfrm>
            <a:off x="714240" y="3286080"/>
            <a:ext cx="8286840" cy="1144800"/>
          </a:xfrm>
          <a:prstGeom prst="rect">
            <a:avLst/>
          </a:prstGeom>
          <a:gradFill rotWithShape="0">
            <a:gsLst>
              <a:gs pos="0">
                <a:srgbClr val="e9e9e9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У кінці кожного робочого дня касир підбиває підсумки операцій за день, виводить залишок грошей в касі на наступне число та передає до бухгалтерії звіт касир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214200" y="5143680"/>
            <a:ext cx="8643960" cy="151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віт касир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це документ, який передається касиром підприємства в бухгалтерію, і є відривним листком Касової книги з додатком прибуткових і видаткових касових документів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D3F7-D18A-440C-BF1B-08D469B3EAD2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4"/>
          <p:cNvSpPr/>
          <p:nvPr/>
        </p:nvSpPr>
        <p:spPr>
          <a:xfrm>
            <a:off x="785880" y="2413080"/>
            <a:ext cx="7929360" cy="26535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У кінці місяця бухгалтер збирає всі касові звіти з підшитими до них первинними документами за датами в зростаючому порядку та зшиває в окрему папку. Контроль за правильним веденням Касової книги здійснює головний бухгалтер підприєм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7437240" cy="1371600"/>
          </a:xfrm>
          <a:prstGeom prst="rect">
            <a:avLst/>
          </a:prstGeom>
          <a:ln w="0">
            <a:noFill/>
          </a:ln>
        </p:spPr>
      </p:pic>
      <p:pic>
        <p:nvPicPr>
          <p:cNvPr id="323" name="Текст 2" descr=""/>
          <p:cNvPicPr/>
          <p:nvPr/>
        </p:nvPicPr>
        <p:blipFill>
          <a:blip r:embed="rId2"/>
          <a:stretch/>
        </p:blipFill>
        <p:spPr>
          <a:xfrm>
            <a:off x="573120" y="1920960"/>
            <a:ext cx="76071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25" name="Подзаголовок 2" descr=""/>
          <p:cNvPicPr/>
          <p:nvPr/>
        </p:nvPicPr>
        <p:blipFill>
          <a:blip r:embed="rId2"/>
          <a:stretch/>
        </p:blipFill>
        <p:spPr>
          <a:xfrm>
            <a:off x="414360" y="2597040"/>
            <a:ext cx="8278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7583400" cy="1371600"/>
          </a:xfrm>
          <a:prstGeom prst="rect">
            <a:avLst/>
          </a:prstGeom>
          <a:ln w="0">
            <a:noFill/>
          </a:ln>
        </p:spPr>
      </p:pic>
      <p:pic>
        <p:nvPicPr>
          <p:cNvPr id="327" name="Текст 2" descr=""/>
          <p:cNvPicPr/>
          <p:nvPr/>
        </p:nvPicPr>
        <p:blipFill>
          <a:blip r:embed="rId2"/>
          <a:stretch/>
        </p:blipFill>
        <p:spPr>
          <a:xfrm>
            <a:off x="255600" y="1841400"/>
            <a:ext cx="833436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ОПЕРАЦІЇ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ерації суб'єктів господарювання між собою та з фізичними особами, пов'язані з прийманням і видачею готівки під час проведення розрахунків через касу з відображенням цих операцій у відповідних книгах облік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3ECC-CC6D-4641-ABE2-E9C9B96057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04:05Z</dcterms:created>
  <dc:creator>Александра</dc:creator>
  <dc:description/>
  <dc:language>en-US</dc:language>
  <cp:lastModifiedBy>Юра</cp:lastModifiedBy>
  <cp:lastPrinted>2014-02-20T05:51:03Z</cp:lastPrinted>
  <dcterms:modified xsi:type="dcterms:W3CDTF">2020-11-09T17:23:03Z</dcterms:modified>
  <cp:revision>141</cp:revision>
  <dc:subject/>
  <dc:title>Курс лекцій</dc:title>
</cp:coreProperties>
</file>