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6A9-DC0B-45C5-A155-DFFBF748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B0C-A7B9-4DF3-B4B8-10D9F6BC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632-18E7-451B-964A-4E312111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B6C-EBBB-4E66-9785-589CDBC3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8E9C-8816-471E-9CF1-C254EB5A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665B-65AE-41FD-B168-B0273212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3C2B-28F5-403B-864B-7DDB29D1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A86A-1606-4F11-B23A-E66B1F95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AE0E-BD47-4567-AFAE-5E0F3710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56BC-38C8-4218-9B58-6DA7D7A9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7C5E-ABE0-4244-AD90-FB62FD8D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355-7448-449A-B131-63C2055A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00A5-5920-416B-9EDA-5504F44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B496-53A4-45C4-A832-6885003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2985-8687-4FBE-9BEB-45C74809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37CA-83AF-4EE9-9B67-182E3E62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96B0-B380-455B-80BC-4A0F5A3C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4BD8-BF04-490C-BBA5-5CCA7F76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7FD9-5FAF-4693-824D-DA499424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8BA2-8F9E-480E-904C-9EF5F87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34DF-B354-49FB-9716-9806F9EE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3FFF-3C3D-472D-AA45-10C44D49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AAA-B39E-45EE-858F-105C5C6E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15C2-7013-490B-8184-EBFA1EF4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5F091-F80E-4732-8E1E-50B90B99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19FE-F724-4E65-9892-A5581EF5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14362-834F-4133-B950-2D5F695B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B703-F59B-43E2-BE76-8321B204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3556-5A18-4332-A542-8D7F9303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9EDB-598A-41D3-BEC2-F1A8F6BE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BEF12-CB52-46D6-BA9F-ECDCF8A2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5F84-5E3E-41CD-B7B7-EAC31261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E841-6BA5-49CB-A47C-83270C08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6CE-79E6-4FDB-908B-E38454A0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BDA06-5522-479A-B136-B923ED15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B63D-CF6E-4B85-BB31-DEF11A98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351A-AD4A-4A0F-AB47-BC580B57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D2031-3BB4-4A5B-811A-2AD14E5E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1B1C-3D80-419D-A5B2-2A4773FC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DE9EA-BAB7-4291-B4C2-DA5F8B82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46CA-D8D6-495C-A6B8-048E6E7C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8AFB-0A3B-4E2C-BEEF-697A913A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A390-E254-4C00-91BB-44BF3805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3394-4330-4095-8BFC-C696D3F9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1D3-9FDB-4B26-A62F-DB335441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236C4-D0AE-437C-8404-C1BD91E3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B8C39-4C08-47F9-BCF8-617C89C7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E4F8C-977B-491B-9330-F4514148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99F8-2051-4086-A5BC-59905674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61E28-4088-498D-AC50-911A19C3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CA663-EB87-4B5D-9595-76B6FB4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23008-E34C-4301-B827-5502DFCC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2B4A-C63B-475D-B7A7-D01E580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5ECC-25C0-4704-BDA5-E7D2E01D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EE7B7-28EB-4A6C-ABD6-EB8C0BF0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532-BFEA-4E53-B68A-F1D62A98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A24D-AB9E-446C-A523-8D7ED862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7B92-093E-47AC-840B-6A33F28A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1CEB2-A5E3-460A-8E54-F92234D4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B9C5C-E417-4C43-A99D-B3CE4643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26361-8839-4218-AF2F-C4247594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2300C-9D93-4017-9A78-6D8B15B9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77956-90C6-43C2-8714-D5B2C8D4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5281F-EE38-488C-843F-4ADE2F5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BE835-3874-4BF6-8382-EF83D8B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252BF-11F0-4B10-8085-0353B58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771-F4A3-4773-B27B-4E0ADBE6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998DD-36FC-428B-A257-EA7F203C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7392F-D118-47D3-A650-6F1B3D55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935CF-EAD0-424B-A233-1FD7AE86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0CE21-ABE8-47A7-9AA4-C9381078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7BD45-BE23-477C-AA74-BB4B3968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A2A46-83E6-4177-AF63-CEADD0B3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C97C-3E5F-4DC4-B8A7-B288C59A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02BC1-E113-464C-B84C-B2CB6BC6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A7E92-C645-4AEC-B353-EC3B300E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029C-3DC0-4DED-88D1-AA75D3B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6D9-5F8B-4666-847D-0ABB6EBE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DF17-9063-47C9-AA0C-D5BC037B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5D8BC-EBD4-444F-B61D-980E847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4EF98-7F1C-4B98-9D3A-06BD2692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EA9B5-14B3-42D2-AF37-A79F497D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88607-68CE-4710-A604-C4BFD545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D66-6EE8-4D9B-9686-A383DD7B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EF4A-E780-4B64-A928-A8B1C187217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ABAC-B514-4DA1-916B-2B373433C69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3E6A-7A75-483D-AD3C-24FCBA862DD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3CF-BBE6-42D6-A90C-C2F4DCCB0FE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1EF3-8E0B-4783-A7A9-919C482E014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D890-F64D-4F5A-9CCE-7BC34C8736D9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82B-4299-4C0B-8A08-9B26F501EE4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42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4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6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52" name="Прямая со стрелкой 15"/>
          <p:cNvCxnSpPr>
            <a:stCxn id="345" idx="2"/>
            <a:endCxn id="347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19"/>
          <p:cNvCxnSpPr>
            <a:stCxn id="345" idx="2"/>
            <a:endCxn id="348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4" name="Прямая со стрелкой 22"/>
          <p:cNvCxnSpPr>
            <a:stCxn id="345" idx="2"/>
            <a:endCxn id="349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Прямая со стрелкой 26"/>
          <p:cNvCxnSpPr>
            <a:stCxn id="348" idx="2"/>
            <a:endCxn id="350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6" name="Прямая со стрелкой 29"/>
          <p:cNvCxnSpPr>
            <a:stCxn id="349" idx="2"/>
            <a:endCxn id="350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7" name="Прямая со стрелкой 32"/>
          <p:cNvCxnSpPr>
            <a:stCxn id="347" idx="2"/>
            <a:endCxn id="350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8" name="Прямая со стрелкой 35"/>
          <p:cNvCxnSpPr>
            <a:stCxn id="350" idx="2"/>
            <a:endCxn id="351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9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70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15"/>
          <p:cNvCxnSpPr>
            <a:stCxn id="373" idx="2"/>
            <a:endCxn id="374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19"/>
          <p:cNvCxnSpPr>
            <a:stCxn id="373" idx="2"/>
            <a:endCxn id="375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Прямая со стрелкой 22"/>
          <p:cNvCxnSpPr>
            <a:stCxn id="373" idx="2"/>
            <a:endCxn id="376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Прямая со стрелкой 26"/>
          <p:cNvCxnSpPr>
            <a:stCxn id="375" idx="3"/>
            <a:endCxn id="376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Прямая со стрелкой 29"/>
          <p:cNvCxnSpPr>
            <a:stCxn id="376" idx="2"/>
            <a:endCxn id="377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32"/>
          <p:cNvCxnSpPr>
            <a:stCxn id="374" idx="3"/>
            <a:endCxn id="375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Прямая со стрелкой 35"/>
          <p:cNvCxnSpPr>
            <a:stCxn id="377" idx="2"/>
            <a:endCxn id="378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6" descr=""/>
          <p:cNvPicPr/>
          <p:nvPr/>
        </p:nvPicPr>
        <p:blipFill>
          <a:blip r:embed="rId2"/>
          <a:stretch/>
        </p:blipFill>
        <p:spPr>
          <a:xfrm>
            <a:off x="171360" y="1547640"/>
            <a:ext cx="4430880" cy="2475000"/>
          </a:xfrm>
          <a:prstGeom prst="rect">
            <a:avLst/>
          </a:prstGeom>
          <a:ln w="0">
            <a:noFill/>
          </a:ln>
        </p:spPr>
      </p:pic>
      <p:cxnSp>
        <p:nvCxnSpPr>
          <p:cNvPr id="388" name="Прямая со стрелкой 15"/>
          <p:cNvCxnSpPr>
            <a:stCxn id="386" idx="2"/>
          </p:cNvCxnSpPr>
          <p:nvPr/>
        </p:nvCxnSpPr>
        <p:spPr>
          <a:xfrm flipH="1">
            <a:off x="3202920" y="1071360"/>
            <a:ext cx="136908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9" name="Прямая со стрелкой 22"/>
          <p:cNvCxnSpPr>
            <a:stCxn id="386" idx="2"/>
          </p:cNvCxnSpPr>
          <p:nvPr/>
        </p:nvCxnSpPr>
        <p:spPr>
          <a:xfrm>
            <a:off x="4572000" y="1071360"/>
            <a:ext cx="129600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0" name="Прямоугольник 27" descr=""/>
          <p:cNvPicPr/>
          <p:nvPr/>
        </p:nvPicPr>
        <p:blipFill>
          <a:blip r:embed="rId3"/>
          <a:stretch/>
        </p:blipFill>
        <p:spPr>
          <a:xfrm>
            <a:off x="4730760" y="1566720"/>
            <a:ext cx="4468680" cy="2529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4"/>
          <a:stretch/>
        </p:blipFill>
        <p:spPr>
          <a:xfrm>
            <a:off x="1011240" y="4133880"/>
            <a:ext cx="718200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5"/>
          <a:stretch/>
        </p:blipFill>
        <p:spPr>
          <a:xfrm>
            <a:off x="334800" y="5211720"/>
            <a:ext cx="4419720" cy="1506600"/>
          </a:xfrm>
          <a:prstGeom prst="rect">
            <a:avLst/>
          </a:prstGeom>
          <a:ln w="0">
            <a:noFill/>
          </a:ln>
        </p:spPr>
      </p:pic>
      <p:cxnSp>
        <p:nvCxnSpPr>
          <p:cNvPr id="393" name="Прямая со стрелкой 11"/>
          <p:cNvCxnSpPr/>
          <p:nvPr/>
        </p:nvCxnSpPr>
        <p:spPr>
          <a:xfrm flipH="1">
            <a:off x="3355200" y="4743360"/>
            <a:ext cx="136908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4723920" y="4743360"/>
            <a:ext cx="129636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5" name="Прямоугольник 13" descr=""/>
          <p:cNvPicPr/>
          <p:nvPr/>
        </p:nvPicPr>
        <p:blipFill>
          <a:blip r:embed="rId6"/>
          <a:stretch/>
        </p:blipFill>
        <p:spPr>
          <a:xfrm>
            <a:off x="4925880" y="5237280"/>
            <a:ext cx="4449960" cy="130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55440" y="1109520"/>
            <a:ext cx="499284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97" name="Rectangle 3"/>
          <p:cNvGrpSpPr/>
          <p:nvPr/>
        </p:nvGrpSpPr>
        <p:grpSpPr>
          <a:xfrm>
            <a:off x="1328760" y="2773440"/>
            <a:ext cx="7736040" cy="1828800"/>
            <a:chOff x="1328760" y="2773440"/>
            <a:chExt cx="7736040" cy="1828800"/>
          </a:xfrm>
        </p:grpSpPr>
        <p:pic>
          <p:nvPicPr>
            <p:cNvPr id="398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773440"/>
              <a:ext cx="77360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571760" y="2928960"/>
              <a:ext cx="72864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укція визначена з врахуванням ступеня її готовності на кожному з її пере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ый прямоугольник 16"/>
          <p:cNvSpPr/>
          <p:nvPr/>
        </p:nvSpPr>
        <p:spPr>
          <a:xfrm>
            <a:off x="2197080" y="2289240"/>
            <a:ext cx="612000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Узагальнення даних про рух одиниць продукції за кількістю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трелка вправо с вырезом 10"/>
          <p:cNvSpPr/>
          <p:nvPr/>
        </p:nvSpPr>
        <p:spPr>
          <a:xfrm>
            <a:off x="214200" y="2503440"/>
            <a:ext cx="1765440" cy="1069920"/>
          </a:xfrm>
          <a:custGeom>
            <a:avLst/>
            <a:gdLst>
              <a:gd name="textAreaLeft" fmla="*/ 267480 w 1765440"/>
              <a:gd name="textAreaRight" fmla="*/ 1497960 w 176544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579600"/>
            <a:ext cx="8388000" cy="1498320"/>
          </a:xfrm>
          <a:prstGeom prst="rect">
            <a:avLst/>
          </a:prstGeom>
          <a:ln w="0">
            <a:noFill/>
          </a:ln>
        </p:spPr>
      </p:pic>
      <p:sp>
        <p:nvSpPr>
          <p:cNvPr id="404" name="Скругленный прямоугольник 11"/>
          <p:cNvSpPr/>
          <p:nvPr/>
        </p:nvSpPr>
        <p:spPr>
          <a:xfrm>
            <a:off x="2349360" y="234936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Обчислення еквівалентних одиниць готової продукції для кожної статті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трелка вправо с вырезом 12"/>
          <p:cNvSpPr/>
          <p:nvPr/>
        </p:nvSpPr>
        <p:spPr>
          <a:xfrm>
            <a:off x="366840" y="249228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4221000"/>
          <a:ext cx="8643960" cy="2468880"/>
        </p:xfrm>
        <a:graphic>
          <a:graphicData uri="http://schemas.openxmlformats.org/drawingml/2006/table">
            <a:tbl>
              <a:tblPr/>
              <a:tblGrid>
                <a:gridCol w="2714400"/>
                <a:gridCol w="2643120"/>
                <a:gridCol w="32864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числення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 НВк – ЕО у НВп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НВ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ласифікація методів обліку витрат і калькулюван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директ-костинг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стандарт-кост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нормативного метод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собливості застосування систем калькулювання зарубіжних краї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8" name="Скругленный прямоугольник 6"/>
          <p:cNvSpPr/>
          <p:nvPr/>
        </p:nvSpPr>
        <p:spPr>
          <a:xfrm>
            <a:off x="900000" y="3284640"/>
            <a:ext cx="7569360" cy="30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агальна сума витрат на виробництво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а на початок періо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поточного пері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трелка вправо с вырезом 11"/>
          <p:cNvSpPr/>
          <p:nvPr/>
        </p:nvSpPr>
        <p:spPr>
          <a:xfrm>
            <a:off x="366840" y="1844640"/>
            <a:ext cx="1765080" cy="1069920"/>
          </a:xfrm>
          <a:custGeom>
            <a:avLst/>
            <a:gdLst>
              <a:gd name="textAreaLeft" fmla="*/ 267480 w 1765080"/>
              <a:gd name="textAreaRight" fmla="*/ 1497600 w 176508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2"/>
          <p:cNvSpPr/>
          <p:nvPr/>
        </p:nvSpPr>
        <p:spPr>
          <a:xfrm>
            <a:off x="2124000" y="162864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Визначення загальної суми витрат на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3024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ый прямоугольник 16"/>
          <p:cNvSpPr/>
          <p:nvPr/>
        </p:nvSpPr>
        <p:spPr>
          <a:xfrm>
            <a:off x="2197080" y="126828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рахунок собівартості еквівалентної одиниці готов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трелка вправо с вырезом 10"/>
          <p:cNvSpPr/>
          <p:nvPr/>
        </p:nvSpPr>
        <p:spPr>
          <a:xfrm>
            <a:off x="214200" y="1484280"/>
            <a:ext cx="1765440" cy="1068480"/>
          </a:xfrm>
          <a:custGeom>
            <a:avLst/>
            <a:gdLst>
              <a:gd name="textAreaLeft" fmla="*/ 267120 w 1765440"/>
              <a:gd name="textAreaRight" fmla="*/ 1498320 w 176544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9280" y="3201840"/>
          <a:ext cx="8643960" cy="3611880"/>
        </p:xfrm>
        <a:graphic>
          <a:graphicData uri="http://schemas.openxmlformats.org/drawingml/2006/table">
            <a:tbl>
              <a:tblPr/>
              <a:tblGrid>
                <a:gridCol w="2714760"/>
                <a:gridCol w="2643120"/>
                <a:gridCol w="32860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ЕО готової продукції =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витрат поточного періоду на кількість ЕО поточного період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загальної суми витрат виробництва на загальну кількість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6" name="Скругленный прямоугольник 6"/>
          <p:cNvSpPr/>
          <p:nvPr/>
        </p:nvSpPr>
        <p:spPr>
          <a:xfrm>
            <a:off x="2349360" y="1989000"/>
            <a:ext cx="6120000" cy="1716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поділ виробничих витрат між готовою продукцією, браком та незавершеним виробництвом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трелка вправо с вырезом 7"/>
          <p:cNvSpPr/>
          <p:nvPr/>
        </p:nvSpPr>
        <p:spPr>
          <a:xfrm>
            <a:off x="366840" y="213192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468360" y="1197000"/>
          <a:ext cx="8351640" cy="5486400"/>
        </p:xfrm>
        <a:graphic>
          <a:graphicData uri="http://schemas.openxmlformats.org/drawingml/2006/table">
            <a:tbl>
              <a:tblPr/>
              <a:tblGrid>
                <a:gridCol w="1670040"/>
                <a:gridCol w="1670040"/>
                <a:gridCol w="1671480"/>
                <a:gridCol w="1670040"/>
                <a:gridCol w="1670040"/>
              </a:tblGrid>
              <a:tr h="274680"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,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(матеріали 100 %, обробка 6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уск у виробництво у квітн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кінець місяця (матеріали 100 %, обробка 4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51688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68360" y="1557360"/>
          <a:ext cx="8280360" cy="5181480"/>
        </p:xfrm>
        <a:graphic>
          <a:graphicData uri="http://schemas.openxmlformats.org/drawingml/2006/table">
            <a:tbl>
              <a:tblPr/>
              <a:tblGrid>
                <a:gridCol w="2590920"/>
                <a:gridCol w="1296720"/>
                <a:gridCol w="1584360"/>
                <a:gridCol w="1884600"/>
                <a:gridCol w="923760"/>
              </a:tblGrid>
              <a:tr h="610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лишок на кінець періоду, 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 = Кількість одиниць в незавершеному виробництві на кінець періоду х % оброб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\+ 20000 = 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539640" y="476280"/>
          <a:ext cx="8136000" cy="5911920"/>
        </p:xfrm>
        <a:graphic>
          <a:graphicData uri="http://schemas.openxmlformats.org/drawingml/2006/table">
            <a:tbl>
              <a:tblPr/>
              <a:tblGrid>
                <a:gridCol w="1962360"/>
                <a:gridCol w="1279440"/>
                <a:gridCol w="1617480"/>
                <a:gridCol w="2368800"/>
                <a:gridCol w="90792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обничі витрати, грн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+ 88000 = 9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+ 54000 = 57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+ 43200 = 46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100 / 85000 = 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Скругленный прямоугольник 2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обівартість готової продукції = 65000 од х 2,57 = 167050 гр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кінець періо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мат. витрати = 20000 х 100 % х 1,15 = 2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витрати на оплату праці = 20000 х 40 % х 0,79 = 63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ЗВВ = 20000 х 40 % х 0,63 = 50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Разов незавершене виробництво = 343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3880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268280"/>
          <a:ext cx="8353440" cy="540396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727280"/>
                <a:gridCol w="1804680"/>
                <a:gridCol w="932040"/>
              </a:tblGrid>
              <a:tr h="428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. витра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 К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100 % = (5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. виробництво на кінець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5000 + 20000 = 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 - 3000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3000 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. витрати, грн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/ 80000 = 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Скругленный прямоугольник 1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на завершення обробки 5000 од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Матеріали – оброблені повніст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ОП 5000 х (100%-60%)х 0,77 = 15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ВВ 5000 х (100%-60%)х 0,62 = 1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Разом витрат на завершення обробки  27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початок місяця = 10100 + 3720 + 2820 = 166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кругленный прямоугольник 1"/>
          <p:cNvSpPr/>
          <p:nvPr/>
        </p:nvSpPr>
        <p:spPr>
          <a:xfrm>
            <a:off x="324000" y="333360"/>
            <a:ext cx="8145360" cy="60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решти продукції, виготовленої в звітному періоді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65000 од. – 5000 од.) х 2,49 = 14940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 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итрати на завершення оброки незавершеного виробництва на початок періоду + Собівартість решти продукції, виготовленої в звітному періоді + Незавершене виробництво на початок місяц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780 + 149400 + 16640 = 16882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ершене виробництво на кінець періоду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 = 20000 х 100% х 1,1 = 220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 = 20000 х 40% х 0,77 = 61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В = 20000 х 40% х 0,62 = 4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м = 331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468440" y="2487600"/>
            <a:ext cx="7742160" cy="2754360"/>
            <a:chOff x="1468440" y="2487600"/>
            <a:chExt cx="7742160" cy="275436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714680" y="2643120"/>
              <a:ext cx="72864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ідображення витрат, що здійснюються на підприємстві протягом певного періоду, пов'язаних з процесом придбання, виробництва і реалізації в розрізах, що формують собівартість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29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4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2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33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434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214200" y="1071720"/>
          <a:ext cx="8643960" cy="521496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21000/30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21000/30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38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439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2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0" y="762120"/>
          <a:ext cx="8643960" cy="6095880"/>
        </p:xfrm>
        <a:graphic>
          <a:graphicData uri="http://schemas.openxmlformats.org/drawingml/2006/table">
            <a:tbl>
              <a:tblPr/>
              <a:tblGrid>
                <a:gridCol w="3852720"/>
                <a:gridCol w="1433520"/>
                <a:gridCol w="1643040"/>
                <a:gridCol w="171468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Запаси гот. прод . на поч.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Запаси гот. прод. На кінець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Зміна у запасах  (п.2-п.1))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остійні ЗВВ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Різниця у прибутку  (п.3хп.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. Фін. рез. (калькул. зм. в-т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Калькулювання повних витрат (п.5+п.6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6" name="Rectangle 3"/>
          <p:cNvGrpSpPr/>
          <p:nvPr/>
        </p:nvGrpSpPr>
        <p:grpSpPr>
          <a:xfrm>
            <a:off x="55440" y="-79200"/>
            <a:ext cx="8996400" cy="804600"/>
            <a:chOff x="55440" y="-79200"/>
            <a:chExt cx="8996400" cy="804600"/>
          </a:xfrm>
        </p:grpSpPr>
        <p:pic>
          <p:nvPicPr>
            <p:cNvPr id="447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2920" y="71280"/>
              <a:ext cx="88581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ЗГОДЖЕННЯ ФІНАНСОВОГО РЕЗУЛЬТАТ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5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55440" y="1895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70" name="Rectangle 3"/>
          <p:cNvGrpSpPr/>
          <p:nvPr/>
        </p:nvGrpSpPr>
        <p:grpSpPr>
          <a:xfrm>
            <a:off x="1292400" y="2548080"/>
            <a:ext cx="7808760" cy="1414440"/>
            <a:chOff x="1292400" y="2548080"/>
            <a:chExt cx="7808760" cy="1414440"/>
          </a:xfrm>
        </p:grpSpPr>
        <p:pic>
          <p:nvPicPr>
            <p:cNvPr id="471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2548080"/>
              <a:ext cx="7808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571760" y="271944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1401840"/>
          </a:xfrm>
          <a:prstGeom prst="rect">
            <a:avLst/>
          </a:prstGeom>
          <a:ln w="0">
            <a:noFill/>
          </a:ln>
        </p:spPr>
      </p:pic>
      <p:sp>
        <p:nvSpPr>
          <p:cNvPr id="474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імеччина, Австр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ilkostenrechnung 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(облік гранич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еликобрита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rginal costing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(облік маржиналь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с вырезом 17"/>
          <p:cNvSpPr/>
          <p:nvPr/>
        </p:nvSpPr>
        <p:spPr>
          <a:xfrm>
            <a:off x="3932280" y="487512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8"/>
          <p:cNvSpPr/>
          <p:nvPr/>
        </p:nvSpPr>
        <p:spPr>
          <a:xfrm>
            <a:off x="547560" y="480204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сійська Федерац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19"/>
          <p:cNvSpPr/>
          <p:nvPr/>
        </p:nvSpPr>
        <p:spPr>
          <a:xfrm>
            <a:off x="5445000" y="4443480"/>
            <a:ext cx="3311640" cy="1793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 обмеженої собівартості, облік пропорційної собівартості, облік обмеженої собіварт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484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16"/>
          <p:cNvSpPr/>
          <p:nvPr/>
        </p:nvSpPr>
        <p:spPr>
          <a:xfrm>
            <a:off x="2357280" y="276696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9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AutoShape 2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44244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89" name="Rectangle 3"/>
          <p:cNvGrpSpPr/>
          <p:nvPr/>
        </p:nvGrpSpPr>
        <p:grpSpPr>
          <a:xfrm>
            <a:off x="1328760" y="2273400"/>
            <a:ext cx="7736040" cy="1403280"/>
            <a:chOff x="1328760" y="2273400"/>
            <a:chExt cx="7736040" cy="1403280"/>
          </a:xfrm>
        </p:grpSpPr>
        <p:pic>
          <p:nvPicPr>
            <p:cNvPr id="490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273400"/>
              <a:ext cx="77360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571760" y="242892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ізниця між доходом від реалізації продукції та змінними витратами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3"/>
          <p:cNvGrpSpPr/>
          <p:nvPr/>
        </p:nvGrpSpPr>
        <p:grpSpPr>
          <a:xfrm>
            <a:off x="-19080" y="-60480"/>
            <a:ext cx="9259920" cy="6875640"/>
            <a:chOff x="-19080" y="-60480"/>
            <a:chExt cx="9259920" cy="6875640"/>
          </a:xfrm>
        </p:grpSpPr>
        <p:pic>
          <p:nvPicPr>
            <p:cNvPr id="493" name="Rectangle 3" descr=""/>
            <p:cNvPicPr/>
            <p:nvPr/>
          </p:nvPicPr>
          <p:blipFill>
            <a:blip r:embed="rId1"/>
            <a:stretch/>
          </p:blipFill>
          <p:spPr>
            <a:xfrm>
              <a:off x="-19080" y="-60480"/>
              <a:ext cx="925992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920" y="214200"/>
              <a:ext cx="885816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ff"/>
                  </a:solidFill>
                  <a:latin typeface="Times New Roman"/>
                </a:rPr>
                <a:t>Французька модель визначення фін. результат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Змінна собівартість продукції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Маржинальний дохід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Постійні витрати період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5. Результат (прибуток/збиток)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Правая фигурная скобка 2"/>
          <p:cNvSpPr/>
          <p:nvPr/>
        </p:nvSpPr>
        <p:spPr>
          <a:xfrm>
            <a:off x="7500960" y="2000160"/>
            <a:ext cx="642960" cy="2357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2357640"/>
              <a:gd name="textAreaBottom" fmla="*/ 234108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авая фигурная скобка 5"/>
          <p:cNvSpPr/>
          <p:nvPr/>
        </p:nvSpPr>
        <p:spPr>
          <a:xfrm>
            <a:off x="7500960" y="4500720"/>
            <a:ext cx="642960" cy="17143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714320"/>
              <a:gd name="textAreaBottom" fmla="*/ 169776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Восьмиугольник 7"/>
          <p:cNvSpPr/>
          <p:nvPr/>
        </p:nvSpPr>
        <p:spPr>
          <a:xfrm>
            <a:off x="8215200" y="2928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Восьмиугольник 8"/>
          <p:cNvSpPr/>
          <p:nvPr/>
        </p:nvSpPr>
        <p:spPr>
          <a:xfrm>
            <a:off x="8286840" y="500076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00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Американська модель визначення фін. р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Змінна  виробнича собівартість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аних вироб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3. Виробнича марж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4. Змінні витрати на реалізацію та управлі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5. Торговельна маржа (Заг. марж. дохід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6. Постійні витрат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7. Фінансовий результат (Результат-нетто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Правая фигурная скобка 2"/>
          <p:cNvSpPr/>
          <p:nvPr/>
        </p:nvSpPr>
        <p:spPr>
          <a:xfrm>
            <a:off x="7500960" y="1357200"/>
            <a:ext cx="642960" cy="15004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480"/>
              <a:gd name="textAreaBottom" fmla="*/ 148392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авая фигурная скобка 5"/>
          <p:cNvSpPr/>
          <p:nvPr/>
        </p:nvSpPr>
        <p:spPr>
          <a:xfrm>
            <a:off x="7500960" y="314316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Восьмиугольник 7"/>
          <p:cNvSpPr/>
          <p:nvPr/>
        </p:nvSpPr>
        <p:spPr>
          <a:xfrm>
            <a:off x="8215200" y="1785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Восьмиугольник 8"/>
          <p:cNvSpPr/>
          <p:nvPr/>
        </p:nvSpPr>
        <p:spPr>
          <a:xfrm>
            <a:off x="8286840" y="3643200"/>
            <a:ext cx="571320" cy="5716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авая фигурная скобка 9"/>
          <p:cNvSpPr/>
          <p:nvPr/>
        </p:nvSpPr>
        <p:spPr>
          <a:xfrm>
            <a:off x="7500960" y="4929120"/>
            <a:ext cx="642960" cy="16430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643040"/>
              <a:gd name="textAreaBottom" fmla="*/ 16264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2"/>
                  <a:pt x="10800" y="704"/>
                </a:cubicBezTo>
                <a:lnTo>
                  <a:pt x="10800" y="10096"/>
                </a:lnTo>
                <a:cubicBezTo>
                  <a:pt x="10800" y="10448"/>
                  <a:pt x="16200" y="10800"/>
                  <a:pt x="21600" y="10800"/>
                </a:cubicBezTo>
                <a:cubicBezTo>
                  <a:pt x="16200" y="10800"/>
                  <a:pt x="10800" y="11152"/>
                  <a:pt x="10800" y="11504"/>
                </a:cubicBezTo>
                <a:lnTo>
                  <a:pt x="10800" y="20896"/>
                </a:lnTo>
                <a:cubicBezTo>
                  <a:pt x="10800" y="212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Восьмиугольник 10"/>
          <p:cNvSpPr/>
          <p:nvPr/>
        </p:nvSpPr>
        <p:spPr>
          <a:xfrm>
            <a:off x="8286840" y="5429160"/>
            <a:ext cx="571320" cy="64296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-85680" y="444600"/>
            <a:ext cx="4419720" cy="199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Rectangle 3"/>
          <p:cNvGrpSpPr/>
          <p:nvPr/>
        </p:nvGrpSpPr>
        <p:grpSpPr>
          <a:xfrm>
            <a:off x="1359000" y="2255760"/>
            <a:ext cx="7815240" cy="4084560"/>
            <a:chOff x="1359000" y="2255760"/>
            <a:chExt cx="7815240" cy="4084560"/>
          </a:xfrm>
        </p:grpSpPr>
        <p:pic>
          <p:nvPicPr>
            <p:cNvPr id="510" name="Rectangle 3" descr=""/>
            <p:cNvPicPr/>
            <p:nvPr/>
          </p:nvPicPr>
          <p:blipFill>
            <a:blip r:embed="rId2"/>
            <a:stretch/>
          </p:blipFill>
          <p:spPr>
            <a:xfrm>
              <a:off x="1359000" y="2255760"/>
              <a:ext cx="78152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43040" y="2428920"/>
              <a:ext cx="728676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Частина постійних витрат відноситься прямо без умовного розподілу на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відповідні вироби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Групи виробів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центри відповідальності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сегменти діяльності 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13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Схема  визначення фін. </a:t>
              </a:r>
              <a:r>
                <a:rPr b="1" lang="ru-RU" sz="35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Дохід від реалізації виробу – Змінн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Собів-ть виробу = Напівмаржа за виробом (МД 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виріб = Напівмаржа групи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виробів (МД 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групи продукції =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Напівмаржа місця виникнення витрат (МД І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стійні витрати місця виникнення витрат = Напівмаржа по підрозділу(МД І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дрозділу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= Напівмаржа по підприємству (МД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ДПРИЄМТВА = ФІНАНСОВИЙ РЕЗУЛЬТ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авая фигурная скобка 2"/>
          <p:cNvSpPr/>
          <p:nvPr/>
        </p:nvSpPr>
        <p:spPr>
          <a:xfrm>
            <a:off x="7607160" y="620640"/>
            <a:ext cx="642960" cy="1079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79640"/>
              <a:gd name="textAreaBottom" fmla="*/ 10630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авая фигурная скобка 5"/>
          <p:cNvSpPr/>
          <p:nvPr/>
        </p:nvSpPr>
        <p:spPr>
          <a:xfrm>
            <a:off x="7674120" y="1700280"/>
            <a:ext cx="642960" cy="1081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81080"/>
              <a:gd name="textAreaBottom" fmla="*/ 10645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5"/>
                  <a:pt x="10800" y="1070"/>
                </a:cubicBezTo>
                <a:lnTo>
                  <a:pt x="10800" y="9730"/>
                </a:lnTo>
                <a:cubicBezTo>
                  <a:pt x="10800" y="10265"/>
                  <a:pt x="16200" y="10800"/>
                  <a:pt x="21600" y="10800"/>
                </a:cubicBezTo>
                <a:cubicBezTo>
                  <a:pt x="16200" y="10800"/>
                  <a:pt x="10800" y="11335"/>
                  <a:pt x="10800" y="11870"/>
                </a:cubicBezTo>
                <a:lnTo>
                  <a:pt x="10800" y="20530"/>
                </a:lnTo>
                <a:cubicBezTo>
                  <a:pt x="10800" y="210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Восьмиугольник 7"/>
          <p:cNvSpPr/>
          <p:nvPr/>
        </p:nvSpPr>
        <p:spPr>
          <a:xfrm>
            <a:off x="8321760" y="105264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Восьмиугольник 8"/>
          <p:cNvSpPr/>
          <p:nvPr/>
        </p:nvSpPr>
        <p:spPr>
          <a:xfrm>
            <a:off x="8286840" y="191628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авая фигурная скобка 9"/>
          <p:cNvSpPr/>
          <p:nvPr/>
        </p:nvSpPr>
        <p:spPr>
          <a:xfrm>
            <a:off x="7678800" y="2781360"/>
            <a:ext cx="642960" cy="11523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Восьмиугольник 10"/>
          <p:cNvSpPr/>
          <p:nvPr/>
        </p:nvSpPr>
        <p:spPr>
          <a:xfrm>
            <a:off x="8464680" y="3193920"/>
            <a:ext cx="571320" cy="4510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Восьмиугольник 11"/>
          <p:cNvSpPr/>
          <p:nvPr/>
        </p:nvSpPr>
        <p:spPr>
          <a:xfrm>
            <a:off x="8464680" y="4202280"/>
            <a:ext cx="57132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авая фигурная скобка 12"/>
          <p:cNvSpPr/>
          <p:nvPr/>
        </p:nvSpPr>
        <p:spPr>
          <a:xfrm>
            <a:off x="7812000" y="3933720"/>
            <a:ext cx="642960" cy="11509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0920"/>
              <a:gd name="textAreaBottom" fmla="*/ 113436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Восьмиугольник 13"/>
          <p:cNvSpPr/>
          <p:nvPr/>
        </p:nvSpPr>
        <p:spPr>
          <a:xfrm>
            <a:off x="8393040" y="5354640"/>
            <a:ext cx="57168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авая фигурная скобка 14"/>
          <p:cNvSpPr/>
          <p:nvPr/>
        </p:nvSpPr>
        <p:spPr>
          <a:xfrm>
            <a:off x="7740720" y="5084640"/>
            <a:ext cx="642960" cy="11527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720"/>
              <a:gd name="textAreaBottom" fmla="*/ 11361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26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11"/>
          <p:cNvSpPr/>
          <p:nvPr/>
        </p:nvSpPr>
        <p:spPr>
          <a:xfrm>
            <a:off x="468360" y="213372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операційний прибуток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15"/>
          <p:cNvSpPr/>
          <p:nvPr/>
        </p:nvSpPr>
        <p:spPr>
          <a:xfrm>
            <a:off x="5364000" y="235584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маржинальний дохі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трелка вправо с вырезом 17"/>
          <p:cNvSpPr/>
          <p:nvPr/>
        </p:nvSpPr>
        <p:spPr>
          <a:xfrm>
            <a:off x="3932280" y="33591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18"/>
          <p:cNvSpPr/>
          <p:nvPr/>
        </p:nvSpPr>
        <p:spPr>
          <a:xfrm>
            <a:off x="547560" y="32860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повну собіварті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19"/>
          <p:cNvSpPr/>
          <p:nvPr/>
        </p:nvSpPr>
        <p:spPr>
          <a:xfrm>
            <a:off x="5445000" y="328608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обчислити критичний обсяг реаліза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трелка вправо с вырезом 14"/>
          <p:cNvSpPr/>
          <p:nvPr/>
        </p:nvSpPr>
        <p:spPr>
          <a:xfrm>
            <a:off x="3924360" y="4587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16"/>
          <p:cNvSpPr/>
          <p:nvPr/>
        </p:nvSpPr>
        <p:spPr>
          <a:xfrm>
            <a:off x="539640" y="4514760"/>
            <a:ext cx="331308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довг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20"/>
          <p:cNvSpPr/>
          <p:nvPr/>
        </p:nvSpPr>
        <p:spPr>
          <a:xfrm>
            <a:off x="5437080" y="4514760"/>
            <a:ext cx="331164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коротк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38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1"/>
          <p:cNvSpPr/>
          <p:nvPr/>
        </p:nvSpPr>
        <p:spPr>
          <a:xfrm>
            <a:off x="468360" y="2133720"/>
            <a:ext cx="3311640" cy="18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рієнтує менеджмент на досягнення найкращих результатів в противагу оптимізації виробничого проце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5"/>
          <p:cNvSpPr/>
          <p:nvPr/>
        </p:nvSpPr>
        <p:spPr>
          <a:xfrm>
            <a:off x="5364000" y="2205000"/>
            <a:ext cx="3311640" cy="1720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 найбільш оптимальну програму випуску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трелка вправо с вырезом 17"/>
          <p:cNvSpPr/>
          <p:nvPr/>
        </p:nvSpPr>
        <p:spPr>
          <a:xfrm>
            <a:off x="3932280" y="41511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8"/>
          <p:cNvSpPr/>
          <p:nvPr/>
        </p:nvSpPr>
        <p:spPr>
          <a:xfrm>
            <a:off x="547560" y="407844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на застосовувати на будь-яких підприємств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9"/>
          <p:cNvSpPr/>
          <p:nvPr/>
        </p:nvSpPr>
        <p:spPr>
          <a:xfrm>
            <a:off x="5445000" y="407844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цільно застосовувати на підприємствах з невеликим рівнем постійних вит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трелка вправо с вырезом 14"/>
          <p:cNvSpPr/>
          <p:nvPr/>
        </p:nvSpPr>
        <p:spPr>
          <a:xfrm>
            <a:off x="3924360" y="5380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6"/>
          <p:cNvSpPr/>
          <p:nvPr/>
        </p:nvSpPr>
        <p:spPr>
          <a:xfrm>
            <a:off x="539640" y="5307120"/>
            <a:ext cx="331308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льші трудомістка система контро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20"/>
          <p:cNvSpPr/>
          <p:nvPr/>
        </p:nvSpPr>
        <p:spPr>
          <a:xfrm>
            <a:off x="5437080" y="5307120"/>
            <a:ext cx="331164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истема контролю більш операти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0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ідсутність складних процедур з розподілу постійних витрат за видами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явність аналітичних перев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ає можливість більш оперативно контролювати постійні витр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простити нормування, планування через зменшення статей витр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9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застосування демпінгового ціноутворен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кладність у розмежуванні витрат на постійні та змінн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відповідність вітчизняній системі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икривлення загальної величини прибут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трелка вправо с вырезом 18"/>
          <p:cNvSpPr/>
          <p:nvPr/>
        </p:nvSpPr>
        <p:spPr>
          <a:xfrm>
            <a:off x="1450800" y="566748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9"/>
          <p:cNvSpPr/>
          <p:nvPr/>
        </p:nvSpPr>
        <p:spPr>
          <a:xfrm>
            <a:off x="2879640" y="5738760"/>
            <a:ext cx="617400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 співпадання результатів фін. звітності із даними управлінського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570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57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3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574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575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6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7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578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579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582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9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3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34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14T10:40:04Z</dcterms:modified>
  <cp:revision>257</cp:revision>
  <dc:subject/>
  <dc:title>Слайд 1</dc:title>
</cp:coreProperties>
</file>