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6B4-A407-4B5E-8B2A-F53AE99C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FDD-FEC4-47DC-8835-79C1D299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F86-6A2D-4006-8C25-8475B45D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3BE-F3EA-43CF-89D3-D3637125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6225-2542-4E9D-A68E-AB7D3BA7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1643-239B-43BD-A6B5-126C7DE2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FCBE-1653-450F-9F91-08686CA3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360E-E100-481C-8D99-591DF6C3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CE48-9DF9-4D0E-AB0C-B9193A52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587D-BE81-4EDC-B92F-E38E7C04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6557-6BFF-4AD2-A5E9-3574F95C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19B-46D3-4934-85B9-459F63D1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16EC-A36E-4EE1-B7B1-D1E8E397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0659-0E9E-4E92-A968-7462FDEE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FB63-97A2-40E5-9AA0-BBED0B2F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4A8B-89BF-4CE1-9097-68F4BD7A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5FAF-EA00-4D47-8982-0D072496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76E80-5929-4BA2-9651-AB4BFE42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9D6F-36FC-496A-B5E0-B0445C66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47AEB-3BB5-4FDC-8D85-4D5675B2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7D9D3-65C4-489E-9FEF-726BDCAF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8D64-6BB9-498D-B3D9-617BE881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CCF-5AB3-44EE-B9BD-E5CE44A8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2F33-0900-4DFF-AC16-58D066A2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C23F0-F717-4CB9-AB92-79223568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548D1-250A-4537-84A3-645F2CB3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37E6-3B18-4503-82C0-96FB33A0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02702-A90A-459B-BA29-E0C452B7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8393-847E-434E-9068-E3278D49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FA0C-EEA9-4FC5-B115-86A9620F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D6A77-31F6-4E18-B939-184EC59E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8CAF2-6C9A-4529-AB71-162A83B1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E9633-016B-4961-A4DA-84F447AB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A6B-D949-4F00-962A-04F07768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905BC-03ED-480C-9F2F-870B483F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DC8E8-7C3D-432E-8504-14E9ACC1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7C2FD-46BB-46E9-9A9D-D16ACCA4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9019C-B1C1-4F18-8603-3A88308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0C41-9044-4771-9D5E-63CDC42C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1B8F6-6646-46E6-BBC1-5694FF44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FC7B-0295-4272-8510-8C77F7B9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BEFBC-0358-4D29-BB1D-A0F6011F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68339-78ED-4DF9-9BB1-8350CEBF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27576-0B0B-40C1-891B-9A6833A9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37C-F174-4331-9556-E26068EA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E10C-6169-49AD-A6E8-708F3F63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523DA-4265-4F81-8B5E-B1DA740F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743F1-BB68-46D1-A223-9519F9C8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96F2F-43BB-4672-B1C5-C8D6775F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2528A-D675-42F1-B1E7-A2A65163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00D29-820F-4150-9002-620185B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DA53E-F52B-456A-8BB9-F95FD20C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0FB4F-C8AE-459D-8F6C-28ABA5C9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17358-C707-4BD9-956A-A9CE9AAC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66408-C0BC-4CF1-A7DD-098B862E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DFB-DC35-4EB3-A30A-AD3952D8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15752-89CB-4614-A14D-C5C69AE9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C551D-CC8F-4BE5-8612-19F2C230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456F7-2EF3-4693-9D01-1EAF70DE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F302A-4D7C-40B2-B7C4-BD00DAB2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343B3-29BA-4A8D-9154-F05756BE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2431A-EE3D-43AF-BE4F-27958CC2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31054-11A1-4A43-B781-AD3AAEE0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51959-DBFD-40AB-8F1D-665655A4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83588-6D31-4234-90B9-05BA0950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59C5C-7B1A-4F67-ACAD-93405ECB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82A-39DF-4167-ABFE-C237681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E07E0-A57B-4AA2-BD55-62069B28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AC3F8-EF6E-4A66-AC1A-1BA93B0C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B11C7-ABBD-443A-8C8D-0D5C5FEE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D1C9D-4996-4733-90A7-C2A0058B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A50C3-1159-484C-8221-E5F794EB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324D5-E788-4340-A4F3-819EAB13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D305F-4787-4444-941B-9F681E9E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5BD00-42B8-42E6-B4F3-A9351B69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0879E-F0E0-452C-B829-4E9FE0F0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6F999-F847-4931-82AD-D2ED01D7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72E-5E87-4868-A234-550A4B6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FEE22-FC4E-4BB3-A696-D2FF2369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F7230-4A90-4DD6-819E-E46CF8CE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990B2-98CC-497F-A5EE-2DFCB115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B4397-8C2F-40FF-8682-0A08FA7B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D5FE2-DC24-4544-9405-787A1E5C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CB6-13E1-4091-85AA-F825CB0A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0AB4-8455-4979-AB96-72401CAA422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2A22-C164-4DAF-88A8-69C78757ECAC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7336-88DC-4381-B368-12B9E54DDDE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9A37-59DD-48E4-8ED0-4D8A61B4AD21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0465-C9E9-4409-A2FD-CD0FC3305A5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C92F-52C6-4FF7-9747-7946770330B0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1AA4-4BC9-4CF9-AC9F-9883C90A9DC9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564760" cy="280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AutoShape 2" descr=""/>
          <p:cNvPicPr/>
          <p:nvPr/>
        </p:nvPicPr>
        <p:blipFill>
          <a:blip r:embed="rId1"/>
          <a:stretch/>
        </p:blipFill>
        <p:spPr>
          <a:xfrm>
            <a:off x="-12600" y="1109520"/>
            <a:ext cx="441936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42" name="Rectangle 3"/>
          <p:cNvGrpSpPr/>
          <p:nvPr/>
        </p:nvGrpSpPr>
        <p:grpSpPr>
          <a:xfrm>
            <a:off x="1395360" y="2346480"/>
            <a:ext cx="7742160" cy="1755720"/>
            <a:chOff x="1395360" y="2346480"/>
            <a:chExt cx="7742160" cy="1755720"/>
          </a:xfrm>
        </p:grpSpPr>
        <p:pic>
          <p:nvPicPr>
            <p:cNvPr id="34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34648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643040" y="2500200"/>
              <a:ext cx="72867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користовується за умови виготовлення складної продукції з високою вартістю, тривалим циклом виробництв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sp>
        <p:nvSpPr>
          <p:cNvPr id="346" name="Скругленный прямоугольник 16"/>
          <p:cNvSpPr/>
          <p:nvPr/>
        </p:nvSpPr>
        <p:spPr>
          <a:xfrm>
            <a:off x="357120" y="1643040"/>
            <a:ext cx="83581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завершене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Прямоугольник 6" descr=""/>
          <p:cNvPicPr/>
          <p:nvPr/>
        </p:nvPicPr>
        <p:blipFill>
          <a:blip r:embed="rId2"/>
          <a:stretch/>
        </p:blipFill>
        <p:spPr>
          <a:xfrm>
            <a:off x="57312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7" descr=""/>
          <p:cNvPicPr/>
          <p:nvPr/>
        </p:nvPicPr>
        <p:blipFill>
          <a:blip r:embed="rId3"/>
          <a:stretch/>
        </p:blipFill>
        <p:spPr>
          <a:xfrm>
            <a:off x="328608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8" descr=""/>
          <p:cNvPicPr/>
          <p:nvPr/>
        </p:nvPicPr>
        <p:blipFill>
          <a:blip r:embed="rId4"/>
          <a:stretch/>
        </p:blipFill>
        <p:spPr>
          <a:xfrm>
            <a:off x="5924520" y="2535120"/>
            <a:ext cx="2573280" cy="5558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913200"/>
            <a:ext cx="2463840" cy="10368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13" descr=""/>
          <p:cNvPicPr/>
          <p:nvPr/>
        </p:nvPicPr>
        <p:blipFill>
          <a:blip r:embed="rId6"/>
          <a:stretch/>
        </p:blipFill>
        <p:spPr>
          <a:xfrm>
            <a:off x="3328920" y="5261040"/>
            <a:ext cx="257832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52" name="Прямая со стрелкой 15"/>
          <p:cNvCxnSpPr>
            <a:stCxn id="345" idx="2"/>
            <a:endCxn id="347" idx="0"/>
          </p:cNvCxnSpPr>
          <p:nvPr/>
        </p:nvCxnSpPr>
        <p:spPr>
          <a:xfrm flipH="1">
            <a:off x="1856520" y="1071360"/>
            <a:ext cx="271548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3" name="Прямая со стрелкой 19"/>
          <p:cNvCxnSpPr>
            <a:stCxn id="345" idx="2"/>
            <a:endCxn id="348" idx="0"/>
          </p:cNvCxnSpPr>
          <p:nvPr/>
        </p:nvCxnSpPr>
        <p:spPr>
          <a:xfrm flipH="1">
            <a:off x="4570200" y="1071360"/>
            <a:ext cx="3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4" name="Прямая со стрелкой 22"/>
          <p:cNvCxnSpPr>
            <a:stCxn id="345" idx="2"/>
            <a:endCxn id="349" idx="0"/>
          </p:cNvCxnSpPr>
          <p:nvPr/>
        </p:nvCxnSpPr>
        <p:spPr>
          <a:xfrm>
            <a:off x="4572000" y="1071360"/>
            <a:ext cx="264384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5" name="Прямая со стрелкой 26"/>
          <p:cNvCxnSpPr>
            <a:stCxn id="348" idx="2"/>
            <a:endCxn id="350" idx="0"/>
          </p:cNvCxnSpPr>
          <p:nvPr/>
        </p:nvCxnSpPr>
        <p:spPr>
          <a:xfrm flipH="1">
            <a:off x="4570200" y="3071520"/>
            <a:ext cx="3600" cy="85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6" name="Прямая со стрелкой 29"/>
          <p:cNvCxnSpPr>
            <a:stCxn id="349" idx="2"/>
            <a:endCxn id="350" idx="0"/>
          </p:cNvCxnSpPr>
          <p:nvPr/>
        </p:nvCxnSpPr>
        <p:spPr>
          <a:xfrm flipH="1">
            <a:off x="4571640" y="3071520"/>
            <a:ext cx="26438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7" name="Прямая со стрелкой 32"/>
          <p:cNvCxnSpPr>
            <a:stCxn id="347" idx="2"/>
            <a:endCxn id="350" idx="0"/>
          </p:cNvCxnSpPr>
          <p:nvPr/>
        </p:nvCxnSpPr>
        <p:spPr>
          <a:xfrm>
            <a:off x="1856160" y="3071520"/>
            <a:ext cx="27154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8" name="Прямая со стрелкой 35"/>
          <p:cNvCxnSpPr>
            <a:stCxn id="350" idx="2"/>
            <a:endCxn id="351" idx="0"/>
          </p:cNvCxnSpPr>
          <p:nvPr/>
        </p:nvCxnSpPr>
        <p:spPr>
          <a:xfrm flipH="1">
            <a:off x="4570200" y="4930920"/>
            <a:ext cx="360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274680" y="2822400"/>
            <a:ext cx="4419720" cy="1779840"/>
          </a:xfrm>
          <a:prstGeom prst="rect">
            <a:avLst/>
          </a:prstGeom>
          <a:ln w="0">
            <a:noFill/>
          </a:ln>
        </p:spPr>
      </p:pic>
      <p:grpSp>
        <p:nvGrpSpPr>
          <p:cNvPr id="360" name="Rectangle 3"/>
          <p:cNvGrpSpPr/>
          <p:nvPr/>
        </p:nvGrpSpPr>
        <p:grpSpPr>
          <a:xfrm>
            <a:off x="1682640" y="3919680"/>
            <a:ext cx="7096320" cy="1755720"/>
            <a:chOff x="1682640" y="3919680"/>
            <a:chExt cx="7096320" cy="1755720"/>
          </a:xfrm>
        </p:grpSpPr>
        <p:pic>
          <p:nvPicPr>
            <p:cNvPr id="361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919680"/>
              <a:ext cx="70963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928880" y="4071960"/>
              <a:ext cx="66438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явка клієнта на певну кількість спеціально створених або виготовлених для нього вироб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3" name="AutoShape 2" descr=""/>
          <p:cNvPicPr/>
          <p:nvPr/>
        </p:nvPicPr>
        <p:blipFill>
          <a:blip r:embed="rId3"/>
          <a:stretch/>
        </p:blipFill>
        <p:spPr>
          <a:xfrm>
            <a:off x="-23760" y="396720"/>
            <a:ext cx="4840200" cy="2559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AutoShape 2" descr=""/>
          <p:cNvPicPr/>
          <p:nvPr/>
        </p:nvPicPr>
        <p:blipFill>
          <a:blip r:embed="rId1"/>
          <a:stretch/>
        </p:blipFill>
        <p:spPr>
          <a:xfrm>
            <a:off x="55440" y="1036800"/>
            <a:ext cx="442440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3"/>
          <p:cNvGrpSpPr/>
          <p:nvPr/>
        </p:nvGrpSpPr>
        <p:grpSpPr>
          <a:xfrm>
            <a:off x="1468440" y="2706840"/>
            <a:ext cx="7742160" cy="2608200"/>
            <a:chOff x="1468440" y="2706840"/>
            <a:chExt cx="7742160" cy="2608200"/>
          </a:xfrm>
        </p:grpSpPr>
        <p:pic>
          <p:nvPicPr>
            <p:cNvPr id="36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706840"/>
              <a:ext cx="774216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714680" y="2857680"/>
              <a:ext cx="7286400" cy="24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тому, що прямі витрати відображаються  в обліку не за видами продукції, а за переділами, навіть, якщо в одному переділі можна отримати продукцію різних вид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274680" y="2610000"/>
            <a:ext cx="4419720" cy="1133280"/>
          </a:xfrm>
          <a:prstGeom prst="rect">
            <a:avLst/>
          </a:prstGeom>
          <a:ln w="0">
            <a:noFill/>
          </a:ln>
        </p:spPr>
      </p:pic>
      <p:grpSp>
        <p:nvGrpSpPr>
          <p:cNvPr id="369" name="Rectangle 3"/>
          <p:cNvGrpSpPr/>
          <p:nvPr/>
        </p:nvGrpSpPr>
        <p:grpSpPr>
          <a:xfrm>
            <a:off x="1682640" y="3419640"/>
            <a:ext cx="7309080" cy="2993760"/>
            <a:chOff x="1682640" y="3419640"/>
            <a:chExt cx="7309080" cy="2993760"/>
          </a:xfrm>
        </p:grpSpPr>
        <p:pic>
          <p:nvPicPr>
            <p:cNvPr id="370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419640"/>
              <a:ext cx="730908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928880" y="3571920"/>
              <a:ext cx="68580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астина технологічного процесу (сукупність технологічних операцій),  що завершується отриманням готового напівфабрикату, який може відправлятись в наступний переділ або реалізовуватись на сторон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2" name="AutoShape 2" descr=""/>
          <p:cNvPicPr/>
          <p:nvPr/>
        </p:nvPicPr>
        <p:blipFill>
          <a:blip r:embed="rId3"/>
          <a:stretch/>
        </p:blipFill>
        <p:spPr>
          <a:xfrm>
            <a:off x="-23760" y="109440"/>
            <a:ext cx="4840200" cy="256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7" descr=""/>
          <p:cNvPicPr/>
          <p:nvPr/>
        </p:nvPicPr>
        <p:blipFill>
          <a:blip r:embed="rId3"/>
          <a:stretch/>
        </p:blipFill>
        <p:spPr>
          <a:xfrm>
            <a:off x="3340080" y="2103480"/>
            <a:ext cx="2463840" cy="56052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8" descr=""/>
          <p:cNvPicPr/>
          <p:nvPr/>
        </p:nvPicPr>
        <p:blipFill>
          <a:blip r:embed="rId4"/>
          <a:stretch/>
        </p:blipFill>
        <p:spPr>
          <a:xfrm>
            <a:off x="655308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481560"/>
            <a:ext cx="2463840" cy="1035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3" descr=""/>
          <p:cNvPicPr/>
          <p:nvPr/>
        </p:nvPicPr>
        <p:blipFill>
          <a:blip r:embed="rId6"/>
          <a:stretch/>
        </p:blipFill>
        <p:spPr>
          <a:xfrm>
            <a:off x="3340080" y="5048280"/>
            <a:ext cx="246384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79" name="Прямая со стрелкой 15"/>
          <p:cNvCxnSpPr>
            <a:stCxn id="373" idx="2"/>
            <a:endCxn id="374" idx="0"/>
          </p:cNvCxnSpPr>
          <p:nvPr/>
        </p:nvCxnSpPr>
        <p:spPr>
          <a:xfrm flipH="1">
            <a:off x="135684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Прямая со стрелкой 19"/>
          <p:cNvCxnSpPr>
            <a:stCxn id="373" idx="2"/>
            <a:endCxn id="375" idx="0"/>
          </p:cNvCxnSpPr>
          <p:nvPr/>
        </p:nvCxnSpPr>
        <p:spPr>
          <a:xfrm flipH="1">
            <a:off x="4570200" y="1071720"/>
            <a:ext cx="36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1" name="Прямая со стрелкой 22"/>
          <p:cNvCxnSpPr>
            <a:stCxn id="373" idx="2"/>
            <a:endCxn id="376" idx="0"/>
          </p:cNvCxnSpPr>
          <p:nvPr/>
        </p:nvCxnSpPr>
        <p:spPr>
          <a:xfrm>
            <a:off x="457200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2" name="Прямая со стрелкой 26"/>
          <p:cNvCxnSpPr>
            <a:stCxn id="375" idx="3"/>
            <a:endCxn id="376" idx="1"/>
          </p:cNvCxnSpPr>
          <p:nvPr/>
        </p:nvCxnSpPr>
        <p:spPr>
          <a:xfrm>
            <a:off x="578592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3" name="Прямая со стрелкой 29"/>
          <p:cNvCxnSpPr>
            <a:stCxn id="376" idx="2"/>
            <a:endCxn id="377" idx="0"/>
          </p:cNvCxnSpPr>
          <p:nvPr/>
        </p:nvCxnSpPr>
        <p:spPr>
          <a:xfrm flipH="1">
            <a:off x="4571640" y="2642760"/>
            <a:ext cx="321552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Прямая со стрелкой 32"/>
          <p:cNvCxnSpPr>
            <a:stCxn id="374" idx="3"/>
            <a:endCxn id="375" idx="1"/>
          </p:cNvCxnSpPr>
          <p:nvPr/>
        </p:nvCxnSpPr>
        <p:spPr>
          <a:xfrm>
            <a:off x="257148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Прямая со стрелкой 35"/>
          <p:cNvCxnSpPr>
            <a:stCxn id="377" idx="2"/>
            <a:endCxn id="378" idx="0"/>
          </p:cNvCxnSpPr>
          <p:nvPr/>
        </p:nvCxnSpPr>
        <p:spPr>
          <a:xfrm flipH="1">
            <a:off x="4570200" y="4502160"/>
            <a:ext cx="360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Прямоугольник 1" descr=""/>
          <p:cNvPicPr/>
          <p:nvPr/>
        </p:nvPicPr>
        <p:blipFill>
          <a:blip r:embed="rId1"/>
          <a:stretch/>
        </p:blipFill>
        <p:spPr>
          <a:xfrm>
            <a:off x="981000" y="122400"/>
            <a:ext cx="7182000" cy="96804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6" descr=""/>
          <p:cNvPicPr/>
          <p:nvPr/>
        </p:nvPicPr>
        <p:blipFill>
          <a:blip r:embed="rId2"/>
          <a:stretch/>
        </p:blipFill>
        <p:spPr>
          <a:xfrm>
            <a:off x="171360" y="1547640"/>
            <a:ext cx="4430880" cy="2475000"/>
          </a:xfrm>
          <a:prstGeom prst="rect">
            <a:avLst/>
          </a:prstGeom>
          <a:ln w="0">
            <a:noFill/>
          </a:ln>
        </p:spPr>
      </p:pic>
      <p:cxnSp>
        <p:nvCxnSpPr>
          <p:cNvPr id="388" name="Прямая со стрелкой 15"/>
          <p:cNvCxnSpPr>
            <a:stCxn id="386" idx="2"/>
          </p:cNvCxnSpPr>
          <p:nvPr/>
        </p:nvCxnSpPr>
        <p:spPr>
          <a:xfrm flipH="1">
            <a:off x="3202920" y="1071360"/>
            <a:ext cx="136908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9" name="Прямая со стрелкой 22"/>
          <p:cNvCxnSpPr>
            <a:stCxn id="386" idx="2"/>
          </p:cNvCxnSpPr>
          <p:nvPr/>
        </p:nvCxnSpPr>
        <p:spPr>
          <a:xfrm>
            <a:off x="4572000" y="1071360"/>
            <a:ext cx="129600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0" name="Прямоугольник 27" descr=""/>
          <p:cNvPicPr/>
          <p:nvPr/>
        </p:nvPicPr>
        <p:blipFill>
          <a:blip r:embed="rId3"/>
          <a:stretch/>
        </p:blipFill>
        <p:spPr>
          <a:xfrm>
            <a:off x="4730760" y="1566720"/>
            <a:ext cx="4468680" cy="252900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9" descr=""/>
          <p:cNvPicPr/>
          <p:nvPr/>
        </p:nvPicPr>
        <p:blipFill>
          <a:blip r:embed="rId4"/>
          <a:stretch/>
        </p:blipFill>
        <p:spPr>
          <a:xfrm>
            <a:off x="1011240" y="4133880"/>
            <a:ext cx="718200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10" descr=""/>
          <p:cNvPicPr/>
          <p:nvPr/>
        </p:nvPicPr>
        <p:blipFill>
          <a:blip r:embed="rId5"/>
          <a:stretch/>
        </p:blipFill>
        <p:spPr>
          <a:xfrm>
            <a:off x="334800" y="5211720"/>
            <a:ext cx="4419720" cy="1506600"/>
          </a:xfrm>
          <a:prstGeom prst="rect">
            <a:avLst/>
          </a:prstGeom>
          <a:ln w="0">
            <a:noFill/>
          </a:ln>
        </p:spPr>
      </p:pic>
      <p:cxnSp>
        <p:nvCxnSpPr>
          <p:cNvPr id="393" name="Прямая со стрелкой 11"/>
          <p:cNvCxnSpPr/>
          <p:nvPr/>
        </p:nvCxnSpPr>
        <p:spPr>
          <a:xfrm flipH="1">
            <a:off x="3355200" y="4743360"/>
            <a:ext cx="136908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4" name="Прямая со стрелкой 12"/>
          <p:cNvCxnSpPr/>
          <p:nvPr/>
        </p:nvCxnSpPr>
        <p:spPr>
          <a:xfrm>
            <a:off x="4723920" y="4743360"/>
            <a:ext cx="129636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5" name="Прямоугольник 13" descr=""/>
          <p:cNvPicPr/>
          <p:nvPr/>
        </p:nvPicPr>
        <p:blipFill>
          <a:blip r:embed="rId6"/>
          <a:stretch/>
        </p:blipFill>
        <p:spPr>
          <a:xfrm>
            <a:off x="4925880" y="5237280"/>
            <a:ext cx="4449960" cy="130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AutoShape 2" descr=""/>
          <p:cNvPicPr/>
          <p:nvPr/>
        </p:nvPicPr>
        <p:blipFill>
          <a:blip r:embed="rId1"/>
          <a:stretch/>
        </p:blipFill>
        <p:spPr>
          <a:xfrm>
            <a:off x="55440" y="1109520"/>
            <a:ext cx="4992840" cy="1994040"/>
          </a:xfrm>
          <a:prstGeom prst="rect">
            <a:avLst/>
          </a:prstGeom>
          <a:ln w="0">
            <a:noFill/>
          </a:ln>
        </p:spPr>
      </p:pic>
      <p:grpSp>
        <p:nvGrpSpPr>
          <p:cNvPr id="397" name="Rectangle 3"/>
          <p:cNvGrpSpPr/>
          <p:nvPr/>
        </p:nvGrpSpPr>
        <p:grpSpPr>
          <a:xfrm>
            <a:off x="1328760" y="2773440"/>
            <a:ext cx="7736040" cy="1828800"/>
            <a:chOff x="1328760" y="2773440"/>
            <a:chExt cx="7736040" cy="1828800"/>
          </a:xfrm>
        </p:grpSpPr>
        <p:pic>
          <p:nvPicPr>
            <p:cNvPr id="398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773440"/>
              <a:ext cx="77360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571760" y="2928960"/>
              <a:ext cx="72864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укція визначена з врахуванням ступеня її готовності на кожному з її переділ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1" name="Скругленный прямоугольник 16"/>
          <p:cNvSpPr/>
          <p:nvPr/>
        </p:nvSpPr>
        <p:spPr>
          <a:xfrm>
            <a:off x="2197080" y="2289240"/>
            <a:ext cx="612000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Узагальнення даних про рух одиниць продукції за кількістю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трелка вправо с вырезом 10"/>
          <p:cNvSpPr/>
          <p:nvPr/>
        </p:nvSpPr>
        <p:spPr>
          <a:xfrm>
            <a:off x="214200" y="2503440"/>
            <a:ext cx="1765440" cy="1069920"/>
          </a:xfrm>
          <a:custGeom>
            <a:avLst/>
            <a:gdLst>
              <a:gd name="textAreaLeft" fmla="*/ 267480 w 1765440"/>
              <a:gd name="textAreaRight" fmla="*/ 1497960 w 176544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1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579600"/>
            <a:ext cx="8388000" cy="1498320"/>
          </a:xfrm>
          <a:prstGeom prst="rect">
            <a:avLst/>
          </a:prstGeom>
          <a:ln w="0">
            <a:noFill/>
          </a:ln>
        </p:spPr>
      </p:pic>
      <p:sp>
        <p:nvSpPr>
          <p:cNvPr id="404" name="Скругленный прямоугольник 11"/>
          <p:cNvSpPr/>
          <p:nvPr/>
        </p:nvSpPr>
        <p:spPr>
          <a:xfrm>
            <a:off x="2349360" y="234936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Обчислення еквівалентних одиниць готової продукції для кожної статті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Стрелка вправо с вырезом 12"/>
          <p:cNvSpPr/>
          <p:nvPr/>
        </p:nvSpPr>
        <p:spPr>
          <a:xfrm>
            <a:off x="366840" y="249228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2 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4000" y="4221000"/>
          <a:ext cx="8643960" cy="2468880"/>
        </p:xfrm>
        <a:graphic>
          <a:graphicData uri="http://schemas.openxmlformats.org/drawingml/2006/table">
            <a:tbl>
              <a:tblPr/>
              <a:tblGrid>
                <a:gridCol w="2714400"/>
                <a:gridCol w="2643120"/>
                <a:gridCol w="3286440"/>
              </a:tblGrid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числення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 НВк – ЕО у НВп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НВ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ласифікація методів обліку витрат і калькулюванн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директ-костинг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стандарт-кост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нормативного метод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собливості застосування систем калькулювання зарубіжних краї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8" name="Скругленный прямоугольник 6"/>
          <p:cNvSpPr/>
          <p:nvPr/>
        </p:nvSpPr>
        <p:spPr>
          <a:xfrm>
            <a:off x="900000" y="3284640"/>
            <a:ext cx="7569360" cy="30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агальна сума витрат на виробництво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а на початок періо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поточного пері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трелка вправо с вырезом 11"/>
          <p:cNvSpPr/>
          <p:nvPr/>
        </p:nvSpPr>
        <p:spPr>
          <a:xfrm>
            <a:off x="366840" y="1844640"/>
            <a:ext cx="1765080" cy="1069920"/>
          </a:xfrm>
          <a:custGeom>
            <a:avLst/>
            <a:gdLst>
              <a:gd name="textAreaLeft" fmla="*/ 267480 w 1765080"/>
              <a:gd name="textAreaRight" fmla="*/ 1497600 w 176508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12"/>
          <p:cNvSpPr/>
          <p:nvPr/>
        </p:nvSpPr>
        <p:spPr>
          <a:xfrm>
            <a:off x="2124000" y="162864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Визначення загальної суми витрат на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3024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2" name="Скругленный прямоугольник 16"/>
          <p:cNvSpPr/>
          <p:nvPr/>
        </p:nvSpPr>
        <p:spPr>
          <a:xfrm>
            <a:off x="2197080" y="126828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рахунок собівартості еквівалентної одиниці готової продукції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Стрелка вправо с вырезом 10"/>
          <p:cNvSpPr/>
          <p:nvPr/>
        </p:nvSpPr>
        <p:spPr>
          <a:xfrm>
            <a:off x="214200" y="1484280"/>
            <a:ext cx="1765440" cy="1068480"/>
          </a:xfrm>
          <a:custGeom>
            <a:avLst/>
            <a:gdLst>
              <a:gd name="textAreaLeft" fmla="*/ 267120 w 1765440"/>
              <a:gd name="textAreaRight" fmla="*/ 1498320 w 176544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4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9280" y="3201840"/>
          <a:ext cx="8643960" cy="3611880"/>
        </p:xfrm>
        <a:graphic>
          <a:graphicData uri="http://schemas.openxmlformats.org/drawingml/2006/table">
            <a:tbl>
              <a:tblPr/>
              <a:tblGrid>
                <a:gridCol w="2714760"/>
                <a:gridCol w="2643120"/>
                <a:gridCol w="32860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ЕО готової продукції =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витрат поточного періоду на кількість ЕО поточного періоду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загальної суми витрат виробництва на загальну кількість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6" name="Скругленный прямоугольник 6"/>
          <p:cNvSpPr/>
          <p:nvPr/>
        </p:nvSpPr>
        <p:spPr>
          <a:xfrm>
            <a:off x="2349360" y="1989000"/>
            <a:ext cx="6120000" cy="1716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поділ виробничих витрат між готовою продукцією, браком та незавершеним виробництвом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трелка вправо с вырезом 7"/>
          <p:cNvSpPr/>
          <p:nvPr/>
        </p:nvSpPr>
        <p:spPr>
          <a:xfrm>
            <a:off x="366840" y="213192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5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468360" y="1197000"/>
          <a:ext cx="8351640" cy="5486400"/>
        </p:xfrm>
        <a:graphic>
          <a:graphicData uri="http://schemas.openxmlformats.org/drawingml/2006/table">
            <a:tbl>
              <a:tblPr/>
              <a:tblGrid>
                <a:gridCol w="1670040"/>
                <a:gridCol w="1670040"/>
                <a:gridCol w="1671480"/>
                <a:gridCol w="1670040"/>
                <a:gridCol w="1670040"/>
              </a:tblGrid>
              <a:tr h="274680"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,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(матеріали 100 %, обробка 6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уск у виробництво у квітн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кінець місяця (матеріали 100 %, обробка 4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171360"/>
            <a:ext cx="8516880" cy="12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"/>
          <p:cNvGraphicFramePr/>
          <p:nvPr/>
        </p:nvGraphicFramePr>
        <p:xfrm>
          <a:off x="468360" y="1557360"/>
          <a:ext cx="8280360" cy="5181480"/>
        </p:xfrm>
        <a:graphic>
          <a:graphicData uri="http://schemas.openxmlformats.org/drawingml/2006/table">
            <a:tbl>
              <a:tblPr/>
              <a:tblGrid>
                <a:gridCol w="2590920"/>
                <a:gridCol w="1296720"/>
                <a:gridCol w="1584360"/>
                <a:gridCol w="1884600"/>
                <a:gridCol w="923760"/>
              </a:tblGrid>
              <a:tr h="610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48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лишок на кінець періоду, 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 = Кількість одиниць в незавершеному виробництві на кінець періоду х % оброб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\+ 20000 = 8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539640" y="476280"/>
          <a:ext cx="8136000" cy="5911920"/>
        </p:xfrm>
        <a:graphic>
          <a:graphicData uri="http://schemas.openxmlformats.org/drawingml/2006/table">
            <a:tbl>
              <a:tblPr/>
              <a:tblGrid>
                <a:gridCol w="1962360"/>
                <a:gridCol w="1279440"/>
                <a:gridCol w="1617480"/>
                <a:gridCol w="2368800"/>
                <a:gridCol w="907920"/>
              </a:tblGrid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обничі витрати, грн.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0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витр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+ 88000 = 9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+ 54000 = 577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+ 43200 = 46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100 / 85000 = 1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Скругленный прямоугольник 2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Собівартість готової продукції = 65000 од х 2,57 = 167050 гр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кінець період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мат. витрати = 20000 х 100 % х 1,15 = 2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витрати на оплату праці = 20000 х 40 % х 0,79 = 63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ЗВВ = 20000 х 40 % х 0,63 = 50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Разов незавершене виробництво = 3436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171360"/>
            <a:ext cx="838800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395280" y="1268280"/>
          <a:ext cx="8353440" cy="540396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727280"/>
                <a:gridCol w="1804680"/>
                <a:gridCol w="932040"/>
              </a:tblGrid>
              <a:tr h="428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. витра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В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 К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100 % = (5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. виробництво на кінець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5000 + 20000 = 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 - 3000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3000 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. витрати, грн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/ 80000 = 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Скругленный прямоугольник 1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на завершення обробки 5000 од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Матеріали – оброблені повніст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ОП 5000 х (100%-60%)х 0,77 = 15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ВВ 5000 х (100%-60%)х 0,62 = 1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Разом витрат на завершення обробки  27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початок місяця = 10100 + 3720 + 2820 = 166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Скругленный прямоугольник 1"/>
          <p:cNvSpPr/>
          <p:nvPr/>
        </p:nvSpPr>
        <p:spPr>
          <a:xfrm>
            <a:off x="324000" y="333360"/>
            <a:ext cx="8145360" cy="6048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решти продукції, виготовленої в звітному періоді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65000 од. – 5000 од.) х 2,49 = 14940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 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итрати на завершення оброки незавершеного виробництва на початок періоду + Собівартість решти продукції, виготовленої в звітному періоді + Незавершене виробництво на початок місяц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780 + 149400 + 16640 = 16882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авершене виробництво на кінець періоду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 = 20000 х 100% х 1,1 = 2200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 = 20000 х 40% х 0,77 = 61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В = 20000 х 40% х 0,62 = 4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ом = 331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305" name="Rectangle 3"/>
          <p:cNvGrpSpPr/>
          <p:nvPr/>
        </p:nvGrpSpPr>
        <p:grpSpPr>
          <a:xfrm>
            <a:off x="1468440" y="2487600"/>
            <a:ext cx="7742160" cy="2754360"/>
            <a:chOff x="1468440" y="2487600"/>
            <a:chExt cx="7742160" cy="2754360"/>
          </a:xfrm>
        </p:grpSpPr>
        <p:pic>
          <p:nvPicPr>
            <p:cNvPr id="30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714680" y="2643120"/>
              <a:ext cx="72864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ідображення витрат, що здійснюються на підприємстві протягом певного періоду, пов'язаних з процесом придбання, виробництва і реалізації в розрізах, що формують собівартість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55440" y="-3024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29" name="Rectangle 3"/>
          <p:cNvGrpSpPr/>
          <p:nvPr/>
        </p:nvGrpSpPr>
        <p:grpSpPr>
          <a:xfrm>
            <a:off x="1468440" y="1560600"/>
            <a:ext cx="7742160" cy="1755720"/>
            <a:chOff x="1468440" y="1560600"/>
            <a:chExt cx="7742160" cy="1755720"/>
          </a:xfrm>
        </p:grpSpPr>
        <p:pic>
          <p:nvPicPr>
            <p:cNvPr id="4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560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714680" y="1714680"/>
              <a:ext cx="72864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дбачає включення до собівартості продукції всіх змінних та постій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2" name="AutoShape 2" descr=""/>
          <p:cNvPicPr/>
          <p:nvPr/>
        </p:nvPicPr>
        <p:blipFill>
          <a:blip r:embed="rId3"/>
          <a:stretch/>
        </p:blipFill>
        <p:spPr>
          <a:xfrm>
            <a:off x="55440" y="339552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33" name="Rectangle 3"/>
          <p:cNvGrpSpPr/>
          <p:nvPr/>
        </p:nvGrpSpPr>
        <p:grpSpPr>
          <a:xfrm>
            <a:off x="1468440" y="4992840"/>
            <a:ext cx="7742160" cy="1395360"/>
            <a:chOff x="1468440" y="4992840"/>
            <a:chExt cx="7742160" cy="1395360"/>
          </a:xfrm>
        </p:grpSpPr>
        <p:pic>
          <p:nvPicPr>
            <p:cNvPr id="434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99284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14680" y="514368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включенні до собівартості продукції лише змін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214200" y="571680"/>
          <a:ext cx="8643960" cy="5715000"/>
        </p:xfrm>
        <a:graphic>
          <a:graphicData uri="http://schemas.openxmlformats.org/drawingml/2006/table">
            <a:tbl>
              <a:tblPr/>
              <a:tblGrid>
                <a:gridCol w="4000680"/>
                <a:gridCol w="1428840"/>
                <a:gridCol w="1500120"/>
                <a:gridCol w="1714320"/>
              </a:tblGrid>
              <a:tr h="47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Обсяг виробництва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Обсяг реалізації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Ціна за од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Змінні витрати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Постійні витрати,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214200" y="1071720"/>
          <a:ext cx="8643960" cy="5214960"/>
        </p:xfrm>
        <a:graphic>
          <a:graphicData uri="http://schemas.openxmlformats.org/drawingml/2006/table">
            <a:tbl>
              <a:tblPr/>
              <a:tblGrid>
                <a:gridCol w="3000600"/>
                <a:gridCol w="2000160"/>
                <a:gridCol w="1785960"/>
                <a:gridCol w="1857240"/>
              </a:tblGrid>
              <a:tr h="3808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 (п.2 х п.3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+ 21000 = 96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+ 21000/3000 = 8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+ 21000/3000 = 11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ов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+ 12000 = 4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+ 12000 = 3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+ 12000 = 4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38" name="Rectangle 3"/>
          <p:cNvGrpSpPr/>
          <p:nvPr/>
        </p:nvGrpSpPr>
        <p:grpSpPr>
          <a:xfrm>
            <a:off x="-85680" y="-152280"/>
            <a:ext cx="9279000" cy="1163520"/>
            <a:chOff x="-85680" y="-152280"/>
            <a:chExt cx="9279000" cy="1163520"/>
          </a:xfrm>
        </p:grpSpPr>
        <p:pic>
          <p:nvPicPr>
            <p:cNvPr id="439" name="Rectangle 3" descr=""/>
            <p:cNvPicPr/>
            <p:nvPr/>
          </p:nvPicPr>
          <p:blipFill>
            <a:blip r:embed="rId1"/>
            <a:stretch/>
          </p:blipFill>
          <p:spPr>
            <a:xfrm>
              <a:off x="-85680" y="-152280"/>
              <a:ext cx="92790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0" y="0"/>
              <a:ext cx="9144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пов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214200" y="1170000"/>
          <a:ext cx="8643960" cy="5402160"/>
        </p:xfrm>
        <a:graphic>
          <a:graphicData uri="http://schemas.openxmlformats.org/drawingml/2006/table">
            <a:tbl>
              <a:tblPr/>
              <a:tblGrid>
                <a:gridCol w="3357720"/>
                <a:gridCol w="1928880"/>
                <a:gridCol w="1643040"/>
                <a:gridCol w="171432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/в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= 7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= 62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= 87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мінні 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= 3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= 2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= 3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1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тійні витра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2" name="Rectangle 3"/>
          <p:cNvGrpSpPr/>
          <p:nvPr/>
        </p:nvGrpSpPr>
        <p:grpSpPr>
          <a:xfrm>
            <a:off x="55440" y="-79200"/>
            <a:ext cx="8996400" cy="1164960"/>
            <a:chOff x="55440" y="-79200"/>
            <a:chExt cx="8996400" cy="116496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42920" y="71280"/>
              <a:ext cx="88581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змін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0" y="762120"/>
          <a:ext cx="8643960" cy="6095880"/>
        </p:xfrm>
        <a:graphic>
          <a:graphicData uri="http://schemas.openxmlformats.org/drawingml/2006/table">
            <a:tbl>
              <a:tblPr/>
              <a:tblGrid>
                <a:gridCol w="3852720"/>
                <a:gridCol w="1433520"/>
                <a:gridCol w="1643040"/>
                <a:gridCol w="171468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Запаси гот. прод . на поч.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Запаси гот. прод. На кінець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Зміна у запасах  (п.2-п.1))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Постійні ЗВВ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Різниця у прибутку  (п.3хп.4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+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. Фін. рез. (калькул. зм. в-т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. Калькулювання повних витрат (п.5+п.6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6" name="Rectangle 3"/>
          <p:cNvGrpSpPr/>
          <p:nvPr/>
        </p:nvGrpSpPr>
        <p:grpSpPr>
          <a:xfrm>
            <a:off x="55440" y="-79200"/>
            <a:ext cx="8996400" cy="804600"/>
            <a:chOff x="55440" y="-79200"/>
            <a:chExt cx="8996400" cy="804600"/>
          </a:xfrm>
        </p:grpSpPr>
        <p:pic>
          <p:nvPicPr>
            <p:cNvPr id="447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2920" y="71280"/>
              <a:ext cx="885816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ЗГОДЖЕННЯ ФІНАНСОВОГО РЕЗУЛЬТАТ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5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55440" y="1895400"/>
            <a:ext cx="442440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70" name="Rectangle 3"/>
          <p:cNvGrpSpPr/>
          <p:nvPr/>
        </p:nvGrpSpPr>
        <p:grpSpPr>
          <a:xfrm>
            <a:off x="1292400" y="2548080"/>
            <a:ext cx="7808760" cy="1414440"/>
            <a:chOff x="1292400" y="2548080"/>
            <a:chExt cx="7808760" cy="1414440"/>
          </a:xfrm>
        </p:grpSpPr>
        <p:pic>
          <p:nvPicPr>
            <p:cNvPr id="471" name="Rectangle 3" descr=""/>
            <p:cNvPicPr/>
            <p:nvPr/>
          </p:nvPicPr>
          <p:blipFill>
            <a:blip r:embed="rId2"/>
            <a:stretch/>
          </p:blipFill>
          <p:spPr>
            <a:xfrm>
              <a:off x="1292400" y="2548080"/>
              <a:ext cx="78087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571760" y="271944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истема обчислення собівартості на основі прямих змінних витрат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1401840"/>
          </a:xfrm>
          <a:prstGeom prst="rect">
            <a:avLst/>
          </a:prstGeom>
          <a:ln w="0">
            <a:noFill/>
          </a:ln>
        </p:spPr>
      </p:pic>
      <p:sp>
        <p:nvSpPr>
          <p:cNvPr id="474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імеччина, Австр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ilkostenrechnung 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(облік гранич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еликобрита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rginal costing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(облік маржиналь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право с вырезом 17"/>
          <p:cNvSpPr/>
          <p:nvPr/>
        </p:nvSpPr>
        <p:spPr>
          <a:xfrm>
            <a:off x="3932280" y="487512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8"/>
          <p:cNvSpPr/>
          <p:nvPr/>
        </p:nvSpPr>
        <p:spPr>
          <a:xfrm>
            <a:off x="547560" y="480204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сійська Федерац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кругленный прямоугольник 19"/>
          <p:cNvSpPr/>
          <p:nvPr/>
        </p:nvSpPr>
        <p:spPr>
          <a:xfrm>
            <a:off x="5445000" y="4443480"/>
            <a:ext cx="3311640" cy="1793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 обмеженої собівартості, облік пропорційної собівартості, облік обмеженої собіварт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484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Простий – заснований на використанні в обліку даних тільки про змінні витрат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кругленный прямоугольник 16"/>
          <p:cNvSpPr/>
          <p:nvPr/>
        </p:nvSpPr>
        <p:spPr>
          <a:xfrm>
            <a:off x="2357280" y="2766960"/>
            <a:ext cx="64627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Розвинутий – при застосуванні якого до собівартості разом із змінними включаються також прямі постійні витрати на виробництво та реалізацію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4381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09" name="Стрелка вправо с вырезом 20"/>
          <p:cNvSpPr/>
          <p:nvPr/>
        </p:nvSpPr>
        <p:spPr>
          <a:xfrm>
            <a:off x="428760" y="19573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Скругленный прямоугольник 16"/>
          <p:cNvSpPr/>
          <p:nvPr/>
        </p:nvSpPr>
        <p:spPr>
          <a:xfrm>
            <a:off x="1857240" y="19573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гально-організацій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Стрелка вправо с вырезом 8"/>
          <p:cNvSpPr/>
          <p:nvPr/>
        </p:nvSpPr>
        <p:spPr>
          <a:xfrm>
            <a:off x="428760" y="3071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Скругленный прямоугольник 9"/>
          <p:cNvSpPr/>
          <p:nvPr/>
        </p:nvSpPr>
        <p:spPr>
          <a:xfrm>
            <a:off x="1857240" y="30718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ово-організац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трелка вправо с вырезом 14"/>
          <p:cNvSpPr/>
          <p:nvPr/>
        </p:nvSpPr>
        <p:spPr>
          <a:xfrm>
            <a:off x="357120" y="4071960"/>
            <a:ext cx="1462320" cy="857160"/>
          </a:xfrm>
          <a:custGeom>
            <a:avLst/>
            <a:gdLst>
              <a:gd name="textAreaLeft" fmla="*/ 214200 w 1462320"/>
              <a:gd name="textAreaRight" fmla="*/ 1248120 w 14623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68" y="5400"/>
                </a:lnTo>
                <a:lnTo>
                  <a:pt x="15268" y="0"/>
                </a:lnTo>
                <a:lnTo>
                  <a:pt x="21600" y="10800"/>
                </a:lnTo>
                <a:lnTo>
                  <a:pt x="15268" y="21600"/>
                </a:lnTo>
                <a:lnTo>
                  <a:pt x="15268" y="16200"/>
                </a:lnTo>
                <a:lnTo>
                  <a:pt x="0" y="16200"/>
                </a:lnTo>
                <a:lnTo>
                  <a:pt x="316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857240" y="40719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ехнолог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AutoShape 2" descr=""/>
          <p:cNvPicPr/>
          <p:nvPr/>
        </p:nvPicPr>
        <p:blipFill>
          <a:blip r:embed="rId1"/>
          <a:stretch/>
        </p:blipFill>
        <p:spPr>
          <a:xfrm>
            <a:off x="55440" y="969840"/>
            <a:ext cx="4424400" cy="1706760"/>
          </a:xfrm>
          <a:prstGeom prst="rect">
            <a:avLst/>
          </a:prstGeom>
          <a:ln w="0">
            <a:noFill/>
          </a:ln>
        </p:spPr>
      </p:pic>
      <p:grpSp>
        <p:nvGrpSpPr>
          <p:cNvPr id="489" name="Rectangle 3"/>
          <p:cNvGrpSpPr/>
          <p:nvPr/>
        </p:nvGrpSpPr>
        <p:grpSpPr>
          <a:xfrm>
            <a:off x="1328760" y="2273400"/>
            <a:ext cx="7736040" cy="1403280"/>
            <a:chOff x="1328760" y="2273400"/>
            <a:chExt cx="7736040" cy="1403280"/>
          </a:xfrm>
        </p:grpSpPr>
        <p:pic>
          <p:nvPicPr>
            <p:cNvPr id="490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273400"/>
              <a:ext cx="773604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571760" y="242892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ізниця між доходом від реалізації продукції та змінними витратами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3"/>
          <p:cNvGrpSpPr/>
          <p:nvPr/>
        </p:nvGrpSpPr>
        <p:grpSpPr>
          <a:xfrm>
            <a:off x="-19080" y="-60480"/>
            <a:ext cx="9259920" cy="6875640"/>
            <a:chOff x="-19080" y="-60480"/>
            <a:chExt cx="9259920" cy="6875640"/>
          </a:xfrm>
        </p:grpSpPr>
        <p:pic>
          <p:nvPicPr>
            <p:cNvPr id="493" name="Rectangle 3" descr=""/>
            <p:cNvPicPr/>
            <p:nvPr/>
          </p:nvPicPr>
          <p:blipFill>
            <a:blip r:embed="rId1"/>
            <a:stretch/>
          </p:blipFill>
          <p:spPr>
            <a:xfrm>
              <a:off x="-19080" y="-60480"/>
              <a:ext cx="9259920" cy="68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42920" y="214200"/>
              <a:ext cx="8858160" cy="65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ffff"/>
                  </a:solidFill>
                  <a:latin typeface="Times New Roman"/>
                </a:rPr>
                <a:t>Французька модель визначення фін. результату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Змінна собівартість продукції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Маржинальний дохід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Постійні витрати період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5. Результат (прибуток/збиток)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Правая фигурная скобка 2"/>
          <p:cNvSpPr/>
          <p:nvPr/>
        </p:nvSpPr>
        <p:spPr>
          <a:xfrm>
            <a:off x="7500960" y="2000160"/>
            <a:ext cx="642960" cy="2357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2357640"/>
              <a:gd name="textAreaBottom" fmla="*/ 234108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авая фигурная скобка 5"/>
          <p:cNvSpPr/>
          <p:nvPr/>
        </p:nvSpPr>
        <p:spPr>
          <a:xfrm>
            <a:off x="7500960" y="4500720"/>
            <a:ext cx="642960" cy="17143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714320"/>
              <a:gd name="textAreaBottom" fmla="*/ 169776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Восьмиугольник 7"/>
          <p:cNvSpPr/>
          <p:nvPr/>
        </p:nvSpPr>
        <p:spPr>
          <a:xfrm>
            <a:off x="8215200" y="2928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Восьмиугольник 8"/>
          <p:cNvSpPr/>
          <p:nvPr/>
        </p:nvSpPr>
        <p:spPr>
          <a:xfrm>
            <a:off x="8286840" y="500076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00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Американська модель визначення фін. р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2. Змінна  виробнича собівартість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аних вироб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3. Виробнича марж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4. Змінні витрати на реалізацію та управлі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5. Торговельна маржа (Заг. марж. дохід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6. Постійні витрат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7. Фінансовий результат (Результат-нетто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Правая фигурная скобка 2"/>
          <p:cNvSpPr/>
          <p:nvPr/>
        </p:nvSpPr>
        <p:spPr>
          <a:xfrm>
            <a:off x="7500960" y="1357200"/>
            <a:ext cx="642960" cy="15004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480"/>
              <a:gd name="textAreaBottom" fmla="*/ 1483920 h 15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авая фигурная скобка 5"/>
          <p:cNvSpPr/>
          <p:nvPr/>
        </p:nvSpPr>
        <p:spPr>
          <a:xfrm>
            <a:off x="7500960" y="3143160"/>
            <a:ext cx="642960" cy="15001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120"/>
              <a:gd name="textAreaBottom" fmla="*/ 1483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Восьмиугольник 7"/>
          <p:cNvSpPr/>
          <p:nvPr/>
        </p:nvSpPr>
        <p:spPr>
          <a:xfrm>
            <a:off x="8215200" y="1785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Восьмиугольник 8"/>
          <p:cNvSpPr/>
          <p:nvPr/>
        </p:nvSpPr>
        <p:spPr>
          <a:xfrm>
            <a:off x="8286840" y="3643200"/>
            <a:ext cx="571320" cy="5716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авая фигурная скобка 9"/>
          <p:cNvSpPr/>
          <p:nvPr/>
        </p:nvSpPr>
        <p:spPr>
          <a:xfrm>
            <a:off x="7500960" y="4929120"/>
            <a:ext cx="642960" cy="16430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643040"/>
              <a:gd name="textAreaBottom" fmla="*/ 16264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2"/>
                  <a:pt x="10800" y="704"/>
                </a:cubicBezTo>
                <a:lnTo>
                  <a:pt x="10800" y="10096"/>
                </a:lnTo>
                <a:cubicBezTo>
                  <a:pt x="10800" y="10448"/>
                  <a:pt x="16200" y="10800"/>
                  <a:pt x="21600" y="10800"/>
                </a:cubicBezTo>
                <a:cubicBezTo>
                  <a:pt x="16200" y="10800"/>
                  <a:pt x="10800" y="11152"/>
                  <a:pt x="10800" y="11504"/>
                </a:cubicBezTo>
                <a:lnTo>
                  <a:pt x="10800" y="20896"/>
                </a:lnTo>
                <a:cubicBezTo>
                  <a:pt x="10800" y="212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Восьмиугольник 10"/>
          <p:cNvSpPr/>
          <p:nvPr/>
        </p:nvSpPr>
        <p:spPr>
          <a:xfrm>
            <a:off x="8286840" y="5429160"/>
            <a:ext cx="571320" cy="64296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AutoShape 2" descr=""/>
          <p:cNvPicPr/>
          <p:nvPr/>
        </p:nvPicPr>
        <p:blipFill>
          <a:blip r:embed="rId1"/>
          <a:stretch/>
        </p:blipFill>
        <p:spPr>
          <a:xfrm>
            <a:off x="-85680" y="444600"/>
            <a:ext cx="4419720" cy="199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Rectangle 3"/>
          <p:cNvGrpSpPr/>
          <p:nvPr/>
        </p:nvGrpSpPr>
        <p:grpSpPr>
          <a:xfrm>
            <a:off x="1359000" y="2255760"/>
            <a:ext cx="7815240" cy="4084560"/>
            <a:chOff x="1359000" y="2255760"/>
            <a:chExt cx="7815240" cy="4084560"/>
          </a:xfrm>
        </p:grpSpPr>
        <p:pic>
          <p:nvPicPr>
            <p:cNvPr id="510" name="Rectangle 3" descr=""/>
            <p:cNvPicPr/>
            <p:nvPr/>
          </p:nvPicPr>
          <p:blipFill>
            <a:blip r:embed="rId2"/>
            <a:stretch/>
          </p:blipFill>
          <p:spPr>
            <a:xfrm>
              <a:off x="1359000" y="2255760"/>
              <a:ext cx="781524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43040" y="2428920"/>
              <a:ext cx="7286760" cy="38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Частина постійних витрат відноситься прямо без умовного розподілу на: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відповідні вироби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Групи виробів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центри відповідальності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сегменти діяльності 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13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Схема  визначення фін. </a:t>
              </a:r>
              <a:r>
                <a:rPr b="1" lang="ru-RU" sz="35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Дохід від реалізації виробу – Змінна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Собів-ть виробу = Напівмаржа за виробом (МД 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виріб = Напівмаржа групи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виробів (МД 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групи продукції =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Напівмаржа місця виникнення витрат (МД І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стійні витрати місця виникнення витрат = Напівмаржа по підрозділу(МД І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</a:t>
              </a: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</a:rPr>
                <a:t>дрозділу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= Напівмаржа по підприємству (МД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ДПРИЄМТВА = ФІНАНСОВИЙ РЕЗУЛЬТ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Правая фигурная скобка 2"/>
          <p:cNvSpPr/>
          <p:nvPr/>
        </p:nvSpPr>
        <p:spPr>
          <a:xfrm>
            <a:off x="7607160" y="620640"/>
            <a:ext cx="642960" cy="1079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79640"/>
              <a:gd name="textAreaBottom" fmla="*/ 10630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6"/>
                  <a:pt x="10800" y="1072"/>
                </a:cubicBezTo>
                <a:lnTo>
                  <a:pt x="10800" y="9728"/>
                </a:lnTo>
                <a:cubicBezTo>
                  <a:pt x="10800" y="10264"/>
                  <a:pt x="16200" y="10800"/>
                  <a:pt x="21600" y="10800"/>
                </a:cubicBezTo>
                <a:cubicBezTo>
                  <a:pt x="16200" y="10800"/>
                  <a:pt x="10800" y="11336"/>
                  <a:pt x="10800" y="11872"/>
                </a:cubicBezTo>
                <a:lnTo>
                  <a:pt x="10800" y="20528"/>
                </a:lnTo>
                <a:cubicBezTo>
                  <a:pt x="10800" y="210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авая фигурная скобка 5"/>
          <p:cNvSpPr/>
          <p:nvPr/>
        </p:nvSpPr>
        <p:spPr>
          <a:xfrm>
            <a:off x="7674120" y="1700280"/>
            <a:ext cx="642960" cy="10810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81080"/>
              <a:gd name="textAreaBottom" fmla="*/ 10645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5"/>
                  <a:pt x="10800" y="1070"/>
                </a:cubicBezTo>
                <a:lnTo>
                  <a:pt x="10800" y="9730"/>
                </a:lnTo>
                <a:cubicBezTo>
                  <a:pt x="10800" y="10265"/>
                  <a:pt x="16200" y="10800"/>
                  <a:pt x="21600" y="10800"/>
                </a:cubicBezTo>
                <a:cubicBezTo>
                  <a:pt x="16200" y="10800"/>
                  <a:pt x="10800" y="11335"/>
                  <a:pt x="10800" y="11870"/>
                </a:cubicBezTo>
                <a:lnTo>
                  <a:pt x="10800" y="20530"/>
                </a:lnTo>
                <a:cubicBezTo>
                  <a:pt x="10800" y="210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Восьмиугольник 7"/>
          <p:cNvSpPr/>
          <p:nvPr/>
        </p:nvSpPr>
        <p:spPr>
          <a:xfrm>
            <a:off x="8321760" y="105264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Восьмиугольник 8"/>
          <p:cNvSpPr/>
          <p:nvPr/>
        </p:nvSpPr>
        <p:spPr>
          <a:xfrm>
            <a:off x="8286840" y="191628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авая фигурная скобка 9"/>
          <p:cNvSpPr/>
          <p:nvPr/>
        </p:nvSpPr>
        <p:spPr>
          <a:xfrm>
            <a:off x="7678800" y="2781360"/>
            <a:ext cx="642960" cy="115236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360"/>
              <a:gd name="textAreaBottom" fmla="*/ 113580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Восьмиугольник 10"/>
          <p:cNvSpPr/>
          <p:nvPr/>
        </p:nvSpPr>
        <p:spPr>
          <a:xfrm>
            <a:off x="8464680" y="3193920"/>
            <a:ext cx="571320" cy="4510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Восьмиугольник 11"/>
          <p:cNvSpPr/>
          <p:nvPr/>
        </p:nvSpPr>
        <p:spPr>
          <a:xfrm>
            <a:off x="8464680" y="4202280"/>
            <a:ext cx="57132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авая фигурная скобка 12"/>
          <p:cNvSpPr/>
          <p:nvPr/>
        </p:nvSpPr>
        <p:spPr>
          <a:xfrm>
            <a:off x="7812000" y="3933720"/>
            <a:ext cx="642960" cy="11509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0920"/>
              <a:gd name="textAreaBottom" fmla="*/ 113436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3"/>
                  <a:pt x="10800" y="1005"/>
                </a:cubicBezTo>
                <a:lnTo>
                  <a:pt x="10800" y="9795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3"/>
                  <a:pt x="10800" y="11805"/>
                </a:cubicBezTo>
                <a:lnTo>
                  <a:pt x="10800" y="20595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Восьмиугольник 13"/>
          <p:cNvSpPr/>
          <p:nvPr/>
        </p:nvSpPr>
        <p:spPr>
          <a:xfrm>
            <a:off x="8393040" y="5354640"/>
            <a:ext cx="57168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авая фигурная скобка 14"/>
          <p:cNvSpPr/>
          <p:nvPr/>
        </p:nvSpPr>
        <p:spPr>
          <a:xfrm>
            <a:off x="7740720" y="5084640"/>
            <a:ext cx="642960" cy="11527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720"/>
              <a:gd name="textAreaBottom" fmla="*/ 11361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26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Скругленный прямоугольник 11"/>
          <p:cNvSpPr/>
          <p:nvPr/>
        </p:nvSpPr>
        <p:spPr>
          <a:xfrm>
            <a:off x="468360" y="2133720"/>
            <a:ext cx="331164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операційний прибуток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Скругленный прямоугольник 15"/>
          <p:cNvSpPr/>
          <p:nvPr/>
        </p:nvSpPr>
        <p:spPr>
          <a:xfrm>
            <a:off x="5364000" y="235584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маржинальний дохі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Стрелка вправо с вырезом 17"/>
          <p:cNvSpPr/>
          <p:nvPr/>
        </p:nvSpPr>
        <p:spPr>
          <a:xfrm>
            <a:off x="3932280" y="33591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Скругленный прямоугольник 18"/>
          <p:cNvSpPr/>
          <p:nvPr/>
        </p:nvSpPr>
        <p:spPr>
          <a:xfrm>
            <a:off x="547560" y="32860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повну собіварті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Скругленный прямоугольник 19"/>
          <p:cNvSpPr/>
          <p:nvPr/>
        </p:nvSpPr>
        <p:spPr>
          <a:xfrm>
            <a:off x="5445000" y="328608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обчислити критичний обсяг реаліза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Стрелка вправо с вырезом 14"/>
          <p:cNvSpPr/>
          <p:nvPr/>
        </p:nvSpPr>
        <p:spPr>
          <a:xfrm>
            <a:off x="3924360" y="4587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кругленный прямоугольник 16"/>
          <p:cNvSpPr/>
          <p:nvPr/>
        </p:nvSpPr>
        <p:spPr>
          <a:xfrm>
            <a:off x="539640" y="4514760"/>
            <a:ext cx="331308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довг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Скругленный прямоугольник 20"/>
          <p:cNvSpPr/>
          <p:nvPr/>
        </p:nvSpPr>
        <p:spPr>
          <a:xfrm>
            <a:off x="5437080" y="4514760"/>
            <a:ext cx="331164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коротк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38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Скругленный прямоугольник 11"/>
          <p:cNvSpPr/>
          <p:nvPr/>
        </p:nvSpPr>
        <p:spPr>
          <a:xfrm>
            <a:off x="468360" y="2133720"/>
            <a:ext cx="3311640" cy="18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Орієнтує менеджмент на досягнення найкращих результатів в противагу оптимізації виробничого проце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Скругленный прямоугольник 15"/>
          <p:cNvSpPr/>
          <p:nvPr/>
        </p:nvSpPr>
        <p:spPr>
          <a:xfrm>
            <a:off x="5364000" y="2205000"/>
            <a:ext cx="3311640" cy="1720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 найбільш оптимальну програму випуску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Стрелка вправо с вырезом 17"/>
          <p:cNvSpPr/>
          <p:nvPr/>
        </p:nvSpPr>
        <p:spPr>
          <a:xfrm>
            <a:off x="3932280" y="41511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Скругленный прямоугольник 18"/>
          <p:cNvSpPr/>
          <p:nvPr/>
        </p:nvSpPr>
        <p:spPr>
          <a:xfrm>
            <a:off x="547560" y="407844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на застосовувати на будь-яких підприємства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Скругленный прямоугольник 19"/>
          <p:cNvSpPr/>
          <p:nvPr/>
        </p:nvSpPr>
        <p:spPr>
          <a:xfrm>
            <a:off x="5445000" y="407844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Доцільно застосовувати на підприємствах з невеликим рівнем постійних вит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Стрелка вправо с вырезом 14"/>
          <p:cNvSpPr/>
          <p:nvPr/>
        </p:nvSpPr>
        <p:spPr>
          <a:xfrm>
            <a:off x="3924360" y="5380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Скругленный прямоугольник 16"/>
          <p:cNvSpPr/>
          <p:nvPr/>
        </p:nvSpPr>
        <p:spPr>
          <a:xfrm>
            <a:off x="539640" y="5307120"/>
            <a:ext cx="331308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Більші трудомістка система контрол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Скругленный прямоугольник 20"/>
          <p:cNvSpPr/>
          <p:nvPr/>
        </p:nvSpPr>
        <p:spPr>
          <a:xfrm>
            <a:off x="5437080" y="5307120"/>
            <a:ext cx="331164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истема контролю більш операти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0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ідсутність складних процедур з розподілу постійних витрат за видами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явність аналітичних перева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ає можливість більш оперативно контролювати постійні витр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простити нормування, планування через зменшення статей витр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9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ливість застосування демпінгового ціноутворен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кладність у розмежуванні витрат на постійні та змінні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відповідність вітчизняній системі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икривлення загальної величини прибут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трелка вправо с вырезом 18"/>
          <p:cNvSpPr/>
          <p:nvPr/>
        </p:nvSpPr>
        <p:spPr>
          <a:xfrm>
            <a:off x="1450800" y="566748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19"/>
          <p:cNvSpPr/>
          <p:nvPr/>
        </p:nvSpPr>
        <p:spPr>
          <a:xfrm>
            <a:off x="2879640" y="5738760"/>
            <a:ext cx="617400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 співпадання результатів фін. звітності із даними управлінського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AutoShape 2" descr=""/>
          <p:cNvPicPr/>
          <p:nvPr/>
        </p:nvPicPr>
        <p:blipFill>
          <a:blip r:embed="rId1"/>
          <a:stretch/>
        </p:blipFill>
        <p:spPr>
          <a:xfrm>
            <a:off x="201600" y="822240"/>
            <a:ext cx="4419720" cy="1067040"/>
          </a:xfrm>
          <a:prstGeom prst="rect">
            <a:avLst/>
          </a:prstGeom>
          <a:ln w="0">
            <a:noFill/>
          </a:ln>
        </p:spPr>
      </p:pic>
      <p:grpSp>
        <p:nvGrpSpPr>
          <p:cNvPr id="570" name="Rectangle 3"/>
          <p:cNvGrpSpPr/>
          <p:nvPr/>
        </p:nvGrpSpPr>
        <p:grpSpPr>
          <a:xfrm>
            <a:off x="1468440" y="1487520"/>
            <a:ext cx="7742160" cy="2189160"/>
            <a:chOff x="1468440" y="1487520"/>
            <a:chExt cx="7742160" cy="2189160"/>
          </a:xfrm>
        </p:grpSpPr>
        <p:pic>
          <p:nvPicPr>
            <p:cNvPr id="571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87520"/>
              <a:ext cx="7742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714680" y="164304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истема обліку та управління витратами на виробництво на основі розроблених стандартів з наступним виявленням відхилень фактичного рівня показників із заплановани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3" name="AutoShape 2" descr=""/>
          <p:cNvPicPr/>
          <p:nvPr/>
        </p:nvPicPr>
        <p:blipFill>
          <a:blip r:embed="rId3"/>
          <a:stretch/>
        </p:blipFill>
        <p:spPr>
          <a:xfrm>
            <a:off x="201600" y="3395520"/>
            <a:ext cx="4419720" cy="1279800"/>
          </a:xfrm>
          <a:prstGeom prst="rect">
            <a:avLst/>
          </a:prstGeom>
          <a:ln w="0">
            <a:noFill/>
          </a:ln>
        </p:spPr>
      </p:pic>
      <p:grpSp>
        <p:nvGrpSpPr>
          <p:cNvPr id="574" name="Rectangle 3"/>
          <p:cNvGrpSpPr/>
          <p:nvPr/>
        </p:nvGrpSpPr>
        <p:grpSpPr>
          <a:xfrm>
            <a:off x="1468440" y="4419720"/>
            <a:ext cx="7742160" cy="1395360"/>
            <a:chOff x="1468440" y="4419720"/>
            <a:chExt cx="7742160" cy="1395360"/>
          </a:xfrm>
        </p:grpSpPr>
        <p:pic>
          <p:nvPicPr>
            <p:cNvPr id="575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41972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714680" y="457200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облений на основі стандарт-косту відомим радянським вченим Жебрако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16" name="Rectangle 3"/>
          <p:cNvGrpSpPr/>
          <p:nvPr/>
        </p:nvGrpSpPr>
        <p:grpSpPr>
          <a:xfrm>
            <a:off x="1468440" y="1420920"/>
            <a:ext cx="7742160" cy="2822400"/>
            <a:chOff x="1468440" y="1420920"/>
            <a:chExt cx="7742160" cy="2822400"/>
          </a:xfrm>
        </p:grpSpPr>
        <p:pic>
          <p:nvPicPr>
            <p:cNvPr id="317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20920"/>
              <a:ext cx="77421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714680" y="157176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способів відображення, групування та систематизації даних про витрати, що забезпечують досягнення визначеної мети, вирішення конкретного завда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9" name="Прямоугольник 3" descr=""/>
          <p:cNvPicPr/>
          <p:nvPr/>
        </p:nvPicPr>
        <p:blipFill>
          <a:blip r:embed="rId3"/>
          <a:stretch/>
        </p:blipFill>
        <p:spPr>
          <a:xfrm>
            <a:off x="981000" y="4322880"/>
            <a:ext cx="6535800" cy="693720"/>
          </a:xfrm>
          <a:prstGeom prst="rect">
            <a:avLst/>
          </a:prstGeom>
          <a:ln w="0">
            <a:noFill/>
          </a:ln>
        </p:spPr>
      </p:pic>
      <p:sp>
        <p:nvSpPr>
          <p:cNvPr id="320" name="Стрелка вправо с вырезом 4"/>
          <p:cNvSpPr/>
          <p:nvPr/>
        </p:nvSpPr>
        <p:spPr>
          <a:xfrm>
            <a:off x="428760" y="4929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5"/>
          <p:cNvSpPr/>
          <p:nvPr/>
        </p:nvSpPr>
        <p:spPr>
          <a:xfrm>
            <a:off x="1857240" y="51436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ормативни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трелка вправо с вырезом 6"/>
          <p:cNvSpPr/>
          <p:nvPr/>
        </p:nvSpPr>
        <p:spPr>
          <a:xfrm>
            <a:off x="738360" y="57150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кругленный прямоугольник 7"/>
          <p:cNvSpPr/>
          <p:nvPr/>
        </p:nvSpPr>
        <p:spPr>
          <a:xfrm>
            <a:off x="2166840" y="592920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актич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AutoShape 2" descr=""/>
          <p:cNvPicPr/>
          <p:nvPr/>
        </p:nvPicPr>
        <p:blipFill>
          <a:blip r:embed="rId1"/>
          <a:stretch/>
        </p:blipFill>
        <p:spPr>
          <a:xfrm>
            <a:off x="128520" y="682560"/>
            <a:ext cx="4419720" cy="1994040"/>
          </a:xfrm>
          <a:prstGeom prst="rect">
            <a:avLst/>
          </a:prstGeom>
          <a:ln w="0">
            <a:noFill/>
          </a:ln>
        </p:spPr>
      </p:pic>
      <p:grpSp>
        <p:nvGrpSpPr>
          <p:cNvPr id="578" name="Rectangle 3"/>
          <p:cNvGrpSpPr/>
          <p:nvPr/>
        </p:nvGrpSpPr>
        <p:grpSpPr>
          <a:xfrm>
            <a:off x="1395360" y="2273400"/>
            <a:ext cx="7742160" cy="3116160"/>
            <a:chOff x="1395360" y="2273400"/>
            <a:chExt cx="7742160" cy="3116160"/>
          </a:xfrm>
        </p:grpSpPr>
        <p:pic>
          <p:nvPicPr>
            <p:cNvPr id="579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273400"/>
              <a:ext cx="77421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643040" y="2428920"/>
              <a:ext cx="72867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калькулювання, що передбачає спочатку групування накладних витрат за основними видами діяльності, а потім розподіл їх між видами продукції, виходячи з того, які види діяльності потрібні для виготовлення цієї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Прямоугольник 9" descr=""/>
          <p:cNvPicPr/>
          <p:nvPr/>
        </p:nvPicPr>
        <p:blipFill>
          <a:blip r:embed="rId1"/>
          <a:stretch/>
        </p:blipFill>
        <p:spPr>
          <a:xfrm>
            <a:off x="1066680" y="298440"/>
            <a:ext cx="6669360" cy="695160"/>
          </a:xfrm>
          <a:prstGeom prst="rect">
            <a:avLst/>
          </a:prstGeom>
          <a:ln w="0">
            <a:noFill/>
          </a:ln>
        </p:spPr>
      </p:pic>
      <p:sp>
        <p:nvSpPr>
          <p:cNvPr id="582" name="Стрелка вправо с вырезом 12"/>
          <p:cNvSpPr/>
          <p:nvPr/>
        </p:nvSpPr>
        <p:spPr>
          <a:xfrm>
            <a:off x="179280" y="111924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Скругленный прямоугольник 13"/>
          <p:cNvSpPr/>
          <p:nvPr/>
        </p:nvSpPr>
        <p:spPr>
          <a:xfrm>
            <a:off x="1608120" y="1119240"/>
            <a:ext cx="682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одного вироб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Стрелка вправо с вырезом 14"/>
          <p:cNvSpPr/>
          <p:nvPr/>
        </p:nvSpPr>
        <p:spPr>
          <a:xfrm>
            <a:off x="488880" y="197496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Скругленный прямоугольник 16"/>
          <p:cNvSpPr/>
          <p:nvPr/>
        </p:nvSpPr>
        <p:spPr>
          <a:xfrm>
            <a:off x="1893960" y="20462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артії виробів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Стрелка вправо с вырезом 8"/>
          <p:cNvSpPr/>
          <p:nvPr/>
        </p:nvSpPr>
        <p:spPr>
          <a:xfrm>
            <a:off x="331920" y="2997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Скругленный прямоугольник 10"/>
          <p:cNvSpPr/>
          <p:nvPr/>
        </p:nvSpPr>
        <p:spPr>
          <a:xfrm>
            <a:off x="1760400" y="2997360"/>
            <a:ext cx="682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евного виду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Стрелка вправо с вырезом 11"/>
          <p:cNvSpPr/>
          <p:nvPr/>
        </p:nvSpPr>
        <p:spPr>
          <a:xfrm>
            <a:off x="64152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кругленный прямоугольник 15"/>
          <p:cNvSpPr/>
          <p:nvPr/>
        </p:nvSpPr>
        <p:spPr>
          <a:xfrm>
            <a:off x="2046240" y="38606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ідприємств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Прямоугольник 17" descr=""/>
          <p:cNvPicPr/>
          <p:nvPr/>
        </p:nvPicPr>
        <p:blipFill>
          <a:blip r:embed="rId2"/>
          <a:stretch/>
        </p:blipFill>
        <p:spPr>
          <a:xfrm>
            <a:off x="1219320" y="4748040"/>
            <a:ext cx="718632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Прямоугольник 18" descr=""/>
          <p:cNvPicPr/>
          <p:nvPr/>
        </p:nvPicPr>
        <p:blipFill>
          <a:blip r:embed="rId3"/>
          <a:stretch/>
        </p:blipFill>
        <p:spPr>
          <a:xfrm>
            <a:off x="1371600" y="5931000"/>
            <a:ext cx="7186680" cy="82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1468440" y="2487600"/>
            <a:ext cx="7742160" cy="2187720"/>
            <a:chOff x="1468440" y="2487600"/>
            <a:chExt cx="7742160" cy="2187720"/>
          </a:xfrm>
        </p:grpSpPr>
        <p:pic>
          <p:nvPicPr>
            <p:cNvPr id="32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14680" y="264312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у послідовному накопиченні даних про фактичні виробничі витрати без відображення в обліку даних про їх величину за діючими норма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51390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9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3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в обліку витрат на основі заздалегідь розроблених  норматив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3" name="Rectangle 3"/>
          <p:cNvGrpSpPr/>
          <p:nvPr/>
        </p:nvGrpSpPr>
        <p:grpSpPr>
          <a:xfrm>
            <a:off x="1468440" y="2487600"/>
            <a:ext cx="7742160" cy="1755720"/>
            <a:chOff x="1468440" y="2487600"/>
            <a:chExt cx="7742160" cy="1755720"/>
          </a:xfrm>
        </p:grpSpPr>
        <p:pic>
          <p:nvPicPr>
            <p:cNvPr id="334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14680" y="2643120"/>
              <a:ext cx="7286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прийомів розподілу витрат підприємства за калькуляційними статтями та віднесення їх до об'єкту калькулюв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79600"/>
            <a:ext cx="6534360" cy="888840"/>
          </a:xfrm>
          <a:prstGeom prst="rect">
            <a:avLst/>
          </a:prstGeom>
          <a:ln w="0">
            <a:noFill/>
          </a:ln>
        </p:spPr>
      </p:pic>
      <p:sp>
        <p:nvSpPr>
          <p:cNvPr id="337" name="Скругленный прямоугольник 16"/>
          <p:cNvSpPr/>
          <p:nvPr/>
        </p:nvSpPr>
        <p:spPr>
          <a:xfrm>
            <a:off x="2381400" y="221472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замов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процес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Стрелка вправо с вырезом 10"/>
          <p:cNvSpPr/>
          <p:nvPr/>
        </p:nvSpPr>
        <p:spPr>
          <a:xfrm>
            <a:off x="214200" y="207180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еріодичністю складан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Скругленный прямоугольник 11"/>
          <p:cNvSpPr/>
          <p:nvPr/>
        </p:nvSpPr>
        <p:spPr>
          <a:xfrm>
            <a:off x="2381400" y="421488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2"/>
          <p:cNvSpPr/>
          <p:nvPr/>
        </p:nvSpPr>
        <p:spPr>
          <a:xfrm>
            <a:off x="214200" y="407196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овнотою включ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14T10:40:04Z</dcterms:modified>
  <cp:revision>257</cp:revision>
  <dc:subject/>
  <dc:title>Слайд 1</dc:title>
</cp:coreProperties>
</file>