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650-FE2A-408B-A087-8804CBB9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335-B4CD-4060-9FF5-ADD9588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77DF-DAD5-4638-82AD-3BDFE201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47F-B725-4555-8540-2050CB43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40D2-F1DD-48AB-9D41-FB8C4205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F36-903A-4DD6-B28D-5A22A047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1FB1-B494-4147-8860-6F28108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BC4-8E3A-43DE-83DD-3FC747D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C15-711B-486E-979F-244DD89A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0353-F304-417A-8A06-0A422553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6BDA-A356-4E4D-8310-E32C8F7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68A-EDC0-4CB9-81F2-56C370F3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EA15-91EA-4E2F-9309-200301A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0B54-C6E2-492A-AB1D-D955A58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F217-8B41-46AA-BEC4-40DB981D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0C73-87F0-4B5B-9AF6-B60B1C76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1D14-C778-4EA3-8AF1-95822916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E28D-5B00-4B6E-B72D-ED228F00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8DB9-9E75-41B4-887E-D4711AC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88DD-9868-4A22-8A77-3FB6594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E1C1-1AC7-4108-BDBD-678EB999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C460-2A2C-459A-BCFB-63FC6161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37C-8F0B-4FD3-8876-95E721DB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AE5B-3EDE-49DF-A8E0-DEE1A9D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0E4C-E70B-4D4B-9F4B-B94697BF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7F5C-D864-4835-BDAB-E32F421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732B-59EF-4CEF-86B9-F1AE725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1203-F929-4ADB-AA54-2545988B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617D-03D6-4DB9-A515-2E8BE124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BDBFF-68E4-4259-A376-9E2947D4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1383-3CAB-4A25-9C42-185ED10E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8E38-84DD-4204-AB71-EFF4302E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0907-9B94-4DDC-A3FB-C456043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6EA-EB09-4606-BB2C-F69A059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56F6-9730-4A02-AE00-BBBD5A1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7DBF-D9EB-4E5A-B925-48F5DC11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9EE5-3924-46E7-B55B-DB6DC4D6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63F71-88FD-459D-9C28-CB7F823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F1A6-A589-4531-A86B-A9FEA544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DDA7-FD96-4841-B4D3-F7252230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CDC1-3D20-4B97-A2E4-79963E02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B35B-B234-4C90-B9C5-9125263B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22D5-D25A-4E85-9D10-8596DAEC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D783-3D9D-4EEF-904F-1983FE6C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D33-CBAE-43A1-B138-2877569D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A230-69B7-421B-874D-2AC58642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622EA-7A4E-4AF0-9C75-B85BA7B4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AD4E-BB56-48E0-9938-196E17D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9182C-4B65-47F5-BBFB-8CC7D27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0046-3CB6-4842-BA9B-A9EB4AE7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756D6-450F-4687-B80F-C83FFE3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165EC-004E-41EF-8E59-3A0C637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9FED-AC77-45B5-8EA7-2DB6CEBC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DBB2-8BDB-4491-9274-9FCE5FF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D992-0452-49FB-91BC-D1E47456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12B-6811-4F6D-B600-3D4CC6E7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912B8-E6B2-499D-8F6F-331A6F66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6EA4F-A79D-4666-AF0A-BF12807F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1D03-FBF3-4E25-87ED-5373735F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CAF2-BB35-4C79-9FDE-D5C947F3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0443-D77B-4CA0-BFAF-55E31AF8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A22D-F6E6-4658-B611-0BF4F7B2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C8964-C705-46E7-85E9-B49126DA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53C7-AFAC-4904-A109-F146D0A1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36F89-CC13-4A6D-8D1B-DA849BE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57B5E-BB80-4DEB-A14B-37C20D77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59F-EB9D-46E8-801E-4B2C15DA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7C48-9022-46DF-BFA9-AC182601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28E74-7996-45B4-9175-22CE7C89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0FF74-2A5E-4986-B6C4-EA7A767B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DEB8E-D85D-4F9D-9BD0-BAF6E20F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D9E91-A8B0-4535-B79A-795D450E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3ACC-4884-41DF-9025-0B8E891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B417-7600-4007-AC58-1B1F612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F5E3-8838-4F35-90A1-5F7EC5D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DD3E-162B-4B51-A31F-53835681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6949D-A7B2-4047-A470-6B3F4331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1D0-C074-492E-BE16-418B8C2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25F80-3036-4807-88CE-E949A92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6259F-05A1-4117-98BC-907B377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32C0-558C-4ED3-84DC-070DABFF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CAA76-0E63-4179-93F1-C8260F16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F2E80-9465-42A1-A2DC-51DDE81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520-F9CD-4AE0-BAE6-EC0C495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A35A-DABE-4421-8070-E7E58AECFBF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AEC-4361-4220-8ED2-AADD1FE6AF8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F69-500B-46DF-A4E7-040FB65AE6D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194E-BB9F-4692-9302-18AE3798730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DEC-CF75-4F3D-8478-987816B9CB8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DD9C-F9C0-411D-A96F-59F3102EE0D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EE90-3350-43BA-9A83-C8E65CBDFCC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097080"/>
            <a:ext cx="8564760" cy="280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AutoShape 2" descr=""/>
          <p:cNvPicPr/>
          <p:nvPr/>
        </p:nvPicPr>
        <p:blipFill>
          <a:blip r:embed="rId1"/>
          <a:stretch/>
        </p:blipFill>
        <p:spPr>
          <a:xfrm>
            <a:off x="-12600" y="1109520"/>
            <a:ext cx="4419360" cy="1846440"/>
          </a:xfrm>
          <a:prstGeom prst="rect">
            <a:avLst/>
          </a:prstGeom>
          <a:ln w="0">
            <a:noFill/>
          </a:ln>
        </p:spPr>
      </p:pic>
      <p:grpSp>
        <p:nvGrpSpPr>
          <p:cNvPr id="342" name="Rectangle 3"/>
          <p:cNvGrpSpPr/>
          <p:nvPr/>
        </p:nvGrpSpPr>
        <p:grpSpPr>
          <a:xfrm>
            <a:off x="1395360" y="2346480"/>
            <a:ext cx="7742160" cy="1755720"/>
            <a:chOff x="1395360" y="2346480"/>
            <a:chExt cx="7742160" cy="1755720"/>
          </a:xfrm>
        </p:grpSpPr>
        <p:pic>
          <p:nvPicPr>
            <p:cNvPr id="343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34648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643040" y="2500200"/>
              <a:ext cx="728676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користовується за умови виготовлення складної продукції з високою вартістю, тривалим циклом виробництв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sp>
        <p:nvSpPr>
          <p:cNvPr id="346" name="Скругленный прямоугольник 16"/>
          <p:cNvSpPr/>
          <p:nvPr/>
        </p:nvSpPr>
        <p:spPr>
          <a:xfrm>
            <a:off x="357120" y="1643040"/>
            <a:ext cx="83581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завершене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Прямоугольник 6" descr=""/>
          <p:cNvPicPr/>
          <p:nvPr/>
        </p:nvPicPr>
        <p:blipFill>
          <a:blip r:embed="rId2"/>
          <a:stretch/>
        </p:blipFill>
        <p:spPr>
          <a:xfrm>
            <a:off x="57312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535120"/>
            <a:ext cx="2571840" cy="555840"/>
          </a:xfrm>
          <a:prstGeom prst="rect">
            <a:avLst/>
          </a:prstGeom>
          <a:ln w="0">
            <a:noFill/>
          </a:ln>
        </p:spPr>
      </p:pic>
      <p:pic>
        <p:nvPicPr>
          <p:cNvPr id="349" name="Прямоугольник 8" descr=""/>
          <p:cNvPicPr/>
          <p:nvPr/>
        </p:nvPicPr>
        <p:blipFill>
          <a:blip r:embed="rId4"/>
          <a:stretch/>
        </p:blipFill>
        <p:spPr>
          <a:xfrm>
            <a:off x="5924520" y="2535120"/>
            <a:ext cx="2573280" cy="555840"/>
          </a:xfrm>
          <a:prstGeom prst="rect">
            <a:avLst/>
          </a:prstGeom>
          <a:ln w="0">
            <a:noFill/>
          </a:ln>
        </p:spPr>
      </p:pic>
      <p:pic>
        <p:nvPicPr>
          <p:cNvPr id="350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913200"/>
            <a:ext cx="2463840" cy="10368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13" descr=""/>
          <p:cNvPicPr/>
          <p:nvPr/>
        </p:nvPicPr>
        <p:blipFill>
          <a:blip r:embed="rId6"/>
          <a:stretch/>
        </p:blipFill>
        <p:spPr>
          <a:xfrm>
            <a:off x="3328920" y="5261040"/>
            <a:ext cx="25783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52" name="Прямая со стрелкой 15"/>
          <p:cNvCxnSpPr>
            <a:stCxn id="345" idx="2"/>
            <a:endCxn id="347" idx="0"/>
          </p:cNvCxnSpPr>
          <p:nvPr/>
        </p:nvCxnSpPr>
        <p:spPr>
          <a:xfrm flipH="1">
            <a:off x="1856520" y="1071360"/>
            <a:ext cx="27154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3" name="Прямая со стрелкой 19"/>
          <p:cNvCxnSpPr>
            <a:stCxn id="345" idx="2"/>
            <a:endCxn id="348" idx="0"/>
          </p:cNvCxnSpPr>
          <p:nvPr/>
        </p:nvCxnSpPr>
        <p:spPr>
          <a:xfrm flipH="1">
            <a:off x="4570200" y="1071360"/>
            <a:ext cx="3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4" name="Прямая со стрелкой 22"/>
          <p:cNvCxnSpPr>
            <a:stCxn id="345" idx="2"/>
            <a:endCxn id="349" idx="0"/>
          </p:cNvCxnSpPr>
          <p:nvPr/>
        </p:nvCxnSpPr>
        <p:spPr>
          <a:xfrm>
            <a:off x="4572000" y="1071360"/>
            <a:ext cx="264384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5" name="Прямая со стрелкой 26"/>
          <p:cNvCxnSpPr>
            <a:stCxn id="348" idx="2"/>
            <a:endCxn id="350" idx="0"/>
          </p:cNvCxnSpPr>
          <p:nvPr/>
        </p:nvCxnSpPr>
        <p:spPr>
          <a:xfrm flipH="1">
            <a:off x="4570200" y="3071520"/>
            <a:ext cx="3600" cy="85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6" name="Прямая со стрелкой 29"/>
          <p:cNvCxnSpPr>
            <a:stCxn id="349" idx="2"/>
            <a:endCxn id="350" idx="0"/>
          </p:cNvCxnSpPr>
          <p:nvPr/>
        </p:nvCxnSpPr>
        <p:spPr>
          <a:xfrm flipH="1">
            <a:off x="4571640" y="3071520"/>
            <a:ext cx="264384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7" name="Прямая со стрелкой 32"/>
          <p:cNvCxnSpPr>
            <a:stCxn id="347" idx="2"/>
            <a:endCxn id="350" idx="0"/>
          </p:cNvCxnSpPr>
          <p:nvPr/>
        </p:nvCxnSpPr>
        <p:spPr>
          <a:xfrm>
            <a:off x="1856160" y="3071520"/>
            <a:ext cx="271548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58" name="Прямая со стрелкой 35"/>
          <p:cNvCxnSpPr>
            <a:stCxn id="350" idx="2"/>
            <a:endCxn id="351" idx="0"/>
          </p:cNvCxnSpPr>
          <p:nvPr/>
        </p:nvCxnSpPr>
        <p:spPr>
          <a:xfrm flipH="1">
            <a:off x="4570200" y="4930920"/>
            <a:ext cx="360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AutoShape 2" descr=""/>
          <p:cNvPicPr/>
          <p:nvPr/>
        </p:nvPicPr>
        <p:blipFill>
          <a:blip r:embed="rId1"/>
          <a:stretch/>
        </p:blipFill>
        <p:spPr>
          <a:xfrm>
            <a:off x="274680" y="2822400"/>
            <a:ext cx="4419720" cy="1779840"/>
          </a:xfrm>
          <a:prstGeom prst="rect">
            <a:avLst/>
          </a:prstGeom>
          <a:ln w="0">
            <a:noFill/>
          </a:ln>
        </p:spPr>
      </p:pic>
      <p:grpSp>
        <p:nvGrpSpPr>
          <p:cNvPr id="360" name="Rectangle 3"/>
          <p:cNvGrpSpPr/>
          <p:nvPr/>
        </p:nvGrpSpPr>
        <p:grpSpPr>
          <a:xfrm>
            <a:off x="1682640" y="3919680"/>
            <a:ext cx="7096320" cy="1755720"/>
            <a:chOff x="1682640" y="3919680"/>
            <a:chExt cx="7096320" cy="1755720"/>
          </a:xfrm>
        </p:grpSpPr>
        <p:pic>
          <p:nvPicPr>
            <p:cNvPr id="361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919680"/>
              <a:ext cx="709632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928880" y="4071960"/>
              <a:ext cx="66438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аявка клієнта на певну кількість спеціально створених або виготовлених для нього вироб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3" name="AutoShape 2" descr=""/>
          <p:cNvPicPr/>
          <p:nvPr/>
        </p:nvPicPr>
        <p:blipFill>
          <a:blip r:embed="rId3"/>
          <a:stretch/>
        </p:blipFill>
        <p:spPr>
          <a:xfrm>
            <a:off x="-23760" y="396720"/>
            <a:ext cx="4840200" cy="2559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AutoShape 2" descr=""/>
          <p:cNvPicPr/>
          <p:nvPr/>
        </p:nvPicPr>
        <p:blipFill>
          <a:blip r:embed="rId1"/>
          <a:stretch/>
        </p:blipFill>
        <p:spPr>
          <a:xfrm>
            <a:off x="55440" y="1036800"/>
            <a:ext cx="442440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65" name="Rectangle 3"/>
          <p:cNvGrpSpPr/>
          <p:nvPr/>
        </p:nvGrpSpPr>
        <p:grpSpPr>
          <a:xfrm>
            <a:off x="1468440" y="2706840"/>
            <a:ext cx="7742160" cy="2608200"/>
            <a:chOff x="1468440" y="2706840"/>
            <a:chExt cx="7742160" cy="2608200"/>
          </a:xfrm>
        </p:grpSpPr>
        <p:pic>
          <p:nvPicPr>
            <p:cNvPr id="36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706840"/>
              <a:ext cx="774216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714680" y="2857680"/>
              <a:ext cx="7286400" cy="24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тому, що прямі витрати відображаються  в обліку не за видами продукції, а за переділами, навіть, якщо в одному переділі можна отримати продукцію різних видів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AutoShape 2" descr=""/>
          <p:cNvPicPr/>
          <p:nvPr/>
        </p:nvPicPr>
        <p:blipFill>
          <a:blip r:embed="rId1"/>
          <a:stretch/>
        </p:blipFill>
        <p:spPr>
          <a:xfrm>
            <a:off x="274680" y="2610000"/>
            <a:ext cx="4419720" cy="1133280"/>
          </a:xfrm>
          <a:prstGeom prst="rect">
            <a:avLst/>
          </a:prstGeom>
          <a:ln w="0">
            <a:noFill/>
          </a:ln>
        </p:spPr>
      </p:pic>
      <p:grpSp>
        <p:nvGrpSpPr>
          <p:cNvPr id="369" name="Rectangle 3"/>
          <p:cNvGrpSpPr/>
          <p:nvPr/>
        </p:nvGrpSpPr>
        <p:grpSpPr>
          <a:xfrm>
            <a:off x="1682640" y="3419640"/>
            <a:ext cx="7309080" cy="2993760"/>
            <a:chOff x="1682640" y="3419640"/>
            <a:chExt cx="7309080" cy="2993760"/>
          </a:xfrm>
        </p:grpSpPr>
        <p:pic>
          <p:nvPicPr>
            <p:cNvPr id="370" name="Rectangle 3" descr=""/>
            <p:cNvPicPr/>
            <p:nvPr/>
          </p:nvPicPr>
          <p:blipFill>
            <a:blip r:embed="rId2"/>
            <a:stretch/>
          </p:blipFill>
          <p:spPr>
            <a:xfrm>
              <a:off x="1682640" y="3419640"/>
              <a:ext cx="7309080" cy="29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1928880" y="3571920"/>
              <a:ext cx="68580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Частина технологічного процесу (сукупність технологічних операцій),  що завершується отриманням готового напівфабрикату, який може відправлятись в наступний переділ або реалізовуватись на сторон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2" name="AutoShape 2" descr=""/>
          <p:cNvPicPr/>
          <p:nvPr/>
        </p:nvPicPr>
        <p:blipFill>
          <a:blip r:embed="rId3"/>
          <a:stretch/>
        </p:blipFill>
        <p:spPr>
          <a:xfrm>
            <a:off x="-23760" y="109440"/>
            <a:ext cx="4840200" cy="256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22400"/>
            <a:ext cx="7296120" cy="96804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3340080" y="2103480"/>
            <a:ext cx="2463840" cy="56052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8" descr=""/>
          <p:cNvPicPr/>
          <p:nvPr/>
        </p:nvPicPr>
        <p:blipFill>
          <a:blip r:embed="rId4"/>
          <a:stretch/>
        </p:blipFill>
        <p:spPr>
          <a:xfrm>
            <a:off x="6553080" y="2103480"/>
            <a:ext cx="2468520" cy="5605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9" descr=""/>
          <p:cNvPicPr/>
          <p:nvPr/>
        </p:nvPicPr>
        <p:blipFill>
          <a:blip r:embed="rId5"/>
          <a:stretch/>
        </p:blipFill>
        <p:spPr>
          <a:xfrm>
            <a:off x="3340080" y="3481560"/>
            <a:ext cx="2463840" cy="1035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3" descr=""/>
          <p:cNvPicPr/>
          <p:nvPr/>
        </p:nvPicPr>
        <p:blipFill>
          <a:blip r:embed="rId6"/>
          <a:stretch/>
        </p:blipFill>
        <p:spPr>
          <a:xfrm>
            <a:off x="3340080" y="5048280"/>
            <a:ext cx="246384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79" name="Прямая со стрелкой 15"/>
          <p:cNvCxnSpPr>
            <a:stCxn id="373" idx="2"/>
            <a:endCxn id="374" idx="0"/>
          </p:cNvCxnSpPr>
          <p:nvPr/>
        </p:nvCxnSpPr>
        <p:spPr>
          <a:xfrm flipH="1">
            <a:off x="135684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19"/>
          <p:cNvCxnSpPr>
            <a:stCxn id="373" idx="2"/>
            <a:endCxn id="375" idx="0"/>
          </p:cNvCxnSpPr>
          <p:nvPr/>
        </p:nvCxnSpPr>
        <p:spPr>
          <a:xfrm flipH="1">
            <a:off x="4570200" y="1071720"/>
            <a:ext cx="36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Прямая со стрелкой 22"/>
          <p:cNvCxnSpPr>
            <a:stCxn id="373" idx="2"/>
            <a:endCxn id="376" idx="0"/>
          </p:cNvCxnSpPr>
          <p:nvPr/>
        </p:nvCxnSpPr>
        <p:spPr>
          <a:xfrm>
            <a:off x="4572000" y="1071720"/>
            <a:ext cx="321552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Прямая со стрелкой 26"/>
          <p:cNvCxnSpPr>
            <a:stCxn id="375" idx="3"/>
            <a:endCxn id="376" idx="1"/>
          </p:cNvCxnSpPr>
          <p:nvPr/>
        </p:nvCxnSpPr>
        <p:spPr>
          <a:xfrm>
            <a:off x="578592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3" name="Прямая со стрелкой 29"/>
          <p:cNvCxnSpPr>
            <a:stCxn id="376" idx="2"/>
            <a:endCxn id="377" idx="0"/>
          </p:cNvCxnSpPr>
          <p:nvPr/>
        </p:nvCxnSpPr>
        <p:spPr>
          <a:xfrm flipH="1">
            <a:off x="4571640" y="2642760"/>
            <a:ext cx="321552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Прямая со стрелкой 32"/>
          <p:cNvCxnSpPr>
            <a:stCxn id="374" idx="3"/>
            <a:endCxn id="375" idx="1"/>
          </p:cNvCxnSpPr>
          <p:nvPr/>
        </p:nvCxnSpPr>
        <p:spPr>
          <a:xfrm>
            <a:off x="2571480" y="2391840"/>
            <a:ext cx="786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Прямая со стрелкой 35"/>
          <p:cNvCxnSpPr>
            <a:stCxn id="377" idx="2"/>
            <a:endCxn id="378" idx="0"/>
          </p:cNvCxnSpPr>
          <p:nvPr/>
        </p:nvCxnSpPr>
        <p:spPr>
          <a:xfrm flipH="1">
            <a:off x="4570200" y="4502160"/>
            <a:ext cx="360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Прямоугольник 1" descr=""/>
          <p:cNvPicPr/>
          <p:nvPr/>
        </p:nvPicPr>
        <p:blipFill>
          <a:blip r:embed="rId1"/>
          <a:stretch/>
        </p:blipFill>
        <p:spPr>
          <a:xfrm>
            <a:off x="981000" y="122400"/>
            <a:ext cx="7182000" cy="96804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6" descr=""/>
          <p:cNvPicPr/>
          <p:nvPr/>
        </p:nvPicPr>
        <p:blipFill>
          <a:blip r:embed="rId2"/>
          <a:stretch/>
        </p:blipFill>
        <p:spPr>
          <a:xfrm>
            <a:off x="171360" y="1547640"/>
            <a:ext cx="4430880" cy="2475000"/>
          </a:xfrm>
          <a:prstGeom prst="rect">
            <a:avLst/>
          </a:prstGeom>
          <a:ln w="0">
            <a:noFill/>
          </a:ln>
        </p:spPr>
      </p:pic>
      <p:cxnSp>
        <p:nvCxnSpPr>
          <p:cNvPr id="388" name="Прямая со стрелкой 15"/>
          <p:cNvCxnSpPr>
            <a:stCxn id="386" idx="2"/>
          </p:cNvCxnSpPr>
          <p:nvPr/>
        </p:nvCxnSpPr>
        <p:spPr>
          <a:xfrm flipH="1">
            <a:off x="3202920" y="1071360"/>
            <a:ext cx="136908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9" name="Прямая со стрелкой 22"/>
          <p:cNvCxnSpPr>
            <a:stCxn id="386" idx="2"/>
          </p:cNvCxnSpPr>
          <p:nvPr/>
        </p:nvCxnSpPr>
        <p:spPr>
          <a:xfrm>
            <a:off x="4572000" y="1071360"/>
            <a:ext cx="1296000" cy="557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0" name="Прямоугольник 27" descr=""/>
          <p:cNvPicPr/>
          <p:nvPr/>
        </p:nvPicPr>
        <p:blipFill>
          <a:blip r:embed="rId3"/>
          <a:stretch/>
        </p:blipFill>
        <p:spPr>
          <a:xfrm>
            <a:off x="4730760" y="1566720"/>
            <a:ext cx="4468680" cy="252900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9" descr=""/>
          <p:cNvPicPr/>
          <p:nvPr/>
        </p:nvPicPr>
        <p:blipFill>
          <a:blip r:embed="rId4"/>
          <a:stretch/>
        </p:blipFill>
        <p:spPr>
          <a:xfrm>
            <a:off x="1011240" y="4133880"/>
            <a:ext cx="7182000" cy="603360"/>
          </a:xfrm>
          <a:prstGeom prst="rect">
            <a:avLst/>
          </a:prstGeom>
          <a:ln w="0">
            <a:noFill/>
          </a:ln>
        </p:spPr>
      </p:pic>
      <p:pic>
        <p:nvPicPr>
          <p:cNvPr id="392" name="Прямоугольник 10" descr=""/>
          <p:cNvPicPr/>
          <p:nvPr/>
        </p:nvPicPr>
        <p:blipFill>
          <a:blip r:embed="rId5"/>
          <a:stretch/>
        </p:blipFill>
        <p:spPr>
          <a:xfrm>
            <a:off x="334800" y="5211720"/>
            <a:ext cx="4419720" cy="1506600"/>
          </a:xfrm>
          <a:prstGeom prst="rect">
            <a:avLst/>
          </a:prstGeom>
          <a:ln w="0">
            <a:noFill/>
          </a:ln>
        </p:spPr>
      </p:pic>
      <p:cxnSp>
        <p:nvCxnSpPr>
          <p:cNvPr id="393" name="Прямая со стрелкой 11"/>
          <p:cNvCxnSpPr/>
          <p:nvPr/>
        </p:nvCxnSpPr>
        <p:spPr>
          <a:xfrm flipH="1">
            <a:off x="3355200" y="4743360"/>
            <a:ext cx="136908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4" name="Прямая со стрелкой 12"/>
          <p:cNvCxnSpPr/>
          <p:nvPr/>
        </p:nvCxnSpPr>
        <p:spPr>
          <a:xfrm>
            <a:off x="4723920" y="4743360"/>
            <a:ext cx="1296360" cy="55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95" name="Прямоугольник 13" descr=""/>
          <p:cNvPicPr/>
          <p:nvPr/>
        </p:nvPicPr>
        <p:blipFill>
          <a:blip r:embed="rId6"/>
          <a:stretch/>
        </p:blipFill>
        <p:spPr>
          <a:xfrm>
            <a:off x="4925880" y="5237280"/>
            <a:ext cx="4449960" cy="130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AutoShape 2" descr=""/>
          <p:cNvPicPr/>
          <p:nvPr/>
        </p:nvPicPr>
        <p:blipFill>
          <a:blip r:embed="rId1"/>
          <a:stretch/>
        </p:blipFill>
        <p:spPr>
          <a:xfrm>
            <a:off x="55440" y="1109520"/>
            <a:ext cx="499284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7" name="Rectangle 3"/>
          <p:cNvGrpSpPr/>
          <p:nvPr/>
        </p:nvGrpSpPr>
        <p:grpSpPr>
          <a:xfrm>
            <a:off x="1328760" y="2773440"/>
            <a:ext cx="7736040" cy="1828800"/>
            <a:chOff x="1328760" y="2773440"/>
            <a:chExt cx="7736040" cy="1828800"/>
          </a:xfrm>
        </p:grpSpPr>
        <p:pic>
          <p:nvPicPr>
            <p:cNvPr id="398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773440"/>
              <a:ext cx="77360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571760" y="2928960"/>
              <a:ext cx="728640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укція визначена з врахуванням ступеня її готовності на кожному з її пере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1" name="Скругленный прямоугольник 16"/>
          <p:cNvSpPr/>
          <p:nvPr/>
        </p:nvSpPr>
        <p:spPr>
          <a:xfrm>
            <a:off x="2197080" y="2289240"/>
            <a:ext cx="612000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Узагальнення даних про рух одиниць продукції за кількістю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Стрелка вправо с вырезом 10"/>
          <p:cNvSpPr/>
          <p:nvPr/>
        </p:nvSpPr>
        <p:spPr>
          <a:xfrm>
            <a:off x="214200" y="2503440"/>
            <a:ext cx="1765440" cy="1069920"/>
          </a:xfrm>
          <a:custGeom>
            <a:avLst/>
            <a:gdLst>
              <a:gd name="textAreaLeft" fmla="*/ 267480 w 1765440"/>
              <a:gd name="textAreaRight" fmla="*/ 1497960 w 176544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1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579600"/>
            <a:ext cx="8388000" cy="1498320"/>
          </a:xfrm>
          <a:prstGeom prst="rect">
            <a:avLst/>
          </a:prstGeom>
          <a:ln w="0">
            <a:noFill/>
          </a:ln>
        </p:spPr>
      </p:pic>
      <p:sp>
        <p:nvSpPr>
          <p:cNvPr id="404" name="Скругленный прямоугольник 11"/>
          <p:cNvSpPr/>
          <p:nvPr/>
        </p:nvSpPr>
        <p:spPr>
          <a:xfrm>
            <a:off x="2349360" y="234936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Обчислення еквівалентних одиниць готової продукції для кожної статті витра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Стрелка вправо с вырезом 12"/>
          <p:cNvSpPr/>
          <p:nvPr/>
        </p:nvSpPr>
        <p:spPr>
          <a:xfrm>
            <a:off x="366840" y="249228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2 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24000" y="4221000"/>
          <a:ext cx="8643960" cy="2468880"/>
        </p:xfrm>
        <a:graphic>
          <a:graphicData uri="http://schemas.openxmlformats.org/drawingml/2006/table">
            <a:tbl>
              <a:tblPr/>
              <a:tblGrid>
                <a:gridCol w="2714400"/>
                <a:gridCol w="2643120"/>
                <a:gridCol w="3286440"/>
              </a:tblGrid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тод оцінки запасів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числення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 НВк – ЕО у НВп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О = ГП + ЕО уНВ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ласифікація методів обліку витрат і калькулюванн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директ-костинг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стандарт-кост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рядок застосування нормативного метод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собливості застосування систем калькулювання зарубіжних краї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08" name="Скругленный прямоугольник 6"/>
          <p:cNvSpPr/>
          <p:nvPr/>
        </p:nvSpPr>
        <p:spPr>
          <a:xfrm>
            <a:off x="900000" y="3284640"/>
            <a:ext cx="7569360" cy="30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агальна сума витрат на виробництво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а на початок період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поточного пері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Стрелка вправо с вырезом 11"/>
          <p:cNvSpPr/>
          <p:nvPr/>
        </p:nvSpPr>
        <p:spPr>
          <a:xfrm>
            <a:off x="366840" y="1844640"/>
            <a:ext cx="1765080" cy="1069920"/>
          </a:xfrm>
          <a:custGeom>
            <a:avLst/>
            <a:gdLst>
              <a:gd name="textAreaLeft" fmla="*/ 267480 w 1765080"/>
              <a:gd name="textAreaRight" fmla="*/ 1497600 w 1765080"/>
              <a:gd name="textAreaTop" fmla="*/ 267480 h 1069920"/>
              <a:gd name="textAreaBottom" fmla="*/ 80244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4" y="5400"/>
                </a:lnTo>
                <a:lnTo>
                  <a:pt x="15054" y="0"/>
                </a:lnTo>
                <a:lnTo>
                  <a:pt x="21600" y="10800"/>
                </a:lnTo>
                <a:lnTo>
                  <a:pt x="15054" y="21600"/>
                </a:lnTo>
                <a:lnTo>
                  <a:pt x="15054" y="16200"/>
                </a:lnTo>
                <a:lnTo>
                  <a:pt x="0" y="16200"/>
                </a:lnTo>
                <a:lnTo>
                  <a:pt x="32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Скругленный прямоугольник 12"/>
          <p:cNvSpPr/>
          <p:nvPr/>
        </p:nvSpPr>
        <p:spPr>
          <a:xfrm>
            <a:off x="2124000" y="162864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Визначення загальної суми витрат на виробниц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3024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2" name="Скругленный прямоугольник 16"/>
          <p:cNvSpPr/>
          <p:nvPr/>
        </p:nvSpPr>
        <p:spPr>
          <a:xfrm>
            <a:off x="2197080" y="1268280"/>
            <a:ext cx="6120000" cy="15004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рахунок собівартості еквівалентної одиниці готової продукції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Стрелка вправо с вырезом 10"/>
          <p:cNvSpPr/>
          <p:nvPr/>
        </p:nvSpPr>
        <p:spPr>
          <a:xfrm>
            <a:off x="214200" y="1484280"/>
            <a:ext cx="1765440" cy="1068480"/>
          </a:xfrm>
          <a:custGeom>
            <a:avLst/>
            <a:gdLst>
              <a:gd name="textAreaLeft" fmla="*/ 267120 w 1765440"/>
              <a:gd name="textAreaRight" fmla="*/ 1498320 w 176544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4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79280" y="3201840"/>
          <a:ext cx="8643960" cy="3611880"/>
        </p:xfrm>
        <a:graphic>
          <a:graphicData uri="http://schemas.openxmlformats.org/drawingml/2006/table">
            <a:tbl>
              <a:tblPr/>
              <a:tblGrid>
                <a:gridCol w="2714760"/>
                <a:gridCol w="2643120"/>
                <a:gridCol w="32860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знак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ІФ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ередньозваженої собівартост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ЕО готової продукції =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витрат поточного періоду на кількість ЕО поточного періоду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піввідношення загальної суми витрат виробництва на загальну кількість ЕО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438120"/>
            <a:ext cx="8388000" cy="1049400"/>
          </a:xfrm>
          <a:prstGeom prst="rect">
            <a:avLst/>
          </a:prstGeom>
          <a:ln w="0">
            <a:noFill/>
          </a:ln>
        </p:spPr>
      </p:pic>
      <p:sp>
        <p:nvSpPr>
          <p:cNvPr id="416" name="Скругленный прямоугольник 6"/>
          <p:cNvSpPr/>
          <p:nvPr/>
        </p:nvSpPr>
        <p:spPr>
          <a:xfrm>
            <a:off x="2349360" y="1989000"/>
            <a:ext cx="6120000" cy="1716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Розподіл виробничих витрат між готовою продукцією, браком та незавершеним виробництвом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трелка вправо с вырезом 7"/>
          <p:cNvSpPr/>
          <p:nvPr/>
        </p:nvSpPr>
        <p:spPr>
          <a:xfrm>
            <a:off x="366840" y="2131920"/>
            <a:ext cx="1765080" cy="1068480"/>
          </a:xfrm>
          <a:custGeom>
            <a:avLst/>
            <a:gdLst>
              <a:gd name="textAreaLeft" fmla="*/ 266760 w 1765080"/>
              <a:gd name="textAreaRight" fmla="*/ 1498320 w 1765080"/>
              <a:gd name="textAreaTop" fmla="*/ 267120 h 1068480"/>
              <a:gd name="textAreaBottom" fmla="*/ 801360 h 106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64" y="5400"/>
                </a:lnTo>
                <a:lnTo>
                  <a:pt x="15064" y="0"/>
                </a:lnTo>
                <a:lnTo>
                  <a:pt x="21600" y="10800"/>
                </a:lnTo>
                <a:lnTo>
                  <a:pt x="15064" y="21600"/>
                </a:lnTo>
                <a:lnTo>
                  <a:pt x="15064" y="16200"/>
                </a:lnTo>
                <a:lnTo>
                  <a:pt x="0" y="16200"/>
                </a:lnTo>
                <a:lnTo>
                  <a:pt x="3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5 етап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468360" y="1197000"/>
          <a:ext cx="8351640" cy="5486400"/>
        </p:xfrm>
        <a:graphic>
          <a:graphicData uri="http://schemas.openxmlformats.org/drawingml/2006/table">
            <a:tbl>
              <a:tblPr/>
              <a:tblGrid>
                <a:gridCol w="1670040"/>
                <a:gridCol w="1670040"/>
                <a:gridCol w="1671480"/>
                <a:gridCol w="1670040"/>
                <a:gridCol w="1670040"/>
              </a:tblGrid>
              <a:tr h="27468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, гр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(матеріали 100 %, обробка 6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уск у виробництво у квітн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кінець місяця (матеріали 100 %, обробка 40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516880" cy="12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"/>
          <p:cNvGraphicFramePr/>
          <p:nvPr/>
        </p:nvGraphicFramePr>
        <p:xfrm>
          <a:off x="468360" y="1557360"/>
          <a:ext cx="8280360" cy="5181480"/>
        </p:xfrm>
        <a:graphic>
          <a:graphicData uri="http://schemas.openxmlformats.org/drawingml/2006/table">
            <a:tbl>
              <a:tblPr/>
              <a:tblGrid>
                <a:gridCol w="2590920"/>
                <a:gridCol w="1296720"/>
                <a:gridCol w="1584360"/>
                <a:gridCol w="1884600"/>
                <a:gridCol w="923760"/>
              </a:tblGrid>
              <a:tr h="610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84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48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лишок на кінець періоду, 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 = Кількість одиниць в незавершеному виробництві на кінець періоду х % обробк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\+ 20000 = 85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+ 8000 = 73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539640" y="476280"/>
          <a:ext cx="8136000" cy="5911920"/>
        </p:xfrm>
        <a:graphic>
          <a:graphicData uri="http://schemas.openxmlformats.org/drawingml/2006/table">
            <a:tbl>
              <a:tblPr/>
              <a:tblGrid>
                <a:gridCol w="1962360"/>
                <a:gridCol w="1279440"/>
                <a:gridCol w="1617480"/>
                <a:gridCol w="2368800"/>
                <a:gridCol w="907920"/>
              </a:tblGrid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іальні витрат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лату прац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обничі витрати, грн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0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витрат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00 + 88000 = 98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20 + 54000 = 57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20 + 43200 = 46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100 / 85000 = 1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Скругленный прямоугольник 2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обівартість готової продукції = 65000 од х 2,57 = 167050 гр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кінець періо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мат. витрати = 20000 х 100 % х 1,15 = 23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витрати на оплату праці = 20000 х 40 % х 0,79 = 63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- ЗВВ = 20000 х 40 % х 0,63 = 50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Разов незавершене виробництво = 343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3880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395280" y="1268280"/>
          <a:ext cx="8353440" cy="540396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727280"/>
                <a:gridCol w="1804680"/>
                <a:gridCol w="932040"/>
              </a:tblGrid>
              <a:tr h="428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. витрат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на 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В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вівалент продукції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тової продукції, од. К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ДО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uk-UA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</a:t>
                      </a:r>
                      <a:r>
                        <a:rPr b="0" lang="uk-UA" sz="18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+ 80000 – 20000 = 65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ершене виробництво на початок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100 % = (5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0 х 60 % = (3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зав. виробництво на кінець місяц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100 % = 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0 х 40% = 8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 одини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5000 + 20000 = 8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 - 3000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000 – 3000  + 8000 = 7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р. витрати, грн.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трати за місяц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0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200 (з умов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івартість Е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8000 / 80000 = 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59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кругленный прямоугольник 1"/>
          <p:cNvSpPr/>
          <p:nvPr/>
        </p:nvSpPr>
        <p:spPr>
          <a:xfrm>
            <a:off x="324000" y="54936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Витрати на завершення обробки 5000 од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Матеріали – оброблені повніст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П 5000 х (100%-60%)х 0,77 = 15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ЗВВ 5000 х (100%-60%)х 0,62 = 1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Разом витрат на завершення обробки  27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entury Gothic"/>
              </a:rPr>
              <a:t>Незавершене виробництво на початок місяця = 10100 + 3720 + 2820 = 166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Скругленный прямоугольник 1"/>
          <p:cNvSpPr/>
          <p:nvPr/>
        </p:nvSpPr>
        <p:spPr>
          <a:xfrm>
            <a:off x="324000" y="333360"/>
            <a:ext cx="8145360" cy="6048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решти продукції, виготовленої в звітному періоді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(65000 од. – 5000 од.) х 2,49 = 14940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 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Витрати на завершення оброки незавершеного виробництва на початок періоду + Собівартість решти продукції, виготовленої в звітному періоді + Незавершене виробництво на початок місяця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івартість виготовленої продукції</a:t>
            </a: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2780 + 149400 + 16640 = 168820 грн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авершене виробництво на кінець періоду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 = 20000 х 100% х 1,1 = 2200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 = 20000 х 40% х 0,77 = 61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В = 20000 х 40% х 0,62 = 496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м = 331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55440" y="1468440"/>
            <a:ext cx="4424400" cy="163512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468440" y="2487600"/>
            <a:ext cx="7742160" cy="2754360"/>
            <a:chOff x="1468440" y="2487600"/>
            <a:chExt cx="7742160" cy="275436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14680" y="2643120"/>
              <a:ext cx="72864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ідображення витрат, що здійснюються на підприємстві протягом певного періоду, пов'язаних з процесом придбання, виробництва і реалізації в розрізах, що формують собівартість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55440" y="-3024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29" name="Rectangle 3"/>
          <p:cNvGrpSpPr/>
          <p:nvPr/>
        </p:nvGrpSpPr>
        <p:grpSpPr>
          <a:xfrm>
            <a:off x="1468440" y="1560600"/>
            <a:ext cx="7742160" cy="1755720"/>
            <a:chOff x="1468440" y="1560600"/>
            <a:chExt cx="7742160" cy="1755720"/>
          </a:xfrm>
        </p:grpSpPr>
        <p:pic>
          <p:nvPicPr>
            <p:cNvPr id="4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560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714680" y="1714680"/>
              <a:ext cx="728640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ередбачає включення до собівартості продукції всіх змінних та постій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AutoShape 2" descr=""/>
          <p:cNvPicPr/>
          <p:nvPr/>
        </p:nvPicPr>
        <p:blipFill>
          <a:blip r:embed="rId3"/>
          <a:stretch/>
        </p:blipFill>
        <p:spPr>
          <a:xfrm>
            <a:off x="55440" y="3395520"/>
            <a:ext cx="4424400" cy="1846440"/>
          </a:xfrm>
          <a:prstGeom prst="rect">
            <a:avLst/>
          </a:prstGeom>
          <a:ln w="0">
            <a:noFill/>
          </a:ln>
        </p:spPr>
      </p:pic>
      <p:grpSp>
        <p:nvGrpSpPr>
          <p:cNvPr id="433" name="Rectangle 3"/>
          <p:cNvGrpSpPr/>
          <p:nvPr/>
        </p:nvGrpSpPr>
        <p:grpSpPr>
          <a:xfrm>
            <a:off x="1468440" y="4992840"/>
            <a:ext cx="7742160" cy="1395360"/>
            <a:chOff x="1468440" y="4992840"/>
            <a:chExt cx="7742160" cy="1395360"/>
          </a:xfrm>
        </p:grpSpPr>
        <p:pic>
          <p:nvPicPr>
            <p:cNvPr id="434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99284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14680" y="514368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Ґрунтується на включенні до собівартості продукції лише змінних виробничих витр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214200" y="571680"/>
          <a:ext cx="8643960" cy="5715000"/>
        </p:xfrm>
        <a:graphic>
          <a:graphicData uri="http://schemas.openxmlformats.org/drawingml/2006/table">
            <a:tbl>
              <a:tblPr/>
              <a:tblGrid>
                <a:gridCol w="4000680"/>
                <a:gridCol w="1428840"/>
                <a:gridCol w="1500120"/>
                <a:gridCol w="1714320"/>
              </a:tblGrid>
              <a:tr h="47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Обсяг виробництва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Обсяг реалізації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Ціна за од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Змінні витрати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Постійні витрати,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управління та збу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214200" y="1071720"/>
          <a:ext cx="8643960" cy="5214960"/>
        </p:xfrm>
        <a:graphic>
          <a:graphicData uri="http://schemas.openxmlformats.org/drawingml/2006/table">
            <a:tbl>
              <a:tblPr/>
              <a:tblGrid>
                <a:gridCol w="3000600"/>
                <a:gridCol w="2000160"/>
                <a:gridCol w="1785960"/>
                <a:gridCol w="1857240"/>
              </a:tblGrid>
              <a:tr h="38088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 (п.2 х п.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обівартість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+ 21000 = 96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+ 21000/3000 = 8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+ 21000/3000 = 11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ов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4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4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+ 12000 = 42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+ 12000 = 3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+ 12000 = 47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38" name="Rectangle 3"/>
          <p:cNvGrpSpPr/>
          <p:nvPr/>
        </p:nvGrpSpPr>
        <p:grpSpPr>
          <a:xfrm>
            <a:off x="-85680" y="-152280"/>
            <a:ext cx="9279000" cy="1163520"/>
            <a:chOff x="-85680" y="-152280"/>
            <a:chExt cx="9279000" cy="1163520"/>
          </a:xfrm>
        </p:grpSpPr>
        <p:pic>
          <p:nvPicPr>
            <p:cNvPr id="439" name="Rectangle 3" descr=""/>
            <p:cNvPicPr/>
            <p:nvPr/>
          </p:nvPicPr>
          <p:blipFill>
            <a:blip r:embed="rId1"/>
            <a:stretch/>
          </p:blipFill>
          <p:spPr>
            <a:xfrm>
              <a:off x="-85680" y="-152280"/>
              <a:ext cx="92790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0" y="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пов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14200" y="1170000"/>
          <a:ext cx="8643960" cy="5402160"/>
        </p:xfrm>
        <a:graphic>
          <a:graphicData uri="http://schemas.openxmlformats.org/drawingml/2006/table">
            <a:tbl>
              <a:tblPr/>
              <a:tblGrid>
                <a:gridCol w="3357720"/>
                <a:gridCol w="1928880"/>
                <a:gridCol w="1643040"/>
                <a:gridCol w="171432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хід від реаліза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/в реалізованої продукції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25 = 7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25 = 62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25 = 875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робнич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мінні операційні витра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000 х 10 = 30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2500 х 10 = 2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3500 х 10 = 35000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гальний марж. дохі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2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1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ійні витрати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ераційний прибуто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2" name="Rectangle 3"/>
          <p:cNvGrpSpPr/>
          <p:nvPr/>
        </p:nvGrpSpPr>
        <p:grpSpPr>
          <a:xfrm>
            <a:off x="55440" y="-79200"/>
            <a:ext cx="8996400" cy="1164960"/>
            <a:chOff x="55440" y="-79200"/>
            <a:chExt cx="8996400" cy="1164960"/>
          </a:xfrm>
        </p:grpSpPr>
        <p:pic>
          <p:nvPicPr>
            <p:cNvPr id="443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42920" y="71280"/>
              <a:ext cx="885816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Звіт про прибуток підприємства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(система калькулювання змінних витрат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0" y="762120"/>
          <a:ext cx="8643960" cy="6095880"/>
        </p:xfrm>
        <a:graphic>
          <a:graphicData uri="http://schemas.openxmlformats.org/drawingml/2006/table">
            <a:tbl>
              <a:tblPr/>
              <a:tblGrid>
                <a:gridCol w="3852720"/>
                <a:gridCol w="1433520"/>
                <a:gridCol w="1643040"/>
                <a:gridCol w="1714680"/>
              </a:tblGrid>
              <a:tr h="3812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азник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ісяц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іч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ютий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резень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Запаси гот. прод . на поч.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Запаси гот. прод. На кінець місяця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. Зміна у запасах  (п.2-п.1)), шт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. Постійні ЗВВ на од., грн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. Різниця у прибутку  (п.3хп.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3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. Фін. рез. (калькул. зм. в-т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5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. Калькулювання повних витрат (п.5+п.6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446" name="Rectangle 3"/>
          <p:cNvGrpSpPr/>
          <p:nvPr/>
        </p:nvGrpSpPr>
        <p:grpSpPr>
          <a:xfrm>
            <a:off x="55440" y="-79200"/>
            <a:ext cx="8996400" cy="804600"/>
            <a:chOff x="55440" y="-79200"/>
            <a:chExt cx="8996400" cy="804600"/>
          </a:xfrm>
        </p:grpSpPr>
        <p:pic>
          <p:nvPicPr>
            <p:cNvPr id="447" name="Rectangle 3" descr=""/>
            <p:cNvPicPr/>
            <p:nvPr/>
          </p:nvPicPr>
          <p:blipFill>
            <a:blip r:embed="rId1"/>
            <a:stretch/>
          </p:blipFill>
          <p:spPr>
            <a:xfrm>
              <a:off x="55440" y="-79200"/>
              <a:ext cx="89964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2920" y="71280"/>
              <a:ext cx="88581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ЗГОДЖЕННЯ ФІНАНСОВОГО РЕЗУЛЬТАТ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5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9" descr=""/>
          <p:cNvPicPr/>
          <p:nvPr/>
        </p:nvPicPr>
        <p:blipFill>
          <a:blip r:embed="rId1"/>
          <a:stretch/>
        </p:blipFill>
        <p:spPr>
          <a:xfrm>
            <a:off x="360360" y="128520"/>
            <a:ext cx="8435880" cy="151776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відсутньої змін у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ін рез. не корегуєтьс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більшення запасі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да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трелка вправо с вырезом 17"/>
          <p:cNvSpPr/>
          <p:nvPr/>
        </p:nvSpPr>
        <p:spPr>
          <a:xfrm>
            <a:off x="3932280" y="4516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18"/>
          <p:cNvSpPr/>
          <p:nvPr/>
        </p:nvSpPr>
        <p:spPr>
          <a:xfrm>
            <a:off x="547560" y="44434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 умови зменшення запасах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19"/>
          <p:cNvSpPr/>
          <p:nvPr/>
        </p:nvSpPr>
        <p:spPr>
          <a:xfrm>
            <a:off x="5445000" y="4443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рахування різниці у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55440" y="1895400"/>
            <a:ext cx="44244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70" name="Rectangle 3"/>
          <p:cNvGrpSpPr/>
          <p:nvPr/>
        </p:nvGrpSpPr>
        <p:grpSpPr>
          <a:xfrm>
            <a:off x="1292400" y="2548080"/>
            <a:ext cx="7808760" cy="1414440"/>
            <a:chOff x="1292400" y="2548080"/>
            <a:chExt cx="7808760" cy="1414440"/>
          </a:xfrm>
        </p:grpSpPr>
        <p:pic>
          <p:nvPicPr>
            <p:cNvPr id="471" name="Rectangle 3" descr=""/>
            <p:cNvPicPr/>
            <p:nvPr/>
          </p:nvPicPr>
          <p:blipFill>
            <a:blip r:embed="rId2"/>
            <a:stretch/>
          </p:blipFill>
          <p:spPr>
            <a:xfrm>
              <a:off x="1292400" y="2548080"/>
              <a:ext cx="78087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571760" y="271944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Система обчислення собівартості на основі прямих змінних витрат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1401840"/>
          </a:xfrm>
          <a:prstGeom prst="rect">
            <a:avLst/>
          </a:prstGeom>
          <a:ln w="0">
            <a:noFill/>
          </a:ln>
        </p:spPr>
      </p:pic>
      <p:sp>
        <p:nvSpPr>
          <p:cNvPr id="474" name="Стрелка вправо с вырезом 12"/>
          <p:cNvSpPr/>
          <p:nvPr/>
        </p:nvSpPr>
        <p:spPr>
          <a:xfrm>
            <a:off x="3780000" y="19890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13"/>
          <p:cNvSpPr/>
          <p:nvPr/>
        </p:nvSpPr>
        <p:spPr>
          <a:xfrm>
            <a:off x="395280" y="191628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імеччина, Австр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кругленный прямоугольник 8"/>
          <p:cNvSpPr/>
          <p:nvPr/>
        </p:nvSpPr>
        <p:spPr>
          <a:xfrm>
            <a:off x="5292720" y="1916280"/>
            <a:ext cx="331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ilkostenrechnung 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(облік гранич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трелка вправо с вырезом 10"/>
          <p:cNvSpPr/>
          <p:nvPr/>
        </p:nvSpPr>
        <p:spPr>
          <a:xfrm>
            <a:off x="3851280" y="32925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Скругленный прямоугольник 11"/>
          <p:cNvSpPr/>
          <p:nvPr/>
        </p:nvSpPr>
        <p:spPr>
          <a:xfrm>
            <a:off x="46836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еликобрита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Скругленный прямоугольник 15"/>
          <p:cNvSpPr/>
          <p:nvPr/>
        </p:nvSpPr>
        <p:spPr>
          <a:xfrm>
            <a:off x="5364000" y="32194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rginal costing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(облік маржинальних витрат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с вырезом 17"/>
          <p:cNvSpPr/>
          <p:nvPr/>
        </p:nvSpPr>
        <p:spPr>
          <a:xfrm>
            <a:off x="3932280" y="487512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8"/>
          <p:cNvSpPr/>
          <p:nvPr/>
        </p:nvSpPr>
        <p:spPr>
          <a:xfrm>
            <a:off x="547560" y="480204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сійська Федераці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кругленный прямоугольник 19"/>
          <p:cNvSpPr/>
          <p:nvPr/>
        </p:nvSpPr>
        <p:spPr>
          <a:xfrm>
            <a:off x="5445000" y="4443480"/>
            <a:ext cx="3311640" cy="1793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 обмеженої собівартості, облік пропорційної собівартості, облік обмеженої собіварт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484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Простий – заснований на використанні в обліку даних тільки про змінні витра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кругленный прямоугольник 16"/>
          <p:cNvSpPr/>
          <p:nvPr/>
        </p:nvSpPr>
        <p:spPr>
          <a:xfrm>
            <a:off x="2357280" y="2766960"/>
            <a:ext cx="6462720" cy="1785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озвинутий – при застосуванні якого до собівартості разом із змінними включаються також прямі постійні витрати на виробництво та реалізацію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4381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09" name="Стрелка вправо с вырезом 20"/>
          <p:cNvSpPr/>
          <p:nvPr/>
        </p:nvSpPr>
        <p:spPr>
          <a:xfrm>
            <a:off x="428760" y="19573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Скругленный прямоугольник 16"/>
          <p:cNvSpPr/>
          <p:nvPr/>
        </p:nvSpPr>
        <p:spPr>
          <a:xfrm>
            <a:off x="1857240" y="19573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гально-організацій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Стрелка вправо с вырезом 8"/>
          <p:cNvSpPr/>
          <p:nvPr/>
        </p:nvSpPr>
        <p:spPr>
          <a:xfrm>
            <a:off x="428760" y="3071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Скругленный прямоугольник 9"/>
          <p:cNvSpPr/>
          <p:nvPr/>
        </p:nvSpPr>
        <p:spPr>
          <a:xfrm>
            <a:off x="1857240" y="30718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ліково-організац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Стрелка вправо с вырезом 14"/>
          <p:cNvSpPr/>
          <p:nvPr/>
        </p:nvSpPr>
        <p:spPr>
          <a:xfrm>
            <a:off x="357120" y="4071960"/>
            <a:ext cx="1462320" cy="857160"/>
          </a:xfrm>
          <a:custGeom>
            <a:avLst/>
            <a:gdLst>
              <a:gd name="textAreaLeft" fmla="*/ 214200 w 1462320"/>
              <a:gd name="textAreaRight" fmla="*/ 1248120 w 146232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268" y="5400"/>
                </a:lnTo>
                <a:lnTo>
                  <a:pt x="15268" y="0"/>
                </a:lnTo>
                <a:lnTo>
                  <a:pt x="21600" y="10800"/>
                </a:lnTo>
                <a:lnTo>
                  <a:pt x="15268" y="21600"/>
                </a:lnTo>
                <a:lnTo>
                  <a:pt x="15268" y="16200"/>
                </a:lnTo>
                <a:lnTo>
                  <a:pt x="0" y="16200"/>
                </a:lnTo>
                <a:lnTo>
                  <a:pt x="316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857240" y="40719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ехнолог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AutoShape 2" descr=""/>
          <p:cNvPicPr/>
          <p:nvPr/>
        </p:nvPicPr>
        <p:blipFill>
          <a:blip r:embed="rId1"/>
          <a:stretch/>
        </p:blipFill>
        <p:spPr>
          <a:xfrm>
            <a:off x="55440" y="969840"/>
            <a:ext cx="442440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89" name="Rectangle 3"/>
          <p:cNvGrpSpPr/>
          <p:nvPr/>
        </p:nvGrpSpPr>
        <p:grpSpPr>
          <a:xfrm>
            <a:off x="1328760" y="2273400"/>
            <a:ext cx="7736040" cy="1403280"/>
            <a:chOff x="1328760" y="2273400"/>
            <a:chExt cx="7736040" cy="1403280"/>
          </a:xfrm>
        </p:grpSpPr>
        <p:pic>
          <p:nvPicPr>
            <p:cNvPr id="490" name="Rectangle 3" descr=""/>
            <p:cNvPicPr/>
            <p:nvPr/>
          </p:nvPicPr>
          <p:blipFill>
            <a:blip r:embed="rId2"/>
            <a:stretch/>
          </p:blipFill>
          <p:spPr>
            <a:xfrm>
              <a:off x="1328760" y="2273400"/>
              <a:ext cx="77360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1571760" y="242892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ізниця між доходом від реалізації продукції та змінними витратами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3"/>
          <p:cNvGrpSpPr/>
          <p:nvPr/>
        </p:nvGrpSpPr>
        <p:grpSpPr>
          <a:xfrm>
            <a:off x="-19080" y="-60480"/>
            <a:ext cx="9259920" cy="6875640"/>
            <a:chOff x="-19080" y="-60480"/>
            <a:chExt cx="9259920" cy="6875640"/>
          </a:xfrm>
        </p:grpSpPr>
        <p:pic>
          <p:nvPicPr>
            <p:cNvPr id="493" name="Rectangle 3" descr=""/>
            <p:cNvPicPr/>
            <p:nvPr/>
          </p:nvPicPr>
          <p:blipFill>
            <a:blip r:embed="rId1"/>
            <a:stretch/>
          </p:blipFill>
          <p:spPr>
            <a:xfrm>
              <a:off x="-19080" y="-60480"/>
              <a:ext cx="9259920" cy="68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920" y="214200"/>
              <a:ext cx="8858160" cy="65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ffffff"/>
                  </a:solidFill>
                  <a:latin typeface="Times New Roman"/>
                </a:rPr>
                <a:t>Французька модель визначення фін. результат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Змінна собівартість продукції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Маржинальний дохід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Постійні витрати період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5. Результат (прибуток/збиток)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Правая фигурная скобка 2"/>
          <p:cNvSpPr/>
          <p:nvPr/>
        </p:nvSpPr>
        <p:spPr>
          <a:xfrm>
            <a:off x="7500960" y="2000160"/>
            <a:ext cx="642960" cy="2357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2357640"/>
              <a:gd name="textAreaBottom" fmla="*/ 234108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авая фигурная скобка 5"/>
          <p:cNvSpPr/>
          <p:nvPr/>
        </p:nvSpPr>
        <p:spPr>
          <a:xfrm>
            <a:off x="7500960" y="4500720"/>
            <a:ext cx="642960" cy="17143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714320"/>
              <a:gd name="textAreaBottom" fmla="*/ 169776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Восьмиугольник 7"/>
          <p:cNvSpPr/>
          <p:nvPr/>
        </p:nvSpPr>
        <p:spPr>
          <a:xfrm>
            <a:off x="8215200" y="2928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Восьмиугольник 8"/>
          <p:cNvSpPr/>
          <p:nvPr/>
        </p:nvSpPr>
        <p:spPr>
          <a:xfrm>
            <a:off x="8286840" y="500076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00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Американська модель визначення фін. р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1. Дохід від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2. Змінна  виробнича собівартість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роданих вироб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3. Виробнича марж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4. Змінні витрати на реалізацію та управлі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5. Торговельна маржа (Заг. марж. дохід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6. Постійні витрат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7. Фінансовий результат (Результат-нетто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Правая фигурная скобка 2"/>
          <p:cNvSpPr/>
          <p:nvPr/>
        </p:nvSpPr>
        <p:spPr>
          <a:xfrm>
            <a:off x="7500960" y="1357200"/>
            <a:ext cx="642960" cy="15004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480"/>
              <a:gd name="textAreaBottom" fmla="*/ 1483920 h 150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авая фигурная скобка 5"/>
          <p:cNvSpPr/>
          <p:nvPr/>
        </p:nvSpPr>
        <p:spPr>
          <a:xfrm>
            <a:off x="7500960" y="3143160"/>
            <a:ext cx="642960" cy="15001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500120"/>
              <a:gd name="textAreaBottom" fmla="*/ 1483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Восьмиугольник 7"/>
          <p:cNvSpPr/>
          <p:nvPr/>
        </p:nvSpPr>
        <p:spPr>
          <a:xfrm>
            <a:off x="8215200" y="1785960"/>
            <a:ext cx="57168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Восьмиугольник 8"/>
          <p:cNvSpPr/>
          <p:nvPr/>
        </p:nvSpPr>
        <p:spPr>
          <a:xfrm>
            <a:off x="8286840" y="3643200"/>
            <a:ext cx="571320" cy="5716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авая фигурная скобка 9"/>
          <p:cNvSpPr/>
          <p:nvPr/>
        </p:nvSpPr>
        <p:spPr>
          <a:xfrm>
            <a:off x="7500960" y="4929120"/>
            <a:ext cx="642960" cy="16430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643040"/>
              <a:gd name="textAreaBottom" fmla="*/ 162648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2"/>
                  <a:pt x="10800" y="704"/>
                </a:cubicBezTo>
                <a:lnTo>
                  <a:pt x="10800" y="10096"/>
                </a:lnTo>
                <a:cubicBezTo>
                  <a:pt x="10800" y="10448"/>
                  <a:pt x="16200" y="10800"/>
                  <a:pt x="21600" y="10800"/>
                </a:cubicBezTo>
                <a:cubicBezTo>
                  <a:pt x="16200" y="10800"/>
                  <a:pt x="10800" y="11152"/>
                  <a:pt x="10800" y="11504"/>
                </a:cubicBezTo>
                <a:lnTo>
                  <a:pt x="10800" y="20896"/>
                </a:lnTo>
                <a:cubicBezTo>
                  <a:pt x="10800" y="2124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Восьмиугольник 10"/>
          <p:cNvSpPr/>
          <p:nvPr/>
        </p:nvSpPr>
        <p:spPr>
          <a:xfrm>
            <a:off x="8286840" y="5429160"/>
            <a:ext cx="571320" cy="64296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AutoShape 2" descr=""/>
          <p:cNvPicPr/>
          <p:nvPr/>
        </p:nvPicPr>
        <p:blipFill>
          <a:blip r:embed="rId1"/>
          <a:stretch/>
        </p:blipFill>
        <p:spPr>
          <a:xfrm>
            <a:off x="-85680" y="444600"/>
            <a:ext cx="4419720" cy="199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Rectangle 3"/>
          <p:cNvGrpSpPr/>
          <p:nvPr/>
        </p:nvGrpSpPr>
        <p:grpSpPr>
          <a:xfrm>
            <a:off x="1359000" y="2255760"/>
            <a:ext cx="7815240" cy="4084560"/>
            <a:chOff x="1359000" y="2255760"/>
            <a:chExt cx="7815240" cy="4084560"/>
          </a:xfrm>
        </p:grpSpPr>
        <p:pic>
          <p:nvPicPr>
            <p:cNvPr id="510" name="Rectangle 3" descr=""/>
            <p:cNvPicPr/>
            <p:nvPr/>
          </p:nvPicPr>
          <p:blipFill>
            <a:blip r:embed="rId2"/>
            <a:stretch/>
          </p:blipFill>
          <p:spPr>
            <a:xfrm>
              <a:off x="1359000" y="2255760"/>
              <a:ext cx="7815240" cy="40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643040" y="2428920"/>
              <a:ext cx="7286760" cy="38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Частина постійних витрат відноситься прямо без умовного розподілу на: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1. відповідні вироби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2. Групи виробів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3. центри відповідальності,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4. сегменти діяльності 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Rectangle 3"/>
          <p:cNvGrpSpPr/>
          <p:nvPr/>
        </p:nvGrpSpPr>
        <p:grpSpPr>
          <a:xfrm>
            <a:off x="-103320" y="-109440"/>
            <a:ext cx="9155160" cy="6997680"/>
            <a:chOff x="-103320" y="-109440"/>
            <a:chExt cx="9155160" cy="6997680"/>
          </a:xfrm>
        </p:grpSpPr>
        <p:pic>
          <p:nvPicPr>
            <p:cNvPr id="513" name="Rectangle 3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516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42920" y="142920"/>
              <a:ext cx="8858160" cy="67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Схема  визначення фін. </a:t>
              </a:r>
              <a:r>
                <a:rPr b="1" lang="ru-RU" sz="35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r>
                <a:rPr b="1" lang="uk-UA" sz="3500" spc="-1" strike="noStrike">
                  <a:solidFill>
                    <a:srgbClr val="ffffff"/>
                  </a:solidFill>
                  <a:latin typeface="Times New Roman"/>
                </a:rPr>
                <a:t>езультату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Дохід від реалізації виробу – Змінна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Собів-ть виробу = Напівмаржа за виробом (МД 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виріб = Напівмаржа групи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виробів (МД 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Постійні витрати на групи продукції =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Times New Roman"/>
                </a:rPr>
                <a:t>Напівмаржа місця виникнення витрат (МД ІІІ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стійні витрати місця виникнення витрат = Напівмаржа по підрозділу(МД І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</a:rPr>
                <a:t>дрозділу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 = Напівмаржа по підприємству (МД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- ПОСТІЙНІ ВИТРАТИ ПІДПРИЄМТВА = ФІНАНСОВИЙ РЕЗУЛЬТАТ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авая фигурная скобка 2"/>
          <p:cNvSpPr/>
          <p:nvPr/>
        </p:nvSpPr>
        <p:spPr>
          <a:xfrm>
            <a:off x="7607160" y="620640"/>
            <a:ext cx="642960" cy="107964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79640"/>
              <a:gd name="textAreaBottom" fmla="*/ 10630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6"/>
                  <a:pt x="10800" y="1072"/>
                </a:cubicBezTo>
                <a:lnTo>
                  <a:pt x="10800" y="9728"/>
                </a:lnTo>
                <a:cubicBezTo>
                  <a:pt x="10800" y="10264"/>
                  <a:pt x="16200" y="10800"/>
                  <a:pt x="21600" y="10800"/>
                </a:cubicBezTo>
                <a:cubicBezTo>
                  <a:pt x="16200" y="10800"/>
                  <a:pt x="10800" y="11336"/>
                  <a:pt x="10800" y="11872"/>
                </a:cubicBezTo>
                <a:lnTo>
                  <a:pt x="10800" y="20528"/>
                </a:lnTo>
                <a:cubicBezTo>
                  <a:pt x="10800" y="2106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авая фигурная скобка 5"/>
          <p:cNvSpPr/>
          <p:nvPr/>
        </p:nvSpPr>
        <p:spPr>
          <a:xfrm>
            <a:off x="7674120" y="1700280"/>
            <a:ext cx="642960" cy="108108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081080"/>
              <a:gd name="textAreaBottom" fmla="*/ 10645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5"/>
                  <a:pt x="10800" y="1070"/>
                </a:cubicBezTo>
                <a:lnTo>
                  <a:pt x="10800" y="9730"/>
                </a:lnTo>
                <a:cubicBezTo>
                  <a:pt x="10800" y="10265"/>
                  <a:pt x="16200" y="10800"/>
                  <a:pt x="21600" y="10800"/>
                </a:cubicBezTo>
                <a:cubicBezTo>
                  <a:pt x="16200" y="10800"/>
                  <a:pt x="10800" y="11335"/>
                  <a:pt x="10800" y="11870"/>
                </a:cubicBezTo>
                <a:lnTo>
                  <a:pt x="10800" y="20530"/>
                </a:lnTo>
                <a:cubicBezTo>
                  <a:pt x="10800" y="2106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Восьмиугольник 7"/>
          <p:cNvSpPr/>
          <p:nvPr/>
        </p:nvSpPr>
        <p:spPr>
          <a:xfrm>
            <a:off x="8321760" y="105264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Восьмиугольник 8"/>
          <p:cNvSpPr/>
          <p:nvPr/>
        </p:nvSpPr>
        <p:spPr>
          <a:xfrm>
            <a:off x="8286840" y="1916280"/>
            <a:ext cx="571320" cy="5713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авая фигурная скобка 9"/>
          <p:cNvSpPr/>
          <p:nvPr/>
        </p:nvSpPr>
        <p:spPr>
          <a:xfrm>
            <a:off x="7678800" y="2781360"/>
            <a:ext cx="642960" cy="115236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Восьмиугольник 10"/>
          <p:cNvSpPr/>
          <p:nvPr/>
        </p:nvSpPr>
        <p:spPr>
          <a:xfrm>
            <a:off x="8464680" y="3193920"/>
            <a:ext cx="571320" cy="45108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І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Восьмиугольник 11"/>
          <p:cNvSpPr/>
          <p:nvPr/>
        </p:nvSpPr>
        <p:spPr>
          <a:xfrm>
            <a:off x="8464680" y="4202280"/>
            <a:ext cx="57132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авая фигурная скобка 12"/>
          <p:cNvSpPr/>
          <p:nvPr/>
        </p:nvSpPr>
        <p:spPr>
          <a:xfrm>
            <a:off x="7812000" y="3933720"/>
            <a:ext cx="642960" cy="11509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0920"/>
              <a:gd name="textAreaBottom" fmla="*/ 113436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3"/>
                  <a:pt x="10800" y="1005"/>
                </a:cubicBezTo>
                <a:lnTo>
                  <a:pt x="10800" y="9795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3"/>
                  <a:pt x="10800" y="11805"/>
                </a:cubicBezTo>
                <a:lnTo>
                  <a:pt x="10800" y="20595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Восьмиугольник 13"/>
          <p:cNvSpPr/>
          <p:nvPr/>
        </p:nvSpPr>
        <p:spPr>
          <a:xfrm>
            <a:off x="8393040" y="5354640"/>
            <a:ext cx="571680" cy="450720"/>
          </a:xfrm>
          <a:prstGeom prst="octagon">
            <a:avLst>
              <a:gd name="adj" fmla="val 29287"/>
            </a:avLst>
          </a:pr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авая фигурная скобка 14"/>
          <p:cNvSpPr/>
          <p:nvPr/>
        </p:nvSpPr>
        <p:spPr>
          <a:xfrm>
            <a:off x="7740720" y="5084640"/>
            <a:ext cx="642960" cy="115272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1152720"/>
              <a:gd name="textAreaBottom" fmla="*/ 11361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2"/>
                  <a:pt x="10800" y="1004"/>
                </a:cubicBezTo>
                <a:lnTo>
                  <a:pt x="10800" y="9796"/>
                </a:lnTo>
                <a:cubicBezTo>
                  <a:pt x="10800" y="10298"/>
                  <a:pt x="16200" y="10800"/>
                  <a:pt x="21600" y="10800"/>
                </a:cubicBezTo>
                <a:cubicBezTo>
                  <a:pt x="16200" y="10800"/>
                  <a:pt x="10800" y="11302"/>
                  <a:pt x="10800" y="11804"/>
                </a:cubicBezTo>
                <a:lnTo>
                  <a:pt x="10800" y="20596"/>
                </a:lnTo>
                <a:cubicBezTo>
                  <a:pt x="10800" y="210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26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Скругленный прямоугольник 11"/>
          <p:cNvSpPr/>
          <p:nvPr/>
        </p:nvSpPr>
        <p:spPr>
          <a:xfrm>
            <a:off x="468360" y="213372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операційний прибуток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Скругленный прямоугольник 15"/>
          <p:cNvSpPr/>
          <p:nvPr/>
        </p:nvSpPr>
        <p:spPr>
          <a:xfrm>
            <a:off x="5364000" y="235584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Ключовим показником є маржинальний дохі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Стрелка вправо с вырезом 17"/>
          <p:cNvSpPr/>
          <p:nvPr/>
        </p:nvSpPr>
        <p:spPr>
          <a:xfrm>
            <a:off x="3932280" y="33591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Скругленный прямоугольник 18"/>
          <p:cNvSpPr/>
          <p:nvPr/>
        </p:nvSpPr>
        <p:spPr>
          <a:xfrm>
            <a:off x="547560" y="32860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повну собіварті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Скругленный прямоугольник 19"/>
          <p:cNvSpPr/>
          <p:nvPr/>
        </p:nvSpPr>
        <p:spPr>
          <a:xfrm>
            <a:off x="5445000" y="328608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обчислити критичний обсяг реаліза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Стрелка вправо с вырезом 14"/>
          <p:cNvSpPr/>
          <p:nvPr/>
        </p:nvSpPr>
        <p:spPr>
          <a:xfrm>
            <a:off x="3924360" y="4587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кругленный прямоугольник 16"/>
          <p:cNvSpPr/>
          <p:nvPr/>
        </p:nvSpPr>
        <p:spPr>
          <a:xfrm>
            <a:off x="539640" y="4514760"/>
            <a:ext cx="331308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довг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Скругленный прямоугольник 20"/>
          <p:cNvSpPr/>
          <p:nvPr/>
        </p:nvSpPr>
        <p:spPr>
          <a:xfrm>
            <a:off x="5437080" y="4514760"/>
            <a:ext cx="3311640" cy="1435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дає релевантну інформацію для прийняття короткострокових упр. ріш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9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169480" cy="968400"/>
          </a:xfrm>
          <a:prstGeom prst="rect">
            <a:avLst/>
          </a:prstGeom>
          <a:ln w="0">
            <a:noFill/>
          </a:ln>
        </p:spPr>
      </p:pic>
      <p:sp>
        <p:nvSpPr>
          <p:cNvPr id="538" name="Скругленный прямоугольник 13"/>
          <p:cNvSpPr/>
          <p:nvPr/>
        </p:nvSpPr>
        <p:spPr>
          <a:xfrm>
            <a:off x="395280" y="1268280"/>
            <a:ext cx="33130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радиційна систем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Скругленный прямоугольник 8"/>
          <p:cNvSpPr/>
          <p:nvPr/>
        </p:nvSpPr>
        <p:spPr>
          <a:xfrm>
            <a:off x="5292720" y="1268280"/>
            <a:ext cx="331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ирект-костин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Стрелка вправо с вырезом 10"/>
          <p:cNvSpPr/>
          <p:nvPr/>
        </p:nvSpPr>
        <p:spPr>
          <a:xfrm>
            <a:off x="3851280" y="24289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Скругленный прямоугольник 11"/>
          <p:cNvSpPr/>
          <p:nvPr/>
        </p:nvSpPr>
        <p:spPr>
          <a:xfrm>
            <a:off x="468360" y="2133720"/>
            <a:ext cx="3311640" cy="18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Орієнтує менеджмент на досягнення найкращих результатів в противагу оптимізації виробничого проце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Скругленный прямоугольник 15"/>
          <p:cNvSpPr/>
          <p:nvPr/>
        </p:nvSpPr>
        <p:spPr>
          <a:xfrm>
            <a:off x="5364000" y="2205000"/>
            <a:ext cx="3311640" cy="1720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формувати найбільш оптимальну програму випуску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Стрелка вправо с вырезом 17"/>
          <p:cNvSpPr/>
          <p:nvPr/>
        </p:nvSpPr>
        <p:spPr>
          <a:xfrm>
            <a:off x="3932280" y="41511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Скругленный прямоугольник 18"/>
          <p:cNvSpPr/>
          <p:nvPr/>
        </p:nvSpPr>
        <p:spPr>
          <a:xfrm>
            <a:off x="547560" y="4078440"/>
            <a:ext cx="331308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на застосовувати на будь-яких підприємства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Скругленный прямоугольник 19"/>
          <p:cNvSpPr/>
          <p:nvPr/>
        </p:nvSpPr>
        <p:spPr>
          <a:xfrm>
            <a:off x="5445000" y="4078440"/>
            <a:ext cx="3311640" cy="10731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цільно застосовувати на підприємствах з невеликим рівнем постійних вит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Стрелка вправо с вырезом 14"/>
          <p:cNvSpPr/>
          <p:nvPr/>
        </p:nvSpPr>
        <p:spPr>
          <a:xfrm>
            <a:off x="3924360" y="5380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Скругленный прямоугольник 16"/>
          <p:cNvSpPr/>
          <p:nvPr/>
        </p:nvSpPr>
        <p:spPr>
          <a:xfrm>
            <a:off x="539640" y="5307120"/>
            <a:ext cx="331308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Більші трудомістка система контро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Скругленный прямоугольник 20"/>
          <p:cNvSpPr/>
          <p:nvPr/>
        </p:nvSpPr>
        <p:spPr>
          <a:xfrm>
            <a:off x="5437080" y="5307120"/>
            <a:ext cx="3311640" cy="1434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истема контролю більш оператив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0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ідсутність складних процедур з розподілу постійних витрат за видами продукції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явність аналітичних перева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ає можливість більш оперативно контролювати постійні витр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Дозволяє спростити нормування, планування через зменшення статей витра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Прямоугольник 9" descr=""/>
          <p:cNvPicPr/>
          <p:nvPr/>
        </p:nvPicPr>
        <p:blipFill>
          <a:blip r:embed="rId1"/>
          <a:stretch/>
        </p:blipFill>
        <p:spPr>
          <a:xfrm>
            <a:off x="1195560" y="944640"/>
            <a:ext cx="6540480" cy="695160"/>
          </a:xfrm>
          <a:prstGeom prst="rect">
            <a:avLst/>
          </a:prstGeom>
          <a:ln w="0">
            <a:noFill/>
          </a:ln>
        </p:spPr>
      </p:pic>
      <p:sp>
        <p:nvSpPr>
          <p:cNvPr id="559" name="Стрелка вправо с вырезом 12"/>
          <p:cNvSpPr/>
          <p:nvPr/>
        </p:nvSpPr>
        <p:spPr>
          <a:xfrm>
            <a:off x="642960" y="17668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Скругленный прямоугольник 13"/>
          <p:cNvSpPr/>
          <p:nvPr/>
        </p:nvSpPr>
        <p:spPr>
          <a:xfrm>
            <a:off x="2071800" y="1766880"/>
            <a:ext cx="682128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жливість застосування демпінгового ціноутворен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Стрелка вправо с вырезом 14"/>
          <p:cNvSpPr/>
          <p:nvPr/>
        </p:nvSpPr>
        <p:spPr>
          <a:xfrm>
            <a:off x="952560" y="2695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Скругленный прямоугольник 16"/>
          <p:cNvSpPr/>
          <p:nvPr/>
        </p:nvSpPr>
        <p:spPr>
          <a:xfrm>
            <a:off x="2357280" y="2766960"/>
            <a:ext cx="6462720" cy="662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кладність у розмежуванні витрат на постійні та змінн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Стрелка вправо с вырезом 6"/>
          <p:cNvSpPr/>
          <p:nvPr/>
        </p:nvSpPr>
        <p:spPr>
          <a:xfrm>
            <a:off x="1146240" y="37306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Скругленный прямоугольник 7"/>
          <p:cNvSpPr/>
          <p:nvPr/>
        </p:nvSpPr>
        <p:spPr>
          <a:xfrm>
            <a:off x="2575080" y="373068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відповідність вітчизняній системі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Стрелка вправо с вырезом 11"/>
          <p:cNvSpPr/>
          <p:nvPr/>
        </p:nvSpPr>
        <p:spPr>
          <a:xfrm>
            <a:off x="1298520" y="4732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Скругленный прямоугольник 15"/>
          <p:cNvSpPr/>
          <p:nvPr/>
        </p:nvSpPr>
        <p:spPr>
          <a:xfrm>
            <a:off x="2727360" y="4803840"/>
            <a:ext cx="6173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Викривлення загальної величини прибут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трелка вправо с вырезом 18"/>
          <p:cNvSpPr/>
          <p:nvPr/>
        </p:nvSpPr>
        <p:spPr>
          <a:xfrm>
            <a:off x="1450800" y="566748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9"/>
          <p:cNvSpPr/>
          <p:nvPr/>
        </p:nvSpPr>
        <p:spPr>
          <a:xfrm>
            <a:off x="2879640" y="5738760"/>
            <a:ext cx="617400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е співпадання результатів фін. звітності із даними управлінського облі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AutoShape 2" descr=""/>
          <p:cNvPicPr/>
          <p:nvPr/>
        </p:nvPicPr>
        <p:blipFill>
          <a:blip r:embed="rId1"/>
          <a:stretch/>
        </p:blipFill>
        <p:spPr>
          <a:xfrm>
            <a:off x="201600" y="822240"/>
            <a:ext cx="44197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570" name="Rectangle 3"/>
          <p:cNvGrpSpPr/>
          <p:nvPr/>
        </p:nvGrpSpPr>
        <p:grpSpPr>
          <a:xfrm>
            <a:off x="1468440" y="1487520"/>
            <a:ext cx="7742160" cy="2189160"/>
            <a:chOff x="1468440" y="1487520"/>
            <a:chExt cx="7742160" cy="2189160"/>
          </a:xfrm>
        </p:grpSpPr>
        <p:pic>
          <p:nvPicPr>
            <p:cNvPr id="571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87520"/>
              <a:ext cx="7742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714680" y="164304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истема обліку та управління витратами на виробництво на основі розроблених стандартів з наступним виявленням відхилень фактичного рівня показників із заплановани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3" name="AutoShape 2" descr=""/>
          <p:cNvPicPr/>
          <p:nvPr/>
        </p:nvPicPr>
        <p:blipFill>
          <a:blip r:embed="rId3"/>
          <a:stretch/>
        </p:blipFill>
        <p:spPr>
          <a:xfrm>
            <a:off x="201600" y="3395520"/>
            <a:ext cx="4419720" cy="1279800"/>
          </a:xfrm>
          <a:prstGeom prst="rect">
            <a:avLst/>
          </a:prstGeom>
          <a:ln w="0">
            <a:noFill/>
          </a:ln>
        </p:spPr>
      </p:pic>
      <p:grpSp>
        <p:nvGrpSpPr>
          <p:cNvPr id="574" name="Rectangle 3"/>
          <p:cNvGrpSpPr/>
          <p:nvPr/>
        </p:nvGrpSpPr>
        <p:grpSpPr>
          <a:xfrm>
            <a:off x="1468440" y="4419720"/>
            <a:ext cx="7742160" cy="1395360"/>
            <a:chOff x="1468440" y="4419720"/>
            <a:chExt cx="7742160" cy="1395360"/>
          </a:xfrm>
        </p:grpSpPr>
        <p:pic>
          <p:nvPicPr>
            <p:cNvPr id="575" name="Rectangle 3" descr=""/>
            <p:cNvPicPr/>
            <p:nvPr/>
          </p:nvPicPr>
          <p:blipFill>
            <a:blip r:embed="rId4"/>
            <a:stretch/>
          </p:blipFill>
          <p:spPr>
            <a:xfrm>
              <a:off x="1468440" y="4419720"/>
              <a:ext cx="77421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714680" y="4572000"/>
              <a:ext cx="72864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облений на основі стандарт-косту відомим радянським вченим Жебрако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AutoShape 2" descr=""/>
          <p:cNvPicPr/>
          <p:nvPr/>
        </p:nvPicPr>
        <p:blipFill>
          <a:blip r:embed="rId1"/>
          <a:stretch/>
        </p:blipFill>
        <p:spPr>
          <a:xfrm>
            <a:off x="55440" y="18252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16" name="Rectangle 3"/>
          <p:cNvGrpSpPr/>
          <p:nvPr/>
        </p:nvGrpSpPr>
        <p:grpSpPr>
          <a:xfrm>
            <a:off x="1468440" y="1420920"/>
            <a:ext cx="7742160" cy="2822400"/>
            <a:chOff x="1468440" y="1420920"/>
            <a:chExt cx="7742160" cy="2822400"/>
          </a:xfrm>
        </p:grpSpPr>
        <p:pic>
          <p:nvPicPr>
            <p:cNvPr id="317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1420920"/>
              <a:ext cx="77421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714680" y="157176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способів відображення, групування та систематизації даних про витрати, що забезпечують досягнення визначеної мети, вирішення конкретного завдання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9" name="Прямоугольник 3" descr=""/>
          <p:cNvPicPr/>
          <p:nvPr/>
        </p:nvPicPr>
        <p:blipFill>
          <a:blip r:embed="rId3"/>
          <a:stretch/>
        </p:blipFill>
        <p:spPr>
          <a:xfrm>
            <a:off x="981000" y="4322880"/>
            <a:ext cx="6535800" cy="69372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право с вырезом 4"/>
          <p:cNvSpPr/>
          <p:nvPr/>
        </p:nvSpPr>
        <p:spPr>
          <a:xfrm>
            <a:off x="428760" y="4929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Скругленный прямоугольник 5"/>
          <p:cNvSpPr/>
          <p:nvPr/>
        </p:nvSpPr>
        <p:spPr>
          <a:xfrm>
            <a:off x="1857240" y="51436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ормативний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трелка вправо с вырезом 6"/>
          <p:cNvSpPr/>
          <p:nvPr/>
        </p:nvSpPr>
        <p:spPr>
          <a:xfrm>
            <a:off x="738360" y="57150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кругленный прямоугольник 7"/>
          <p:cNvSpPr/>
          <p:nvPr/>
        </p:nvSpPr>
        <p:spPr>
          <a:xfrm>
            <a:off x="2166840" y="592920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Фактич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AutoShape 2" descr=""/>
          <p:cNvPicPr/>
          <p:nvPr/>
        </p:nvPicPr>
        <p:blipFill>
          <a:blip r:embed="rId1"/>
          <a:stretch/>
        </p:blipFill>
        <p:spPr>
          <a:xfrm>
            <a:off x="128520" y="682560"/>
            <a:ext cx="441972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78" name="Rectangle 3"/>
          <p:cNvGrpSpPr/>
          <p:nvPr/>
        </p:nvGrpSpPr>
        <p:grpSpPr>
          <a:xfrm>
            <a:off x="1395360" y="2273400"/>
            <a:ext cx="7742160" cy="3116160"/>
            <a:chOff x="1395360" y="2273400"/>
            <a:chExt cx="7742160" cy="3116160"/>
          </a:xfrm>
        </p:grpSpPr>
        <p:pic>
          <p:nvPicPr>
            <p:cNvPr id="579" name="Rectangle 3" descr=""/>
            <p:cNvPicPr/>
            <p:nvPr/>
          </p:nvPicPr>
          <p:blipFill>
            <a:blip r:embed="rId2"/>
            <a:stretch/>
          </p:blipFill>
          <p:spPr>
            <a:xfrm>
              <a:off x="1395360" y="2273400"/>
              <a:ext cx="77421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1643040" y="2428920"/>
              <a:ext cx="7286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калькулювання, що передбачає спочатку групування накладних витрат за основними видами діяльності, а потім розподіл їх між видами продукції, виходячи з того, які види діяльності потрібні для виготовлення цієї продук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Прямоугольник 9" descr=""/>
          <p:cNvPicPr/>
          <p:nvPr/>
        </p:nvPicPr>
        <p:blipFill>
          <a:blip r:embed="rId1"/>
          <a:stretch/>
        </p:blipFill>
        <p:spPr>
          <a:xfrm>
            <a:off x="1066680" y="298440"/>
            <a:ext cx="6669360" cy="695160"/>
          </a:xfrm>
          <a:prstGeom prst="rect">
            <a:avLst/>
          </a:prstGeom>
          <a:ln w="0">
            <a:noFill/>
          </a:ln>
        </p:spPr>
      </p:pic>
      <p:sp>
        <p:nvSpPr>
          <p:cNvPr id="582" name="Стрелка вправо с вырезом 12"/>
          <p:cNvSpPr/>
          <p:nvPr/>
        </p:nvSpPr>
        <p:spPr>
          <a:xfrm>
            <a:off x="179280" y="111924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Скругленный прямоугольник 13"/>
          <p:cNvSpPr/>
          <p:nvPr/>
        </p:nvSpPr>
        <p:spPr>
          <a:xfrm>
            <a:off x="1608120" y="1119240"/>
            <a:ext cx="6821640" cy="7858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одного вироб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Стрелка вправо с вырезом 14"/>
          <p:cNvSpPr/>
          <p:nvPr/>
        </p:nvSpPr>
        <p:spPr>
          <a:xfrm>
            <a:off x="488880" y="1974960"/>
            <a:ext cx="1357560" cy="857160"/>
          </a:xfrm>
          <a:custGeom>
            <a:avLst/>
            <a:gdLst>
              <a:gd name="textAreaLeft" fmla="*/ 214200 w 1357560"/>
              <a:gd name="textAreaRight" fmla="*/ 1143360 w 135756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Скругленный прямоугольник 16"/>
          <p:cNvSpPr/>
          <p:nvPr/>
        </p:nvSpPr>
        <p:spPr>
          <a:xfrm>
            <a:off x="1893960" y="20462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артії виробів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Стрелка вправо с вырезом 8"/>
          <p:cNvSpPr/>
          <p:nvPr/>
        </p:nvSpPr>
        <p:spPr>
          <a:xfrm>
            <a:off x="331920" y="2997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Скругленный прямоугольник 10"/>
          <p:cNvSpPr/>
          <p:nvPr/>
        </p:nvSpPr>
        <p:spPr>
          <a:xfrm>
            <a:off x="1760400" y="2997360"/>
            <a:ext cx="6821640" cy="7855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евного виду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Стрелка вправо с вырезом 11"/>
          <p:cNvSpPr/>
          <p:nvPr/>
        </p:nvSpPr>
        <p:spPr>
          <a:xfrm>
            <a:off x="64152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Скругленный прямоугольник 15"/>
          <p:cNvSpPr/>
          <p:nvPr/>
        </p:nvSpPr>
        <p:spPr>
          <a:xfrm>
            <a:off x="2046240" y="3860640"/>
            <a:ext cx="6462720" cy="8780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перації на рівні підприємст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Прямоугольник 17" descr=""/>
          <p:cNvPicPr/>
          <p:nvPr/>
        </p:nvPicPr>
        <p:blipFill>
          <a:blip r:embed="rId2"/>
          <a:stretch/>
        </p:blipFill>
        <p:spPr>
          <a:xfrm>
            <a:off x="1219320" y="4748040"/>
            <a:ext cx="718632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Прямоугольник 18" descr=""/>
          <p:cNvPicPr/>
          <p:nvPr/>
        </p:nvPicPr>
        <p:blipFill>
          <a:blip r:embed="rId3"/>
          <a:stretch/>
        </p:blipFill>
        <p:spPr>
          <a:xfrm>
            <a:off x="1371600" y="5931000"/>
            <a:ext cx="7186680" cy="82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5" name="Rectangle 3"/>
          <p:cNvGrpSpPr/>
          <p:nvPr/>
        </p:nvGrpSpPr>
        <p:grpSpPr>
          <a:xfrm>
            <a:off x="1468440" y="2487600"/>
            <a:ext cx="7742160" cy="2187720"/>
            <a:chOff x="1468440" y="2487600"/>
            <a:chExt cx="7742160" cy="2187720"/>
          </a:xfrm>
        </p:grpSpPr>
        <p:pic>
          <p:nvPicPr>
            <p:cNvPr id="32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14680" y="2643120"/>
              <a:ext cx="7286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у послідовному накопиченні даних про фактичні виробничі витрати без відображення в обліку даних про їх величину за діючими нормам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51390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29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330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Полягає в обліку витрат на основі заздалегідь розроблених  норматив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3" name="Rectangle 3"/>
          <p:cNvGrpSpPr/>
          <p:nvPr/>
        </p:nvGrpSpPr>
        <p:grpSpPr>
          <a:xfrm>
            <a:off x="1468440" y="2487600"/>
            <a:ext cx="7742160" cy="1755720"/>
            <a:chOff x="1468440" y="2487600"/>
            <a:chExt cx="7742160" cy="1755720"/>
          </a:xfrm>
        </p:grpSpPr>
        <p:pic>
          <p:nvPicPr>
            <p:cNvPr id="334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2643120"/>
              <a:ext cx="7286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укупність прийомів розподілу витрат підприємства за калькуляційними статтями та віднесення їх до об'єкту калькулюванн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79600"/>
            <a:ext cx="6534360" cy="888840"/>
          </a:xfrm>
          <a:prstGeom prst="rect">
            <a:avLst/>
          </a:prstGeom>
          <a:ln w="0">
            <a:noFill/>
          </a:ln>
        </p:spPr>
      </p:pic>
      <p:sp>
        <p:nvSpPr>
          <p:cNvPr id="337" name="Скругленный прямоугольник 16"/>
          <p:cNvSpPr/>
          <p:nvPr/>
        </p:nvSpPr>
        <p:spPr>
          <a:xfrm>
            <a:off x="2381400" y="221472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замов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процесн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Стрелка вправо с вырезом 10"/>
          <p:cNvSpPr/>
          <p:nvPr/>
        </p:nvSpPr>
        <p:spPr>
          <a:xfrm>
            <a:off x="214200" y="207180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еріодичністю складанн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Скругленный прямоугольник 11"/>
          <p:cNvSpPr/>
          <p:nvPr/>
        </p:nvSpPr>
        <p:spPr>
          <a:xfrm>
            <a:off x="2381400" y="4214880"/>
            <a:ext cx="6119640" cy="15001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Неповної собіварт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2"/>
          <p:cNvSpPr/>
          <p:nvPr/>
        </p:nvSpPr>
        <p:spPr>
          <a:xfrm>
            <a:off x="214200" y="4071960"/>
            <a:ext cx="3071880" cy="1857240"/>
          </a:xfrm>
          <a:custGeom>
            <a:avLst/>
            <a:gdLst>
              <a:gd name="textAreaLeft" fmla="*/ 464040 w 3071880"/>
              <a:gd name="textAreaRight" fmla="*/ 2607840 w 3071880"/>
              <a:gd name="textAreaTop" fmla="*/ 464400 h 1857240"/>
              <a:gd name="textAreaBottom" fmla="*/ 139320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70" y="5400"/>
                </a:lnTo>
                <a:lnTo>
                  <a:pt x="15070" y="0"/>
                </a:lnTo>
                <a:lnTo>
                  <a:pt x="21600" y="10800"/>
                </a:lnTo>
                <a:lnTo>
                  <a:pt x="15070" y="21600"/>
                </a:lnTo>
                <a:lnTo>
                  <a:pt x="15070" y="16200"/>
                </a:lnTo>
                <a:lnTo>
                  <a:pt x="0" y="16200"/>
                </a:lnTo>
                <a:lnTo>
                  <a:pt x="326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повнотою включення витра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14T10:40:04Z</dcterms:modified>
  <cp:revision>257</cp:revision>
  <dc:subject/>
  <dc:title>Слайд 1</dc:title>
</cp:coreProperties>
</file>