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C2D-F8C6-432B-90C4-C4EAE7C6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665-ADEE-4794-83F1-EE97A494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374-E5D3-4E93-A7B0-0BBB5D17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BE5-1FC5-4601-80DF-A79BDE2A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3AE-02FD-4A90-BBFC-CF6E7453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57E-2B4F-440F-97A5-75F6D6B3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379-443B-4476-BC5F-684AEC51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983-EA03-4B6D-8868-E60FB3AD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73F-F890-4E72-AFAC-DF3C7632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955-207B-428D-A2D9-88D9F21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7BC-2B22-4E52-8D68-5E2D15C3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A43-E642-4621-BB35-FFFB7D8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5ADD-7E8C-4CB7-B293-8C07E7509B2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E7AC-AA66-47D1-98F9-958C4003494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858960" y="2073240"/>
            <a:ext cx="7443720" cy="1620720"/>
          </a:xfrm>
          <a:prstGeom prst="rect">
            <a:avLst/>
          </a:prstGeom>
          <a:ln w="0">
            <a:noFill/>
          </a:ln>
        </p:spPr>
      </p:pic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EE4F-C55D-4DFC-AA74-75524AE6CC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Облік втрат від браку в</a:t>
            </a:r>
            <a:br>
              <a:rPr sz="4000"/>
            </a:br>
            <a:r>
              <a:rPr b="0" lang="uk-UA" sz="4000" spc="-1" strike="noStrike">
                <a:solidFill>
                  <a:srgbClr val="749cdc"/>
                </a:solidFill>
                <a:latin typeface="Calibri"/>
              </a:rPr>
              <a:t>бухгалтерському облі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131760" y="1447920"/>
          <a:ext cx="901224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47920"/>
                    <a:ext cx="901224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Схема 4" descr=""/>
          <p:cNvPicPr/>
          <p:nvPr/>
        </p:nvPicPr>
        <p:blipFill>
          <a:blip r:embed="rId3"/>
          <a:stretch/>
        </p:blipFill>
        <p:spPr>
          <a:xfrm>
            <a:off x="92160" y="3084480"/>
            <a:ext cx="8985240" cy="370044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737D-0CA2-4C87-A5A8-484A7DC3942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хема 2" descr=""/>
          <p:cNvPicPr/>
          <p:nvPr/>
        </p:nvPicPr>
        <p:blipFill>
          <a:blip r:embed="rId1"/>
          <a:stretch/>
        </p:blipFill>
        <p:spPr>
          <a:xfrm>
            <a:off x="92160" y="268200"/>
            <a:ext cx="8985240" cy="424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4"/>
          <p:cNvGraphicFramePr/>
          <p:nvPr/>
        </p:nvGraphicFramePr>
        <p:xfrm>
          <a:off x="0" y="4473720"/>
          <a:ext cx="9144000" cy="238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73720"/>
                    <a:ext cx="91440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5FE3-10F6-4827-8B19-959B8D7BA1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0" y="344520"/>
          <a:ext cx="9144000" cy="613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4520"/>
                    <a:ext cx="9144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633B-6121-4E09-8766-52475C7232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785880" y="1274760"/>
            <a:ext cx="742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Аналітичний облік рахунку 24 “Брак у виробництві” ведеться за видами виробництва продукції, де виник брак, а також у розрізі статей калькуля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33AE-CA5F-494A-8DE8-A85924B7EB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1646280"/>
            <a:ext cx="9460080" cy="341316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85D-B103-4459-847D-D4C69E2CE28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1280" y="0"/>
          <a:ext cx="9001440" cy="6735600"/>
        </p:xfrm>
        <a:graphic>
          <a:graphicData uri="http://schemas.openxmlformats.org/drawingml/2006/table">
            <a:tbl>
              <a:tblPr/>
              <a:tblGrid>
                <a:gridCol w="714600"/>
                <a:gridCol w="4857840"/>
                <a:gridCol w="1000080"/>
                <a:gridCol w="1428480"/>
                <a:gridCol w="1000440"/>
              </a:tblGrid>
              <a:tr h="8535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міст операці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еспондуючі рахунк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бе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значено собівартість забракованих вироб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рибутковано побічну продукцію від списання остаточного бр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исані на винних осіб втрат від остаточного й виправного бра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сунуто претензію за поставку неякісної сировини й матеріал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исано величину втрат від технічно неминучого браку (1350-200-500-1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8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77EE-BE97-4309-BF82-3E4B40625A7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841320" y="231840"/>
            <a:ext cx="7772400" cy="197496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2"/>
          <p:cNvSpPr/>
          <p:nvPr/>
        </p:nvSpPr>
        <p:spPr>
          <a:xfrm>
            <a:off x="304920" y="1752480"/>
            <a:ext cx="838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ироби, напівфабрикати, деталі, вузли тощо, а також роботи, що не відповідають за якістю встановленим стандартам або технічним умовам і не можуть бути використані за прямим призначенням або можуть використовуватись тільки після проведення додаткових робіт з їх виправ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3" descr=""/>
          <p:cNvPicPr/>
          <p:nvPr/>
        </p:nvPicPr>
        <p:blipFill>
          <a:blip r:embed="rId2"/>
          <a:stretch/>
        </p:blipFill>
        <p:spPr>
          <a:xfrm>
            <a:off x="7059600" y="5138640"/>
            <a:ext cx="1554120" cy="1567080"/>
          </a:xfrm>
          <a:prstGeom prst="rect">
            <a:avLst/>
          </a:prstGeom>
          <a:ln w="0">
            <a:noFill/>
          </a:ln>
        </p:spPr>
      </p:pic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91E5-D418-4723-BF84-0119B9157A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хема 1" descr=""/>
          <p:cNvPicPr/>
          <p:nvPr/>
        </p:nvPicPr>
        <p:blipFill>
          <a:blip r:embed="rId1"/>
          <a:stretch/>
        </p:blipFill>
        <p:spPr>
          <a:xfrm>
            <a:off x="109440" y="152280"/>
            <a:ext cx="8937720" cy="6632640"/>
          </a:xfrm>
          <a:prstGeom prst="rect">
            <a:avLst/>
          </a:prstGeom>
          <a:ln w="0">
            <a:noFill/>
          </a:ln>
        </p:spPr>
      </p:pic>
      <p:sp>
        <p:nvSpPr>
          <p:cNvPr id="4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2B0F-9388-47EA-B1C3-C7CFABE3E46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7845480" cy="94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1"/>
          <p:cNvGraphicFramePr/>
          <p:nvPr/>
        </p:nvGraphicFramePr>
        <p:xfrm>
          <a:off x="76320" y="1536840"/>
          <a:ext cx="8959680" cy="39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536840"/>
                    <a:ext cx="895968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1337-BD92-4320-9C03-F09FC546F5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777240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380880" y="205740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Gothic"/>
              </a:rPr>
              <a:t>визначається як сума фактично понесених витрат за всіма статтями калькуляції за винятком витрат на підготовку й освоєння виробництва, загальновиробничих витрат та інших спеціальних витрат, які відносяться тільки на собівартість готової проду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A29B-BFF8-48BA-B7A8-6735510D667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298440" y="231840"/>
            <a:ext cx="8534520" cy="815760"/>
          </a:xfrm>
          <a:prstGeom prst="rect">
            <a:avLst/>
          </a:prstGeom>
          <a:ln w="0">
            <a:noFill/>
          </a:ln>
        </p:spPr>
      </p:pic>
      <p:sp>
        <p:nvSpPr>
          <p:cNvPr id="57" name="Содержимое 2"/>
          <p:cNvSpPr/>
          <p:nvPr/>
        </p:nvSpPr>
        <p:spPr>
          <a:xfrm>
            <a:off x="30168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артість сировини, матеріалів і напівфабрикатів, витрачених на усунення дефектів продукції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итрати на оплату праці робітників, нараховану за виправлення браку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 algn="just">
              <a:lnSpc>
                <a:spcPct val="100000"/>
              </a:lnSpc>
              <a:spcBef>
                <a:spcPts val="85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alibri"/>
              </a:rPr>
              <a:t>відрахування на соціальні заходи від нарахованої заробітної плати згідно з чинним законодавств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0DAC-9E6A-48C2-96A6-9FF6907FF17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865080" y="19080"/>
            <a:ext cx="6956640" cy="1760400"/>
          </a:xfrm>
          <a:prstGeom prst="rect">
            <a:avLst/>
          </a:prstGeom>
          <a:ln w="0">
            <a:noFill/>
          </a:ln>
        </p:spPr>
      </p:pic>
      <p:pic>
        <p:nvPicPr>
          <p:cNvPr id="60" name="Схема 2" descr=""/>
          <p:cNvPicPr/>
          <p:nvPr/>
        </p:nvPicPr>
        <p:blipFill>
          <a:blip r:embed="rId2"/>
          <a:stretch/>
        </p:blipFill>
        <p:spPr>
          <a:xfrm>
            <a:off x="371520" y="1895400"/>
            <a:ext cx="8632800" cy="4822920"/>
          </a:xfrm>
          <a:prstGeom prst="rect">
            <a:avLst/>
          </a:prstGeom>
          <a:ln w="0">
            <a:noFill/>
          </a:ln>
        </p:spPr>
      </p:pic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3DA6-B9D6-437B-9AF4-16B7CAC9F9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00" y="2556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кументальне оформлення бра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3"/>
          <p:cNvGraphicFramePr/>
          <p:nvPr/>
        </p:nvGraphicFramePr>
        <p:xfrm>
          <a:off x="165240" y="1486080"/>
          <a:ext cx="894852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486080"/>
                    <a:ext cx="894852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Схема 5" descr=""/>
          <p:cNvPicPr/>
          <p:nvPr/>
        </p:nvPicPr>
        <p:blipFill>
          <a:blip r:embed="rId3"/>
          <a:stretch/>
        </p:blipFill>
        <p:spPr>
          <a:xfrm>
            <a:off x="49320" y="3029040"/>
            <a:ext cx="9118440" cy="388944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8E1D-A4F5-4B48-B699-4D366CB865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0" y="334800"/>
          <a:ext cx="9144000" cy="590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4800"/>
                    <a:ext cx="9144000" cy="59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1778-EA82-45B5-A352-BBB31A9178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отиния</dc:creator>
  <dc:description/>
  <dc:language>en-US</dc:language>
  <cp:lastModifiedBy>User Windows</cp:lastModifiedBy>
  <cp:lastPrinted>2019-10-31T11:17:41Z</cp:lastPrinted>
  <dcterms:modified xsi:type="dcterms:W3CDTF">2020-10-27T14:25:51Z</dcterms:modified>
  <cp:revision>25</cp:revision>
  <dc:subject/>
  <dc:title>Слайд 1</dc:title>
</cp:coreProperties>
</file>