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AA8-AFBA-4F96-9450-79A97636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9BC8-EAE6-4C91-AD36-9CB701B1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018-31F0-4E4E-B1D9-BC64AF3B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7E8-2DD3-4340-BA67-B2BAF782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E96-3DA8-4231-A071-99B79D13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C8A-47B8-4F39-AA27-73CCD134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CBF-159D-4E5B-9568-EEACA19F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9F0B-7001-42D7-9159-C07245F9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D43-1D32-4CA3-8D51-F5E7C1C3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9AE-AB9F-4C34-9157-A955FAA5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6D6-F8C6-4D4A-9373-21C311A3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CC5-5069-4A1F-B2CA-4194CD0C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9694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7373-27DE-4910-9FF1-4F6E170BEAF0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35BF-E2CB-453A-8953-7ED67465967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858960" y="2073240"/>
            <a:ext cx="7443720" cy="1620720"/>
          </a:xfrm>
          <a:prstGeom prst="rect">
            <a:avLst/>
          </a:prstGeom>
          <a:ln w="0">
            <a:noFill/>
          </a:ln>
        </p:spPr>
      </p:pic>
      <p:sp>
        <p:nvSpPr>
          <p:cNvPr id="4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D01D-E4BE-483A-BADA-DF6D1178559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49cdc"/>
                </a:solidFill>
                <a:latin typeface="Calibri"/>
              </a:rPr>
              <a:t>Облік втрат від браку в</a:t>
            </a:r>
            <a:br>
              <a:rPr sz="4000"/>
            </a:br>
            <a:r>
              <a:rPr b="0" lang="uk-UA" sz="4000" spc="-1" strike="noStrike">
                <a:solidFill>
                  <a:srgbClr val="749cdc"/>
                </a:solidFill>
                <a:latin typeface="Calibri"/>
              </a:rPr>
              <a:t>бухгалтерському облі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31760" y="1447920"/>
          <a:ext cx="901224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447920"/>
                    <a:ext cx="901224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Схема 4" descr=""/>
          <p:cNvPicPr/>
          <p:nvPr/>
        </p:nvPicPr>
        <p:blipFill>
          <a:blip r:embed="rId3"/>
          <a:stretch/>
        </p:blipFill>
        <p:spPr>
          <a:xfrm>
            <a:off x="92160" y="3084480"/>
            <a:ext cx="8985240" cy="3700440"/>
          </a:xfrm>
          <a:prstGeom prst="rect">
            <a:avLst/>
          </a:prstGeom>
          <a:ln w="0">
            <a:noFill/>
          </a:ln>
        </p:spPr>
      </p:pic>
      <p:sp>
        <p:nvSpPr>
          <p:cNvPr id="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8A38-AC25-49B8-AF3E-6808B0792FA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хема 2" descr=""/>
          <p:cNvPicPr/>
          <p:nvPr/>
        </p:nvPicPr>
        <p:blipFill>
          <a:blip r:embed="rId1"/>
          <a:stretch/>
        </p:blipFill>
        <p:spPr>
          <a:xfrm>
            <a:off x="92160" y="268200"/>
            <a:ext cx="8985240" cy="424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4"/>
          <p:cNvGraphicFramePr/>
          <p:nvPr/>
        </p:nvGraphicFramePr>
        <p:xfrm>
          <a:off x="0" y="4473720"/>
          <a:ext cx="9144000" cy="238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473720"/>
                    <a:ext cx="91440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7F20-D626-4EC5-909D-14B9E2BFFA8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4"/>
          <p:cNvGraphicFramePr/>
          <p:nvPr/>
        </p:nvGraphicFramePr>
        <p:xfrm>
          <a:off x="0" y="344520"/>
          <a:ext cx="9144000" cy="61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4520"/>
                    <a:ext cx="9144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E6D8-6271-4024-AAF8-6B86BEE9345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785880" y="1274760"/>
            <a:ext cx="7429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ітичний облік рахунку 24 “Брак у виробництві” ведеться за видами виробництва продукції, де виник брак, а також у розрізі статей калькуля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CFE1-6AAD-4724-A36D-D6A24C9ADC0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1" descr=""/>
          <p:cNvPicPr/>
          <p:nvPr/>
        </p:nvPicPr>
        <p:blipFill>
          <a:blip r:embed="rId1"/>
          <a:stretch/>
        </p:blipFill>
        <p:spPr>
          <a:xfrm>
            <a:off x="-212760" y="1646280"/>
            <a:ext cx="9460080" cy="341316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C8D2-75DE-4F1B-82E1-AAFFB89EC1E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71280" y="0"/>
          <a:ext cx="9001440" cy="6735600"/>
        </p:xfrm>
        <a:graphic>
          <a:graphicData uri="http://schemas.openxmlformats.org/drawingml/2006/table">
            <a:tbl>
              <a:tblPr/>
              <a:tblGrid>
                <a:gridCol w="714600"/>
                <a:gridCol w="4857840"/>
                <a:gridCol w="1000080"/>
                <a:gridCol w="1428480"/>
                <a:gridCol w="1000440"/>
              </a:tblGrid>
              <a:tr h="8535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міст операці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м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еспондуючі рахунк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бе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значено собівартість забракованих вироб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рибутковано побічну продукцію від списання остаточного бра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исані на винних осіб втрат від остаточного й виправного бра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сунуто претензію за поставку неякісної сировини й матеріал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исано величину втрат від технічно неминучого браку (1350-200-500-1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8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6B00-D2A8-48E6-879B-406E77C2E19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841320" y="231840"/>
            <a:ext cx="7772400" cy="1974960"/>
          </a:xfrm>
          <a:prstGeom prst="rect">
            <a:avLst/>
          </a:prstGeom>
          <a:ln w="0">
            <a:noFill/>
          </a:ln>
        </p:spPr>
      </p:pic>
      <p:sp>
        <p:nvSpPr>
          <p:cNvPr id="44" name="Подзаголовок 2"/>
          <p:cNvSpPr/>
          <p:nvPr/>
        </p:nvSpPr>
        <p:spPr>
          <a:xfrm>
            <a:off x="304920" y="1752480"/>
            <a:ext cx="8381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вироби, напівфабрикати, деталі, вузли тощо, а також роботи, що не відповідають за якістю встановленим стандартам або технічним умовам і не можуть бути використані за прямим призначенням або можуть використовуватись тільки після проведення додаткових робіт з їх виправл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3" descr=""/>
          <p:cNvPicPr/>
          <p:nvPr/>
        </p:nvPicPr>
        <p:blipFill>
          <a:blip r:embed="rId2"/>
          <a:stretch/>
        </p:blipFill>
        <p:spPr>
          <a:xfrm>
            <a:off x="7059600" y="5138640"/>
            <a:ext cx="1554120" cy="1567080"/>
          </a:xfrm>
          <a:prstGeom prst="rect">
            <a:avLst/>
          </a:prstGeom>
          <a:ln w="0">
            <a:noFill/>
          </a:ln>
        </p:spPr>
      </p:pic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FBFE-B78C-416C-A837-EC3A7517299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хема 1" descr=""/>
          <p:cNvPicPr/>
          <p:nvPr/>
        </p:nvPicPr>
        <p:blipFill>
          <a:blip r:embed="rId1"/>
          <a:stretch/>
        </p:blipFill>
        <p:spPr>
          <a:xfrm>
            <a:off x="109440" y="152280"/>
            <a:ext cx="8937720" cy="6632640"/>
          </a:xfrm>
          <a:prstGeom prst="rect">
            <a:avLst/>
          </a:prstGeom>
          <a:ln w="0">
            <a:noFill/>
          </a:ln>
        </p:spPr>
      </p:pic>
      <p:sp>
        <p:nvSpPr>
          <p:cNvPr id="4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ED5B-84F5-430B-9C8C-662F86C8BBE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536400" y="122400"/>
            <a:ext cx="7845480" cy="94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Object 1"/>
          <p:cNvGraphicFramePr/>
          <p:nvPr/>
        </p:nvGraphicFramePr>
        <p:xfrm>
          <a:off x="76320" y="1536840"/>
          <a:ext cx="8959680" cy="394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536840"/>
                    <a:ext cx="89596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6AAA-5F0A-4E8F-A788-E57D4EEA8B4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144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380880" y="205740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визначається як сума фактично понесених витрат за всіма статтями калькуляції за винятком витрат на підготовку й освоєння виробництва, загальновиробничих витрат та інших спеціальних витрат, які відносяться тільки на собівартість готової продук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DC8F-6BBF-408D-8A81-A01217682A5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534520" cy="815760"/>
          </a:xfrm>
          <a:prstGeom prst="rect">
            <a:avLst/>
          </a:prstGeom>
          <a:ln w="0">
            <a:noFill/>
          </a:ln>
        </p:spPr>
      </p:pic>
      <p:sp>
        <p:nvSpPr>
          <p:cNvPr id="57" name="Содержимое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8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вартість сировини, матеріалів і напівфабрикатів, витрачених на усунення дефектів продукції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8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витрати на оплату праці робітників, нараховану за виправлення браку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8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відрахування на соціальні заходи від нарахованої заробітної плати згідно з чинним законодавство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AD26-3151-419F-9C68-3592F0E3820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865080" y="19080"/>
            <a:ext cx="6956640" cy="1760400"/>
          </a:xfrm>
          <a:prstGeom prst="rect">
            <a:avLst/>
          </a:prstGeom>
          <a:ln w="0">
            <a:noFill/>
          </a:ln>
        </p:spPr>
      </p:pic>
      <p:pic>
        <p:nvPicPr>
          <p:cNvPr id="60" name="Схема 2" descr=""/>
          <p:cNvPicPr/>
          <p:nvPr/>
        </p:nvPicPr>
        <p:blipFill>
          <a:blip r:embed="rId2"/>
          <a:stretch/>
        </p:blipFill>
        <p:spPr>
          <a:xfrm>
            <a:off x="371520" y="1895400"/>
            <a:ext cx="8632800" cy="4822920"/>
          </a:xfrm>
          <a:prstGeom prst="rect">
            <a:avLst/>
          </a:prstGeom>
          <a:ln w="0">
            <a:noFill/>
          </a:ln>
        </p:spPr>
      </p:pic>
      <p:sp>
        <p:nvSpPr>
          <p:cNvPr id="6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EB35-E08C-4172-A04E-CB0BD53BA1C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00" y="255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кументальне оформлення бра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Object 3"/>
          <p:cNvGraphicFramePr/>
          <p:nvPr/>
        </p:nvGraphicFramePr>
        <p:xfrm>
          <a:off x="165240" y="1486080"/>
          <a:ext cx="8948520" cy="16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486080"/>
                    <a:ext cx="894852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Схема 5" descr=""/>
          <p:cNvPicPr/>
          <p:nvPr/>
        </p:nvPicPr>
        <p:blipFill>
          <a:blip r:embed="rId3"/>
          <a:stretch/>
        </p:blipFill>
        <p:spPr>
          <a:xfrm>
            <a:off x="49320" y="3029040"/>
            <a:ext cx="9118440" cy="3889440"/>
          </a:xfrm>
          <a:prstGeom prst="rect">
            <a:avLst/>
          </a:prstGeom>
          <a:ln w="0">
            <a:noFill/>
          </a:ln>
        </p:spPr>
      </p:pic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BBAC-6381-40BB-BE6E-81744FCB18E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0" y="334800"/>
          <a:ext cx="9144000" cy="590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4800"/>
                    <a:ext cx="9144000" cy="590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8E8C-2FCF-4E5E-B6C1-94AAF4C1E65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Фотиния</dc:creator>
  <dc:description/>
  <dc:language>en-US</dc:language>
  <cp:lastModifiedBy>User Windows</cp:lastModifiedBy>
  <cp:lastPrinted>2019-10-31T11:17:41Z</cp:lastPrinted>
  <dcterms:modified xsi:type="dcterms:W3CDTF">2020-10-27T14:25:51Z</dcterms:modified>
  <cp:revision>25</cp:revision>
  <dc:subject/>
  <dc:title>Слайд 1</dc:title>
</cp:coreProperties>
</file>