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66A-E63C-471B-A8F6-9B95C775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0BE-EC5F-480D-838D-6787A47A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B15-7D0C-4051-9275-86911731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072-4414-46A9-8FC0-BF3FCCFC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BA3-0003-4DDF-809D-7505331F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71F-C990-4FF5-AD13-28CBD0F8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474-A5F1-48DB-BDE2-C135686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7A4-0BEE-413C-A18E-49BCB212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8A91-38BE-4965-9E11-458F647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A8D-71CA-4DF7-B91A-97C191C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23C9-E7E8-42A3-9B67-DAC9DFD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35A-471B-418C-8A1C-C30DED7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8E09-C520-42C4-B4E0-B3941B8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DFCB-DBF6-4C0A-8C75-4079982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2C3F-FF92-404F-AB23-0611FEF3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4B16-1F5C-48BD-9BE1-EB77BF47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A1EC-6D5C-407A-A61E-A31711AA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3405-8559-4D6D-A2F7-6971F4EE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B401-2C74-45DC-B3D1-FD479D4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A95A-1AEA-4341-90CF-09CEB32F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E19FE-489D-4EB1-8054-A2D86C79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CB9E-49C3-4922-B82C-7654B68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883-DE4F-4030-8188-389DC9B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E968-CCEC-4DA3-98C5-4DB2369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9683-5939-4173-A717-C303CA7D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D37E-E694-45B9-8DDD-A833726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0A35-B5BD-4DE3-8117-61D39BD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E5AC-92CA-4315-A078-94E25FE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5001-BAFA-44CE-AE73-B8BC00D0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6160-E7F7-4523-BF63-4497BFB1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C38D-C5D6-4CBB-B0CE-4402CF09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4286-735B-4B36-BCF1-81F4030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844D-D0F2-4485-8CA0-5D75218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268-9457-480A-ABBA-E6D9385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BA69-7864-4EE0-A07D-D9FD54A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978A-39DA-49CE-918C-5334B823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3BDA-59D4-435E-9A7A-E1AD7BB4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31D6-8D8F-46B8-9563-014E7C3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66DC-D3C1-4200-9E09-3D35677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946C-7909-4257-90A3-ACF9445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A517-E3FC-44FD-ABF9-66FA434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F99D-58C4-44D3-B381-94551FCA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0159-B433-4819-A303-D5F755A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202C-D379-4FB8-A8AB-ACF5DF93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BB3-9E2F-4747-8F8E-8D145D8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1E3B-EEF8-4316-8A04-DF158DB4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A7AAB-DCEE-40E3-A8AB-B4380B03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16BB-C4E2-41F7-9DD8-BBB4491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C9D4-797D-4B21-A9BD-58E246BE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4A4A2-923C-411E-B6B4-D746E83F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1950-F5A8-4B6F-BFDA-FBE381B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FB09-A6FE-4F63-A586-ADA6ADE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E486-4547-4FB3-BB0F-C8977F9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BF135-81A7-4A35-AF3D-90853C8E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FD0B-E3A9-4BE9-9595-7DC6A2A8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A84-224F-41A4-BADB-6B5E783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5035F-4F2C-4F16-B7FA-6AEBD854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DD72-8BEE-4896-99EE-BA9B01C5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369C-AD51-4F78-8672-FB274807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3E28-67C6-4907-8F39-99D51C3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3285-374A-42C9-92D1-ED1A98DF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DC01-0CAA-4DF3-9FEC-1AD5C216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1FD0-1E64-4262-AC54-4A6832E5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542AE-D441-4545-AD6A-B3EDE42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5108-05CA-4C15-910D-01E48575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3CA7-4813-4144-975F-342D759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85D-D9A4-4663-8B08-FA72DE0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0B59-5A7D-4DD3-84E8-D74DF48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7850-5538-4D24-BF93-E7705774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47645-562F-43FF-B4BA-8A0806C8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B75E-5B0E-474F-87EC-B85CE5CE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CC89-BD5D-41C5-B846-875FB103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DE66-28E6-4A36-A791-FD80F66D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DC9B-0E23-4200-9F91-A2ECE8ED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BECB8-F167-4436-B0DF-818A857B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07157-0BF5-47E4-B2B7-934F79B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11396-6DED-42E3-B9A0-262D04B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289-FE3B-4FF2-8E36-BB9A73C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DF6E2-40EA-4300-B554-D8FFA67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DC014-4971-4C42-9312-E4476A9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29EE1-8B16-44EC-822C-0E98248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08A1-C791-462E-9EFC-5377DE86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44E6-578D-48C0-BF29-CBAAC7AC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E52-9039-4444-9C2C-473D2AA7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CCC-D56B-48CB-B006-B569044576F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82D-775C-4413-BFCB-5A9561C798C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8E4D-8F7C-4497-887C-171658FBC2E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139C-04B6-4EF8-B34B-8857E8978BE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7A5-0298-4D98-8080-AABC2D3F5D8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B38C-F406-40F7-B150-189DFCB2929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9A14-3D92-40E2-9BB8-97C18328951E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401320" cy="24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16"/>
          <p:cNvSpPr/>
          <p:nvPr/>
        </p:nvSpPr>
        <p:spPr>
          <a:xfrm>
            <a:off x="1116000" y="1341360"/>
            <a:ext cx="6912000" cy="42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ІЖ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ИРОБНИЧИМИ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04920"/>
            <a:ext cx="6534360" cy="11635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с вырезом 20"/>
          <p:cNvSpPr/>
          <p:nvPr/>
        </p:nvSpPr>
        <p:spPr>
          <a:xfrm>
            <a:off x="714240" y="18572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кругленный прямоугольник 16"/>
          <p:cNvSpPr/>
          <p:nvPr/>
        </p:nvSpPr>
        <p:spPr>
          <a:xfrm>
            <a:off x="2357280" y="17859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трелка вправо с вырезом 4"/>
          <p:cNvSpPr/>
          <p:nvPr/>
        </p:nvSpPr>
        <p:spPr>
          <a:xfrm>
            <a:off x="866880" y="285768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кругленный прямоугольник 5"/>
          <p:cNvSpPr/>
          <p:nvPr/>
        </p:nvSpPr>
        <p:spPr>
          <a:xfrm>
            <a:off x="2509920" y="2786040"/>
            <a:ext cx="514332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слідовного розподіл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трелка вправо с вырезом 6"/>
          <p:cNvSpPr/>
          <p:nvPr/>
        </p:nvSpPr>
        <p:spPr>
          <a:xfrm>
            <a:off x="1019160" y="38577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2662200" y="378612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у  взаємних послу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8"/>
          <p:cNvSpPr/>
          <p:nvPr/>
        </p:nvSpPr>
        <p:spPr>
          <a:xfrm>
            <a:off x="1171440" y="48578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9"/>
          <p:cNvSpPr/>
          <p:nvPr/>
        </p:nvSpPr>
        <p:spPr>
          <a:xfrm>
            <a:off x="2814480" y="478620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дночасн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AutoShape 2" descr=""/>
          <p:cNvPicPr/>
          <p:nvPr/>
        </p:nvPicPr>
        <p:blipFill>
          <a:blip r:embed="rId1"/>
          <a:stretch/>
        </p:blipFill>
        <p:spPr>
          <a:xfrm>
            <a:off x="55440" y="822240"/>
            <a:ext cx="4424400" cy="1629000"/>
          </a:xfrm>
          <a:prstGeom prst="rect">
            <a:avLst/>
          </a:prstGeom>
          <a:ln w="0">
            <a:noFill/>
          </a:ln>
        </p:spPr>
      </p:pic>
      <p:grpSp>
        <p:nvGrpSpPr>
          <p:cNvPr id="341" name="Rectangle 3"/>
          <p:cNvGrpSpPr/>
          <p:nvPr/>
        </p:nvGrpSpPr>
        <p:grpSpPr>
          <a:xfrm>
            <a:off x="1036800" y="2030400"/>
            <a:ext cx="8173800" cy="4552920"/>
            <a:chOff x="1036800" y="2030400"/>
            <a:chExt cx="8173800" cy="4552920"/>
          </a:xfrm>
        </p:grpSpPr>
        <p:pic>
          <p:nvPicPr>
            <p:cNvPr id="342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030400"/>
              <a:ext cx="817380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57200" y="2214720"/>
              <a:ext cx="7572600" cy="43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 за якого їхні витрати списують на витрати виробничих підрозділів, при цьому методі взаємні послуги обслуговуючих підрозділів не беруть до уваг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-12600" y="396720"/>
            <a:ext cx="441936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45" name="Rectangle 3"/>
          <p:cNvGrpSpPr/>
          <p:nvPr/>
        </p:nvGrpSpPr>
        <p:grpSpPr>
          <a:xfrm>
            <a:off x="1042920" y="1133640"/>
            <a:ext cx="8021880" cy="5395680"/>
            <a:chOff x="1042920" y="1133640"/>
            <a:chExt cx="8021880" cy="5395680"/>
          </a:xfrm>
        </p:grpSpPr>
        <p:pic>
          <p:nvPicPr>
            <p:cNvPr id="346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285920" y="1285920"/>
              <a:ext cx="757224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ідприємство займається виготовленням велотренажерів та має два основні цехи (механічний та складальний) і три обслуговуючих підрозділи (ремонтний цех, склад матеріалів та їдальня)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 послуг обслуговуючих підрозділів здійснюється на основі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исельності працюючих – для послуг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артості матеріалів – для послуг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у ремонтних робіт – для ремонтного цех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85840" y="142920"/>
          <a:ext cx="8643960" cy="5799240"/>
        </p:xfrm>
        <a:graphic>
          <a:graphicData uri="http://schemas.openxmlformats.org/drawingml/2006/table">
            <a:tbl>
              <a:tblPr/>
              <a:tblGrid>
                <a:gridCol w="1357200"/>
                <a:gridCol w="1128600"/>
                <a:gridCol w="1295640"/>
                <a:gridCol w="1152360"/>
                <a:gridCol w="1297080"/>
                <a:gridCol w="1150920"/>
                <a:gridCol w="1262160"/>
              </a:tblGrid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кладні витрати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ЧП, чо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ртість замовле-них матеріалів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сяг ремонт-них робіт, г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1701720"/>
          </a:xfrm>
          <a:prstGeom prst="rect">
            <a:avLst/>
          </a:prstGeom>
          <a:ln w="0">
            <a:noFill/>
          </a:ln>
        </p:spPr>
      </p:pic>
      <p:sp>
        <p:nvSpPr>
          <p:cNvPr id="350" name="Скругленный прямоугольник 16"/>
          <p:cNvSpPr/>
          <p:nvPr/>
        </p:nvSpPr>
        <p:spPr>
          <a:xfrm>
            <a:off x="1403280" y="2871720"/>
            <a:ext cx="6391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Обсяг послуги, що споживається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ий обсяг послуги, що надаєтьс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Стрелка вниз 6"/>
          <p:cNvSpPr/>
          <p:nvPr/>
        </p:nvSpPr>
        <p:spPr>
          <a:xfrm>
            <a:off x="3708360" y="242100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кругленный прямоугольник 7"/>
          <p:cNvSpPr/>
          <p:nvPr/>
        </p:nvSpPr>
        <p:spPr>
          <a:xfrm>
            <a:off x="1494000" y="4888080"/>
            <a:ext cx="639108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e46c0a"/>
                </a:solidFill>
                <a:latin typeface="Arial"/>
              </a:rPr>
              <a:t>При визначенні цифрового значення знаменника не слід враховувати споживання власного послуги підрозділом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244440"/>
            <a:ext cx="7424640" cy="1693800"/>
          </a:xfrm>
          <a:prstGeom prst="rect">
            <a:avLst/>
          </a:prstGeom>
          <a:ln w="0">
            <a:noFill/>
          </a:ln>
        </p:spPr>
      </p:pic>
      <p:sp>
        <p:nvSpPr>
          <p:cNvPr id="354" name="Скругленный прямоугольник 16"/>
          <p:cNvSpPr/>
          <p:nvPr/>
        </p:nvSpPr>
        <p:spPr>
          <a:xfrm>
            <a:off x="395280" y="2511360"/>
            <a:ext cx="8353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ffffff"/>
                </a:solidFill>
                <a:uFillTx/>
                <a:latin typeface="Arial"/>
              </a:rPr>
              <a:t>Вартість замовлених матеріалів механічним цех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агальна вартість замовлених матеріалі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трелка вниз 6"/>
          <p:cNvSpPr/>
          <p:nvPr/>
        </p:nvSpPr>
        <p:spPr>
          <a:xfrm>
            <a:off x="3708360" y="2060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4"/>
          <p:cNvSpPr/>
          <p:nvPr/>
        </p:nvSpPr>
        <p:spPr>
          <a:xfrm>
            <a:off x="324000" y="4743360"/>
            <a:ext cx="8351640" cy="171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300000 / 1000000) х 100 = 30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низ 5"/>
          <p:cNvSpPr/>
          <p:nvPr/>
        </p:nvSpPr>
        <p:spPr>
          <a:xfrm>
            <a:off x="3635280" y="4292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357120" y="860400"/>
          <a:ext cx="8501040" cy="451476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4611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57120" y="860400"/>
          <a:ext cx="8501040" cy="592632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/1000000 (заг. вартість замовлених матеріалів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 000/100000 (обсяг ремонтних робіт)   х 100% = 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/3000 (чисельність  працюючих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 000/1000000 х 100% = 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000/100000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/3000 х 100% = 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 000/1000000 х 100% = 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000/1000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1303200"/>
          <a:ext cx="9172440" cy="400716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няття та види собіварт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рганізація та здійснення калькулюванн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блік і розподіл непрямих вит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1303200"/>
          <a:ext cx="9172440" cy="405468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8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15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84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29844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036800" y="1865160"/>
            <a:ext cx="8173800" cy="4638960"/>
            <a:chOff x="1036800" y="1865160"/>
            <a:chExt cx="8173800" cy="463896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1865160"/>
              <a:ext cx="8173800" cy="46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2048040"/>
              <a:ext cx="757260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щодо виробничих підрозділів та інших обслуговуючих підрозділ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1"/>
          <a:stretch/>
        </p:blipFill>
        <p:spPr>
          <a:xfrm>
            <a:off x="1292400" y="603360"/>
            <a:ext cx="6724440" cy="170172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право с вырезом 20"/>
          <p:cNvSpPr/>
          <p:nvPr/>
        </p:nvSpPr>
        <p:spPr>
          <a:xfrm>
            <a:off x="714240" y="29433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Скругленный прямоугольник 16"/>
          <p:cNvSpPr/>
          <p:nvPr/>
        </p:nvSpPr>
        <p:spPr>
          <a:xfrm>
            <a:off x="2357280" y="2871720"/>
            <a:ext cx="5143680" cy="924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с вырезом 4"/>
          <p:cNvSpPr/>
          <p:nvPr/>
        </p:nvSpPr>
        <p:spPr>
          <a:xfrm>
            <a:off x="866880" y="451476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5"/>
          <p:cNvSpPr/>
          <p:nvPr/>
        </p:nvSpPr>
        <p:spPr>
          <a:xfrm>
            <a:off x="2509920" y="4365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969840"/>
          </a:xfrm>
          <a:prstGeom prst="rect">
            <a:avLst/>
          </a:prstGeom>
          <a:ln w="0">
            <a:noFill/>
          </a:ln>
        </p:spPr>
      </p:pic>
      <p:sp>
        <p:nvSpPr>
          <p:cNvPr id="374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с вырезом 4"/>
          <p:cNvSpPr/>
          <p:nvPr/>
        </p:nvSpPr>
        <p:spPr>
          <a:xfrm>
            <a:off x="684360" y="4226040"/>
            <a:ext cx="1285560" cy="65376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5"/>
          <p:cNvSpPr/>
          <p:nvPr/>
        </p:nvSpPr>
        <p:spPr>
          <a:xfrm>
            <a:off x="2327400" y="4076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6"/>
          <p:cNvSpPr/>
          <p:nvPr/>
        </p:nvSpPr>
        <p:spPr>
          <a:xfrm>
            <a:off x="3316320" y="2833560"/>
            <a:ext cx="5143320" cy="1008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та 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7"/>
          <p:cNvSpPr/>
          <p:nvPr/>
        </p:nvSpPr>
        <p:spPr>
          <a:xfrm>
            <a:off x="3419640" y="5373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06520"/>
            <a:ext cx="6534360" cy="1066680"/>
          </a:xfrm>
          <a:prstGeom prst="rect">
            <a:avLst/>
          </a:prstGeom>
          <a:ln w="0">
            <a:noFill/>
          </a:ln>
        </p:spPr>
      </p:pic>
      <p:sp>
        <p:nvSpPr>
          <p:cNvPr id="381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трелка вправо с вырезом 4"/>
          <p:cNvSpPr/>
          <p:nvPr/>
        </p:nvSpPr>
        <p:spPr>
          <a:xfrm>
            <a:off x="684360" y="3073320"/>
            <a:ext cx="1285560" cy="65412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5"/>
          <p:cNvSpPr/>
          <p:nvPr/>
        </p:nvSpPr>
        <p:spPr>
          <a:xfrm>
            <a:off x="2327400" y="292428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трелка вправо с вырезом 8"/>
          <p:cNvSpPr/>
          <p:nvPr/>
        </p:nvSpPr>
        <p:spPr>
          <a:xfrm>
            <a:off x="611280" y="444168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9"/>
          <p:cNvSpPr/>
          <p:nvPr/>
        </p:nvSpPr>
        <p:spPr>
          <a:xfrm>
            <a:off x="2254320" y="4292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емонтний це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57120" y="214200"/>
          <a:ext cx="8501040" cy="54500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57120" y="214200"/>
          <a:ext cx="8501040" cy="63518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+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2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0" name="Rectangle 3"/>
          <p:cNvGrpSpPr/>
          <p:nvPr/>
        </p:nvGrpSpPr>
        <p:grpSpPr>
          <a:xfrm>
            <a:off x="1036800" y="2243160"/>
            <a:ext cx="8173800" cy="4024440"/>
            <a:chOff x="1036800" y="2243160"/>
            <a:chExt cx="8173800" cy="4024440"/>
          </a:xfrm>
        </p:grpSpPr>
        <p:pic>
          <p:nvPicPr>
            <p:cNvPr id="3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357200" y="2428920"/>
              <a:ext cx="757260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з урахуванням взаємних послу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Rectangle 3"/>
          <p:cNvGrpSpPr/>
          <p:nvPr/>
        </p:nvGrpSpPr>
        <p:grpSpPr>
          <a:xfrm>
            <a:off x="255600" y="560520"/>
            <a:ext cx="8669160" cy="5827680"/>
            <a:chOff x="255600" y="560520"/>
            <a:chExt cx="8669160" cy="5827680"/>
          </a:xfrm>
        </p:grpSpPr>
        <p:pic>
          <p:nvPicPr>
            <p:cNvPr id="394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560520"/>
              <a:ext cx="866916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00040" y="714240"/>
              <a:ext cx="8215200" cy="56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яємо взаємні послуги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і на витрати складу та ремонтного цеху (1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 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-4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Складу на витрати ремонтного цеху та їдальні (2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: 160000 х 20% = 32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160000 х 10% = 16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-48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1303200"/>
          <a:ext cx="9172440" cy="448020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619200"/>
                <a:gridCol w="12146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69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30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 +16000-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6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-48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646200"/>
            <a:ext cx="6535800" cy="8906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с двумя вырезанными противолежащими углами 20"/>
          <p:cNvSpPr/>
          <p:nvPr/>
        </p:nvSpPr>
        <p:spPr>
          <a:xfrm>
            <a:off x="1357200" y="1555920"/>
            <a:ext cx="7500960" cy="1152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Штриховая стрелка вправо 21"/>
          <p:cNvSpPr/>
          <p:nvPr/>
        </p:nvSpPr>
        <p:spPr>
          <a:xfrm>
            <a:off x="357120" y="18525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22"/>
          <p:cNvSpPr/>
          <p:nvPr/>
        </p:nvSpPr>
        <p:spPr>
          <a:xfrm>
            <a:off x="1357200" y="2917800"/>
            <a:ext cx="7500960" cy="1374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пі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Штриховая стрелка вправо 23"/>
          <p:cNvSpPr/>
          <p:nvPr/>
        </p:nvSpPr>
        <p:spPr>
          <a:xfrm>
            <a:off x="357120" y="3365640"/>
            <a:ext cx="785880" cy="49500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24"/>
          <p:cNvSpPr/>
          <p:nvPr/>
        </p:nvSpPr>
        <p:spPr>
          <a:xfrm>
            <a:off x="1357200" y="4422600"/>
            <a:ext cx="7500960" cy="1310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Наклад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5"/>
          <p:cNvSpPr/>
          <p:nvPr/>
        </p:nvSpPr>
        <p:spPr>
          <a:xfrm>
            <a:off x="357120" y="47973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39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що передбачає розподіл взаємних послуг шляхом розв'язання системи рівнянь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Rectangle 3"/>
          <p:cNvGrpSpPr/>
          <p:nvPr/>
        </p:nvGrpSpPr>
        <p:grpSpPr>
          <a:xfrm>
            <a:off x="255600" y="133200"/>
            <a:ext cx="8669160" cy="6328080"/>
            <a:chOff x="255600" y="133200"/>
            <a:chExt cx="8669160" cy="6328080"/>
          </a:xfrm>
        </p:grpSpPr>
        <p:pic>
          <p:nvPicPr>
            <p:cNvPr id="402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133200"/>
              <a:ext cx="8669160" cy="63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285840"/>
              <a:ext cx="8215200" cy="61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40000 + 0,2 витрати складу + 0,1 витрати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витрат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Шляхом заміщення у другому рівнянні маємо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(200000 + 0,1 витрат складу) = 160000 + 20000 + 0,0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81818,18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х 181818,18 = 21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9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57120" y="214200"/>
          <a:ext cx="8690040" cy="5668920"/>
        </p:xfrm>
        <a:graphic>
          <a:graphicData uri="http://schemas.openxmlformats.org/drawingml/2006/table">
            <a:tbl>
              <a:tblPr/>
              <a:tblGrid>
                <a:gridCol w="1643040"/>
                <a:gridCol w="714600"/>
                <a:gridCol w="1143000"/>
                <a:gridCol w="785520"/>
                <a:gridCol w="1143000"/>
                <a:gridCol w="117720"/>
                <a:gridCol w="525240"/>
                <a:gridCol w="1165320"/>
                <a:gridCol w="14526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45,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8727,26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8727,2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9090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727,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9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-328727,26=271272,7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,8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363,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1,8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181,8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7425000" cy="2577960"/>
          </a:xfrm>
          <a:prstGeom prst="rect">
            <a:avLst/>
          </a:prstGeom>
          <a:ln w="0">
            <a:noFill/>
          </a:ln>
        </p:spPr>
      </p:pic>
      <p:sp>
        <p:nvSpPr>
          <p:cNvPr id="406" name="Скругленный прямоугольник 11"/>
          <p:cNvSpPr/>
          <p:nvPr/>
        </p:nvSpPr>
        <p:spPr>
          <a:xfrm>
            <a:off x="1357200" y="3429000"/>
            <a:ext cx="6572520" cy="3071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бір бази розподілу залежить від характеру діяльності та технології виробниц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одини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ашино-годи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лата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і матеріальні витр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ількість вироблен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-12600" y="109440"/>
            <a:ext cx="44193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08" name="Rectangle 3"/>
          <p:cNvGrpSpPr/>
          <p:nvPr/>
        </p:nvGrpSpPr>
        <p:grpSpPr>
          <a:xfrm>
            <a:off x="1579680" y="1255680"/>
            <a:ext cx="7588080" cy="2494080"/>
            <a:chOff x="1579680" y="1255680"/>
            <a:chExt cx="7588080" cy="2494080"/>
          </a:xfrm>
        </p:grpSpPr>
        <p:pic>
          <p:nvPicPr>
            <p:cNvPr id="40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255680"/>
              <a:ext cx="758808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857240" y="1428840"/>
              <a:ext cx="70725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дукти, що мають відносно високу вартість продажу та не можуть бути окремо ідентифіковані до точки розділення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1" name="AutoShape 2" descr=""/>
          <p:cNvPicPr/>
          <p:nvPr/>
        </p:nvPicPr>
        <p:blipFill>
          <a:blip r:embed="rId3"/>
          <a:stretch/>
        </p:blipFill>
        <p:spPr>
          <a:xfrm>
            <a:off x="-12600" y="3749760"/>
            <a:ext cx="4419360" cy="1846080"/>
          </a:xfrm>
          <a:prstGeom prst="rect">
            <a:avLst/>
          </a:prstGeom>
          <a:ln w="0">
            <a:noFill/>
          </a:ln>
        </p:spPr>
      </p:pic>
      <p:grpSp>
        <p:nvGrpSpPr>
          <p:cNvPr id="412" name="Rectangle 3"/>
          <p:cNvGrpSpPr/>
          <p:nvPr/>
        </p:nvGrpSpPr>
        <p:grpSpPr>
          <a:xfrm>
            <a:off x="1579680" y="4919760"/>
            <a:ext cx="7588080" cy="1968480"/>
            <a:chOff x="1579680" y="4919760"/>
            <a:chExt cx="7588080" cy="1968480"/>
          </a:xfrm>
        </p:grpSpPr>
        <p:pic>
          <p:nvPicPr>
            <p:cNvPr id="413" name="Rectangle 3" descr=""/>
            <p:cNvPicPr/>
            <p:nvPr/>
          </p:nvPicPr>
          <p:blipFill>
            <a:blip r:embed="rId4"/>
            <a:stretch/>
          </p:blipFill>
          <p:spPr>
            <a:xfrm>
              <a:off x="1579680" y="4919760"/>
              <a:ext cx="7588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57240" y="5094360"/>
              <a:ext cx="70725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Точка технологічного процесу, в якій є можливість відокремити спільні продук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16" name="Rectangle 3"/>
          <p:cNvGrpSpPr/>
          <p:nvPr/>
        </p:nvGrpSpPr>
        <p:grpSpPr>
          <a:xfrm>
            <a:off x="1609560" y="2603520"/>
            <a:ext cx="7667640" cy="3449520"/>
            <a:chOff x="1609560" y="2603520"/>
            <a:chExt cx="7667640" cy="3449520"/>
          </a:xfrm>
        </p:grpSpPr>
        <p:pic>
          <p:nvPicPr>
            <p:cNvPr id="417" name="Rectangle 3" descr=""/>
            <p:cNvPicPr/>
            <p:nvPr/>
          </p:nvPicPr>
          <p:blipFill>
            <a:blip r:embed="rId2"/>
            <a:stretch/>
          </p:blipFill>
          <p:spPr>
            <a:xfrm>
              <a:off x="1609560" y="2603520"/>
              <a:ext cx="766764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928880" y="2786040"/>
              <a:ext cx="707220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одного процесу, в результаті якого одночасно виробляється кілька продуктів, т.то витрати до точки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16"/>
          <p:cNvSpPr/>
          <p:nvPr/>
        </p:nvSpPr>
        <p:spPr>
          <a:xfrm>
            <a:off x="2050920" y="47628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ffff"/>
                </a:solidFill>
                <a:latin typeface="Arial"/>
              </a:rPr>
              <a:t>МОЛОКО ПАСТЕРИЗОВАН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8"/>
          <p:cNvSpPr/>
          <p:nvPr/>
        </p:nvSpPr>
        <p:spPr>
          <a:xfrm>
            <a:off x="2084400" y="206064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МАСЛО СЕЛЯНСЬК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6"/>
          <p:cNvSpPr/>
          <p:nvPr/>
        </p:nvSpPr>
        <p:spPr>
          <a:xfrm>
            <a:off x="2155680" y="465300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АХТ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7"/>
          <p:cNvSpPr/>
          <p:nvPr/>
        </p:nvSpPr>
        <p:spPr>
          <a:xfrm>
            <a:off x="2124000" y="3357720"/>
            <a:ext cx="5008680" cy="1079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АЗЕЇН ТЕХНІЧ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Прямоугольник 11" descr=""/>
          <p:cNvPicPr/>
          <p:nvPr/>
        </p:nvPicPr>
        <p:blipFill>
          <a:blip r:embed="rId1"/>
          <a:stretch/>
        </p:blipFill>
        <p:spPr>
          <a:xfrm>
            <a:off x="244440" y="743040"/>
            <a:ext cx="1103400" cy="486576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3"/>
          <p:cNvSpPr/>
          <p:nvPr/>
        </p:nvSpPr>
        <p:spPr>
          <a:xfrm>
            <a:off x="7740720" y="765000"/>
            <a:ext cx="1008000" cy="48247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Загальновиробничі 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трелка вправо 14"/>
          <p:cNvSpPr/>
          <p:nvPr/>
        </p:nvSpPr>
        <p:spPr>
          <a:xfrm>
            <a:off x="1476360" y="98100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трелка вправо 15"/>
          <p:cNvSpPr/>
          <p:nvPr/>
        </p:nvSpPr>
        <p:spPr>
          <a:xfrm>
            <a:off x="1476360" y="227664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трелка вправо 17"/>
          <p:cNvSpPr/>
          <p:nvPr/>
        </p:nvSpPr>
        <p:spPr>
          <a:xfrm>
            <a:off x="1547640" y="3573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трелка вправо 18"/>
          <p:cNvSpPr/>
          <p:nvPr/>
        </p:nvSpPr>
        <p:spPr>
          <a:xfrm>
            <a:off x="1547640" y="4797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трелка влево 23"/>
          <p:cNvSpPr/>
          <p:nvPr/>
        </p:nvSpPr>
        <p:spPr>
          <a:xfrm>
            <a:off x="7164360" y="1052640"/>
            <a:ext cx="43200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трелка влево 24"/>
          <p:cNvSpPr/>
          <p:nvPr/>
        </p:nvSpPr>
        <p:spPr>
          <a:xfrm>
            <a:off x="7164360" y="2349360"/>
            <a:ext cx="432000" cy="57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трелка влево 25"/>
          <p:cNvSpPr/>
          <p:nvPr/>
        </p:nvSpPr>
        <p:spPr>
          <a:xfrm>
            <a:off x="7236000" y="3573360"/>
            <a:ext cx="431640" cy="576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трелка влево 26"/>
          <p:cNvSpPr/>
          <p:nvPr/>
        </p:nvSpPr>
        <p:spPr>
          <a:xfrm>
            <a:off x="7236000" y="4869000"/>
            <a:ext cx="43164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27"/>
          <p:cNvSpPr/>
          <p:nvPr/>
        </p:nvSpPr>
        <p:spPr>
          <a:xfrm>
            <a:off x="468360" y="5950080"/>
            <a:ext cx="820728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Схема списання комплексних та загальновиробничих витра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1"/>
          <p:cNvGraphicFramePr/>
          <p:nvPr/>
        </p:nvGraphicFramePr>
        <p:xfrm>
          <a:off x="216000" y="71280"/>
          <a:ext cx="8677080" cy="602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1280"/>
                    <a:ext cx="8677080" cy="60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иникнення витрат на продукцію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Object 1"/>
          <p:cNvGraphicFramePr/>
          <p:nvPr/>
        </p:nvGraphicFramePr>
        <p:xfrm>
          <a:off x="0" y="504720"/>
          <a:ext cx="8820000" cy="50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4720"/>
                    <a:ext cx="882000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іднесення витрат на продукти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3" name="Скругленный прямоугольник 16"/>
          <p:cNvSpPr/>
          <p:nvPr/>
        </p:nvSpPr>
        <p:spPr>
          <a:xfrm>
            <a:off x="3492360" y="2214720"/>
            <a:ext cx="5008680" cy="3375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вчення технології виробництва та побудова схеми виробничого процесу виникнення витрат на продукцію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трелка вправо с вырезом 10"/>
          <p:cNvSpPr/>
          <p:nvPr/>
        </p:nvSpPr>
        <p:spPr>
          <a:xfrm>
            <a:off x="571680" y="306864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395360" y="2457360"/>
            <a:ext cx="7888320" cy="2943360"/>
            <a:chOff x="1395360" y="2457360"/>
            <a:chExt cx="7888320" cy="294336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457360"/>
              <a:ext cx="78883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14680" y="2643120"/>
              <a:ext cx="728640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на здійснення діяльності, що споживається кількома виробничими або обслуговуючими підрозділами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точок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еличини спільн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15228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51" name="Скругленный прямоугольник 16"/>
          <p:cNvSpPr/>
          <p:nvPr/>
        </p:nvSpPr>
        <p:spPr>
          <a:xfrm>
            <a:off x="3492360" y="1482840"/>
            <a:ext cx="504036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бір методу розподілу спільних (комплексних)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трелка вправо с вырезом 10"/>
          <p:cNvSpPr/>
          <p:nvPr/>
        </p:nvSpPr>
        <p:spPr>
          <a:xfrm>
            <a:off x="571680" y="119700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8"/>
          <p:cNvSpPr/>
          <p:nvPr/>
        </p:nvSpPr>
        <p:spPr>
          <a:xfrm>
            <a:off x="3492360" y="292428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итрат на виробництво кожного спільного продукту після точки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трелка вправо с вырезом 9"/>
          <p:cNvSpPr/>
          <p:nvPr/>
        </p:nvSpPr>
        <p:spPr>
          <a:xfrm>
            <a:off x="571680" y="3213000"/>
            <a:ext cx="2857320" cy="1656000"/>
          </a:xfrm>
          <a:custGeom>
            <a:avLst/>
            <a:gdLst>
              <a:gd name="textAreaLeft" fmla="*/ 413640 w 2857320"/>
              <a:gd name="textAreaRight" fmla="*/ 2443680 w 2857320"/>
              <a:gd name="textAreaTop" fmla="*/ 414000 h 1656000"/>
              <a:gd name="textAreaBottom" fmla="*/ 1242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342" y="5400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200"/>
                </a:lnTo>
                <a:lnTo>
                  <a:pt x="0" y="16200"/>
                </a:lnTo>
                <a:lnTo>
                  <a:pt x="31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6"/>
          <p:cNvSpPr/>
          <p:nvPr/>
        </p:nvSpPr>
        <p:spPr>
          <a:xfrm>
            <a:off x="3524400" y="5370480"/>
            <a:ext cx="500832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овиробнич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7"/>
          <p:cNvSpPr/>
          <p:nvPr/>
        </p:nvSpPr>
        <p:spPr>
          <a:xfrm>
            <a:off x="603360" y="4941720"/>
            <a:ext cx="2857320" cy="185760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600"/>
              <a:gd name="textAreaBottom" fmla="*/ 139320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6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792000"/>
            <a:ext cx="7607520" cy="725760"/>
          </a:xfrm>
          <a:prstGeom prst="rect">
            <a:avLst/>
          </a:prstGeom>
          <a:ln w="0">
            <a:noFill/>
          </a:ln>
        </p:spPr>
      </p:pic>
      <p:sp>
        <p:nvSpPr>
          <p:cNvPr id="458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натуральних одиниц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фізичного обсяг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ртості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чистої вартості реаліз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лового прибутк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ціни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463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64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спільних витрат пропорційно фізичному обсягу спільних продуктів у точці розділення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67" name="Rectangle 3"/>
          <p:cNvGrpSpPr/>
          <p:nvPr/>
        </p:nvGrpSpPr>
        <p:grpSpPr>
          <a:xfrm>
            <a:off x="195120" y="933480"/>
            <a:ext cx="8826480" cy="5192640"/>
            <a:chOff x="195120" y="933480"/>
            <a:chExt cx="8826480" cy="5192640"/>
          </a:xfrm>
        </p:grpSpPr>
        <p:pic>
          <p:nvPicPr>
            <p:cNvPr id="468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933480"/>
              <a:ext cx="882648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395280" y="1052640"/>
              <a:ext cx="84628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Т “Житомирські ласощі” </a:t>
              </a: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готовляє шоколадні вироби. Підприємство зерна какао переробляє на два проміжні продукти: рідку основу шоколадної пудри та рідку основу молочного шоколаду (одна точка розділення)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 250 кг зерен какао виготовляють 80 л рідкої основи шоколадної пудри та 120 л. рідкої основи молочного шоколаду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ідку основу шоколадної пудри далі переробляють на шоколадну пудру. З кожних 80 літрів основи шоколадної пудри виробляють 100 кг шоколадної пудри. Рідку основу молочного шоколаду переробляють на молочний шоколад. З кожних 120 л рідкої основи виробляють 170 кг молочного шоколаду.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71" name="Rectangle 3"/>
          <p:cNvGrpSpPr/>
          <p:nvPr/>
        </p:nvGrpSpPr>
        <p:grpSpPr>
          <a:xfrm>
            <a:off x="195120" y="785880"/>
            <a:ext cx="8826480" cy="3657600"/>
            <a:chOff x="195120" y="785880"/>
            <a:chExt cx="8826480" cy="3657600"/>
          </a:xfrm>
        </p:grpSpPr>
        <p:pic>
          <p:nvPicPr>
            <p:cNvPr id="472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785880"/>
              <a:ext cx="88264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395280" y="907920"/>
              <a:ext cx="846288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виробництво продукції було витрачено 2500 кг зерен какао. Спільні витрати на виробництво становили 5000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альші витрати на переробку рідкої основи шоколадної пудри становили 11250 грн., а на переробку рідкої основи молочного шоколаду – 2375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ля проміжного продукту (рідкої основи) є активний ринок, на якому ціна рідкої основи шоколадної пудри дорівнює 21 грн. за л., а ціна рідкої основи молочного шоколаду – 26 грн. за л. Дані  по виробництву та реалізації за грудень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4" name=""/>
          <p:cNvGraphicFramePr/>
          <p:nvPr/>
        </p:nvGraphicFramePr>
        <p:xfrm>
          <a:off x="468360" y="4619520"/>
          <a:ext cx="8280360" cy="1905120"/>
        </p:xfrm>
        <a:graphic>
          <a:graphicData uri="http://schemas.openxmlformats.org/drawingml/2006/table">
            <a:tbl>
              <a:tblPr/>
              <a:tblGrid>
                <a:gridCol w="2735280"/>
                <a:gridCol w="1403280"/>
                <a:gridCol w="1765440"/>
                <a:gridCol w="2376360"/>
              </a:tblGrid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-во, кг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кг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продажу за одиницю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коладна пудр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чний шокола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468360" y="1700280"/>
          <a:ext cx="8280360" cy="457200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0000"/>
                <a:gridCol w="2071800"/>
              </a:tblGrid>
              <a:tr h="190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виробництва в точці розділення, 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спільних продуктів у точці розділення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00/250)х80=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/2000х100 = 40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40%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/250)х120=12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/2000х100=6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НАТУРАЛЬНИХ ОДИНИЦЬ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7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7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доходу від продажу кожного спільного продукту у точці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95280" y="1413000"/>
          <a:ext cx="8280360" cy="49528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2286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ід від реалізації спільних продуктів у точці розділе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доходу від реалізації кожного продукту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х21= 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6800/48000)х100= 3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0,35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1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х26= 312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1200/48000)х100=6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РТОСТІ ПРОДАЖУ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84" name="Rectangle 3"/>
          <p:cNvGrpSpPr/>
          <p:nvPr/>
        </p:nvGrpSpPr>
        <p:grpSpPr>
          <a:xfrm>
            <a:off x="1109520" y="2273400"/>
            <a:ext cx="8028000" cy="3919320"/>
            <a:chOff x="1109520" y="2273400"/>
            <a:chExt cx="8028000" cy="3919320"/>
          </a:xfrm>
        </p:grpSpPr>
        <p:pic>
          <p:nvPicPr>
            <p:cNvPr id="485" name="Rectangle 3" descr=""/>
            <p:cNvPicPr/>
            <p:nvPr/>
          </p:nvPicPr>
          <p:blipFill>
            <a:blip r:embed="rId2"/>
            <a:stretch/>
          </p:blipFill>
          <p:spPr>
            <a:xfrm>
              <a:off x="1109520" y="2273400"/>
              <a:ext cx="802800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357200" y="2428920"/>
              <a:ext cx="757260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чистій вартості реалізації спільних продуктів у точці розділення. Для обчислення очікуваної чистої вартості реалізації з вартості продажу готової продукції слід відняти відокремлені витрати й очікувані витрати на збу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285840" y="285840"/>
          <a:ext cx="8643960" cy="6370560"/>
        </p:xfrm>
        <a:graphic>
          <a:graphicData uri="http://schemas.openxmlformats.org/drawingml/2006/table">
            <a:tbl>
              <a:tblPr/>
              <a:tblGrid>
                <a:gridCol w="2832120"/>
                <a:gridCol w="2830320"/>
                <a:gridCol w="298152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клад загальних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ожлива база розподіл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засобів прац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мортизаці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трим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необоротних активі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 машино-годин роботи обладна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спільної площ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 будинк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будівл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алення та освітле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, яку займає підрозді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539640" y="1454040"/>
          <a:ext cx="8136000" cy="5112000"/>
        </p:xfrm>
        <a:graphic>
          <a:graphicData uri="http://schemas.openxmlformats.org/drawingml/2006/table">
            <a:tbl>
              <a:tblPr/>
              <a:tblGrid>
                <a:gridCol w="1440000"/>
                <a:gridCol w="1469880"/>
                <a:gridCol w="978120"/>
                <a:gridCol w="1152360"/>
                <a:gridCol w="1440000"/>
                <a:gridCol w="1655640"/>
              </a:tblGrid>
              <a:tr h="17589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кінцевих продуктів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ВР у точці розділен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ЧВР спільн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= 2-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. пудр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11250= 18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8750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) х 100 = 29.7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976= 148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. шоколаду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23750= 44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4250/ 63000) х 100 = 70,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ЧИСТОЇ ВАРТОСТІ РЕАЛІЗА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90" name="Rectangle 3"/>
          <p:cNvGrpSpPr/>
          <p:nvPr/>
        </p:nvGrpSpPr>
        <p:grpSpPr>
          <a:xfrm>
            <a:off x="1096920" y="2273400"/>
            <a:ext cx="8053560" cy="2841480"/>
            <a:chOff x="1096920" y="2273400"/>
            <a:chExt cx="8053560" cy="2841480"/>
          </a:xfrm>
        </p:grpSpPr>
        <p:pic>
          <p:nvPicPr>
            <p:cNvPr id="4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96920" y="2273400"/>
              <a:ext cx="805356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357200" y="2428920"/>
              <a:ext cx="7572600" cy="26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з використання сталого відсотку валового прибутку, що застосовується для кожного спільного продукт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413000"/>
          <a:ext cx="8353440" cy="4876560"/>
        </p:xfrm>
        <a:graphic>
          <a:graphicData uri="http://schemas.openxmlformats.org/drawingml/2006/table">
            <a:tbl>
              <a:tblPr/>
              <a:tblGrid>
                <a:gridCol w="1463760"/>
                <a:gridCol w="1253880"/>
                <a:gridCol w="1311480"/>
                <a:gridCol w="1587600"/>
                <a:gridCol w="1439640"/>
                <a:gridCol w="1297080"/>
              </a:tblGrid>
              <a:tr h="1829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готов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овий прибуток на основі відсотка валового прибут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реаліз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п2х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2-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=4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х13,27% =3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3981 = 26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019 – 11250 = 147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9019= 58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981-23750 = 35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Прямоугольник 2"/>
          <p:cNvSpPr/>
          <p:nvPr/>
        </p:nvSpPr>
        <p:spPr>
          <a:xfrm>
            <a:off x="611280" y="333360"/>
            <a:ext cx="7416720" cy="71928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ЛОВОГО ПРИБУТК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Rectangle 3"/>
          <p:cNvGrpSpPr/>
          <p:nvPr/>
        </p:nvGrpSpPr>
        <p:grpSpPr>
          <a:xfrm>
            <a:off x="244440" y="317520"/>
            <a:ext cx="8753400" cy="6308640"/>
            <a:chOff x="244440" y="317520"/>
            <a:chExt cx="8753400" cy="6308640"/>
          </a:xfrm>
        </p:grpSpPr>
        <p:pic>
          <p:nvPicPr>
            <p:cNvPr id="496" name="Rectangle 3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875340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00040" y="476280"/>
              <a:ext cx="821520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ЗНАЧЕННЯ ЗАГАЛЬНОГО ВІДСОТКА ВАЛОВОГО ПРИБУТК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чікуваний валовий прибуток дорівнює різниці між ЧД- собівартість (загальні витрати на виробництво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1000х30 + 1700х40) – 50000 – 11250 – 23750 = 13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дсоток  валового прибутку розраховується як співвідношення валового прибутку до загального доходу від реалізації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000/98000 (очікувана вартість продажу кінцевого продукту) = 0,1327=13,27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9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17520"/>
            <a:ext cx="653436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Стрелка вправо с вырезом 20"/>
          <p:cNvSpPr/>
          <p:nvPr/>
        </p:nvSpPr>
        <p:spPr>
          <a:xfrm>
            <a:off x="714240" y="213840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кругленный прямоугольник 16"/>
          <p:cNvSpPr/>
          <p:nvPr/>
        </p:nvSpPr>
        <p:spPr>
          <a:xfrm>
            <a:off x="2357280" y="2066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трелка вправо с вырезом 4"/>
          <p:cNvSpPr/>
          <p:nvPr/>
        </p:nvSpPr>
        <p:spPr>
          <a:xfrm>
            <a:off x="1241280" y="407052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5"/>
          <p:cNvSpPr/>
          <p:nvPr/>
        </p:nvSpPr>
        <p:spPr>
          <a:xfrm>
            <a:off x="2884320" y="3578400"/>
            <a:ext cx="5143680" cy="179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між виробничими підрозділам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трелка вправо с вырезом 13"/>
          <p:cNvSpPr/>
          <p:nvPr/>
        </p:nvSpPr>
        <p:spPr>
          <a:xfrm>
            <a:off x="1692360" y="573264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4"/>
          <p:cNvSpPr/>
          <p:nvPr/>
        </p:nvSpPr>
        <p:spPr>
          <a:xfrm>
            <a:off x="3348000" y="5738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між продукціє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кругленный прямоугольник 16"/>
          <p:cNvSpPr/>
          <p:nvPr/>
        </p:nvSpPr>
        <p:spPr>
          <a:xfrm>
            <a:off x="1116000" y="1341360"/>
            <a:ext cx="6384960" cy="3095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969840" y="871560"/>
            <a:ext cx="8167680" cy="5254560"/>
            <a:chOff x="969840" y="871560"/>
            <a:chExt cx="8167680" cy="525456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969840" y="871560"/>
              <a:ext cx="81676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85920" y="1052640"/>
              <a:ext cx="75722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Дизайнерський відділ та цех пошиття розташовані в одній будівлі загальною площею – 24000 кв.м. Загальна площа приміщень дизайнерського відділу – 18000 кв.м. Загальні витрати на утримання будівлі становлять 300 000 грн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-12600" y="407880"/>
            <a:ext cx="441936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285840" y="1519200"/>
          <a:ext cx="8643960" cy="4345200"/>
        </p:xfrm>
        <a:graphic>
          <a:graphicData uri="http://schemas.openxmlformats.org/drawingml/2006/table">
            <a:tbl>
              <a:tblPr/>
              <a:tblGrid>
                <a:gridCol w="2428920"/>
                <a:gridCol w="1500120"/>
                <a:gridCol w="2498760"/>
                <a:gridCol w="2216160"/>
              </a:tblGrid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лоща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ефіцієнт розподіл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утримання будівлі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з. від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 /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 = 12,5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4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ех пошиття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4-04T07:33:32Z</dcterms:modified>
  <cp:revision>251</cp:revision>
  <dc:subject/>
  <dc:title>Слайд 1</dc:title>
</cp:coreProperties>
</file>