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7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E5E-6455-4860-AE6D-119F830F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FB0-C441-42AF-B6B6-5E60AD00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05B-BCE5-47E2-8FB4-02C47A77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596-C1C6-4FD8-8E8C-007AAA37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4D3C-B6E8-4BA7-9648-8CBB6613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EA92-C984-4D62-B4EE-000AAFF6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2896-2444-4669-8D33-90D340B7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3048-07C7-4688-818A-9590ED4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CCC7-4282-4676-BAE3-9E76C425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29C2-AA3E-42CF-8473-B9E4968D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8E97-AEE9-44C9-B753-10CF0F58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617-84DD-4693-AC51-D2B05F9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0114-EBC2-4EAB-8C96-CF8A32C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E535-4249-4D33-9198-FFAACFFF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C209-9B49-4A56-BCC2-AADB45FC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6D6A-D461-452E-9F8A-8D277BB0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177D-5ACD-4386-97DA-BE7D96BD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F0C5-7A26-4BC7-846C-FBE21008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08F1-B0DD-4C81-B867-43E093F3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65D78-2942-4DDB-AB9C-49A9DAF1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8416-16EA-4CB2-BD26-4AC67A68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C870-26B1-41E7-9A48-8F3E0ABF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0F8-F424-4E20-A366-FD90E449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B6BC-AB53-41DD-A06B-ACBFBC13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4EAE-0415-4860-8D3E-D922CAFD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A467-FAC0-467A-8774-DCBE76E7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BD41-3F18-4116-BC8D-A7E4D0ED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4DA7-316E-4B9A-9C0A-F05AAE29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FE0F6-EF35-40D9-B4E2-8F0BFD53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8094-48D5-4FA6-A101-E74258FB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23E3-9B8D-48C5-A40E-02E5E655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81BB-B99D-447B-AC64-54214E69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8EE7-A932-4E2A-8F6E-A3B92360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93F-4011-4752-89BB-1BAC4623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D5A05-D793-498E-81F7-C30FC137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718F-F93C-4D7A-8CC3-3E9EA2C2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C200C-52C8-445B-81EF-B1C40B58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A92A5-ACB5-4293-A644-238B2C50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A3FB-6DD0-408F-98C0-40147499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ECC0F-E3B1-45CD-A794-4445A79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B9F2-F932-4665-B867-2D948FDD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9AD0A-4664-4B38-8B47-F3877633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28DD-441D-49BD-91E5-A9C82B96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4D59F-ADCF-4929-9A87-4022574E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5CB-FBA2-49AE-8FFD-E40E14B7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3B2BF-CBDD-42DE-B6C5-C19CB82F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BAD93-3091-43F2-8D89-FBE83655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DE78-682B-450F-B39C-DB720AB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54483-BFE0-434B-9E1E-AB121F71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202E0-D0FF-47CC-B367-0B6D6A3C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829F-95FF-4F35-AE8A-6F1C2445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6E875-E1D1-49E8-BE66-7F95E055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4EDCB-0E15-4034-8A4F-05558CA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19371-1048-4D4E-949C-AB425983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8EFCA-635F-4353-B96C-13B86B08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CF7-E2C9-4100-97B2-1BC07A30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120D7-EF53-4346-8E14-8C7F3899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71502-51C3-4020-AA63-7C28D450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2A213-204F-4C15-8C99-D9841681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F7A0C-FA1D-4336-88DA-EDACDBDE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09DDA-40B2-47E3-8824-A25F483E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BAAD4-046F-4C40-9E75-B8AE167E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D94B2-877A-41BB-9C36-C0D7C8FB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C8011-B6F8-47C4-9A44-941808E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B163F-5ECE-4E47-8893-B350BFE4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1E9EE-21BA-4628-8326-E3F095C3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68F-C892-4003-9FFC-CA837398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9867-8F92-4386-B903-D3C049DA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4AA5-8D1A-4876-AD97-1FFA3D76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DBD64-B299-43C6-93AF-795BA4C3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422EB-C613-4B05-ADAD-6E4D921E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F6AF3-E154-4AA1-BD2A-78BD8D57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085BE-4927-49C5-B39F-A53BA329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0C11-DFE2-492A-BB7D-AF88992F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7CFB6-F619-4DF4-93D3-4F724E28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C38D4-9E8E-459B-8598-3400C468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D989A-A324-48DC-8A6D-D6C13B4E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58C5-9C41-434C-AEF7-62B28F2F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9112F-58D6-411A-8FD3-3BFC9E8F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092C9-12A3-4972-B9CF-84014E7A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E48A-A651-4B82-AB8F-954B6E5B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BE31B-27F8-41FF-9148-6A3FABA5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1503F-2D5B-4CD2-80D6-DF421B52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A7A-9880-457D-8A11-C57E806E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6B71-0D6A-4A11-AF48-D42C6F98B09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61B1-85EC-492E-B4B4-F7BA558122F7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A127-0092-43AD-AAA1-F3ACACF77EC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C441-0571-4C98-A083-06F3C65A5989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358E-B9C4-4DA4-9587-C77DEDBB1A8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660C-A5D2-4B8D-B885-11373CD4ED26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D4D3-47F2-4B5C-9D3A-BEF5D3B534D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401320" cy="248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16"/>
          <p:cNvSpPr/>
          <p:nvPr/>
        </p:nvSpPr>
        <p:spPr>
          <a:xfrm>
            <a:off x="1116000" y="1341360"/>
            <a:ext cx="6912000" cy="42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РОЗПОДІЛ ВИТРАТ ОБСЛУГОВУЮЧИХ ПІДРОЗДІЛІ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МІЖ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ВИРОБНИЧИМИ ПІДРОЗДІЛА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304920"/>
            <a:ext cx="6534360" cy="1163520"/>
          </a:xfrm>
          <a:prstGeom prst="rect">
            <a:avLst/>
          </a:prstGeom>
          <a:ln w="0">
            <a:noFill/>
          </a:ln>
        </p:spPr>
      </p:pic>
      <p:sp>
        <p:nvSpPr>
          <p:cNvPr id="332" name="Стрелка вправо с вырезом 20"/>
          <p:cNvSpPr/>
          <p:nvPr/>
        </p:nvSpPr>
        <p:spPr>
          <a:xfrm>
            <a:off x="714240" y="18572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Скругленный прямоугольник 16"/>
          <p:cNvSpPr/>
          <p:nvPr/>
        </p:nvSpPr>
        <p:spPr>
          <a:xfrm>
            <a:off x="2357280" y="17859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ямого розподі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Стрелка вправо с вырезом 4"/>
          <p:cNvSpPr/>
          <p:nvPr/>
        </p:nvSpPr>
        <p:spPr>
          <a:xfrm>
            <a:off x="866880" y="285768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Скругленный прямоугольник 5"/>
          <p:cNvSpPr/>
          <p:nvPr/>
        </p:nvSpPr>
        <p:spPr>
          <a:xfrm>
            <a:off x="2509920" y="2786040"/>
            <a:ext cx="514332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слідовного розподілу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Стрелка вправо с вырезом 6"/>
          <p:cNvSpPr/>
          <p:nvPr/>
        </p:nvSpPr>
        <p:spPr>
          <a:xfrm>
            <a:off x="1019160" y="385776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кругленный прямоугольник 7"/>
          <p:cNvSpPr/>
          <p:nvPr/>
        </p:nvSpPr>
        <p:spPr>
          <a:xfrm>
            <a:off x="2662200" y="378612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у  взаємних послу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8"/>
          <p:cNvSpPr/>
          <p:nvPr/>
        </p:nvSpPr>
        <p:spPr>
          <a:xfrm>
            <a:off x="1171440" y="48578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9"/>
          <p:cNvSpPr/>
          <p:nvPr/>
        </p:nvSpPr>
        <p:spPr>
          <a:xfrm>
            <a:off x="2814480" y="478620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дночасного розподіл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AutoShape 2" descr=""/>
          <p:cNvPicPr/>
          <p:nvPr/>
        </p:nvPicPr>
        <p:blipFill>
          <a:blip r:embed="rId1"/>
          <a:stretch/>
        </p:blipFill>
        <p:spPr>
          <a:xfrm>
            <a:off x="55440" y="822240"/>
            <a:ext cx="4424400" cy="1629000"/>
          </a:xfrm>
          <a:prstGeom prst="rect">
            <a:avLst/>
          </a:prstGeom>
          <a:ln w="0">
            <a:noFill/>
          </a:ln>
        </p:spPr>
      </p:pic>
      <p:grpSp>
        <p:nvGrpSpPr>
          <p:cNvPr id="341" name="Rectangle 3"/>
          <p:cNvGrpSpPr/>
          <p:nvPr/>
        </p:nvGrpSpPr>
        <p:grpSpPr>
          <a:xfrm>
            <a:off x="1036800" y="2030400"/>
            <a:ext cx="8173800" cy="4552920"/>
            <a:chOff x="1036800" y="2030400"/>
            <a:chExt cx="8173800" cy="4552920"/>
          </a:xfrm>
        </p:grpSpPr>
        <p:pic>
          <p:nvPicPr>
            <p:cNvPr id="342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030400"/>
              <a:ext cx="8173800" cy="45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357200" y="2214720"/>
              <a:ext cx="7572600" cy="43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 за якого їхні витрати списують на витрати виробничих підрозділів, при цьому методі взаємні послуги обслуговуючих підрозділів не беруть до уваги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AutoShape 2" descr=""/>
          <p:cNvPicPr/>
          <p:nvPr/>
        </p:nvPicPr>
        <p:blipFill>
          <a:blip r:embed="rId1"/>
          <a:stretch/>
        </p:blipFill>
        <p:spPr>
          <a:xfrm>
            <a:off x="-12600" y="396720"/>
            <a:ext cx="441936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45" name="Rectangle 3"/>
          <p:cNvGrpSpPr/>
          <p:nvPr/>
        </p:nvGrpSpPr>
        <p:grpSpPr>
          <a:xfrm>
            <a:off x="1042920" y="1133640"/>
            <a:ext cx="8021880" cy="5395680"/>
            <a:chOff x="1042920" y="1133640"/>
            <a:chExt cx="8021880" cy="5395680"/>
          </a:xfrm>
        </p:grpSpPr>
        <p:pic>
          <p:nvPicPr>
            <p:cNvPr id="346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285920" y="1285920"/>
              <a:ext cx="757224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ідприємство займається виготовленням велотренажерів та має два основні цехи (механічний та складальний) і три обслуговуючих підрозділи (ремонтний цех, склад матеріалів та їдальня).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поділ послуг обслуговуючих підрозділів здійснюється на основі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исельності працюючих – для послуг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артості матеріалів – для послуг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у ремонтних робіт – для ремонтного цех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285840" y="142920"/>
          <a:ext cx="8643960" cy="5799240"/>
        </p:xfrm>
        <a:graphic>
          <a:graphicData uri="http://schemas.openxmlformats.org/drawingml/2006/table">
            <a:tbl>
              <a:tblPr/>
              <a:tblGrid>
                <a:gridCol w="1357200"/>
                <a:gridCol w="1128600"/>
                <a:gridCol w="1295640"/>
                <a:gridCol w="1152360"/>
                <a:gridCol w="1297080"/>
                <a:gridCol w="1150920"/>
                <a:gridCol w="1262160"/>
              </a:tblGrid>
              <a:tr h="91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кладні витрати, гр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ЧП, чо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ртість замовле-них матеріалів, гр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сяг ремонт-них робіт, г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603360"/>
            <a:ext cx="6534360" cy="1701720"/>
          </a:xfrm>
          <a:prstGeom prst="rect">
            <a:avLst/>
          </a:prstGeom>
          <a:ln w="0">
            <a:noFill/>
          </a:ln>
        </p:spPr>
      </p:pic>
      <p:sp>
        <p:nvSpPr>
          <p:cNvPr id="350" name="Скругленный прямоугольник 16"/>
          <p:cNvSpPr/>
          <p:nvPr/>
        </p:nvSpPr>
        <p:spPr>
          <a:xfrm>
            <a:off x="1403280" y="2871720"/>
            <a:ext cx="639144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Обсяг послуги, що споживається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гальний обсяг послуги, що надаєтьс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Стрелка вниз 6"/>
          <p:cNvSpPr/>
          <p:nvPr/>
        </p:nvSpPr>
        <p:spPr>
          <a:xfrm>
            <a:off x="3708360" y="242100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Скругленный прямоугольник 7"/>
          <p:cNvSpPr/>
          <p:nvPr/>
        </p:nvSpPr>
        <p:spPr>
          <a:xfrm>
            <a:off x="1494000" y="4888080"/>
            <a:ext cx="639108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e46c0a"/>
                </a:solidFill>
                <a:latin typeface="Arial"/>
              </a:rPr>
              <a:t>При визначенні цифрового значення знаменника не слід враховувати споживання власного послуги підрозділом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244440"/>
            <a:ext cx="7424640" cy="1693800"/>
          </a:xfrm>
          <a:prstGeom prst="rect">
            <a:avLst/>
          </a:prstGeom>
          <a:ln w="0">
            <a:noFill/>
          </a:ln>
        </p:spPr>
      </p:pic>
      <p:sp>
        <p:nvSpPr>
          <p:cNvPr id="354" name="Скругленный прямоугольник 16"/>
          <p:cNvSpPr/>
          <p:nvPr/>
        </p:nvSpPr>
        <p:spPr>
          <a:xfrm>
            <a:off x="395280" y="2511360"/>
            <a:ext cx="8353440" cy="170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ffffff"/>
                </a:solidFill>
                <a:uFillTx/>
                <a:latin typeface="Arial"/>
              </a:rPr>
              <a:t>Вартість замовлених матеріалів механічним цех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Загальна вартість замовлених матеріалі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Стрелка вниз 6"/>
          <p:cNvSpPr/>
          <p:nvPr/>
        </p:nvSpPr>
        <p:spPr>
          <a:xfrm>
            <a:off x="3708360" y="206064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4"/>
          <p:cNvSpPr/>
          <p:nvPr/>
        </p:nvSpPr>
        <p:spPr>
          <a:xfrm>
            <a:off x="324000" y="4743360"/>
            <a:ext cx="8351640" cy="171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300000 / 1000000) х 100 = 30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низ 5"/>
          <p:cNvSpPr/>
          <p:nvPr/>
        </p:nvSpPr>
        <p:spPr>
          <a:xfrm>
            <a:off x="3635280" y="4292640"/>
            <a:ext cx="1800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357120" y="860400"/>
          <a:ext cx="8501040" cy="4514760"/>
        </p:xfrm>
        <a:graphic>
          <a:graphicData uri="http://schemas.openxmlformats.org/drawingml/2006/table">
            <a:tbl>
              <a:tblPr/>
              <a:tblGrid>
                <a:gridCol w="2374920"/>
                <a:gridCol w="2251080"/>
                <a:gridCol w="2125800"/>
                <a:gridCol w="1749240"/>
              </a:tblGrid>
              <a:tr h="46116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, що надає по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 – 1 0= 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701640" y="-109440"/>
            <a:ext cx="7418520" cy="106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357120" y="860400"/>
          <a:ext cx="8501040" cy="5926320"/>
        </p:xfrm>
        <a:graphic>
          <a:graphicData uri="http://schemas.openxmlformats.org/drawingml/2006/table">
            <a:tbl>
              <a:tblPr/>
              <a:tblGrid>
                <a:gridCol w="2374920"/>
                <a:gridCol w="2251080"/>
                <a:gridCol w="2125800"/>
                <a:gridCol w="1749240"/>
              </a:tblGrid>
              <a:tr h="3052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, що надає по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10 – 1 0= 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/1000000 (заг. вартість замовлених матеріалів) 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 000/100000 (обсяг ремонтних робіт)   х 100% = 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/3000 (чисельність  працюючих) 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 000/1000000 х 100% = 4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 000/100000 х 100% = 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/3000 х 100% = 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/3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 000/1000000 х 100% = 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/3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 000/1000000 х 100% = 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61" name="AutoShape 2" descr=""/>
          <p:cNvPicPr/>
          <p:nvPr/>
        </p:nvPicPr>
        <p:blipFill>
          <a:blip r:embed="rId1"/>
          <a:stretch/>
        </p:blipFill>
        <p:spPr>
          <a:xfrm>
            <a:off x="701640" y="-109440"/>
            <a:ext cx="7418520" cy="106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0" y="1303200"/>
          <a:ext cx="9172440" cy="400716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833400"/>
                <a:gridCol w="10004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Поняття та види собівартості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рганізація та здійснення калькулюванн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блік і розподіл непрямих витр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0" y="1303200"/>
          <a:ext cx="9172440" cy="405468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833400"/>
                <a:gridCol w="10004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8571,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/70+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1571,4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30+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1428,5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70+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/30+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8428,5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29844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036800" y="1865160"/>
            <a:ext cx="8173800" cy="4638960"/>
            <a:chOff x="1036800" y="1865160"/>
            <a:chExt cx="8173800" cy="463896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1865160"/>
              <a:ext cx="8173800" cy="463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2048040"/>
              <a:ext cx="7572600" cy="44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за якого витрати кожного обслуговуючого підрозділу розподіляються послідовно щодо виробничих підрозділів та інших обслуговуючих підрозділів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1" descr=""/>
          <p:cNvPicPr/>
          <p:nvPr/>
        </p:nvPicPr>
        <p:blipFill>
          <a:blip r:embed="rId1"/>
          <a:stretch/>
        </p:blipFill>
        <p:spPr>
          <a:xfrm>
            <a:off x="1292400" y="603360"/>
            <a:ext cx="6724440" cy="1701720"/>
          </a:xfrm>
          <a:prstGeom prst="rect">
            <a:avLst/>
          </a:prstGeom>
          <a:ln w="0">
            <a:noFill/>
          </a:ln>
        </p:spPr>
      </p:pic>
      <p:sp>
        <p:nvSpPr>
          <p:cNvPr id="369" name="Стрелка вправо с вырезом 20"/>
          <p:cNvSpPr/>
          <p:nvPr/>
        </p:nvSpPr>
        <p:spPr>
          <a:xfrm>
            <a:off x="714240" y="294336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Скругленный прямоугольник 16"/>
          <p:cNvSpPr/>
          <p:nvPr/>
        </p:nvSpPr>
        <p:spPr>
          <a:xfrm>
            <a:off x="2357280" y="2871720"/>
            <a:ext cx="5143680" cy="924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розділ, що найменше обслуговуються інши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Стрелка вправо с вырезом 4"/>
          <p:cNvSpPr/>
          <p:nvPr/>
        </p:nvSpPr>
        <p:spPr>
          <a:xfrm>
            <a:off x="866880" y="451476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Скругленный прямоугольник 5"/>
          <p:cNvSpPr/>
          <p:nvPr/>
        </p:nvSpPr>
        <p:spPr>
          <a:xfrm>
            <a:off x="2509920" y="436572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ніс більшу величину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603360"/>
            <a:ext cx="6534360" cy="969840"/>
          </a:xfrm>
          <a:prstGeom prst="rect">
            <a:avLst/>
          </a:prstGeom>
          <a:ln w="0">
            <a:noFill/>
          </a:ln>
        </p:spPr>
      </p:pic>
      <p:sp>
        <p:nvSpPr>
          <p:cNvPr id="374" name="Стрелка вправо с вырезом 20"/>
          <p:cNvSpPr/>
          <p:nvPr/>
        </p:nvSpPr>
        <p:spPr>
          <a:xfrm>
            <a:off x="714240" y="18446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16"/>
          <p:cNvSpPr/>
          <p:nvPr/>
        </p:nvSpPr>
        <p:spPr>
          <a:xfrm>
            <a:off x="2357280" y="1773360"/>
            <a:ext cx="5143680" cy="9237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розділ, що найменше обслуговуються інши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трелка вправо с вырезом 4"/>
          <p:cNvSpPr/>
          <p:nvPr/>
        </p:nvSpPr>
        <p:spPr>
          <a:xfrm>
            <a:off x="684360" y="4226040"/>
            <a:ext cx="1285560" cy="653760"/>
          </a:xfrm>
          <a:custGeom>
            <a:avLst/>
            <a:gdLst>
              <a:gd name="textAreaLeft" fmla="*/ 163440 w 1285560"/>
              <a:gd name="textAreaRight" fmla="*/ 1122120 w 128556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Скругленный прямоугольник 5"/>
          <p:cNvSpPr/>
          <p:nvPr/>
        </p:nvSpPr>
        <p:spPr>
          <a:xfrm>
            <a:off x="2327400" y="407664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ніс більшу величину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Скругленный прямоугольник 6"/>
          <p:cNvSpPr/>
          <p:nvPr/>
        </p:nvSpPr>
        <p:spPr>
          <a:xfrm>
            <a:off x="3316320" y="2833560"/>
            <a:ext cx="5143320" cy="100836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 та 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Скругленный прямоугольник 7"/>
          <p:cNvSpPr/>
          <p:nvPr/>
        </p:nvSpPr>
        <p:spPr>
          <a:xfrm>
            <a:off x="3419640" y="537372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06520"/>
            <a:ext cx="6534360" cy="1066680"/>
          </a:xfrm>
          <a:prstGeom prst="rect">
            <a:avLst/>
          </a:prstGeom>
          <a:ln w="0">
            <a:noFill/>
          </a:ln>
        </p:spPr>
      </p:pic>
      <p:sp>
        <p:nvSpPr>
          <p:cNvPr id="381" name="Стрелка вправо с вырезом 20"/>
          <p:cNvSpPr/>
          <p:nvPr/>
        </p:nvSpPr>
        <p:spPr>
          <a:xfrm>
            <a:off x="714240" y="184464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Скругленный прямоугольник 16"/>
          <p:cNvSpPr/>
          <p:nvPr/>
        </p:nvSpPr>
        <p:spPr>
          <a:xfrm>
            <a:off x="2357280" y="1773360"/>
            <a:ext cx="5143680" cy="9237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Їдаль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Стрелка вправо с вырезом 4"/>
          <p:cNvSpPr/>
          <p:nvPr/>
        </p:nvSpPr>
        <p:spPr>
          <a:xfrm>
            <a:off x="684360" y="3073320"/>
            <a:ext cx="1285560" cy="654120"/>
          </a:xfrm>
          <a:custGeom>
            <a:avLst/>
            <a:gdLst>
              <a:gd name="textAreaLeft" fmla="*/ 163440 w 1285560"/>
              <a:gd name="textAreaRight" fmla="*/ 1122120 w 128556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5"/>
          <p:cNvSpPr/>
          <p:nvPr/>
        </p:nvSpPr>
        <p:spPr>
          <a:xfrm>
            <a:off x="2327400" y="292428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трелка вправо с вырезом 8"/>
          <p:cNvSpPr/>
          <p:nvPr/>
        </p:nvSpPr>
        <p:spPr>
          <a:xfrm>
            <a:off x="611280" y="444168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9"/>
          <p:cNvSpPr/>
          <p:nvPr/>
        </p:nvSpPr>
        <p:spPr>
          <a:xfrm>
            <a:off x="2254320" y="4292640"/>
            <a:ext cx="514332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емонтний це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357120" y="214200"/>
          <a:ext cx="8501040" cy="5450040"/>
        </p:xfrm>
        <a:graphic>
          <a:graphicData uri="http://schemas.openxmlformats.org/drawingml/2006/table">
            <a:tbl>
              <a:tblPr/>
              <a:tblGrid>
                <a:gridCol w="1785960"/>
                <a:gridCol w="714600"/>
                <a:gridCol w="1143000"/>
                <a:gridCol w="191880"/>
                <a:gridCol w="522360"/>
                <a:gridCol w="142920"/>
                <a:gridCol w="928440"/>
                <a:gridCol w="571680"/>
                <a:gridCol w="142920"/>
                <a:gridCol w="906480"/>
                <a:gridCol w="14508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357120" y="214200"/>
          <a:ext cx="8501040" cy="6351840"/>
        </p:xfrm>
        <a:graphic>
          <a:graphicData uri="http://schemas.openxmlformats.org/drawingml/2006/table">
            <a:tbl>
              <a:tblPr/>
              <a:tblGrid>
                <a:gridCol w="1785960"/>
                <a:gridCol w="714600"/>
                <a:gridCol w="1143000"/>
                <a:gridCol w="191880"/>
                <a:gridCol w="522360"/>
                <a:gridCol w="142920"/>
                <a:gridCol w="928440"/>
                <a:gridCol w="571680"/>
                <a:gridCol w="142920"/>
                <a:gridCol w="906480"/>
                <a:gridCol w="14508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30+40+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лючен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/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лючено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+2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+2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90" name="Rectangle 3"/>
          <p:cNvGrpSpPr/>
          <p:nvPr/>
        </p:nvGrpSpPr>
        <p:grpSpPr>
          <a:xfrm>
            <a:off x="1036800" y="2243160"/>
            <a:ext cx="8173800" cy="4024440"/>
            <a:chOff x="1036800" y="2243160"/>
            <a:chExt cx="8173800" cy="4024440"/>
          </a:xfrm>
        </p:grpSpPr>
        <p:pic>
          <p:nvPicPr>
            <p:cNvPr id="391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40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1357200" y="2428920"/>
              <a:ext cx="7572600" cy="38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за якого витрати кожного обслуговуючого підрозділу розподіляються послідовно з урахуванням взаємних послуг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Rectangle 3"/>
          <p:cNvGrpSpPr/>
          <p:nvPr/>
        </p:nvGrpSpPr>
        <p:grpSpPr>
          <a:xfrm>
            <a:off x="255600" y="560520"/>
            <a:ext cx="8669160" cy="5827680"/>
            <a:chOff x="255600" y="560520"/>
            <a:chExt cx="8669160" cy="5827680"/>
          </a:xfrm>
        </p:grpSpPr>
        <p:pic>
          <p:nvPicPr>
            <p:cNvPr id="394" name="Rectangle 3" descr=""/>
            <p:cNvPicPr/>
            <p:nvPr/>
          </p:nvPicPr>
          <p:blipFill>
            <a:blip r:embed="rId1"/>
            <a:stretch/>
          </p:blipFill>
          <p:spPr>
            <a:xfrm>
              <a:off x="255600" y="560520"/>
              <a:ext cx="8669160" cy="58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00040" y="714240"/>
              <a:ext cx="8215200" cy="56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Розподіляємо взаємні послуги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і на витрати складу та ремонтного цеху (10%, 10%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клад: 200000 х 10% = 2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монтний цех : 200000 х 10% = 2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я: -40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Складу на витрати ремонтного цеху та їдальні (20%, 10%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монтний цех: 160000 х 20% = 32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Їдальня: 160000 х 10% = 16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клад: -48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0" y="1303200"/>
          <a:ext cx="9172440" cy="4480200"/>
        </p:xfrm>
        <a:graphic>
          <a:graphicData uri="http://schemas.openxmlformats.org/drawingml/2006/table">
            <a:tbl>
              <a:tblPr/>
              <a:tblGrid>
                <a:gridCol w="1643040"/>
                <a:gridCol w="1046160"/>
                <a:gridCol w="1255680"/>
                <a:gridCol w="920880"/>
                <a:gridCol w="1230120"/>
                <a:gridCol w="619200"/>
                <a:gridCol w="1214640"/>
                <a:gridCol w="124272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 (лише виробничі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2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6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/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6571,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44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6971,4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/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/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428,5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6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3028,5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0 +16000-40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6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-48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0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00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1" descr=""/>
          <p:cNvPicPr/>
          <p:nvPr/>
        </p:nvPicPr>
        <p:blipFill>
          <a:blip r:embed="rId1"/>
          <a:stretch/>
        </p:blipFill>
        <p:spPr>
          <a:xfrm>
            <a:off x="554040" y="646200"/>
            <a:ext cx="6535800" cy="89064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с двумя вырезанными противолежащими углами 20"/>
          <p:cNvSpPr/>
          <p:nvPr/>
        </p:nvSpPr>
        <p:spPr>
          <a:xfrm>
            <a:off x="1357200" y="1555920"/>
            <a:ext cx="7500960" cy="11523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галь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Штриховая стрелка вправо 21"/>
          <p:cNvSpPr/>
          <p:nvPr/>
        </p:nvSpPr>
        <p:spPr>
          <a:xfrm>
            <a:off x="357120" y="185256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с двумя вырезанными противолежащими углами 22"/>
          <p:cNvSpPr/>
          <p:nvPr/>
        </p:nvSpPr>
        <p:spPr>
          <a:xfrm>
            <a:off x="1357200" y="2917800"/>
            <a:ext cx="7500960" cy="13748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піль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Штриховая стрелка вправо 23"/>
          <p:cNvSpPr/>
          <p:nvPr/>
        </p:nvSpPr>
        <p:spPr>
          <a:xfrm>
            <a:off x="357120" y="3365640"/>
            <a:ext cx="785880" cy="49500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000"/>
              <a:gd name="textAreaBottom" fmla="*/ 371520 h 49500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с двумя вырезанными противолежащими углами 24"/>
          <p:cNvSpPr/>
          <p:nvPr/>
        </p:nvSpPr>
        <p:spPr>
          <a:xfrm>
            <a:off x="1357200" y="4422600"/>
            <a:ext cx="7500960" cy="13100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Накладні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25"/>
          <p:cNvSpPr/>
          <p:nvPr/>
        </p:nvSpPr>
        <p:spPr>
          <a:xfrm>
            <a:off x="357120" y="479736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98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399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витрат обслуговуючих підрозділів, що передбачає розподіл взаємних послуг шляхом розв'язання системи рівнянь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Rectangle 3"/>
          <p:cNvGrpSpPr/>
          <p:nvPr/>
        </p:nvGrpSpPr>
        <p:grpSpPr>
          <a:xfrm>
            <a:off x="255600" y="133200"/>
            <a:ext cx="8669160" cy="6328080"/>
            <a:chOff x="255600" y="133200"/>
            <a:chExt cx="8669160" cy="6328080"/>
          </a:xfrm>
        </p:grpSpPr>
        <p:pic>
          <p:nvPicPr>
            <p:cNvPr id="402" name="Rectangle 3" descr=""/>
            <p:cNvPicPr/>
            <p:nvPr/>
          </p:nvPicPr>
          <p:blipFill>
            <a:blip r:embed="rId1"/>
            <a:stretch/>
          </p:blipFill>
          <p:spPr>
            <a:xfrm>
              <a:off x="255600" y="133200"/>
              <a:ext cx="8669160" cy="632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285840"/>
              <a:ext cx="8215200" cy="61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ремонтного цеху = 240000 + 0,2 витрати складу + 0,1 витрати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60000 + 0,1 витрат їдальні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їдальні = 200000 + 0,1 витрат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Шляхом заміщення у другому рівнянні маємо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60000 + 0,1 (200000 + 0,1 витрат складу) = 160000 + 20000 + 0,01 витрат склад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складу = 181818,18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їдальні = 200000 + 0,1х 181818,18 = 218181,81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 ремонтного цеху = 298181,81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357120" y="214200"/>
          <a:ext cx="8690040" cy="5668920"/>
        </p:xfrm>
        <a:graphic>
          <a:graphicData uri="http://schemas.openxmlformats.org/drawingml/2006/table">
            <a:tbl>
              <a:tblPr/>
              <a:tblGrid>
                <a:gridCol w="1643040"/>
                <a:gridCol w="714600"/>
                <a:gridCol w="1143000"/>
                <a:gridCol w="785520"/>
                <a:gridCol w="1143000"/>
                <a:gridCol w="117720"/>
                <a:gridCol w="525240"/>
                <a:gridCol w="1165320"/>
                <a:gridCol w="1452600"/>
              </a:tblGrid>
              <a:tr h="6102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 споживач послуг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кл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монтний цех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ханіч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454,5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545,4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8727,26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8727,2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аль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9090,9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727,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9454,5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-328727,26=271272,7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Їдаль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81,8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монтний це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363,6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лад матеріал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8181,8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818,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98181,8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579600"/>
            <a:ext cx="7425000" cy="2577960"/>
          </a:xfrm>
          <a:prstGeom prst="rect">
            <a:avLst/>
          </a:prstGeom>
          <a:ln w="0">
            <a:noFill/>
          </a:ln>
        </p:spPr>
      </p:pic>
      <p:sp>
        <p:nvSpPr>
          <p:cNvPr id="406" name="Скругленный прямоугольник 11"/>
          <p:cNvSpPr/>
          <p:nvPr/>
        </p:nvSpPr>
        <p:spPr>
          <a:xfrm>
            <a:off x="1357200" y="3429000"/>
            <a:ext cx="6572520" cy="3071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ибір бази розподілу залежить від характеру діяльності та технології виробництв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одини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ашино-годин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плата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ямі матеріальні витра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ількість вироблен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-12600" y="109440"/>
            <a:ext cx="44193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08" name="Rectangle 3"/>
          <p:cNvGrpSpPr/>
          <p:nvPr/>
        </p:nvGrpSpPr>
        <p:grpSpPr>
          <a:xfrm>
            <a:off x="1579680" y="1255680"/>
            <a:ext cx="7588080" cy="2494080"/>
            <a:chOff x="1579680" y="1255680"/>
            <a:chExt cx="7588080" cy="2494080"/>
          </a:xfrm>
        </p:grpSpPr>
        <p:pic>
          <p:nvPicPr>
            <p:cNvPr id="409" name="Rectangle 3" descr=""/>
            <p:cNvPicPr/>
            <p:nvPr/>
          </p:nvPicPr>
          <p:blipFill>
            <a:blip r:embed="rId2"/>
            <a:stretch/>
          </p:blipFill>
          <p:spPr>
            <a:xfrm>
              <a:off x="1579680" y="1255680"/>
              <a:ext cx="758808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857240" y="1428840"/>
              <a:ext cx="707256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дукти, що мають відносно високу вартість продажу та не можуть бути окремо ідентифіковані до точки розділення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1" name="AutoShape 2" descr=""/>
          <p:cNvPicPr/>
          <p:nvPr/>
        </p:nvPicPr>
        <p:blipFill>
          <a:blip r:embed="rId3"/>
          <a:stretch/>
        </p:blipFill>
        <p:spPr>
          <a:xfrm>
            <a:off x="-12600" y="3749760"/>
            <a:ext cx="4419360" cy="1846080"/>
          </a:xfrm>
          <a:prstGeom prst="rect">
            <a:avLst/>
          </a:prstGeom>
          <a:ln w="0">
            <a:noFill/>
          </a:ln>
        </p:spPr>
      </p:pic>
      <p:grpSp>
        <p:nvGrpSpPr>
          <p:cNvPr id="412" name="Rectangle 3"/>
          <p:cNvGrpSpPr/>
          <p:nvPr/>
        </p:nvGrpSpPr>
        <p:grpSpPr>
          <a:xfrm>
            <a:off x="1579680" y="4919760"/>
            <a:ext cx="7588080" cy="1968480"/>
            <a:chOff x="1579680" y="4919760"/>
            <a:chExt cx="7588080" cy="1968480"/>
          </a:xfrm>
        </p:grpSpPr>
        <p:pic>
          <p:nvPicPr>
            <p:cNvPr id="413" name="Rectangle 3" descr=""/>
            <p:cNvPicPr/>
            <p:nvPr/>
          </p:nvPicPr>
          <p:blipFill>
            <a:blip r:embed="rId4"/>
            <a:stretch/>
          </p:blipFill>
          <p:spPr>
            <a:xfrm>
              <a:off x="1579680" y="4919760"/>
              <a:ext cx="75880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1857240" y="5094360"/>
              <a:ext cx="707256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Точка технологічного процесу, в якій є можливість відокремити спільні продукт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16" name="Rectangle 3"/>
          <p:cNvGrpSpPr/>
          <p:nvPr/>
        </p:nvGrpSpPr>
        <p:grpSpPr>
          <a:xfrm>
            <a:off x="1609560" y="2603520"/>
            <a:ext cx="7667640" cy="3449520"/>
            <a:chOff x="1609560" y="2603520"/>
            <a:chExt cx="7667640" cy="3449520"/>
          </a:xfrm>
        </p:grpSpPr>
        <p:pic>
          <p:nvPicPr>
            <p:cNvPr id="417" name="Rectangle 3" descr=""/>
            <p:cNvPicPr/>
            <p:nvPr/>
          </p:nvPicPr>
          <p:blipFill>
            <a:blip r:embed="rId2"/>
            <a:stretch/>
          </p:blipFill>
          <p:spPr>
            <a:xfrm>
              <a:off x="1609560" y="2603520"/>
              <a:ext cx="7667640" cy="34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1928880" y="2786040"/>
              <a:ext cx="7072200" cy="32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Витрати одного процесу, в результаті якого одночасно виробляється кілька продуктів, т.то витрати до точки розділенн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Скругленный прямоугольник 16"/>
          <p:cNvSpPr/>
          <p:nvPr/>
        </p:nvSpPr>
        <p:spPr>
          <a:xfrm>
            <a:off x="2050920" y="47628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ffff"/>
                </a:solidFill>
                <a:latin typeface="Arial"/>
              </a:rPr>
              <a:t>МОЛОКО ПАСТЕРИЗОВАНЕ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основ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Скругленный прямоугольник 8"/>
          <p:cNvSpPr/>
          <p:nvPr/>
        </p:nvSpPr>
        <p:spPr>
          <a:xfrm>
            <a:off x="2084400" y="2060640"/>
            <a:ext cx="5008680" cy="1081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МАСЛО СЕЛЯНСЬКЕ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основ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Скругленный прямоугольник 6"/>
          <p:cNvSpPr/>
          <p:nvPr/>
        </p:nvSpPr>
        <p:spPr>
          <a:xfrm>
            <a:off x="2155680" y="4653000"/>
            <a:ext cx="5008680" cy="1081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АХТ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побіч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Скругленный прямоугольник 7"/>
          <p:cNvSpPr/>
          <p:nvPr/>
        </p:nvSpPr>
        <p:spPr>
          <a:xfrm>
            <a:off x="2124000" y="3357720"/>
            <a:ext cx="5008680" cy="10792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АЗЕЇН ТЕХНІЧНИЙ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(побічний проду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Прямоугольник 11" descr=""/>
          <p:cNvPicPr/>
          <p:nvPr/>
        </p:nvPicPr>
        <p:blipFill>
          <a:blip r:embed="rId1"/>
          <a:stretch/>
        </p:blipFill>
        <p:spPr>
          <a:xfrm>
            <a:off x="244440" y="743040"/>
            <a:ext cx="1103400" cy="486576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13"/>
          <p:cNvSpPr/>
          <p:nvPr/>
        </p:nvSpPr>
        <p:spPr>
          <a:xfrm>
            <a:off x="7740720" y="765000"/>
            <a:ext cx="1008000" cy="482472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Загальновиробничі  витрат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Стрелка вправо 14"/>
          <p:cNvSpPr/>
          <p:nvPr/>
        </p:nvSpPr>
        <p:spPr>
          <a:xfrm>
            <a:off x="1476360" y="981000"/>
            <a:ext cx="43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Стрелка вправо 15"/>
          <p:cNvSpPr/>
          <p:nvPr/>
        </p:nvSpPr>
        <p:spPr>
          <a:xfrm>
            <a:off x="1476360" y="2276640"/>
            <a:ext cx="43164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Стрелка вправо 17"/>
          <p:cNvSpPr/>
          <p:nvPr/>
        </p:nvSpPr>
        <p:spPr>
          <a:xfrm>
            <a:off x="1547640" y="3573360"/>
            <a:ext cx="43200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трелка вправо 18"/>
          <p:cNvSpPr/>
          <p:nvPr/>
        </p:nvSpPr>
        <p:spPr>
          <a:xfrm>
            <a:off x="1547640" y="4797360"/>
            <a:ext cx="43200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трелка влево 23"/>
          <p:cNvSpPr/>
          <p:nvPr/>
        </p:nvSpPr>
        <p:spPr>
          <a:xfrm>
            <a:off x="7164360" y="1052640"/>
            <a:ext cx="432000" cy="57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трелка влево 24"/>
          <p:cNvSpPr/>
          <p:nvPr/>
        </p:nvSpPr>
        <p:spPr>
          <a:xfrm>
            <a:off x="7164360" y="2349360"/>
            <a:ext cx="432000" cy="57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Стрелка влево 25"/>
          <p:cNvSpPr/>
          <p:nvPr/>
        </p:nvSpPr>
        <p:spPr>
          <a:xfrm>
            <a:off x="7236000" y="3573360"/>
            <a:ext cx="431640" cy="5763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трелка влево 26"/>
          <p:cNvSpPr/>
          <p:nvPr/>
        </p:nvSpPr>
        <p:spPr>
          <a:xfrm>
            <a:off x="7236000" y="4869000"/>
            <a:ext cx="431640" cy="57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27"/>
          <p:cNvSpPr/>
          <p:nvPr/>
        </p:nvSpPr>
        <p:spPr>
          <a:xfrm>
            <a:off x="468360" y="5950080"/>
            <a:ext cx="8207280" cy="90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entury Gothic"/>
              </a:rPr>
              <a:t>Схема списання комплексних та загальновиробничих витра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1"/>
          <p:cNvGraphicFramePr/>
          <p:nvPr/>
        </p:nvGraphicFramePr>
        <p:xfrm>
          <a:off x="216000" y="71280"/>
          <a:ext cx="8677080" cy="602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71280"/>
                    <a:ext cx="8677080" cy="602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Скругленный прямоугольник 3"/>
          <p:cNvSpPr/>
          <p:nvPr/>
        </p:nvSpPr>
        <p:spPr>
          <a:xfrm>
            <a:off x="395280" y="6165720"/>
            <a:ext cx="8497800" cy="7923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entury Gothic"/>
              </a:rPr>
              <a:t>Схема виникнення витрат на продукцію ВАТ “Маслозаво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Object 1"/>
          <p:cNvGraphicFramePr/>
          <p:nvPr/>
        </p:nvGraphicFramePr>
        <p:xfrm>
          <a:off x="0" y="504720"/>
          <a:ext cx="8820000" cy="501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4720"/>
                    <a:ext cx="8820000" cy="50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Скругленный прямоугольник 3"/>
          <p:cNvSpPr/>
          <p:nvPr/>
        </p:nvSpPr>
        <p:spPr>
          <a:xfrm>
            <a:off x="395280" y="6165720"/>
            <a:ext cx="8497800" cy="7923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entury Gothic"/>
              </a:rPr>
              <a:t>Схема віднесення витрат на продукти ВАТ “Маслозаво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43812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43" name="Скругленный прямоугольник 16"/>
          <p:cNvSpPr/>
          <p:nvPr/>
        </p:nvSpPr>
        <p:spPr>
          <a:xfrm>
            <a:off x="3492360" y="2214720"/>
            <a:ext cx="5008680" cy="3375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вчення технології виробництва та побудова схеми виробничого процесу виникнення витрат на продукцію підприєм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трелка вправо с вырезом 10"/>
          <p:cNvSpPr/>
          <p:nvPr/>
        </p:nvSpPr>
        <p:spPr>
          <a:xfrm>
            <a:off x="571680" y="306864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395360" y="2457360"/>
            <a:ext cx="7888320" cy="2943360"/>
            <a:chOff x="1395360" y="2457360"/>
            <a:chExt cx="7888320" cy="294336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457360"/>
              <a:ext cx="788832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14680" y="2643120"/>
              <a:ext cx="7286400" cy="27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витрати на здійснення діяльності, що споживається кількома виробничими або обслуговуючими підрозділами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43812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3492360" y="221472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точок розді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трелка вправо с вырезом 10"/>
          <p:cNvSpPr/>
          <p:nvPr/>
        </p:nvSpPr>
        <p:spPr>
          <a:xfrm>
            <a:off x="571680" y="192888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8"/>
          <p:cNvSpPr/>
          <p:nvPr/>
        </p:nvSpPr>
        <p:spPr>
          <a:xfrm>
            <a:off x="3492360" y="386064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величини спільних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трелка вправо с вырезом 9"/>
          <p:cNvSpPr/>
          <p:nvPr/>
        </p:nvSpPr>
        <p:spPr>
          <a:xfrm>
            <a:off x="571680" y="385776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Прямоугольник 1" descr=""/>
          <p:cNvPicPr/>
          <p:nvPr/>
        </p:nvPicPr>
        <p:blipFill>
          <a:blip r:embed="rId1"/>
          <a:stretch/>
        </p:blipFill>
        <p:spPr>
          <a:xfrm>
            <a:off x="738360" y="152280"/>
            <a:ext cx="7905600" cy="1079640"/>
          </a:xfrm>
          <a:prstGeom prst="rect">
            <a:avLst/>
          </a:prstGeom>
          <a:ln w="0">
            <a:noFill/>
          </a:ln>
        </p:spPr>
      </p:pic>
      <p:sp>
        <p:nvSpPr>
          <p:cNvPr id="451" name="Скругленный прямоугольник 16"/>
          <p:cNvSpPr/>
          <p:nvPr/>
        </p:nvSpPr>
        <p:spPr>
          <a:xfrm>
            <a:off x="3492360" y="1482840"/>
            <a:ext cx="504036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бір методу розподілу спільних (комплексних)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трелка вправо с вырезом 10"/>
          <p:cNvSpPr/>
          <p:nvPr/>
        </p:nvSpPr>
        <p:spPr>
          <a:xfrm>
            <a:off x="571680" y="119700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кругленный прямоугольник 8"/>
          <p:cNvSpPr/>
          <p:nvPr/>
        </p:nvSpPr>
        <p:spPr>
          <a:xfrm>
            <a:off x="3492360" y="292428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витрат на виробництво кожного спільного продукту після точки розді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трелка вправо с вырезом 9"/>
          <p:cNvSpPr/>
          <p:nvPr/>
        </p:nvSpPr>
        <p:spPr>
          <a:xfrm>
            <a:off x="571680" y="3213000"/>
            <a:ext cx="2857320" cy="1656000"/>
          </a:xfrm>
          <a:custGeom>
            <a:avLst/>
            <a:gdLst>
              <a:gd name="textAreaLeft" fmla="*/ 413640 w 2857320"/>
              <a:gd name="textAreaRight" fmla="*/ 2443680 w 2857320"/>
              <a:gd name="textAreaTop" fmla="*/ 414000 h 1656000"/>
              <a:gd name="textAreaBottom" fmla="*/ 12420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342" y="5400"/>
                </a:lnTo>
                <a:lnTo>
                  <a:pt x="15342" y="0"/>
                </a:lnTo>
                <a:lnTo>
                  <a:pt x="21600" y="10800"/>
                </a:lnTo>
                <a:lnTo>
                  <a:pt x="15342" y="21600"/>
                </a:lnTo>
                <a:lnTo>
                  <a:pt x="15342" y="16200"/>
                </a:lnTo>
                <a:lnTo>
                  <a:pt x="0" y="16200"/>
                </a:lnTo>
                <a:lnTo>
                  <a:pt x="31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6"/>
          <p:cNvSpPr/>
          <p:nvPr/>
        </p:nvSpPr>
        <p:spPr>
          <a:xfrm>
            <a:off x="3524400" y="5370480"/>
            <a:ext cx="5008320" cy="13572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загальновиробничих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7"/>
          <p:cNvSpPr/>
          <p:nvPr/>
        </p:nvSpPr>
        <p:spPr>
          <a:xfrm>
            <a:off x="603360" y="4941720"/>
            <a:ext cx="2857320" cy="185760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600"/>
              <a:gd name="textAreaBottom" fmla="*/ 139320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6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Прямоугольник 1" descr=""/>
          <p:cNvPicPr/>
          <p:nvPr/>
        </p:nvPicPr>
        <p:blipFill>
          <a:blip r:embed="rId1"/>
          <a:stretch/>
        </p:blipFill>
        <p:spPr>
          <a:xfrm>
            <a:off x="841320" y="792000"/>
            <a:ext cx="7607520" cy="725760"/>
          </a:xfrm>
          <a:prstGeom prst="rect">
            <a:avLst/>
          </a:prstGeom>
          <a:ln w="0">
            <a:noFill/>
          </a:ln>
        </p:spPr>
      </p:pic>
      <p:sp>
        <p:nvSpPr>
          <p:cNvPr id="458" name="Скругленный прямоугольник 16"/>
          <p:cNvSpPr/>
          <p:nvPr/>
        </p:nvSpPr>
        <p:spPr>
          <a:xfrm>
            <a:off x="3492360" y="2214720"/>
            <a:ext cx="5008680" cy="13572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натуральних одиниць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трелка вправо с вырезом 10"/>
          <p:cNvSpPr/>
          <p:nvPr/>
        </p:nvSpPr>
        <p:spPr>
          <a:xfrm>
            <a:off x="571680" y="192888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На основі фізичного обсяг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Скругленный прямоугольник 8"/>
          <p:cNvSpPr/>
          <p:nvPr/>
        </p:nvSpPr>
        <p:spPr>
          <a:xfrm>
            <a:off x="3492360" y="3860640"/>
            <a:ext cx="5008680" cy="2305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вартості продаж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чистої вартості реаліза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етод валового прибутк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трелка вправо с вырезом 9"/>
          <p:cNvSpPr/>
          <p:nvPr/>
        </p:nvSpPr>
        <p:spPr>
          <a:xfrm>
            <a:off x="571680" y="3857760"/>
            <a:ext cx="2857320" cy="1857240"/>
          </a:xfrm>
          <a:custGeom>
            <a:avLst/>
            <a:gdLst>
              <a:gd name="textAreaLeft" fmla="*/ 464040 w 2857320"/>
              <a:gd name="textAreaRight" fmla="*/ 2393280 w 285732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0" y="16200"/>
                </a:lnTo>
                <a:lnTo>
                  <a:pt x="35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На основі ціни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463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464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Метод розподілу спільних витрат пропорційно фізичному обсягу спільних продуктів у точці розділення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467" name="Rectangle 3"/>
          <p:cNvGrpSpPr/>
          <p:nvPr/>
        </p:nvGrpSpPr>
        <p:grpSpPr>
          <a:xfrm>
            <a:off x="195120" y="933480"/>
            <a:ext cx="8826480" cy="5192640"/>
            <a:chOff x="195120" y="933480"/>
            <a:chExt cx="8826480" cy="5192640"/>
          </a:xfrm>
        </p:grpSpPr>
        <p:pic>
          <p:nvPicPr>
            <p:cNvPr id="468" name="Rectangle 3" descr=""/>
            <p:cNvPicPr/>
            <p:nvPr/>
          </p:nvPicPr>
          <p:blipFill>
            <a:blip r:embed="rId2"/>
            <a:stretch/>
          </p:blipFill>
          <p:spPr>
            <a:xfrm>
              <a:off x="195120" y="933480"/>
              <a:ext cx="8826480" cy="51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395280" y="1052640"/>
              <a:ext cx="846288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АТ “Житомирські ласощі” </a:t>
              </a: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иготовляє шоколадні вироби. Підприємство зерна какао переробляє на два проміжні продукти: рідку основу шоколадної пудри та рідку основу молочного шоколаду (одна точка розділення)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 250 кг зерен какао виготовляють 80 л рідкої основи шоколадної пудри та 120 л. рідкої основи молочного шоколаду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ідку основу шоколадної пудри далі переробляють на шоколадну пудру. З кожних 80 літрів основи шоколадної пудри виробляють 100 кг шоколадної пудри. Рідку основу молочного шоколаду переробляють на молочний шоколад. З кожних 120 л рідкої основи виробляють 170 кг молочного шоколаду.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471" name="Rectangle 3"/>
          <p:cNvGrpSpPr/>
          <p:nvPr/>
        </p:nvGrpSpPr>
        <p:grpSpPr>
          <a:xfrm>
            <a:off x="195120" y="785880"/>
            <a:ext cx="8826480" cy="3657600"/>
            <a:chOff x="195120" y="785880"/>
            <a:chExt cx="8826480" cy="3657600"/>
          </a:xfrm>
        </p:grpSpPr>
        <p:pic>
          <p:nvPicPr>
            <p:cNvPr id="472" name="Rectangle 3" descr=""/>
            <p:cNvPicPr/>
            <p:nvPr/>
          </p:nvPicPr>
          <p:blipFill>
            <a:blip r:embed="rId2"/>
            <a:stretch/>
          </p:blipFill>
          <p:spPr>
            <a:xfrm>
              <a:off x="195120" y="785880"/>
              <a:ext cx="88264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395280" y="907920"/>
              <a:ext cx="8462880" cy="34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 виробництво продукції було витрачено 2500 кг зерен какао. Спільні витрати на виробництво становили 50000 грн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альші витрати на переробку рідкої основи шоколадної пудри становили 11250 грн., а на переробку рідкої основи молочного шоколаду – 23750 грн.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ля проміжного продукту (рідкої основи) є активний ринок, на якому ціна рідкої основи шоколадної пудри дорівнює 21 грн. за л., а ціна рідкої основи молочного шоколаду – 26 грн. за л. Дані  по виробництву та реалізації за грудень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4" name=""/>
          <p:cNvGraphicFramePr/>
          <p:nvPr/>
        </p:nvGraphicFramePr>
        <p:xfrm>
          <a:off x="468360" y="4619520"/>
          <a:ext cx="8280360" cy="1905120"/>
        </p:xfrm>
        <a:graphic>
          <a:graphicData uri="http://schemas.openxmlformats.org/drawingml/2006/table">
            <a:tbl>
              <a:tblPr/>
              <a:tblGrid>
                <a:gridCol w="2735280"/>
                <a:gridCol w="1403280"/>
                <a:gridCol w="1765440"/>
                <a:gridCol w="2376360"/>
              </a:tblGrid>
              <a:tr h="7621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-во, кг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кг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продажу за одиницю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коладна пудр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лочний шокола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468360" y="1700280"/>
          <a:ext cx="8280360" cy="4572000"/>
        </p:xfrm>
        <a:graphic>
          <a:graphicData uri="http://schemas.openxmlformats.org/drawingml/2006/table">
            <a:tbl>
              <a:tblPr/>
              <a:tblGrid>
                <a:gridCol w="2068560"/>
                <a:gridCol w="2070000"/>
                <a:gridCol w="2070000"/>
                <a:gridCol w="2071800"/>
              </a:tblGrid>
              <a:tr h="190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виробництва в точці розділення, 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спільних продуктів у точці розділення, 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500/250)х80=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/2000х100 = 40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40%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2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0/250)х120=12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/2000х100=60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НАТУРАЛЬНИХ ОДИНИЦЬ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AutoShape 2" descr=""/>
          <p:cNvPicPr/>
          <p:nvPr/>
        </p:nvPicPr>
        <p:blipFill>
          <a:blip r:embed="rId1"/>
          <a:stretch/>
        </p:blipFill>
        <p:spPr>
          <a:xfrm>
            <a:off x="55440" y="68256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78" name="Rectangle 3"/>
          <p:cNvGrpSpPr/>
          <p:nvPr/>
        </p:nvGrpSpPr>
        <p:grpSpPr>
          <a:xfrm>
            <a:off x="1036800" y="2243160"/>
            <a:ext cx="8173800" cy="3451320"/>
            <a:chOff x="1036800" y="2243160"/>
            <a:chExt cx="8173800" cy="3451320"/>
          </a:xfrm>
        </p:grpSpPr>
        <p:pic>
          <p:nvPicPr>
            <p:cNvPr id="479" name="Rectangle 3" descr=""/>
            <p:cNvPicPr/>
            <p:nvPr/>
          </p:nvPicPr>
          <p:blipFill>
            <a:blip r:embed="rId2"/>
            <a:stretch/>
          </p:blipFill>
          <p:spPr>
            <a:xfrm>
              <a:off x="1036800" y="2243160"/>
              <a:ext cx="8173800" cy="34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357200" y="2428920"/>
              <a:ext cx="7572600" cy="32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пропорційно доходу від продажу кожного спільного продукту у точці розділенн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395280" y="1413000"/>
          <a:ext cx="8280360" cy="49528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2286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ід від реалізації спільних продуктів у точці розділення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доходу від реалізації кожного продукту, 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х21= 16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6800/48000)х100= 3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0,35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1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х26= 312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31200/48000)х100=6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ВАРТОСТІ ПРОДАЖУ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AutoShape 2" descr=""/>
          <p:cNvPicPr/>
          <p:nvPr/>
        </p:nvPicPr>
        <p:blipFill>
          <a:blip r:embed="rId1"/>
          <a:stretch/>
        </p:blipFill>
        <p:spPr>
          <a:xfrm>
            <a:off x="55440" y="590400"/>
            <a:ext cx="47055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84" name="Rectangle 3"/>
          <p:cNvGrpSpPr/>
          <p:nvPr/>
        </p:nvGrpSpPr>
        <p:grpSpPr>
          <a:xfrm>
            <a:off x="1109520" y="2273400"/>
            <a:ext cx="8028000" cy="3919320"/>
            <a:chOff x="1109520" y="2273400"/>
            <a:chExt cx="8028000" cy="3919320"/>
          </a:xfrm>
        </p:grpSpPr>
        <p:pic>
          <p:nvPicPr>
            <p:cNvPr id="485" name="Rectangle 3" descr=""/>
            <p:cNvPicPr/>
            <p:nvPr/>
          </p:nvPicPr>
          <p:blipFill>
            <a:blip r:embed="rId2"/>
            <a:stretch/>
          </p:blipFill>
          <p:spPr>
            <a:xfrm>
              <a:off x="1109520" y="2273400"/>
              <a:ext cx="8028000" cy="39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357200" y="2428920"/>
              <a:ext cx="757260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пропорційно чистій вартості реалізації спільних продуктів у точці розділення. Для обчислення очікуваної чистої вартості реалізації з вартості продажу готової продукції слід відняти відокремлені витрати й очікувані витрати на збу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285840" y="285840"/>
          <a:ext cx="8643960" cy="6370560"/>
        </p:xfrm>
        <a:graphic>
          <a:graphicData uri="http://schemas.openxmlformats.org/drawingml/2006/table">
            <a:tbl>
              <a:tblPr/>
              <a:tblGrid>
                <a:gridCol w="2832120"/>
                <a:gridCol w="2830320"/>
                <a:gridCol w="298152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клад загальних витрат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ожлива база розподілу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ористання засобів прац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мортизаці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рахуванн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тримання устаткува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ількість необоротних активів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ількість  машино-годин роботи обладнання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користання спільної площ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 будинк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трахування будівл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алення та освітлення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, яку займає підрозді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539640" y="1454040"/>
          <a:ext cx="8136000" cy="5112000"/>
        </p:xfrm>
        <a:graphic>
          <a:graphicData uri="http://schemas.openxmlformats.org/drawingml/2006/table">
            <a:tbl>
              <a:tblPr/>
              <a:tblGrid>
                <a:gridCol w="1440000"/>
                <a:gridCol w="1469880"/>
                <a:gridCol w="978120"/>
                <a:gridCol w="1152360"/>
                <a:gridCol w="1440000"/>
                <a:gridCol w="1655640"/>
              </a:tblGrid>
              <a:tr h="17589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ікуваний дохід від продажу кінцевих продуктів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кремлен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ВР у точці розділен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тома вага ЧВР спільного продукт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= 2-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. пудр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х30= 3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 (з умов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-11250= 187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18750/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000) х 100 = 29.7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976= 148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. шоколаду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 х 40 = 6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7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000-23750= 442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4250/ 63000) х 100 = 70,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1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Прямоугольник 2"/>
          <p:cNvSpPr/>
          <p:nvPr/>
        </p:nvSpPr>
        <p:spPr>
          <a:xfrm>
            <a:off x="900000" y="476280"/>
            <a:ext cx="7417080" cy="72072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ЧИСТОЇ ВАРТОСТІ РЕАЛІЗА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AutoShape 2" descr=""/>
          <p:cNvPicPr/>
          <p:nvPr/>
        </p:nvPicPr>
        <p:blipFill>
          <a:blip r:embed="rId1"/>
          <a:stretch/>
        </p:blipFill>
        <p:spPr>
          <a:xfrm>
            <a:off x="55440" y="590400"/>
            <a:ext cx="4705560" cy="1933560"/>
          </a:xfrm>
          <a:prstGeom prst="rect">
            <a:avLst/>
          </a:prstGeom>
          <a:ln w="0">
            <a:noFill/>
          </a:ln>
        </p:spPr>
      </p:pic>
      <p:grpSp>
        <p:nvGrpSpPr>
          <p:cNvPr id="490" name="Rectangle 3"/>
          <p:cNvGrpSpPr/>
          <p:nvPr/>
        </p:nvGrpSpPr>
        <p:grpSpPr>
          <a:xfrm>
            <a:off x="1096920" y="2273400"/>
            <a:ext cx="8053560" cy="2841480"/>
            <a:chOff x="1096920" y="2273400"/>
            <a:chExt cx="8053560" cy="2841480"/>
          </a:xfrm>
        </p:grpSpPr>
        <p:pic>
          <p:nvPicPr>
            <p:cNvPr id="491" name="Rectangle 3" descr=""/>
            <p:cNvPicPr/>
            <p:nvPr/>
          </p:nvPicPr>
          <p:blipFill>
            <a:blip r:embed="rId2"/>
            <a:stretch/>
          </p:blipFill>
          <p:spPr>
            <a:xfrm>
              <a:off x="1096920" y="2273400"/>
              <a:ext cx="8053560" cy="28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357200" y="2428920"/>
              <a:ext cx="7572600" cy="26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entury Gothic"/>
                </a:rPr>
                <a:t>метод розподілу спільних витрат з використання сталого відсотку валового прибутку, що застосовується для кожного спільного продукт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"/>
          <p:cNvGraphicFramePr/>
          <p:nvPr/>
        </p:nvGraphicFramePr>
        <p:xfrm>
          <a:off x="395280" y="1413000"/>
          <a:ext cx="8353440" cy="4876560"/>
        </p:xfrm>
        <a:graphic>
          <a:graphicData uri="http://schemas.openxmlformats.org/drawingml/2006/table">
            <a:tbl>
              <a:tblPr/>
              <a:tblGrid>
                <a:gridCol w="1463760"/>
                <a:gridCol w="1253880"/>
                <a:gridCol w="1311480"/>
                <a:gridCol w="1587600"/>
                <a:gridCol w="1439640"/>
                <a:gridCol w="1297080"/>
              </a:tblGrid>
              <a:tr h="18298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міжні продук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чікуваний дохід від продажу готового продукт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овий прибуток на основі відсотка валового прибутк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реаліз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кремлені витрати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ільні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=п2х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=2-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=4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шоколадної пудр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х30= 3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х13,27% =3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0-3981 = 26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25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019 – 11250 = 147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ідка основа молочного шоколад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00 х 40 = 6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000-9019= 589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981-23750 = 35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Прямоугольник 2"/>
          <p:cNvSpPr/>
          <p:nvPr/>
        </p:nvSpPr>
        <p:spPr>
          <a:xfrm>
            <a:off x="611280" y="333360"/>
            <a:ext cx="7416720" cy="719280"/>
          </a:xfrm>
          <a:prstGeom prst="rec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МЕТОД ВАЛОВОГО ПРИБУТК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Rectangle 3"/>
          <p:cNvGrpSpPr/>
          <p:nvPr/>
        </p:nvGrpSpPr>
        <p:grpSpPr>
          <a:xfrm>
            <a:off x="244440" y="317520"/>
            <a:ext cx="8753400" cy="6308640"/>
            <a:chOff x="244440" y="317520"/>
            <a:chExt cx="8753400" cy="6308640"/>
          </a:xfrm>
        </p:grpSpPr>
        <p:pic>
          <p:nvPicPr>
            <p:cNvPr id="496" name="Rectangle 3" descr=""/>
            <p:cNvPicPr/>
            <p:nvPr/>
          </p:nvPicPr>
          <p:blipFill>
            <a:blip r:embed="rId1"/>
            <a:stretch/>
          </p:blipFill>
          <p:spPr>
            <a:xfrm>
              <a:off x="244440" y="317520"/>
              <a:ext cx="8753400" cy="63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500040" y="476280"/>
              <a:ext cx="8215200" cy="61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ИЗНАЧЕННЯ ЗАГАЛЬНОГО ВІДСОТКА ВАЛОВОГО ПРИБУТК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чікуваний валовий прибуток дорівнює різниці між ЧД- собівартість (загальні витрати на виробництво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1000х30 + 1700х40) – 50000 – 11250 – 23750 = 1300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ідсоток  валового прибутку розраховується як співвідношення валового прибутку до загального доходу від реалізації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000/98000 (очікувана вартість продажу кінцевого продукту) = 0,1327=13,27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9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317520"/>
            <a:ext cx="653436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Стрелка вправо с вырезом 20"/>
          <p:cNvSpPr/>
          <p:nvPr/>
        </p:nvSpPr>
        <p:spPr>
          <a:xfrm>
            <a:off x="714240" y="2138400"/>
            <a:ext cx="1285920" cy="65412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4120"/>
              <a:gd name="textAreaBottom" fmla="*/ 490680 h 654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кругленный прямоугольник 16"/>
          <p:cNvSpPr/>
          <p:nvPr/>
        </p:nvSpPr>
        <p:spPr>
          <a:xfrm>
            <a:off x="2357280" y="20667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загальних витрат між підрозділа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трелка вправо с вырезом 4"/>
          <p:cNvSpPr/>
          <p:nvPr/>
        </p:nvSpPr>
        <p:spPr>
          <a:xfrm>
            <a:off x="1241280" y="407052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Скругленный прямоугольник 5"/>
          <p:cNvSpPr/>
          <p:nvPr/>
        </p:nvSpPr>
        <p:spPr>
          <a:xfrm>
            <a:off x="2884320" y="3578400"/>
            <a:ext cx="5143680" cy="179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витрат обслуговуючих підрозділів між виробничими підрозділами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трелка вправо с вырезом 13"/>
          <p:cNvSpPr/>
          <p:nvPr/>
        </p:nvSpPr>
        <p:spPr>
          <a:xfrm>
            <a:off x="1692360" y="5732640"/>
            <a:ext cx="1285920" cy="653760"/>
          </a:xfrm>
          <a:custGeom>
            <a:avLst/>
            <a:gdLst>
              <a:gd name="textAreaLeft" fmla="*/ 163440 w 1285920"/>
              <a:gd name="textAreaRight" fmla="*/ 1122480 w 1285920"/>
              <a:gd name="textAreaTop" fmla="*/ 163440 h 653760"/>
              <a:gd name="textAreaBottom" fmla="*/ 490320 h 65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07" y="5400"/>
                </a:lnTo>
                <a:lnTo>
                  <a:pt x="16107" y="0"/>
                </a:lnTo>
                <a:lnTo>
                  <a:pt x="21600" y="10800"/>
                </a:lnTo>
                <a:lnTo>
                  <a:pt x="16107" y="21600"/>
                </a:lnTo>
                <a:lnTo>
                  <a:pt x="16107" y="16200"/>
                </a:lnTo>
                <a:lnTo>
                  <a:pt x="0" y="16200"/>
                </a:lnTo>
                <a:lnTo>
                  <a:pt x="274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4"/>
          <p:cNvSpPr/>
          <p:nvPr/>
        </p:nvSpPr>
        <p:spPr>
          <a:xfrm>
            <a:off x="3348000" y="5738760"/>
            <a:ext cx="51436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поділ витрат між продукціє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кругленный прямоугольник 16"/>
          <p:cNvSpPr/>
          <p:nvPr/>
        </p:nvSpPr>
        <p:spPr>
          <a:xfrm>
            <a:off x="1116000" y="1341360"/>
            <a:ext cx="6384960" cy="3095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РОЗПОДІЛ ЗАГАЛЬНИХ ВИТРАТ МІЖ ПІДРОЗДІЛА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-12600" y="139680"/>
            <a:ext cx="4419360" cy="100656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969840" y="871560"/>
            <a:ext cx="8167680" cy="5254560"/>
            <a:chOff x="969840" y="871560"/>
            <a:chExt cx="8167680" cy="525456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969840" y="871560"/>
              <a:ext cx="816768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285920" y="1052640"/>
              <a:ext cx="757224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Дизайнерський відділ та цех пошиття розташовані в одній будівлі загальною площею – 24000 кв.м. Загальна площа приміщень дизайнерського відділу – 18000 кв.м. Загальні витрати на утримання будівлі становлять 300 000 грн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-12600" y="407880"/>
            <a:ext cx="4419360" cy="10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285840" y="1519200"/>
          <a:ext cx="8643960" cy="4345200"/>
        </p:xfrm>
        <a:graphic>
          <a:graphicData uri="http://schemas.openxmlformats.org/drawingml/2006/table">
            <a:tbl>
              <a:tblPr/>
              <a:tblGrid>
                <a:gridCol w="2428920"/>
                <a:gridCol w="1500120"/>
                <a:gridCol w="2498760"/>
                <a:gridCol w="2216160"/>
              </a:tblGrid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ідрозді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лоща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оефіцієнт розподілу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утримання будівлі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з. відді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 /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 000 = 12,5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5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4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ех пошиття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 0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4-04T07:33:32Z</dcterms:modified>
  <cp:revision>251</cp:revision>
  <dc:subject/>
  <dc:title>Слайд 1</dc:title>
</cp:coreProperties>
</file>