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FCE-6827-4B23-ACD5-83BC2008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D21-DF9E-4E18-BE67-441D4F42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9D68-C45A-4B9B-A36F-89F78878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C65B5-7D2D-4C9D-B244-FE53788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08AE4-68F5-4CFF-A5F4-F19D2261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6F700-FF10-47B1-8939-B15DBECC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ED54-2263-48EA-A293-95FD5552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5A019-0DD0-41E9-8BA8-F3533969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CAE05-FC6D-41DE-9E4F-5CF46C9C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EA0D-4D02-486E-89FD-94B21A2B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C26F1-398E-406E-B5A4-443FF00C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92A-8ED6-4F92-8808-50C49399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782-D0F0-4711-8B3D-61B8CD8E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F15D-ED8E-430B-AF0A-A389CE2A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6A47-0333-4B6E-BF40-E5391E99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5B5-3E6C-4242-B8FD-D8D627A9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9F42-EEFD-48A0-83FC-47F774FC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CEF5-6025-4D92-ABD8-8683D3D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7DD9-E64C-43E7-912F-279D9748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9040-B3A9-416A-8499-C021FDDD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DB6-7A81-4D1B-82D5-5EFC5B79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21F6-8102-49CC-8B96-06F4D65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37D2-C103-4908-9AA0-2DBD2D9F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F8C3-5813-4352-8EB6-DFE2FD3E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C6E9-603D-4983-B6EB-A1D5A5AA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5CB7-D674-443B-9D9A-F37425FD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9441-06DE-4360-9FB1-3F800BF6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EBF2-E1DD-4334-83B5-0B06AA62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0A0C-87A5-400E-BCC4-E99F4C7E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A5A9-420A-469F-9AB4-4557DE77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E8B7-F3EA-4AA0-8771-2334D98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1D9-2E88-44C5-B243-006BD6E1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F690-7186-4D1F-81E3-220222A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23C6-11D4-4D66-9D30-D446D08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85E1-4B39-4524-854E-D2002E7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F480-373A-48D6-9F2F-5BE6A89E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5F7CF-FA46-4CBF-A039-1AFFF7A3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08478-00C3-4719-8258-82C9132E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624A-60FD-4528-B519-0D80603C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C319-C288-4E16-9C4A-90C0336A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5D41-9FEC-4E2A-A8F3-F11C9ABF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194F-F684-48D8-AC89-2E79C7B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B84-F73D-43E0-B718-3E0FA64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F578-E714-4F25-8218-B3E558A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3C2BC-4DD4-41C6-8A5B-0134BFF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DD1D3-138A-49E4-AF4B-F116054B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F4B9-EC7D-4AD0-A8D4-6C7B80F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81B8-F49A-4D2B-93B7-4EAA330D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6FEA-BEBD-4253-9970-CE105BC3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2829-23B8-4A4F-92B6-E133E6F7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7E06-FDC3-486E-AEBC-38587056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DA9F-ECB1-4048-B506-7600928A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D030-4541-402D-A3C1-B505221B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8C0-0E02-4035-90AD-9D4AD8CC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DAFCE-1787-4DE3-B293-E91D385C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8EA4F-824A-4880-B926-A04F9688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E3DA3-7D39-4547-9D71-64E4B499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72205-A069-4931-935B-9E0AA400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8DF1A-F9DB-469E-8B10-A1B0AD6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7050-DCC7-401C-AA69-E829CB2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B109-F9C5-47A9-972F-491786DC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B50D8-2D22-426D-A12C-F718609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3FBAC-6CE5-41E4-93E7-C5AC1B66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D614-9803-427B-957D-A314ECDB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1E8-90BD-4B5C-829C-7A45947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7D7A7-20C3-421C-8F73-7D896A21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B4DE-E0FF-47C9-9C93-F0059924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E327C-0B92-472D-A9D8-88A600B0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02A60-7BE6-4E79-9EEB-C17DFEB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D6B72-8265-4322-86C9-075D1B22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5DE1-5A9D-4674-88A9-AB538EA5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70A0-B426-4089-8A2F-678B8271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9A04-6DEB-4314-9E90-C31332D3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1088-47CB-4D0F-B682-DED5C47D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22A3-E48D-4091-865E-2163BAD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F1FA-90D5-41AA-8C05-E14A1DFC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C3A8-9904-46A5-946C-6EA157C4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636F-976E-4DC6-87AF-9227C550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BC833-CF6E-4F3A-B7AF-01B670E8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15A0D-C89F-4F5D-A463-96DA8722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5998-3F08-44E3-9BFE-2B6D187A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B85E-FF7F-41B9-AB5F-90E8A1E9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849C-0D0A-4688-8869-1425D7E4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3631-34D2-426E-B0A6-A7066738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E8700-B883-40F3-A0BC-48D3C8B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611F4-2980-440B-92D7-E4FCE51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468-A556-4275-8ADC-4660D55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5C028-203B-47C1-8CD4-A9C79E19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8669-9F4A-4560-B51B-121655D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2F159-BAB3-4113-A249-66B27674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76419-EC2D-4BC9-88FB-16EBA7CE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21702-CD83-49E9-B8EC-254E5718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6B9A-5934-42A9-A9F6-C5267499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815EE-1A22-4A25-99B7-F0E40DB7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F47A-A1A7-44E3-9245-1BAB789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7A397-CD2A-4694-A861-32468745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16362-3C9B-4165-9A3B-4202870D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300-BAFE-4981-87E1-2924BF9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2AD65-E203-4578-8A7D-B789ABD1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1AC0-13BF-4A41-BFF3-954E93C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D2C6-2838-462F-A642-11908891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8941D-80FD-4E8B-A5B3-741F6C59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720D-E54D-4E32-861E-849A16F4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A53D-49A8-4699-A8BB-CA54D596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3D735-2433-40B8-B4F2-316D78F9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F028F-4936-48AC-BF7C-44BC2DCA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894F1-89B4-41AD-9770-3A7786C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E877-5E1A-475F-A92E-5C59918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EC12-9EB7-405F-83A5-6DCA2337639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46240" y="2614680"/>
            <a:ext cx="6875280" cy="123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9D9C-9409-4CE8-B533-29AFD79DB22D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B4D1-1849-48C0-B0B8-7DEFBD02B199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9F2D-AE60-4E75-BB61-0F51AEBDC8BD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BE8-1369-4EED-A4E6-9E915C1D333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1CB9-FCBF-4B49-BFB3-4FF731A80379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38FE-4C59-4B6A-8362-AF553B0C1F7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B79E-F38A-43EC-B88A-1B7D1F4B605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2975-7AAE-491C-AEA9-F02AE361A8F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817560" y="901800"/>
            <a:ext cx="7504200" cy="2225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268360" y="530028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Лектор: Назаренко Т. П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1" descr="C:\Users\User\Desktop\слайди\audit-sajta.png"/>
          <p:cNvPicPr/>
          <p:nvPr/>
        </p:nvPicPr>
        <p:blipFill>
          <a:blip r:embed="rId2"/>
          <a:stretch/>
        </p:blipFill>
        <p:spPr>
          <a:xfrm>
            <a:off x="-181080" y="3716280"/>
            <a:ext cx="3067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755280" y="2133360"/>
            <a:ext cx="77612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Залежно від обраного способу організації перевірки аудитор складає програму перевірки, де встановлює перелік аудиторських процедур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які б дали змогу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достовірність первинних даних БО щодо фактичної наявності та руху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овноту і своєчасність відображення первинних даних з обліку запасів у зведених документах та реєстрах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едення обліку запасів відповідно до чинних законодавчих і нормативних актів, облікової політики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стан збереження запасів у суб’єкта господарювання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ідтвердити або спростувати показники фінансової звітності суб’єкта господарювання, які залежать від достовірності, повноти, й своєчасності відображення господарських операцій, пов’язаних із рухо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1080" indent="-361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75656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Програма аудиту виробничих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3"/>
          <p:cNvSpPr/>
          <p:nvPr/>
        </p:nvSpPr>
        <p:spPr>
          <a:xfrm>
            <a:off x="3780000" y="189000"/>
            <a:ext cx="50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ська фірма 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о ______________________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 перевірки 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у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чих запасі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79280" y="2071800"/>
          <a:ext cx="8785440" cy="463392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172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відповідність даних аналітичного обліку даним синтетичного обліку, даним Головної книги, звітност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фактичну наявність запасів, перевірити організацію складського господарства, стан збереже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овноту оприбуткування запасів при наявності документів, які підтверджують їх придб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організацію контролю за зберіганням , використанням і погашенням довірено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ити правильність оформлення надходження та спис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заємна звірка даних матеріального звіту та накладних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вірка віднесення в підзвіт окремими особами відпущених запасі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ити кореспонденцію рахунків на відпускання запасів у Головній книз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rowSpan="3"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законність списання запасів при витрата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римання встановленого порядку оформленн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еревірка правильності застосування природного убут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дотримання лімітів із відпускання запасі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устрічна перевірка ліміто-забірних карт із докуменами на витрача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чити стан матеріальної відповідальності за шкоду, заподіяну підприємств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ити правильність відображення в обліку операцій із спис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87440" y="62064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довження програми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179280" y="2276640"/>
          <a:ext cx="8785440" cy="2052360"/>
        </p:xfrm>
        <a:graphic>
          <a:graphicData uri="http://schemas.openxmlformats.org/drawingml/2006/table">
            <a:tbl>
              <a:tblPr/>
              <a:tblGrid>
                <a:gridCol w="466920"/>
                <a:gridCol w="5438520"/>
                <a:gridCol w="935280"/>
                <a:gridCol w="1224000"/>
                <a:gridCol w="720720"/>
              </a:tblGrid>
              <a:tr h="2044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ерелік аудиторських процед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Виконаве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4b1004"/>
                          </a:solidFill>
                          <a:latin typeface="Times New Roman"/>
                        </a:rPr>
                        <a:t>Терміни перевір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4b1004"/>
                          </a:solidFill>
                          <a:latin typeface="Times New Roman"/>
                          <a:ea typeface="Calibri"/>
                        </a:rPr>
                        <a:t>Примі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, який із методів оцінки запасів при відпусканні їх у виробництво, продаж або інше вибуття застосовується на підприємстві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згідно з наказом про облікову політик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акти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ити достовірність даних за залишками запасів у фінансовій звітност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вання реєстрів виявлених поруш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0" bIns="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"/>
          <p:cNvSpPr txBox="1"/>
          <p:nvPr/>
        </p:nvSpPr>
        <p:spPr>
          <a:xfrm>
            <a:off x="394920" y="4437000"/>
            <a:ext cx="77454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кла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вірив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знайомився: Прізвище Ім</a:t>
            </a:r>
            <a:r>
              <a:rPr b="0" lang="en-US" sz="1800" spc="-1" strike="noStrike">
                <a:solidFill>
                  <a:srgbClr val="262626"/>
                </a:solidFill>
                <a:latin typeface="Book Antiqua"/>
              </a:rPr>
              <a:t>`</a:t>
            </a:r>
            <a:r>
              <a:rPr b="0" lang="uk-UA" sz="1800" spc="-1" strike="noStrike">
                <a:solidFill>
                  <a:srgbClr val="262626"/>
                </a:solidFill>
                <a:latin typeface="Times New Roman"/>
              </a:rPr>
              <a:t>я По батькові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виробничих запасів здійснюється з таких джерел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ід постачальників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результаті обміну на подібні (неподібні) активи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безоплатне отримання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надлишків у результаті інвентаризації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з власного виробництва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як внесок у статутний капітал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придбання через підзвітних осіб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інше надходження (зворотні відходи, оприбуткування цінностей внаслідок ліквідації основних засобів, МШП).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Надходження цінностей від постачальників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перевіряється за первинними документами, до яких належать накладна, рахунок, рахунок-фактура, товарно-транспортна накладна, прибутковий ордер, картка складського обліку, податкова накладна; за регістрами синтетичного і аналітичного обліку: матеріальний звіт, оборотна відомість, журнал 3, відомості 3.3, 3.5. У випадку доставки матеріальних цінностей власним транспортним засобом перевірці підлягають шляхові листи, журнал обліку виданих довіреностей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7547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56" name="Заголовок 2"/>
          <p:cNvSpPr/>
          <p:nvPr/>
        </p:nvSpPr>
        <p:spPr>
          <a:xfrm>
            <a:off x="684360" y="1268280"/>
            <a:ext cx="775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1 Аудит надходження виробничих запасів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4000" y="2637000"/>
            <a:ext cx="7745400" cy="26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рівняння даних складського, бухгалтерського обліку проводиться перевірка стану розрахунків з постачальниками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вірку, яку залучають видаткові касові ордери, платіжні документи, виписки банків, дані журналів 1, 3 та відомостей 1.1, 1.2, 3.3, 3.5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95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При здійсненні перевірки </a:t>
            </a:r>
            <a:br>
              <a:rPr sz="4000"/>
            </a:br>
            <a:r>
              <a:rPr b="0" i="1" lang="uk-UA" sz="4000" spc="-1" strike="noStrike">
                <a:solidFill>
                  <a:srgbClr val="895d1d"/>
                </a:solidFill>
                <a:latin typeface="Times New Roman"/>
              </a:rPr>
              <a:t>звертається увага на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9040" y="259920"/>
            <a:ext cx="77565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b1004"/>
                </a:solidFill>
                <a:latin typeface="Times New Roman"/>
              </a:rPr>
              <a:t>На підставі договорів поставки, специфікацій, накладних постачальників, актів приймання МПЗ, первинних документів складського обліку аудитори відповідають на наведені нижче питання. При позитивній відповіді на деякі питання необхідне проведення додаткових процедур.</a:t>
            </a:r>
            <a:r>
              <a:rPr b="0" lang="ru-RU" sz="2000" spc="-1" strike="noStrike">
                <a:solidFill>
                  <a:srgbClr val="d4745e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1" name="Таблица 3" descr=""/>
          <p:cNvPicPr/>
          <p:nvPr/>
        </p:nvPicPr>
        <p:blipFill>
          <a:blip r:embed="rId1"/>
          <a:stretch/>
        </p:blipFill>
        <p:spPr>
          <a:xfrm>
            <a:off x="828720" y="1981080"/>
            <a:ext cx="72723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98040" y="2247480"/>
            <a:ext cx="81946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дотримання на підприємстві порядку приймання і оформлення документів, що підтверджують факт надходження матеріал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бліку та оцінки матеріалів, що надійшли від постачальників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 і своєчасність оприбуткування запасів у відповідності з документами постачальника (здійснюється з метою виявлення випадків неповного оприбуткування або повного неоприбуткування  запасів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відповідність якості одержаних запасів характеристикам, що вказані в прибуткових документах, сертифікатах якості, лабораторних аналізах тощо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 оформлення актів на приймання запасів (у випадку, коли якісні або кількісні характеристики матеріалів, що надійшли, не відповідають тим, що вказані в супроводжувальних документах)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равильність, повнота та своєчасність оприбуткування запасів, придбаних підзвітними особами;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26"/>
                </a:solidFill>
                <a:latin typeface="Times New Roman"/>
              </a:rPr>
              <a:t>повнота, своєчасність і правильність оприбуткування матеріалів від ліквідації основних засобів та малоцінних необоротних активів тощо.</a:t>
            </a: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425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547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</a:rPr>
              <a:t>Аудит повноти, своєчасності та правильності оприбуткування  запасів передбачає вивчення таких питань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9040" y="189000"/>
            <a:ext cx="77565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95d1d"/>
                </a:solidFill>
                <a:latin typeface="Times New Roman"/>
              </a:rPr>
              <a:t>Під час проведення інвентаризації аудитор не може бути членом інвентаризаційної комісії, але, спостерігаючи за її роботою може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1. спостерігати за виконанням процедур інвентаризації;</a:t>
            </a:r>
            <a:br>
              <a:rPr sz="1800"/>
            </a:b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2. перевірити правильність підрахунку на основі випадкової вибірки;</a:t>
            </a:r>
            <a:br>
              <a:rPr sz="1800"/>
            </a:b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65" name="Picture 2" descr="http://textreferat.com.ua/images/291324_image021.gif"/>
          <p:cNvPicPr/>
          <p:nvPr/>
        </p:nvPicPr>
        <p:blipFill>
          <a:blip r:embed="rId1"/>
          <a:stretch/>
        </p:blipFill>
        <p:spPr>
          <a:xfrm>
            <a:off x="1116000" y="1916280"/>
            <a:ext cx="6912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5d1d"/>
                </a:solidFill>
                <a:latin typeface="Times New Roman"/>
              </a:rPr>
              <a:t>У випадках придбання запасів аудитору необхідно звернути особливу увагу на дотримання податкового законодавства (порядку нарахування і сплати ПДВ тощо). В цілому результати аудиту повноти і своєчасності оприбуткування запасів доцільно відображати у робочому документі наступного виду (приклад)</a:t>
            </a:r>
            <a:endParaRPr b="0" lang="en-US" sz="18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95280" y="2060640"/>
          <a:ext cx="8497800" cy="1928880"/>
        </p:xfrm>
        <a:graphic>
          <a:graphicData uri="http://schemas.openxmlformats.org/drawingml/2006/table">
            <a:tbl>
              <a:tblPr/>
              <a:tblGrid>
                <a:gridCol w="4032360"/>
                <a:gridCol w="4465440"/>
              </a:tblGrid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обочого документу 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eb79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скла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Марченко Т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Д Перевірив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Степовий П. 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удит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бірк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aeb79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95280" y="4076640"/>
          <a:ext cx="8424720" cy="2509920"/>
        </p:xfrm>
        <a:graphic>
          <a:graphicData uri="http://schemas.openxmlformats.org/drawingml/2006/table">
            <a:tbl>
              <a:tblPr/>
              <a:tblGrid>
                <a:gridCol w="897120"/>
                <a:gridCol w="1226880"/>
                <a:gridCol w="1227240"/>
                <a:gridCol w="817560"/>
                <a:gridCol w="826920"/>
                <a:gridCol w="827280"/>
                <a:gridCol w="658800"/>
                <a:gridCol w="1295280"/>
                <a:gridCol w="647640"/>
              </a:tblGrid>
              <a:tr h="525600">
                <a:tc gridSpan="9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БІРКА СВОЄЧАСНОСТІ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УВАННЯ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рахунку 20 «Виробничі запаси» (203 «Паливо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04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ображено в облі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хилен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пасі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рахун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, від 12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6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ибутковано на наступний д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1 від 23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варно-транспортна наклад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3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 первісної вартості помилкововключено до П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иво А-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55280" y="1989000"/>
            <a:ext cx="7745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1004"/>
                </a:solidFill>
                <a:latin typeface="Times New Roman"/>
              </a:rPr>
              <a:t>Списання запасів із балансу згідно П(с)БО 9 відбувається у таких випадках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ускання у виробництво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алізація за грошові кошти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едача до статутного капіталу іншого підприємства; безоплатна передача; 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через витрати від стихійного лиха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исання недостач у межах норм і понад норм природного убутку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1004"/>
                </a:solidFill>
                <a:latin typeface="Times New Roman"/>
              </a:rPr>
              <a:t>При списанні матеріалів у виробництво проводимо документальну перевірку, яка дає змогу встановити: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норм у документах на списання нормативним актам;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відповідність кількості фактично списаної сировини витрачанню цієї сировини за нормами.</a:t>
            </a:r>
            <a:endParaRPr b="0" lang="en-US" sz="1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565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3.2 Аудит вибуття виробничих запасів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79280" y="2204640"/>
            <a:ext cx="73454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Мета,завдання та джерела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Послідовність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 Загальна методика проведення аудиту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1 Аудит надходженн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3.2 Аудит вибуття виробничих запасів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4. Узагальнення результатів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(Аудиторський висновок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912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95d1d"/>
                </a:solidFill>
                <a:latin typeface="Times New Roman"/>
              </a:rPr>
              <a:t>У лекції розглядаються наступні питання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29" name="Shape 32" descr=""/>
          <p:cNvPicPr/>
          <p:nvPr/>
        </p:nvPicPr>
        <p:blipFill>
          <a:blip r:embed="rId1"/>
          <a:stretch/>
        </p:blipFill>
        <p:spPr>
          <a:xfrm>
            <a:off x="6032520" y="4076640"/>
            <a:ext cx="3111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-360" y="2133360"/>
            <a:ext cx="804852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фактична кількість списаної сировини та матеріалів відповідає або не відповідає нормам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 зв’язку із списанням виробничих запасів перевіряємо наявність актів на списання запасів, накладних , довіреностей, вимог на відпущення матеріалів, відомостей обліку видачі матеріалів, а також перевіряємо правильність заповнення документ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иявлено що на підприємстві застосовується оцінка запасів за середньозваженою собівартістю, а саме нам пояснили, що цей метод застосовується окремо для кожної сукупності взятих на облік запасів, однакових за призначенням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За результатами такого зіставлення можна виявити:</a:t>
            </a: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647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684360" y="1125360"/>
          <a:ext cx="8172360" cy="2313000"/>
        </p:xfrm>
        <a:graphic>
          <a:graphicData uri="http://schemas.openxmlformats.org/drawingml/2006/table">
            <a:tbl>
              <a:tblPr/>
              <a:tblGrid>
                <a:gridCol w="4051080"/>
                <a:gridCol w="41212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а фірма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«Центр-ауди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обочого документу 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иємство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ТОВ «Агрофірм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скла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арченко Т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, що перевіряється </a:t>
                      </a:r>
                      <a:r>
                        <a:rPr b="0" lang="uk-UA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1.01.2013-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Д Перевірив </a:t>
                      </a: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еповий П. 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ілянка ауди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т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торські процеду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ірка записів і документів, запит, підтвердження, перерахунок, аналітичні процед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іб перевір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ков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і, рахунки-фактури, регістри синтетичного і аналітичного обліку запасів, відповіді на запитання аудитора, робочі документи аудитор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826920" y="3500280"/>
          <a:ext cx="7921800" cy="2036880"/>
        </p:xfrm>
        <a:graphic>
          <a:graphicData uri="http://schemas.openxmlformats.org/drawingml/2006/table">
            <a:tbl>
              <a:tblPr/>
              <a:tblGrid>
                <a:gridCol w="1355760"/>
                <a:gridCol w="1355760"/>
                <a:gridCol w="1079640"/>
                <a:gridCol w="1079280"/>
                <a:gridCol w="989280"/>
                <a:gridCol w="2062080"/>
              </a:tblGrid>
              <a:tr h="38484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ЛІК ПОМИЛОК І ПОРУШЕНЬ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ЯВЛЕНИХ В ХОДІ АУДИТУ ЗАПАС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ні первинн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 поруше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імітно-забірна кар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8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вищення ліміту відпуску па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га складського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рес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воєчасне оприбуткув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920" y="2133720"/>
            <a:ext cx="8353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а організація складського господарства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виконання завдань щодо заготовлення (придбання)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завищення собівартості придбаних матеріал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равил приймання вантаж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повне оприбуткування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обґрунтовані претензії до постачальник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раціональне витрачання матеріалів на виробництво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норм і лімітів відпуску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рушення порядку проведення інвентаризації (порушення строків проведення, нерівномірний їх розподіл за календарними періодами, порушення принципу раптовості, неякісне проведення інвентаризації, недбале і несвоєчасне оформлення документів тощо)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стача, надлишок запасів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і підробки в документах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ідміна нових матеріалів старими;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помилки у визначенні сум уцінок, дооцінок запасів та їх відображення в обліку; /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незадовільне ведення бухгалтерського обліку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5d1d"/>
                </a:solidFill>
                <a:latin typeface="Times New Roman"/>
              </a:rPr>
              <a:t>Типовими помилками під час здійснення операцій з виробничими запасами є такі:</a:t>
            </a:r>
            <a:br>
              <a:rPr sz="3200"/>
            </a:br>
            <a:endParaRPr b="0" lang="en-US" sz="32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4. Узагальнення результатів аудиту(Аудиторський висновок)</a:t>
            </a: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0" name="Заголовок 2"/>
          <p:cNvSpPr/>
          <p:nvPr/>
        </p:nvSpPr>
        <p:spPr>
          <a:xfrm>
            <a:off x="826920" y="2060640"/>
            <a:ext cx="7756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Тест перевірки стану внутрішнього контролю та системи обліку виробничих запасів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Таблица 5" descr=""/>
          <p:cNvPicPr/>
          <p:nvPr/>
        </p:nvPicPr>
        <p:blipFill>
          <a:blip r:embed="rId1"/>
          <a:stretch/>
        </p:blipFill>
        <p:spPr>
          <a:xfrm>
            <a:off x="895320" y="2567160"/>
            <a:ext cx="7493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565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b1004"/>
                </a:solidFill>
                <a:latin typeface="Times New Roman"/>
              </a:rPr>
              <a:t>Продовження прикладу </a:t>
            </a:r>
            <a:br>
              <a:rPr sz="1600"/>
            </a:br>
            <a:endParaRPr b="0" lang="en-US" sz="1600" spc="-1" strike="noStrike">
              <a:solidFill>
                <a:srgbClr val="895d1d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539640" y="2060640"/>
          <a:ext cx="8209080" cy="3327480"/>
        </p:xfrm>
        <a:graphic>
          <a:graphicData uri="http://schemas.openxmlformats.org/drawingml/2006/table">
            <a:tbl>
              <a:tblPr/>
              <a:tblGrid>
                <a:gridCol w="617760"/>
                <a:gridCol w="4021200"/>
                <a:gridCol w="2489040"/>
                <a:gridCol w="1081080"/>
              </a:tblGrid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облі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а чи класифікація виробничих запасів для їх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ізовано чи АУ на посадовому рівні, чи ведуться картки складського обліку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іляються ПДВ окремим рядком в розрахункових і платіжних документах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ряються чи дані АУ і СУ систематично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ільки в кінці ро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 складають акти списання МШП, що приходять у непридатні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кладання бухгалтерської звітност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є встановленим нормативним вимог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ність облікової політики вимогам ПБ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ово не відповіда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Заголовок 2"/>
          <p:cNvSpPr/>
          <p:nvPr/>
        </p:nvSpPr>
        <p:spPr>
          <a:xfrm>
            <a:off x="395280" y="5445000"/>
            <a:ext cx="77565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b1004"/>
                </a:solidFill>
                <a:latin typeface="Times New Roman"/>
              </a:rPr>
              <a:t>Значення символів: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1 - низьки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2 - нижче середнього рівня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3 - середній рівень;</a:t>
            </a:r>
            <a:br>
              <a:rPr sz="1600"/>
            </a:br>
            <a:r>
              <a:rPr b="0" lang="ru-RU" sz="1600" spc="-1" strike="noStrike">
                <a:solidFill>
                  <a:srgbClr val="4b1004"/>
                </a:solidFill>
                <a:latin typeface="Times New Roman"/>
              </a:rPr>
              <a:t>У4 - високий </a:t>
            </a:r>
            <a:r>
              <a:rPr b="0" i="1" lang="ru-RU" sz="1600" spc="-1" strike="noStrike">
                <a:solidFill>
                  <a:srgbClr val="4b1004"/>
                </a:solidFill>
                <a:latin typeface="Times New Roman"/>
              </a:rPr>
              <a:t>рівень.</a:t>
            </a: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чезну роль у вирішенні цього завдання грає чітко організований облік. Він повинен оперативно забезпечувати керівників та інших зацікавлених осіб необхідною інформацією для ефективного управління виробничим запасами в цілях оптимальних умов для виготовлення високоякісної продукції і вишукування резервів зниження її собівартості в частині раціонального використання матеріалів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ідна умова діяльності підприємств - добре налагоджені господарські зв'язки, тому що вони забезпечують безперебійність постачання, безперервність процесу виробництва, своєчасність відвантаження і реалізації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ітка класифікація виробничих запасів за певними ознаками і вибір одиниці обліку необхідні для своєчасної і правильної організації синтетичного й аналітичного обліку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жливою передумовою організації обліку матеріалів є їх оцінка. Вона має значення і для більш ефективної організації обробки даних обліку. 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ік запасів на підприємстві відповідає як умовам виробничого споживання матеріалів, так і вимогам організації складського господарства, і забезпечує виконання однієї з основних завдань обліку - контроль за збереженням запасів під час їх приймання та зберігання.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1004"/>
                </a:solidFill>
                <a:latin typeface="Times New Roman"/>
              </a:rPr>
              <a:t>При узагальненні отриманих  результатів, можна спрямувати до наступні висновки:</a:t>
            </a:r>
            <a:br>
              <a:rPr sz="2800"/>
            </a:br>
            <a:endParaRPr b="0" lang="en-US" sz="2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684000" y="1989000"/>
            <a:ext cx="8048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62626"/>
                </a:solidFill>
                <a:latin typeface="Times New Roman"/>
              </a:rPr>
              <a:t>1.2. Оборотні активи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трансформованому балансі товариства на кінець року відображені </a:t>
            </a:r>
            <a:r>
              <a:rPr b="0" i="1" lang="ru-RU" sz="1400" spc="-1" strike="noStrike">
                <a:solidFill>
                  <a:srgbClr val="262626"/>
                </a:solidFill>
                <a:latin typeface="Times New Roman"/>
              </a:rPr>
              <a:t>оборотні активи загальною вартістю 77,0 тис. грн., що становить 3,4 % вартості майна товариства, а саме: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Times New Roman"/>
              </a:rPr>
              <a:t>запаси (рахунки класу 2), облік яких здійснюється згідно П(С)БО-9 “Запаси”, затвердженого наказом МФУ від 20.12.1999 №246. Розмежування та визначення належності засобів праці, що тривалий час знаходяться в експлуатації, до ОЗ та МШП, їх поточний облік здійснено згідно П(С)БО-9 та прийнятої підприємством облікової політик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Оприбуткування ТМЦ здійснюється на основі первинних документів за фактичною собівартістю. Аналітичний облік запасів ведеться в обігово-сальдових відомостях за кожною одиницею бухгалтерського обліку запасів, якою прийнято їх найменування, та в розрізі матеріально-відповідальних осіб. При відпуску запасів у виробництво оцінка їх здійснюється за методом середньозваженого залишку, що передбачено наказом про облікову політику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На дату балансу запаси відображені достовірно (за їх первісною вартістю) і складаються із залишків виробничих запасів в сумі 24,8 тис. грн. ( в т.ч. товарів – 0,8 тис. грн.) та готової продукції – 0,4 тис. грн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В процесі трансформації балансу на дату переходу на МСФЗ для забезпечення порівняності звітних даних за ряд періодів застосовувався один і той же метод визначення собівартості запасів, як того вимагає МСБО-2 «Запаси». На виконання вимог МСБО-2 «Запаси» МШП в сумі 4,7 тис. грн. рекласифіковано в запаси. 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АУДИТОРСЬКИЙ ЗВІТ ПРО РЕЗУЛЬТАТИ ДОСЛІДЖЕННЯ </a:t>
            </a:r>
            <a:br>
              <a:rPr sz="2000"/>
            </a:br>
            <a:r>
              <a:rPr b="1" lang="ru-RU" sz="2000" spc="-1" strike="noStrike">
                <a:solidFill>
                  <a:srgbClr val="895d1d"/>
                </a:solidFill>
                <a:latin typeface="Times New Roman"/>
              </a:rPr>
              <a:t>В ХОДІ АУДИТОРСЬКОЇ ПЕРЕВІРКИ ВАТ "ВОЛОЛОДАРСЬКО-ВОЛИНСЬКИЙ ЛЬОНОЗАВОД»" за 2013 рік </a:t>
            </a:r>
            <a:endParaRPr b="0" lang="en-US" sz="2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89" name="Заголовок 2"/>
          <p:cNvSpPr/>
          <p:nvPr/>
        </p:nvSpPr>
        <p:spPr>
          <a:xfrm>
            <a:off x="3492360" y="0"/>
            <a:ext cx="58168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404040"/>
                </a:solidFill>
                <a:latin typeface="Times New Roman"/>
              </a:rPr>
              <a:t>Примірник аудиторського звіту в частині запас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77565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1. Мета, завдання та джерела аудиту запасів</a:t>
            </a:r>
            <a:br>
              <a:rPr sz="28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31" name="Содержимое 1"/>
          <p:cNvSpPr/>
          <p:nvPr/>
        </p:nvSpPr>
        <p:spPr>
          <a:xfrm>
            <a:off x="250920" y="1700280"/>
            <a:ext cx="8281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Запаси –це активи які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подальшого продажу (розподілу, передачі) за умов звичайної господарської діяльності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еребувають у процесі виробництва з метою подальшого продажу продукту виробництв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утримуються для споживання під час виробництва продукції, виконання робіт та надання послуг, а також управління підприємством/установою. (згідно П(С)БО 9 «Запас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84000" y="2133360"/>
            <a:ext cx="7745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 </a:t>
            </a:r>
            <a:r>
              <a:rPr b="1" i="1" lang="ru-RU" sz="2600" spc="-1" strike="noStrike">
                <a:solidFill>
                  <a:srgbClr val="873624"/>
                </a:solidFill>
                <a:latin typeface="Times New Roman"/>
              </a:rPr>
              <a:t>Метою аудиту виробничих запасів</a:t>
            </a:r>
            <a:r>
              <a:rPr b="0" lang="ru-RU" sz="2600" spc="-1" strike="noStrike">
                <a:solidFill>
                  <a:srgbClr val="873624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є висловлювання аудиторів думки про те, чи відповідає фінансова інформація щодо руху і залишків виробничих запасів на підприємстві в усіх суттєвих аспектах нормативних документам, які регламентують порядок її підготовки і надання користувачам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C:\Users\User\Desktop\слайди\1389230430_c7.jpg"/>
          <p:cNvPicPr/>
          <p:nvPr/>
        </p:nvPicPr>
        <p:blipFill>
          <a:blip r:embed="rId1"/>
          <a:stretch/>
        </p:blipFill>
        <p:spPr>
          <a:xfrm>
            <a:off x="5724360" y="4724280"/>
            <a:ext cx="3419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-360" y="2133720"/>
            <a:ext cx="684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правильність визнання запасів активами суб’єкта господарювання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, чи відповідають чинному законодавству методи оцінки і обліку виробничих запасів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, чи дотримується підприємство прийнятих методів оцінк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цінити стан внутрішнього контролю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здійснюється контроль за виробничими запасами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перевірити чи правильно та своєчасно здійснюється документальне відображення господарських операцій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встановити чи немає на підприємстві протизаконних дій, пов’язаних з витрачанням 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Завданнями аудиту операцій з виробничими запасами є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6" name="Picture 2" descr="C:\Users\User\Desktop\слайди\ukrayisnskyyaudyt.jpg"/>
          <p:cNvPicPr/>
          <p:nvPr/>
        </p:nvPicPr>
        <p:blipFill>
          <a:blip r:embed="rId1"/>
          <a:stretch/>
        </p:blipFill>
        <p:spPr>
          <a:xfrm>
            <a:off x="651672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213372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ількісне та якісне приймання запасів від постачальника, а також при внутрішньому переміщенні в міжцеховому напрямку, між матеріально відповідальними особами, складами та виробництвом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мови зберігання запасів і закріплення матеріальної відповідальності.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орми витрат сировини і матеріалів на виробництво та їх дотримання – перевіряється обґрунтованість затвердження норм та їх застосування в лімітно-забірних картках і відомостях на витрачання матеріалів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первинна документація з обліку запасів досліджується в частині достовірності відображених у ній господарських операцій;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ухгалтерський облік та звітність вивчаються в частині достовірності даних щодо залишків та руху виробничих запасів, відображених у них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брак та пошкодження запасів – досліджуються причини, які зумовили виникнення негативних явищ, розмір невиробничих витрат, встановлюються особи, винні в злодіянні шкод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недостача цінностей та шкода, виявлені при інвентаризації, їх обґрунтованість і відповідальні особи;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узагальнюється дослідження інших об’єктів, де виявлена шкода, перевіряється, чи підтверджується їх розмір даними бухгалтерського обліку та іншими зібраними доказами, наскільки правильно встановлену матеріальну відповідальність конкретних працівників і розмір їх відшкодування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95d1d"/>
                </a:solidFill>
                <a:latin typeface="Times New Roman"/>
              </a:rPr>
              <a:t>Об’єктами аудиту виробничих запасів є: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7416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895d1d"/>
                </a:solidFill>
                <a:latin typeface="Times New Roman"/>
                <a:ea typeface="Times New Roman"/>
              </a:rPr>
              <a:t>Джерела інформації для проведення аудиту виробничих запасів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2247480"/>
            <a:ext cx="83534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бухгалтерськ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статистична звітність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регістри бухгалтерського обліку;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окументи: типові форми з обліку матеріально-виробничих запасів, договори купівля, протоколи узгодження ціни, і постачання за терміну, асортименту тощо., накладні про поставки і внутрішнє переміщення,лимитно-заборние карта народження і ін.,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облікова політика: графік документообігу, субрахунка і аналітичні рахунки робочому плані рахунків; способи погашення вартості предметів у складі засобів у обороті; оцінка виробничих запасів; відпустку запасів у виробництво; оцінка запасів незавершеного виробництва; наявність і склад комісій по інвентаризація незавершеного виробництва та матеріально-виробничих накупив конвертів, графік і періодичність проведення інвентаризацій незавершеного виробництва та матеріально-виробничих запасів.</a:t>
            </a: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4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5280" y="220500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Етапи проведення аудиту виробничих запасів: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73624"/>
                </a:solidFill>
                <a:latin typeface="Segoe Script"/>
              </a:rPr>
              <a:t>І етап -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ланування та визначення аудиторського підход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 етап –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Оцінка системи внутрішнього контролю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ІІ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 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Перевірка господарських операцій по суті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І</a:t>
            </a:r>
            <a:r>
              <a:rPr b="1" lang="en-US" sz="2400" spc="-1" strike="noStrike">
                <a:solidFill>
                  <a:srgbClr val="873624"/>
                </a:solidFill>
                <a:latin typeface="Segoe Script"/>
              </a:rPr>
              <a:t>V</a:t>
            </a:r>
            <a:r>
              <a:rPr b="1" lang="ru-RU" sz="2400" spc="-1" strike="noStrike">
                <a:solidFill>
                  <a:srgbClr val="873624"/>
                </a:solidFill>
                <a:latin typeface="Segoe Script"/>
              </a:rPr>
              <a:t> етап -</a:t>
            </a:r>
            <a:r>
              <a:rPr b="1" i="1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4040"/>
                </a:solidFill>
                <a:latin typeface="Times New Roman"/>
              </a:rPr>
              <a:t>Завершення аудиту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5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5d1d"/>
                </a:solidFill>
                <a:latin typeface="Times New Roman"/>
              </a:rPr>
              <a:t>2. Послідовність проведення аудиту запасів</a:t>
            </a:r>
            <a:br>
              <a:rPr sz="3600"/>
            </a:br>
            <a:endParaRPr b="0" lang="en-US" sz="36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2" descr="C:\Users\User\Desktop\слайди\audit-doc1.jpg"/>
          <p:cNvPicPr/>
          <p:nvPr/>
        </p:nvPicPr>
        <p:blipFill>
          <a:blip r:embed="rId1"/>
          <a:stretch/>
        </p:blipFill>
        <p:spPr>
          <a:xfrm>
            <a:off x="5940360" y="4292640"/>
            <a:ext cx="32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5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400" spc="-1" strike="noStrike">
                <a:solidFill>
                  <a:srgbClr val="895d1d"/>
                </a:solidFill>
                <a:latin typeface="Times New Roman"/>
              </a:rPr>
              <a:t>Важливо знати!!!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36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 етапі аудитор звертає увагу на:</a:t>
            </a:r>
            <a:r>
              <a:rPr b="1" i="1" lang="ru-RU" sz="16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рміни проведення інвентаризації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ьність визначення її результатів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вчає склад комісії та відображення в бухгалтерському обліку даних по інвентаризації.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 етапі аудитор звертає увагу на:</a:t>
            </a:r>
            <a:r>
              <a:rPr b="1" i="1" lang="ru-RU" sz="15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изначення критичних моментів системи бухгалтерського обліку, в яких можуть бути помилки чи викривлення, і дістає впевненість, що стосовно таких пунктів були розроблені й проведені заходи і процедури, які дають змогу виявити помилки та викривлення ;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 algn="just">
              <a:lnSpc>
                <a:spcPct val="80000"/>
              </a:lnSpc>
              <a:spcBef>
                <a:spcPts val="34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дення додаткових перевірок на відповідність засобів контролю ефективне тільки у разі, якщо час та зусилля, зекономлені при проведенні перевірок на суттєвість, перевищують час і зусилля, затрачені на проведен­ня перевірок на відповідність засобів контролю</a:t>
            </a:r>
            <a:endParaRPr b="0" lang="en-US" sz="1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ІІ етапі аудитор звертає увагу на:</a:t>
            </a:r>
            <a:endParaRPr b="0" lang="en-US" sz="1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воєчасність і правильність документального оформлення, оприбуткування запасів первинними документами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ідображення їх в обліку, також слід перевірити правильність складання актів розбіжності кількості та якості матеріальних цінностей, що надійшли, і своєчасність пред’явлення претензій до постачальників або транспортних організацій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ку окремих елементів баланс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При І</a:t>
            </a:r>
            <a:r>
              <a:rPr b="1" i="1" lang="en-US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V</a:t>
            </a:r>
            <a:r>
              <a:rPr b="1" i="1" lang="ru-RU" sz="1300" spc="-1" strike="noStrike">
                <a:solidFill>
                  <a:srgbClr val="4b1004"/>
                </a:solidFill>
                <a:latin typeface="Times New Roman"/>
                <a:ea typeface="Times New Roman"/>
              </a:rPr>
              <a:t> етапі аудитор звертає увагу на: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lnSpc>
                <a:spcPct val="80000"/>
              </a:lnSpc>
              <a:spcBef>
                <a:spcPts val="326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вірити роботи складу групи аудиторів і вирішити чи до­статньо зібрано свідчень та оцінити результати аудиту;</a:t>
            </a:r>
            <a:endParaRPr b="0" lang="en-US" sz="13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9:56:32Z</dcterms:created>
  <dc:creator>Диана</dc:creator>
  <dc:description/>
  <dc:language>en-US</dc:language>
  <cp:lastModifiedBy>Татьяна</cp:lastModifiedBy>
  <dcterms:modified xsi:type="dcterms:W3CDTF">2014-03-07T07:15:21Z</dcterms:modified>
  <cp:revision>37</cp:revision>
  <dc:subject/>
  <dc:title>Презентация PowerPoint</dc:title>
</cp:coreProperties>
</file>