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357-35D2-47DB-AAAD-1598733F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CE9-912D-4F1D-852F-3E1D8510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6E560-5B32-42DE-8E1D-F9E713B2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A92A3-EDD5-4322-84E3-2E9621E1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D2CC1-53F4-46B3-8ACF-C0A67F93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79219-D459-45CC-A779-4524FA9D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A6739-2526-4BA2-BA84-F9064C1F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D8FE9-7D28-4058-86C8-59507102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156BB-C623-48D7-ABB5-2A269F7B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037C5-534B-4CA0-9D49-1DA625BB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BBF14-AEBF-4316-9046-68906C82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71A-7263-416D-A979-E48176F2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B90-710D-475C-B352-A13D2D54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1A00-11D0-48AF-AE22-367A66D8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32DC-3C38-44DE-BFAC-E043CAE0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FFE3-7646-4AB1-B0D4-6DD2B34E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C564-A4B1-4869-BF6A-F845C3E5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020E-29BA-46DB-8DE9-007D49B9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2468-C91F-4999-B5BF-0CA9D240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C758-57E7-4AB7-9587-476421F0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C5E-1894-4D15-9115-D3C05FF1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3725-D8E2-4E72-9E81-6CBDD7AE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8F9B-63BD-468D-9CB3-4D77C6EB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8B96-FB43-4E05-A534-0EA49E2C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F83F-0D0F-4E6F-AB4D-12A778CD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D7D9-7BB1-4CCC-83DF-B842FD47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26F28-EAA5-4CD0-9C1B-6AA706F8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40266-BBAF-4885-9486-743CB497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0CCE-9A59-42A4-9CEB-8F1BD0F5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D91A-930F-41F4-BAC2-8CA2B914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E2B23-4EC6-401B-82B4-CDF8EFA7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811-F729-4280-956E-C6275098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7C8A4-40FA-4A48-9178-B45DD37F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B72F-03E3-4AD8-ACC4-23761E2E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7D5C-1571-4C93-A8CF-4DCF024C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2B662-D404-40DC-9A6E-0BDEA14B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CB165-D6E8-456F-BDEA-12BD5325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FC7F-B23E-47C9-B0E5-8400FB81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564C-8BA2-4951-95DB-A03F1D71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5074A-81E9-443B-B2EF-734756B3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13C77-CF8F-409E-A2D5-DE4CA02C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D42C3-182A-478C-95FA-E3C6E582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94A5-406A-4579-B628-DE9A2CCF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7DCB8-6188-4F52-B705-A61FF7DC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54EBC-3930-49F6-8A00-C2D77CA2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7471-D8D5-47AE-AFAF-7C9D2694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81C52-067F-4AF0-97BD-1A0ED063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0D705-2E63-4A9B-A547-C537FD97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308E0-6795-4636-B2C2-EBD00AF9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B9E2A-F5BE-4AF7-874F-8A278D85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67A4A-9D1F-476A-B26E-36EA9C7A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EB5A5-77EF-4B2C-B4CE-EB875077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01590-CFDE-497D-A8CC-76575642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9DD-5EC5-42F4-8B97-6F60BC14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86DE6-A89C-4393-911D-018D89FE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3D0B2-038C-4B9C-AD99-B6F974E6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80FA3-1A62-4F6F-B5A2-360EE654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376F4-77B1-4296-8BF3-20B27461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B811B-4D51-4537-BB7B-7D6FB465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50395-78A6-41DA-A3EC-94A92547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F158C-AA6D-4CAA-9375-778D5B37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6B183-C1D0-4CDF-BC03-17091C01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C25B9-F365-484F-8750-5A41EB53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1D39F-4CFB-4558-BB72-0C3BEDC1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06D-0C26-4B73-AD0A-64C24CB8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D0FB1-2C93-48D7-B661-289BE732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13AA0-BA4D-4B8A-9FF2-B6321D79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42821-8BE0-4441-8747-E0E54842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28345-BE28-44EB-914C-8BB8B991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F962E-C68C-4E00-8E0D-4DA38F3A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AC7E0-7DA7-4278-B377-6F1B25CC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3ADB2-8891-4EEC-AEFC-267ED9D0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1C792-DE0E-48D6-AF4B-7DDF04ED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1ED2B-ED91-4985-8639-5B650BB8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A2582-1E1E-4D52-8622-1FF65964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399-2BC3-4642-8F40-229796D8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FC0B7-F09D-4339-B651-3CDF1B29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3B92A-9EFE-46AC-8B94-6EB2B46C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2FE42-51C0-492B-912B-0F35955D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1778D-AF3F-4C27-930D-9D04587F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CB548-10DB-4427-81EB-B91A1E27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3769A-D550-4566-B21A-824E244B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CF012-B0E6-4628-997F-4877A34C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AAC87-3EDA-4892-A348-0EF3ABBB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7ECD5-5546-41F8-86A2-80ADC82B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4EE44-2EA6-4435-A759-90113BB4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C9F-05A1-4AEE-AB22-9B308B9E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CC08E-4644-4BA1-9422-4F82553D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E784A-F844-436F-A710-A033D2D1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2BFBF-6FFB-44F6-B732-9384BF49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DF713-DEDC-4A64-AD62-4C7E2C10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8D6BA-649A-41E3-BF05-DC98C450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8F869-EF76-48A3-B128-330478B5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C3A1A-31C1-4E8E-A8FD-56BCC0D1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65DEA-3177-43A4-BE85-20223D8A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2AABC-0F4D-491A-B41F-5FB20E04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EF6A1-9675-43AD-B26D-18249175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33E-CA18-405C-A042-0D1B6E7E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3255B-9855-4A6E-8692-4064FE24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7E5EB-9967-498B-B46D-AE6BED7D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B5BF3-B10C-486C-BE57-72DE05E4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E2802-ED0D-4A59-B676-525CD4D4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F7F10-62F9-43F0-BA10-5A74B8C3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62E24-1EC7-4613-A15F-81490FA8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B7240-E466-4702-95EC-432DE7A2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544C0-C7A8-442C-9932-E5D84ACB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55456-9850-4B49-B87B-92898D67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B9125-8EE5-4D9F-82A1-D57C029F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07C7-412C-4C01-A262-8F80914E7920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46240" y="2614680"/>
            <a:ext cx="6875280" cy="123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1CDF-F8BE-4DF4-BFD5-5947B9421C19}" type="slidenum"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38ED-7157-4E4F-8BE8-361ED2438C70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40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7ABD-6760-4661-A5BF-368AD46C965D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2AB3-65C6-4FA2-89C3-D29DCFEF5CAD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CFAD-B4D4-4F8E-A6D1-24924277E661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20DD-656F-47D5-91B2-A07E7AEFF66D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9C90-0487-4382-89C1-DE51BB480CFF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5680" y="601560"/>
              <a:ext cx="216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35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8A7C-B552-4D2A-8ED6-ED15E05014A0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817560" y="901800"/>
            <a:ext cx="7504200" cy="22255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26836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imes New Roman"/>
              </a:rPr>
              <a:t>Лектор: Назаренко Т. П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Picture 1" descr="C:\Users\User\Desktop\слайди\audit-sajta.png"/>
          <p:cNvPicPr/>
          <p:nvPr/>
        </p:nvPicPr>
        <p:blipFill>
          <a:blip r:embed="rId2"/>
          <a:stretch/>
        </p:blipFill>
        <p:spPr>
          <a:xfrm>
            <a:off x="-181080" y="3716280"/>
            <a:ext cx="3067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755280" y="2133360"/>
            <a:ext cx="776124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361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Залежно від обраного способу організації перевірки аудитор складає програму перевірки, де встановлює перелік аудиторських процедур </a:t>
            </a: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які б дали змогу: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достовірність первинних даних БО щодо фактичної наявності та руху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овноту і своєчасність відображення первинних даних з обліку запасів у зведених документах та реєстрах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равильність ведення обліку запасів відповідно до чинних законодавчих і нормативних актів, облікової політики суб’єкта господарювання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стан збереження запасів у суб’єкта господарювання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ідтвердити або спростувати показники фінансової звітності суб’єкта господарювання, які залежать від достовірності, повноти, й своєчасності відображення господарських операцій, пов’язаних із рухом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75656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Програма аудиту виробничих запасів</a:t>
            </a:r>
            <a:br>
              <a:rPr sz="36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3"/>
          <p:cNvSpPr/>
          <p:nvPr/>
        </p:nvSpPr>
        <p:spPr>
          <a:xfrm>
            <a:off x="3780000" y="189000"/>
            <a:ext cx="50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ська фірма ________________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приємство _____________________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іод перевірки 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у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чих запасі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79280" y="2071800"/>
          <a:ext cx="8785440" cy="4633920"/>
        </p:xfrm>
        <a:graphic>
          <a:graphicData uri="http://schemas.openxmlformats.org/drawingml/2006/table">
            <a:tbl>
              <a:tblPr/>
              <a:tblGrid>
                <a:gridCol w="466920"/>
                <a:gridCol w="5438520"/>
                <a:gridCol w="935280"/>
                <a:gridCol w="1224000"/>
                <a:gridCol w="720720"/>
              </a:tblGrid>
              <a:tr h="1724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ерелік аудиторських процеду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Виконавец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b1004"/>
                          </a:solidFill>
                          <a:latin typeface="Times New Roman"/>
                        </a:rPr>
                        <a:t>Терміни перевір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риміт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відповідність даних аналітичного обліку даним синтетичного обліку, даним Головної книги, звітно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фактичну наявність запасів, перевірити організацію складського господарства, стан збереже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повноту оприбуткування запасів при наявності документів, які підтверджують їх придб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організацію контролю за зберіганням , використанням і погашенням довіре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рити правильність оформлення надходження та списання запасів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заємна звірка даних матеріального звіту та накладних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вірка віднесення в підзвіт окремими особами відпущених запасі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еревірити кореспонденцію рахунків на відпускання запасів у Головній книзі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законність списання запасів при витрата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тримання встановленого порядку оформленн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еревірка правильності застосування природного убут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дотримання лімітів із відпускання запасів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устрічна перевірка ліміто-забірних карт із докуменами на витрач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вчити стан матеріальної відповідальності за шкоду, заподіяну підприємств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правильність відображення в обліку операцій із списа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87440" y="62064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довження програми</a:t>
            </a:r>
            <a:br>
              <a:rPr sz="3200"/>
            </a:b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79280" y="2276640"/>
          <a:ext cx="8785440" cy="2052360"/>
        </p:xfrm>
        <a:graphic>
          <a:graphicData uri="http://schemas.openxmlformats.org/drawingml/2006/table">
            <a:tbl>
              <a:tblPr/>
              <a:tblGrid>
                <a:gridCol w="466920"/>
                <a:gridCol w="5438520"/>
                <a:gridCol w="935280"/>
                <a:gridCol w="1224000"/>
                <a:gridCol w="720720"/>
              </a:tblGrid>
              <a:tr h="2044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ерелік аудиторських процеду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Виконавец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b1004"/>
                          </a:solidFill>
                          <a:latin typeface="Times New Roman"/>
                        </a:rPr>
                        <a:t>Терміни перевір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риміт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ити, який із методів оцінки запасів при відпусканні їх у виробництво, продаж або інше вибуття застосовується на підприємстві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згідно з наказом про облікову політик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факти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ити достовірність даних за залишками запасів у фінансовій звіт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вання реєстрів виявлених поруш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"/>
          <p:cNvSpPr txBox="1"/>
          <p:nvPr/>
        </p:nvSpPr>
        <p:spPr>
          <a:xfrm>
            <a:off x="394920" y="4437000"/>
            <a:ext cx="774540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клав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Перевірив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Ознайомився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62626"/>
                </a:solidFill>
                <a:latin typeface="Times New Roman"/>
              </a:rPr>
              <a:t>Надходження виробничих запасів здійснюється з таких джерел: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ід постачальників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результаті обміну на подібні (неподібні) активи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безоплатне отримання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оприбуткування надлишків у результаті інвентаризації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з власного виробництва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як внесок у статутний капітал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придбання через підзвітних осіб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інше надходження (зворотні відходи, оприбуткування цінностей внаслідок ліквідації основних засобів, МШП).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</a:rPr>
              <a:t>Надходження цінностей від постачальників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перевіряється за первинними документами, до яких належать накладна, рахунок, рахунок-фактура, товарно-транспортна накладна, прибутковий ордер, картка складського обліку, податкова накладна; за регістрами синтетичного і аналітичного обліку: матеріальний звіт, оборотна відомість, журнал 3, відомості 3.3, 3.5. У випадку доставки матеріальних цінностей власним транспортним засобом перевірці підлягають шляхові листи, журнал обліку виданих довіреностей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775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3. Загальна методика проведення аудиту запасів</a:t>
            </a: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56" name="Заголовок 2"/>
          <p:cNvSpPr/>
          <p:nvPr/>
        </p:nvSpPr>
        <p:spPr>
          <a:xfrm>
            <a:off x="684360" y="1268280"/>
            <a:ext cx="7754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3.1 Аудит надходження виробничих запасів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84000" y="2637000"/>
            <a:ext cx="7745400" cy="26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орівняння даних складського, бухгалтерського обліку проводиться перевірка стану розрахунків з постачальниками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еревірку, яку залучають видаткові касові ордери, платіжні документи, виписки банків, дані журналів 1, 3 та відомостей 1.1, 1.2, 3.3, 3.5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95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895d1d"/>
                </a:solidFill>
                <a:latin typeface="Times New Roman"/>
              </a:rPr>
              <a:t>При здійсненні перевірки </a:t>
            </a:r>
            <a:br>
              <a:rPr sz="4000"/>
            </a:br>
            <a:r>
              <a:rPr b="0" i="1" lang="uk-UA" sz="4000" spc="-1" strike="noStrike">
                <a:solidFill>
                  <a:srgbClr val="895d1d"/>
                </a:solidFill>
                <a:latin typeface="Times New Roman"/>
              </a:rPr>
              <a:t>звертається увага на:</a:t>
            </a:r>
            <a:endParaRPr b="0" lang="en-US" sz="40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9040" y="259920"/>
            <a:ext cx="77565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1004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4b1004"/>
                </a:solidFill>
                <a:latin typeface="Times New Roman"/>
              </a:rPr>
              <a:t>На підставі договорів поставки, специфікацій, накладних постачальників, актів приймання МПЗ, первинних документів складського обліку аудитори відповідають на наведені нижче питання. При позитивній відповіді на деякі питання необхідне проведення додаткових процедур.</a:t>
            </a:r>
            <a:r>
              <a:rPr b="0" lang="ru-RU" sz="2000" spc="-1" strike="noStrike">
                <a:solidFill>
                  <a:srgbClr val="d4745e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61" name="Таблица 3" descr=""/>
          <p:cNvPicPr/>
          <p:nvPr/>
        </p:nvPicPr>
        <p:blipFill>
          <a:blip r:embed="rId1"/>
          <a:stretch/>
        </p:blipFill>
        <p:spPr>
          <a:xfrm>
            <a:off x="828720" y="1981080"/>
            <a:ext cx="72723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698040" y="2247480"/>
            <a:ext cx="81946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дотримання на підприємстві порядку приймання і оформлення документів, що підтверджують факт надходження матеріалів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 обліку та оцінки матеріалів, що надійшли від постачальників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овнота і своєчасність оприбуткування запасів у відповідності з документами постачальника (здійснюється з метою виявлення випадків неповного оприбуткування або повного неоприбуткування  запасів)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відповідність якості одержаних запасів характеристикам, що вказані в прибуткових документах, сертифікатах якості, лабораторних аналізах тощо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 оформлення актів на приймання запасів (у випадку, коли якісні або кількісні характеристики матеріалів, що надійшли, не відповідають тим, що вказані в супроводжувальних документах)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, повнота та своєчасність оприбуткування запасів, придбаних підзвітними особами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овнота, своєчасність і правильність оприбуткування матеріалів від ліквідації основних засобів та малоцінних необоротних активів тощо.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547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5d1d"/>
                </a:solidFill>
                <a:latin typeface="Times New Roman"/>
              </a:rPr>
              <a:t>Аудит повноти, своєчасності та правильності оприбуткування  запасів передбачає вивчення таких питань:</a:t>
            </a:r>
            <a:br>
              <a:rPr sz="28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9040" y="189000"/>
            <a:ext cx="77565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95d1d"/>
                </a:solidFill>
                <a:latin typeface="Times New Roman"/>
              </a:rPr>
              <a:t>Під час проведення інвентаризації аудитор не може бути членом інвентаризаційної комісії, але, спостерігаючи за її роботою може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1. спостерігати за виконанням процедур інвентаризації;</a:t>
            </a:r>
            <a:br>
              <a:rPr sz="1800"/>
            </a:b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2. перевірити правильність підрахунку на основі випадкової вибірки;</a:t>
            </a:r>
            <a:br>
              <a:rPr sz="1800"/>
            </a:br>
            <a:endParaRPr b="0" lang="en-US" sz="18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65" name="Picture 2" descr="http://textreferat.com.ua/images/291324_image021.gif"/>
          <p:cNvPicPr/>
          <p:nvPr/>
        </p:nvPicPr>
        <p:blipFill>
          <a:blip r:embed="rId1"/>
          <a:stretch/>
        </p:blipFill>
        <p:spPr>
          <a:xfrm>
            <a:off x="1116000" y="1916280"/>
            <a:ext cx="69120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4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У випадках придбання запасів аудитору необхідно звернути особливу увагу на дотримання податкового законодавства (порядку нарахування і сплати ПДВ тощо). В цілому результати аудиту повноти і своєчасності оприбуткування запасів доцільно відображати у робочому документі наступного виду (приклад)</a:t>
            </a:r>
            <a:endParaRPr b="0" lang="en-US" sz="18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95280" y="2060640"/>
          <a:ext cx="8497800" cy="1928880"/>
        </p:xfrm>
        <a:graphic>
          <a:graphicData uri="http://schemas.openxmlformats.org/drawingml/2006/table">
            <a:tbl>
              <a:tblPr/>
              <a:tblGrid>
                <a:gridCol w="4032360"/>
                <a:gridCol w="4465440"/>
              </a:tblGrid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а фірма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«Центр-аудит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eb79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робочого документу 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eb79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иємство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ТОВ «Агрофірм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Д склав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Марченко Т. 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, що перевіряється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1.01.2013-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Д Перевірив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теповий П. 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лянка ауди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удит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ка записів і документів, запит, підтвердження, перерахунок, аналітичн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іб перевір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бірков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aeb79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ладні, рахунки-фактури, регістри синтетичного і аналітичного обліку запасів, відповіді на запитання ауди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aeb79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95280" y="4076640"/>
          <a:ext cx="8424720" cy="2509920"/>
        </p:xfrm>
        <a:graphic>
          <a:graphicData uri="http://schemas.openxmlformats.org/drawingml/2006/table">
            <a:tbl>
              <a:tblPr/>
              <a:tblGrid>
                <a:gridCol w="897120"/>
                <a:gridCol w="1226880"/>
                <a:gridCol w="1227240"/>
                <a:gridCol w="817560"/>
                <a:gridCol w="826920"/>
                <a:gridCol w="827280"/>
                <a:gridCol w="658800"/>
                <a:gridCol w="1295280"/>
                <a:gridCol w="647640"/>
              </a:tblGrid>
              <a:tr h="525600">
                <a:tc gridSpan="9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БІРКА СВОЄЧАСНОСТ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ИБУТКУВА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рахунку 20 «Виробничі запаси» (203 «Паливо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040"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ні первинного облі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ображено в облі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хи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 рахун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, від 12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варно-транспортна наклад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6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6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ибутковано на наступний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ливо А-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1 від 23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варно-транспортна наклад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 первісної вартості помилкововключено до ПД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ливо А-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755280" y="1989000"/>
            <a:ext cx="7745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b1004"/>
                </a:solidFill>
                <a:latin typeface="Times New Roman"/>
              </a:rPr>
              <a:t>Списання запасів із балансу згідно П(с)БО 9 відбувається у таких випадках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ускання у виробництво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реалізація за грошові кошти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передача до статутного капіталу іншого підприємства; безоплатна передача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писання через витрати від стихійного лиха;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писання недостач у межах норм і понад норм природного убутку.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1004"/>
                </a:solidFill>
                <a:latin typeface="Times New Roman"/>
              </a:rPr>
              <a:t>При списанні матеріалів у виробництво проводимо документальну перевірку, яка дає змогу встановити: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овідність норм у документах на списання нормативним актам;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овідність кількості фактично списаної сировини витрачанню цієї сировини за нормами.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5656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3.2 Аудит вибуття виробничих запасів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79280" y="2204640"/>
            <a:ext cx="73454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1. Мета,завдання та джерела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2. Послідовність проведення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 Загальна методика проведення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1 Аудит надходження виробничих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2 Аудит вибуття виробничих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4. Узагальнення результатів аудит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(Аудиторський висновок)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912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895d1d"/>
                </a:solidFill>
                <a:latin typeface="Times New Roman"/>
              </a:rPr>
              <a:t>У лекції розглядаються наступні питання: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29" name="Shape 32" descr=""/>
          <p:cNvPicPr/>
          <p:nvPr/>
        </p:nvPicPr>
        <p:blipFill>
          <a:blip r:embed="rId1"/>
          <a:stretch/>
        </p:blipFill>
        <p:spPr>
          <a:xfrm>
            <a:off x="6032520" y="4076640"/>
            <a:ext cx="3111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-360" y="2133360"/>
            <a:ext cx="804852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фактична кількість списаної сировини та матеріалів відповідає або не відповідає нормам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 зв’язку із списанням виробничих запасів перевіряємо наявність актів на списання запасів, накладних , довіреностей, вимог на відпущення матеріалів, відомостей обліку видачі матеріалів, а також перевіряємо правильність заповнення документ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иявлено що на підприємстві застосовується оцінка запасів за середньозваженою собівартістю, а саме нам пояснили, що цей метод застосовується окремо для кожної сукупності взятих на облік запасів, однакових за призначенням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5d1d"/>
                </a:solidFill>
                <a:latin typeface="Times New Roman"/>
              </a:rPr>
              <a:t>За результатами такого зіставлення можна виявити:</a:t>
            </a: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7380360" y="4437000"/>
            <a:ext cx="16477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684360" y="1125360"/>
          <a:ext cx="8172360" cy="2313000"/>
        </p:xfrm>
        <a:graphic>
          <a:graphicData uri="http://schemas.openxmlformats.org/drawingml/2006/table">
            <a:tbl>
              <a:tblPr/>
              <a:tblGrid>
                <a:gridCol w="4051080"/>
                <a:gridCol w="412128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а фірма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«Центр-аудит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обочого документу 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иємство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ТОВ «Агрофірм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Д склав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арченко Т. 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, що перевіряється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1.01.2013-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Д Перевірив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еповий П. 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лянка ауди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 запас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ка записів і документів, запит, підтвердження, перерахунок, аналітичні процеду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іб перевір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бірков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адні, рахунки-фактури, регістри синтетичного і аналітичного обліку запасів, відповіді на запитання аудитора, робочі документи аудитор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826920" y="3500280"/>
          <a:ext cx="7921800" cy="2036880"/>
        </p:xfrm>
        <a:graphic>
          <a:graphicData uri="http://schemas.openxmlformats.org/drawingml/2006/table">
            <a:tbl>
              <a:tblPr/>
              <a:tblGrid>
                <a:gridCol w="1355760"/>
                <a:gridCol w="1355760"/>
                <a:gridCol w="1079640"/>
                <a:gridCol w="1079280"/>
                <a:gridCol w="989280"/>
                <a:gridCol w="2062080"/>
              </a:tblGrid>
              <a:tr h="38484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ЛІК ПОМИЛОК І ПОРУШЕНЬ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ЯВЛЕНИХ В ХОДІ АУДИТУ ЗАПАС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ні первинного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 поруше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менува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імітно-забірна кар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8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вищення ліміту відпуску пал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га складського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рес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воєчасне оприбутк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50920" y="2133720"/>
            <a:ext cx="83534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задовільна організація складського господарства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виконання завдань щодо заготовлення (придбання) матеріал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завищення собівартості придбаних матеріал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правил приймання вантаж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повне оприбуткування запас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обґрунтовані претензії до постачальник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раціональне витрачання матеріалів на виробництво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норм і лімітів відпуску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порядку проведення інвентаризації (порушення строків проведення, нерівномірний їх розподіл за календарними періодами, порушення принципу раптовості, неякісне проведення інвентаризації, недбале і несвоєчасне оформлення документів тощо)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стача, надлишок запас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милки і підробки в документах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ідміна нових матеріалів старими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милки у визначенні сум уцінок, дооцінок запасів та їх відображення в обліку; /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задовільне ведення бухгалтерського обліку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5d1d"/>
                </a:solidFill>
                <a:latin typeface="Times New Roman"/>
              </a:rPr>
              <a:t>Типовими помилками під час здійснення операцій з виробничими запасами є такі:</a:t>
            </a:r>
            <a:br>
              <a:rPr sz="3200"/>
            </a:b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4. Узагальнення результатів аудиту(Аудиторський висновок)</a:t>
            </a: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80" name="Заголовок 2"/>
          <p:cNvSpPr/>
          <p:nvPr/>
        </p:nvSpPr>
        <p:spPr>
          <a:xfrm>
            <a:off x="826920" y="2060640"/>
            <a:ext cx="7756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b1004"/>
                </a:solidFill>
                <a:latin typeface="Times New Roman"/>
              </a:rPr>
              <a:t>Тест перевірки стану внутрішнього контролю та системи обліку виробничих запасів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Таблица 5" descr=""/>
          <p:cNvPicPr/>
          <p:nvPr/>
        </p:nvPicPr>
        <p:blipFill>
          <a:blip r:embed="rId1"/>
          <a:stretch/>
        </p:blipFill>
        <p:spPr>
          <a:xfrm>
            <a:off x="895320" y="2567160"/>
            <a:ext cx="74930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565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b1004"/>
                </a:solidFill>
                <a:latin typeface="Times New Roman"/>
              </a:rPr>
              <a:t>Продовження прикладу </a:t>
            </a:r>
            <a:br>
              <a:rPr sz="1600"/>
            </a:br>
            <a:endParaRPr b="0" lang="en-US" sz="16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539640" y="2060640"/>
          <a:ext cx="8209080" cy="3327480"/>
        </p:xfrm>
        <a:graphic>
          <a:graphicData uri="http://schemas.openxmlformats.org/drawingml/2006/table">
            <a:tbl>
              <a:tblPr/>
              <a:tblGrid>
                <a:gridCol w="617760"/>
                <a:gridCol w="4021200"/>
                <a:gridCol w="2489040"/>
                <a:gridCol w="1081080"/>
              </a:tblGrid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а чи класифікація виробничих запасів для їх обліку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ізовано чи АУ на посадовому рівні, чи ведуться картки складського обліку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іляються ПДВ окремим рядком в розрахункових і платіжних документах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ряються чи дані АУ і СУ систематично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ільки в кінці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 складають акти списання МШП, що приходять у непридатні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кладання бухгалтерської звітност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є встановленим нормативним вимог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ність облікової політики вимогам ПБ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ково не відповіда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Заголовок 2"/>
          <p:cNvSpPr/>
          <p:nvPr/>
        </p:nvSpPr>
        <p:spPr>
          <a:xfrm>
            <a:off x="395280" y="5445000"/>
            <a:ext cx="77565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1004"/>
                </a:solidFill>
                <a:latin typeface="Times New Roman"/>
              </a:rPr>
              <a:t>Значення символів: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1 - низький рівень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2 - нижче середнього рівня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3 - середній рівень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4 - високий </a:t>
            </a:r>
            <a:r>
              <a:rPr b="0" i="1" lang="ru-RU" sz="1600" spc="-1" strike="noStrike">
                <a:solidFill>
                  <a:srgbClr val="4b1004"/>
                </a:solidFill>
                <a:latin typeface="Times New Roman"/>
              </a:rPr>
              <a:t>рівень.</a:t>
            </a:r>
            <a:br>
              <a:rPr sz="1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50920" y="213372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личезну роль у вирішенні цього завдання грає чітко організований облік. Він повинен оперативно забезпечувати керівників та інших зацікавлених осіб необхідною інформацією для ефективного управління виробничим запасами в цілях оптимальних умов для виготовлення високоякісної продукції і вишукування резервів зниження її собівартості в частині раціонального використання матеріалів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ідна умова діяльності підприємств - добре налагоджені господарські зв'язки, тому що вони забезпечують безперебійність постачання, безперервність процесу виробництва, своєчасність відвантаження і реалізації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ітка класифікація виробничих запасів за певними ознаками і вибір одиниці обліку необхідні для своєчасної і правильної організації синтетичного й аналітичного обліку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жливою передумовою організації обліку матеріалів є їх оцінка. Вона має значення і для більш ефективної організації обробки даних обліку. 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ік запасів на підприємстві відповідає як умовам виробничого споживання матеріалів, так і вимогам організації складського господарства, і забезпечує виконання однієї з основних завдань обліку - контроль за збереженням запасів під час їх приймання та зберігання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54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1004"/>
                </a:solidFill>
                <a:latin typeface="Times New Roman"/>
              </a:rPr>
              <a:t>При узагальненні отриманих  результатів, можна спрямувати до наступні висновки:</a:t>
            </a:r>
            <a:br>
              <a:rPr sz="28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684000" y="1989000"/>
            <a:ext cx="8048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62626"/>
                </a:solidFill>
                <a:latin typeface="Times New Roman"/>
              </a:rPr>
              <a:t>1.2. Оборотні активи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трансформованому балансі товариства на кінець року відображені </a:t>
            </a:r>
            <a:r>
              <a:rPr b="0" i="1" lang="ru-RU" sz="1400" spc="-1" strike="noStrike">
                <a:solidFill>
                  <a:srgbClr val="262626"/>
                </a:solidFill>
                <a:latin typeface="Times New Roman"/>
              </a:rPr>
              <a:t>оборотні активи загальною вартістю 77,0 тис. грн., що становить 3,4 % вартості майна товариства, а саме: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Times New Roman"/>
              </a:rPr>
              <a:t>запаси (рахунки класу 2), облік яких здійснюється згідно П(С)БО-9 “Запаси”, затвердженого наказом МФУ від 20.12.1999 №246. Розмежування та визначення належності засобів праці, що тривалий час знаходяться в експлуатації, до ОЗ та МШП, їх поточний облік здійснено згідно П(С)БО-9 та прийнятої підприємством облікової політики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Оприбуткування ТМЦ здійснюється на основі первинних документів за фактичною собівартістю. Аналітичний облік запасів ведеться в обігово-сальдових відомостях за кожною одиницею бухгалтерського обліку запасів, якою прийнято їх найменування, та в розрізі матеріально-відповідальних осіб. При відпуску запасів у виробництво оцінка їх здійснюється за методом середньозваженого залишку, що передбачено наказом про облікову політику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На дату балансу запаси відображені достовірно (за їх первісною вартістю) і складаються із залишків виробничих запасів в сумі 24,8 тис. грн. ( в т.ч. товарів – 0,8 тис. грн.) та готової продукції – 0,4 тис. грн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процесі трансформації балансу на дату переходу на МСФЗ для забезпечення порівняності звітних даних за ряд періодів застосовувався один і той же метод визначення собівартості запасів, як того вимагає МСБО-2 «Запаси». На виконання вимог МСБО-2 «Запаси» МШП в сумі 4,7 тис. грн. рекласифіковано в запаси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54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5d1d"/>
                </a:solidFill>
                <a:latin typeface="Times New Roman"/>
              </a:rPr>
              <a:t>АУДИТОРСЬКИЙ ЗВІТ ПРО РЕЗУЛЬТАТИ ДОСЛІДЖЕННЯ </a:t>
            </a:r>
            <a:br>
              <a:rPr sz="2000"/>
            </a:br>
            <a:r>
              <a:rPr b="1" lang="ru-RU" sz="2000" spc="-1" strike="noStrike">
                <a:solidFill>
                  <a:srgbClr val="895d1d"/>
                </a:solidFill>
                <a:latin typeface="Times New Roman"/>
              </a:rPr>
              <a:t>В ХОДІ АУДИТОРСЬКОЇ ПЕРЕВІРКИ ВАТ "ВОЛОЛОДАРСЬКО-ВОЛИНСЬКИЙ ЛЬОНОЗАВОД»" за 2013 рік </a:t>
            </a:r>
            <a:endParaRPr b="0" lang="en-US" sz="20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89" name="Заголовок 2"/>
          <p:cNvSpPr/>
          <p:nvPr/>
        </p:nvSpPr>
        <p:spPr>
          <a:xfrm>
            <a:off x="3492360" y="0"/>
            <a:ext cx="5816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04040"/>
                </a:solidFill>
                <a:latin typeface="Times New Roman"/>
              </a:rPr>
              <a:t>Примірник аудиторського звіту в частині запасі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9040" y="260280"/>
            <a:ext cx="77565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1. Мета, завдання та джерела аудиту запасів</a:t>
            </a:r>
            <a:br>
              <a:rPr sz="28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31" name="Содержимое 1"/>
          <p:cNvSpPr/>
          <p:nvPr/>
        </p:nvSpPr>
        <p:spPr>
          <a:xfrm>
            <a:off x="250920" y="1700280"/>
            <a:ext cx="8281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Запаси –це активи які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утримуються для подальшого продажу (розподілу, передачі) за умов звичайної господарської діяльності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еребувають у процесі виробництва з метою подальшого продажу продукту виробництв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утримуються для споживання під час виробництва продукції, виконання робіт та надання послуг, а також управління підприємством/установою. (згідно П(С)БО 9 «Запас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84000" y="2133360"/>
            <a:ext cx="7745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 </a:t>
            </a:r>
            <a:r>
              <a:rPr b="1" i="1" lang="ru-RU" sz="2600" spc="-1" strike="noStrike">
                <a:solidFill>
                  <a:srgbClr val="873624"/>
                </a:solidFill>
                <a:latin typeface="Times New Roman"/>
              </a:rPr>
              <a:t>Метою аудиту виробничих запасів</a:t>
            </a:r>
            <a:r>
              <a:rPr b="0" lang="ru-RU" sz="2600" spc="-1" strike="noStrike">
                <a:solidFill>
                  <a:srgbClr val="87362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є висловлювання аудиторів думки про те, чи відповідає фінансова інформація щодо руху і залишків виробничих запасів на підприємстві в усіх суттєвих аспектах нормативних документам, які регламентують порядок її підготовки і надання користувачам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33" name="Picture 4" descr="C:\Users\User\Desktop\слайди\1389230430_c7.jpg"/>
          <p:cNvPicPr/>
          <p:nvPr/>
        </p:nvPicPr>
        <p:blipFill>
          <a:blip r:embed="rId1"/>
          <a:stretch/>
        </p:blipFill>
        <p:spPr>
          <a:xfrm>
            <a:off x="5724360" y="4724280"/>
            <a:ext cx="3419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-360" y="2133720"/>
            <a:ext cx="6840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равильність визнання запасів активами суб’єкта господарювання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, чи відповідають чинному законодавству методи оцінки і обліку виробничих запасів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, чи дотримується підприємство прийнятих методів оцінки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оцінити стан внутрішнього контролю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чи здійснюється контроль за виробничими запасами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чи правильно та своєчасно здійснюється документальне відображення господарських операцій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чи немає на підприємстві протизаконних дій, пов’язаних з витрачанням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Завданнями аудиту операцій з виробничими запасами є:</a:t>
            </a:r>
            <a:endParaRPr b="0" lang="en-US" sz="48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36" name="Picture 2" descr="C:\Users\User\Desktop\слайди\ukrayisnskyyaudyt.jpg"/>
          <p:cNvPicPr/>
          <p:nvPr/>
        </p:nvPicPr>
        <p:blipFill>
          <a:blip r:embed="rId1"/>
          <a:stretch/>
        </p:blipFill>
        <p:spPr>
          <a:xfrm>
            <a:off x="6516720" y="4653000"/>
            <a:ext cx="2627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79280" y="213372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кількісне та якісне приймання запасів від постачальника, а також при внутрішньому переміщенні в міжцеховому напрямку, між матеріально відповідальними особами, складами та виробництвом.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умови зберігання запасів і закріплення матеріальної відповідальності.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норми витрат сировини і матеріалів на виробництво та їх дотримання – перевіряється обґрунтованість затвердження норм та їх застосування в лімітно-забірних картках і відомостях на витрачання матеріалів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первинна документація з обліку запасів досліджується в частині достовірності відображених у ній господарських операцій;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бухгалтерський облік та звітність вивчаються в частині достовірності даних щодо залишків та руху виробничих запасів, відображених у них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брак та пошкодження запасів – досліджуються причини, які зумовили виникнення негативних явищ, розмір невиробничих витрат, встановлюються особи, винні в злодіянні шкоди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недостача цінностей та шкода, виявлені при інвентаризації, їх обґрунтованість і відповідальні особи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узагальнюється дослідження інших об’єктів, де виявлена шкода, перевіряється, чи підтверджується їх розмір даними бухгалтерського обліку та іншими зібраними доказами, наскільки правильно встановлену матеріальну відповідальність конкретних працівників і розмір їх відшкодування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95d1d"/>
                </a:solidFill>
                <a:latin typeface="Times New Roman"/>
              </a:rPr>
              <a:t>Об’єктами аудиту виробничих запасів є: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Джерела інформації для проведення аудиту виробничих запасів</a:t>
            </a:r>
            <a:endParaRPr b="0" lang="en-US" sz="40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95280" y="2247480"/>
            <a:ext cx="83534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бухгалтерська звітність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статистична звітність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регістри бухгалтерського обліку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документи: типові форми з обліку матеріально-виробничих запасів, договори купівля, протоколи узгодження ціни, і постачання за терміну, асортименту тощо., накладні про поставки і внутрішнє переміщення,лимитно-заборние карта народження і ін.,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облікова політика: графік документообігу, субрахунка і аналітичні рахунки робочому плані рахунків; способи погашення вартості предметів у складі засобів у обороті; оцінка виробничих запасів; відпустку запасів у виробництво; оцінка запасів незавершеного виробництва; наявність і склад комісій по інвентаризація незавершеного виробництва та матеріально-виробничих накупив конвертів, графік і періодичність проведення інвентаризацій незавершеного виробництва та матеріально-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5280" y="2205000"/>
            <a:ext cx="856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Етапи проведення аудиту виробничих запасів: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73624"/>
                </a:solidFill>
                <a:latin typeface="Segoe Script"/>
              </a:rPr>
              <a:t>І етап -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Планування та визначення аудиторського підход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І етап –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Оцінка системи внутрішнього контролю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ІІ етап -</a:t>
            </a: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  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Перевірка господарських операцій по суті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</a:t>
            </a:r>
            <a:r>
              <a:rPr b="1" lang="en-US" sz="2400" spc="-1" strike="noStrike">
                <a:solidFill>
                  <a:srgbClr val="873624"/>
                </a:solidFill>
                <a:latin typeface="Segoe Script"/>
              </a:rPr>
              <a:t>V</a:t>
            </a: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 етап -</a:t>
            </a: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Завершення аудит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56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2. Послідовність проведення аудиту запасів</a:t>
            </a:r>
            <a:br>
              <a:rPr sz="36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43" name="Picture 2" descr="C:\Users\User\Desktop\слайди\audit-doc1.jpg"/>
          <p:cNvPicPr/>
          <p:nvPr/>
        </p:nvPicPr>
        <p:blipFill>
          <a:blip r:embed="rId1"/>
          <a:stretch/>
        </p:blipFill>
        <p:spPr>
          <a:xfrm>
            <a:off x="5940360" y="4292640"/>
            <a:ext cx="3203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775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>
                <a:solidFill>
                  <a:srgbClr val="895d1d"/>
                </a:solidFill>
                <a:latin typeface="Times New Roman"/>
              </a:rPr>
              <a:t>Важливо знати!!!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8360" y="220464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 етапі аудитор звертає увагу на:</a:t>
            </a:r>
            <a:r>
              <a:rPr b="1" i="1" lang="ru-RU" sz="16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ерміни проведення інвентаризації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авильність визначення її результатів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ивчає склад комісії та відображення в бухгалтерському обліку даних по інвентаризації.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І етапі аудитор звертає увагу на:</a:t>
            </a:r>
            <a:r>
              <a:rPr b="1" i="1" lang="ru-RU" sz="15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изначення критичних моментів системи бухгалтерського обліку, в яких можуть бути помилки чи викривлення, і дістає впевненість, що стосовно таких пунктів були розроблені й проведені заходи і процедури, які дають змогу виявити помилки та викривлення 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ведення додаткових перевірок на відповідність засобів контролю ефективне тільки у разі, якщо час та зусилля, зекономлені при проведенні перевірок на суттєвість, перевищують час і зусилля, затрачені на проведен­ня перевірок на відповідність засобів контролю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ІІ етапі аудитор звертає увагу на:</a:t>
            </a:r>
            <a:endParaRPr b="0" lang="en-US" sz="12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воєчасність і правильність документального оформлення, оприбуткування запасів первинними документами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ідображення їх в обліку, також слід перевірити правильність складання актів розбіжності кількості та якості матеріальних цінностей, що надійшли, і своєчасність пред’явлення претензій до постачальників або транспортних організацій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ревірку окремих елементів балансу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</a:t>
            </a:r>
            <a:r>
              <a:rPr b="1" i="1" lang="en-US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V</a:t>
            </a: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етапі аудитор звертає увагу на: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ревірити роботи складу групи аудиторів і вирішити чи до­статньо зібрано свідчень та оцінити результати аудиту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46" name="Picture 1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9:56:32Z</dcterms:created>
  <dc:creator>Диана</dc:creator>
  <dc:description/>
  <dc:language>en-US</dc:language>
  <cp:lastModifiedBy>Татьяна</cp:lastModifiedBy>
  <dcterms:modified xsi:type="dcterms:W3CDTF">2014-03-07T07:15:21Z</dcterms:modified>
  <cp:revision>37</cp:revision>
  <dc:subject/>
  <dc:title>Презентация PowerPoint</dc:title>
</cp:coreProperties>
</file>